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7.wmf" ContentType="image/x-wmf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3C8-0381-4FC1-B740-7AD58DCA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445-FCCF-4DE0-B597-AD32DC19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B93-03AB-4569-945D-FF6EB7B3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3C3-F7D1-41B8-B586-1E338BDE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4E61-1F20-44EC-B6B0-6952FC11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B548-31A4-4A29-9FEE-1DF63EA6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8D2E-9025-4E04-9525-095AEB12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2218-319A-4ACC-B7A0-08705FE0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36C4-2B44-49BD-8573-39450F64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53B3-9383-429B-912D-0193437A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3B9D-C59E-44F3-BA3B-7C9899EC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CD0-CA57-4A5B-A906-DD3DEB51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0E8C-594D-450F-AA60-67273BC5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107C-ADD6-4096-B60C-3EC3968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F44B-887F-45C2-B40D-E11CE0F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9091-3562-475E-BFF9-EF977275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391B-49B8-4F3D-8494-17FBB513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777-0ABB-4635-9D6F-97FBFBA6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8D8-4598-4B18-93D7-4B2C5140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E60-D54B-4F5E-9827-304585B7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71C-9FFD-4923-841E-7809081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91A-A464-4BA3-AE3D-716F4470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C01-A76A-421F-919D-955773C6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825-C447-43D6-B083-2293ED3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8B6E-1D40-44BB-8D70-928E2B05C42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A94D-419C-40AD-AE7E-9A6A06BFB44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600" spc="-1" strike="noStrike" u="sng">
                <a:solidFill>
                  <a:srgbClr val="c4c3aa"/>
                </a:solidFill>
                <a:uFillTx/>
                <a:latin typeface="Arial"/>
              </a:rPr>
              <a:t>Романсы.</a:t>
            </a:r>
            <a:endParaRPr b="0" lang="en-US" sz="11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20620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523880" y="4343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Я счастлив тем, что встретил Вас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повторимый и прекрас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, значит, жил я не напрасн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лагодарю, волшебный мой Романс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447920" y="4419720"/>
            <a:ext cx="1711080" cy="1036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1095480" cy="1827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809880" y="4191120"/>
            <a:ext cx="1422360" cy="12189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6400800" y="-152280"/>
            <a:ext cx="1820880" cy="17478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1295280" y="-152280"/>
            <a:ext cx="16401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4c3aa"/>
                </a:solidFill>
                <a:latin typeface="Arial"/>
              </a:rPr>
              <a:t>Что такое романс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791320" y="5105520"/>
            <a:ext cx="18255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Прослушайте роман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1787400" cy="1668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819360" cy="12002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2057400" y="4952880"/>
            <a:ext cx="177804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79246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639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Виды русского романса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Городской романс-авторский по способу создания, но фольклорный по способу бытования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Цыганс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Жесто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18255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оманс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666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8" name="Picture 5" descr="D:\анимашки\анимашки\валентинки\d63f0f1be326.gif"/>
          <p:cNvPicPr/>
          <p:nvPr/>
        </p:nvPicPr>
        <p:blipFill>
          <a:blip r:embed="rId1"/>
          <a:stretch/>
        </p:blipFill>
        <p:spPr>
          <a:xfrm>
            <a:off x="457200" y="304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1600200" y="3048120"/>
            <a:ext cx="6029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60" name="Picture 3" descr="D:\анимашки\анимашки\валентинки\tn_gallery_2_211_11735.png"/>
          <p:cNvPicPr/>
          <p:nvPr/>
        </p:nvPicPr>
        <p:blipFill>
          <a:blip r:embed="rId2"/>
          <a:stretch/>
        </p:blipFill>
        <p:spPr>
          <a:xfrm>
            <a:off x="380880" y="4191120"/>
            <a:ext cx="3357720" cy="2361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D:\анимашки\анимашки\валентинки\tn_gallery_2_211_5267.png"/>
          <p:cNvPicPr/>
          <p:nvPr/>
        </p:nvPicPr>
        <p:blipFill>
          <a:blip r:embed="rId3"/>
          <a:stretch/>
        </p:blipFill>
        <p:spPr>
          <a:xfrm>
            <a:off x="541008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D:\анимашки\анимашки\валентинки\tn_gallery_2_211_101296.png"/>
          <p:cNvPicPr/>
          <p:nvPr/>
        </p:nvPicPr>
        <p:blipFill>
          <a:blip r:embed="rId4"/>
          <a:stretch/>
        </p:blipFill>
        <p:spPr>
          <a:xfrm>
            <a:off x="6553080" y="4572000"/>
            <a:ext cx="2048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1-02-25T09:00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