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2957-F0ED-4899-A082-14BE3913A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53F5-F8B3-4336-AC1A-1E436A8FB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2BAC-7A56-4E1F-9CB1-AFAA3E2B7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D13D-7FAE-4616-8E47-53F50B24C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A37B9-6F1F-495B-ABA5-EBA88B6EA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E6077-1DCD-4DC8-BEF3-B826AAD86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69503-0667-4940-9348-B8475C1BA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F1647-1AB7-43CF-B80D-F686128B6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A50FD-1997-49AC-AA9C-2F2CFA958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6C2A5-7138-4D95-AC62-A1C06DB26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D0213-444B-4464-80EA-66125611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BABF-A8F9-44A0-8FAD-41C18CA7A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17892-7922-4DFA-B372-62248CBE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95BB6-4290-4E77-A9B0-1D416CB0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A1304-6AA0-4578-BC33-AA41D8D17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0E59B-2C96-439A-9520-577252396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F57E5-EF61-4AB9-8CF2-FB99FAC41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1081-7165-4B63-8FCD-33D0504C2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F8BC-3067-488A-93E5-428E3DF5E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DA6E-4990-4D5A-9A5E-37A977A61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D2E4-A2FD-4CC6-A65C-2D12A9493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D1D0-0180-42DF-8D2B-695BBF66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9043-93F9-4D15-8DAC-B3871099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5E0B-5D07-43F7-BD72-B70BEE5E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C84A2-BE1B-4BE6-8CC5-8EC20EE2309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8C6AF-18A8-4711-97F4-F3E390D2D9A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Актуальные проблемы литературы ХХ века и современной литератур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395280" y="4941720"/>
            <a:ext cx="842472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69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вадцатый век… Еще бездомней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ще страшнее жизни мг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Еще чернее и огромней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нь Люциферова крыл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.Блок «Возмедие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Исторические событ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усско-японская война 1904-1905 г.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вая русская революция 1905-1907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вая мировая война 1914-1917 г.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евральская революция 1917 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ктябрьская  революция 1917 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ражданская война 1918-1922 г.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ллективизация 1929-1932 г.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Исторические событ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еликая Отечественная войн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941-1945 г.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Х съезд  партии коммунистов 1956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астие в Афганской  войне 1979-1989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стройка 1985-1991 г.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пад СССР 1991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вая Чеченская война 1995-1996 г.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скровная революция с 1991 до 2000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стро возникшие проблемы в литератур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блема метода соцреализм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итература русского Зарубежь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звращенная литерату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блема существования Союза писател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блема периодизации литератур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блема преподавания литератур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ериодизация литературы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ХХ ве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90-е годы Х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 века-середина 20-х  годов ХХ века – эпоха серебряного ве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0-30-е годы ХХ века –утверждение соцреализма в литератур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0-50-е годы – расцвет соцреализма в  литератур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0-80-е  годы – между двумя оттепеля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1985 по сегодня –современная литерату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8:08:22Z</dcterms:created>
  <dc:creator>User</dc:creator>
  <dc:description/>
  <dc:language>en-US</dc:language>
  <cp:lastModifiedBy>Коля</cp:lastModifiedBy>
  <dcterms:modified xsi:type="dcterms:W3CDTF">2013-04-22T09:51:13Z</dcterms:modified>
  <cp:revision>4</cp:revision>
  <dc:subject/>
  <dc:title>Актуальные проблемы литературы ХХ века и современной литературы</dc:title>
</cp:coreProperties>
</file>