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2E6-0562-4EA3-B348-F7E48ECC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693-D2E7-4FD5-92CA-CB165D1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D13-FA67-445C-8736-69A8A35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055-367D-48C7-8194-D54595C2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7BAF-E31C-460E-BC95-0B07CE4D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EF3-E65A-4F36-9FAA-98102F29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558A-D880-45D5-B310-8BEE6D0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62D-5B5A-4D85-A1CC-821E55F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A47-A62A-4D29-81E1-7E32C26B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BCB-8761-4448-95A1-812181C8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B71-617A-407D-982F-E480818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4AF-B7E0-4866-BD1B-25430FB9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478-8DE4-49CF-A16C-29CBA51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0DE9-9B25-49D2-8D9B-5DD6052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960-BC09-4E48-9428-14432EBC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FB2-3E84-401D-9C6F-8837CC16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76A-D2DA-4FA2-9D27-5893639E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855-C1EC-447A-B6DB-4034596A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E20-C07C-4985-B8DB-D8B2743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BB6-C82A-47B4-B9CF-343A360C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52D-8BD2-4159-8953-757CF26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DF2-1066-487F-B738-5492FB0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A4A-2403-4E24-8893-6F044D89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1DB-6C51-4BC4-BB38-3919159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417-129B-49BE-A8E7-CE67C2741F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F798-97DB-4649-81D8-6542DEF01C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туальные проблемы литературы ХХ века и современной литерату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5280" y="494172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9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дцатый век… Еще бездомн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страшнее жизни м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Еще чернее и огром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ь Люциферова кры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Блок «Возмед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о-японская война 1904-1905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русская революция 1905-19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мировая война 1914-1917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ская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ьская 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жданская война 1918-192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лективизация 1929-193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ая Отечественная вой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-1945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Х съезд  партии коммунистов 195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Афганской  войне 1979-198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тройка 1985-1991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ад СССР 199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Чеченская война 1995-1996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ровная революция с 1991 до 200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ро возникшие проблемы в литерат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метода соцреал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 русского Зарубе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вращенная лит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существования Союза пис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ериодизации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реподавания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иодизация литератур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Х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-е годы 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 века-середина 20-х  годов ХХ века – эпоха серебряного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-30-е годы ХХ века –утверждение соцреализма в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0-50-е годы – расцвет соцреализма в 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-80-е  годы – между двумя оттеп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85 по сегодня –современ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08:22Z</dcterms:created>
  <dc:creator>User</dc:creator>
  <dc:description/>
  <dc:language>en-US</dc:language>
  <cp:lastModifiedBy>Коля</cp:lastModifiedBy>
  <dcterms:modified xsi:type="dcterms:W3CDTF">2013-04-22T09:51:13Z</dcterms:modified>
  <cp:revision>4</cp:revision>
  <dc:subject/>
  <dc:title>Актуальные проблемы литературы ХХ века и современной литературы</dc:title>
</cp:coreProperties>
</file>