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1D1B-DFA1-436D-BE3A-B37294EEB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6E12-B62C-4101-B2B4-CBB05B703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00D3-3E6D-479D-B89C-BE31F7BC8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D643-2F73-46BB-AA84-5D851C942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F53E4-F597-4D66-90F2-2F0D2B6F1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C2AE1-E64B-4D28-81C5-73C9E4DFE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7C1C8-06B9-4F55-8F6E-64F34838A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71D7E-2731-40D6-A8AD-548AD5F7E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051B5-D37F-4787-A74C-D61CA4EFC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FB97C-BD1A-4EEC-8F64-1E2B0C33E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F0C5D-2992-44ED-8B7A-B2EB3717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09C6-41E1-4218-8ECE-F01552392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5C07F-4913-479D-A654-10BFFD79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59F96-F57A-4251-A03E-A74EB4179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32B1C-D610-4D5F-8DF9-1F6C2B33A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8BA48-2316-42BA-AFA5-F93C81091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500A3-E861-455D-A8A6-0A631D70A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D739-52C7-41D3-8194-5556055B2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BFD1-CD9A-4502-AFE3-BA7450D32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90F7-0D19-41D5-9ABA-8ADF0FE14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6FD9-F47A-4418-B2A2-C25677939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D454-A837-4261-AED1-300F9D46D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724F-F63D-44CC-AA68-7D3CBE9E8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CCD6-3C43-4157-A547-4D7D8E8B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B36D6-A84C-426C-B27A-27B6485791E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7A112-EE40-4634-A349-F11AAD983D2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Актуальные проблемы литературы ХХ века и современной литератур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395280" y="4941720"/>
            <a:ext cx="842472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692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вадцатый век… Еще бездомней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ще страшнее жизни мг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Еще чернее и огромней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нь Люциферова крыл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.Блок «Возмедие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Исторические событ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усско-японская война 1904-1905 г.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вая русская революция 1905-1907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вая мировая война 1914-1917 г.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евральская революция 1917 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ктябрьская  революция 1917 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ражданская война 1918-1922 г.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ллективизация 1929-1932 г.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Исторические событ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еликая Отечественная войн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941-1945 г.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ХХ съезд  партии коммунистов 1956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астие в Афганской  войне 1979-1989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стройка 1985-1991 г.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спад СССР 1991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вая Чеченская война 1995-1996 г.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ескровная революция с 1991 до 2000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стро возникшие проблемы в литератур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блема метода соцреализм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итература русского Зарубежь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звращенная литерату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блема существования Союза писател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блема периодизации литератур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блема преподавания литератур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ериодизация литературы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ХХ ве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90-е годы Х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Х века-середина 20-х  годов ХХ века – эпоха серебряного ве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0-30-е годы ХХ века –утверждение соцреализма в литератур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0-50-е годы – расцвет соцреализма в  литератур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0-80-е  годы – между двумя оттепеля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1985 по сегодня –современная литерату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18:08:22Z</dcterms:created>
  <dc:creator>User</dc:creator>
  <dc:description/>
  <dc:language>en-US</dc:language>
  <cp:lastModifiedBy>Коля</cp:lastModifiedBy>
  <dcterms:modified xsi:type="dcterms:W3CDTF">2013-04-22T09:51:13Z</dcterms:modified>
  <cp:revision>4</cp:revision>
  <dc:subject/>
  <dc:title>Актуальные проблемы литературы ХХ века и современной литературы</dc:title>
</cp:coreProperties>
</file>