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55C-D900-449B-98D6-2485F72F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847-416D-4243-84E1-F213DA5C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BA2-7714-46DA-A822-7612E323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DAA-51FA-4FB5-B153-C423A1E6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F5215-15F3-4F11-8D26-4B868896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9973B-34C2-454A-8CAE-4FE16951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C7492-1B28-491F-AA03-A99A1A5C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9001E-1216-4DA1-AC8C-B62BA595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67668-6DE3-463D-80FD-DDDDF309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1ABAC-D8EF-4F16-A906-E782190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DA228-2D3A-4A9D-9357-B98860D3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548-2174-487E-8BB7-93B199F4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47782-EFF8-40B8-B2B1-5E856FC5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2C621-5AE7-4332-8C3B-26C7B5D4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4C4E5-D109-44AE-9B48-486D3278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A3D60-2095-42DE-9774-A02F238D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DBC83-5EA4-4226-8D3F-734D20A6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CF3-700D-4D7C-8075-4E578C96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ACF-A8DA-480A-B02D-4E88C24B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CA2-4456-48C4-A44B-2281DF73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A52-90EB-42B8-97F8-410E63A4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B9C-40FE-4122-B2B5-5E82BF65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67C-674C-49AC-8509-8FE172D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8EE-92AE-4B11-BF2C-FBD44EB3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4609-02DE-4C38-BEC4-C3C96DCE1F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51F-B6AA-4618-983A-B6FF4F5AE6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2;&#1072;" TargetMode="External"/><Relationship Id="rId2" Type="http://schemas.openxmlformats.org/officeDocument/2006/relationships/hyperlink" Target="http://ru.wikipedia.org/wiki/&#1071;&#1085;&#1094;&#1079;&#1099;" TargetMode="External"/><Relationship Id="rId3" Type="http://schemas.openxmlformats.org/officeDocument/2006/relationships/hyperlink" Target="http://ru.wikipedia.org/wiki/&#1061;&#1091;&#1072;&#1085;&#1093;&#1101;" TargetMode="External"/><Relationship Id="rId4" Type="http://schemas.openxmlformats.org/officeDocument/2006/relationships/hyperlink" Target="http://ru.wikipedia.org/wiki/&#1061;&#1101;&#1081;&#1083;&#1091;&#1085;&#1094;&#1079;&#1103;&#1085;" TargetMode="External"/><Relationship Id="rId5" Type="http://schemas.openxmlformats.org/officeDocument/2006/relationships/hyperlink" Target="http://ru.wikipedia.org/wiki/&#1063;&#1078;&#1091;&#1094;&#1079;&#1103;&#1085;" TargetMode="External"/><Relationship Id="rId6" Type="http://schemas.openxmlformats.org/officeDocument/2006/relationships/hyperlink" Target="http://ru.wikipedia.org/wiki/&#1052;&#1077;&#1082;&#1086;&#1085;&#1075;" TargetMode="External"/><Relationship Id="rId7" Type="http://schemas.openxmlformats.org/officeDocument/2006/relationships/hyperlink" Target="http://ru.wikipedia.org/wiki/&#1053;&#1091;&#1094;&#1079;&#1103;&#1085;" TargetMode="External"/><Relationship Id="rId8" Type="http://schemas.openxmlformats.org/officeDocument/2006/relationships/hyperlink" Target="http://ru.wikipedia.org/w/index.php?title=&#1071;&#1083;&#1091;&#1094;&#1072;&#1085;&#1075;&#1087;&#1086;&amp;action=edit&amp;redlink=1" TargetMode="External"/><Relationship Id="rId9" Type="http://schemas.openxmlformats.org/officeDocument/2006/relationships/hyperlink" Target="http://ru.wikipedia.org/wiki/&#1058;&#1080;&#1093;&#1080;&#1081;_&#1086;&#1082;&#1077;&#1072;&#1085;" TargetMode="External"/><Relationship Id="rId10" Type="http://schemas.openxmlformats.org/officeDocument/2006/relationships/hyperlink" Target="http://ru.wikipedia.org/wiki/&#1048;&#1085;&#1076;&#1080;&#1081;&#1089;&#1082;&#1080;&#1081;_&#1086;&#1082;&#1077;&#1072;&#1085;" TargetMode="External"/><Relationship Id="rId11" Type="http://schemas.openxmlformats.org/officeDocument/2006/relationships/hyperlink" Target="http://ru.wikipedia.org/wiki/&#1057;&#1077;&#1074;&#1077;&#1088;&#1085;&#1099;&#1081;_&#1051;&#1077;&#1076;&#1086;&#1074;&#1080;&#1090;&#1099;&#1081;_&#1086;&#1082;&#1077;&#1072;&#1085;" TargetMode="External"/><Relationship Id="rId12" Type="http://schemas.openxmlformats.org/officeDocument/2006/relationships/hyperlink" Target="http://ru.wikipedia.org/wiki/&#1054;&#1079;&#1077;&#1088;&#1086;" TargetMode="External"/><Relationship Id="rId13" Type="http://schemas.openxmlformats.org/officeDocument/2006/relationships/hyperlink" Target="http://ru.wikipedia.org/wiki/&#1054;&#1079;&#1077;&#1088;&#1086;" TargetMode="External"/><Relationship Id="rId14" Type="http://schemas.openxmlformats.org/officeDocument/2006/relationships/hyperlink" Target="http://ru.wikipedia.org/wiki/&#1042;&#1086;&#1076;&#1086;&#1093;&#1088;&#1072;&#1085;&#1080;&#1083;&#1080;&#1097;&#1077;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eon.ru/upload/uf/319/11_china_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4;&#1073;&#1091;&#1082;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90;&#1072;&#1081;&#1089;&#1082;&#1072;&#1103;_&#1094;&#1080;&#1074;&#1080;&#1083;&#1080;&#1079;&#1072;&#1094;&#1080;&#1103;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uttur.su/index.php?option=com_datsogallery&amp;Itemid=9&amp;func=download&amp;file=97028727E838-2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9;&#1090;&#1086;&#1095;&#1085;&#1072;&#1103;_&#1040;&#1079;&#1080;&#1103;" TargetMode="External"/><Relationship Id="rId2" Type="http://schemas.openxmlformats.org/officeDocument/2006/relationships/hyperlink" Target="http://ru.wikipedia.org/wiki/&#1050;&#1053;&#1056;" TargetMode="External"/><Relationship Id="rId3" Type="http://schemas.openxmlformats.org/officeDocument/2006/relationships/hyperlink" Target="http://ru.wikipedia.org/wiki/&#1058;&#1080;&#1093;&#1080;&#1081;_&#1086;&#1082;&#1077;&#1072;&#1085;" TargetMode="External"/><Relationship Id="rId4" Type="http://schemas.openxmlformats.org/officeDocument/2006/relationships/hyperlink" Target="http://ru.wikipedia.org/wiki/&#1040;&#1079;&#1080;&#1103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50;&#1072;&#1085;&#1072;&#1076;&#1072;" TargetMode="External"/><Relationship Id="rId7" Type="http://schemas.openxmlformats.org/officeDocument/2006/relationships/hyperlink" Target="http://ru.wikipedia.org/wiki/&#1042;&#1086;&#1089;&#1090;&#1086;&#1095;&#1085;&#1086;-&#1050;&#1080;&#1090;&#1072;&#1081;&#1089;&#1082;&#1086;&#1077;_&#1084;&#1086;&#1088;&#1077;" TargetMode="External"/><Relationship Id="rId8" Type="http://schemas.openxmlformats.org/officeDocument/2006/relationships/hyperlink" Target="http://ru.wikipedia.org/wiki/&#1050;&#1086;&#1088;&#1077;&#1081;&#1089;&#1082;&#1080;&#1081;_&#1079;&#1072;&#1083;&#1080;&#1074;" TargetMode="External"/><Relationship Id="rId9" Type="http://schemas.openxmlformats.org/officeDocument/2006/relationships/hyperlink" Target="http://ru.wikipedia.org/wiki/&#1046;&#1105;&#1083;&#1090;&#1086;&#1077;_&#1084;&#1086;&#1088;&#1077;" TargetMode="External"/><Relationship Id="rId10" Type="http://schemas.openxmlformats.org/officeDocument/2006/relationships/hyperlink" Target="http://ru.wikipedia.org/wiki/&#1070;&#1078;&#1085;&#1086;-&#1050;&#1080;&#1090;&#1072;&#1081;&#1089;&#1082;&#1086;&#1077;_&#1084;&#1086;&#1088;&#1077;" TargetMode="External"/><Relationship Id="rId11" Type="http://schemas.openxmlformats.org/officeDocument/2006/relationships/hyperlink" Target="http://ru.wikipedia.org/wiki/&#1058;&#1072;&#1081;&#1074;&#1072;&#1085;&#1100;_%28&#1086;&#1089;&#1090;&#1088;&#1086;&#1074;%29" TargetMode="External"/><Relationship Id="rId12" Type="http://schemas.openxmlformats.org/officeDocument/2006/relationships/hyperlink" Target="http://ru.wikipedia.org/wiki/&#1058;&#1072;&#1081;&#1074;&#1072;&#1085;&#1100;&#1089;&#1082;&#1080;&#1081;_&#1087;&#1088;&#1086;&#1083;&#1080;&#1074;" TargetMode="Externa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gekb.ru/userimages/article/kitai_hainan1162693968chinama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80;&#1084;&#1072;&#1090;" TargetMode="External"/><Relationship Id="rId2" Type="http://schemas.openxmlformats.org/officeDocument/2006/relationships/hyperlink" Target="http://ru.wikipedia.org/wiki/&#1057;&#1091;&#1073;&#1090;&#1088;&#1086;&#1087;&#1080;&#1095;&#1077;&#1089;&#1082;&#1080;&#1081;_&#1082;&#1083;&#1080;&#1084;&#1072;&#1090;" TargetMode="External"/><Relationship Id="rId3" Type="http://schemas.openxmlformats.org/officeDocument/2006/relationships/hyperlink" Target="http://ru.wikipedia.org/wiki/&#1059;&#1084;&#1077;&#1088;&#1077;&#1085;&#1085;&#1099;&#1081;_&#1082;&#1083;&#1080;&#1084;&#1072;&#1090;" TargetMode="External"/><Relationship Id="rId4" Type="http://schemas.openxmlformats.org/officeDocument/2006/relationships/hyperlink" Target="http://ru.wikipedia.org/wiki/&#1052;&#1091;&#1089;&#1089;&#1086;&#1085;" TargetMode="External"/><Relationship Id="rId5" Type="http://schemas.openxmlformats.org/officeDocument/2006/relationships/hyperlink" Target="http://ru.wikipedia.org/wiki/&#1058;&#1072;&#1081;&#1092;&#1091;&#1085;" TargetMode="External"/><Relationship Id="rId6" Type="http://schemas.openxmlformats.org/officeDocument/2006/relationships/hyperlink" Target="http://ru.wikipedia.org/wiki/&#1053;&#1072;&#1074;&#1086;&#1076;&#1085;&#1077;&#1085;&#1080;&#1077;" TargetMode="External"/><Relationship Id="rId7" Type="http://schemas.openxmlformats.org/officeDocument/2006/relationships/hyperlink" Target="http://ru.wikipedia.org/wiki/&#1062;&#1091;&#1085;&#1072;&#1084;&#1080;" TargetMode="External"/><Relationship Id="rId8" Type="http://schemas.openxmlformats.org/officeDocument/2006/relationships/hyperlink" Target="http://ru.wikipedia.org/wiki/&#1047;&#1072;&#1089;&#1091;&#1093;&#1072;" TargetMode="External"/><Relationship Id="rId9" Type="http://schemas.openxmlformats.org/officeDocument/2006/relationships/hyperlink" Target="http://ru.wikipedia.org/wiki/&#1046;&#1105;&#1083;&#1090;&#1099;&#1077;_&#1087;&#1099;&#1083;&#1100;&#1085;&#1099;&#1077;_&#1073;&#1091;&#1088;&#1080;" TargetMode="External"/><Relationship Id="rId10" Type="http://schemas.openxmlformats.org/officeDocument/2006/relationships/hyperlink" Target="http://ru.wikipedia.org/wiki/&#1050;&#1086;&#1088;&#1077;&#1103;" TargetMode="External"/><Relationship Id="rId11" Type="http://schemas.openxmlformats.org/officeDocument/2006/relationships/hyperlink" Target="http://ru.wikipedia.org/wiki/&#1071;&#1087;&#1086;&#1085;&#1080;&#1103;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ic.baza.farpost.ru/bulletins_images/2/7/5/27577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ита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ые ископаем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тай богат разнообразными видами топливных и сырьевых минеральных ресурсов. Особенно большое значение имеют запасы нефти, угля, металлических ру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ки и озё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итае множество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ре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ие реки — это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Янцз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Хуанх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Хэйлун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Чжу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Ланьцан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Ну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Ялуцангп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меющие выход к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Тихо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Индийско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Северному Ледовитому океана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х общая водосборная площадь охватывает около 64 % территории ст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итае много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озё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бщая площадь, которую они занимают, составляет примерно 80 000 кв. км. Имеются также тысячи искусственных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озё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водохранилищ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Картинка 61 из 502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аститель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итае произрастает около 500 видов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бамбуков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формирующих 3 % лесов. Заросли бамбука, встречающиеся в 18 провинциях — не только среда обитания многих животных, но и источник ценного сырья. Их одревесневшие соломины (стебли) широко используются в промышлен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Картинка 50 из 260"/>
          <p:cNvPicPr/>
          <p:nvPr/>
        </p:nvPicPr>
        <p:blipFill>
          <a:blip r:embed="rId1"/>
          <a:stretch/>
        </p:blipFill>
        <p:spPr>
          <a:xfrm>
            <a:off x="4468680" y="0"/>
            <a:ext cx="4675320" cy="421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артинка 6 из 1662"/>
          <p:cNvPicPr/>
          <p:nvPr/>
        </p:nvPicPr>
        <p:blipFill>
          <a:blip r:embed="rId2"/>
          <a:stretch/>
        </p:blipFill>
        <p:spPr>
          <a:xfrm>
            <a:off x="0" y="1628640"/>
            <a:ext cx="4392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тайская народная республика организована в декабре 1949г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й исполнилось 60 л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Картинка 4 из 518353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Картинка 9 из 518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Картинка 47 из 518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684720" y="0"/>
            <a:ext cx="982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лаг КНР(китайская народная республик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820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стор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итайская цивилизаци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— одна из старейших в мире. По утверждениям китайских учёных, её возраст может составлять пять тысяч лет, при этом имеющиеся письменные источники покрывают период не менее 3500 л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ременное китайское государство и общество является результатом многовекового культурного и политического взаимопроникновения и взаимодействия с многочисленными окружающими азиатскими народами, сопровождавшегося перемещениями многомиллионных людских масс. Воздействие китайского этноса с его гигантским демографическим потенциалом на соседние народы невозможно переоцен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тай расположен в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Восточной Аз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 восток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Н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мывается водами западных морей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Тихого океа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Площадь территории Китая составляет 9,6 млн км². Китай является самой большой страной в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Аз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третьей по площади страной в мире, уступая только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Кана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ремя опережает московское на 4 часа летом и на 5 часов — зи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ммарная длина сухопутных границ Китая составляет 22 117 км с 14 странами. Побережье Китая тянется от границы с Северной Кореей на севере до Вьетнама на юге и имеет длину 14 500 км. Китай омывается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Восточно-Китайским мор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Корейским залив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Жёлтым мор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Южно-Китайским мор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Остров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Тайва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тделён от материк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Тайваньским пролив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лица Китая город Пе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еление Китая составляет (1970г) 250млн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Картинка 8 из 502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лимат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Китая очень разнообразен — от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субтропического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на юге до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умеренного климат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на севере. На побережье погода определяется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уссонам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которые возникают из-за различных поглощательных свойств суши и оке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е 2/3 страны занимают горные хребты, нагорья и плато, пустыни и полупустыни. Примерно 90 % населения живёт в прибрежных районах и поймах больших рек, таких, как Янцзы, Хуанхэ (Жёлтая река) и Перл. Эти районы находятся в тяжелом экологическом состоянии в результате долгой и интенсивной сельскохозяйственной обработки и загрязнения окружающей сред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жные и восточные области Китая часто (около 5 раз в год) страдают от разрушительных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тайфун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а также от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наводнени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муссонов,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цунам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засух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Северные районы Китая каждую весну накрывают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жёлтые пыльные бур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которые зарождаются в северных пустынях и переносятся ветрами в сторону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Коре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Япони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Картинка 11 из 502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40:48Z</dcterms:created>
  <dc:creator>Comp</dc:creator>
  <dc:description/>
  <dc:language>en-US</dc:language>
  <cp:lastModifiedBy>Comp</cp:lastModifiedBy>
  <dcterms:modified xsi:type="dcterms:W3CDTF">2010-04-05T16:54:14Z</dcterms:modified>
  <cp:revision>2</cp:revision>
  <dc:subject/>
  <dc:title>Кита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