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4B7-4828-4C62-A7D0-0E1C41B1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51A-E362-4A34-AA68-736E9B38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8817-419B-4BA8-8E88-BD70F03E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834-B251-4BC6-AEB8-4397C01C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5B814-78E8-4182-9578-996B5DFD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B0CB7-EDEF-492E-8449-CA0505DD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8546C-3A07-4DF4-8535-EDB91785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64578-1BCD-4D9B-A050-16BAB0F6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D8C7D-BBF8-4D32-9A16-A27115E9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0413A-332F-4238-B751-ADFBE988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FAA50-65CD-4919-95B4-47B109D8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00D-49ED-4F92-8F18-ADEC5BFB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A55E4-7232-4ACF-9864-69A8C8E1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C8434-F763-43B1-8D5C-436F52F3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6372B-3FC2-47A7-9C3A-4FBC92E8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8F1B5-5664-4A9E-B3F2-B3B089CD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18791-B823-4A89-BCA7-945FC1B8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F5D-590F-4C37-9142-752CCA6D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C3D-3004-4836-A5A2-0043147E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76CE-3DF6-417B-B17B-72704662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7C8-439C-4BAC-AC36-406E5641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D36B-1CEB-4B04-9D21-BAF6F0C7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DAB-BC03-4F55-8A31-C62C0891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A431-8520-43D6-B3F0-293FECF6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C60C-DD62-4D9A-9600-3395FC7004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F94C-3E84-4C77-BC85-DCADB13C51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&#1082;&#1072;" TargetMode="External"/><Relationship Id="rId2" Type="http://schemas.openxmlformats.org/officeDocument/2006/relationships/hyperlink" Target="http://ru.wikipedia.org/wiki/&#1071;&#1085;&#1094;&#1079;&#1099;" TargetMode="External"/><Relationship Id="rId3" Type="http://schemas.openxmlformats.org/officeDocument/2006/relationships/hyperlink" Target="http://ru.wikipedia.org/wiki/&#1061;&#1091;&#1072;&#1085;&#1093;&#1101;" TargetMode="External"/><Relationship Id="rId4" Type="http://schemas.openxmlformats.org/officeDocument/2006/relationships/hyperlink" Target="http://ru.wikipedia.org/wiki/&#1061;&#1101;&#1081;&#1083;&#1091;&#1085;&#1094;&#1079;&#1103;&#1085;" TargetMode="External"/><Relationship Id="rId5" Type="http://schemas.openxmlformats.org/officeDocument/2006/relationships/hyperlink" Target="http://ru.wikipedia.org/wiki/&#1063;&#1078;&#1091;&#1094;&#1079;&#1103;&#1085;" TargetMode="External"/><Relationship Id="rId6" Type="http://schemas.openxmlformats.org/officeDocument/2006/relationships/hyperlink" Target="http://ru.wikipedia.org/wiki/&#1052;&#1077;&#1082;&#1086;&#1085;&#1075;" TargetMode="External"/><Relationship Id="rId7" Type="http://schemas.openxmlformats.org/officeDocument/2006/relationships/hyperlink" Target="http://ru.wikipedia.org/wiki/&#1053;&#1091;&#1094;&#1079;&#1103;&#1085;" TargetMode="External"/><Relationship Id="rId8" Type="http://schemas.openxmlformats.org/officeDocument/2006/relationships/hyperlink" Target="http://ru.wikipedia.org/w/index.php?title=&#1071;&#1083;&#1091;&#1094;&#1072;&#1085;&#1075;&#1087;&#1086;&amp;action=edit&amp;redlink=1" TargetMode="External"/><Relationship Id="rId9" Type="http://schemas.openxmlformats.org/officeDocument/2006/relationships/hyperlink" Target="http://ru.wikipedia.org/wiki/&#1058;&#1080;&#1093;&#1080;&#1081;_&#1086;&#1082;&#1077;&#1072;&#1085;" TargetMode="External"/><Relationship Id="rId10" Type="http://schemas.openxmlformats.org/officeDocument/2006/relationships/hyperlink" Target="http://ru.wikipedia.org/wiki/&#1048;&#1085;&#1076;&#1080;&#1081;&#1089;&#1082;&#1080;&#1081;_&#1086;&#1082;&#1077;&#1072;&#1085;" TargetMode="External"/><Relationship Id="rId11" Type="http://schemas.openxmlformats.org/officeDocument/2006/relationships/hyperlink" Target="http://ru.wikipedia.org/wiki/&#1057;&#1077;&#1074;&#1077;&#1088;&#1085;&#1099;&#1081;_&#1051;&#1077;&#1076;&#1086;&#1074;&#1080;&#1090;&#1099;&#1081;_&#1086;&#1082;&#1077;&#1072;&#1085;" TargetMode="External"/><Relationship Id="rId12" Type="http://schemas.openxmlformats.org/officeDocument/2006/relationships/hyperlink" Target="http://ru.wikipedia.org/wiki/&#1054;&#1079;&#1077;&#1088;&#1086;" TargetMode="External"/><Relationship Id="rId13" Type="http://schemas.openxmlformats.org/officeDocument/2006/relationships/hyperlink" Target="http://ru.wikipedia.org/wiki/&#1054;&#1079;&#1077;&#1088;&#1086;" TargetMode="External"/><Relationship Id="rId14" Type="http://schemas.openxmlformats.org/officeDocument/2006/relationships/hyperlink" Target="http://ru.wikipedia.org/wiki/&#1042;&#1086;&#1076;&#1086;&#1093;&#1088;&#1072;&#1085;&#1080;&#1083;&#1080;&#1097;&#1077;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eon.ru/upload/uf/319/11_china_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84;&#1073;&#1091;&#1082;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90;&#1072;&#1081;&#1089;&#1082;&#1072;&#1103;_&#1094;&#1080;&#1074;&#1080;&#1083;&#1080;&#1079;&#1072;&#1094;&#1080;&#1103;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uttur.su/index.php?option=com_datsogallery&amp;Itemid=9&amp;func=download&amp;file=97028727E838-2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89;&#1090;&#1086;&#1095;&#1085;&#1072;&#1103;_&#1040;&#1079;&#1080;&#1103;" TargetMode="External"/><Relationship Id="rId2" Type="http://schemas.openxmlformats.org/officeDocument/2006/relationships/hyperlink" Target="http://ru.wikipedia.org/wiki/&#1050;&#1053;&#1056;" TargetMode="External"/><Relationship Id="rId3" Type="http://schemas.openxmlformats.org/officeDocument/2006/relationships/hyperlink" Target="http://ru.wikipedia.org/wiki/&#1058;&#1080;&#1093;&#1080;&#1081;_&#1086;&#1082;&#1077;&#1072;&#1085;" TargetMode="External"/><Relationship Id="rId4" Type="http://schemas.openxmlformats.org/officeDocument/2006/relationships/hyperlink" Target="http://ru.wikipedia.org/wiki/&#1040;&#1079;&#1080;&#1103;" TargetMode="External"/><Relationship Id="rId5" Type="http://schemas.openxmlformats.org/officeDocument/2006/relationships/hyperlink" Target="http://ru.wikipedia.org/wiki/&#1056;&#1086;&#1089;&#1089;&#1080;&#1103;" TargetMode="External"/><Relationship Id="rId6" Type="http://schemas.openxmlformats.org/officeDocument/2006/relationships/hyperlink" Target="http://ru.wikipedia.org/wiki/&#1050;&#1072;&#1085;&#1072;&#1076;&#1072;" TargetMode="External"/><Relationship Id="rId7" Type="http://schemas.openxmlformats.org/officeDocument/2006/relationships/hyperlink" Target="http://ru.wikipedia.org/wiki/&#1042;&#1086;&#1089;&#1090;&#1086;&#1095;&#1085;&#1086;-&#1050;&#1080;&#1090;&#1072;&#1081;&#1089;&#1082;&#1086;&#1077;_&#1084;&#1086;&#1088;&#1077;" TargetMode="External"/><Relationship Id="rId8" Type="http://schemas.openxmlformats.org/officeDocument/2006/relationships/hyperlink" Target="http://ru.wikipedia.org/wiki/&#1050;&#1086;&#1088;&#1077;&#1081;&#1089;&#1082;&#1080;&#1081;_&#1079;&#1072;&#1083;&#1080;&#1074;" TargetMode="External"/><Relationship Id="rId9" Type="http://schemas.openxmlformats.org/officeDocument/2006/relationships/hyperlink" Target="http://ru.wikipedia.org/wiki/&#1046;&#1105;&#1083;&#1090;&#1086;&#1077;_&#1084;&#1086;&#1088;&#1077;" TargetMode="External"/><Relationship Id="rId10" Type="http://schemas.openxmlformats.org/officeDocument/2006/relationships/hyperlink" Target="http://ru.wikipedia.org/wiki/&#1070;&#1078;&#1085;&#1086;-&#1050;&#1080;&#1090;&#1072;&#1081;&#1089;&#1082;&#1086;&#1077;_&#1084;&#1086;&#1088;&#1077;" TargetMode="External"/><Relationship Id="rId11" Type="http://schemas.openxmlformats.org/officeDocument/2006/relationships/hyperlink" Target="http://ru.wikipedia.org/wiki/&#1058;&#1072;&#1081;&#1074;&#1072;&#1085;&#1100;_%28&#1086;&#1089;&#1090;&#1088;&#1086;&#1074;%29" TargetMode="External"/><Relationship Id="rId12" Type="http://schemas.openxmlformats.org/officeDocument/2006/relationships/hyperlink" Target="http://ru.wikipedia.org/wiki/&#1058;&#1072;&#1081;&#1074;&#1072;&#1085;&#1100;&#1089;&#1082;&#1080;&#1081;_&#1087;&#1088;&#1086;&#1083;&#1080;&#1074;" TargetMode="External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gekb.ru/userimages/article/kitai_hainan1162693968chinamap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3;&#1080;&#1084;&#1072;&#1090;" TargetMode="External"/><Relationship Id="rId2" Type="http://schemas.openxmlformats.org/officeDocument/2006/relationships/hyperlink" Target="http://ru.wikipedia.org/wiki/&#1057;&#1091;&#1073;&#1090;&#1088;&#1086;&#1087;&#1080;&#1095;&#1077;&#1089;&#1082;&#1080;&#1081;_&#1082;&#1083;&#1080;&#1084;&#1072;&#1090;" TargetMode="External"/><Relationship Id="rId3" Type="http://schemas.openxmlformats.org/officeDocument/2006/relationships/hyperlink" Target="http://ru.wikipedia.org/wiki/&#1059;&#1084;&#1077;&#1088;&#1077;&#1085;&#1085;&#1099;&#1081;_&#1082;&#1083;&#1080;&#1084;&#1072;&#1090;" TargetMode="External"/><Relationship Id="rId4" Type="http://schemas.openxmlformats.org/officeDocument/2006/relationships/hyperlink" Target="http://ru.wikipedia.org/wiki/&#1052;&#1091;&#1089;&#1089;&#1086;&#1085;" TargetMode="External"/><Relationship Id="rId5" Type="http://schemas.openxmlformats.org/officeDocument/2006/relationships/hyperlink" Target="http://ru.wikipedia.org/wiki/&#1058;&#1072;&#1081;&#1092;&#1091;&#1085;" TargetMode="External"/><Relationship Id="rId6" Type="http://schemas.openxmlformats.org/officeDocument/2006/relationships/hyperlink" Target="http://ru.wikipedia.org/wiki/&#1053;&#1072;&#1074;&#1086;&#1076;&#1085;&#1077;&#1085;&#1080;&#1077;" TargetMode="External"/><Relationship Id="rId7" Type="http://schemas.openxmlformats.org/officeDocument/2006/relationships/hyperlink" Target="http://ru.wikipedia.org/wiki/&#1062;&#1091;&#1085;&#1072;&#1084;&#1080;" TargetMode="External"/><Relationship Id="rId8" Type="http://schemas.openxmlformats.org/officeDocument/2006/relationships/hyperlink" Target="http://ru.wikipedia.org/wiki/&#1047;&#1072;&#1089;&#1091;&#1093;&#1072;" TargetMode="External"/><Relationship Id="rId9" Type="http://schemas.openxmlformats.org/officeDocument/2006/relationships/hyperlink" Target="http://ru.wikipedia.org/wiki/&#1046;&#1105;&#1083;&#1090;&#1099;&#1077;_&#1087;&#1099;&#1083;&#1100;&#1085;&#1099;&#1077;_&#1073;&#1091;&#1088;&#1080;" TargetMode="External"/><Relationship Id="rId10" Type="http://schemas.openxmlformats.org/officeDocument/2006/relationships/hyperlink" Target="http://ru.wikipedia.org/wiki/&#1050;&#1086;&#1088;&#1077;&#1103;" TargetMode="External"/><Relationship Id="rId11" Type="http://schemas.openxmlformats.org/officeDocument/2006/relationships/hyperlink" Target="http://ru.wikipedia.org/wiki/&#1071;&#1087;&#1086;&#1085;&#1080;&#1103;" TargetMode="Externa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atic.baza.farpost.ru/bulletins_images/2/7/5/27577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68436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Китай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лезные ископаемы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тай богат разнообразными видами топливных и сырьевых минеральных ресурсов. Особенно большое значение имеют запасы нефти, угля, металлических ру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ки и озё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итае множество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ре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ние реки — это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Янцз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Хуанх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Хэйлунцзя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Чжуцзя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Ланьцанцзя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Нуцзя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Ялуцангп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имеющие выход к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Тихом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10"/>
              </a:rPr>
              <a:t>Индийском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11"/>
              </a:rPr>
              <a:t>Северному Ледовитому океана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их общая водосборная площадь охватывает около 64 % территории стра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итае много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12"/>
              </a:rPr>
              <a:t>озё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общая площадь, которую они занимают, составляет примерно 80 000 кв. км. Имеются также тысячи искусственных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13"/>
              </a:rPr>
              <a:t>озё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—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14"/>
              </a:rPr>
              <a:t>водохранилищ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Картинка 61 из 5029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аститель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итае произрастает около 500 видов 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бамбуков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формирующих 3 % лесов. Заросли бамбука, встречающиеся в 18 провинциях — не только среда обитания многих животных, но и источник ценного сырья. Их одревесневшие соломины (стебли) широко используются в промышлен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Картинка 50 из 260"/>
          <p:cNvPicPr/>
          <p:nvPr/>
        </p:nvPicPr>
        <p:blipFill>
          <a:blip r:embed="rId1"/>
          <a:stretch/>
        </p:blipFill>
        <p:spPr>
          <a:xfrm>
            <a:off x="4468680" y="0"/>
            <a:ext cx="4675320" cy="4210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Картинка 6 из 1662"/>
          <p:cNvPicPr/>
          <p:nvPr/>
        </p:nvPicPr>
        <p:blipFill>
          <a:blip r:embed="rId2"/>
          <a:stretch/>
        </p:blipFill>
        <p:spPr>
          <a:xfrm>
            <a:off x="0" y="1628640"/>
            <a:ext cx="43927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тайская народная республика организована в декабре 1949г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й исполнилось 60 л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Картинка 4 из 518353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Картинка 9 из 518353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Картинка 47 из 5183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684720" y="0"/>
            <a:ext cx="982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Флаг КНР(китайская народная республика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8820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стори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Китайская цивилизация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 — одна из старейших в мире. По утверждениям китайских учёных, её возраст может составлять пять тысяч лет, при этом имеющиеся письменные источники покрывают период не менее 3500 ле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ременное китайское государство и общество является результатом многовекового культурного и политического взаимопроникновения и взаимодействия с многочисленными окружающими азиатскими народами, сопровождавшегося перемещениями многомиллионных людских масс. Воздействие китайского этноса с его гигантским демографическим потенциалом на соседние народы невозможно переоцен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итай расположен в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Восточной Аз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 востока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КН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мывается водами западных морей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Тихого океа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Площадь территории Китая составляет 9,6 млн км². Китай является самой большой страной в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Аз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третьей по площади страной в мире, уступая только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Росс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Канад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ремя опережает московское на 4 часа летом и на 5 часов — зи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ммарная длина сухопутных границ Китая составляет 22 117 км с 14 странами. Побережье Китая тянется от границы с Северной Кореей на севере до Вьетнама на юге и имеет длину 14 500 км. Китай омывается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Восточно-Китайским мор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Корейским залив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Жёлтым мор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0"/>
              </a:rPr>
              <a:t>Южно-Китайским мор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Остров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1"/>
              </a:rPr>
              <a:t>Тайван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тделён от материка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2"/>
              </a:rPr>
              <a:t>Тайваньским пролив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лица Китая город Пек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еление Китая составляет (1970г) 250млн 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Картинка 8 из 5029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лима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Климат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Китая очень разнообразен — от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субтропического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на юге до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умеренного климат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на севере. На побережье погода определяется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муссонами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которые возникают из-за различных поглощательных свойств суши и океа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ее 2/3 страны занимают горные хребты, нагорья и плато, пустыни и полупустыни. Примерно 90 % населения живёт в прибрежных районах и поймах больших рек, таких, как Янцзы, Хуанхэ (Жёлтая река) и Перл. Эти районы находятся в тяжелом экологическом состоянии в результате долгой и интенсивной сельскохозяйственной обработки и загрязнения окружающей сред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Южные и восточные области Китая часто (около 5 раз в год) страдают от разрушительных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тайфун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а также от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наводнений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муссонов,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цунами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и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засух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. Северные районы Китая каждую весну накрывают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жёлтые пыльные бури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которые зарождаются в северных пустынях и переносятся ветрами в сторону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0"/>
              </a:rPr>
              <a:t>Кореи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и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1"/>
              </a:rPr>
              <a:t>Японии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Картинка 11 из 5029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5:40:48Z</dcterms:created>
  <dc:creator>Comp</dc:creator>
  <dc:description/>
  <dc:language>en-US</dc:language>
  <cp:lastModifiedBy>Comp</cp:lastModifiedBy>
  <dcterms:modified xsi:type="dcterms:W3CDTF">2010-04-05T16:54:14Z</dcterms:modified>
  <cp:revision>2</cp:revision>
  <dc:subject/>
  <dc:title>Кита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