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1409-6408-4799-BC4A-C50C6ACB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D2FC-F500-41EA-A988-0AF1B244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C324-5B9B-49C1-ACC3-6B919444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05FF-A75E-4BD5-9C60-86A71682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1AA7-A1F7-4418-A98F-5B09205E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9DE1-0CA2-4001-B3ED-46AFBB12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D6B3-88AE-4CF2-B59D-3FB23AAD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131D-66AB-4459-B2B4-C04ADA7E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8E1A-98BC-40C5-B7F2-24F3FE01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5AD5-6154-4F17-B5E1-18849A27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F3AD-A281-4ABB-B2AA-BB485ECB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4F07-2E39-46C4-95FC-FC925421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ED7A-6C17-4D05-A875-A91A1B63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70FA-ECBA-4948-95A7-D5C0A100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B3EC-DB11-4AB6-BC55-E6894276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710C-6861-43D5-A141-01750DC8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3590-20BB-42DD-AE8C-7185AB2F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BE57-A46F-4429-9A03-1CC0CF9E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6857-5C01-4A80-B0E2-076862FF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92C9-0359-4AF6-8446-39EBE357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E08C-C406-47F7-ACE2-018C2458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9BE2-F8BB-492D-85E9-49102EAF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2419-B92A-4EFC-8F63-EA4DC91B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4CA0-675A-4BBE-B9DB-629E1D84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764A-4CC4-4157-A9B2-DBE45E7DC4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198C-AA71-4A22-92B0-F33236C99B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Измерение и кодирование информации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равочные с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 типовых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одирование текстовой информа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И-8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ndows-1251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днобайтные кодиров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1 символ – 1 байт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code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двухбайтная кодир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1 символ – 2 байт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Решение типовых задач</a:t>
            </a:r>
            <a:br>
              <a:rPr sz="4000"/>
            </a:b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ча 1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32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читая, что каждый символ кодируется 1 байтом, определите информационный объем следующего предложения из пушкинских строк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Певец Давид был ростом мал, Но повалил же Голиафа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24000" y="4724280"/>
          <a:ext cx="8569080" cy="736560"/>
        </p:xfrm>
        <a:graphic>
          <a:graphicData uri="http://schemas.openxmlformats.org/drawingml/2006/table">
            <a:tbl>
              <a:tblPr/>
              <a:tblGrid>
                <a:gridCol w="2143080"/>
                <a:gridCol w="2141280"/>
                <a:gridCol w="2143440"/>
                <a:gridCol w="21412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400 б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50 б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400 бай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5 бай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шени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тексте содержится 50 символов, включая пробелы и знаки препинания. Каждый символ кодируется 1 байтом, информационный объем сообщения из 50 символов равен 50 байтам. Поскольку среди ответов нет подобного варианта, переведем объем в биты. 1 байт = 8  бит, поэтому информационный объем сообщения равен 400 би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Ответ: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ча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втоматическое устройство осуществило перекодировку информационного сообщения на русском языке, первоначально записанного в 16-битном код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code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8-битную кодировку КОИ-8. При этом информационное сообщение уменьшилось на 480 бит. Какова длина сообщения в символах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24000" y="5661000"/>
          <a:ext cx="8569080" cy="736560"/>
        </p:xfrm>
        <a:graphic>
          <a:graphicData uri="http://schemas.openxmlformats.org/drawingml/2006/table">
            <a:tbl>
              <a:tblPr/>
              <a:tblGrid>
                <a:gridCol w="2143080"/>
                <a:gridCol w="2141280"/>
                <a:gridCol w="2143440"/>
                <a:gridCol w="21412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4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шени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 переходе от 16-битной кодировки к 8-битной сообщение уменьшается в 2 раза, поэтому длина сообщения после перекодировки составила 480 бит. Длина этого сообщения в символах будет равна 480 : 8 = 6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Ответ: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ча 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колько существует различных последовательностей из символов «плюс» и  «минус» длиной ровно в 5 символов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24000" y="3645000"/>
          <a:ext cx="8569080" cy="736560"/>
        </p:xfrm>
        <a:graphic>
          <a:graphicData uri="http://schemas.openxmlformats.org/drawingml/2006/table">
            <a:tbl>
              <a:tblPr/>
              <a:tblGrid>
                <a:gridCol w="2143080"/>
                <a:gridCol w="2141280"/>
                <a:gridCol w="2143440"/>
                <a:gridCol w="21412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5 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шени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личных комбинаций из символов «плюс» и «минус» существует ровно столько же, сколько и соответствующих двоичных кодов (битов) той же длины, т.е.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32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Ответ: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ча 4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велокроссе участвуют 119 спортсменов. Специальное устройство реагирует прохождение каждым из участников промежуточного финиша, записывая его номер с использованием минимально возможного количества битов, одинакового для каждого спортсмена. Каков информационный объем сообщения, записанного устройством, после того как промежуточный финиш прошли 70 велосипедистов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95280" y="5734080"/>
          <a:ext cx="8569080" cy="736560"/>
        </p:xfrm>
        <a:graphic>
          <a:graphicData uri="http://schemas.openxmlformats.org/drawingml/2006/table">
            <a:tbl>
              <a:tblPr/>
              <a:tblGrid>
                <a:gridCol w="2143080"/>
                <a:gridCol w="2141280"/>
                <a:gridCol w="2143440"/>
                <a:gridCol w="21412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70 б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70 бай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490 б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119 бай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шени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ый бит устройства можно рассматривать как элемент, принимающий два состояния. Определим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количество таких элементов, необходимое для кодирования алфавита мощностью 119,используя двойное неравенств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&lt; 119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≤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з данного неравенства, с учетом того, чт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64, 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128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получаем, что информация о каждом номере спортсмена должна кодироваться 7 битами. Тогда информационный объем сообщения, содержащего информацию о 70 велосипедистах, будет равен 7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7 = 490 би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Ответ: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Справочные сведения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ча 5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ычный дорожный светофор подает шесть видов сигналов (непрерывный красный, желтый и зеленый, мигающий желтый, мигающий зеленый, одновременно мигающие красный и желтый). Электронное устройство управления светофором последовательно воспроизводит записанные сигналы. Подряд записано 100 сигналов светофора. В байтах данный информационный объем составляет…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24000" y="5445000"/>
          <a:ext cx="8569080" cy="736560"/>
        </p:xfrm>
        <a:graphic>
          <a:graphicData uri="http://schemas.openxmlformats.org/drawingml/2006/table">
            <a:tbl>
              <a:tblPr/>
              <a:tblGrid>
                <a:gridCol w="2143080"/>
                <a:gridCol w="2141280"/>
                <a:gridCol w="2143440"/>
                <a:gridCol w="21412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шени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ый бит устройства можно рассматривать как элемент, принимающий два состояния. Определим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количество таких элементов, необходимое для кодирования алфавита мощностью 6,используя двойное неравенств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≤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з данного неравенства, с учетом того, чт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4, 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8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получаем, что информация о каждом сигнале должна кодироваться 3 битами. Тогда информационный объем сообщения, содержащего информацию о 100 сигналах, будет равен 10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3 = 300 би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шени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Для определения информационного объема в байтах, учтем что 1 байт = 8 бит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300 : 8 = 37 байт 4 бит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Такой ответ отсутствует, выберем вариант, соответствующий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минимальному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из тех объемов информации, которые могут содержать 37 байт 4 бита: это 38 бай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твет: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ча 6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корзине лежат шары. Все шары разного цвета. Сообщение о том, что достали синий шар, несет 5 бит информации. Сколько всего шаров в корзин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50920" y="3933720"/>
          <a:ext cx="8569080" cy="736560"/>
        </p:xfrm>
        <a:graphic>
          <a:graphicData uri="http://schemas.openxmlformats.org/drawingml/2006/table">
            <a:tbl>
              <a:tblPr/>
              <a:tblGrid>
                <a:gridCol w="2143080"/>
                <a:gridCol w="2141280"/>
                <a:gridCol w="2143440"/>
                <a:gridCol w="21412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шени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огласно формуле Хартли, если для выбора одного из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различных равновероятных вариантов требуется информация, равная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бит, то значение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можно определить следующим образо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К = 2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 данном случае эта формула применима, т.к. все варианты различ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 условию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= 5, значит число шаров равн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3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Ответ: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Формула Хартл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ая информация, которую мы получаем, может быть измере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инимальной единицей информации является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один би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нформация имеет размер 1 бит, если она позволяет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в два раза уменьшить неопределенность наших знаний о некотором событ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выбора одного из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лементов необходимо получить информацию объемом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n = log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=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бъем информ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– количество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одирование информа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устройствах, предназначенных для хранения или передачи информации, необходимо предварительно выполнять ее кодирование, т.е. перевод в форму, естественную для данного устрой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лемент устройства, принимающий два состояния (включен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ключено), позволяет закодировать информацию объемом 1 би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лфавит – множество симво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ощность – количество символов, входящих в алфави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 быть с алфавитами, мощность которых не является степенью числа 2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подобных ситуациях значение логарифма надо округлять с избытком, т.е. в сторону большего целого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35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значение числа, округленное с избытк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7"/>
              <p:cNvSpPr txBox="1"/>
              <p:nvPr/>
            </p:nvSpPr>
            <p:spPr>
              <a:xfrm>
                <a:off x="395280" y="404640"/>
                <a:ext cx="7920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⌈"/>
                        <m:endChr m:val="⌉"/>
                      </m:dPr>
                      <m:e>
                        <m:r>
                          <m:t xml:space="preserve">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9"/>
              <p:cNvSpPr txBox="1"/>
              <p:nvPr/>
            </p:nvSpPr>
            <p:spPr>
              <a:xfrm>
                <a:off x="3059280" y="2238480"/>
                <a:ext cx="3281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M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1"/>
              <p:cNvSpPr txBox="1"/>
              <p:nvPr/>
            </p:nvSpPr>
            <p:spPr>
              <a:xfrm>
                <a:off x="2843280" y="1125360"/>
                <a:ext cx="36003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d>
                      <m:dPr>
                        <m:begChr m:val="⌈"/>
                        <m:endChr m:val="⌉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4"/>
              <p:cNvSpPr txBox="1"/>
              <p:nvPr/>
            </p:nvSpPr>
            <p:spPr>
              <a:xfrm>
                <a:off x="2987640" y="3860640"/>
                <a:ext cx="36003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d>
                      <m:dPr>
                        <m:begChr m:val="⌈"/>
                        <m:endChr m:val="⌉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5"/>
              <p:cNvSpPr txBox="1"/>
              <p:nvPr/>
            </p:nvSpPr>
            <p:spPr>
              <a:xfrm>
                <a:off x="3203640" y="4941720"/>
                <a:ext cx="32814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M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4" name="Text Box 16"/>
          <p:cNvSpPr/>
          <p:nvPr/>
        </p:nvSpPr>
        <p:spPr>
          <a:xfrm>
            <a:off x="882720" y="2892600"/>
            <a:ext cx="76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бщем случае формула будет следующ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Хранение информа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ля хранения информации в компьютере используются устройства, элементы которых (ячейки памяти) могут принимать два состояния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ктивное (1) и неактивное (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Единицы информа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байт = 8 бит =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и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Кбайт =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айт = 1024 бай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Мбайт =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байт = 1024 Кбай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Гбайт =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байт = 1024 Мбай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Тбайт =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байт = 1024 Гбай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6:12:31Z</dcterms:created>
  <dc:creator>User</dc:creator>
  <dc:description/>
  <dc:language>en-US</dc:language>
  <cp:lastModifiedBy>User</cp:lastModifiedBy>
  <dcterms:modified xsi:type="dcterms:W3CDTF">2011-05-04T15:29:32Z</dcterms:modified>
  <cp:revision>23</cp:revision>
  <dc:subject/>
  <dc:title>Измерение и кодирование информации</dc:title>
</cp:coreProperties>
</file>