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11F-CEC1-4CF5-95FE-DA8FF359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7571-3D11-42F6-9F5B-782ACAB3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28F-7C95-4EEF-A3CE-1AF8834C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4B9-FCD4-4FA7-A233-54C5B40C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CEA0-D329-46AB-8C4D-C535F742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38CF-D593-45EF-8CF7-C6362939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C495-2DB9-4D85-B129-7D06D9D3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119D-FDB2-49AD-8AD2-1F96E923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0F17-AE6D-4EA6-9964-AD8DEBA0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4994-EA82-49F7-AE80-44EA6FFB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F5B1-71F3-4793-83B1-B5106656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B9A-5900-4FDB-BC63-02D2AC45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1D1F-3ABE-4453-813D-FEBBBEF6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D2CF-248E-4C94-A2C7-8FDFAC6A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2AD0-3753-402D-9938-D1CFDC27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7273-2550-4AAD-8F93-D9075577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E44A-AD45-4B40-9B2C-4F8F2DC4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8D8-AE8C-4A52-9F65-50486063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FFB-7FDB-4F11-9BB5-A264CFE1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6F5-B95D-4297-AE2B-F658E7AF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4257-17C4-4852-8BDF-0BF5CC80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81F-5921-42A5-9BEB-476EC44A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632-4252-4233-B631-4755E5EA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2B3-48F0-4B6C-A134-E9086A00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9EE9-A84F-4D35-9CED-15388355DE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A0BA-7D6F-49DB-8507-88F0C5CA4FD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Измерение и кодирование информации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авочные с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 типовы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одирование текстовой информ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И-8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dows-1251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нобайтные кодиров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1 символ – 1 бай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code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двухбайтная кодир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1 символ – 2 бай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Решение типовых задач</a:t>
            </a:r>
            <a:br>
              <a:rPr sz="4000"/>
            </a:b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1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читая, что каждый символ кодируется 1 байтом, определите информационный объем следующего предложения из пушкинских строк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Певец Давид был ростом мал, Но повалил же Голиаф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24000" y="4724280"/>
          <a:ext cx="8569080" cy="736560"/>
        </p:xfrm>
        <a:graphic>
          <a:graphicData uri="http://schemas.openxmlformats.org/drawingml/2006/table">
            <a:tbl>
              <a:tblPr/>
              <a:tblGrid>
                <a:gridCol w="2143080"/>
                <a:gridCol w="2141280"/>
                <a:gridCol w="2143440"/>
                <a:gridCol w="2141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400 б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50 б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400 бай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5 бай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тексте содержится 50 символов, включая пробелы и знаки препинания. Каждый символ кодируется 1 байтом, информационный объем сообщения из 50 символов равен 50 байтам. Поскольку среди ответов нет подобного варианта, переведем объем в биты. 1 байт = 8  бит, поэтому информационный объем сообщения равен 400 би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твет: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втоматическое устройство осуществило перекодировку информационного сообщения на русском языке, первоначально записанного в 16-битном код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code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8-битную кодировку КОИ-8. При этом информационное сообщение уменьшилось на 480 бит. Какова длина сообщения в символах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5661000"/>
          <a:ext cx="8569080" cy="736560"/>
        </p:xfrm>
        <a:graphic>
          <a:graphicData uri="http://schemas.openxmlformats.org/drawingml/2006/table">
            <a:tbl>
              <a:tblPr/>
              <a:tblGrid>
                <a:gridCol w="2143080"/>
                <a:gridCol w="2141280"/>
                <a:gridCol w="2143440"/>
                <a:gridCol w="2141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переходе от 16-битной кодировки к 8-битной сообщение уменьшается в 2 раза, поэтому длина сообщения после перекодировки составила 480 бит. Длина этого сообщения в символах будет равна 480 : 8 = 6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твет: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колько существует различных последовательностей из символов «плюс» и  «минус» длиной ровно в 5 символо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24000" y="3645000"/>
          <a:ext cx="8569080" cy="736560"/>
        </p:xfrm>
        <a:graphic>
          <a:graphicData uri="http://schemas.openxmlformats.org/drawingml/2006/table">
            <a:tbl>
              <a:tblPr/>
              <a:tblGrid>
                <a:gridCol w="2143080"/>
                <a:gridCol w="2141280"/>
                <a:gridCol w="2143440"/>
                <a:gridCol w="2141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5 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личных комбинаций из символов «плюс» и «минус» существует ровно столько же, сколько и соответствующих двоичных кодов (битов) той же длины, т.е.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3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твет: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велокроссе участвуют 119 спортсменов. Специальное устройство реагирует прохождение каждым из участников промежуточного финиша, записывая его номер с использованием минимально возможного количества битов, одинакового для каждого спортсмена. Каков информационный объем сообщения, записанного устройством, после того как промежуточный финиш прошли 70 велосипедистов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95280" y="5734080"/>
          <a:ext cx="8569080" cy="736560"/>
        </p:xfrm>
        <a:graphic>
          <a:graphicData uri="http://schemas.openxmlformats.org/drawingml/2006/table">
            <a:tbl>
              <a:tblPr/>
              <a:tblGrid>
                <a:gridCol w="2143080"/>
                <a:gridCol w="2141280"/>
                <a:gridCol w="2143440"/>
                <a:gridCol w="2141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70 б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70 бай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490 б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119 бай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ый бит устройства можно рассматривать как элемент, принимающий два состояния. Определим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количество таких элементов, необходимое для кодирования алфавита мощностью 119,используя двойное неравенств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&lt; 119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≤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з данного неравенства, с учетом того, чт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64,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128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учаем, что информация о каждом номере спортсмена должна кодироваться 7 битами. Тогда информационный объем сообщения, содержащего информацию о 70 велосипедистах, будет равен 7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7 = 490 би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твет: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Справочные сведения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ычный дорожный светофор подает шесть видов сигналов (непрерывный красный, желтый и зеленый, мигающий желтый, мигающий зеленый, одновременно мигающие красный и желтый). Электронное устройство управления светофором последовательно воспроизводит записанные сигналы. Подряд записано 100 сигналов светофора. В байтах данный информационный объем составляет…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5445000"/>
          <a:ext cx="8569080" cy="736560"/>
        </p:xfrm>
        <a:graphic>
          <a:graphicData uri="http://schemas.openxmlformats.org/drawingml/2006/table">
            <a:tbl>
              <a:tblPr/>
              <a:tblGrid>
                <a:gridCol w="2143080"/>
                <a:gridCol w="2141280"/>
                <a:gridCol w="2143440"/>
                <a:gridCol w="2141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ый бит устройства можно рассматривать как элемент, принимающий два состояния. Определим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количество таких элементов, необходимое для кодирования алфавита мощностью 6,используя двойное неравенств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≤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з данного неравенства, с учетом того, чт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4,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8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получаем, что информация о каждом сигнале должна кодироваться 3 битами. Тогда информационный объем сообщения, содержащего информацию о 100 сигналах, будет равен 1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3 = 300 би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ля определения информационного объема в байтах, учтем что 1 байт = 8 би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300 : 8 = 37 байт 4 би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Такой ответ отсутствует, выберем вариант, соответствующий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минимальном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из тех объемов информации, которые могут содержать 37 байт 4 бита: это 38 бай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твет: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а 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орзине лежат шары. Все шары разного цвета. Сообщение о том, что достали синий шар, несет 5 бит информации. Сколько всего шаров в корзин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0920" y="3933720"/>
          <a:ext cx="8569080" cy="736560"/>
        </p:xfrm>
        <a:graphic>
          <a:graphicData uri="http://schemas.openxmlformats.org/drawingml/2006/table">
            <a:tbl>
              <a:tblPr/>
              <a:tblGrid>
                <a:gridCol w="2143080"/>
                <a:gridCol w="2141280"/>
                <a:gridCol w="2143440"/>
                <a:gridCol w="2141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ше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гласно формуле Хартли, если для выбора одного из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различных равновероятных вариантов требуется информация, равная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бит, то значение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можно определить следующим образо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 = 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данном случае эта формула применима, т.к. все варианты различ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 условию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= 5, значит число шаров равн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3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твет: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ормула Хартл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ая информация, которую мы получаем, может быть измере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инимальной единицей информации является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дин б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формация имеет размер 1 бит, если она позволяет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в два раза уменьшить неопределенность наших знаний о некотором событ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выбора одного из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лементов необходимо получить информацию объемо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n = log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=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бъем информ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– количество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одирование информ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устройствах, предназначенных для хранения или передачи информации, необходимо предварительно выполнять ее кодирование, т.е. перевод в форму, естественную для данного устрой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лемент устройства, принимающий два состояния (включен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ключено), позволяет закодировать информацию объемом 1 б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лфавит – множество симво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ощность – количество символов, входящих в алфав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быть с алфавитами, мощность которых не является степенью числа 2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подобных ситуациях значение логарифма надо округлять с избытком, т.е. в сторону большего целого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значение числа, округленное с избытк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395280" y="404640"/>
                <a:ext cx="7920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r>
                          <m:t xml:space="preserve">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9"/>
              <p:cNvSpPr txBox="1"/>
              <p:nvPr/>
            </p:nvSpPr>
            <p:spPr>
              <a:xfrm>
                <a:off x="3059280" y="2238480"/>
                <a:ext cx="3281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M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1"/>
              <p:cNvSpPr txBox="1"/>
              <p:nvPr/>
            </p:nvSpPr>
            <p:spPr>
              <a:xfrm>
                <a:off x="2843280" y="1125360"/>
                <a:ext cx="36003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4"/>
              <p:cNvSpPr txBox="1"/>
              <p:nvPr/>
            </p:nvSpPr>
            <p:spPr>
              <a:xfrm>
                <a:off x="2987640" y="3860640"/>
                <a:ext cx="36003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5"/>
              <p:cNvSpPr txBox="1"/>
              <p:nvPr/>
            </p:nvSpPr>
            <p:spPr>
              <a:xfrm>
                <a:off x="3203640" y="4941720"/>
                <a:ext cx="32814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M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Text Box 16"/>
          <p:cNvSpPr/>
          <p:nvPr/>
        </p:nvSpPr>
        <p:spPr>
          <a:xfrm>
            <a:off x="882720" y="2892600"/>
            <a:ext cx="76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щем случае формула будет следующ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Хранение информ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хранения информации в компьютере используются устройства, элементы которых (ячейки памяти) могут принимать два состояния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ктивное (1) и неактивное (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Единицы информ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байт = 8 бит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Кбайт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айт = 1024 бай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Мбайт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байт = 1024 Кбай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Гбайт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байт = 1024 Мбай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Тбайт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байт = 1024 Гбай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6:12:31Z</dcterms:created>
  <dc:creator>User</dc:creator>
  <dc:description/>
  <dc:language>en-US</dc:language>
  <cp:lastModifiedBy>User</cp:lastModifiedBy>
  <dcterms:modified xsi:type="dcterms:W3CDTF">2011-05-04T15:29:32Z</dcterms:modified>
  <cp:revision>23</cp:revision>
  <dc:subject/>
  <dc:title>Измерение и кодирование информации</dc:title>
</cp:coreProperties>
</file>