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2C9-F236-4CB1-9771-81006566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B1F-F328-420B-A707-1B20F12F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9FD-2053-4006-BF19-BB2A4BA6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63F-32E3-4507-B1C9-B1E3986E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7A41-09A2-41FB-B466-E8596879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2738-D378-4A4B-A0AC-44110536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CAD6-6138-4938-AB87-F3C26229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0CDB-9AD5-49B1-AFD2-FB1A6F8F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3CFB-53BB-460F-9352-C2E1B2B7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20C2-6FAC-4B07-99F7-8D590681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1E5B-8AC4-4136-9EBF-0CFBF348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FD8-27A4-48C9-A745-8761AF50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AE68-09F7-4AB8-879F-F34480E7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46E7-2C90-4DCC-B0D6-4F770AC9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9E67-3AFB-45B5-9BE0-D5293A92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378A-4019-4F55-AC33-7577AF90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0C59-B433-400C-82F7-8165D62C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ED5-CFB8-48E4-829F-82DF6F38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85D-7D50-472F-BAC5-9069FA54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6B1-CFC8-4EB9-8DB8-16C2AFEC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5FE-067D-4785-AEFB-7907A047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E1E-C71A-43B2-975F-50254510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747-1BAA-4160-B19D-F69B30BB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31CC-5E65-40E8-A56F-F51AA80B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515E-8D7F-4B20-8227-6E1714C0BE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F803-404D-4030-B0E3-5A99B97328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Измерение и кодирование информации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ы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типов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одирование текстовой информ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И-8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ows-1251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нобайтные кодиров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1 символ – 1 бай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двухбайтная кодир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1 символ – 2 бай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Решение типовых задач</a:t>
            </a:r>
            <a:br>
              <a:rPr sz="4000"/>
            </a:b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1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читая, что каждый символ кодируется 1 байтом, определите информационный объем следующего предложения из пушкинских строк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евец Давид был ростом мал, Но повалил же Голиаф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24000" y="472428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400 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50 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400 бай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5 бай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тексте содержится 50 символов, включая пробелы и знаки препинания. Каждый символ кодируется 1 байтом, информационный объем сообщения из 50 символов равен 50 байтам. Поскольку среди ответов нет подобного варианта, переведем объем в биты. 1 байт = 8  бит, поэтому информационный объем сообщения равен 400 б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твет: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втоматическое устройство осуществило перекодировку информационного сообщения на русском языке, первоначально записанного в 16-битном ко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8-битную кодировку КОИ-8. При этом информационное сообщение уменьшилось на 480 бит. Какова длина сообщения в символа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566100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переходе от 16-битной кодировки к 8-битной сообщение уменьшается в 2 раза, поэтому длина сообщения после перекодировки составила 480 бит. Длина этого сообщения в символах будет равна 480 : 8 = 6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колько существует различных последовательностей из символов «плюс» и  «минус» длиной ровно в 5 символ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24000" y="364500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5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личных комбинаций из символов «плюс» и «минус» существует ровно столько же, сколько и соответствующих двоичных кодов (битов) той же длины, т.е.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3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твет: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велокроссе участвуют 119 спортсменов. Специальное устройство реагирует прохождение каждым из участников промежуточного финиша, записывая его номер с использованием минимально возможного количества битов, одинакового для каждого спортсмена. Каков информационный объем сообщения, записанного устройством, после того как промежуточный финиш прошли 70 велосипедистов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95280" y="573408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70 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70 бай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490 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119 бай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ый бит устройства можно рассматривать как элемент, принимающий два состояния. Определим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количество таких элементов, необходимое для кодирования алфавита мощностью 119,используя двойное неравенств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lt; 119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≤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з данного неравенства, с учетом того, чт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64,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12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учаем, что информация о каждом номере спортсмена должна кодироваться 7 битами. Тогда информационный объем сообщения, содержащего информацию о 70 велосипедистах, будет равен 7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7 = 490 би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твет: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Справочные сведения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ычный дорожный светофор подает шесть видов сигналов (непрерывный красный, желтый и зеленый, мигающий желтый, мигающий зеленый, одновременно мигающие красный и желтый). Электронное устройство управления светофором последовательно воспроизводит записанные сигналы. Подряд записано 100 сигналов светофора. В байтах данный информационный объем составляет…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544500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ый бит устройства можно рассматривать как элемент, принимающий два состояния. Определим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количество таких элементов, необходимое для кодирования алфавита мощностью 6,используя двойное неравенств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≤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з данного неравенства, с учетом того, чт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4,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учаем, что информация о каждом сигнале должна кодироваться 3 битами. Тогда информационный объем сообщения, содержащего информацию о 100 сигналах, будет равен 1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3 = 300 би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ля определения информационного объема в байтах, учтем что 1 байт = 8 би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00 : 8 = 37 байт 4 би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Такой ответ отсутствует, выберем вариант, соответствующий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минимальном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из тех объемов информации, которые могут содержать 37 байт 4 бита: это 38 бай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орзине лежат шары. Все шары разного цвета. Сообщение о том, что достали синий шар, несет 5 бит информации. Сколько всего шаров в корзин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0920" y="393372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формуле Хартли, если для выбора одного из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различных равновероятных вариантов требуется информация, равная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бит, то значение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можно определить следующим образо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 =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данном случае эта формула применима, т.к. все варианты различ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 условию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= 5, значит число шаров равн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3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твет: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ормула Хартл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информация, которую мы получаем, может быть измер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инимальной единицей информации является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дин б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формация имеет размер 1 бит, если она позволяет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в два раза уменьшить неопределенность наших знаний о некотором событ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выбора одного из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лементов необходимо получить информацию объемо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n = log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=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бъем информ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– количество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одирование информ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устройствах, предназначенных для хранения или передачи информации, необходимо предварительно выполнять ее кодирование, т.е. перевод в форму, естественную для данного устрой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лемент устройства, принимающий два состояния (включен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ключено), позволяет закодировать информацию объемом 1 б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лфавит – множество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щность – количество символов, входящих в алфав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быть с алфавитами, мощность которых не является степенью числа 2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подобных ситуациях значение логарифма надо округлять с избытком, т.е. в сторону большего целого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значение числа, округленное с избыт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395280" y="404640"/>
                <a:ext cx="792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r>
                          <m:t xml:space="preserve">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3059280" y="2238480"/>
                <a:ext cx="3281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M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1"/>
              <p:cNvSpPr txBox="1"/>
              <p:nvPr/>
            </p:nvSpPr>
            <p:spPr>
              <a:xfrm>
                <a:off x="2843280" y="1125360"/>
                <a:ext cx="36003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4"/>
              <p:cNvSpPr txBox="1"/>
              <p:nvPr/>
            </p:nvSpPr>
            <p:spPr>
              <a:xfrm>
                <a:off x="2987640" y="3860640"/>
                <a:ext cx="36003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5"/>
              <p:cNvSpPr txBox="1"/>
              <p:nvPr/>
            </p:nvSpPr>
            <p:spPr>
              <a:xfrm>
                <a:off x="3203640" y="4941720"/>
                <a:ext cx="32814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M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Text Box 16"/>
          <p:cNvSpPr/>
          <p:nvPr/>
        </p:nvSpPr>
        <p:spPr>
          <a:xfrm>
            <a:off x="882720" y="2892600"/>
            <a:ext cx="76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щем случае формула будет следующ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Хранение информ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хранения информации в компьютере используются устройства, элементы которых (ячейки памяти) могут принимать два состояния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ктивное (1) и неактивное (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Единицы информ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байт = 8 бит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Кбайт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айт = 1024 бай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Мбайт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байт = 1024 Кбай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Гбайт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байт = 1024 Мбай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Тбайт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байт = 1024 Гбай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6:12:31Z</dcterms:created>
  <dc:creator>User</dc:creator>
  <dc:description/>
  <dc:language>en-US</dc:language>
  <cp:lastModifiedBy>User</cp:lastModifiedBy>
  <dcterms:modified xsi:type="dcterms:W3CDTF">2011-05-04T15:29:32Z</dcterms:modified>
  <cp:revision>23</cp:revision>
  <dc:subject/>
  <dc:title>Измерение и кодирование информации</dc:title>
</cp:coreProperties>
</file>