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E09E-FB8A-4CB8-9C5E-1A08DFFB1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22A9-2C67-47C6-9B3D-BD1BC9F52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0D48-FD31-4BEF-B4D1-01714B3FE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0F6C-C46F-4719-B0C8-B26BAF58E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501FE-FCD5-42A4-936C-F99B8E188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C67F1-26FC-475D-912F-1211A9966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6C31A-C023-4605-A594-206417CBC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4C256-73B6-4B4A-8A0A-880D2A19A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94FCB-F629-454D-B5B8-18E5A7102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8465A-B6A5-4E8A-AE21-B7B8AE68C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D4363-8104-4582-9142-4D14C07CE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AA02-4716-4C3C-BD35-BD67B4999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CB56C-35ED-4E5A-8997-139C39B24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A0833-0835-42D9-AFD2-D0D27907E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D898F-27A5-48A7-8686-36F7F71B3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3D9C5-9C54-4150-81E1-8BE4515E3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86415-9C35-4BE7-9E7D-70E60E24C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4629F3-DD45-4742-BA55-19ABCE081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9E02DD-D51C-4D7B-9E18-EF1054FB1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934569-D14D-468B-940C-527497B37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7FDD44-47EE-4C39-9793-71B9D229A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160848-908D-41F7-B6E8-69457FACD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5354-CD75-420F-816D-97E5A72C3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D069AD-55C0-4254-97F3-FF9AAD3BA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CB4EEF-66D3-44E1-9C3F-894F1513A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BA3A9F-F146-4681-B142-A80AB326F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2B4C92-A95C-4E07-AE2D-CBCBCD252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F0798E-4128-41E4-A3A8-2EDE9EDD5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73771F-4E42-4533-9272-74155DDB1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115734-359D-4510-85CF-CBA7B5A41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2A5210-E75B-492B-A8D5-CD06F932D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8C1295-CD5A-4091-A250-9E354A592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8F6CB1-582D-4F6A-A5F7-885409268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7708-EE96-4569-B59C-EFD9930BD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2D8ED7-8FE8-42BD-9E2E-2D7174B34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B99EBA-22EE-4EFC-9602-6F70F43D4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38B07E-D408-489B-9EC6-5E0DF25E8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8077B5-063E-4D74-8E2B-3B16E4EBA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414EFF-E700-4373-BC71-E866577BE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3BEAE7-90EB-42CE-A20B-0B63D2EBC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1EF37B-2155-4F38-A28E-55D16C645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72AEE9-D0BA-4F9B-9745-519C2DEC1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A11916-B902-454A-A405-0465E2257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B456-7688-4837-B15F-20D869D0D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E3E9-2EC6-47C7-9260-204B093DD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8D27-4DCA-4ED7-9DD8-BAEC3F0F5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250E-E925-49B1-9186-6B3702DE2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5149-7C45-477A-B08E-B482EFE20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51560" indent="-210240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472040" indent="-210240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1892520" indent="-210240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1892520" indent="-2102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1892520" indent="-2102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"/>
          <p:cNvSpPr/>
          <p:nvPr/>
        </p:nvSpPr>
        <p:spPr>
          <a:xfrm>
            <a:off x="0" y="2286000"/>
            <a:ext cx="53352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33520" y="2819520"/>
            <a:ext cx="533160" cy="53316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981080" y="533520"/>
            <a:ext cx="381240" cy="38088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066680"/>
            <a:ext cx="380880" cy="38124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143000" y="685800"/>
            <a:ext cx="380880" cy="38088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2362320" y="152280"/>
            <a:ext cx="380880" cy="38124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755640"/>
            <a:ext cx="5867280" cy="763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5715000" y="609480"/>
            <a:ext cx="304920" cy="304920"/>
          </a:xfrm>
          <a:prstGeom prst="rect">
            <a:avLst/>
          </a:prstGeom>
          <a:solidFill>
            <a:srgbClr val="0099cc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5562720" y="457200"/>
            <a:ext cx="304560" cy="30492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8458200" y="3962520"/>
            <a:ext cx="380880" cy="380880"/>
          </a:xfrm>
          <a:prstGeom prst="rect">
            <a:avLst/>
          </a:prstGeom>
          <a:solidFill>
            <a:srgbClr val="0099cc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8686800" y="3657600"/>
            <a:ext cx="380880" cy="380880"/>
          </a:xfrm>
          <a:prstGeom prst="rect">
            <a:avLst/>
          </a:prstGeom>
          <a:solidFill>
            <a:srgbClr val="009999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" name=""/>
          <p:cNvGrpSpPr/>
          <p:nvPr/>
        </p:nvGrpSpPr>
        <p:grpSpPr>
          <a:xfrm>
            <a:off x="0" y="2286000"/>
            <a:ext cx="1066680" cy="1066680"/>
            <a:chOff x="0" y="2286000"/>
            <a:chExt cx="1066680" cy="1066680"/>
          </a:xfrm>
        </p:grpSpPr>
        <p:sp>
          <p:nvSpPr>
            <p:cNvPr id="13" name=""/>
            <p:cNvSpPr/>
            <p:nvPr/>
          </p:nvSpPr>
          <p:spPr>
            <a:xfrm>
              <a:off x="0" y="2286000"/>
              <a:ext cx="533520" cy="53316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33520" y="281916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" name="PlaceHolder 2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61D9C-2E0A-4C33-85C9-87C6326AACA7}" type="slidenum">
              <a:rPr b="1" lang="en-US" sz="28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" name=""/>
          <p:cNvGrpSpPr/>
          <p:nvPr/>
        </p:nvGrpSpPr>
        <p:grpSpPr>
          <a:xfrm>
            <a:off x="762120" y="152280"/>
            <a:ext cx="1981080" cy="1295640"/>
            <a:chOff x="762120" y="152280"/>
            <a:chExt cx="1981080" cy="1295640"/>
          </a:xfrm>
        </p:grpSpPr>
        <p:sp>
          <p:nvSpPr>
            <p:cNvPr id="20" name=""/>
            <p:cNvSpPr/>
            <p:nvPr/>
          </p:nvSpPr>
          <p:spPr>
            <a:xfrm>
              <a:off x="1981440" y="533520"/>
              <a:ext cx="380880" cy="38088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62120" y="1066680"/>
              <a:ext cx="380880" cy="38124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143000" y="685800"/>
              <a:ext cx="381240" cy="38088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2362320" y="152280"/>
              <a:ext cx="380880" cy="38124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895480" y="4303800"/>
            <a:ext cx="3276720" cy="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"/>
          <p:cNvSpPr/>
          <p:nvPr/>
        </p:nvSpPr>
        <p:spPr>
          <a:xfrm>
            <a:off x="0" y="1066680"/>
            <a:ext cx="868680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533520" y="0"/>
            <a:ext cx="3276360" cy="2133720"/>
            <a:chOff x="533520" y="0"/>
            <a:chExt cx="3276360" cy="2133720"/>
          </a:xfrm>
        </p:grpSpPr>
        <p:sp>
          <p:nvSpPr>
            <p:cNvPr id="64" name=""/>
            <p:cNvSpPr/>
            <p:nvPr/>
          </p:nvSpPr>
          <p:spPr>
            <a:xfrm>
              <a:off x="1600200" y="1066680"/>
              <a:ext cx="53352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33720" y="160020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276720" y="106668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06668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533520" y="0"/>
            <a:ext cx="3276000" cy="2133720"/>
            <a:chOff x="533520" y="0"/>
            <a:chExt cx="3276000" cy="2133720"/>
          </a:xfrm>
        </p:grpSpPr>
        <p:sp>
          <p:nvSpPr>
            <p:cNvPr id="71" name=""/>
            <p:cNvSpPr/>
            <p:nvPr/>
          </p:nvSpPr>
          <p:spPr>
            <a:xfrm>
              <a:off x="1599840" y="1067040"/>
              <a:ext cx="533160" cy="53316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133360" y="160020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742840" y="53352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276360" y="1067040"/>
              <a:ext cx="533160" cy="53316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066680" y="533520"/>
              <a:ext cx="532800" cy="53352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4114800" y="4191120"/>
            <a:ext cx="210960" cy="210960"/>
          </a:xfrm>
          <a:prstGeom prst="rect">
            <a:avLst/>
          </a:prstGeom>
          <a:solidFill>
            <a:srgbClr val="0099cc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419720" y="4191120"/>
            <a:ext cx="210960" cy="210960"/>
          </a:xfrm>
          <a:prstGeom prst="rect">
            <a:avLst/>
          </a:prstGeom>
          <a:solidFill>
            <a:srgbClr val="0099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724280" y="4191120"/>
            <a:ext cx="211320" cy="210960"/>
          </a:xfrm>
          <a:prstGeom prst="rect">
            <a:avLst/>
          </a:prstGeom>
          <a:solidFill>
            <a:srgbClr val="00cc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EB9E9-C4DB-4237-B07F-B4FE1609BDB1}" type="slidenum">
              <a:rPr b="1" lang="en-US" sz="3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7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8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9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1651A-4272-46D6-BE55-882D762420E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16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17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17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7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dt" idx="10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ftr" idx="11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sldNum" idx="1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5AE58-A144-4382-A728-271E6DED8A9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ffff"/>
                </a:solidFill>
                <a:uFillTx/>
                <a:latin typeface="Tahoma"/>
              </a:rPr>
              <a:t>Обучение сочинению по комедии А.С.Грибоедова «Горе от ума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116000" y="4581360"/>
            <a:ext cx="78487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Шубина Ирина Михайловна</a:t>
            </a:r>
            <a:endParaRPr b="0" lang="en-US" sz="28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учитель литературы МОУ «ООШ № 23»</a:t>
            </a:r>
            <a:endParaRPr b="0" lang="en-US" sz="2800" spc="-1" strike="noStrike">
              <a:solidFill>
                <a:srgbClr val="3399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1042920" y="333360"/>
            <a:ext cx="777240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Tahoma"/>
              </a:rPr>
              <a:t>Заключени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аразитический характер этого общества (влияние на людей от природы одарённых, активное сопротивление новому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Сатирическое изображение фамусовского обществ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Авторская позиция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1116000" y="3141720"/>
            <a:ext cx="769608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title"/>
          </p:nvPr>
        </p:nvSpPr>
        <p:spPr>
          <a:xfrm>
            <a:off x="755280" y="214200"/>
            <a:ext cx="8188200" cy="12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1" lang="en-US" sz="3600" spc="-1" strike="noStrike" u="sng">
                <a:solidFill>
                  <a:srgbClr val="3333cc"/>
                </a:solidFill>
                <a:uFillTx/>
                <a:latin typeface="Tahoma"/>
              </a:rPr>
              <a:t>Александр Сергеевич Грибоедов</a:t>
            </a:r>
            <a:br>
              <a:rPr sz="3600"/>
            </a:br>
            <a:r>
              <a:rPr b="1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              «Горе от ума»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1433520" y="1557360"/>
            <a:ext cx="498492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971280" y="188640"/>
            <a:ext cx="78483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89040" y="0"/>
            <a:ext cx="6162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-324000" y="49320"/>
            <a:ext cx="9468000" cy="70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1406520" y="0"/>
            <a:ext cx="6162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1406520" y="0"/>
            <a:ext cx="6162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1116000" y="333000"/>
            <a:ext cx="7623360" cy="48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ahoma"/>
              </a:rPr>
              <a:t>Вступление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c1c1c"/>
                </a:solidFill>
                <a:latin typeface="Tahoma"/>
              </a:rPr>
              <a:t>Время создания комедии. Эпоха, отражённая в ней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Tahoma"/>
              </a:rPr>
              <a:t>Основная часть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Изображение в комедии фамусовского обществ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Фамусов – типичный представитель своего общества. Нарицательное значение его имен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971640" y="476280"/>
            <a:ext cx="7983360" cy="56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Характеристика фамусовского общества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идеалы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Отношение к службе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Отношение к просвещению, новому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Отношение к общественному устройству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Образ жизн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30T15:15:36Z</dcterms:created>
  <dc:creator>user</dc:creator>
  <dc:description/>
  <dc:language>en-US</dc:language>
  <cp:lastModifiedBy>user</cp:lastModifiedBy>
  <dcterms:modified xsi:type="dcterms:W3CDTF">2007-11-01T15:26:55Z</dcterms:modified>
  <cp:revision>5</cp:revision>
  <dc:subject/>
  <dc:title>Обучение сочинению по роману А.С.Пушкина «Дубровский»</dc:title>
</cp:coreProperties>
</file>