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3C0-1421-42BC-9004-15A77389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3B1-45EF-4FA0-82E6-8ED4ACCD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B37-464A-4BD3-BCDA-5D6292EF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1EF-D616-48F0-8599-B526477D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3AD8-E86D-43C2-A19C-34EE2CB8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34E-5206-4A81-864C-BA063A2E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16C1-EB44-48ED-98BD-A19966B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8E2F-757C-4593-AF68-98D9C5D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28A2-EC1D-4EDC-98B0-0E6466A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F29-C04F-4E93-B02B-0640634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78A-D408-42F8-BC49-D3D2D72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C3D-8822-4A89-B75E-AF0CAF7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E5F8-8004-4B12-989E-F96E066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45FC-CAC7-4E46-8C09-61AA88E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5FA4-ACA0-4179-B8A7-D770964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4FE1-8961-4181-ABC9-2DA1AB0E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3A39-B429-423F-9EFF-2854E89E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76D9-8DAB-45DA-A481-AB485003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C2CB-F7A1-4992-991C-3730D64E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7472-907B-4F38-8D73-5BF829EC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2D6F-8C0B-4FDF-B88E-4E32FE4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F2EB-8543-4B7F-82BC-8CEBC8D7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AD-483C-4D86-904D-974575A5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8EF3-4DB4-49DD-88A6-77D4DEEC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3B77-0009-4E49-AC83-F3AB41E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190E-75D2-4510-B82B-9C34EC5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068B-1A3A-47C1-BD83-B515C63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7111-5E3D-414B-8D4F-FC71D1C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BBF2-E5E9-44D4-967C-6317AB0B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27CE-6D7C-4183-8560-0F007718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2C71-CB5B-4B70-8ABD-24009BA6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2A855-D410-4577-BF9B-66E3D8AD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50A6-E0F3-41FE-A76B-40192F9A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641-5406-4C32-A73F-5831F07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77F1C-F56C-41D5-BB58-3592EDC3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4AA6-C07D-4F4A-8140-1D703CF0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C5B3-0FBC-4A0A-AFC1-74F55C7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0AE2-8E5C-48EA-87C4-4C12456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ECFC-0456-4104-9C39-1BA324A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4EB0-CAD9-45A8-8865-CD3CC43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96D6-63C6-407B-8B8E-0B56F0A3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FA57-F612-413B-B9BD-FB397DBA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594F-9441-4871-B8FF-5F45314C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B87-A990-4342-868D-077F48BE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33A-C190-4239-844D-BA2A5F3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12C-6860-435A-9C36-7E399E3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9F4-8901-4694-87F6-5F23990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BE2-BD88-43DE-B29F-CE4B873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B88-47D0-45FB-BA32-A9E98282C62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2084-6019-4AEB-88C8-7D524497016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62E5-B8BA-4DC1-A992-741ADB58B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203-5E10-4CF1-A052-57627C1D0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Обучение сочинению по комедии А.С.Грибоедова «Горе от ум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6000" y="458136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Шубина Ирина Михайловна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читель литературы МОУ «ООШ № 23»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разитический характер этого общества (влияние на людей от природы одарённых, активное сопротивление новому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тирическое изображение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торская пози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6000" y="3141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Александр Сергеевич Грибоедов</a:t>
            </a:r>
            <a:br>
              <a:rPr sz="3600"/>
            </a:b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              «Горе от ума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33520" y="1557360"/>
            <a:ext cx="4984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88640"/>
            <a:ext cx="7848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8904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324000" y="49320"/>
            <a:ext cx="9468000" cy="70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7623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</a:rPr>
              <a:t>Время создания комедии. Эпоха, отражённая в не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Основная ча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зображение в комедии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мусов – типичный представитель своего общества. Нарицательное значение его и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98336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арактеристика фамусовского обще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деа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служб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просвещению, ново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общественному устройств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15:36Z</dcterms:created>
  <dc:creator>user</dc:creator>
  <dc:description/>
  <dc:language>en-US</dc:language>
  <cp:lastModifiedBy>user</cp:lastModifiedBy>
  <dcterms:modified xsi:type="dcterms:W3CDTF">2007-11-01T15:26:55Z</dcterms:modified>
  <cp:revision>5</cp:revision>
  <dc:subject/>
  <dc:title>Обучение сочинению по роману А.С.Пушкина «Дубровский»</dc:title>
</cp:coreProperties>
</file>