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DFC-009C-4FEA-B4ED-4551C908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013-4661-4C7C-A029-04BAB9FA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AAC-E6EC-4E75-ABC1-DB199F02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E8A-9371-4C5A-BC65-77BD73B3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9A7D-7C66-4DBA-8FD6-3E5983D2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7B8F-B6A0-4920-97CC-4227CB66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16CC-8198-4D66-8B29-C28B254A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D7C8-2816-4A4F-91D4-B10F3755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279A-110D-4D90-B9DF-1AFC5952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F804-41F2-4CC6-90C0-621B158B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7579-84AF-45A5-ACF8-9DE87E85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70F-9810-4C49-BF56-4729A9D9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C0B4-A7E0-459C-A8B2-68BC3B4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5D1F-859A-478F-98B3-588C7CE9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9388-441D-45ED-BC23-BBBE9627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6B2E-1239-4305-A880-2427FAEF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3041-12A9-4A8D-99B0-D9357E58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12BD-1B39-423D-B1C1-81C7212B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9194-9078-4E15-8FE9-5365BC89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BF14-9E65-42EC-BCAB-18904213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90ACF-5757-4B36-9A33-02C3F3E4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9B57-85E4-4E63-A541-B6691390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E50-E022-4027-A390-460DE3BE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9296-D33F-4EFF-BD17-26784B40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D8CD-4BDF-431B-A100-A7311935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039C-E465-475E-8A64-6AD2799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3807-AC52-4152-9C9C-0E4236D6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856A-316C-481F-8954-EE0874A7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0AE3-957C-403D-B538-36F9FE92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BC7D-034B-4287-AB95-99BE3215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D7C8-A31F-443B-8CFD-B331D550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3AFE-CED8-4480-99C6-017CBA28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A1B3-C61F-43FB-A94E-8A71E5D0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48D-6A7E-4FDD-8EA2-C47E6CA7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8A29-7AF7-4D24-B804-A906C629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CAB58-E117-4B33-8F9F-DAFF66FA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CCD6E-905A-40E4-9D15-70D0EEAF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F99C-E45F-430B-A182-0D9766D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41EF9-7AC5-4A4C-BAEB-AB71B956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8953-6C32-4B5A-8B0C-08D587B9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809CE-EF8C-4B93-B62D-C6BF6C4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54C8-29ED-44A9-91C7-1116FC45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D1F3-D2BD-4402-B4B7-A1DB17AF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8D2-6B31-4844-864E-81E9CE71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8E3-F386-43AD-8992-EC2C2903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779-4B77-4AC3-8C75-30AEF6D4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56F-0558-497B-8FE8-C631F8E6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733-D930-4DF3-94BE-B4AEA41E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0A56-3793-4EC0-9A9F-4D533660166A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A600-7D4D-4C74-B782-A120FB287F2F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D2FF-A046-49B7-8050-8EC3CB8CAB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6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BA9D-B58B-4EF2-90D9-306C809819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Обучение сочинению по комедии А.С.Грибоедова «Горе от ум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6000" y="458136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Шубина Ирина Михайловна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учитель литературы МОУ «ООШ № 23»</a:t>
            </a:r>
            <a:endParaRPr b="0" lang="en-US" sz="2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42920" y="333360"/>
            <a:ext cx="7772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аразитический характер этого общества (влияние на людей от природы одарённых, активное сопротивление новому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атирическое изображение фамусовского обще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вторская пози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6000" y="3141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Александр Сергеевич Грибоедов</a:t>
            </a:r>
            <a:br>
              <a:rPr sz="3600"/>
            </a:br>
            <a:r>
              <a:rPr b="1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              «Горе от ума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33520" y="1557360"/>
            <a:ext cx="4984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88640"/>
            <a:ext cx="7848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8904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324000" y="49320"/>
            <a:ext cx="9468000" cy="70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0652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0652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16000" y="333000"/>
            <a:ext cx="762336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Вступл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ahoma"/>
              </a:rPr>
              <a:t>Время создания комедии. Эпоха, отражённая в не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Основная ча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зображение в комедии фамусовского обще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Фамусов – типичный представитель своего общества. Нарицательное значение его име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71640" y="476280"/>
            <a:ext cx="798336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Характеристика фамусовского общест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деа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е к служб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е к просвещению, новом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е к общественному устройств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раз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5:15:36Z</dcterms:created>
  <dc:creator>user</dc:creator>
  <dc:description/>
  <dc:language>en-US</dc:language>
  <cp:lastModifiedBy>user</cp:lastModifiedBy>
  <dcterms:modified xsi:type="dcterms:W3CDTF">2007-11-01T15:26:55Z</dcterms:modified>
  <cp:revision>5</cp:revision>
  <dc:subject/>
  <dc:title>Обучение сочинению по роману А.С.Пушкина «Дубровский»</dc:title>
</cp:coreProperties>
</file>