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B558-2FAF-46B7-AF1E-382868FE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1386-1DC6-49CE-941C-C68242D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1072-27E0-4E1E-959D-A3802857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B4D9-9B78-4E9D-917F-A21F1D60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1482-0B3B-4F44-8405-4F94F694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1920-0F75-47FA-80A3-3D95AF27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9E68-E5EB-405B-8BA0-5A9A9017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760F-5BA9-4812-9E70-14A715FF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7C17-CE3C-4A1A-A3FC-D972B5E0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703C-C4C0-445C-A2EA-4C763C09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D4B4-CAFB-41BA-B949-0847137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C71B-AD9E-4CDD-ADA7-99D2A2B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8384-C983-4411-82F3-E0E88D03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C9B1-45A3-4A8A-8AE2-79F1920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51E-4F2D-4159-9DB2-599AC8D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F5E6-9B70-4EA7-B667-5CB6FB5B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994-2F96-4352-8E35-2817AEA9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9962-2964-41E0-8F19-43DB0EB4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8185-8277-4FA7-A997-62132FD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B56D-D4ED-4528-8D96-BF53135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CB5F-8610-4386-B5AB-FC883C66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6DBF-CA3C-42BE-A7B7-270BBCB3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C483-3C36-4013-A446-8ECB1CD6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89B5-700A-4977-90D4-DA13599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B13C-4DA1-4FB8-B9E4-F04E68B0F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5F44-93BA-441B-B606-7510B6CB9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27280" y="476280"/>
            <a:ext cx="417672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294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круж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2276640"/>
            <a:ext cx="5977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ое повторение планиметрии к Г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родина Ул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9Б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5 г. Михайл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333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Окружности и ее элемен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341360"/>
            <a:ext cx="2519280" cy="431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7920000" cy="431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341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1368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789360"/>
            <a:ext cx="1368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844640"/>
            <a:ext cx="1009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19280" y="191628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19280" y="4076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1700280"/>
            <a:ext cx="583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роходящий через середину хорды, перпендикулярен этой хор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ерпендикулярный хорде, делит ее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645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роведенный в точку кас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ен кас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6720" y="1341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28000" y="170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04640"/>
            <a:ext cx="8280360" cy="5977080"/>
          </a:xfrm>
          <a:prstGeom prst="rect">
            <a:avLst/>
          </a:prstGeom>
          <a:solidFill>
            <a:srgbClr val="e4ba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404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492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765000"/>
            <a:ext cx="1368360" cy="13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797360"/>
            <a:ext cx="1368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708280"/>
            <a:ext cx="863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342900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5640" y="549360"/>
            <a:ext cx="201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54900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92360" y="549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79640" y="3644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5013360"/>
            <a:ext cx="115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76280"/>
            <a:ext cx="54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касательных, проведенных из 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,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кружности лежит на биссектрисе уг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ного касательными, проведенными из одн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7082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дусная мера центрального угл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дусной мере дуги, на которую он опир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79736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й угол измеряется половиной д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торую он опир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50028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3357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24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14172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404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44000" y="90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400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549360"/>
            <a:ext cx="8280360" cy="5832360"/>
          </a:xfrm>
          <a:prstGeom prst="rect">
            <a:avLst/>
          </a:prstGeom>
          <a:solidFill>
            <a:srgbClr val="fba5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54936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349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653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01080" y="54936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83664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2781360"/>
            <a:ext cx="1223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86900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900000" y="9075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9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99640" y="981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90792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429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4360" y="285228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85264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00000" y="5013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4869000"/>
            <a:ext cx="648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765000"/>
            <a:ext cx="55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е углы, опирающиеся на одну ду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278136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е угол, опирающийся на диамет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 90градус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4724280"/>
            <a:ext cx="554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ве хорды окружности пересекаются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 отрезков одной хорды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ю отрезков другой хор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D=Mx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9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566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400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236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907920"/>
            <a:ext cx="8353440" cy="5761080"/>
          </a:xfrm>
          <a:prstGeom prst="rect">
            <a:avLst/>
          </a:prstGeom>
          <a:solidFill>
            <a:srgbClr val="8ce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907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637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653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0"/>
            <a:ext cx="8642160" cy="765000"/>
          </a:xfrm>
          <a:custGeom>
            <a:avLst/>
            <a:gdLst>
              <a:gd name="textAreaLeft" fmla="*/ 1420560 w 8642160"/>
              <a:gd name="textAreaRight" fmla="*/ 7221600 w 8642160"/>
              <a:gd name="textAreaTop" fmla="*/ 0 h 765000"/>
              <a:gd name="textAreaBottom" fmla="*/ 576360 h 765000"/>
            </a:gdLst>
            <a:ahLst/>
            <a:rect l="textAreaLeft" t="textAreaTop" r="textAreaRight" b="textAreaBottom"/>
            <a:pathLst>
              <a:path w="21600" h="21600">
                <a:moveTo>
                  <a:pt x="6251" y="16267"/>
                </a:moveTo>
                <a:lnTo>
                  <a:pt x="6251" y="20267"/>
                </a:lnTo>
                <a:cubicBezTo>
                  <a:pt x="6251" y="20933"/>
                  <a:pt x="5831" y="21600"/>
                  <a:pt x="5411" y="21600"/>
                </a:cubicBezTo>
                <a:lnTo>
                  <a:pt x="0" y="21600"/>
                </a:lnTo>
                <a:lnTo>
                  <a:pt x="2750" y="13467"/>
                </a:lnTo>
                <a:lnTo>
                  <a:pt x="0" y="5333"/>
                </a:lnTo>
                <a:lnTo>
                  <a:pt x="3551" y="5333"/>
                </a:lnTo>
                <a:lnTo>
                  <a:pt x="3551" y="1333"/>
                </a:lnTo>
                <a:cubicBezTo>
                  <a:pt x="3551" y="667"/>
                  <a:pt x="3971" y="0"/>
                  <a:pt x="4391" y="0"/>
                </a:cubicBezTo>
                <a:lnTo>
                  <a:pt x="17209" y="0"/>
                </a:lnTo>
                <a:cubicBezTo>
                  <a:pt x="17629" y="0"/>
                  <a:pt x="18049" y="667"/>
                  <a:pt x="18049" y="1333"/>
                </a:cubicBezTo>
                <a:lnTo>
                  <a:pt x="18049" y="5333"/>
                </a:lnTo>
                <a:lnTo>
                  <a:pt x="21600" y="5333"/>
                </a:lnTo>
                <a:lnTo>
                  <a:pt x="18850" y="13467"/>
                </a:lnTo>
                <a:lnTo>
                  <a:pt x="21600" y="21600"/>
                </a:lnTo>
                <a:lnTo>
                  <a:pt x="16189" y="21600"/>
                </a:lnTo>
                <a:cubicBezTo>
                  <a:pt x="15769" y="21600"/>
                  <a:pt x="15349" y="20933"/>
                  <a:pt x="15349" y="20267"/>
                </a:cubicBezTo>
                <a:lnTo>
                  <a:pt x="15349" y="16267"/>
                </a:lnTo>
                <a:close/>
              </a:path>
              <a:path fill="darkenLess" w="21600" h="21600">
                <a:moveTo>
                  <a:pt x="6251" y="16267"/>
                </a:moveTo>
                <a:lnTo>
                  <a:pt x="6251" y="20267"/>
                </a:lnTo>
                <a:cubicBezTo>
                  <a:pt x="6251" y="19600"/>
                  <a:pt x="5831" y="18934"/>
                  <a:pt x="5411" y="18934"/>
                </a:cubicBezTo>
                <a:lnTo>
                  <a:pt x="4391" y="18934"/>
                </a:lnTo>
                <a:cubicBezTo>
                  <a:pt x="3971" y="18934"/>
                  <a:pt x="3551" y="18267"/>
                  <a:pt x="3551" y="17600"/>
                </a:cubicBezTo>
                <a:cubicBezTo>
                  <a:pt x="3551" y="16934"/>
                  <a:pt x="3971" y="16267"/>
                  <a:pt x="4391" y="16267"/>
                </a:cubicBezTo>
                <a:close/>
              </a:path>
              <a:path fill="darkenLess" w="21600" h="21600">
                <a:moveTo>
                  <a:pt x="15349" y="16267"/>
                </a:moveTo>
                <a:lnTo>
                  <a:pt x="15349" y="20267"/>
                </a:lnTo>
                <a:cubicBezTo>
                  <a:pt x="15349" y="19600"/>
                  <a:pt x="15769" y="18934"/>
                  <a:pt x="16189" y="18934"/>
                </a:cubicBezTo>
                <a:lnTo>
                  <a:pt x="17209" y="18934"/>
                </a:lnTo>
                <a:cubicBezTo>
                  <a:pt x="17629" y="18934"/>
                  <a:pt x="18049" y="18267"/>
                  <a:pt x="18049" y="17600"/>
                </a:cubicBezTo>
                <a:cubicBezTo>
                  <a:pt x="18049" y="16934"/>
                  <a:pt x="17629" y="16267"/>
                  <a:pt x="17209" y="16267"/>
                </a:cubicBezTo>
                <a:close/>
              </a:path>
              <a:path fill="darkenLess" w="21600" h="21600">
                <a:moveTo>
                  <a:pt x="3551" y="17600"/>
                </a:moveTo>
                <a:lnTo>
                  <a:pt x="3551" y="5333"/>
                </a:lnTo>
              </a:path>
              <a:path fill="darkenLess" w="21600" h="21600">
                <a:moveTo>
                  <a:pt x="18049" y="17600"/>
                </a:moveTo>
                <a:lnTo>
                  <a:pt x="18049" y="5333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Окружность, вписанная в треуго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55736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314172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30064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2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9640" y="1267920"/>
            <a:ext cx="863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126828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285264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68360" y="2852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501336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602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8360" y="5013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9640" y="184464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8360" y="5589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1052640"/>
            <a:ext cx="60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очку ее касания со ст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ен этой ст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92428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двух соседних сторон от об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шине до точек касания равны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941720"/>
            <a:ext cx="6048360" cy="785520"/>
          </a:xfrm>
          <a:prstGeom prst="rect">
            <a:avLst/>
          </a:prstGeom>
          <a:solidFill>
            <a:srgbClr val="8ce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вписанной окружности лежит на биссектри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а, образованного двумя стор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72360" y="907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7236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44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981000"/>
            <a:ext cx="8351640" cy="5543640"/>
          </a:xfrm>
          <a:prstGeom prst="rect">
            <a:avLst/>
          </a:prstGeom>
          <a:solidFill>
            <a:srgbClr val="1bc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476280"/>
            <a:ext cx="7488360" cy="719280"/>
          </a:xfrm>
          <a:custGeom>
            <a:avLst/>
            <a:gdLst>
              <a:gd name="textAreaLeft" fmla="*/ 936000 w 7488360"/>
              <a:gd name="textAreaRight" fmla="*/ 6552360 w 7488360"/>
              <a:gd name="textAreaTop" fmla="*/ 23976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692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кружность, описанная окол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981000"/>
            <a:ext cx="0" cy="55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708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581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12536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85264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479736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11280" y="1125360"/>
            <a:ext cx="50472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1280" y="1915920"/>
            <a:ext cx="1224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1125360"/>
            <a:ext cx="719280" cy="7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1280" y="285228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285264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1280" y="479700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99640" y="479736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00000" y="5444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1280" y="5445000"/>
            <a:ext cx="1368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042920" y="4869000"/>
            <a:ext cx="936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486900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537372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474920"/>
            <a:ext cx="65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писанной окружности лежи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динном перпендикуляре к любой из сторон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3068640"/>
            <a:ext cx="63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ямоугольный треугольник вписан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ность, то его гипотенуза является диаме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6530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 вписанного в окружность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 раза меньше центрального уг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рающегося на ту же дугу, и равен любому друг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ому углу, опирающемуся на у ж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7080" y="981000"/>
            <a:ext cx="0" cy="55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8360" y="184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70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8360" y="5229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260280"/>
            <a:ext cx="15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24000" y="189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25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точки А к окружности с центром О проведены касательные АВ с 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 С-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резки АО и ВС пересекаются в точке К. Найдите радиус окружности, если ВС=6, АК=2,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3645000"/>
            <a:ext cx="1656000" cy="151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923920"/>
            <a:ext cx="381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443640" y="2923920"/>
            <a:ext cx="1873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587640" y="2924280"/>
            <a:ext cx="17290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300720" y="3645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645000"/>
            <a:ext cx="1008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17080" y="263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2276640"/>
            <a:ext cx="144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3213000"/>
            <a:ext cx="482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.к  АБС- равнобедренный, а АК- его биссектриса(4),(5),то АК ВС и ВК=СК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роведем радиус ОВ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АОВ- прямоугольный, ВК- его высота. Тогда ВК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К=ОК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АК, откуда ОК=9:2,25=9:(9:4)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9280" y="260280"/>
            <a:ext cx="197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мер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484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ямоугольном треугольнике АВС угол С прямой, О- центр вписанной окружности, ОВ=12, угол ВОС=105. найдите радиус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2349360"/>
            <a:ext cx="144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3284640"/>
            <a:ext cx="46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О- Биссектриса угла С (13), значит, угол ОСВ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Тогда ОВС= 180-45-105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2)Проведем из центра О радиус р в точку касания с катетом ВС, тогда р паралельно ВС(11), то есть ВОН-прямоуго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3) р = ОВ:2, р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63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940000" y="3716280"/>
            <a:ext cx="2016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5157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56720" y="3716280"/>
            <a:ext cx="144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524720" y="371628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58136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24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50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8508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600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6720" y="5157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010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6764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8:54Z</dcterms:created>
  <dc:creator> </dc:creator>
  <dc:description/>
  <dc:language>en-US</dc:language>
  <cp:lastModifiedBy> </cp:lastModifiedBy>
  <dcterms:modified xsi:type="dcterms:W3CDTF">2009-04-16T14:44:48Z</dcterms:modified>
  <cp:revision>3</cp:revision>
  <dc:subject/>
  <dc:title>Слайд 1</dc:title>
</cp:coreProperties>
</file>