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28DBD-769B-447C-BD3E-36476677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48D1-9AA7-4B4C-B7C2-5E913760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DF5FF-2A15-417C-ACD6-42A72903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7AA2F-D689-4153-B578-7C3EEDFB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5176-7533-4517-A799-5DD1D0E8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4ABA-188A-4A14-AE1E-B875BA27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9A96-7C07-40A8-9B60-35BCB9A6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1925-7BD6-4B41-B75A-5383AAB4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E099-F5BA-40C6-864C-F1457434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61C0-6F2B-4AE0-A303-716B174D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2E00-6D5B-4DE2-82EB-63A41DC6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A7466-1BF0-4978-B53A-AC053051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ED65-0AAD-4373-A148-E1B3124F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0103-A453-4A01-8D1B-31B77F8E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88B9-9C8C-4689-A997-399E1D67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B039-236B-45FB-B665-D55DB00B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6DCF-5D22-403A-83D8-3A2A9F57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DE41-0F0D-462E-8BFC-610BFDD6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8EBEE-2773-4A25-B0C1-EBA489EB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53EE-04E7-4719-8C1C-E0236CE2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E4F7-FF1A-4004-89C2-96EC8F4E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021F-9B14-4C03-920C-A0EB0FC0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22DA-5A63-4742-BBDA-5BC51682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017C-808F-4EF7-B917-08EEAA35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CD98-45EC-48A3-A69A-13F7EBFCB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0AE8-D480-422A-90B2-46919F6590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627280" y="476280"/>
            <a:ext cx="417672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294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кружност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2276640"/>
            <a:ext cx="59770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овое повторение планиметрии к ГИ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Бородина Уль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а 9Б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сош №5 г. Михайл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гоград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03280" y="3333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Окружности и ее элемент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341360"/>
            <a:ext cx="2519280" cy="4319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341360"/>
            <a:ext cx="7920000" cy="4319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34136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1773360"/>
            <a:ext cx="136836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3789360"/>
            <a:ext cx="1368360" cy="1368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1844640"/>
            <a:ext cx="1009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19280" y="191628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19280" y="4076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3573360"/>
            <a:ext cx="649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71640" y="1700280"/>
            <a:ext cx="583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иус, проходящий через середину хорды, перпендикулярен этой хор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иус, перпендикулярный хорде, делит ее попо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3645000"/>
            <a:ext cx="590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иус, проведенный в точку кас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ен кас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6720" y="134136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28000" y="1700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2800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5672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404640"/>
            <a:ext cx="8280360" cy="5977080"/>
          </a:xfrm>
          <a:prstGeom prst="rect">
            <a:avLst/>
          </a:prstGeom>
          <a:solidFill>
            <a:srgbClr val="e4ba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6360" y="404640"/>
            <a:ext cx="0" cy="597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49228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58136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765000"/>
            <a:ext cx="1368360" cy="136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4797360"/>
            <a:ext cx="136836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708280"/>
            <a:ext cx="8632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3429000"/>
            <a:ext cx="86364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55640" y="549360"/>
            <a:ext cx="20160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50920" y="54900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92360" y="549000"/>
            <a:ext cx="100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306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979640" y="364464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5013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5013360"/>
            <a:ext cx="1152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476280"/>
            <a:ext cx="5400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езки касательных, проведенных из о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и,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 окружности лежит на биссектрисе уг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ного касательными, проведенными из одной 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2708280"/>
            <a:ext cx="540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дусная мера центрального угла 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дусной мере дуги, на которую он опир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4797360"/>
            <a:ext cx="51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исанный угол измеряется половиной ду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оторую он опир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50028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33577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24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14172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404640"/>
            <a:ext cx="0" cy="597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44000" y="907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4400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400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4400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549360"/>
            <a:ext cx="8280360" cy="5832360"/>
          </a:xfrm>
          <a:prstGeom prst="rect">
            <a:avLst/>
          </a:prstGeom>
          <a:solidFill>
            <a:srgbClr val="fba5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549360"/>
            <a:ext cx="0" cy="58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234936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65300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101080" y="549360"/>
            <a:ext cx="0" cy="58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836640"/>
            <a:ext cx="122400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2781360"/>
            <a:ext cx="122364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4869000"/>
            <a:ext cx="122400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900000" y="90756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98100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899640" y="98100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2360" y="90792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429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84360" y="285228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2852640"/>
            <a:ext cx="288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900000" y="501300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4869000"/>
            <a:ext cx="64800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765000"/>
            <a:ext cx="554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исанные углы, опирающиеся на одну ду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84360" y="2781360"/>
            <a:ext cx="56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исанные угол, опирающийся на диамет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ен 90градус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4724280"/>
            <a:ext cx="554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две хорды окружности пересекаются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е отрезков одной хорды ра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ю отрезков другой хорд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D=Mx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4941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51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566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1928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72360" y="907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44000" y="3068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72360" y="530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95280" y="907920"/>
            <a:ext cx="8353440" cy="5761080"/>
          </a:xfrm>
          <a:prstGeom prst="rect">
            <a:avLst/>
          </a:prstGeom>
          <a:solidFill>
            <a:srgbClr val="8ce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95640" y="907920"/>
            <a:ext cx="0" cy="57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2637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4653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0"/>
            <a:ext cx="8642160" cy="765000"/>
          </a:xfrm>
          <a:custGeom>
            <a:avLst/>
            <a:gdLst>
              <a:gd name="textAreaLeft" fmla="*/ 1420560 w 8642160"/>
              <a:gd name="textAreaRight" fmla="*/ 7221600 w 8642160"/>
              <a:gd name="textAreaTop" fmla="*/ 0 h 765000"/>
              <a:gd name="textAreaBottom" fmla="*/ 576360 h 765000"/>
            </a:gdLst>
            <a:ahLst/>
            <a:rect l="textAreaLeft" t="textAreaTop" r="textAreaRight" b="textAreaBottom"/>
            <a:pathLst>
              <a:path w="21600" h="21600">
                <a:moveTo>
                  <a:pt x="6251" y="16267"/>
                </a:moveTo>
                <a:lnTo>
                  <a:pt x="6251" y="20267"/>
                </a:lnTo>
                <a:cubicBezTo>
                  <a:pt x="6251" y="20933"/>
                  <a:pt x="5831" y="21600"/>
                  <a:pt x="5411" y="21600"/>
                </a:cubicBezTo>
                <a:lnTo>
                  <a:pt x="0" y="21600"/>
                </a:lnTo>
                <a:lnTo>
                  <a:pt x="2750" y="13467"/>
                </a:lnTo>
                <a:lnTo>
                  <a:pt x="0" y="5333"/>
                </a:lnTo>
                <a:lnTo>
                  <a:pt x="3551" y="5333"/>
                </a:lnTo>
                <a:lnTo>
                  <a:pt x="3551" y="1333"/>
                </a:lnTo>
                <a:cubicBezTo>
                  <a:pt x="3551" y="667"/>
                  <a:pt x="3971" y="0"/>
                  <a:pt x="4391" y="0"/>
                </a:cubicBezTo>
                <a:lnTo>
                  <a:pt x="17209" y="0"/>
                </a:lnTo>
                <a:cubicBezTo>
                  <a:pt x="17629" y="0"/>
                  <a:pt x="18049" y="667"/>
                  <a:pt x="18049" y="1333"/>
                </a:cubicBezTo>
                <a:lnTo>
                  <a:pt x="18049" y="5333"/>
                </a:lnTo>
                <a:lnTo>
                  <a:pt x="21600" y="5333"/>
                </a:lnTo>
                <a:lnTo>
                  <a:pt x="18850" y="13467"/>
                </a:lnTo>
                <a:lnTo>
                  <a:pt x="21600" y="21600"/>
                </a:lnTo>
                <a:lnTo>
                  <a:pt x="16189" y="21600"/>
                </a:lnTo>
                <a:cubicBezTo>
                  <a:pt x="15769" y="21600"/>
                  <a:pt x="15349" y="20933"/>
                  <a:pt x="15349" y="20267"/>
                </a:cubicBezTo>
                <a:lnTo>
                  <a:pt x="15349" y="16267"/>
                </a:lnTo>
                <a:close/>
              </a:path>
              <a:path fill="darkenLess" w="21600" h="21600">
                <a:moveTo>
                  <a:pt x="6251" y="16267"/>
                </a:moveTo>
                <a:lnTo>
                  <a:pt x="6251" y="20267"/>
                </a:lnTo>
                <a:cubicBezTo>
                  <a:pt x="6251" y="19600"/>
                  <a:pt x="5831" y="18934"/>
                  <a:pt x="5411" y="18934"/>
                </a:cubicBezTo>
                <a:lnTo>
                  <a:pt x="4391" y="18934"/>
                </a:lnTo>
                <a:cubicBezTo>
                  <a:pt x="3971" y="18934"/>
                  <a:pt x="3551" y="18267"/>
                  <a:pt x="3551" y="17600"/>
                </a:cubicBezTo>
                <a:cubicBezTo>
                  <a:pt x="3551" y="16934"/>
                  <a:pt x="3971" y="16267"/>
                  <a:pt x="4391" y="16267"/>
                </a:cubicBezTo>
                <a:close/>
              </a:path>
              <a:path fill="darkenLess" w="21600" h="21600">
                <a:moveTo>
                  <a:pt x="15349" y="16267"/>
                </a:moveTo>
                <a:lnTo>
                  <a:pt x="15349" y="20267"/>
                </a:lnTo>
                <a:cubicBezTo>
                  <a:pt x="15349" y="19600"/>
                  <a:pt x="15769" y="18934"/>
                  <a:pt x="16189" y="18934"/>
                </a:cubicBezTo>
                <a:lnTo>
                  <a:pt x="17209" y="18934"/>
                </a:lnTo>
                <a:cubicBezTo>
                  <a:pt x="17629" y="18934"/>
                  <a:pt x="18049" y="18267"/>
                  <a:pt x="18049" y="17600"/>
                </a:cubicBezTo>
                <a:cubicBezTo>
                  <a:pt x="18049" y="16934"/>
                  <a:pt x="17629" y="16267"/>
                  <a:pt x="17209" y="16267"/>
                </a:cubicBezTo>
                <a:close/>
              </a:path>
              <a:path fill="darkenLess" w="21600" h="21600">
                <a:moveTo>
                  <a:pt x="3551" y="17600"/>
                </a:moveTo>
                <a:lnTo>
                  <a:pt x="3551" y="5333"/>
                </a:lnTo>
              </a:path>
              <a:path fill="darkenLess" w="21600" h="21600">
                <a:moveTo>
                  <a:pt x="18049" y="17600"/>
                </a:moveTo>
                <a:lnTo>
                  <a:pt x="18049" y="5333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Окружность, вписанная в треуголь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1557360"/>
            <a:ext cx="7207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3141720"/>
            <a:ext cx="72072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5300640"/>
            <a:ext cx="72072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276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39640" y="1267920"/>
            <a:ext cx="86364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03280" y="1268280"/>
            <a:ext cx="576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2000" y="2852640"/>
            <a:ext cx="720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68360" y="285264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386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5013360"/>
            <a:ext cx="7207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6021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68360" y="501336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9640" y="184464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68360" y="558936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68360" y="1052640"/>
            <a:ext cx="60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езок, соединяющий центр 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точку ее касания со сторо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ен этой ст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11280" y="2924280"/>
            <a:ext cx="59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езки двух соседних сторон от об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ршине до точек касания равны 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4941720"/>
            <a:ext cx="6048360" cy="785520"/>
          </a:xfrm>
          <a:prstGeom prst="rect">
            <a:avLst/>
          </a:prstGeom>
          <a:solidFill>
            <a:srgbClr val="8ce6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 вписанной окружности лежит на биссектри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ла, образованного двумя сторо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72360" y="907920"/>
            <a:ext cx="0" cy="57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72360" y="184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7236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4400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981000"/>
            <a:ext cx="8351640" cy="5543640"/>
          </a:xfrm>
          <a:prstGeom prst="rect">
            <a:avLst/>
          </a:prstGeom>
          <a:solidFill>
            <a:srgbClr val="1bcf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476280"/>
            <a:ext cx="7488360" cy="719280"/>
          </a:xfrm>
          <a:custGeom>
            <a:avLst/>
            <a:gdLst>
              <a:gd name="textAreaLeft" fmla="*/ 936000 w 7488360"/>
              <a:gd name="textAreaRight" fmla="*/ 6552360 w 7488360"/>
              <a:gd name="textAreaTop" fmla="*/ 23976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800" stAng="16200000" swAng="5400000"/>
                <a:lnTo>
                  <a:pt x="5400" y="7200"/>
                </a:lnTo>
                <a:lnTo>
                  <a:pt x="16200" y="7200"/>
                </a:lnTo>
                <a:lnTo>
                  <a:pt x="162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8900" y="14400"/>
                </a:lnTo>
                <a:lnTo>
                  <a:pt x="18900" y="19800"/>
                </a:lnTo>
                <a:arcTo wR="675" hR="1800" stAng="0" swAng="5400000"/>
                <a:lnTo>
                  <a:pt x="3375" y="21600"/>
                </a:lnTo>
                <a:arcTo wR="675" hR="1800" stAng="5400000" swAng="5400000"/>
                <a:lnTo>
                  <a:pt x="27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5400" y="1800"/>
                </a:moveTo>
                <a:arcTo wR="675" hR="1800" stAng="0" swAng="5400000"/>
                <a:lnTo>
                  <a:pt x="3375" y="3600"/>
                </a:lnTo>
                <a:arcTo wR="675" hR="1800" stAng="16200000" swAng="-5400000"/>
                <a:arcTo wR="675" hR="1800" stAng="10800000" swAng="-5400000"/>
                <a:lnTo>
                  <a:pt x="5400" y="7200"/>
                </a:lnTo>
              </a:path>
              <a:path fill="none" w="21600" h="21600">
                <a:moveTo>
                  <a:pt x="16200" y="1800"/>
                </a:moveTo>
                <a:arcTo wR="675" hR="1800" stAng="10800000" swAng="-5400000"/>
                <a:lnTo>
                  <a:pt x="18225" y="3600"/>
                </a:lnTo>
                <a:arcTo wR="675" hR="1800" stAng="16200000" swAng="5400000"/>
                <a:arcTo wR="675" hR="1800" stAng="0" swAng="5400000"/>
                <a:lnTo>
                  <a:pt x="16200" y="7200"/>
                </a:lnTo>
              </a:path>
              <a:path fill="none" w="21600" h="21600">
                <a:moveTo>
                  <a:pt x="2700" y="5400"/>
                </a:moveTo>
                <a:lnTo>
                  <a:pt x="2700" y="14400"/>
                </a:lnTo>
              </a:path>
              <a:path fill="none" w="21600" h="21600">
                <a:moveTo>
                  <a:pt x="18900" y="5400"/>
                </a:moveTo>
                <a:lnTo>
                  <a:pt x="18900" y="14400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69228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кружность, описанная около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981000"/>
            <a:ext cx="0" cy="554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270828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458136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1125360"/>
            <a:ext cx="136836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2852640"/>
            <a:ext cx="136836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4797360"/>
            <a:ext cx="136836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11280" y="1125360"/>
            <a:ext cx="50472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11280" y="1915920"/>
            <a:ext cx="122400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1125360"/>
            <a:ext cx="719280" cy="7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3500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11280" y="2852280"/>
            <a:ext cx="792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285264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11280" y="479700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99640" y="479736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900000" y="544464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11280" y="5445000"/>
            <a:ext cx="1368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042920" y="4869000"/>
            <a:ext cx="936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4869000"/>
            <a:ext cx="216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5373720"/>
            <a:ext cx="720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68360" y="1474920"/>
            <a:ext cx="65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р описанной окружности лежит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единном перпендикуляре к любой из сторон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3068640"/>
            <a:ext cx="63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прямоугольный треугольник вписан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ужность, то его гипотенуза является диаме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уж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4653000"/>
            <a:ext cx="619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ол вписанного в окружность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 раза меньше центрального уг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ирающегося на ту же дугу, и равен любому друг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исанному углу, опирающемуся на у же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17080" y="981000"/>
            <a:ext cx="0" cy="554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8360" y="184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1708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88360" y="52293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260280"/>
            <a:ext cx="1590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м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24000" y="1890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12536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точки А к окружности с центром О проведены касательные АВ с А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 С-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с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трезки АО и ВС пересекаются в точке К. Найдите радиус окружности, если ВС=6, АК=2,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24360" y="3645000"/>
            <a:ext cx="1656000" cy="151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500720" y="2923920"/>
            <a:ext cx="3816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443640" y="2923920"/>
            <a:ext cx="187344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587640" y="2924280"/>
            <a:ext cx="172908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300720" y="364500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3645000"/>
            <a:ext cx="1008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007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5636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465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17080" y="2637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2276640"/>
            <a:ext cx="1441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9280" y="3213000"/>
            <a:ext cx="4824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.к  АБС- равнобедренный, а АК- его биссектриса(4),(5),то АК ВС и ВК=СК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Проведем радиус ОВ, 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АОВ- прямоугольный, ВК- его высота. Тогда ВК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К=ОК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АК, откуда ОК=9:2,25=9:(9:4)=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566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79280" y="260280"/>
            <a:ext cx="1971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мер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484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прямоугольном треугольнике АВС угол С прямой, О- центр вписанной окружности, ОВ=12, угол ВОС=105. найдите радиус вписанной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0920" y="2349360"/>
            <a:ext cx="14414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3284640"/>
            <a:ext cx="4608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СО- Биссектриса угла С (13), значит, угол ОСВ=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Тогда ОВС= 180-45-105=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2)Проведем из центра О радиус р в точку касания с катетом ВС, тогда р паралельно ВС(11), то есть ВОН-прямоуго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3) р = ОВ:2, р=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6308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940000" y="3716280"/>
            <a:ext cx="201636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940360" y="51577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56720" y="3716280"/>
            <a:ext cx="14436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7524720" y="3716280"/>
            <a:ext cx="432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24720" y="458136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24720" y="45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51640" y="5084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85080" y="342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36000" y="44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956720" y="51577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101080" y="43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07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67640" y="429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48:54Z</dcterms:created>
  <dc:creator> </dc:creator>
  <dc:description/>
  <dc:language>en-US</dc:language>
  <cp:lastModifiedBy> </cp:lastModifiedBy>
  <dcterms:modified xsi:type="dcterms:W3CDTF">2009-04-16T14:44:48Z</dcterms:modified>
  <cp:revision>3</cp:revision>
  <dc:subject/>
  <dc:title>Слайд 1</dc:title>
</cp:coreProperties>
</file>