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62AA-EE74-4C9E-8273-07D5F57DBA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3D57-D377-4882-9F75-1A016238F0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BF8C-1AE1-47F9-A147-50EC8B5D901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F41D-FAC3-458B-8E94-810E0EB0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B0B4-C8F3-403D-B459-67D77ABE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BB4-C8C9-48E2-90FF-67AE4005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4DDA-22E4-434E-9DBB-CCD43E56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1791-9682-4B5E-A185-1D7EDEA2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10C-5EA4-4D1B-A2BD-AD9296D3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C4A3-9DD4-468A-877B-DCDB0032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890F-0893-48DE-8D16-F7E5EE3D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C77-8D6C-4D6D-A4D7-F574AE95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01F-744E-45CD-A4DD-79A76344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974-F4B3-4B16-B8AA-1E448963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F56-EBA1-45BB-9C32-0702FBBB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45DB-7B22-414D-9C80-8C46AAC0D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6"/>
          <p:cNvSpPr/>
          <p:nvPr/>
        </p:nvSpPr>
        <p:spPr>
          <a:xfrm>
            <a:off x="468360" y="547920"/>
            <a:ext cx="8207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Narrow"/>
                <a:ea typeface="MS PGothic"/>
              </a:rPr>
              <a:t>Чемпионат мира по футболу едет в Москву!</a:t>
            </a:r>
            <a:endParaRPr b="0" lang="en-US" sz="2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2819520" y="1600200"/>
            <a:ext cx="396072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Официальная </a:t>
            </a:r>
            <a:r>
              <a:rPr b="1" lang="ru-RU" sz="3800" spc="-1" strike="noStrike">
                <a:solidFill>
                  <a:srgbClr val="ffffff"/>
                </a:solidFill>
                <a:latin typeface="Arial Narrow"/>
                <a:ea typeface="MS PGothic"/>
              </a:rPr>
              <a:t>ФАНЗОНА </a:t>
            </a:r>
            <a:r>
              <a:rPr b="1" lang="en-US" sz="3800" spc="-1" strike="noStrike">
                <a:solidFill>
                  <a:srgbClr val="ffffff"/>
                </a:solidFill>
                <a:latin typeface="Arial Narrow"/>
                <a:ea typeface="MS PGothic"/>
              </a:rPr>
              <a:t>FIFA</a:t>
            </a:r>
            <a:endParaRPr b="0" lang="en-US" sz="3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2867040" y="2666880"/>
            <a:ext cx="6048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чемпионата мир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по футболу </a:t>
            </a:r>
            <a:br>
              <a:rPr sz="2000"/>
            </a:br>
            <a:r>
              <a:rPr b="1" lang="ru-RU" sz="5400" spc="-1" strike="noStrike">
                <a:solidFill>
                  <a:srgbClr val="ffffff"/>
                </a:solidFill>
                <a:latin typeface="Arial Narrow"/>
                <a:ea typeface="MS PGothic"/>
              </a:rPr>
              <a:t>2010</a:t>
            </a:r>
            <a:r>
              <a:rPr b="1" lang="ru-RU" sz="5400" spc="-1" strike="noStrike">
                <a:solidFill>
                  <a:srgbClr val="ffffff"/>
                </a:solidFill>
                <a:latin typeface="HeliosC"/>
                <a:ea typeface="MS P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51" name="Text Box 22"/>
          <p:cNvSpPr/>
          <p:nvPr/>
        </p:nvSpPr>
        <p:spPr>
          <a:xfrm>
            <a:off x="5435640" y="4902120"/>
            <a:ext cx="23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  <a:ea typeface="MS PGothic"/>
              </a:rPr>
              <a:t>в 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Лужниках</a:t>
            </a:r>
            <a:endParaRPr b="0" lang="en-US" sz="36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4944960" y="5432400"/>
            <a:ext cx="352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  <a:ea typeface="MS PGothic"/>
              </a:rPr>
              <a:t>11 июня – 11 июля</a:t>
            </a:r>
            <a:endParaRPr b="0" lang="en-US" sz="26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53" name="Picture 12" descr="cub.png"/>
          <p:cNvPicPr/>
          <p:nvPr/>
        </p:nvPicPr>
        <p:blipFill>
          <a:blip r:embed="rId1"/>
          <a:stretch/>
        </p:blipFill>
        <p:spPr>
          <a:xfrm>
            <a:off x="533520" y="1676520"/>
            <a:ext cx="2361960" cy="426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bool"/>
          <p:cNvPicPr/>
          <p:nvPr/>
        </p:nvPicPr>
        <p:blipFill>
          <a:blip r:embed="rId2"/>
          <a:stretch/>
        </p:blipFill>
        <p:spPr>
          <a:xfrm>
            <a:off x="1979640" y="480060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4137120" y="43797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ФУТБОЛЬНЫЙ ПАРК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ЭЛЕМЕНТЫ ФАНЗОНЫ В «ЛУЖНИКАХ»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08" name="Picture 13" descr="DressroomOffice"/>
          <p:cNvPicPr/>
          <p:nvPr/>
        </p:nvPicPr>
        <p:blipFill>
          <a:blip r:embed="rId1"/>
          <a:stretch/>
        </p:blipFill>
        <p:spPr>
          <a:xfrm>
            <a:off x="627120" y="4221000"/>
            <a:ext cx="1944720" cy="1814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6"/>
          <p:cNvSpPr/>
          <p:nvPr/>
        </p:nvSpPr>
        <p:spPr>
          <a:xfrm>
            <a:off x="409680" y="1052640"/>
            <a:ext cx="21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Narrow"/>
              </a:rPr>
              <a:t>Зона спортивной активности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468360" y="3860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Narrow"/>
              </a:rPr>
              <a:t>Раздевалки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2832120" y="61657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Narrow"/>
              </a:rPr>
              <a:t>Футбольное поле для турниров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6300720" y="37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Narrow"/>
              </a:rPr>
              <a:t>ФАН-бульвар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6300720" y="9255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Narrow"/>
              </a:rPr>
              <a:t>Зона просмотра футбола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14" name="Picture 3" descr="C:\Documents and Settings\new\Рабочий стол\фан\Рисунок11.jpg"/>
          <p:cNvPicPr/>
          <p:nvPr/>
        </p:nvPicPr>
        <p:blipFill>
          <a:blip r:embed="rId2"/>
          <a:stretch/>
        </p:blipFill>
        <p:spPr>
          <a:xfrm>
            <a:off x="3214800" y="1643040"/>
            <a:ext cx="2752560" cy="2487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Documents and Settings\new\Рабочий стол\фан\Рисунок10.jpg"/>
          <p:cNvPicPr/>
          <p:nvPr/>
        </p:nvPicPr>
        <p:blipFill>
          <a:blip r:embed="rId3"/>
          <a:stretch/>
        </p:blipFill>
        <p:spPr>
          <a:xfrm>
            <a:off x="457200" y="1643040"/>
            <a:ext cx="2185920" cy="1785960"/>
          </a:xfrm>
          <a:prstGeom prst="rect">
            <a:avLst/>
          </a:prstGeom>
          <a:ln w="0">
            <a:noFill/>
          </a:ln>
        </p:spPr>
      </p:pic>
      <p:sp>
        <p:nvSpPr>
          <p:cNvPr id="116" name="Line 17"/>
          <p:cNvSpPr/>
          <p:nvPr/>
        </p:nvSpPr>
        <p:spPr>
          <a:xfrm>
            <a:off x="1835280" y="2500200"/>
            <a:ext cx="280800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17" name="Line 19"/>
          <p:cNvSpPr/>
          <p:nvPr/>
        </p:nvSpPr>
        <p:spPr>
          <a:xfrm flipV="1">
            <a:off x="1908000" y="2923920"/>
            <a:ext cx="2808360" cy="1873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18" name="Freeform 15"/>
          <p:cNvSpPr/>
          <p:nvPr/>
        </p:nvSpPr>
        <p:spPr>
          <a:xfrm>
            <a:off x="4357800" y="2355840"/>
            <a:ext cx="1071360" cy="128736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1287360"/>
              <a:gd name="textAreaBottom" fmla="*/ 1287720 h 1287360"/>
            </a:gdLst>
            <a:ahLst/>
            <a:rect l="textAreaLeft" t="textAreaTop" r="textAreaRight" b="textAreaBottom"/>
            <a:pathLst>
              <a:path w="1361" h="1859">
                <a:moveTo>
                  <a:pt x="953" y="1859"/>
                </a:moveTo>
                <a:lnTo>
                  <a:pt x="998" y="1360"/>
                </a:lnTo>
                <a:lnTo>
                  <a:pt x="817" y="1179"/>
                </a:lnTo>
                <a:lnTo>
                  <a:pt x="499" y="1542"/>
                </a:lnTo>
                <a:lnTo>
                  <a:pt x="46" y="1088"/>
                </a:lnTo>
                <a:lnTo>
                  <a:pt x="363" y="725"/>
                </a:lnTo>
                <a:lnTo>
                  <a:pt x="0" y="363"/>
                </a:lnTo>
                <a:lnTo>
                  <a:pt x="363" y="0"/>
                </a:lnTo>
                <a:lnTo>
                  <a:pt x="1361" y="998"/>
                </a:lnTo>
                <a:lnTo>
                  <a:pt x="1134" y="1224"/>
                </a:lnTo>
                <a:lnTo>
                  <a:pt x="1089" y="1678"/>
                </a:lnTo>
                <a:lnTo>
                  <a:pt x="953" y="1859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19" name="Picture 4" descr="C:\Documents and Settings\new\Рабочий стол\фан\Рисунок12.jpg"/>
          <p:cNvPicPr/>
          <p:nvPr/>
        </p:nvPicPr>
        <p:blipFill>
          <a:blip r:embed="rId4"/>
          <a:stretch/>
        </p:blipFill>
        <p:spPr>
          <a:xfrm>
            <a:off x="3276720" y="4357800"/>
            <a:ext cx="2643120" cy="1860480"/>
          </a:xfrm>
          <a:prstGeom prst="rect">
            <a:avLst/>
          </a:prstGeom>
          <a:ln w="0">
            <a:noFill/>
          </a:ln>
        </p:spPr>
      </p:pic>
      <p:sp>
        <p:nvSpPr>
          <p:cNvPr id="120" name="Line 20"/>
          <p:cNvSpPr/>
          <p:nvPr/>
        </p:nvSpPr>
        <p:spPr>
          <a:xfrm flipV="1">
            <a:off x="4643280" y="3213000"/>
            <a:ext cx="0" cy="216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21" name="Picture 5" descr="C:\Documents and Settings\new\Рабочий стол\фан\Рисунок13.jpg"/>
          <p:cNvPicPr/>
          <p:nvPr/>
        </p:nvPicPr>
        <p:blipFill>
          <a:blip r:embed="rId5"/>
          <a:stretch/>
        </p:blipFill>
        <p:spPr>
          <a:xfrm>
            <a:off x="6143760" y="1643040"/>
            <a:ext cx="2392200" cy="1928880"/>
          </a:xfrm>
          <a:prstGeom prst="rect">
            <a:avLst/>
          </a:prstGeom>
          <a:ln w="0">
            <a:noFill/>
          </a:ln>
        </p:spPr>
      </p:pic>
      <p:sp>
        <p:nvSpPr>
          <p:cNvPr id="122" name="Line 24"/>
          <p:cNvSpPr/>
          <p:nvPr/>
        </p:nvSpPr>
        <p:spPr>
          <a:xfrm flipH="1">
            <a:off x="5076360" y="2133720"/>
            <a:ext cx="180036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23" name="Picture 6" descr="C:\Documents and Settings\new\Рабочий стол\фан\Рисунок14.jpg"/>
          <p:cNvPicPr/>
          <p:nvPr/>
        </p:nvPicPr>
        <p:blipFill>
          <a:blip r:embed="rId6"/>
          <a:stretch/>
        </p:blipFill>
        <p:spPr>
          <a:xfrm>
            <a:off x="6357960" y="4357800"/>
            <a:ext cx="2000160" cy="2009520"/>
          </a:xfrm>
          <a:prstGeom prst="rect">
            <a:avLst/>
          </a:prstGeom>
          <a:ln w="0">
            <a:noFill/>
          </a:ln>
        </p:spPr>
      </p:pic>
      <p:sp>
        <p:nvSpPr>
          <p:cNvPr id="124" name="Line 23"/>
          <p:cNvSpPr/>
          <p:nvPr/>
        </p:nvSpPr>
        <p:spPr>
          <a:xfrm flipH="1" flipV="1">
            <a:off x="5138280" y="3475080"/>
            <a:ext cx="158436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26" name="Picture 8" descr="Рисунок32"/>
          <p:cNvPicPr/>
          <p:nvPr/>
        </p:nvPicPr>
        <p:blipFill>
          <a:blip r:embed="rId1"/>
          <a:stretch/>
        </p:blipFill>
        <p:spPr>
          <a:xfrm>
            <a:off x="250920" y="196920"/>
            <a:ext cx="8569080" cy="6400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ПЛАН-СХЕМА РАЗМЕЩЕНИЯ ОБЪЕКТОВ ФУТБОЛЬНОГО ПАРКА 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ПОСЕТИТЕЛИ ФУТБОЛЬНОГО ПАРКА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09600" y="852480"/>
            <a:ext cx="5702400" cy="60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жидается не менее 10 000 посетителей в день или порядка 300 000 посетителей за время работы парка.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В дневное время среди гостями парка будут преимущественно школьники, студенты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и семьи с детьми.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осле рабочего дня и в выходные будут собираться преимущественно мужчины, многие с женами, подругами и сослуживицами.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циально-демографические характеристики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70%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мужчины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/ 30%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женщины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18-50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лет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доход средний и выше среднего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студенты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молодые специалисты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менеджеры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госслужащие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белые воротнички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редприниматели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ни любят футбол. Многие занимались спортом в юности и продолжают играть в футбол на любительском уровне. Не все имеют любимый клуб, но все без исключения следят за выступлениями Российской Сборной. Большой Футбол – настоящий праздник для них. В парк их привлекает не только футбол, но и стремление вести активный образ жизни. Они любят проводить время с друзьями и единомышленниками, они интересуются новинками техники и спортивной экипировки, любят музыку. 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31" name="Picture 7" descr="C:\Documents and Settings\Admin\Рабочий стол\работа\презен\Рисунок14.jpg"/>
          <p:cNvPicPr/>
          <p:nvPr/>
        </p:nvPicPr>
        <p:blipFill>
          <a:blip r:embed="rId1"/>
          <a:stretch/>
        </p:blipFill>
        <p:spPr>
          <a:xfrm>
            <a:off x="6000840" y="2214720"/>
            <a:ext cx="28224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СПОРТИВНЫЕ МЕРОПРИЯТИЯ ФУТБОЛЬНОГО ПАРКА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95280" y="981000"/>
            <a:ext cx="828036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овместно с Российским футбольным союзом: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роведение детско-юношеских соревнований, этапов соревнований или отдельно взятых матчей, включённых в календарный план Московской федерации футбола;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роведение детско-юношеских, любительских турниров включенных в календарный план Департамента массового футбола РФС: турнир по футболу среди детских деревень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OS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России, Турнир среди болельщиков «Забей гол, фанат!», Матчи первенства межнациональной футбольной лиги.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рганизация цикла тренерских семинаров для футбольных тренеров Москвы и Московской области, а также специалистов-тренеров, работающих с детьми от Департамента образования города Москвы и Москомспорта.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рганизация мастер-классов с профессиональными футболистами и ветеранами футбола, а также встречи учащихся ДЮСШ и СДЮШОР с ветеранами футбола.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рганизация пресс-конференций, посвящённых мероприятиям РФС:                         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 Narrow"/>
              </a:rPr>
              <a:t>- 20 июня для участия в турнире в ЮАР будет отправлена команда-победитель всероссйиских соревнований по футболу «Кожаный мяч».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 Narrow"/>
              </a:rPr>
              <a:t>- 18 июня будет дан старт зональному этапу всероссийских соревнований по футболу среди команд  общеобразовательных учреждений «Кожаный мяч».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 Narrow"/>
              </a:rPr>
              <a:t>- 27 сентября для участия в «Кубке наций – «Данон» в ЮАР будут отправлены 2 детские команды-победители всероссийских соревнований по футболу «Кожаный мяч».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9" descr="C:\Documents and Settings\new\Рабочий стол\фан\Рисунок22.jpg"/>
          <p:cNvPicPr/>
          <p:nvPr/>
        </p:nvPicPr>
        <p:blipFill>
          <a:blip r:embed="rId1"/>
          <a:stretch/>
        </p:blipFill>
        <p:spPr>
          <a:xfrm>
            <a:off x="3071880" y="5072040"/>
            <a:ext cx="2865240" cy="1785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:\Documents and Settings\new\Рабочий стол\фан\Рисунок21.jpg"/>
          <p:cNvPicPr/>
          <p:nvPr/>
        </p:nvPicPr>
        <p:blipFill>
          <a:blip r:embed="rId2"/>
          <a:stretch/>
        </p:blipFill>
        <p:spPr>
          <a:xfrm>
            <a:off x="3571920" y="2786040"/>
            <a:ext cx="322272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C:\Documents and Settings\new\Рабочий стол\фан\Рисунок20.jpg"/>
          <p:cNvPicPr/>
          <p:nvPr/>
        </p:nvPicPr>
        <p:blipFill>
          <a:blip r:embed="rId3"/>
          <a:stretch/>
        </p:blipFill>
        <p:spPr>
          <a:xfrm>
            <a:off x="0" y="4830840"/>
            <a:ext cx="3071880" cy="2027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Documents and Settings\new\Рабочий стол\фан\Рисунок18.jpg"/>
          <p:cNvPicPr/>
          <p:nvPr/>
        </p:nvPicPr>
        <p:blipFill>
          <a:blip r:embed="rId4"/>
          <a:stretch/>
        </p:blipFill>
        <p:spPr>
          <a:xfrm>
            <a:off x="0" y="785880"/>
            <a:ext cx="3571920" cy="221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new\Рабочий стол\фан\Рисунок17.jpg"/>
          <p:cNvPicPr/>
          <p:nvPr/>
        </p:nvPicPr>
        <p:blipFill>
          <a:blip r:embed="rId5"/>
          <a:stretch/>
        </p:blipFill>
        <p:spPr>
          <a:xfrm>
            <a:off x="3500280" y="785880"/>
            <a:ext cx="3214800" cy="2057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237960" y="39060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СПОРТИВНЫЕ МЕРОПРИЯТИЯ ФУТБОЛЬНОГО ПАРКА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41" name="Picture 2" descr="C:\Documents and Settings\new\Рабочий стол\фан\Рисунок15.jpg"/>
          <p:cNvPicPr/>
          <p:nvPr/>
        </p:nvPicPr>
        <p:blipFill>
          <a:blip r:embed="rId6"/>
          <a:stretch/>
        </p:blipFill>
        <p:spPr>
          <a:xfrm>
            <a:off x="5929200" y="4714920"/>
            <a:ext cx="3211560" cy="214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Documents and Settings\new\Рабочий стол\фан\Рисунок16.jpg"/>
          <p:cNvPicPr/>
          <p:nvPr/>
        </p:nvPicPr>
        <p:blipFill>
          <a:blip r:embed="rId7"/>
          <a:stretch/>
        </p:blipFill>
        <p:spPr>
          <a:xfrm>
            <a:off x="6715080" y="776160"/>
            <a:ext cx="2452680" cy="3938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new\Рабочий стол\фан\Рисунок19.jpg"/>
          <p:cNvPicPr/>
          <p:nvPr/>
        </p:nvPicPr>
        <p:blipFill>
          <a:blip r:embed="rId8"/>
          <a:stretch/>
        </p:blipFill>
        <p:spPr>
          <a:xfrm>
            <a:off x="0" y="2786040"/>
            <a:ext cx="37101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СПОРТИВНЫЕ МЕРОПРИЯТИЯ ФУТБОЛЬНОГО ПАРКА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11280" y="1125360"/>
            <a:ext cx="410508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овместно с Департаментом физической культуры и спорта г. Москвы: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Чемпионат СМИ по футболу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Кубок дипломатов (для работников дипломатических агентств)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Кубок наций (участники – иностранные диаспоры в России)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арламентские игры по футболу (представители Государственной думы и Совета Федерации)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Кубок по футболу на призы Льва Яшина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урнир по футболу для инвалидов «Преодоление»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Футбольный турнир с участием ветеранов спорта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47" name="Picture 2" descr="C:\Documents and Settings\new\Рабочий стол\фан\Рисунок23.jpg"/>
          <p:cNvPicPr/>
          <p:nvPr/>
        </p:nvPicPr>
        <p:blipFill>
          <a:blip r:embed="rId1"/>
          <a:stretch/>
        </p:blipFill>
        <p:spPr>
          <a:xfrm>
            <a:off x="5286240" y="4784760"/>
            <a:ext cx="3071880" cy="1832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new\Рабочий стол\фан\Рисунок24.jpg"/>
          <p:cNvPicPr/>
          <p:nvPr/>
        </p:nvPicPr>
        <p:blipFill>
          <a:blip r:embed="rId2"/>
          <a:stretch/>
        </p:blipFill>
        <p:spPr>
          <a:xfrm>
            <a:off x="5295960" y="2786040"/>
            <a:ext cx="3043080" cy="1963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new\Рабочий стол\фан\Рисунок25.jpg"/>
          <p:cNvPicPr/>
          <p:nvPr/>
        </p:nvPicPr>
        <p:blipFill>
          <a:blip r:embed="rId3"/>
          <a:stretch/>
        </p:blipFill>
        <p:spPr>
          <a:xfrm>
            <a:off x="5286240" y="830160"/>
            <a:ext cx="3024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new\Рабочий стол\фан\Рисунок26.jpg"/>
          <p:cNvPicPr/>
          <p:nvPr/>
        </p:nvPicPr>
        <p:blipFill>
          <a:blip r:embed="rId1"/>
          <a:stretch/>
        </p:blipFill>
        <p:spPr>
          <a:xfrm>
            <a:off x="2071800" y="3500280"/>
            <a:ext cx="4673520" cy="33577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СПОРТИВНЫЕ МЕРОПРИЯТИЯ ФУТБОЛЬНОГО ПАРКА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52" name="Picture 11" descr="C:\Documents and Settings\Admin\Рабочий стол\работа\презен\Рисунок17.jpg"/>
          <p:cNvPicPr/>
          <p:nvPr/>
        </p:nvPicPr>
        <p:blipFill>
          <a:blip r:embed="rId2"/>
          <a:stretch/>
        </p:blipFill>
        <p:spPr>
          <a:xfrm>
            <a:off x="0" y="3571920"/>
            <a:ext cx="2071800" cy="3286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C:\Documents and Settings\Admin\Рабочий стол\работа\презен\Рисунок19.jpg"/>
          <p:cNvPicPr/>
          <p:nvPr/>
        </p:nvPicPr>
        <p:blipFill>
          <a:blip r:embed="rId3"/>
          <a:stretch/>
        </p:blipFill>
        <p:spPr>
          <a:xfrm>
            <a:off x="6286680" y="3571920"/>
            <a:ext cx="2857320" cy="3286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Documents and Settings\new\Рабочий стол\фан\Рисунок27.jpg"/>
          <p:cNvPicPr/>
          <p:nvPr/>
        </p:nvPicPr>
        <p:blipFill>
          <a:blip r:embed="rId4"/>
          <a:stretch/>
        </p:blipFill>
        <p:spPr>
          <a:xfrm>
            <a:off x="4786200" y="714240"/>
            <a:ext cx="4388040" cy="2857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C:\Documents and Settings\new\Рабочий стол\фан\Рисунок28.jpg"/>
          <p:cNvPicPr/>
          <p:nvPr/>
        </p:nvPicPr>
        <p:blipFill>
          <a:blip r:embed="rId5"/>
          <a:stretch/>
        </p:blipFill>
        <p:spPr>
          <a:xfrm>
            <a:off x="-1440" y="714240"/>
            <a:ext cx="4802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КОНЦЕПЦИЯ РЕКЛАМНОЙ КАМПАНИИ ФУТБОЛЬНОГО ПАРКА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58" name="Picture 2" descr="C:\Documents and Settings\new\Рабочий стол\фан\Рисунок29.jpg"/>
          <p:cNvPicPr/>
          <p:nvPr/>
        </p:nvPicPr>
        <p:blipFill>
          <a:blip r:embed="rId1"/>
          <a:stretch/>
        </p:blipFill>
        <p:spPr>
          <a:xfrm>
            <a:off x="428760" y="1357200"/>
            <a:ext cx="81421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684360" y="620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  <a:ea typeface="MS PGothic"/>
              </a:rPr>
              <a:t>ДО ВСТРЕЧИ В ЛУЖНИКАХ!</a:t>
            </a:r>
            <a:endParaRPr b="0" lang="en-US" sz="44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60" name="Picture 5" descr="C:\Documents and Settings\Admin\Рабочий стол\работа\презен\Рисунок21.jpg"/>
          <p:cNvPicPr/>
          <p:nvPr/>
        </p:nvPicPr>
        <p:blipFill>
          <a:blip r:embed="rId1"/>
          <a:stretch/>
        </p:blipFill>
        <p:spPr>
          <a:xfrm>
            <a:off x="642960" y="1643040"/>
            <a:ext cx="7866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5"/>
          <p:cNvSpPr/>
          <p:nvPr/>
        </p:nvSpPr>
        <p:spPr>
          <a:xfrm>
            <a:off x="214200" y="142920"/>
            <a:ext cx="8535960" cy="63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4000" y="1052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 2009 году Россия впервые в своей истории представила свою кандидатуру на право проведения Чемпионата мира по футболу ФИФА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2018-2022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 Правительство России объявило решение этой амбициозной задачи национальным приоритетом, что требует сложной и интенсивной подготовки со стороны страны-кандидата.</a:t>
            </a:r>
            <a:r>
              <a:rPr b="0" lang="ru-RU" sz="1800" spc="-1" strike="noStrike">
                <a:solidFill>
                  <a:srgbClr val="000000"/>
                </a:solidFill>
                <a:latin typeface="Imprint MT Shad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24000" y="4941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а сегодняшний день заявки на участие в Чемпионате мира по футболу подали: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018-2022 год: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Россия, Австралия, Бельгия и Нидерланды, Англия, Япония, Испания и Португалия, США 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022 год: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Корея, Индонезия, Кватар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237960" y="404640"/>
            <a:ext cx="714240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ЧЕМПИОНАТ МИРА ПО ФУТБОЛУ 2018-2022 ГОДА – В РОССИИ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60" name="Picture 10" descr="C:\Documents and Settings\Admin\Рабочий стол\работа\презен\Рисунок23.jpg"/>
          <p:cNvPicPr/>
          <p:nvPr/>
        </p:nvPicPr>
        <p:blipFill>
          <a:blip r:embed="rId1"/>
          <a:stretch/>
        </p:blipFill>
        <p:spPr>
          <a:xfrm>
            <a:off x="2786040" y="2371680"/>
            <a:ext cx="3571920" cy="231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C:\Documents and Settings\new\Рабочий стол\фан\Рисунок4.jpg"/>
          <p:cNvPicPr/>
          <p:nvPr/>
        </p:nvPicPr>
        <p:blipFill>
          <a:blip r:embed="rId2"/>
          <a:stretch/>
        </p:blipFill>
        <p:spPr>
          <a:xfrm>
            <a:off x="6357960" y="2357280"/>
            <a:ext cx="2786040" cy="233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new\Рабочий стол\фан\Рисунок1.jpg"/>
          <p:cNvPicPr/>
          <p:nvPr/>
        </p:nvPicPr>
        <p:blipFill>
          <a:blip r:embed="rId3"/>
          <a:stretch/>
        </p:blipFill>
        <p:spPr>
          <a:xfrm>
            <a:off x="-3240" y="2357280"/>
            <a:ext cx="29019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24000" y="105264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осква - спортивная столица России, в городе много различных спортивных сооружений. Москва принимала Олимпийские игры, финал Лиги Чемпионов УЕФА, в 2013 г. здесь пройдёт Чемпионат мира по лёгкой атлетике. Столица России представлена несколькими клубами, выступающими в российской футбольной Премьер лиге, среди них - «Спартак», «ЦСКА», футбольные клубы «Динамо» и «Москва», ФК «Локомотив» и ФК «Химки».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37960" y="404640"/>
            <a:ext cx="570240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МОСКВА – СПОРТИВНАЯ СТОЛИЦА РОССИИ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2556000" y="5300640"/>
            <a:ext cx="6121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"Было бы счастье принять у себя Чемпионат мира. Мы смогли бы принять чемпионат 2018 или 2022 года вполне. Мы умеем решать задачи».   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Мэр Москвы, Юрий Лужков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67" name="Picture 16" descr="Рисунок4"/>
          <p:cNvPicPr/>
          <p:nvPr/>
        </p:nvPicPr>
        <p:blipFill>
          <a:blip r:embed="rId1"/>
          <a:stretch/>
        </p:blipFill>
        <p:spPr>
          <a:xfrm>
            <a:off x="0" y="2708280"/>
            <a:ext cx="4284720" cy="237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Рисунок5"/>
          <p:cNvPicPr/>
          <p:nvPr/>
        </p:nvPicPr>
        <p:blipFill>
          <a:blip r:embed="rId2"/>
          <a:stretch/>
        </p:blipFill>
        <p:spPr>
          <a:xfrm>
            <a:off x="4035600" y="2708280"/>
            <a:ext cx="51084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24000" y="1052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дача заявки на проведение Чемпионата мира по футболу - это сложный и интенсивный процесс подготовки со стороны страны-кандидата, получения правительственных гарантий, ведения международной PR-кампании, участия в крупнейших международных спортивных форумах, проведения промо-мероприятий.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37960" y="404640"/>
            <a:ext cx="829476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ОФИЦИАЛЬНАЯ ФАНЗОНА ЧЕМПИОНАТА МИРА ПО ФУТБОЛУ 2010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95280" y="522936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дним из критериев выбора страны-победителя является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аличие цивилизованной ФАНЗОНЫ,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которая способствуют единению болельщиков всех стран мира и создает мощную платформу для развития футбола и укрепления такого уникального бренда, каким является Чемпионат Мира ФИФА. 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73" name="Picture 7" descr="C:\Documents and Settings\Admin\Рабочий стол\работа\презен\Рисунок24.jpg"/>
          <p:cNvPicPr/>
          <p:nvPr/>
        </p:nvPicPr>
        <p:blipFill>
          <a:blip r:embed="rId1"/>
          <a:stretch/>
        </p:blipFill>
        <p:spPr>
          <a:xfrm>
            <a:off x="0" y="2500200"/>
            <a:ext cx="91440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3" descr="Рисунок10"/>
          <p:cNvPicPr/>
          <p:nvPr/>
        </p:nvPicPr>
        <p:blipFill>
          <a:blip r:embed="rId1"/>
          <a:stretch/>
        </p:blipFill>
        <p:spPr>
          <a:xfrm>
            <a:off x="0" y="4662360"/>
            <a:ext cx="6659640" cy="2195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237960" y="219240"/>
            <a:ext cx="829476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ФАНЗОНЫ ЧЕМПИОНАТА МИРА ПО ФУТБОЛУ 2010 В ДРУГИХ СТРАНАХ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0" y="3000240"/>
            <a:ext cx="9144000" cy="171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50920" y="3043080"/>
            <a:ext cx="871380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Опыт проведения Чемпионата мира в Германии 2006 года и Евро-2008 в Австрии и Швейцарии показал, что большинство болельщиков смотрят трансляцию футбольных матчей на открытых площадках, а не внутри стадиона. Поэтому ФИФА разработало специальную концепцию  мероприятия для любителей футбола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IFA Fan Fest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ТМ и успешно проводит подобное событие по всему миру. </a:t>
            </a:r>
            <a:endParaRPr b="0" lang="en-US" sz="14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К сожалению, Россия не получила официального статуса на организацию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IFA Fan Fest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ТМ в июне-июле 2010 года. Это право досталось таким мировым столицам, как Берлин, Лондон, Мехико, Париж, Рио-де-Жанейро, Рим и Сидней. </a:t>
            </a:r>
            <a:endParaRPr b="0" lang="en-US" sz="14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78" name="Picture 2" descr="C:\Documents and Settings\new\Рабочий стол\фан\Рисунок2.jpg"/>
          <p:cNvPicPr/>
          <p:nvPr/>
        </p:nvPicPr>
        <p:blipFill>
          <a:blip r:embed="rId2"/>
          <a:stretch/>
        </p:blipFill>
        <p:spPr>
          <a:xfrm>
            <a:off x="6572160" y="822240"/>
            <a:ext cx="2568600" cy="217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Documents and Settings\new\Рабочий стол\фан\Рисунок3.jpg"/>
          <p:cNvPicPr/>
          <p:nvPr/>
        </p:nvPicPr>
        <p:blipFill>
          <a:blip r:embed="rId3"/>
          <a:stretch/>
        </p:blipFill>
        <p:spPr>
          <a:xfrm>
            <a:off x="0" y="819000"/>
            <a:ext cx="2660760" cy="218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:\Documents and Settings\new\Рабочий стол\фан\Рисунок4.jpg"/>
          <p:cNvPicPr/>
          <p:nvPr/>
        </p:nvPicPr>
        <p:blipFill>
          <a:blip r:embed="rId4"/>
          <a:stretch/>
        </p:blipFill>
        <p:spPr>
          <a:xfrm>
            <a:off x="2652840" y="820800"/>
            <a:ext cx="3981240" cy="2179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Documents and Settings\new\Рабочий стол\фан\Рисунок5.jpg"/>
          <p:cNvPicPr/>
          <p:nvPr/>
        </p:nvPicPr>
        <p:blipFill>
          <a:blip r:embed="rId5"/>
          <a:stretch/>
        </p:blipFill>
        <p:spPr>
          <a:xfrm>
            <a:off x="6643800" y="4727520"/>
            <a:ext cx="25002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37960" y="219240"/>
            <a:ext cx="858204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ОФИЦИАЛЬНАЯ ФАНЗОНА ЧЕМПИОНАТА МИРА ПО ФУТБОЛУ 2010 В МОСКВЕ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2997360"/>
            <a:ext cx="914400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50920" y="3043080"/>
            <a:ext cx="87138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днако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 нашей страны есть реальный шанс сделать подобную ФАНЗОНУ самостоятельно и тем самым продемонстрировать миру новую, динамичную и молодую Россию.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Данный проект может стать одним из главных элементов международной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R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-компании, проводимой Заявочным комитетом и усилить финальную презентацию России в декабре 2010 года в штаб-квартире ФИФА в Цюрихе. Русская ФАНЗОНА имеет все шансы стать одним из показательных проектов во время визита инспекционной комиссии ФИФА в Россию в июле-августе 2010 года.</a:t>
            </a:r>
            <a:r>
              <a:rPr b="0" lang="ru-RU" sz="1800" spc="-1" strike="noStrike">
                <a:solidFill>
                  <a:srgbClr val="000000"/>
                </a:solidFill>
                <a:latin typeface="Imprint MT Shad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85" name="Picture 10" descr="C:\Documents and Settings\Admin\Рабочий стол\работа\презен\Рисунок1.jpg"/>
          <p:cNvPicPr/>
          <p:nvPr/>
        </p:nvPicPr>
        <p:blipFill>
          <a:blip r:embed="rId1"/>
          <a:stretch/>
        </p:blipFill>
        <p:spPr>
          <a:xfrm>
            <a:off x="0" y="642960"/>
            <a:ext cx="6572160" cy="235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C:\Documents and Settings\Admin\Рабочий стол\работа\презен\Рисунок2.jpg"/>
          <p:cNvPicPr/>
          <p:nvPr/>
        </p:nvPicPr>
        <p:blipFill>
          <a:blip r:embed="rId2"/>
          <a:stretch/>
        </p:blipFill>
        <p:spPr>
          <a:xfrm>
            <a:off x="6537240" y="642960"/>
            <a:ext cx="2606760" cy="2357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C:\Documents and Settings\Admin\Рабочий стол\работа\презен\Рисунок3.jpg"/>
          <p:cNvPicPr/>
          <p:nvPr/>
        </p:nvPicPr>
        <p:blipFill>
          <a:blip r:embed="rId3"/>
          <a:stretch/>
        </p:blipFill>
        <p:spPr>
          <a:xfrm>
            <a:off x="0" y="4640400"/>
            <a:ext cx="4929120" cy="2217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new\Рабочий стол\фан\Рисунок6.jpg"/>
          <p:cNvPicPr/>
          <p:nvPr/>
        </p:nvPicPr>
        <p:blipFill>
          <a:blip r:embed="rId4"/>
          <a:stretch/>
        </p:blipFill>
        <p:spPr>
          <a:xfrm>
            <a:off x="4929120" y="4643280"/>
            <a:ext cx="42148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24000" y="105264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Главным спортивным сооружением, которое входит в заявку на проведение Кубка Мира ФИФА и открыто уже сегодня, является стадион «Лужники». Здесь пройдет первый матч первенства планеты и финал чемпионата. Полное название этого крытого стадиона - «Большая спортивная арена Олимпийского комплекса «Лужники»», на сегодняшний день его вместимость достигает 80 000 человек.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СТАДИОН «ЛУЖНИКИ» - МЕСТО ОФИЦИАЛЬНОЙ ФАНЗОНЫ В МОСКВЕ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95280" y="522936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 рамках подготовки к проведению Кубка Мира ФИФА запланирована масштабная модернизация стадиона, благодаря которой большая арена «Лужников» станет настоящей жемчужиной, венчающей корону инфраструктуры российского футбола.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93" name="Picture 8" descr="C:\Documents and Settings\Admin\Рабочий стол\работа\презен\Рисунок5.jpg"/>
          <p:cNvPicPr/>
          <p:nvPr/>
        </p:nvPicPr>
        <p:blipFill>
          <a:blip r:embed="rId1"/>
          <a:stretch/>
        </p:blipFill>
        <p:spPr>
          <a:xfrm>
            <a:off x="1285920" y="2786040"/>
            <a:ext cx="614376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КОНЦЕПЦИЯ ФУТБОЛЬНОГО ПАРКА В «ЛУЖНИКАХ»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50920" y="2521080"/>
            <a:ext cx="849780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- Футбольный парк будет работать ежедневно на протяжении всего Чемпионата Мира –                                                            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с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11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июня по 11 июля 2010 г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endParaRPr b="0" lang="en-US" sz="15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- На территории парка будут работать кафе, установлены футбольные площадки и аттракционы, где каждый желающий в течение дня сможет развлечься и проверить свои силы в искусстве владения мячом. </a:t>
            </a:r>
            <a:endParaRPr b="0" lang="en-US" sz="15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- В течение дня на сцене, установленной рядом с экранами, будет проходить развлекательная программа, будут проводиться конкурсы, выступать Ди Джеи, спортсмены и разыгрываться призы и подарки.</a:t>
            </a:r>
            <a:endParaRPr b="0" lang="en-US" sz="15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- На футбольных площадках будут проходить матчи корпоративной футбольной лиги и юношеские турниры.                            Гостями турниров станут известные футболисты и ветераны футбола.</a:t>
            </a:r>
            <a:endParaRPr b="0" lang="en-US" sz="15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- На территории парка будет организован детский городок с различными аттракционами.</a:t>
            </a:r>
            <a:endParaRPr b="0" lang="en-US" sz="15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97" name="Picture 16" descr="C:\Documents and Settings\Admin\Рабочий стол\работа\презен\Рисунок8.jpg"/>
          <p:cNvPicPr/>
          <p:nvPr/>
        </p:nvPicPr>
        <p:blipFill>
          <a:blip r:embed="rId1"/>
          <a:stretch/>
        </p:blipFill>
        <p:spPr>
          <a:xfrm>
            <a:off x="7081920" y="957240"/>
            <a:ext cx="2071440" cy="1527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C:\Documents and Settings\Admin\Рабочий стол\работа\презен\Рисунок9.jpg"/>
          <p:cNvPicPr/>
          <p:nvPr/>
        </p:nvPicPr>
        <p:blipFill>
          <a:blip r:embed="rId2"/>
          <a:stretch/>
        </p:blipFill>
        <p:spPr>
          <a:xfrm>
            <a:off x="0" y="4786200"/>
            <a:ext cx="2500200" cy="1606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C:\Documents and Settings\Admin\Рабочий стол\работа\презен\Рисунок10.jpg"/>
          <p:cNvPicPr/>
          <p:nvPr/>
        </p:nvPicPr>
        <p:blipFill>
          <a:blip r:embed="rId3"/>
          <a:stretch/>
        </p:blipFill>
        <p:spPr>
          <a:xfrm>
            <a:off x="2428920" y="4786200"/>
            <a:ext cx="1857240" cy="163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C:\Documents and Settings\Admin\Рабочий стол\работа\презен\Рисунок11.jpg"/>
          <p:cNvPicPr/>
          <p:nvPr/>
        </p:nvPicPr>
        <p:blipFill>
          <a:blip r:embed="rId4"/>
          <a:stretch/>
        </p:blipFill>
        <p:spPr>
          <a:xfrm>
            <a:off x="3929040" y="4786200"/>
            <a:ext cx="2786040" cy="161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C:\Documents and Settings\Admin\Рабочий стол\работа\презен\Рисунок12.jpg"/>
          <p:cNvPicPr/>
          <p:nvPr/>
        </p:nvPicPr>
        <p:blipFill>
          <a:blip r:embed="rId5"/>
          <a:stretch/>
        </p:blipFill>
        <p:spPr>
          <a:xfrm>
            <a:off x="6724800" y="4786200"/>
            <a:ext cx="241920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Documents and Settings\new\Рабочий стол\фан\Рисунок7.jpg"/>
          <p:cNvPicPr/>
          <p:nvPr/>
        </p:nvPicPr>
        <p:blipFill>
          <a:blip r:embed="rId6"/>
          <a:stretch/>
        </p:blipFill>
        <p:spPr>
          <a:xfrm>
            <a:off x="0" y="917640"/>
            <a:ext cx="2457360" cy="1616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new\Рабочий стол\фан\Рисунок8.jpg"/>
          <p:cNvPicPr/>
          <p:nvPr/>
        </p:nvPicPr>
        <p:blipFill>
          <a:blip r:embed="rId7"/>
          <a:stretch/>
        </p:blipFill>
        <p:spPr>
          <a:xfrm>
            <a:off x="2448000" y="957240"/>
            <a:ext cx="2487600" cy="157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Documents and Settings\new\Рабочий стол\фан\Рисунок9.jpg"/>
          <p:cNvPicPr/>
          <p:nvPr/>
        </p:nvPicPr>
        <p:blipFill>
          <a:blip r:embed="rId8"/>
          <a:stretch/>
        </p:blipFill>
        <p:spPr>
          <a:xfrm>
            <a:off x="4929120" y="947880"/>
            <a:ext cx="218916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Календарь игр"/>
          <p:cNvPicPr/>
          <p:nvPr/>
        </p:nvPicPr>
        <p:blipFill>
          <a:blip r:embed="rId1"/>
          <a:stretch/>
        </p:blipFill>
        <p:spPr>
          <a:xfrm>
            <a:off x="324000" y="404640"/>
            <a:ext cx="8582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9:21:40Z</dcterms:created>
  <dc:creator>Admin</dc:creator>
  <dc:description/>
  <dc:language>en-US</dc:language>
  <cp:lastModifiedBy>ZooM</cp:lastModifiedBy>
  <dcterms:modified xsi:type="dcterms:W3CDTF">2013-12-03T20:54:41Z</dcterms:modified>
  <cp:revision>18</cp:revision>
  <dc:subject/>
  <dc:title>Слайд 1</dc:title>
</cp:coreProperties>
</file>