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4E6-D483-4BA3-9E78-2342BDABD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222-9577-4445-8347-9CAEF319E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CCE-2744-480C-9BAA-EA2895C5B0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CD9-17A0-4DCE-BD8F-8BA334AE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E71-B96B-4816-8F25-CE98036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D8B-4C49-4C87-B642-03B97A04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E73-917B-47F4-82F8-C725BC1E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CB6-1225-406D-8BC6-306933F7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7D8-FB55-4312-9555-0D316FA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78F-423E-46C3-9F9F-A1BD0DA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E78-8112-4979-A98A-0EA1D3F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2D7-8B14-4000-A09D-898F290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8EC-1E68-473D-9CEA-8B6B239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D90-77F2-4EA3-B3D6-C6D3FA7A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3DB-DEB3-4175-90D4-101FDA3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BC3-FEEB-4CC1-B84C-15961B7B5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6"/>
          <p:cNvSpPr/>
          <p:nvPr/>
        </p:nvSpPr>
        <p:spPr>
          <a:xfrm>
            <a:off x="468360" y="547920"/>
            <a:ext cx="820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  <a:ea typeface="MS PGothic"/>
              </a:rPr>
              <a:t>Чемпионат мира по футболу едет в Москву!</a:t>
            </a:r>
            <a:endParaRPr b="0" lang="en-US" sz="2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819520" y="1600200"/>
            <a:ext cx="39607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Официальная </a:t>
            </a:r>
            <a:r>
              <a:rPr b="1" lang="ru-RU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ФАНЗОНА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FIFA</a:t>
            </a:r>
            <a:endParaRPr b="0" lang="en-US" sz="3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867040" y="2666880"/>
            <a:ext cx="6048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чемпионата мир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по футболу </a:t>
            </a:r>
            <a:br>
              <a:rPr sz="2000"/>
            </a:br>
            <a:r>
              <a:rPr b="1" lang="ru-RU" sz="5400" spc="-1" strike="noStrike">
                <a:solidFill>
                  <a:srgbClr val="ffffff"/>
                </a:solidFill>
                <a:latin typeface="Arial Narrow"/>
                <a:ea typeface="MS PGothic"/>
              </a:rPr>
              <a:t>2010</a:t>
            </a:r>
            <a:r>
              <a:rPr b="1" lang="ru-RU" sz="5400" spc="-1" strike="noStrike">
                <a:solidFill>
                  <a:srgbClr val="ffffff"/>
                </a:solidFill>
                <a:latin typeface="HeliosC"/>
                <a:ea typeface="MS P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5435640" y="4902120"/>
            <a:ext cx="23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  <a:ea typeface="MS PGothic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Лужниках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4944960" y="543240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  <a:ea typeface="MS PGothic"/>
              </a:rPr>
              <a:t>11 июня – 11 июля</a:t>
            </a:r>
            <a:endParaRPr b="0" lang="en-US" sz="2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53" name="Picture 12" descr="cub.png"/>
          <p:cNvPicPr/>
          <p:nvPr/>
        </p:nvPicPr>
        <p:blipFill>
          <a:blip r:embed="rId1"/>
          <a:stretch/>
        </p:blipFill>
        <p:spPr>
          <a:xfrm>
            <a:off x="533520" y="1676520"/>
            <a:ext cx="2361960" cy="42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bool"/>
          <p:cNvPicPr/>
          <p:nvPr/>
        </p:nvPicPr>
        <p:blipFill>
          <a:blip r:embed="rId2"/>
          <a:stretch/>
        </p:blipFill>
        <p:spPr>
          <a:xfrm>
            <a:off x="1979640" y="48006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137120" y="43797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УТБОЛЬНЫЙ ПАРК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ЭЛЕМЕНТЫ ФАНЗОНЫ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08" name="Picture 13" descr="DressroomOffice"/>
          <p:cNvPicPr/>
          <p:nvPr/>
        </p:nvPicPr>
        <p:blipFill>
          <a:blip r:embed="rId1"/>
          <a:stretch/>
        </p:blipFill>
        <p:spPr>
          <a:xfrm>
            <a:off x="627120" y="4221000"/>
            <a:ext cx="1944720" cy="1814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409680" y="105264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спортивной активност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836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Раздевалк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2832120" y="61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утбольное поле для турниров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300720" y="37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АН-бульв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300720" y="9255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просмотра футбол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4" name="Picture 3" descr="C:\Documents and Settings\new\Рабочий стол\фан\Рисунок11.jpg"/>
          <p:cNvPicPr/>
          <p:nvPr/>
        </p:nvPicPr>
        <p:blipFill>
          <a:blip r:embed="rId2"/>
          <a:stretch/>
        </p:blipFill>
        <p:spPr>
          <a:xfrm>
            <a:off x="3214800" y="1643040"/>
            <a:ext cx="2752560" cy="24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new\Рабочий стол\фан\Рисунок10.jpg"/>
          <p:cNvPicPr/>
          <p:nvPr/>
        </p:nvPicPr>
        <p:blipFill>
          <a:blip r:embed="rId3"/>
          <a:stretch/>
        </p:blipFill>
        <p:spPr>
          <a:xfrm>
            <a:off x="457200" y="1643040"/>
            <a:ext cx="2185920" cy="1785960"/>
          </a:xfrm>
          <a:prstGeom prst="rect">
            <a:avLst/>
          </a:prstGeom>
          <a:ln w="0">
            <a:noFill/>
          </a:ln>
        </p:spPr>
      </p:pic>
      <p:sp>
        <p:nvSpPr>
          <p:cNvPr id="116" name="Line 17"/>
          <p:cNvSpPr/>
          <p:nvPr/>
        </p:nvSpPr>
        <p:spPr>
          <a:xfrm>
            <a:off x="1835280" y="2500200"/>
            <a:ext cx="280800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908000" y="2923920"/>
            <a:ext cx="2808360" cy="18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4357800" y="2355840"/>
            <a:ext cx="1071360" cy="128736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361" h="1859">
                <a:moveTo>
                  <a:pt x="953" y="1859"/>
                </a:moveTo>
                <a:lnTo>
                  <a:pt x="998" y="1360"/>
                </a:lnTo>
                <a:lnTo>
                  <a:pt x="817" y="1179"/>
                </a:lnTo>
                <a:lnTo>
                  <a:pt x="499" y="1542"/>
                </a:lnTo>
                <a:lnTo>
                  <a:pt x="46" y="1088"/>
                </a:lnTo>
                <a:lnTo>
                  <a:pt x="363" y="725"/>
                </a:lnTo>
                <a:lnTo>
                  <a:pt x="0" y="363"/>
                </a:lnTo>
                <a:lnTo>
                  <a:pt x="363" y="0"/>
                </a:lnTo>
                <a:lnTo>
                  <a:pt x="1361" y="998"/>
                </a:lnTo>
                <a:lnTo>
                  <a:pt x="1134" y="1224"/>
                </a:lnTo>
                <a:lnTo>
                  <a:pt x="1089" y="1678"/>
                </a:lnTo>
                <a:lnTo>
                  <a:pt x="953" y="1859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9" name="Picture 4" descr="C:\Documents and Settings\new\Рабочий стол\фан\Рисунок12.jpg"/>
          <p:cNvPicPr/>
          <p:nvPr/>
        </p:nvPicPr>
        <p:blipFill>
          <a:blip r:embed="rId4"/>
          <a:stretch/>
        </p:blipFill>
        <p:spPr>
          <a:xfrm>
            <a:off x="3276720" y="4357800"/>
            <a:ext cx="2643120" cy="1860480"/>
          </a:xfrm>
          <a:prstGeom prst="rect">
            <a:avLst/>
          </a:prstGeom>
          <a:ln w="0">
            <a:noFill/>
          </a:ln>
        </p:spPr>
      </p:pic>
      <p:sp>
        <p:nvSpPr>
          <p:cNvPr id="120" name="Line 20"/>
          <p:cNvSpPr/>
          <p:nvPr/>
        </p:nvSpPr>
        <p:spPr>
          <a:xfrm flipV="1">
            <a:off x="4643280" y="3213000"/>
            <a:ext cx="0" cy="216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1" name="Picture 5" descr="C:\Documents and Settings\new\Рабочий стол\фан\Рисунок13.jpg"/>
          <p:cNvPicPr/>
          <p:nvPr/>
        </p:nvPicPr>
        <p:blipFill>
          <a:blip r:embed="rId5"/>
          <a:stretch/>
        </p:blipFill>
        <p:spPr>
          <a:xfrm>
            <a:off x="6143760" y="1643040"/>
            <a:ext cx="239220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Line 24"/>
          <p:cNvSpPr/>
          <p:nvPr/>
        </p:nvSpPr>
        <p:spPr>
          <a:xfrm flipH="1">
            <a:off x="5076360" y="2133720"/>
            <a:ext cx="1800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3" name="Picture 6" descr="C:\Documents and Settings\new\Рабочий стол\фан\Рисунок14.jpg"/>
          <p:cNvPicPr/>
          <p:nvPr/>
        </p:nvPicPr>
        <p:blipFill>
          <a:blip r:embed="rId6"/>
          <a:stretch/>
        </p:blipFill>
        <p:spPr>
          <a:xfrm>
            <a:off x="6357960" y="4357800"/>
            <a:ext cx="2000160" cy="2009520"/>
          </a:xfrm>
          <a:prstGeom prst="rect">
            <a:avLst/>
          </a:prstGeom>
          <a:ln w="0">
            <a:noFill/>
          </a:ln>
        </p:spPr>
      </p:pic>
      <p:sp>
        <p:nvSpPr>
          <p:cNvPr id="124" name="Line 23"/>
          <p:cNvSpPr/>
          <p:nvPr/>
        </p:nvSpPr>
        <p:spPr>
          <a:xfrm flipH="1" flipV="1">
            <a:off x="5138280" y="3475080"/>
            <a:ext cx="158436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6" name="Picture 8" descr="Рисунок32"/>
          <p:cNvPicPr/>
          <p:nvPr/>
        </p:nvPicPr>
        <p:blipFill>
          <a:blip r:embed="rId1"/>
          <a:stretch/>
        </p:blipFill>
        <p:spPr>
          <a:xfrm>
            <a:off x="250920" y="196920"/>
            <a:ext cx="8569080" cy="6400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ЛАН-СХЕМА РАЗМЕЩЕНИЯ ОБЪЕКТОВ ФУТБОЛЬНОГО ПАРКА 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СЕТИТЕЛ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09600" y="852480"/>
            <a:ext cx="570240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жидается не менее 10 000 посетителей в день или порядка 300 000 посетителей за время работы парка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 дневное время среди гостями парка будут преимущественно школьники, 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и семьи с деть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осле рабочего дня и в выходные будут собираться преимущественно мужчины, многие с женами, подругами и сослуживица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циально-демографические характеристик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7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ужчин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/ 3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женщины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8-50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лет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оход средний и выше среднего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олодые специалис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енеджер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осслужащие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белые воротнички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едпринимател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ни любят футбол. Многие занимались спортом в юности и продолжают играть в футбол на любительском уровне. Не все имеют любимый клуб, но все без исключения следят за выступлениями Российской Сборной. Большой Футбол – настоящий праздник для них. В парк их привлекает не только футбол, но и стремление вести активный образ жизни. Они любят проводить время с друзьями и единомышленниками, они интересуются новинками техники и спортивной экипировки, любят музыку.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31" name="Picture 7" descr="C:\Documents and Settings\Admin\Рабочий стол\работа\презен\Рисунок14.jpg"/>
          <p:cNvPicPr/>
          <p:nvPr/>
        </p:nvPicPr>
        <p:blipFill>
          <a:blip r:embed="rId1"/>
          <a:stretch/>
        </p:blipFill>
        <p:spPr>
          <a:xfrm>
            <a:off x="6000840" y="2214720"/>
            <a:ext cx="2822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981000"/>
            <a:ext cx="828036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Российским футбольным союзом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 соревнований, этапов соревнований или отдельно взятых матчей, включённых в календарный план Московской федерации футбола;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, любительских турниров включенных в календарный план Департамента массового футбола РФС: турнир по футболу среди детских деревень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России, Турнир среди болельщиков «Забей гол, фанат!», Матчи первенства межнациональной футбольной лиги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цикла тренерских семинаров для футбольных тренеров Москвы и Московской области, а также специалистов-тренеров, работающих с детьми от Департамента образования города Москвы и Москомспорт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мастер-классов с профессиональными футболистами и ветеранами футбола, а также встречи учащихся ДЮСШ и СДЮШОР с ветеранами футбол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пресс-конференций, посвящённых мероприятиям РФС: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0 июня для участия в турнире в ЮАР будет отправлена команда-победитель всероссйиских соревнований по футболу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18 июня будет дан старт зональному этапу всероссийских соревнований по футболу среди команд  общеобразовательных учреждений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7 сентября для участия в «Кубке наций – «Данон» в ЮАР будут отправлены 2 детские команды-победители всероссийских соревнований по футболу «Кожаный мяч»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C:\Documents and Settings\new\Рабочий стол\фан\Рисунок22.jpg"/>
          <p:cNvPicPr/>
          <p:nvPr/>
        </p:nvPicPr>
        <p:blipFill>
          <a:blip r:embed="rId1"/>
          <a:stretch/>
        </p:blipFill>
        <p:spPr>
          <a:xfrm>
            <a:off x="3071880" y="5072040"/>
            <a:ext cx="286524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Documents and Settings\new\Рабочий стол\фан\Рисунок21.jpg"/>
          <p:cNvPicPr/>
          <p:nvPr/>
        </p:nvPicPr>
        <p:blipFill>
          <a:blip r:embed="rId2"/>
          <a:stretch/>
        </p:blipFill>
        <p:spPr>
          <a:xfrm>
            <a:off x="3571920" y="2786040"/>
            <a:ext cx="32227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new\Рабочий стол\фан\Рисунок20.jpg"/>
          <p:cNvPicPr/>
          <p:nvPr/>
        </p:nvPicPr>
        <p:blipFill>
          <a:blip r:embed="rId3"/>
          <a:stretch/>
        </p:blipFill>
        <p:spPr>
          <a:xfrm>
            <a:off x="0" y="4830840"/>
            <a:ext cx="3071880" cy="202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new\Рабочий стол\фан\Рисунок18.jpg"/>
          <p:cNvPicPr/>
          <p:nvPr/>
        </p:nvPicPr>
        <p:blipFill>
          <a:blip r:embed="rId4"/>
          <a:stretch/>
        </p:blipFill>
        <p:spPr>
          <a:xfrm>
            <a:off x="0" y="785880"/>
            <a:ext cx="357192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new\Рабочий стол\фан\Рисунок17.jpg"/>
          <p:cNvPicPr/>
          <p:nvPr/>
        </p:nvPicPr>
        <p:blipFill>
          <a:blip r:embed="rId5"/>
          <a:stretch/>
        </p:blipFill>
        <p:spPr>
          <a:xfrm>
            <a:off x="3500280" y="785880"/>
            <a:ext cx="321480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37960" y="39060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1" name="Picture 2" descr="C:\Documents and Settings\new\Рабочий стол\фан\Рисунок15.jpg"/>
          <p:cNvPicPr/>
          <p:nvPr/>
        </p:nvPicPr>
        <p:blipFill>
          <a:blip r:embed="rId6"/>
          <a:stretch/>
        </p:blipFill>
        <p:spPr>
          <a:xfrm>
            <a:off x="5929200" y="4714920"/>
            <a:ext cx="32115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\Рабочий стол\фан\Рисунок16.jpg"/>
          <p:cNvPicPr/>
          <p:nvPr/>
        </p:nvPicPr>
        <p:blipFill>
          <a:blip r:embed="rId7"/>
          <a:stretch/>
        </p:blipFill>
        <p:spPr>
          <a:xfrm>
            <a:off x="6715080" y="776160"/>
            <a:ext cx="2452680" cy="393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new\Рабочий стол\фан\Рисунок19.jpg"/>
          <p:cNvPicPr/>
          <p:nvPr/>
        </p:nvPicPr>
        <p:blipFill>
          <a:blip r:embed="rId8"/>
          <a:stretch/>
        </p:blipFill>
        <p:spPr>
          <a:xfrm>
            <a:off x="0" y="2786040"/>
            <a:ext cx="3710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1280" y="1125360"/>
            <a:ext cx="41050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Департаментом физической культуры и спорта г. Москвы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мпионат СМИ по футболу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дипломатов (для работников дипломатических агентств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наций (участники – иностранные диаспоры в Росс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арламентские игры по футболу (представители Государственной думы и Совета Федерац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по футболу на призы Льва Яшин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урнир по футболу для инвалидов «Преодоление»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утбольный турнир с участием ветеранов спорт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7" name="Picture 2" descr="C:\Documents and Settings\new\Рабочий стол\фан\Рисунок23.jpg"/>
          <p:cNvPicPr/>
          <p:nvPr/>
        </p:nvPicPr>
        <p:blipFill>
          <a:blip r:embed="rId1"/>
          <a:stretch/>
        </p:blipFill>
        <p:spPr>
          <a:xfrm>
            <a:off x="5286240" y="4784760"/>
            <a:ext cx="3071880" cy="1832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\Рабочий стол\фан\Рисунок24.jpg"/>
          <p:cNvPicPr/>
          <p:nvPr/>
        </p:nvPicPr>
        <p:blipFill>
          <a:blip r:embed="rId2"/>
          <a:stretch/>
        </p:blipFill>
        <p:spPr>
          <a:xfrm>
            <a:off x="5295960" y="2786040"/>
            <a:ext cx="3043080" cy="196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new\Рабочий стол\фан\Рисунок25.jpg"/>
          <p:cNvPicPr/>
          <p:nvPr/>
        </p:nvPicPr>
        <p:blipFill>
          <a:blip r:embed="rId3"/>
          <a:stretch/>
        </p:blipFill>
        <p:spPr>
          <a:xfrm>
            <a:off x="5286240" y="830160"/>
            <a:ext cx="302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new\Рабочий стол\фан\Рисунок26.jpg"/>
          <p:cNvPicPr/>
          <p:nvPr/>
        </p:nvPicPr>
        <p:blipFill>
          <a:blip r:embed="rId1"/>
          <a:stretch/>
        </p:blipFill>
        <p:spPr>
          <a:xfrm>
            <a:off x="2071800" y="3500280"/>
            <a:ext cx="4673520" cy="3357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2" name="Picture 11" descr="C:\Documents and Settings\Admin\Рабочий стол\работа\презен\Рисунок17.jpg"/>
          <p:cNvPicPr/>
          <p:nvPr/>
        </p:nvPicPr>
        <p:blipFill>
          <a:blip r:embed="rId2"/>
          <a:stretch/>
        </p:blipFill>
        <p:spPr>
          <a:xfrm>
            <a:off x="0" y="3571920"/>
            <a:ext cx="2071800" cy="328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C:\Documents and Settings\Admin\Рабочий стол\работа\презен\Рисунок19.jpg"/>
          <p:cNvPicPr/>
          <p:nvPr/>
        </p:nvPicPr>
        <p:blipFill>
          <a:blip r:embed="rId3"/>
          <a:stretch/>
        </p:blipFill>
        <p:spPr>
          <a:xfrm>
            <a:off x="6286680" y="3571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new\Рабочий стол\фан\Рисунок27.jpg"/>
          <p:cNvPicPr/>
          <p:nvPr/>
        </p:nvPicPr>
        <p:blipFill>
          <a:blip r:embed="rId4"/>
          <a:stretch/>
        </p:blipFill>
        <p:spPr>
          <a:xfrm>
            <a:off x="4786200" y="714240"/>
            <a:ext cx="438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\Рабочий стол\фан\Рисунок28.jpg"/>
          <p:cNvPicPr/>
          <p:nvPr/>
        </p:nvPicPr>
        <p:blipFill>
          <a:blip r:embed="rId5"/>
          <a:stretch/>
        </p:blipFill>
        <p:spPr>
          <a:xfrm>
            <a:off x="-1440" y="714240"/>
            <a:ext cx="4802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РЕКЛАМНОЙ КАМПАНИ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8" name="Picture 2" descr="C:\Documents and Settings\new\Рабочий стол\фан\Рисунок29.jpg"/>
          <p:cNvPicPr/>
          <p:nvPr/>
        </p:nvPicPr>
        <p:blipFill>
          <a:blip r:embed="rId1"/>
          <a:stretch/>
        </p:blipFill>
        <p:spPr>
          <a:xfrm>
            <a:off x="428760" y="1357200"/>
            <a:ext cx="8142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8436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  <a:ea typeface="MS PGothic"/>
              </a:rPr>
              <a:t>ДО ВСТРЕЧИ В ЛУЖНИКАХ!</a:t>
            </a:r>
            <a:endParaRPr b="0" lang="en-US" sz="4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60" name="Picture 5" descr="C:\Documents and Settings\Admin\Рабочий стол\работа\презен\Рисунок21.jpg"/>
          <p:cNvPicPr/>
          <p:nvPr/>
        </p:nvPicPr>
        <p:blipFill>
          <a:blip r:embed="rId1"/>
          <a:stretch/>
        </p:blipFill>
        <p:spPr>
          <a:xfrm>
            <a:off x="642960" y="1643040"/>
            <a:ext cx="7866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5"/>
          <p:cNvSpPr/>
          <p:nvPr/>
        </p:nvSpPr>
        <p:spPr>
          <a:xfrm>
            <a:off x="214200" y="142920"/>
            <a:ext cx="8535960" cy="63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2009 году Россия впервые в своей истории представила свою кандидатуру на право проведения Чемпионата мира по футболу ФИФ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2018-202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 Правительство России объявило решение этой амбициозной задачи национальным приоритетом, что требует сложной и интенсивной подготовки со стороны страны-кандидат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сегодняшний день заявки на участие в Чемпионате мира по футболу подали: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8-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оссия, Австралия, Бельгия и Нидерланды, Англия, Япония, Испания и Португалия, США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рея, Индонезия, Кват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37960" y="404640"/>
            <a:ext cx="714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ЕМПИОНАТ МИРА ПО ФУТБОЛУ 2018-2022 ГОДА – В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0" name="Picture 10" descr="C:\Documents and Settings\Admin\Рабочий стол\работа\презен\Рисунок23.jpg"/>
          <p:cNvPicPr/>
          <p:nvPr/>
        </p:nvPicPr>
        <p:blipFill>
          <a:blip r:embed="rId1"/>
          <a:stretch/>
        </p:blipFill>
        <p:spPr>
          <a:xfrm>
            <a:off x="2786040" y="2371680"/>
            <a:ext cx="3571920" cy="23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C:\Documents and Settings\new\Рабочий стол\фан\Рисунок4.jpg"/>
          <p:cNvPicPr/>
          <p:nvPr/>
        </p:nvPicPr>
        <p:blipFill>
          <a:blip r:embed="rId2"/>
          <a:stretch/>
        </p:blipFill>
        <p:spPr>
          <a:xfrm>
            <a:off x="6357960" y="2357280"/>
            <a:ext cx="2786040" cy="233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new\Рабочий стол\фан\Рисунок1.jpg"/>
          <p:cNvPicPr/>
          <p:nvPr/>
        </p:nvPicPr>
        <p:blipFill>
          <a:blip r:embed="rId3"/>
          <a:stretch/>
        </p:blipFill>
        <p:spPr>
          <a:xfrm>
            <a:off x="-3240" y="2357280"/>
            <a:ext cx="2901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сква - спортивная столица России, в городе много различных спортивных сооружений. Москва принимала Олимпийские игры, финал Лиги Чемпионов УЕФА, в 2013 г. здесь пройдёт Чемпионат мира по лёгкой атлетике. Столица России представлена несколькими клубами, выступающими в российской футбольной Премьер лиге, среди них - «Спартак», «ЦСКА», футбольные клубы «Динамо» и «Москва», ФК «Локомотив» и ФК «Химки»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37960" y="404640"/>
            <a:ext cx="570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ОСКВА – СПОРТИВНАЯ СТОЛИЦА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556000" y="5300640"/>
            <a:ext cx="61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"Было бы счастье принять у себя Чемпионат мира. Мы смогли бы принять чемпионат 2018 или 2022 года вполне. Мы умеем решать задачи».  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эр Москвы, Юрий Лужков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7" name="Picture 16" descr="Рисунок4"/>
          <p:cNvPicPr/>
          <p:nvPr/>
        </p:nvPicPr>
        <p:blipFill>
          <a:blip r:embed="rId1"/>
          <a:stretch/>
        </p:blipFill>
        <p:spPr>
          <a:xfrm>
            <a:off x="0" y="2708280"/>
            <a:ext cx="4284720" cy="23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Рисунок5"/>
          <p:cNvPicPr/>
          <p:nvPr/>
        </p:nvPicPr>
        <p:blipFill>
          <a:blip r:embed="rId2"/>
          <a:stretch/>
        </p:blipFill>
        <p:spPr>
          <a:xfrm>
            <a:off x="4035600" y="2708280"/>
            <a:ext cx="5108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ача заявки на проведение Чемпионата мира по футболу - это сложный и интенсивный процесс подготовки со стороны страны-кандидата, получения правительственных гарантий, ведения международной PR-кампании, участия в крупнейших международных спортивных форумах, проведения промо-мероприятий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7960" y="4046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522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ним из критериев выбора страны-победителя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личие цивилизованной ФАНЗОНЫ,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торая способствуют единению болельщиков всех стран мира и создает мощную платформу для развития футбола и укрепления такого уникального бренда, каким является Чемпионат Мира ФИФА.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3" name="Picture 7" descr="C:\Documents and Settings\Admin\Рабочий стол\работа\презен\Рисунок24.jpg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3" descr="Рисунок10"/>
          <p:cNvPicPr/>
          <p:nvPr/>
        </p:nvPicPr>
        <p:blipFill>
          <a:blip r:embed="rId1"/>
          <a:stretch/>
        </p:blipFill>
        <p:spPr>
          <a:xfrm>
            <a:off x="0" y="4662360"/>
            <a:ext cx="6659640" cy="21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37960" y="2192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АНЗОНЫ ЧЕМПИОНАТА МИРА ПО ФУТБОЛУ 2010 В ДРУГИХ СТРАНАХ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3000240"/>
            <a:ext cx="914400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0920" y="3043080"/>
            <a:ext cx="87138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пыт проведения Чемпионата мира в Германии 2006 года и Евро-2008 в Австрии и Швейцарии показал, что большинство болельщиков смотрят трансляцию футбольных матчей на открытых площадках, а не внутри стадиона. Поэтому ФИФА разработало специальную концепцию  мероприятия для любителей футбола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и успешно проводит подобное событие по всему миру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К сожалению, Россия не получила официального статуса на организацию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в июне-июле 2010 года. Это право досталось таким мировым столицам, как Берлин, Лондон, Мехико, Париж, Рио-де-Жанейро, Рим и Сидней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8" name="Picture 2" descr="C:\Documents and Settings\new\Рабочий стол\фан\Рисунок2.jpg"/>
          <p:cNvPicPr/>
          <p:nvPr/>
        </p:nvPicPr>
        <p:blipFill>
          <a:blip r:embed="rId2"/>
          <a:stretch/>
        </p:blipFill>
        <p:spPr>
          <a:xfrm>
            <a:off x="6572160" y="822240"/>
            <a:ext cx="2568600" cy="217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new\Рабочий стол\фан\Рисунок3.jpg"/>
          <p:cNvPicPr/>
          <p:nvPr/>
        </p:nvPicPr>
        <p:blipFill>
          <a:blip r:embed="rId3"/>
          <a:stretch/>
        </p:blipFill>
        <p:spPr>
          <a:xfrm>
            <a:off x="0" y="819000"/>
            <a:ext cx="266076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Documents and Settings\new\Рабочий стол\фан\Рисунок4.jpg"/>
          <p:cNvPicPr/>
          <p:nvPr/>
        </p:nvPicPr>
        <p:blipFill>
          <a:blip r:embed="rId4"/>
          <a:stretch/>
        </p:blipFill>
        <p:spPr>
          <a:xfrm>
            <a:off x="2652840" y="820800"/>
            <a:ext cx="3981240" cy="217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new\Рабочий стол\фан\Рисунок5.jpg"/>
          <p:cNvPicPr/>
          <p:nvPr/>
        </p:nvPicPr>
        <p:blipFill>
          <a:blip r:embed="rId5"/>
          <a:stretch/>
        </p:blipFill>
        <p:spPr>
          <a:xfrm>
            <a:off x="6643800" y="4727520"/>
            <a:ext cx="2500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7960" y="219240"/>
            <a:ext cx="858204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997360"/>
            <a:ext cx="914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3043080"/>
            <a:ext cx="8713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днако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 нашей страны есть реальный шанс сделать подобную ФАНЗОНУ самостоятельно и тем самым продемонстрировать миру новую, динамичную и молодую Россию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Данный проект может стать одним из главных элементов международной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компании, проводимой Заявочным комитетом и усилить финальную презентацию России в декабре 2010 года в штаб-квартире ФИФА в Цюрихе. Русская ФАНЗОНА имеет все шансы стать одним из показательных проектов во время визита инспекционной комиссии ФИФА в Россию в июле-августе 2010 год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85" name="Picture 10" descr="C:\Documents and Settings\Admin\Рабочий стол\работа\презен\Рисунок1.jpg"/>
          <p:cNvPicPr/>
          <p:nvPr/>
        </p:nvPicPr>
        <p:blipFill>
          <a:blip r:embed="rId1"/>
          <a:stretch/>
        </p:blipFill>
        <p:spPr>
          <a:xfrm>
            <a:off x="0" y="642960"/>
            <a:ext cx="6572160" cy="23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Admin\Рабочий стол\работа\презен\Рисунок2.jpg"/>
          <p:cNvPicPr/>
          <p:nvPr/>
        </p:nvPicPr>
        <p:blipFill>
          <a:blip r:embed="rId2"/>
          <a:stretch/>
        </p:blipFill>
        <p:spPr>
          <a:xfrm>
            <a:off x="6537240" y="642960"/>
            <a:ext cx="2606760" cy="235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Documents and Settings\Admin\Рабочий стол\работа\презен\Рисунок3.jpg"/>
          <p:cNvPicPr/>
          <p:nvPr/>
        </p:nvPicPr>
        <p:blipFill>
          <a:blip r:embed="rId3"/>
          <a:stretch/>
        </p:blipFill>
        <p:spPr>
          <a:xfrm>
            <a:off x="0" y="4640400"/>
            <a:ext cx="4929120" cy="221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new\Рабочий стол\фан\Рисунок6.jpg"/>
          <p:cNvPicPr/>
          <p:nvPr/>
        </p:nvPicPr>
        <p:blipFill>
          <a:blip r:embed="rId4"/>
          <a:stretch/>
        </p:blipFill>
        <p:spPr>
          <a:xfrm>
            <a:off x="4929120" y="4643280"/>
            <a:ext cx="4214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лавным спортивным сооружением, которое входит в заявку на проведение Кубка Мира ФИФА и открыто уже сегодня, является стадион «Лужники». Здесь пройдет первый матч первенства планеты и финал чемпионата. Полное название этого крытого стадиона - «Большая спортивная арена Олимпийского комплекса «Лужники»», на сегодняшний день его вместимость достигает 80 000 человек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ТАДИОН «ЛУЖНИКИ» - МЕСТО ОФИЦИАЛЬНОЙ ФАНЗОНЫ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522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рамках подготовки к проведению Кубка Мира ФИФА запланирована масштабная модернизация стадиона, благодаря которой большая арена «Лужников» станет настоящей жемчужиной, венчающей корону инфраструктуры российского футбола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3" name="Picture 8" descr="C:\Documents and Settings\Admin\Рабочий стол\работа\презен\Рисунок5.jpg"/>
          <p:cNvPicPr/>
          <p:nvPr/>
        </p:nvPicPr>
        <p:blipFill>
          <a:blip r:embed="rId1"/>
          <a:stretch/>
        </p:blipFill>
        <p:spPr>
          <a:xfrm>
            <a:off x="1285920" y="2786040"/>
            <a:ext cx="61437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ФУТБОЛЬНОГО ПАРКА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2521080"/>
            <a:ext cx="849780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Футбольный парк будет работать ежедневно на протяжении всего Чемпионата Мира –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июня по 11 июля 2010 г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ут работать кафе, установлены футбольные площадки и аттракционы, где каждый желающий в течение дня сможет развлечься и проверить свои силы в искусстве владения мячом.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В течение дня на сцене, установленной рядом с экранами, будет проходить развлекательная программа, будут проводиться конкурсы, выступать Ди Джеи, спортсмены и разыгрываться призы и подарк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футбольных площадках будут проходить матчи корпоративной футбольной лиги и юношеские турниры.                            Гостями турниров станут известные футболисты и ветераны футбола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ет организован детский городок с различными аттракционам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7" name="Picture 16" descr="C:\Documents and Settings\Admin\Рабочий стол\работа\презен\Рисунок8.jpg"/>
          <p:cNvPicPr/>
          <p:nvPr/>
        </p:nvPicPr>
        <p:blipFill>
          <a:blip r:embed="rId1"/>
          <a:stretch/>
        </p:blipFill>
        <p:spPr>
          <a:xfrm>
            <a:off x="7081920" y="957240"/>
            <a:ext cx="207144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C:\Documents and Settings\Admin\Рабочий стол\работа\презен\Рисунок9.jpg"/>
          <p:cNvPicPr/>
          <p:nvPr/>
        </p:nvPicPr>
        <p:blipFill>
          <a:blip r:embed="rId2"/>
          <a:stretch/>
        </p:blipFill>
        <p:spPr>
          <a:xfrm>
            <a:off x="0" y="4786200"/>
            <a:ext cx="2500200" cy="160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C:\Documents and Settings\Admin\Рабочий стол\работа\презен\Рисунок10.jpg"/>
          <p:cNvPicPr/>
          <p:nvPr/>
        </p:nvPicPr>
        <p:blipFill>
          <a:blip r:embed="rId3"/>
          <a:stretch/>
        </p:blipFill>
        <p:spPr>
          <a:xfrm>
            <a:off x="2428920" y="4786200"/>
            <a:ext cx="1857240" cy="16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:\Documents and Settings\Admin\Рабочий стол\работа\презен\Рисунок11.jpg"/>
          <p:cNvPicPr/>
          <p:nvPr/>
        </p:nvPicPr>
        <p:blipFill>
          <a:blip r:embed="rId4"/>
          <a:stretch/>
        </p:blipFill>
        <p:spPr>
          <a:xfrm>
            <a:off x="3929040" y="4786200"/>
            <a:ext cx="27860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C:\Documents and Settings\Admin\Рабочий стол\работа\презен\Рисунок12.jpg"/>
          <p:cNvPicPr/>
          <p:nvPr/>
        </p:nvPicPr>
        <p:blipFill>
          <a:blip r:embed="rId5"/>
          <a:stretch/>
        </p:blipFill>
        <p:spPr>
          <a:xfrm>
            <a:off x="6724800" y="4786200"/>
            <a:ext cx="241920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new\Рабочий стол\фан\Рисунок7.jpg"/>
          <p:cNvPicPr/>
          <p:nvPr/>
        </p:nvPicPr>
        <p:blipFill>
          <a:blip r:embed="rId6"/>
          <a:stretch/>
        </p:blipFill>
        <p:spPr>
          <a:xfrm>
            <a:off x="0" y="917640"/>
            <a:ext cx="2457360" cy="161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\Рабочий стол\фан\Рисунок8.jpg"/>
          <p:cNvPicPr/>
          <p:nvPr/>
        </p:nvPicPr>
        <p:blipFill>
          <a:blip r:embed="rId7"/>
          <a:stretch/>
        </p:blipFill>
        <p:spPr>
          <a:xfrm>
            <a:off x="2448000" y="957240"/>
            <a:ext cx="248760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new\Рабочий стол\фан\Рисунок9.jpg"/>
          <p:cNvPicPr/>
          <p:nvPr/>
        </p:nvPicPr>
        <p:blipFill>
          <a:blip r:embed="rId8"/>
          <a:stretch/>
        </p:blipFill>
        <p:spPr>
          <a:xfrm>
            <a:off x="4929120" y="947880"/>
            <a:ext cx="21891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алендарь игр"/>
          <p:cNvPicPr/>
          <p:nvPr/>
        </p:nvPicPr>
        <p:blipFill>
          <a:blip r:embed="rId1"/>
          <a:stretch/>
        </p:blipFill>
        <p:spPr>
          <a:xfrm>
            <a:off x="324000" y="404640"/>
            <a:ext cx="858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9:21:40Z</dcterms:created>
  <dc:creator>Admin</dc:creator>
  <dc:description/>
  <dc:language>en-US</dc:language>
  <cp:lastModifiedBy>ZooM</cp:lastModifiedBy>
  <dcterms:modified xsi:type="dcterms:W3CDTF">2013-12-03T20:54:41Z</dcterms:modified>
  <cp:revision>18</cp:revision>
  <dc:subject/>
  <dc:title>Слайд 1</dc:title>
</cp:coreProperties>
</file>