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C943-611C-4989-B519-C56B7DAF3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90CD-E500-490F-9456-45BD0925D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6416-B5DE-4859-8B99-9F529277AB0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2F2-916A-4E3B-8B4C-539BE3F4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0E7-D614-497C-A613-85921D4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EF3-B6A4-4ACE-B935-2CB355B9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40A-F288-4DDF-837D-CF0C1B9C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B4C-5D86-4A08-ABD9-5DCDA661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A27-3183-407F-A3C3-32CB9409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EFE-379D-42CE-996F-476DC97D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2D0-F7BE-4B9E-B921-3C4E60E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E47-3FA5-4FAF-B5F3-6F01341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094-2805-475C-8D1D-EA224E0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F84-D6A3-45EF-A5F0-72DAAA1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4D7-E384-4F94-9A00-11EF3FE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84D-8CD9-4FB4-A8CC-D2F2A20C5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6"/>
          <p:cNvSpPr/>
          <p:nvPr/>
        </p:nvSpPr>
        <p:spPr>
          <a:xfrm>
            <a:off x="468360" y="547920"/>
            <a:ext cx="8207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Narrow"/>
                <a:ea typeface="MS PGothic"/>
              </a:rPr>
              <a:t>Чемпионат мира по футболу едет в Москву!</a:t>
            </a:r>
            <a:endParaRPr b="0" lang="en-US" sz="2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819520" y="1600200"/>
            <a:ext cx="396072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Официальная </a:t>
            </a:r>
            <a:r>
              <a:rPr b="1" lang="ru-RU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ФАНЗОНА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  <a:ea typeface="MS PGothic"/>
              </a:rPr>
              <a:t>FIFA</a:t>
            </a:r>
            <a:endParaRPr b="0" lang="en-US" sz="3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867040" y="2666880"/>
            <a:ext cx="6048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чемпионата мир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Narrow"/>
                <a:ea typeface="MS PGothic"/>
              </a:rPr>
              <a:t>по футболу </a:t>
            </a:r>
            <a:br>
              <a:rPr sz="2000"/>
            </a:br>
            <a:r>
              <a:rPr b="1" lang="ru-RU" sz="5400" spc="-1" strike="noStrike">
                <a:solidFill>
                  <a:srgbClr val="ffffff"/>
                </a:solidFill>
                <a:latin typeface="Arial Narrow"/>
                <a:ea typeface="MS PGothic"/>
              </a:rPr>
              <a:t>2010</a:t>
            </a:r>
            <a:r>
              <a:rPr b="1" lang="ru-RU" sz="5400" spc="-1" strike="noStrike">
                <a:solidFill>
                  <a:srgbClr val="ffffff"/>
                </a:solidFill>
                <a:latin typeface="HeliosC"/>
                <a:ea typeface="MS P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5435640" y="4902120"/>
            <a:ext cx="23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  <a:ea typeface="MS PGothic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Лужниках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4944960" y="543240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  <a:ea typeface="MS PGothic"/>
              </a:rPr>
              <a:t>11 июня – 11 июля</a:t>
            </a:r>
            <a:endParaRPr b="0" lang="en-US" sz="2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53" name="Picture 12" descr="cub.png"/>
          <p:cNvPicPr/>
          <p:nvPr/>
        </p:nvPicPr>
        <p:blipFill>
          <a:blip r:embed="rId1"/>
          <a:stretch/>
        </p:blipFill>
        <p:spPr>
          <a:xfrm>
            <a:off x="533520" y="1676520"/>
            <a:ext cx="2361960" cy="426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bool"/>
          <p:cNvPicPr/>
          <p:nvPr/>
        </p:nvPicPr>
        <p:blipFill>
          <a:blip r:embed="rId2"/>
          <a:stretch/>
        </p:blipFill>
        <p:spPr>
          <a:xfrm>
            <a:off x="1979640" y="480060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4137120" y="43797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УТБОЛЬНЫЙ ПАРК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ЭЛЕМЕНТЫ ФАНЗОНЫ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08" name="Picture 13" descr="DressroomOffice"/>
          <p:cNvPicPr/>
          <p:nvPr/>
        </p:nvPicPr>
        <p:blipFill>
          <a:blip r:embed="rId1"/>
          <a:stretch/>
        </p:blipFill>
        <p:spPr>
          <a:xfrm>
            <a:off x="627120" y="4221000"/>
            <a:ext cx="1944720" cy="1814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6"/>
          <p:cNvSpPr/>
          <p:nvPr/>
        </p:nvSpPr>
        <p:spPr>
          <a:xfrm>
            <a:off x="409680" y="105264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спортивной активност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468360" y="386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Раздевалки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2832120" y="61657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утбольное поле для турниров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300720" y="37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ФАН-бульв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300720" y="9255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Зона просмотра футбол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4" name="Picture 3" descr="C:\Documents and Settings\new\Рабочий стол\фан\Рисунок11.jpg"/>
          <p:cNvPicPr/>
          <p:nvPr/>
        </p:nvPicPr>
        <p:blipFill>
          <a:blip r:embed="rId2"/>
          <a:stretch/>
        </p:blipFill>
        <p:spPr>
          <a:xfrm>
            <a:off x="3214800" y="1643040"/>
            <a:ext cx="2752560" cy="248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new\Рабочий стол\фан\Рисунок10.jpg"/>
          <p:cNvPicPr/>
          <p:nvPr/>
        </p:nvPicPr>
        <p:blipFill>
          <a:blip r:embed="rId3"/>
          <a:stretch/>
        </p:blipFill>
        <p:spPr>
          <a:xfrm>
            <a:off x="457200" y="1643040"/>
            <a:ext cx="2185920" cy="1785960"/>
          </a:xfrm>
          <a:prstGeom prst="rect">
            <a:avLst/>
          </a:prstGeom>
          <a:ln w="0">
            <a:noFill/>
          </a:ln>
        </p:spPr>
      </p:pic>
      <p:sp>
        <p:nvSpPr>
          <p:cNvPr id="116" name="Line 17"/>
          <p:cNvSpPr/>
          <p:nvPr/>
        </p:nvSpPr>
        <p:spPr>
          <a:xfrm>
            <a:off x="1835280" y="2500200"/>
            <a:ext cx="280800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908000" y="2923920"/>
            <a:ext cx="2808360" cy="18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4357800" y="2355840"/>
            <a:ext cx="1071360" cy="128736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361" h="1859">
                <a:moveTo>
                  <a:pt x="953" y="1859"/>
                </a:moveTo>
                <a:lnTo>
                  <a:pt x="998" y="1360"/>
                </a:lnTo>
                <a:lnTo>
                  <a:pt x="817" y="1179"/>
                </a:lnTo>
                <a:lnTo>
                  <a:pt x="499" y="1542"/>
                </a:lnTo>
                <a:lnTo>
                  <a:pt x="46" y="1088"/>
                </a:lnTo>
                <a:lnTo>
                  <a:pt x="363" y="725"/>
                </a:lnTo>
                <a:lnTo>
                  <a:pt x="0" y="363"/>
                </a:lnTo>
                <a:lnTo>
                  <a:pt x="363" y="0"/>
                </a:lnTo>
                <a:lnTo>
                  <a:pt x="1361" y="998"/>
                </a:lnTo>
                <a:lnTo>
                  <a:pt x="1134" y="1224"/>
                </a:lnTo>
                <a:lnTo>
                  <a:pt x="1089" y="1678"/>
                </a:lnTo>
                <a:lnTo>
                  <a:pt x="953" y="1859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19" name="Picture 4" descr="C:\Documents and Settings\new\Рабочий стол\фан\Рисунок12.jpg"/>
          <p:cNvPicPr/>
          <p:nvPr/>
        </p:nvPicPr>
        <p:blipFill>
          <a:blip r:embed="rId4"/>
          <a:stretch/>
        </p:blipFill>
        <p:spPr>
          <a:xfrm>
            <a:off x="3276720" y="4357800"/>
            <a:ext cx="2643120" cy="1860480"/>
          </a:xfrm>
          <a:prstGeom prst="rect">
            <a:avLst/>
          </a:prstGeom>
          <a:ln w="0">
            <a:noFill/>
          </a:ln>
        </p:spPr>
      </p:pic>
      <p:sp>
        <p:nvSpPr>
          <p:cNvPr id="120" name="Line 20"/>
          <p:cNvSpPr/>
          <p:nvPr/>
        </p:nvSpPr>
        <p:spPr>
          <a:xfrm flipV="1">
            <a:off x="4643280" y="3213000"/>
            <a:ext cx="0" cy="216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1" name="Picture 5" descr="C:\Documents and Settings\new\Рабочий стол\фан\Рисунок13.jpg"/>
          <p:cNvPicPr/>
          <p:nvPr/>
        </p:nvPicPr>
        <p:blipFill>
          <a:blip r:embed="rId5"/>
          <a:stretch/>
        </p:blipFill>
        <p:spPr>
          <a:xfrm>
            <a:off x="6143760" y="1643040"/>
            <a:ext cx="2392200" cy="1928880"/>
          </a:xfrm>
          <a:prstGeom prst="rect">
            <a:avLst/>
          </a:prstGeom>
          <a:ln w="0">
            <a:noFill/>
          </a:ln>
        </p:spPr>
      </p:pic>
      <p:sp>
        <p:nvSpPr>
          <p:cNvPr id="122" name="Line 24"/>
          <p:cNvSpPr/>
          <p:nvPr/>
        </p:nvSpPr>
        <p:spPr>
          <a:xfrm flipH="1">
            <a:off x="5076360" y="2133720"/>
            <a:ext cx="1800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3" name="Picture 6" descr="C:\Documents and Settings\new\Рабочий стол\фан\Рисунок14.jpg"/>
          <p:cNvPicPr/>
          <p:nvPr/>
        </p:nvPicPr>
        <p:blipFill>
          <a:blip r:embed="rId6"/>
          <a:stretch/>
        </p:blipFill>
        <p:spPr>
          <a:xfrm>
            <a:off x="6357960" y="4357800"/>
            <a:ext cx="2000160" cy="2009520"/>
          </a:xfrm>
          <a:prstGeom prst="rect">
            <a:avLst/>
          </a:prstGeom>
          <a:ln w="0">
            <a:noFill/>
          </a:ln>
        </p:spPr>
      </p:pic>
      <p:sp>
        <p:nvSpPr>
          <p:cNvPr id="124" name="Line 23"/>
          <p:cNvSpPr/>
          <p:nvPr/>
        </p:nvSpPr>
        <p:spPr>
          <a:xfrm flipH="1" flipV="1">
            <a:off x="5138280" y="3475080"/>
            <a:ext cx="158436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26" name="Picture 8" descr="Рисунок32"/>
          <p:cNvPicPr/>
          <p:nvPr/>
        </p:nvPicPr>
        <p:blipFill>
          <a:blip r:embed="rId1"/>
          <a:stretch/>
        </p:blipFill>
        <p:spPr>
          <a:xfrm>
            <a:off x="250920" y="196920"/>
            <a:ext cx="8569080" cy="6400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ЛАН-СХЕМА РАЗМЕЩЕНИЯ ОБЪЕКТОВ ФУТБОЛЬНОГО ПАРКА 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ПОСЕТИТЕЛ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09600" y="852480"/>
            <a:ext cx="570240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жидается не менее 10 000 посетителей в день или порядка 300 000 посетителей за время работы парка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 дневное время среди гостями парка будут преимущественно школьники, 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и семьи с деть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осле рабочего дня и в выходные будут собираться преимущественно мужчины, многие с женами, подругами и сослуживицами.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циально-демографические характеристик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7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ужчин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/ 30%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женщины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18-50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лет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оход средний и выше среднего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студен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олодые специалист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менеджеры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госслужащие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белые воротнички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едприниматели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ни любят футбол. Многие занимались спортом в юности и продолжают играть в футбол на любительском уровне. Не все имеют любимый клуб, но все без исключения следят за выступлениями Российской Сборной. Большой Футбол – настоящий праздник для них. В парк их привлекает не только футбол, но и стремление вести активный образ жизни. Они любят проводить время с друзьями и единомышленниками, они интересуются новинками техники и спортивной экипировки, любят музыку.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31" name="Picture 7" descr="C:\Documents and Settings\Admin\Рабочий стол\работа\презен\Рисунок14.jpg"/>
          <p:cNvPicPr/>
          <p:nvPr/>
        </p:nvPicPr>
        <p:blipFill>
          <a:blip r:embed="rId1"/>
          <a:stretch/>
        </p:blipFill>
        <p:spPr>
          <a:xfrm>
            <a:off x="6000840" y="2214720"/>
            <a:ext cx="28224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981000"/>
            <a:ext cx="828036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Российским футбольным союзом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 соревнований, этапов соревнований или отдельно взятых матчей, включённых в календарный план Московской федерации футбола;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ведение детско-юношеских, любительских турниров включенных в календарный план Департамента массового футбола РФС: турнир по футболу среди детских деревень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OS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России, Турнир среди болельщиков «Забей гол, фанат!», Матчи первенства межнациональной футбольной лиги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цикла тренерских семинаров для футбольных тренеров Москвы и Московской области, а также специалистов-тренеров, работающих с детьми от Департамента образования города Москвы и Москомспорт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мастер-классов с профессиональными футболистами и ветеранами футбола, а также встречи учащихся ДЮСШ и СДЮШОР с ветеранами футбола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рганизация пресс-конференций, посвящённых мероприятиям РФС:                              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0 июня для участия в турнире в ЮАР будет отправлена команда-победитель всероссйиских соревнований по футболу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18 июня будет дан старт зональному этапу всероссийских соревнований по футболу среди команд  общеобразовательных учреждений «Кожаный мяч».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 Narrow"/>
              </a:rPr>
              <a:t>- 27 сентября для участия в «Кубке наций – «Данон» в ЮАР будут отправлены 2 детские команды-победители всероссийских соревнований по футболу «Кожаный мяч»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C:\Documents and Settings\new\Рабочий стол\фан\Рисунок22.jpg"/>
          <p:cNvPicPr/>
          <p:nvPr/>
        </p:nvPicPr>
        <p:blipFill>
          <a:blip r:embed="rId1"/>
          <a:stretch/>
        </p:blipFill>
        <p:spPr>
          <a:xfrm>
            <a:off x="3071880" y="5072040"/>
            <a:ext cx="286524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:\Documents and Settings\new\Рабочий стол\фан\Рисунок21.jpg"/>
          <p:cNvPicPr/>
          <p:nvPr/>
        </p:nvPicPr>
        <p:blipFill>
          <a:blip r:embed="rId2"/>
          <a:stretch/>
        </p:blipFill>
        <p:spPr>
          <a:xfrm>
            <a:off x="3571920" y="2786040"/>
            <a:ext cx="322272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new\Рабочий стол\фан\Рисунок20.jpg"/>
          <p:cNvPicPr/>
          <p:nvPr/>
        </p:nvPicPr>
        <p:blipFill>
          <a:blip r:embed="rId3"/>
          <a:stretch/>
        </p:blipFill>
        <p:spPr>
          <a:xfrm>
            <a:off x="0" y="4830840"/>
            <a:ext cx="3071880" cy="202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new\Рабочий стол\фан\Рисунок18.jpg"/>
          <p:cNvPicPr/>
          <p:nvPr/>
        </p:nvPicPr>
        <p:blipFill>
          <a:blip r:embed="rId4"/>
          <a:stretch/>
        </p:blipFill>
        <p:spPr>
          <a:xfrm>
            <a:off x="0" y="785880"/>
            <a:ext cx="357192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new\Рабочий стол\фан\Рисунок17.jpg"/>
          <p:cNvPicPr/>
          <p:nvPr/>
        </p:nvPicPr>
        <p:blipFill>
          <a:blip r:embed="rId5"/>
          <a:stretch/>
        </p:blipFill>
        <p:spPr>
          <a:xfrm>
            <a:off x="3500280" y="785880"/>
            <a:ext cx="321480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237960" y="39060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1" name="Picture 2" descr="C:\Documents and Settings\new\Рабочий стол\фан\Рисунок15.jpg"/>
          <p:cNvPicPr/>
          <p:nvPr/>
        </p:nvPicPr>
        <p:blipFill>
          <a:blip r:embed="rId6"/>
          <a:stretch/>
        </p:blipFill>
        <p:spPr>
          <a:xfrm>
            <a:off x="5929200" y="4714920"/>
            <a:ext cx="32115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\Рабочий стол\фан\Рисунок16.jpg"/>
          <p:cNvPicPr/>
          <p:nvPr/>
        </p:nvPicPr>
        <p:blipFill>
          <a:blip r:embed="rId7"/>
          <a:stretch/>
        </p:blipFill>
        <p:spPr>
          <a:xfrm>
            <a:off x="6715080" y="776160"/>
            <a:ext cx="2452680" cy="3938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new\Рабочий стол\фан\Рисунок19.jpg"/>
          <p:cNvPicPr/>
          <p:nvPr/>
        </p:nvPicPr>
        <p:blipFill>
          <a:blip r:embed="rId8"/>
          <a:stretch/>
        </p:blipFill>
        <p:spPr>
          <a:xfrm>
            <a:off x="0" y="2786040"/>
            <a:ext cx="37101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1280" y="1125360"/>
            <a:ext cx="41050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 с Департаментом физической культуры и спорта г. Москвы: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Чемпионат СМИ по футболу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дипломатов (для работников дипломатических агентств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наций (участники – иностранные диаспоры в Росс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арламентские игры по футболу (представители Государственной думы и Совета Федерации)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убок по футболу на призы Льва Яшин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урнир по футболу для инвалидов «Преодоление»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утбольный турнир с участием ветеранов спорта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47" name="Picture 2" descr="C:\Documents and Settings\new\Рабочий стол\фан\Рисунок23.jpg"/>
          <p:cNvPicPr/>
          <p:nvPr/>
        </p:nvPicPr>
        <p:blipFill>
          <a:blip r:embed="rId1"/>
          <a:stretch/>
        </p:blipFill>
        <p:spPr>
          <a:xfrm>
            <a:off x="5286240" y="4784760"/>
            <a:ext cx="3071880" cy="1832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\Рабочий стол\фан\Рисунок24.jpg"/>
          <p:cNvPicPr/>
          <p:nvPr/>
        </p:nvPicPr>
        <p:blipFill>
          <a:blip r:embed="rId2"/>
          <a:stretch/>
        </p:blipFill>
        <p:spPr>
          <a:xfrm>
            <a:off x="5295960" y="2786040"/>
            <a:ext cx="3043080" cy="1963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new\Рабочий стол\фан\Рисунок25.jpg"/>
          <p:cNvPicPr/>
          <p:nvPr/>
        </p:nvPicPr>
        <p:blipFill>
          <a:blip r:embed="rId3"/>
          <a:stretch/>
        </p:blipFill>
        <p:spPr>
          <a:xfrm>
            <a:off x="5286240" y="830160"/>
            <a:ext cx="3024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new\Рабочий стол\фан\Рисунок26.jpg"/>
          <p:cNvPicPr/>
          <p:nvPr/>
        </p:nvPicPr>
        <p:blipFill>
          <a:blip r:embed="rId1"/>
          <a:stretch/>
        </p:blipFill>
        <p:spPr>
          <a:xfrm>
            <a:off x="2071800" y="3500280"/>
            <a:ext cx="4673520" cy="3357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ПОРТИВНЫЕ МЕРОПРИЯТИЯ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2" name="Picture 11" descr="C:\Documents and Settings\Admin\Рабочий стол\работа\презен\Рисунок17.jpg"/>
          <p:cNvPicPr/>
          <p:nvPr/>
        </p:nvPicPr>
        <p:blipFill>
          <a:blip r:embed="rId2"/>
          <a:stretch/>
        </p:blipFill>
        <p:spPr>
          <a:xfrm>
            <a:off x="0" y="3571920"/>
            <a:ext cx="2071800" cy="328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C:\Documents and Settings\Admin\Рабочий стол\работа\презен\Рисунок19.jpg"/>
          <p:cNvPicPr/>
          <p:nvPr/>
        </p:nvPicPr>
        <p:blipFill>
          <a:blip r:embed="rId3"/>
          <a:stretch/>
        </p:blipFill>
        <p:spPr>
          <a:xfrm>
            <a:off x="6286680" y="3571920"/>
            <a:ext cx="2857320" cy="32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new\Рабочий стол\фан\Рисунок27.jpg"/>
          <p:cNvPicPr/>
          <p:nvPr/>
        </p:nvPicPr>
        <p:blipFill>
          <a:blip r:embed="rId4"/>
          <a:stretch/>
        </p:blipFill>
        <p:spPr>
          <a:xfrm>
            <a:off x="4786200" y="714240"/>
            <a:ext cx="438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\Рабочий стол\фан\Рисунок28.jpg"/>
          <p:cNvPicPr/>
          <p:nvPr/>
        </p:nvPicPr>
        <p:blipFill>
          <a:blip r:embed="rId5"/>
          <a:stretch/>
        </p:blipFill>
        <p:spPr>
          <a:xfrm>
            <a:off x="-1440" y="714240"/>
            <a:ext cx="4802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РЕКЛАМНОЙ КАМПАНИИ ФУТБОЛЬНОГО ПАРКА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58" name="Picture 2" descr="C:\Documents and Settings\new\Рабочий стол\фан\Рисунок29.jpg"/>
          <p:cNvPicPr/>
          <p:nvPr/>
        </p:nvPicPr>
        <p:blipFill>
          <a:blip r:embed="rId1"/>
          <a:stretch/>
        </p:blipFill>
        <p:spPr>
          <a:xfrm>
            <a:off x="428760" y="1357200"/>
            <a:ext cx="8142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8436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  <a:ea typeface="MS PGothic"/>
              </a:rPr>
              <a:t>ДО ВСТРЕЧИ В ЛУЖНИКАХ!</a:t>
            </a:r>
            <a:endParaRPr b="0" lang="en-US" sz="4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160" name="Picture 5" descr="C:\Documents and Settings\Admin\Рабочий стол\работа\презен\Рисунок21.jpg"/>
          <p:cNvPicPr/>
          <p:nvPr/>
        </p:nvPicPr>
        <p:blipFill>
          <a:blip r:embed="rId1"/>
          <a:stretch/>
        </p:blipFill>
        <p:spPr>
          <a:xfrm>
            <a:off x="642960" y="1643040"/>
            <a:ext cx="7866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5"/>
          <p:cNvSpPr/>
          <p:nvPr/>
        </p:nvSpPr>
        <p:spPr>
          <a:xfrm>
            <a:off x="214200" y="142920"/>
            <a:ext cx="8535960" cy="63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2009 году Россия впервые в своей истории представила свою кандидатуру на право проведения Чемпионата мира по футболу ФИФА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2018-2022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 Правительство России объявило решение этой амбициозной задачи национальным приоритетом, что требует сложной и интенсивной подготовки со стороны страны-кандидат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4000" y="4941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сегодняшний день заявки на участие в Чемпионате мира по футболу подали: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8-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оссия, Австралия, Бельгия и Нидерланды, Англия, Япония, Испания и Португалия, США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22 год: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рея, Индонезия, Кватар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37960" y="404640"/>
            <a:ext cx="714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ЧЕМПИОНАТ МИРА ПО ФУТБОЛУ 2018-2022 ГОДА – В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0" name="Picture 10" descr="C:\Documents and Settings\Admin\Рабочий стол\работа\презен\Рисунок23.jpg"/>
          <p:cNvPicPr/>
          <p:nvPr/>
        </p:nvPicPr>
        <p:blipFill>
          <a:blip r:embed="rId1"/>
          <a:stretch/>
        </p:blipFill>
        <p:spPr>
          <a:xfrm>
            <a:off x="2786040" y="2371680"/>
            <a:ext cx="3571920" cy="23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C:\Documents and Settings\new\Рабочий стол\фан\Рисунок4.jpg"/>
          <p:cNvPicPr/>
          <p:nvPr/>
        </p:nvPicPr>
        <p:blipFill>
          <a:blip r:embed="rId2"/>
          <a:stretch/>
        </p:blipFill>
        <p:spPr>
          <a:xfrm>
            <a:off x="6357960" y="2357280"/>
            <a:ext cx="2786040" cy="233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new\Рабочий стол\фан\Рисунок1.jpg"/>
          <p:cNvPicPr/>
          <p:nvPr/>
        </p:nvPicPr>
        <p:blipFill>
          <a:blip r:embed="rId3"/>
          <a:stretch/>
        </p:blipFill>
        <p:spPr>
          <a:xfrm>
            <a:off x="-3240" y="2357280"/>
            <a:ext cx="2901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осква - спортивная столица России, в городе много различных спортивных сооружений. Москва принимала Олимпийские игры, финал Лиги Чемпионов УЕФА, в 2013 г. здесь пройдёт Чемпионат мира по лёгкой атлетике. Столица России представлена несколькими клубами, выступающими в российской футбольной Премьер лиге, среди них - «Спартак», «ЦСКА», футбольные клубы «Динамо» и «Москва», ФК «Локомотив» и ФК «Химки»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37960" y="404640"/>
            <a:ext cx="57024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ОСКВА – СПОРТИВНАЯ СТОЛИЦА РОССИИ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556000" y="5300640"/>
            <a:ext cx="6121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"Было бы счастье принять у себя Чемпионат мира. Мы смогли бы принять чемпионат 2018 или 2022 года вполне. Мы умеем решать задачи».   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эр Москвы, Юрий Лужков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67" name="Picture 16" descr="Рисунок4"/>
          <p:cNvPicPr/>
          <p:nvPr/>
        </p:nvPicPr>
        <p:blipFill>
          <a:blip r:embed="rId1"/>
          <a:stretch/>
        </p:blipFill>
        <p:spPr>
          <a:xfrm>
            <a:off x="0" y="2708280"/>
            <a:ext cx="4284720" cy="23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Рисунок5"/>
          <p:cNvPicPr/>
          <p:nvPr/>
        </p:nvPicPr>
        <p:blipFill>
          <a:blip r:embed="rId2"/>
          <a:stretch/>
        </p:blipFill>
        <p:spPr>
          <a:xfrm>
            <a:off x="4035600" y="2708280"/>
            <a:ext cx="5108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2400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ача заявки на проведение Чемпионата мира по футболу - это сложный и интенсивный процесс подготовки со стороны страны-кандидата, получения правительственных гарантий, ведения международной PR-кампании, участия в крупнейших международных спортивных форумах, проведения промо-мероприятий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7960" y="4046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95280" y="52293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ним из критериев выбора страны-победителя являетс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личие цивилизованной ФАНЗОНЫ,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которая способствуют единению болельщиков всех стран мира и создает мощную платформу для развития футбола и укрепления такого уникального бренда, каким является Чемпионат Мира ФИФА.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3" name="Picture 7" descr="C:\Documents and Settings\Admin\Рабочий стол\работа\презен\Рисунок24.jpg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3" descr="Рисунок10"/>
          <p:cNvPicPr/>
          <p:nvPr/>
        </p:nvPicPr>
        <p:blipFill>
          <a:blip r:embed="rId1"/>
          <a:stretch/>
        </p:blipFill>
        <p:spPr>
          <a:xfrm>
            <a:off x="0" y="4662360"/>
            <a:ext cx="6659640" cy="21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237960" y="219240"/>
            <a:ext cx="82947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ФАНЗОНЫ ЧЕМПИОНАТА МИРА ПО ФУТБОЛУ 2010 В ДРУГИХ СТРАНАХ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3000240"/>
            <a:ext cx="914400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50920" y="3043080"/>
            <a:ext cx="87138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Опыт проведения Чемпионата мира в Германии 2006 года и Евро-2008 в Австрии и Швейцарии показал, что большинство болельщиков смотрят трансляцию футбольных матчей на открытых площадках, а не внутри стадиона. Поэтому ФИФА разработало специальную концепцию  мероприятия для любителей футбола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и успешно проводит подобное событие по всему миру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К сожалению, Россия не получила официального статуса на организацию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A Fan Fest 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М в июне-июле 2010 года. Это право досталось таким мировым столицам, как Берлин, Лондон, Мехико, Париж, Рио-де-Жанейро, Рим и Сидней. </a:t>
            </a:r>
            <a:endParaRPr b="0" lang="en-US" sz="14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78" name="Picture 2" descr="C:\Documents and Settings\new\Рабочий стол\фан\Рисунок2.jpg"/>
          <p:cNvPicPr/>
          <p:nvPr/>
        </p:nvPicPr>
        <p:blipFill>
          <a:blip r:embed="rId2"/>
          <a:stretch/>
        </p:blipFill>
        <p:spPr>
          <a:xfrm>
            <a:off x="6572160" y="822240"/>
            <a:ext cx="2568600" cy="217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new\Рабочий стол\фан\Рисунок3.jpg"/>
          <p:cNvPicPr/>
          <p:nvPr/>
        </p:nvPicPr>
        <p:blipFill>
          <a:blip r:embed="rId3"/>
          <a:stretch/>
        </p:blipFill>
        <p:spPr>
          <a:xfrm>
            <a:off x="0" y="819000"/>
            <a:ext cx="266076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:\Documents and Settings\new\Рабочий стол\фан\Рисунок4.jpg"/>
          <p:cNvPicPr/>
          <p:nvPr/>
        </p:nvPicPr>
        <p:blipFill>
          <a:blip r:embed="rId4"/>
          <a:stretch/>
        </p:blipFill>
        <p:spPr>
          <a:xfrm>
            <a:off x="2652840" y="820800"/>
            <a:ext cx="3981240" cy="217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new\Рабочий стол\фан\Рисунок5.jpg"/>
          <p:cNvPicPr/>
          <p:nvPr/>
        </p:nvPicPr>
        <p:blipFill>
          <a:blip r:embed="rId5"/>
          <a:stretch/>
        </p:blipFill>
        <p:spPr>
          <a:xfrm>
            <a:off x="6643800" y="4727520"/>
            <a:ext cx="2500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37960" y="219240"/>
            <a:ext cx="858204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ФИЦИАЛЬНАЯ ФАНЗОНА ЧЕМПИОНАТА МИРА ПО ФУТБОЛУ 2010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997360"/>
            <a:ext cx="914400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0920" y="3043080"/>
            <a:ext cx="87138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днако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 нашей страны есть реальный шанс сделать подобную ФАНЗОНУ самостоятельно и тем самым продемонстрировать миру новую, динамичную и молодую Россию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Данный проект может стать одним из главных элементов международной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-компании, проводимой Заявочным комитетом и усилить финальную презентацию России в декабре 2010 года в штаб-квартире ФИФА в Цюрихе. Русская ФАНЗОНА имеет все шансы стать одним из показательных проектов во время визита инспекционной комиссии ФИФА в Россию в июле-августе 2010 года.</a:t>
            </a:r>
            <a:r>
              <a:rPr b="0" lang="ru-RU" sz="18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85" name="Picture 10" descr="C:\Documents and Settings\Admin\Рабочий стол\работа\презен\Рисунок1.jpg"/>
          <p:cNvPicPr/>
          <p:nvPr/>
        </p:nvPicPr>
        <p:blipFill>
          <a:blip r:embed="rId1"/>
          <a:stretch/>
        </p:blipFill>
        <p:spPr>
          <a:xfrm>
            <a:off x="0" y="642960"/>
            <a:ext cx="6572160" cy="23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Admin\Рабочий стол\работа\презен\Рисунок2.jpg"/>
          <p:cNvPicPr/>
          <p:nvPr/>
        </p:nvPicPr>
        <p:blipFill>
          <a:blip r:embed="rId2"/>
          <a:stretch/>
        </p:blipFill>
        <p:spPr>
          <a:xfrm>
            <a:off x="6537240" y="642960"/>
            <a:ext cx="2606760" cy="2357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Documents and Settings\Admin\Рабочий стол\работа\презен\Рисунок3.jpg"/>
          <p:cNvPicPr/>
          <p:nvPr/>
        </p:nvPicPr>
        <p:blipFill>
          <a:blip r:embed="rId3"/>
          <a:stretch/>
        </p:blipFill>
        <p:spPr>
          <a:xfrm>
            <a:off x="0" y="4640400"/>
            <a:ext cx="4929120" cy="221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new\Рабочий стол\фан\Рисунок6.jpg"/>
          <p:cNvPicPr/>
          <p:nvPr/>
        </p:nvPicPr>
        <p:blipFill>
          <a:blip r:embed="rId4"/>
          <a:stretch/>
        </p:blipFill>
        <p:spPr>
          <a:xfrm>
            <a:off x="4929120" y="4643280"/>
            <a:ext cx="4214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24000" y="1052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лавным спортивным сооружением, которое входит в заявку на проведение Кубка Мира ФИФА и открыто уже сегодня, является стадион «Лужники». Здесь пройдет первый матч первенства планеты и финал чемпионата. Полное название этого крытого стадиона - «Большая спортивная арена Олимпийского комплекса «Лужники»», на сегодняшний день его вместимость достигает 80 000 человек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СТАДИОН «ЛУЖНИКИ» - МЕСТО ОФИЦИАЛЬНОЙ ФАНЗОНЫ В МОСКВЕ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5280" y="522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рамках подготовки к проведению Кубка Мира ФИФА запланирована масштабная модернизация стадиона, благодаря которой большая арена «Лужников» станет настоящей жемчужиной, венчающей корону инфраструктуры российского футбола.</a:t>
            </a: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3" name="Picture 8" descr="C:\Documents and Settings\Admin\Рабочий стол\работа\презен\Рисунок5.jpg"/>
          <p:cNvPicPr/>
          <p:nvPr/>
        </p:nvPicPr>
        <p:blipFill>
          <a:blip r:embed="rId1"/>
          <a:stretch/>
        </p:blipFill>
        <p:spPr>
          <a:xfrm>
            <a:off x="1285920" y="2786040"/>
            <a:ext cx="61437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260280"/>
            <a:ext cx="856908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37960" y="404640"/>
            <a:ext cx="807912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КОНЦЕПЦИЯ ФУТБОЛЬНОГО ПАРКА В «ЛУЖНИКАХ»</a:t>
            </a:r>
            <a:endParaRPr b="0" lang="en-US" sz="2000" spc="-1" strike="noStrike">
              <a:solidFill>
                <a:srgbClr val="000000"/>
              </a:solidFill>
              <a:latin typeface="Imprint MT Shadow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0920" y="2521080"/>
            <a:ext cx="849780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Футбольный парк будет работать ежедневно на протяжении всего Чемпионата Мира –                                                            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июня по 11 июля 2010 г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ут работать кафе, установлены футбольные площадки и аттракционы, где каждый желающий в течение дня сможет развлечься и проверить свои силы в искусстве владения мячом. 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В течение дня на сцене, установленной рядом с экранами, будет проходить развлекательная программа, будут проводиться конкурсы, выступать Ди Джеи, спортсмены и разыгрываться призы и подарк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футбольных площадках будут проходить матчи корпоративной футбольной лиги и юношеские турниры.                            Гостями турниров станут известные футболисты и ветераны футбола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- На территории парка будет организован детский городок с различными аттракционами.</a:t>
            </a: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Imprint MT Shadow"/>
            </a:endParaRPr>
          </a:p>
        </p:txBody>
      </p:sp>
      <p:pic>
        <p:nvPicPr>
          <p:cNvPr id="97" name="Picture 16" descr="C:\Documents and Settings\Admin\Рабочий стол\работа\презен\Рисунок8.jpg"/>
          <p:cNvPicPr/>
          <p:nvPr/>
        </p:nvPicPr>
        <p:blipFill>
          <a:blip r:embed="rId1"/>
          <a:stretch/>
        </p:blipFill>
        <p:spPr>
          <a:xfrm>
            <a:off x="7081920" y="957240"/>
            <a:ext cx="2071440" cy="152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C:\Documents and Settings\Admin\Рабочий стол\работа\презен\Рисунок9.jpg"/>
          <p:cNvPicPr/>
          <p:nvPr/>
        </p:nvPicPr>
        <p:blipFill>
          <a:blip r:embed="rId2"/>
          <a:stretch/>
        </p:blipFill>
        <p:spPr>
          <a:xfrm>
            <a:off x="0" y="4786200"/>
            <a:ext cx="2500200" cy="1606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C:\Documents and Settings\Admin\Рабочий стол\работа\презен\Рисунок10.jpg"/>
          <p:cNvPicPr/>
          <p:nvPr/>
        </p:nvPicPr>
        <p:blipFill>
          <a:blip r:embed="rId3"/>
          <a:stretch/>
        </p:blipFill>
        <p:spPr>
          <a:xfrm>
            <a:off x="2428920" y="4786200"/>
            <a:ext cx="1857240" cy="16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:\Documents and Settings\Admin\Рабочий стол\работа\презен\Рисунок11.jpg"/>
          <p:cNvPicPr/>
          <p:nvPr/>
        </p:nvPicPr>
        <p:blipFill>
          <a:blip r:embed="rId4"/>
          <a:stretch/>
        </p:blipFill>
        <p:spPr>
          <a:xfrm>
            <a:off x="3929040" y="4786200"/>
            <a:ext cx="27860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C:\Documents and Settings\Admin\Рабочий стол\работа\презен\Рисунок12.jpg"/>
          <p:cNvPicPr/>
          <p:nvPr/>
        </p:nvPicPr>
        <p:blipFill>
          <a:blip r:embed="rId5"/>
          <a:stretch/>
        </p:blipFill>
        <p:spPr>
          <a:xfrm>
            <a:off x="6724800" y="4786200"/>
            <a:ext cx="241920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new\Рабочий стол\фан\Рисунок7.jpg"/>
          <p:cNvPicPr/>
          <p:nvPr/>
        </p:nvPicPr>
        <p:blipFill>
          <a:blip r:embed="rId6"/>
          <a:stretch/>
        </p:blipFill>
        <p:spPr>
          <a:xfrm>
            <a:off x="0" y="917640"/>
            <a:ext cx="2457360" cy="161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\Рабочий стол\фан\Рисунок8.jpg"/>
          <p:cNvPicPr/>
          <p:nvPr/>
        </p:nvPicPr>
        <p:blipFill>
          <a:blip r:embed="rId7"/>
          <a:stretch/>
        </p:blipFill>
        <p:spPr>
          <a:xfrm>
            <a:off x="2448000" y="957240"/>
            <a:ext cx="248760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new\Рабочий стол\фан\Рисунок9.jpg"/>
          <p:cNvPicPr/>
          <p:nvPr/>
        </p:nvPicPr>
        <p:blipFill>
          <a:blip r:embed="rId8"/>
          <a:stretch/>
        </p:blipFill>
        <p:spPr>
          <a:xfrm>
            <a:off x="4929120" y="947880"/>
            <a:ext cx="21891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алендарь игр"/>
          <p:cNvPicPr/>
          <p:nvPr/>
        </p:nvPicPr>
        <p:blipFill>
          <a:blip r:embed="rId1"/>
          <a:stretch/>
        </p:blipFill>
        <p:spPr>
          <a:xfrm>
            <a:off x="324000" y="404640"/>
            <a:ext cx="858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9:21:40Z</dcterms:created>
  <dc:creator>Admin</dc:creator>
  <dc:description/>
  <dc:language>en-US</dc:language>
  <cp:lastModifiedBy>ZooM</cp:lastModifiedBy>
  <dcterms:modified xsi:type="dcterms:W3CDTF">2013-12-03T20:54:41Z</dcterms:modified>
  <cp:revision>18</cp:revision>
  <dc:subject/>
  <dc:title>Слайд 1</dc:title>
</cp:coreProperties>
</file>