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E98-0275-42B2-B588-A4142F8A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9BB-990E-4337-A0FD-2B72FA59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19D-3C96-4F38-BF53-E949E1B7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8DB-3BA3-4345-9D08-8CEBBF06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BF0E-5841-4F35-829E-16EB817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8C8D-A348-4B57-9060-BF43C8D1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923-1934-42F2-ABA5-D7F2B59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9CF7-BBE7-471F-9249-1FE5948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32E-6604-4CEA-8003-5D4C47B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1F57-9D3E-48EC-8E1E-03871AA2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9054-F7F6-43CC-AA5E-ED6AEA7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91E-A708-49F2-8A39-544C2A2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58BA-A27C-4E12-8797-BED483B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11AB-89DC-4C15-BB81-0CC990C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29F0-B9AA-4366-B80D-2A0C29E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C83-417B-4EDB-A0F5-0D61BF28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512-A3E1-46CD-951A-3134D77A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19A-9A28-4D04-A3BE-FE1A635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4D9-6BF5-49F1-8CC1-4F1BC52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03B-D800-422F-909E-57A89799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742-7859-4BDC-95A0-9DB4492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F2F-17CA-4EBB-981F-7A0952A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EFE-0ACA-400B-838C-F5F56A1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D98-3F8C-4B38-96C3-3A86814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FAF6-13DC-4C47-9B48-5E2885FDAA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3A2F-7ABA-4F02-89A4-14E5E41262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692280"/>
            <a:ext cx="81378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Атмосферные фронты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клоны и антициклоны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576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616572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краев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6160" cy="566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5734080"/>
            <a:ext cx="8064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 воздух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ручивается против часовой стрелки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42328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24000" y="5589720"/>
            <a:ext cx="84247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в центре поднимается по спирали вверх,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 и вновь начинает движение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5516640"/>
            <a:ext cx="882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одъеме воздух охлаждается, становится 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лажнее, образуются облака и выпадают осадк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С циклонами связана неустойчивая, ветреная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года с осадкам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50920" y="6093000"/>
            <a:ext cx="862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антициклона давление самое высокое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24000" y="6365880"/>
            <a:ext cx="849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центра к краям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6160" cy="604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закручивается по часовой стрелке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альной части воздух опускается,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, поднимается 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инает движение к центру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9280" y="5445000"/>
            <a:ext cx="87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опускании воздух нагревается, иссушаетс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лака отсутствуют, небо ясное. С антициклоном 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ана солнечная погода без осадков, при этом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м - жаркая, а зимой - холодна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260280"/>
          <a:ext cx="8569080" cy="561204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ти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 низким 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высоким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 окраин  к  центру  против  часовой  стрелк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центра  к окраинам  по  часовой  стрелк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во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ни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изменчивая,  ветреная,  облачная,  с  осадками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устойчивая,  безветренная,  безоблачная,  без осадков.  Летом -тёплая, зимой - морозн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9079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76280"/>
            <a:ext cx="88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Атмосферный фрон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это полоса, разделяющая разные по своим свойствам воздушные массы. Ширина фронтов достигает нескольких десятков километров. На фронтах всегда происходит смена температуры, облачности, давления воздуха – смена погоды. Атмосферные фронты разделяются на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тепл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и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холодн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0" b="31288"/>
          <a:stretch/>
        </p:blipFill>
        <p:spPr>
          <a:xfrm>
            <a:off x="304920" y="1152360"/>
            <a:ext cx="5346720" cy="429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684360" y="304920"/>
            <a:ext cx="7772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иноптическая  кар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8320" y="1064880"/>
            <a:ext cx="317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Какое  время  г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ображено  на  карт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Где  на  территори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раны  самое  низкое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влени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Сколько  циклонов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антициклонов)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фиксировано  на  карте?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Где  отмечается  наиболее  низкая  температура  и  чему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а  рав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Какое  состояние  неб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обладает  над  страно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9132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Где  над  территорией  страны  отмечается  безоблачное  небо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Для  чего  составляются  синоптические  карты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71640" y="1052640"/>
            <a:ext cx="72723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граф 15.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564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566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Теплый фрон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образуется, когда теплый воздух движется в сторону холодного, оттесняя е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444600"/>
            <a:ext cx="8209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7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5445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Холодный фронт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бразуется при перемещении холодного воздуха в сторону тепло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5400"/>
            <a:ext cx="8569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77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50920" y="1268280"/>
          <a:ext cx="8569080" cy="541512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ый фрон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Проникает  клином,  выталкивая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--  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47628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844640"/>
            <a:ext cx="8713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 - это крупны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тмосферные вихри, переносящи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душные массы. На картах они выделяются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кнутыми концентрическими изобарами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линиями равного давления).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93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4360" y="6093000"/>
            <a:ext cx="79930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циклона давление самое низкое. 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0:35:39Z</dcterms:created>
  <dc:creator>xxx</dc:creator>
  <dc:description/>
  <dc:language>en-US</dc:language>
  <cp:lastModifiedBy>Admin</cp:lastModifiedBy>
  <dcterms:modified xsi:type="dcterms:W3CDTF">2009-01-12T18:07:12Z</dcterms:modified>
  <cp:revision>3</cp:revision>
  <dc:subject/>
  <dc:title>Слайд 1</dc:title>
</cp:coreProperties>
</file>