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40E-6AD3-4FDE-ADCA-2FB5922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C26-6C6F-43E1-BEE8-F8C1C9E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FA9-709C-4867-BAEC-C80DE2C0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787-91A5-488B-ABC4-69BA1691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EE6-3772-4E73-B601-88036718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660E-C46B-4BC3-AE46-ACBDD02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0A4B-EC17-4DC5-8979-D609A934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517-7CF1-4307-B756-4264550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6D18-6302-4B8A-821B-4F65D11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3D82-08CB-45D1-81C5-F1374EF3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0AF-F4D7-4A78-9C1D-CB7F1BA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DEA-7959-40E3-AC1A-462873B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D07-1AA4-479E-93A6-7D48AF0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39B-6C86-4FDB-8EE8-1365B42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642D-CA55-41FA-AD97-A705169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A715-15EB-4811-AEA3-BAF9F9CA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6424-BC39-4DCC-A74D-99525E1E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216-D689-47F9-B8FC-F12FDFD7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ED0-911E-4B36-989D-3E7C4469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727-B471-471A-8F52-9F4F1DDA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06F-CB7A-4C1D-98B0-37730CDB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804-2578-4170-BBE4-DF9628B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1EB-794E-4B5E-BA70-62FC32B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5CD-5135-439F-A5C6-5E53A6E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A802-DEDB-4FAD-AFA8-A086CE3C6C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91B-6A51-4C09-BEEF-FE01E2E933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692280"/>
            <a:ext cx="81378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Атмосферные фронты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клоны и антициклоны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576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616572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краев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6160" cy="566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5734080"/>
            <a:ext cx="8064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 воздух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ручивается против часовой стрелки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42328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24000" y="5589720"/>
            <a:ext cx="84247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в центре поднимается по спирали вверх,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 и вновь начинает движение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5516640"/>
            <a:ext cx="882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одъеме воздух охлаждается, становится 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лажнее, образуются облака и выпадают осадк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С циклонами связана неустойчивая, ветреная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года с осадкам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50920" y="6093000"/>
            <a:ext cx="862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антициклона давление самое высокое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24000" y="6365880"/>
            <a:ext cx="849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центра к краям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6160" cy="604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закручивается по часовой стрелке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альной части воздух опускается,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, поднимается 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инает движение к центру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9280" y="5445000"/>
            <a:ext cx="87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опускании воздух нагревается, иссушаетс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лака отсутствуют, небо ясное. С антициклоном 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ана солнечная погода без осадков, при этом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м - жаркая, а зимой - холодна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260280"/>
          <a:ext cx="8569080" cy="561204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ти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 низким 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высоким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 окраин  к  центру  против  часовой  стрелк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центра  к окраинам  по  часовой  стрелк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во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ни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изменчивая,  ветреная,  облачная,  с  осадками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устойчивая,  безветренная,  безоблачная,  без осадков.  Летом -тёплая, зимой - морозн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9079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76280"/>
            <a:ext cx="88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Атмосферный фрон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это полоса, разделяющая разные по своим свойствам воздушные массы. Ширина фронтов достигает нескольких десятков километров. На фронтах всегда происходит смена температуры, облачности, давления воздуха – смена погоды. Атмосферные фронты разделяются на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тепл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и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холодн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0" b="31288"/>
          <a:stretch/>
        </p:blipFill>
        <p:spPr>
          <a:xfrm>
            <a:off x="304920" y="1152360"/>
            <a:ext cx="5346720" cy="429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684360" y="304920"/>
            <a:ext cx="7772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иноптическая  кар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8320" y="1064880"/>
            <a:ext cx="317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Какое  время  г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ображено  на  карт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Где  на  территори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раны  самое  низкое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влени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Сколько  циклонов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антициклонов)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фиксировано  на  карте?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Где  отмечается  наиболее  низкая  температура  и  чему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а  рав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Какое  состояние  неб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обладает  над  страно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9132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Где  над  территорией  страны  отмечается  безоблачное  небо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Для  чего  составляются  синоптические  карты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71640" y="1052640"/>
            <a:ext cx="72723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граф 15.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564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566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Теплый фрон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образуется, когда теплый воздух движется в сторону холодного, оттесняя е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444600"/>
            <a:ext cx="8209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7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5445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Холодный фронт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бразуется при перемещении холодного воздуха в сторону тепло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5400"/>
            <a:ext cx="8569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77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50920" y="1268280"/>
          <a:ext cx="8569080" cy="541512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ый фрон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Проникает  клином,  выталкивая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--  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47628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844640"/>
            <a:ext cx="8713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 - это крупны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тмосферные вихри, переносящи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душные массы. На картах они выделяются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кнутыми концентрическими изобарами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линиями равного давления).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93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4360" y="6093000"/>
            <a:ext cx="79930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циклона давление самое низкое. 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0:35:39Z</dcterms:created>
  <dc:creator>xxx</dc:creator>
  <dc:description/>
  <dc:language>en-US</dc:language>
  <cp:lastModifiedBy>Admin</cp:lastModifiedBy>
  <dcterms:modified xsi:type="dcterms:W3CDTF">2009-01-12T18:07:12Z</dcterms:modified>
  <cp:revision>3</cp:revision>
  <dc:subject/>
  <dc:title>Слайд 1</dc:title>
</cp:coreProperties>
</file>