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529-FE6B-45C3-A0A9-7B2A485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D5F-F3B7-44A7-BAEE-A7EE87F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BC9-504A-4836-A071-C8416F2A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69F-59E6-46BB-B0DE-322C2B59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0B4-91FB-4FA7-824B-84119389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8820-FE23-4435-A9AE-40F0247D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BC3-579F-430D-AEF2-F7F787D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FD4A-7576-4E5C-8D42-67095311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986-C52E-4B01-B23A-D037067C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416E-4491-43C2-96F0-4DE4B1A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D1A-F4D6-4BB7-94E0-174760D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F75-5CAC-4A57-8251-081700B3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7B6-EC81-438A-95CB-6B1A0BE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8246-60AE-41B3-AC86-1C78E9A3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9FE-B436-4AA7-A228-4A6C04A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B4A-2E62-439C-91C3-84E5DF68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7A20-1C71-4673-811F-34454EED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02D-063D-432C-9FDF-3E3F44A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185-BCCB-4646-A0A7-496E753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ACA-1AF9-4E7E-9F33-D2A75B3F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781-BA3C-4C97-8537-15FA127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CF9-961F-4F30-A450-6F12A43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956-C8AD-4B8C-B3C5-DE2BDEE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BD8-916A-4D28-BE7C-34FA7E63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8A50-1738-4B26-AF8F-83B0693AB0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819F-368F-4BEE-ADD7-9A282F5AA6E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640" y="692280"/>
            <a:ext cx="81378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Атмосферные фронты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клоны и антициклоны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576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4000" y="6165720"/>
            <a:ext cx="84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краев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6160" cy="566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11280" y="5734080"/>
            <a:ext cx="80643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 воздух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ручивается против часовой стрелки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42328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24000" y="5589720"/>
            <a:ext cx="842472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в центре поднимается по спирали вверх,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 и вновь начинает движение к центру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4000" y="5516640"/>
            <a:ext cx="8820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одъеме воздух охлаждается, становится 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лажнее, образуются облака и выпадают осадк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С циклонами связана неустойчивая, ветреная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года с осадками.</a:t>
            </a:r>
            <a:endParaRPr b="1" lang="en-US" sz="1400" spc="1" strike="noStrike">
              <a:ln w="64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50920" y="6093000"/>
            <a:ext cx="862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антициклона давление самое высокое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24000" y="6365880"/>
            <a:ext cx="849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начинает движение от центра к краям.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6160" cy="6049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-за отклоняющего действия вращения Земл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дух закручивается по часовой стрелке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5734080"/>
            <a:ext cx="8353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альной части воздух опускается,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кается по краям, поднимается и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инает движение к центру.</a:t>
            </a:r>
            <a:endParaRPr b="1" lang="en-US" sz="16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9280" y="5445000"/>
            <a:ext cx="8713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 опускании воздух нагревается, иссушаетс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лака отсутствуют, небо ясное. С антициклоном 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ана солнечная погода без осадков, при этом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м - жаркая, а зимой - холодная.</a:t>
            </a:r>
            <a:endParaRPr b="1" lang="en-US" sz="1400" spc="1" strike="noStrike">
              <a:ln w="648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260280"/>
          <a:ext cx="8569080" cy="561204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тициклоны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 низким 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тмосферный  вихрь  с высоким давлением  в  центр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 окраин  к  центру  против  часовой  стрелк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жение  воздуха  от центра  к окраинам  по  часовой  стрелке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во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  центре—нисходящее  движение  воздух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изменчивая,  ветреная,  облачная,  с  осадками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года  устойчивая,  безветренная,  безоблачная,  без осадков.  Летом -тёплая, зимой - морозн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90792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76280"/>
            <a:ext cx="88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Атмосферный фронт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это полоса, разделяющая разные по своим свойствам воздушные массы. Ширина фронтов достигает нескольких десятков километров. На фронтах всегда происходит смена температуры, облачности, давления воздуха – смена погоды. Атмосферные фронты разделяются на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тепл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и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холодные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0" b="31288"/>
          <a:stretch/>
        </p:blipFill>
        <p:spPr>
          <a:xfrm>
            <a:off x="304920" y="1152360"/>
            <a:ext cx="5346720" cy="429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684360" y="304920"/>
            <a:ext cx="7772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иноптическая  кар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18320" y="1064880"/>
            <a:ext cx="317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Какое  время  г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ображено  на  карт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Где  на  территори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раны  самое  низкое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вление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Сколько  циклонов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антициклонов)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фиксировано  на  карте?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 Где  отмечается  наиболее  низкая  температура  и  чему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а  равна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. Какое  состояние  неба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обладает  над  страной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79132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. Где  над  территорией  страны  отмечается  безоблачное  небо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 Для  чего  составляются  синоптические  карты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71640" y="1052640"/>
            <a:ext cx="727236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раграф 15.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7564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5661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Теплый фрон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образуется, когда теплый воздух движется в сторону холодного, оттесняя е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444600"/>
            <a:ext cx="82090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77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5445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Холодный фронт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бразуется при перемещении холодного воздуха в сторону теплог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5400"/>
            <a:ext cx="8569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77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50920" y="1268280"/>
          <a:ext cx="8569080" cy="541512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ый фрон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Тёплый  фронт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 Образуется  при  вторжении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олодного  воздуха  в  область,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занятую  тёпл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 Проникает  клином,  выталкивая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  вверх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  Погода  меняется  быстро.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Ливень,  гроза,  шквалистый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вете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сле  прохождения   фронта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похолодание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ec85e"/>
                        </a:buClr>
                        <a:buSzPct val="70000"/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Образуется  при  вторжении  тёплого  воздуха  в  область,  занятую  холодным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днимается  плавно  над  ХВ,  оттесняя  его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года  меняется  постепенно, идут затяжные  дожд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осле  прохождения  фронта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--  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медленное  потепление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476280"/>
            <a:ext cx="756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844640"/>
            <a:ext cx="8713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 - это крупны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тмосферные вихри, переносящие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душные массы. На картах они выделяются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кнутыми концентрическими изобарами 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линиями равного давления).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593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4360" y="6093000"/>
            <a:ext cx="79930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центре циклона давление самое низкое. </a:t>
            </a:r>
            <a:endParaRPr b="1" lang="en-US" sz="1800" spc="1" strike="noStrike">
              <a:ln w="648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0:35:39Z</dcterms:created>
  <dc:creator>xxx</dc:creator>
  <dc:description/>
  <dc:language>en-US</dc:language>
  <cp:lastModifiedBy>Admin</cp:lastModifiedBy>
  <dcterms:modified xsi:type="dcterms:W3CDTF">2009-01-12T18:07:12Z</dcterms:modified>
  <cp:revision>3</cp:revision>
  <dc:subject/>
  <dc:title>Слайд 1</dc:title>
</cp:coreProperties>
</file>