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B72-6E02-4058-8946-F79CFD5E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B3A9-B81D-4809-B3F8-641D1A53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949-A43C-4E7F-A9D9-21B1EE88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001-3C7D-480E-9108-E23F9125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CBFB-93AB-4D91-8C25-BDBB4225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8355-CFA1-4378-866D-A16B3D12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5561-CAF0-45D5-8615-0F98F5FB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688-E19D-4228-ABED-81D92AF8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B3F-2E7A-4896-B0EE-E4BD95E6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F725-5479-4775-A383-FB1418E7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60EC-EA2A-4FFD-B72F-DD66A555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26A6-C971-40C7-A46B-C1398492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07CD-4945-4DF7-85DE-9E81C9931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oudy Stout"/>
              </a:rPr>
              <a:t>АЛЕКСАНДР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oudy Stout"/>
              </a:rPr>
              <a:t>ГАЛИЧ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oudy Stout"/>
              </a:rPr>
              <a:t>1918 - 19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ВАРЛАМУ ТИХОНОВИЧУ</a:t>
            </a:r>
            <a:br>
              <a:rPr sz="40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ШАЛАМОВУ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освящ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0440" y="1600200"/>
          <a:ext cx="403236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044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Это замечательный человек, замечательный писатель…Он пробыл очень много лет в лагерях. Он написал, по-моему, об этом прекрасную книжку, цикл рассказов…Когда я ее прочел, мне захотелось написать песню, посвященную 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63680" y="1628640"/>
            <a:ext cx="4108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се не воврем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В.Т.Шалам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ты стучи, стучи, а тебе Бог прости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начальники тебе, Леха, срок скостя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за Окой сейчас небось коростель свисти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у нас на Тайшете ветра свистя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месяц май уже, а все снега бел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вертухаев на снегу сле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что полнормы – тьфу, это полбед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что песню спел – полторы бед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над Окой летят гуси-лебед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за Окой свистит корост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тут по наледи курвы-нелю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ух зэков ведут на расстре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первый, он с Севастопол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там, черт чудной, Херсонес коп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копал, чумак, что ни попад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жену его, и сынка ег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таруху мать, чтоб молчала, …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бы знали все, что закая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шу родину споднизу копа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в Крыму теплынь, в море сельд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миндаль небось подоспе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тут по наледи курвы-нелю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ух зэка ведут на расстре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второй зэка – это лично 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без мамы жил, я без папы жи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я боязнь была преотлична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 в шухере стукаря приши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мне сперва вышка , а я в раскаянь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уж  в лагере – корешей знав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на кой я пес при Лехе-Ка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умаку подпел «Интернационал»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в караулке пьют с рафинадом ча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вертухай идет, весь сопр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му скучно, чай, и несподручно, ча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с в обед вести 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РАССТРЕ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64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общем, это единственная моя…лагерная стилизация, ибо я …не очень люблю этот жанр. Но тут было как-то необходимо написать. И, кстати, было очень странно: я у одного знакомого пел песни… Сидел какой-то очень высокий человек, костлявый. Сидел, приложив руку к уху – так слушал меня. Когда я сказал, что вот песня, посвященная Варламу Шаламову, он подсел ко мне совсем близко, просто прям лицом к лицу. А потом, когда я кончил петь, он встал, обнял меня и сказал: « Ну вот, значит, давайте знакомиться. Я и есть ШАЛАМОВ ВАРЛАМ ТИХОНОВИЧ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арлам Шала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3011400" cy="460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40575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СНЯ про СЧАСТ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Ты можешь найти на улице копей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 купить коробок спиче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Ты можешь найти две копе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 позвонить кому-нибудь из автома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у, а если звонить тебе нек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Так зачем тебе две копей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е покупать же на две копе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Два коробка спиче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ожно вообще обойтись без спиче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А просто прикурить у прохож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 заговорить с этим прохож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 он даст тебе номер своего телеф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Чтоб ты позвонил ему из автомат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о как же ты сможешь позвонить ему из автома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Если у тебя нет двух копеек!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Так что  лучше уж не прикуривать у прохож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Лучше просто купить коробок спич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прочем, и для этого сначала ну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айти на улице одну копейк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965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3738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 rot="5400000">
            <a:off x="-1542960" y="2919600"/>
            <a:ext cx="4248000" cy="51408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Garamond"/>
              </a:rPr>
              <a:t>Борис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82" name=""/>
          <p:cNvSpPr txBox="1"/>
          <p:nvPr/>
        </p:nvSpPr>
        <p:spPr>
          <a:xfrm rot="5400000">
            <a:off x="5416560" y="3088440"/>
            <a:ext cx="5977080" cy="60948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Century"/>
              </a:rPr>
              <a:t>Пастернак</a:t>
            </a:r>
            <a:endParaRPr b="1" lang="en-US" sz="4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амяти Б.Л.Пастерн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475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написал стихотворение «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амяти Борис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астернак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»…и первым, кому я прочел ее, был Корней Иванович Чуковски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не много раз встречался в жизни с Борисом Леонидовичем пастернаком, но однажды он пришел в переделкинский Дом писателей… Был вечер, я пошел его провожать. И по дороге он сказал м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024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58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Вы знаете, поэты или умирают при жизни, или не умирают никогда…»</a:t>
            </a:r>
            <a:br>
              <a:rPr sz="3600"/>
            </a:br>
            <a:br>
              <a:rPr sz="28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Я хорошо запомнил эти слова. Борис Леонидович не умрет никогда.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авление Литературного фонда СССР извещает о смерти писателя, члена Литфонда, Бориса Леонидовича Пастернака, последовавшей 30 мая сего года на 71-ом году жизни после тяжелой и продолжительной болезни, и выражает соболезнование семье покой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84428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Разобрали венки на ве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На полчасика погрустнел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Как гордимся мы, современни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Что он умер в своей постел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И терзали Шопена лабух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И торжественно шло прощань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Он не мылил петли в Елабу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И с ума не сходил в Суча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Даже киевские письмэн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На поминки его посп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Как гордимся мы, современни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Что он умер в своей постели!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И не то чтобы с чем-то за сорок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Ровно семьдесят, возраст смерт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И не просто какой-то пасынок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Член Литфонда, усопший смертны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Ах, осыпались лапы елочь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Отзвенели метел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До чего ж мы гордимся, сволоч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Что он умер в своей постел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«Мело, мело по всей зем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Во все преде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Свеча горела на стол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Свеча горела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4032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Е МОЛЧИТЕ! ПОЙМИТЕ, МОЛЧАТЬ НЕЛЬЗЯ!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Я обращаюсь мысленно ко всем знакомым и незнакомым людям на Востоке и на Западе: «Не молчите! Поймите, молчать нельзя !..Поверьте, это разрешается, это не стыдно, это можно – утешать вдов и сирот. Это можно, это не стыдно – бороться с несправедливостью и ложью, помогать страждущим, вступаться за униженных и оскорбленных. Поймите. Мы живем в одно время. На одном земном шаре, и пусть кто-то продолжает демагогически болтать о вмешательстве в чужие дела –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нет на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нашей земле чужих дел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ВСЕ ДЕЛА НАШИ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Из передачи на радио «Свобод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От 14 сентября 197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64000" y="1916280"/>
            <a:ext cx="3384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Единственное появившееся в газетах, вернее, в одной  - «Литературной газете», - сообщение о смерти Б.Л.Пастерн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Нет, никакая не све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Горела люстр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Очки по морде пал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Сверкали шустр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А зал зевал, а зал скучал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Мели, Емел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Ведь не в тюрьму и не в Суча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Не к высшей мер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И не к терновому вен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КОЛЕСОВАНЬ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А как ПОЛЕНОМ по лицу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ГОЛОСОВАНЬЕ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И кто-то спьяну вопрош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- За что? Кого та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И кто-то жрал, и кто-то рж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Над анекдотом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Мы не забудем этот смех\и эту скук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Мы – поименно! – вспомним все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КТО ПОДНЯЛ РУКУ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«Гул затих. Я вышел на подмост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Прислонясь к дверному косяку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Вот и смолкли клевета и сп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Словно взят у вечности отгул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А над гробом встали марод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И несут почетный КА-РА-УЛ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4105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Ты, Моцарт, Бог, и сам того не знаешь…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.И.Чу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ев Копелев, писатель: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…Декабрь 1966 года. Переделкино. Дом творчества. У нас в комнате поет Александр Галич. Внезапно входит Корней Чуковский. Мы испугались. Ведь песни Галича – их язык, стиль, страсти прямо противоположны всему, что он любит. Но слушал он благодарно, увлеченно и пригласил Галича петь у него в доме. Концерт состоялся через несколько дней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4032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Когда я верну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Из опыта первой эмиграции мы знаем, что одной из самых распространенных болезней эмиграции…является болезнь </a:t>
            </a:r>
            <a:r>
              <a:rPr b="1" i="1" lang="ru-RU" sz="1000" spc="-1" strike="noStrike">
                <a:solidFill>
                  <a:srgbClr val="bbe0e3"/>
                </a:solidFill>
                <a:latin typeface="Arial"/>
              </a:rPr>
              <a:t>НОСТАЛЬГ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Ты не смейся – когда я вернусь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пробегу, не касаясь земли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по февральскому снегу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По еле заметному следу – к теплу и ночлегу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И, вздрогнув от счастья, на птичий твой з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оглянусь,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О, когда я вернусь!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Послушай, послушай, не смейся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И прямо с вокзала, разделавшись крут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с таможней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И прямо с вокзала – в кромешный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ничтожный, раешный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Ворвусь в этот город, которым казнюсь и клянусь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Я пойду в тот единственный дом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Где с куполом синим не власт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соперничать небо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И ладана запах, как запах приютского хлеба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Ударит в меня и заплещется в сердце моем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О, когда я вернусь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Засвистят в феврале соловь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Тот старый мотив – тот давнишний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забытый, запеты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И я упаду, побежденный своею победой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И ткнусь головою, как в пристань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в колени твои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А когда я вернусь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7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7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7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7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7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7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7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7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7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7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7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7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7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7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7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7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7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7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7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7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7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7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7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7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дрей Сахаров, из воспомин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« Та версия, которую приняла на основе следствия парижская полиция и с которой поэтому мы должны считаться, сводится к следующему:» Галич купил в Италии  телевизор-комбайн и, привезя его в Париж, торопился его опробовать…вставил почему-то антенну не в антенное гнездо, а в отверстие на задней стенке, коснувшись ею цепей высокого напряжения. Он тут же упал, упершись ногами в батарею, замкнув таким образом цепь. Когда пришла жена, он был уже мертв. Несчастный случай по неосторожности потерпевшего…но у меня нет стопроцентной уверенности, что это несчастный случай, а не УБИЙСТВО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46800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147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За чужую печаль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 за чье-то незваное детство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м воздастся огнем и мечом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 позором вранья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озвращается боль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тому что ей некуда деться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озвращается вечером ветер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 круги своя.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ы со сцены ушли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о еще продолжается действо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ши роли суфлер дочитает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Ухмылку тая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озвращается вечером ветер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 круги своя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озвращается боль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тому что ей некуда деться.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ы проспали беду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омотали чужое наследство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Жизнь подходит к концу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 опять начинается детство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ахнет мокрой травой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 махорочным дымом жилья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одолжается действо без нас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одолжается действо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одолжается боль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тому что ей некуда деться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озвращается ветер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 круги сво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454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териал подготовлен учителем русского языка и литературы МБОУ «СОШ №8» г.Златоуста Челябинской области Чевдарь Л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ТАРАТЕЛЬСКИЙ ВАЛЬС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ы давно называемся взросл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не платим мальчишеству д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за кладом на сказочном остр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стремимся мы в дальнюю дал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и в пустыню, ни к полюсу хол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и на катере – к этакой матер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 поскольку молчание – золо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 и мы, безусловно, стара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молчи – попадешь в бога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молчи, промолчи, промолч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не веря ни сердцу, ни разу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надежности спрятав гла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колько раз мы молчали по-разн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 не против, конечно, а з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теперь крикуны и печальники?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шумели и сгинули смолода…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молчальники вышли в начальник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тому что молчание – золото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Промолчи – попадешь в первач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Промолчи, промолчи, промолчи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теперь. Когда стали мы первым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 заела речей маят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под всеми словесными перлам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тупает  - пятном – немот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сть другие кричат от отчаянья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 обиды, от боли, от голода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-то знаем – доходней молчани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тому что молчание – золото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как просто попасть в богач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как просто попасть в первач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как просто попасть в палачи –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молчи, промолчи, промолчи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6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 себ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68360" y="1773360"/>
            <a:ext cx="3816360" cy="3600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«Популярным бардом я не являюсь… Я поэт. Я пишу свои стихи, которые только притворяются песнями, а я только притворяюсь, что их пою. Почему же вдруг человек немолодой, не умея петь, не умея толком аккомпанировать себе на гитаре, все-таки рискнул и стал этим заниматься? Наверно, потому, что всем нам – и там, и здесь – слишком долго врали хорошо поставленными голосами. Пришла пора говорить правду. И если у тебя нету певческого голоса, то,  может быть, это иногда важнее, чем обладать белькант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ти слова Александра Галича, сказанные четверть века назад, звучат вполне злободневн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42920" y="1125360"/>
            <a:ext cx="7201080" cy="518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лександр Аркадьевич Гинзбур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59280" y="6308640"/>
            <a:ext cx="40384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18 - 19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юдмила Нимвицкая, актр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ло кто мог подумать в конце 30-ых и начале 40-ых годов, что из этого красивого, улыбчивого, барственного «шалопая», музыканта и сочинителя стихов на все случаи жизни, компанейского и доброго вырастет такой твердый и бескомпромиссный художни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162680" cy="5184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вгений Евтушенко, поэ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9280" y="1600200"/>
            <a:ext cx="367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году в 1963-м Галич пригласил меня к себе домой и спел примерно двадцать песен в очень узкой компании. Песни поразили меня пронзительной гражданственной афористичность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00" y="1550880"/>
            <a:ext cx="4392360" cy="411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сня про ост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оворят, что есть на свете остр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де растет на берегу забудь – тра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Забудь о гордости, забудь про горест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Забудь о подлости! Забудь про хворост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от какие есть на свете остров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оворят, что где-то есть остро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де с похмелья не болит голо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А сколько есть вина, пей все без просып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А после по морю ходи, как по сух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от какие есть на свете остров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оворят, где-то есть остро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де четыре не всегда дважды д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Считай хоть дослепу – одна испар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Лишь то, что по сердцу, лишь то и прави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от какие есть на свете остров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оворят, что где-то есть остро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де неправда не бывает прав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де совесть – надобность, а не солдатчи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де правда нажита, а не назначен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от какие я придумал остров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5:40:49Z</dcterms:created>
  <dc:creator>666</dc:creator>
  <dc:description/>
  <dc:language>en-US</dc:language>
  <cp:lastModifiedBy>Людмила</cp:lastModifiedBy>
  <dcterms:modified xsi:type="dcterms:W3CDTF">2012-02-18T13:00:42Z</dcterms:modified>
  <cp:revision>54</cp:revision>
  <dc:subject/>
  <dc:title>АЛЕКСАНДР  АРКАДЬЕВИЧ  ГАЛИЧ</dc:title>
</cp:coreProperties>
</file>