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53A-FC13-4D88-BA89-0184E614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BB3-D39A-4591-976B-6C6E1A7A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AB3-21AC-4974-B90F-644B41ED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C6D-D37D-4D23-B849-00EA0A79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4BF-12E5-49CF-A8BC-F633FEF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4E9-EC4C-44A3-950C-009019C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806-41B2-4F9B-8E5C-6788F33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21B-E184-493A-A2C9-77F6CC6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6DF-BC18-4186-B0C5-E203E15E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7FC-F5F6-4EF7-A73A-FEF0967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B06-ACC0-4608-85A6-478F453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5F7-9839-4359-8003-B7CF0BD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DC3-D83D-410B-B9DD-BE8E3049F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АЛЕКСАНД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ГАЛИЧ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1918 -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ВАРЛАМУ ТИХОНОВИЧУ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ШАЛАМОВ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замечательный человек, замечательный писатель…Он пробыл очень много лет в лагерях. Он написал, по-моему, об этом прекрасную книжку, цикл рассказов…Когда я ее прочел, мне захотелось написать песню, посвященную 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3680" y="1628640"/>
            <a:ext cx="4108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е не воврем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.Т.Шалам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ы стучи, стучи, а тебе Бог про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чальники тебе, Леха, срок скостя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ейчас небось коростель сви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 нас на Тайшете ветра свист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есяц май уже, а все снега бе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ев на снегу сл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олнормы – тьфу, это полбе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есню спел – полторы 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д Окой летят гуси-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вистит корос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ов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ервый, он с Севастопо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там, черт чудной, Херсонес коп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копал, чумак, что ни попад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жену его, и сынка е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таруху мать, чтоб молчала, …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знали все, что закая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у родину споднизу коп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рыму теплынь, в море сель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индаль небось подосп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а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торой зэка – это лично 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ез мамы жил, я без папы ж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я боязнь была преотлична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 в шухере стукаря приши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не сперва вышка , а я в раскаян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ж  в лагере – корешей знав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а кой я пес при Лехе-Ка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маку подпел «Интернационал»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араулке пьют с рафинадом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й идет, весь сопр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му скучно, чай, и несподручно,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 в обед вест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64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бщем, это единственная моя…лагерная стилизация, ибо я …не очень люблю этот жанр. Но тут было как-то необходимо написать. И, кстати, было очень странно: я у одного знакомого пел песни… Сидел какой-то очень высокий человек, костлявый. Сидел, приложив руку к уху – так слушал меня. Когда я сказал, что вот песня, посвященная Варламу Шаламову, он подсел ко мне совсем близко, просто прям лицом к лицу. А потом, когда я кончил петь, он встал, обнял меня и сказал: « Ну вот, значит, давайте знакомиться. Я и есть ШАЛАМОВ ВАРЛАМ ТИХОНОВИЧ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лам Шала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11400" cy="46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057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СНЯ про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на улице копей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купить коробок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позвонить кому-нибудь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у, а если звонить тебе нек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зачем тебе две копей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е покупать же на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ва коробка спи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ожно вообще обойтись без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просто прикури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заговорить с этим прохож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он даст тебе номер своего телеф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Чтоб ты позвонил ему из автомат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о как же ты сможешь позвонить ему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у тебя нет двух копеек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что  лучше уж не прикурива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Лучше просто купить коробок спи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прочем, и для этого сначала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йти на улице одну копей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96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5400000">
            <a:off x="-1542960" y="2919600"/>
            <a:ext cx="4248000" cy="5140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Garamond"/>
              </a:rPr>
              <a:t>Бори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5416560" y="3088440"/>
            <a:ext cx="5977080" cy="6094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Century"/>
              </a:rPr>
              <a:t>Пастернак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мяти Б.Л.Пастер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475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аписал стихотворение «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мяти Бори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стерна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…и первым, кому я прочел ее, был Корней Иванович Чуковс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е много раз встречался в жизни с Борисом Леонидовичем пастернаком, но однажды он пришел в переделкинский Дом писателей… Был вечер, я пошел его провожать. И по дороге он сказал м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02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5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Вы знаете, поэты или умирают при жизни, или не умирают никогда…»</a:t>
            </a:r>
            <a:br>
              <a:rPr sz="3600"/>
            </a:br>
            <a:br>
              <a:rPr sz="28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Я хорошо запомнил эти слова. Борис Леонидович не умрет никогда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авление Литературного фонда СССР извещает о смерти писателя, члена Литфонда, Бориса Леонидовича Пастернака, последовавшей 30 мая сего года на 71-ом году жизни после тяжелой и продолжительной болезни, и выражает соболезнование семье покой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азобрали венки на ве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лчасика погрустн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ерзали Шопена лабух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оржественно шло прощань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н не мылил петли в Елаб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с ума не сходил в Суча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аже киевские письмэ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минки его посп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то чтобы с чем-то за сор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овно семьдесят, возраст смерт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просто какой-то пасын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лен Литфонда, усопший смерт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Ах, осыпались лапы елочь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тзвенели мет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о чего ж мы гордимся, сволоч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«Мело, мело по всей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Во все пред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 на ст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 МОЛЧИТЕ! ПОЙМИТЕ, МОЛЧАТЬ НЕЛЬЗЯ!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Я обращаюсь мысленно ко всем знакомым и незнакомым людям на Востоке и на Западе: «Не молчите! Поймите, молчать нельзя !..Поверьте, это разрешается, это не стыдно, это можно – утешать вдов и сирот. Это можно, это не стыдно – бороться с несправедливостью и ложью, помогать страждущим, вступаться за униженных и оскорбленных. Поймите. Мы живем в одно время. На одном земном шаре, и пусть кто-то продолжает демагогически болтать о вмешательстве в чужие дела –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ет на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ашей земле чужих дел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ВСЕ ДЕЛА НАШИ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з передачи на радио «Своб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т 14 сентября 19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38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Единственное появившееся в газетах, вернее, в одной  - «Литературной газете», - сообщение о смерти Б.Л.Пастерн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т, никакая не све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рела люстр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Очки по морде пал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веркали шустр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зал зевал, а зал скучал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ели, Емел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едь не в тюрьму и не в Суч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 к высшей мер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 к терновому вен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ОЛЕСОВАНЬ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как ПОЛЕНОМ по лицу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ЛОСОВАНЬЕ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спьяну вопрош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- За что? Кого т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жрал, и кто-то рж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ад анекдото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не забудем этот смех\и эту ск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– поименно! – вспомним все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ТО ПОДНЯЛ РУКУ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«Гул затих. Я вышел на подмост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Прислонясь к дверному косяку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от и смолкли клевета и сп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ловно взят у вечности отгу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над гробом встали маро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сут почетный КА-РА-У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10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Ты, Моцарт, Бог, и сам того не знаешь…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.И.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в Копелев, писатель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…Декабрь 1966 года. Переделкино. Дом творчества. У нас в комнате поет Александр Галич. Внезапно входит Корней Чуковский. Мы испугались. Ведь песни Галича – их язык, стиль, страсти прямо противоположны всему, что он любит. Но слушал он благодарно, увлеченно и пригласил Галича петь у него в доме. Концерт состоялся через несколько дн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Когда я верн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з опыта первой эмиграции мы знаем, что одной из самых распространенных болезней эмиграции…является болезнь </a:t>
            </a:r>
            <a:r>
              <a:rPr b="1" i="1" lang="ru-RU" sz="1000" spc="-1" strike="noStrike">
                <a:solidFill>
                  <a:srgbClr val="bbe0e3"/>
                </a:solidFill>
                <a:latin typeface="Arial"/>
              </a:rPr>
              <a:t>НОСТАЛЬГ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ы не смейся – 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пробегу, не касаясь земл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февральскому снегу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еле заметному следу – к теплу и ночлегу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, вздрогнув от счастья, на птичий твой 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глянусь,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слушай, послушай, не смейся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, разделавшись кру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 таможне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 – в кромешны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ничтожный, раешный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орвусь в этот город, которым казнюсь и кля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Я пойду в тот единственный до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Где с куполом синим не власт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оперничать неб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ладана запах, как запах приютского хлеб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Ударит в меня и заплещется в сердце моем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свистят в феврале соловь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от старый мотив – тот давнишни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бытый, запет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я упаду, побежденный своею победо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ткнусь головою, как в пристан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 колени тво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А когда я вернус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дрей Сахаров, из воспоми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 Та версия, которую приняла на основе следствия парижская полиция и с которой поэтому мы должны считаться, сводится к следующему:» Галич купил в Италии  телевизор-комбайн и, привезя его в Париж, торопился его опробовать…вставил почему-то антенну не в антенное гнездо, а в отверстие на задней стенке, коснувшись ею цепей высокого напряжения. Он тут же упал, упершись ногами в батарею, замкнув таким образом цепь. Когда пришла жена, он был уже мертв. Несчастный случай по неосторожности потерпевшего…но у меня нет стопроцентной уверенности, что это несчастный случай, а не УБИЙСТВО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680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 чужую печаль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за чье-то незваное детство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м воздастся огнем и мечом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позором вран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со сцены ушли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 еще 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ши роли суфлер дочитает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хмылку та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проспали бед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мотали чужое наслед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Жизнь подходит к конц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опять начинается дет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ахнет мокрой травой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махорочным дымом жил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 без нас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54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русского языка и литературы МБОУ «СОШ №8» г.Златоуста Челябинской области Чевдарь Л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РАТЕЛЬСКИЙ ВАЛЬ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давно называемся взрос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платим мальчишеству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за кладом на сказочн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тремимся мы в дальнюю да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в пустыню, ни к полюсу хол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на катере – к этакой матер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поскольку молчание – зол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и мы, безусловно, стар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 – попадешь в бог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веря ни сердцу, ни разу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адежности спрятав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олько раз мы молчали по-разн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не против, конечно, а з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теперь крикуны и печальники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шумели и сгинули смолода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лчальники вышли в начальни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 – попадеш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еперь. Когда стали мы первым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 заела речей маят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под всеми словесными перл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тупает  - пятном – немо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другие кричат от отчаян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иды, от боли, от голода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-то знаем – доходней молчан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бог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алачи –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6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 себ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1773360"/>
            <a:ext cx="38163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Популярным бардом я не являюсь… Я поэт. Я пишу свои стихи, которые только притворяются песнями, а я только притворяюсь, что их пою. Почему же вдруг человек немолодой, не умея петь, не умея толком аккомпанировать себе на гитаре, все-таки рискнул и стал этим заниматься? Наверно, потому, что всем нам – и там, и здесь – слишком долго врали хорошо поставленными голосами. Пришла пора говорить правду. И если у тебя нету певческого голоса, то,  может быть, это иногда важнее, чем обладать белькант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и слова Александра Галича, сказанные четверть века назад, звучат вполне злободнев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20108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ександр Аркадьевич Гинз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6308640"/>
            <a:ext cx="40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8 - 1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юдмила Нимвицкая, акт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ло кто мог подумать в конце 30-ых и начале 40-ых годов, что из этого красивого, улыбчивого, барственного «шалопая», музыканта и сочинителя стихов на все случаи жизни, компанейского и доброго вырастет такой твердый и бескомпромиссный художн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62680" cy="518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вгений Евтушенко, по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оду в 1963-м Галич пригласил меня к себе домой и спел примерно двадцать песен в очень узкой компании. Песни поразили меня пронзительной гражданственной афористичность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550880"/>
            <a:ext cx="4392360" cy="411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сня про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есть на свете остр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растет на берегу забудь – тр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гордости, забудь про горе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подлости! Забудь про хворост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 похмелья не болит гол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сколько есть вина, пей все без просып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после по морю ходи, как по сух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четыре не всегда дважды д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читай хоть дослепу – одна испа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Лишь то, что по сердцу, лишь то и прави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неправда не бывает пра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овесть – надобность, а не солдатч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правда нажита, а не назнач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я придумал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40:49Z</dcterms:created>
  <dc:creator>666</dc:creator>
  <dc:description/>
  <dc:language>en-US</dc:language>
  <cp:lastModifiedBy>Людмила</cp:lastModifiedBy>
  <dcterms:modified xsi:type="dcterms:W3CDTF">2012-02-18T13:00:42Z</dcterms:modified>
  <cp:revision>54</cp:revision>
  <dc:subject/>
  <dc:title>АЛЕКСАНДР  АРКАДЬЕВИЧ  ГАЛИЧ</dc:title>
</cp:coreProperties>
</file>