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A91-DF26-4521-899E-DF26722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0D8-DD0A-41F8-BF4E-0A1677E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455-6971-4E0D-BC73-D85DC998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D29-10ED-4ECD-AEC1-AEC3C7E8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37AB-4603-4296-88C9-B93C6EC6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519B7-B4BD-4F97-9C59-25AE519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760B1-AB14-40BA-9845-9F2358A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B6724-DFDE-4FC1-977B-8B5CA98A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8CDCD-97F3-4A6B-BBDB-A7D29A9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5D4B6-84F4-46B5-84E3-71CEC6B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524A-EDE5-4913-9086-D96181E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0F0-D221-48B1-97DC-DF1B9C8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D675-27A9-444A-BE2D-21D8BBE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59D1-3741-40C4-9DCB-137ED63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AE5D-2FB2-4FB5-A216-3F5A38E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85F1D-9016-4A7E-B7FD-3CD06BF2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20B4A-8547-4D53-AB42-94FE1F0A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5DBB-C322-40A7-8F6D-06329F84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D7F6-FE3C-43B9-AEA4-8D281CF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6064-1E31-41A1-93C6-17CE69F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8B29-F09A-482E-9AEF-CF1D6C1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5C46-B437-467A-ABC9-815C24A1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EC9-7DFA-469C-9557-8BC38D5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D960-DA4A-4680-8E01-1E7AC338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C3CA-5D82-4E14-B735-DAF706A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7C57-F336-463A-89FA-13B5922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9802-0A1D-4FFB-80D9-ACD3092A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21B9-7C8D-4B81-A00F-350453A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B458-630A-4AEE-890E-B518C955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7871-C336-473F-A266-5CFDFACE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99D23-8CA1-471A-AE59-55E47010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620BC-2BE5-4674-B536-5429ACD7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F5F25-4FB9-4108-89AB-961C593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CD0-76A9-4D53-AC2F-ADABC17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6513A-1892-4425-B994-AD40FCE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8A7F5-E604-426F-A01B-F044A60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EF8D3-FA0D-4A09-85C9-9656D677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99180-8A63-4D92-BEBA-F828DFD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4349C-79D5-4FA8-8B1D-D6A6943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D04AA-5A82-4497-853B-146B074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6F3EF-1B59-4EFB-B161-D29DC36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BBAE0-5278-4838-A34A-E04B4548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06F0D-7714-4E26-A958-F8739ADC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DC37D-7089-4289-8541-28A2D472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384-2D08-42CC-808E-98B84E0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D2879-0F29-4D8E-A928-70B6681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983FC-A3A6-4A98-8AE4-F88A094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586C7-70A6-4C43-A9C0-1996BB22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4FFC9-B5EE-4FF1-9A80-A0CB8FFC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A0227-6933-4818-A6DE-D4593AD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DAC68-9E56-4214-A40C-8B73F40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1C105-1B6A-4304-96C6-B4F16A2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3050E-4A05-45EC-84EA-4BADAA2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F2E64-ED55-40CC-BEE0-43EA66A4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77D5B-8705-4BF3-9BFB-E4B47E56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B2-7C7B-45C6-9238-F21A37AA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4EE9F-5764-4A09-9871-7BABB580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641BE-E681-4E54-9679-8C4FE7D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0D7AB-342E-4D2A-86D1-396E635E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955B7-F4E5-46C7-833A-993350F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F66DE-B9F3-45D0-B92E-872E0B2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EE450-8FD1-467E-AE6D-119AEE47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8DDE4-43B1-4411-B709-9677D92A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6E8F1-4DDB-4A3C-9025-92DE1EF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2838C-37E4-42BF-8E65-3DF42B6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77413-FEA8-48D8-A762-EB4E336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C79-9258-484F-B76C-E1F1B7F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1F1E3-F77D-4953-816A-710C184D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56810-570B-4E71-977A-FA53D514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2778D-49EA-4E5F-835A-9B6062EF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C08-60BD-4871-BBE9-02828E3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0B6-038C-4BE0-9F52-F36EC4F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B18-FABA-490B-9E54-5E0CBFE89A9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87DA-5182-4708-B51C-5E0F98D1DA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F278-C368-4192-AF70-98F15E1B94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0795-6A50-47F5-AED4-DB93AABDC0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1DD8-E036-4824-81BD-03527189EFF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F0E-1B08-4075-A057-E10A177D08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2/8/1/7/281775/3817726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gus.ru/images/ps/1231475353_war_0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55.radikal.ru/i147/1003/87/12f76550e5a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0690/07/10690078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1941-1945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oboi_1280x800[1].jpg"/>
          <p:cNvPicPr/>
          <p:nvPr/>
        </p:nvPicPr>
        <p:blipFill>
          <a:blip r:embed="rId2"/>
          <a:stretch/>
        </p:blipFill>
        <p:spPr>
          <a:xfrm>
            <a:off x="2786040" y="571680"/>
            <a:ext cx="3500640" cy="2187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22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257184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ердцах люде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емной поклон Вам, победившим время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лыбки, смех и счастье всех детей-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града за поверженного зверя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Картинка 10 из 1699806"/>
          <p:cNvPicPr/>
          <p:nvPr/>
        </p:nvPicPr>
        <p:blipFill>
          <a:blip r:embed="rId1"/>
          <a:stretch/>
        </p:blipFill>
        <p:spPr>
          <a:xfrm>
            <a:off x="2000160" y="3214800"/>
            <a:ext cx="5500800" cy="3047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залив огон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Коричневой чумою» разведенны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на века потомкам дали бронь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Путь Свободы, Вами проторённы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Картинка 23 из 1699806"/>
          <p:cNvPicPr/>
          <p:nvPr/>
        </p:nvPicPr>
        <p:blipFill>
          <a:blip r:embed="rId1"/>
          <a:stretch/>
        </p:blipFill>
        <p:spPr>
          <a:xfrm>
            <a:off x="5857920" y="2500200"/>
            <a:ext cx="2809800" cy="3810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, поправши см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й смертью, что жить осталась вечно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Памяти людская кругов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с делает добрей и человечне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Картинка 4 из 4755"/>
          <p:cNvPicPr/>
          <p:nvPr/>
        </p:nvPicPr>
        <p:blipFill>
          <a:blip r:embed="rId1"/>
          <a:stretch/>
        </p:blipFill>
        <p:spPr>
          <a:xfrm>
            <a:off x="1857240" y="3000240"/>
            <a:ext cx="5572440" cy="3667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ад Победы в России - традиционно проводится на Красной Площади, в Москве. Кроме Москвы, 9 мая Парады проходят в других городах - героях бывшего ССС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Парад в честь Победы СССР в Великой Отечественной войне прошел 24 июня 1945 года на Красной площад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3" name="Рисунок 3" descr="salut[1].jpg"/>
          <p:cNvPicPr/>
          <p:nvPr/>
        </p:nvPicPr>
        <p:blipFill>
          <a:blip r:embed="rId1"/>
          <a:stretch/>
        </p:blipFill>
        <p:spPr>
          <a:xfrm>
            <a:off x="2000160" y="3071880"/>
            <a:ext cx="521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того момента парады Победы на Красной площади проходят каждый год, правда, боевая техника в них уже не участву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6" name="Рисунок 3" descr="007[1].jpg"/>
          <p:cNvPicPr/>
          <p:nvPr/>
        </p:nvPicPr>
        <p:blipFill>
          <a:blip r:embed="rId1"/>
          <a:stretch/>
        </p:blipFill>
        <p:spPr>
          <a:xfrm>
            <a:off x="2428920" y="3214800"/>
            <a:ext cx="4286160" cy="3109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im0-tub.yandex.net/i?id=180856098-01"/>
          <p:cNvPicPr/>
          <p:nvPr/>
        </p:nvPicPr>
        <p:blipFill>
          <a:blip r:embed="rId2"/>
          <a:stretch/>
        </p:blipFill>
        <p:spPr>
          <a:xfrm>
            <a:off x="3500280" y="214200"/>
            <a:ext cx="18576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o2[1].jpg"/>
          <p:cNvPicPr/>
          <p:nvPr/>
        </p:nvPicPr>
        <p:blipFill>
          <a:blip r:embed="rId1"/>
          <a:stretch/>
        </p:blipFill>
        <p:spPr>
          <a:xfrm>
            <a:off x="1428840" y="0"/>
            <a:ext cx="6429240" cy="3751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3857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День Победы праздновался так, как, наверное, отмечалось очень мало праздников в истории СССР и России. Люди на улицах поздравляли друг друга, обнимались, целовались и плак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9 мая, вечером в Москве был дан Салют Победы, самый масштабный в истории СССР: из тысячи орудий было дано тридцать залп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Рисунок 3" descr="o6[1].jpg"/>
          <p:cNvPicPr/>
          <p:nvPr/>
        </p:nvPicPr>
        <p:blipFill>
          <a:blip r:embed="rId1"/>
          <a:stretch/>
        </p:blipFill>
        <p:spPr>
          <a:xfrm>
            <a:off x="1714680" y="278604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4" descr="0018[1].jpg"/>
          <p:cNvPicPr/>
          <p:nvPr/>
        </p:nvPicPr>
        <p:blipFill>
          <a:blip r:embed="rId1"/>
          <a:stretch/>
        </p:blipFill>
        <p:spPr>
          <a:xfrm>
            <a:off x="2000160" y="3214800"/>
            <a:ext cx="6215040" cy="3867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Однако, выходным днем 9 мая оставалось лишь три года. В 1948 году о войне было велен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забыть и все силы бросить на восстановление разрушенного войной народного хозяй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лишь в 1965 году, уже в эпоху Брежнева, празднику было вновь воздано по заслугам. 9 мая вновь стал выходным, возобновились Парады, масштабные салюты во всех городах - Героях и чествования ветеран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6" name="Рисунок 3" descr="0030[2].jpg"/>
          <p:cNvPicPr/>
          <p:nvPr/>
        </p:nvPicPr>
        <p:blipFill>
          <a:blip r:embed="rId1"/>
          <a:stretch/>
        </p:blipFill>
        <p:spPr>
          <a:xfrm>
            <a:off x="1643040" y="0"/>
            <a:ext cx="5715000" cy="1928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im0-tub.yandex.net/i?id=143695497-03"/>
          <p:cNvPicPr/>
          <p:nvPr/>
        </p:nvPicPr>
        <p:blipFill>
          <a:blip r:embed="rId2"/>
          <a:stretch/>
        </p:blipFill>
        <p:spPr>
          <a:xfrm>
            <a:off x="3000240" y="4071960"/>
            <a:ext cx="30006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 рубежом День Победы отмечается на 9, а 8 мая. Это связано с тем, что акт о капитуляции был подписан по центрально европейскому времени 8 мая 45-го года в 22 часа 43 минуты. Когда в Москве с ее двух часовой разницей во времени, уже наступило 9 м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http://www.blogus.ru/images/ps/1231475353_war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3429000"/>
            <a:ext cx="5643720" cy="3238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на всей Земл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юбить, творить и жить под небесами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ланета вся плывет на корабл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 поднятыми Вами парусами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Картинка 20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143160"/>
            <a:ext cx="585792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воей ду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кой в семье и уваженье свы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ибо Вам, не страшно нам уж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чами под отеческою крыш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Картинка 21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3143160"/>
            <a:ext cx="2714760" cy="3500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трою солдат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не вернулись, пав на поле битвы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матери их до сих пор не спят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ждут сынов, шепча за них молитвы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20:41Z</dcterms:created>
  <dc:creator>PK-11</dc:creator>
  <dc:description/>
  <dc:language>en-US</dc:language>
  <cp:lastModifiedBy>PK-11</cp:lastModifiedBy>
  <dcterms:modified xsi:type="dcterms:W3CDTF">2010-04-22T08:52:34Z</dcterms:modified>
  <cp:revision>10</cp:revision>
  <dc:subject/>
  <dc:title>День победы! 9 мая.</dc:title>
</cp:coreProperties>
</file>