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9FE8-F7FB-4294-9733-21222BE77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EFDD-8AA1-4D00-AA0C-1982E43F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AE6C-6529-4A48-9688-1A1009C2B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A101-905C-4879-84A9-9C41D414E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FE202-7A08-4722-86B2-E7357847B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B3B0C-5DD8-40D7-B73D-8C8EAFB3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EC48A-DEA4-4DE9-BB1A-77AF10DD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73769-E1E3-4F9F-8B4E-25BB69B1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84FCB-3301-4D8D-9C08-B229378D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3C937-03AE-4F67-98FF-568F0500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0370C-9D9D-404C-9523-9BF73BAF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9B94-E8F5-4BB8-84A8-1F05A3CA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F07B5-F299-48AC-9D62-0496B5A8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CAFB7-23AD-4EC5-B74D-6EB7CA87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D0156-0D9B-40C6-B057-8687D7F9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70E1B-1DDB-466B-8FB0-9091C43E3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BDEAA-8AE4-483A-913D-7E8DB3121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EE09B-EFBB-44B6-A304-8A5A1ACC2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B96B9-16AA-4381-A345-0EF8C06F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D1C9F-274B-481F-B594-75BABAE5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3AE69-B5AC-4BF6-BFCE-5DC1F098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EC5D2-CAB4-4326-AB60-016C4B84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374D-616D-4D93-BC11-C9396DC0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76BD9-F837-4BA6-A0F2-4A674F4D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FDC00-0DBD-4923-84ED-81BE2047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FFFD1-9707-4E32-AFF8-CDF7D62A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12F6A-3523-435E-9BCB-B9976F81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D8674-2DCB-4C70-A42E-965C54A8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52D97-3EAA-4FC2-8FB9-6A8E4A03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0E500-CB27-4E7C-A000-A8D5220DD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179911-48EF-47D4-8FAD-21244BE9D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BCCA41-62DA-4072-964F-0BDB4AD3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E162A9-CEFF-4F5D-9771-76023C3D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D6BF-B424-4412-8E3B-4DCD8A6A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E24F2F-A2A4-4A25-9E40-96D6C8E1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77BB1D-0811-4DA0-B9F6-6C70B8B6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515B63-02E5-41C8-AA6E-27DCD961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4C91B6-F6F8-42C8-BC92-6755AF6D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F8F0B6-7257-40E9-BDC1-90174837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3AC7A1-A94B-44D1-94D0-0E338B6D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57EB2E-0747-424A-B2F1-24837947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C713BB-A7D3-4BE2-B1FE-25707FF9E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2A9740-B1B1-46C3-9527-B636B8D7F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9E5FA8-928F-4785-8946-57964E39D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0371-051E-4F02-BE4E-B65F1BFD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65D9CD-D916-4685-B2C5-18214A7D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9CFA7F-49C0-4763-850E-8430E398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C27268-A6F7-443A-A659-DF75EB44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B1DD62-B489-48EE-A646-1D0B4879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677B06-C2A8-43A3-9C14-0556A4AC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BA7E9B-8A46-436B-8D50-2C82FC51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ED40F1-8F05-4CB4-9697-6E887A51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626BBC-ECCD-4973-B59C-43912D41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384C95-C2BF-4E73-A7D4-3234373F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68173E-1F57-4BD1-AE71-EBFF2173C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6B59-D428-4F40-B4A0-A9216EFC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EAADCA-852B-4EBC-BE49-B11512B35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31A7FA-A439-4CC0-95E3-2BFC84C9A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1C4053-EB2B-469D-A225-4D8488CB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F6204D-9390-4F6A-AC49-4488B076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A5DBCD-A5AC-4897-8CCA-65ADF5D9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80B351-40E8-47D1-8B44-0E1841F2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A00110-773A-4FA1-987F-55229E24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4EA08D-10A1-45D5-8121-3A0904AA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5130A7-01F5-4FE2-9038-123F7F87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DA176F-654F-4A09-9729-FA6BC305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54CF-3319-468F-BB41-3AC2222B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3B1FF8-D7A2-4C38-AFA8-3CC7CA53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D603FB-8FE2-4DEA-B32F-E1FF467C8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24A126-9E2C-4971-A754-61D575C5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208C-FBBE-4397-A953-C699ED3D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65E4-8C75-4AA5-8F7A-8E0792FD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3D79-19EA-4315-95A6-C0D7024BBB1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4403-723B-430D-8ECE-11C7085D6602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9073-D809-4630-A7CE-1BB2622AF030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8ED9-D939-460C-920F-8765031A8A81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915F-A5FC-4B93-84C4-95358814AC4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8129-CB17-4340-8217-F35521FD1D3E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tatic.diary.ru/userdir/2/8/1/7/281775/38177266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logus.ru/images/ps/1231475353_war_02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55.radikal.ru/i147/1003/87/12f76550e5a7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g.beta.rian.ru/images/10690/07/106900783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1941-1945г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3" descr="oboi_1280x800[1].jpg"/>
          <p:cNvPicPr/>
          <p:nvPr/>
        </p:nvPicPr>
        <p:blipFill>
          <a:blip r:embed="rId2"/>
          <a:stretch/>
        </p:blipFill>
        <p:spPr>
          <a:xfrm>
            <a:off x="2786040" y="571680"/>
            <a:ext cx="3500640" cy="21873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Картинка 22 из 16998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15040" y="2571840"/>
            <a:ext cx="2543040" cy="38098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ы заслужили Мир в сердцах людей,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емной поклон Вам, победившим время,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лыбки, смех и счастье всех детей-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града за поверженного зверя.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Картинка 10 из 1699806"/>
          <p:cNvPicPr/>
          <p:nvPr/>
        </p:nvPicPr>
        <p:blipFill>
          <a:blip r:embed="rId1"/>
          <a:stretch/>
        </p:blipFill>
        <p:spPr>
          <a:xfrm>
            <a:off x="2000160" y="3214800"/>
            <a:ext cx="5500800" cy="30477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ы заслужили Мир залив огонь,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«Коричневой чумою» разведенный,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 на века потомкам дали бронь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 Путь Свободы, Вами проторённый.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Картинка 23 из 1699806"/>
          <p:cNvPicPr/>
          <p:nvPr/>
        </p:nvPicPr>
        <p:blipFill>
          <a:blip r:embed="rId1"/>
          <a:stretch/>
        </p:blipFill>
        <p:spPr>
          <a:xfrm>
            <a:off x="5857920" y="2500200"/>
            <a:ext cx="2809800" cy="38102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ы заслужили Мир, поправши смерть,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ой смертью, что жить осталась вечно,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 Памяти людская круговерть,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с делает добрей и человечней.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Картинка 4 из 4755"/>
          <p:cNvPicPr/>
          <p:nvPr/>
        </p:nvPicPr>
        <p:blipFill>
          <a:blip r:embed="rId1"/>
          <a:stretch/>
        </p:blipFill>
        <p:spPr>
          <a:xfrm>
            <a:off x="1857240" y="3000240"/>
            <a:ext cx="5572440" cy="36673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арад Победы в России - традиционно проводится на Красной Площади, в Москве. Кроме Москвы, 9 мая Парады проходят в других городах - героях бывшего СССР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вый Парад в честь Победы СССР в Великой Отечественной войне прошел 24 июня 1945 года на Красной площад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93" name="Рисунок 3" descr="salut[1].jpg"/>
          <p:cNvPicPr/>
          <p:nvPr/>
        </p:nvPicPr>
        <p:blipFill>
          <a:blip r:embed="rId1"/>
          <a:stretch/>
        </p:blipFill>
        <p:spPr>
          <a:xfrm>
            <a:off x="2000160" y="3071880"/>
            <a:ext cx="521496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 того момента парады Победы на Красной площади проходят каждый год, правда, боевая техника в них уже не участвуе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96" name="Рисунок 3" descr="007[1].jpg"/>
          <p:cNvPicPr/>
          <p:nvPr/>
        </p:nvPicPr>
        <p:blipFill>
          <a:blip r:embed="rId1"/>
          <a:stretch/>
        </p:blipFill>
        <p:spPr>
          <a:xfrm>
            <a:off x="2428920" y="3214800"/>
            <a:ext cx="4286160" cy="31096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" descr="http://im0-tub.yandex.net/i?id=180856098-01"/>
          <p:cNvPicPr/>
          <p:nvPr/>
        </p:nvPicPr>
        <p:blipFill>
          <a:blip r:embed="rId2"/>
          <a:stretch/>
        </p:blipFill>
        <p:spPr>
          <a:xfrm>
            <a:off x="3500280" y="214200"/>
            <a:ext cx="185760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Рисунок 3" descr="o2[1].jpg"/>
          <p:cNvPicPr/>
          <p:nvPr/>
        </p:nvPicPr>
        <p:blipFill>
          <a:blip r:embed="rId1"/>
          <a:stretch/>
        </p:blipFill>
        <p:spPr>
          <a:xfrm>
            <a:off x="1428840" y="0"/>
            <a:ext cx="6429240" cy="37512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57200" y="3857400"/>
            <a:ext cx="822960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вый День Победы праздновался так, как, наверное, отмечалось очень мало праздников в истории СССР и России. Люди на улицах поздравляли друг друга, обнимались, целовались и плакал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9 мая, вечером в Москве был дан Салют Победы, самый масштабный в истории СССР: из тысячи орудий было дано тридцать залп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60" name="Рисунок 3" descr="o6[1].jpg"/>
          <p:cNvPicPr/>
          <p:nvPr/>
        </p:nvPicPr>
        <p:blipFill>
          <a:blip r:embed="rId1"/>
          <a:stretch/>
        </p:blipFill>
        <p:spPr>
          <a:xfrm>
            <a:off x="1714680" y="2786040"/>
            <a:ext cx="57150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Рисунок 4" descr="0018[1].jpg"/>
          <p:cNvPicPr/>
          <p:nvPr/>
        </p:nvPicPr>
        <p:blipFill>
          <a:blip r:embed="rId1"/>
          <a:stretch/>
        </p:blipFill>
        <p:spPr>
          <a:xfrm>
            <a:off x="2000160" y="3214800"/>
            <a:ext cx="6215040" cy="38671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c000"/>
                </a:solidFill>
                <a:latin typeface="Constantia"/>
              </a:rPr>
              <a:t>Однако, выходным днем 9 мая оставалось лишь три года. В 1948 году о войне было велено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c000"/>
                </a:solidFill>
                <a:latin typeface="Constantia"/>
              </a:rPr>
              <a:t>забыть и все силы бросить на восстановление разрушенного войной народного хозяйств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 лишь в 1965 году, уже в эпоху Брежнева, празднику было вновь воздано по заслугам. 9 мая вновь стал выходным, возобновились Парады, масштабные салюты во всех городах - Героях и чествования ветеран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66" name="Рисунок 3" descr="0030[2].jpg"/>
          <p:cNvPicPr/>
          <p:nvPr/>
        </p:nvPicPr>
        <p:blipFill>
          <a:blip r:embed="rId1"/>
          <a:stretch/>
        </p:blipFill>
        <p:spPr>
          <a:xfrm>
            <a:off x="1643040" y="0"/>
            <a:ext cx="5715000" cy="19288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http://im0-tub.yandex.net/i?id=143695497-03"/>
          <p:cNvPicPr/>
          <p:nvPr/>
        </p:nvPicPr>
        <p:blipFill>
          <a:blip r:embed="rId2"/>
          <a:stretch/>
        </p:blipFill>
        <p:spPr>
          <a:xfrm>
            <a:off x="3000240" y="4071960"/>
            <a:ext cx="300060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а рубежом День Победы отмечается на 9, а 8 мая. Это связано с тем, что акт о капитуляции был подписан по центрально европейскому времени 8 мая 45-го года в 22 часа 43 минуты. Когда в Москве с ее двух часовой разницей во времени, уже наступило 9 ма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http://www.blogus.ru/images/ps/1231475353_war_0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00160" y="3429000"/>
            <a:ext cx="5643720" cy="32385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ы заслужили Мир на всей Земле,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Любить, творить и жить под небесами,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ланета вся плывет на корабле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д поднятыми Вами парусами.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2" name="Заголовок 1" descr=""/>
          <p:cNvPicPr/>
          <p:nvPr/>
        </p:nvPicPr>
        <p:blipFill>
          <a:blip r:embed="rId3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Картинка 20 из 16998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43040" y="3143160"/>
            <a:ext cx="5857920" cy="34290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ы заслужили Мир в своей душе,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кой в семье и уваженье свыше,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пасибо Вам, не страшно нам уже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очами под отеческою крышей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Картинка 21 из 16998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0280" y="3143160"/>
            <a:ext cx="2714760" cy="35006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ы заслужили Мир в строю солдат,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то не вернулись, пав на поле битвы,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 матери их до сих пор не спят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 ждут сынов, шепча за них молитвы.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8:20:41Z</dcterms:created>
  <dc:creator>PK-11</dc:creator>
  <dc:description/>
  <dc:language>en-US</dc:language>
  <cp:lastModifiedBy>PK-11</cp:lastModifiedBy>
  <dcterms:modified xsi:type="dcterms:W3CDTF">2010-04-22T08:52:34Z</dcterms:modified>
  <cp:revision>10</cp:revision>
  <dc:subject/>
  <dc:title>День победы! 9 мая.</dc:title>
</cp:coreProperties>
</file>