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728-B767-4293-92EF-EA0F5E8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140-BCD9-4CA3-BE39-9BEA6E2E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4BF-8DE7-4A03-A224-F868CCD8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798-A2C0-46F8-9636-413F2228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9ABD2-BA59-4460-9BE1-A2AC6001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116A-7478-40C5-8842-ED04487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5394-48C0-4ECE-BB1F-8DF9BF8E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09CDA-CBE1-468D-8890-4E16648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5A53B-E890-48CD-8F4E-B6041E0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38CEF-71A7-4763-8E24-A27A948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FB89C-3FAA-47B7-9020-0FFD9A8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6C6-4A4A-4EF6-B031-6BAEF8A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AF01-206D-4838-8541-684568F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91E36-6AED-4FF0-9D69-E8CF059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CA4B0-3A41-4975-99D7-6C70496C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99A7-D556-4511-8871-6C5B5D07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F8136-CDD8-4DD7-8310-AAC9A44B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3D1D-A720-4D5A-BB1E-0E77791E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DB0D-9484-4766-99EC-8B7F2B5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E80A-FEDA-4BA6-8853-EC87DE27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87E7-3203-456A-8D54-5194D68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D700-D538-42EA-B7DF-73CC52B6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E2D-88BB-4DF0-A62B-35CA5F9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3727-C66A-4840-AF6D-DE92503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EFDC-B714-4FAD-9D7C-3706BCD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DEFF-2F55-4770-BCE7-872758E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C5BF-EF78-4A00-B4D3-D102BDB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8C55-48F2-457E-94F1-6DDEE83C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D341-913F-42A7-84FC-AF5E882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CE34-D206-4995-A53D-A985F6BF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83ED9-D3AB-438D-867A-9C2C3E57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D4058-7608-4DC8-8674-7E7F3838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2DD31-E85B-4AAB-8810-E495E407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E91-94E4-4267-AD61-8A327989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24B1C-6169-40B9-8300-99D5468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6AE44-4D87-4B02-BD53-9C70D012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773EC-AA94-48B2-8DE0-E78707A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F5ED5-090A-48A5-91CB-9A23F4C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C823E-DC34-415B-BF7A-0BFB67F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60DD0-69F2-42E5-A674-CD331DC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D5B12-4795-42A5-96E8-D518129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B3AA5-CD54-43A1-B342-45FAA5D9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2BE4B-D7D1-4E98-B2B0-F066F754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E38BC-30F4-45B5-AE18-0FF258AD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BC5-FD61-4E56-9289-727EFC1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6D313-5EEC-4004-89E8-B7718CC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D9096-885F-438C-8465-5057080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A8FFC-773F-445E-AC7C-DE57E664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5F8C4-627D-4FBC-A4CB-9D76291E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BA0B0-4FBE-42A1-8DBE-EBE8A9A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E0148-3243-4898-9436-58BFE2A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F8865-B028-43BD-B685-236537E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EB866-168E-48FC-8F99-05E64BE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94BF7-CC9C-48EF-B2C4-5A710B4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D41EC-7550-458F-B880-00CC2615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E65-6172-4E88-B703-DACD6A3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F0073-65C7-4206-BB88-7363A531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5EFA6-3318-437E-A90A-B5ED48B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1AA9F-FB82-432B-B5FB-1E4AE68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16727-1072-49D5-967C-8B6CD88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E5263-1F16-47D2-BFB2-94F20B2E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5CCDD-2F70-4FB0-AA66-8DD690F8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33023-D3AE-48A2-941D-67AFC3F2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23566-69F1-4A41-9D93-DE3424E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D5C35-151F-429D-B9A9-AA372D04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8B409-C5C6-4675-8300-97ED123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53A-55E7-469C-8596-A241F69F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C4B9B-B11B-4A91-8EE2-87BD52C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BD665-A6E7-4FBA-BF65-3F8E7B2D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AF42E-64A2-403C-A18D-0318AE4B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D77-010A-4887-97CB-05D6F6B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7D-908D-45C4-BED1-A22165DD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D2FD-0EA0-4083-8C34-9D977F0010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F6E-12F8-4C5D-88B4-5B2594838E4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DCA-883E-4DAD-B52C-13DA79E316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567-4F57-4F31-98D7-920556FBC0D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7FA-5E44-4ADC-8E5F-17D31DD16D2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F2D-373A-4B6B-A11B-AF465D005E6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2/8/1/7/281775/3817726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gus.ru/images/ps/1231475353_war_0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55.radikal.ru/i147/1003/87/12f76550e5a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0690/07/10690078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1941-1945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oboi_1280x800[1].jpg"/>
          <p:cNvPicPr/>
          <p:nvPr/>
        </p:nvPicPr>
        <p:blipFill>
          <a:blip r:embed="rId2"/>
          <a:stretch/>
        </p:blipFill>
        <p:spPr>
          <a:xfrm>
            <a:off x="2786040" y="571680"/>
            <a:ext cx="3500640" cy="2187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22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257184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ердцах люде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емной поклон Вам, победившим время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лыбки, смех и счастье всех детей-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града за поверженного зверя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Картинка 10 из 1699806"/>
          <p:cNvPicPr/>
          <p:nvPr/>
        </p:nvPicPr>
        <p:blipFill>
          <a:blip r:embed="rId1"/>
          <a:stretch/>
        </p:blipFill>
        <p:spPr>
          <a:xfrm>
            <a:off x="2000160" y="3214800"/>
            <a:ext cx="5500800" cy="3047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залив огон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Коричневой чумою» разведенны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на века потомкам дали бронь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Путь Свободы, Вами проторённы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Картинка 23 из 1699806"/>
          <p:cNvPicPr/>
          <p:nvPr/>
        </p:nvPicPr>
        <p:blipFill>
          <a:blip r:embed="rId1"/>
          <a:stretch/>
        </p:blipFill>
        <p:spPr>
          <a:xfrm>
            <a:off x="5857920" y="2500200"/>
            <a:ext cx="2809800" cy="3810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, поправши см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й смертью, что жить осталась вечно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Памяти людская кругов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с делает добрей и человечне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Картинка 4 из 4755"/>
          <p:cNvPicPr/>
          <p:nvPr/>
        </p:nvPicPr>
        <p:blipFill>
          <a:blip r:embed="rId1"/>
          <a:stretch/>
        </p:blipFill>
        <p:spPr>
          <a:xfrm>
            <a:off x="1857240" y="3000240"/>
            <a:ext cx="5572440" cy="3667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ад Победы в России - традиционно проводится на Красной Площади, в Москве. Кроме Москвы, 9 мая Парады проходят в других городах - героях бывшего ССС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Парад в честь Победы СССР в Великой Отечественной войне прошел 24 июня 1945 года на Красной площад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3" name="Рисунок 3" descr="salut[1].jpg"/>
          <p:cNvPicPr/>
          <p:nvPr/>
        </p:nvPicPr>
        <p:blipFill>
          <a:blip r:embed="rId1"/>
          <a:stretch/>
        </p:blipFill>
        <p:spPr>
          <a:xfrm>
            <a:off x="2000160" y="3071880"/>
            <a:ext cx="521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того момента парады Победы на Красной площади проходят каждый год, правда, боевая техника в них уже не участву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6" name="Рисунок 3" descr="007[1].jpg"/>
          <p:cNvPicPr/>
          <p:nvPr/>
        </p:nvPicPr>
        <p:blipFill>
          <a:blip r:embed="rId1"/>
          <a:stretch/>
        </p:blipFill>
        <p:spPr>
          <a:xfrm>
            <a:off x="2428920" y="3214800"/>
            <a:ext cx="4286160" cy="3109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im0-tub.yandex.net/i?id=180856098-01"/>
          <p:cNvPicPr/>
          <p:nvPr/>
        </p:nvPicPr>
        <p:blipFill>
          <a:blip r:embed="rId2"/>
          <a:stretch/>
        </p:blipFill>
        <p:spPr>
          <a:xfrm>
            <a:off x="3500280" y="214200"/>
            <a:ext cx="18576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o2[1].jpg"/>
          <p:cNvPicPr/>
          <p:nvPr/>
        </p:nvPicPr>
        <p:blipFill>
          <a:blip r:embed="rId1"/>
          <a:stretch/>
        </p:blipFill>
        <p:spPr>
          <a:xfrm>
            <a:off x="1428840" y="0"/>
            <a:ext cx="6429240" cy="3751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3857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День Победы праздновался так, как, наверное, отмечалось очень мало праздников в истории СССР и России. Люди на улицах поздравляли друг друга, обнимались, целовались и плак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9 мая, вечером в Москве был дан Салют Победы, самый масштабный в истории СССР: из тысячи орудий было дано тридцать залп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Рисунок 3" descr="o6[1].jpg"/>
          <p:cNvPicPr/>
          <p:nvPr/>
        </p:nvPicPr>
        <p:blipFill>
          <a:blip r:embed="rId1"/>
          <a:stretch/>
        </p:blipFill>
        <p:spPr>
          <a:xfrm>
            <a:off x="1714680" y="278604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4" descr="0018[1].jpg"/>
          <p:cNvPicPr/>
          <p:nvPr/>
        </p:nvPicPr>
        <p:blipFill>
          <a:blip r:embed="rId1"/>
          <a:stretch/>
        </p:blipFill>
        <p:spPr>
          <a:xfrm>
            <a:off x="2000160" y="3214800"/>
            <a:ext cx="6215040" cy="3867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Однако, выходным днем 9 мая оставалось лишь три года. В 1948 году о войне было велен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забыть и все силы бросить на восстановление разрушенного войной народного хозяй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лишь в 1965 году, уже в эпоху Брежнева, празднику было вновь воздано по заслугам. 9 мая вновь стал выходным, возобновились Парады, масштабные салюты во всех городах - Героях и чествования ветеран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6" name="Рисунок 3" descr="0030[2].jpg"/>
          <p:cNvPicPr/>
          <p:nvPr/>
        </p:nvPicPr>
        <p:blipFill>
          <a:blip r:embed="rId1"/>
          <a:stretch/>
        </p:blipFill>
        <p:spPr>
          <a:xfrm>
            <a:off x="1643040" y="0"/>
            <a:ext cx="5715000" cy="1928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im0-tub.yandex.net/i?id=143695497-03"/>
          <p:cNvPicPr/>
          <p:nvPr/>
        </p:nvPicPr>
        <p:blipFill>
          <a:blip r:embed="rId2"/>
          <a:stretch/>
        </p:blipFill>
        <p:spPr>
          <a:xfrm>
            <a:off x="3000240" y="4071960"/>
            <a:ext cx="30006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 рубежом День Победы отмечается на 9, а 8 мая. Это связано с тем, что акт о капитуляции был подписан по центрально европейскому времени 8 мая 45-го года в 22 часа 43 минуты. Когда в Москве с ее двух часовой разницей во времени, уже наступило 9 м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http://www.blogus.ru/images/ps/1231475353_war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3429000"/>
            <a:ext cx="5643720" cy="3238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на всей Земл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юбить, творить и жить под небесами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ланета вся плывет на корабл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 поднятыми Вами парусами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Картинка 20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143160"/>
            <a:ext cx="585792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воей ду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кой в семье и уваженье свы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ибо Вам, не страшно нам уж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чами под отеческою крыш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Картинка 21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3143160"/>
            <a:ext cx="2714760" cy="3500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трою солдат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не вернулись, пав на поле битвы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матери их до сих пор не спят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ждут сынов, шепча за них молитвы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20:41Z</dcterms:created>
  <dc:creator>PK-11</dc:creator>
  <dc:description/>
  <dc:language>en-US</dc:language>
  <cp:lastModifiedBy>PK-11</cp:lastModifiedBy>
  <dcterms:modified xsi:type="dcterms:W3CDTF">2010-04-22T08:52:34Z</dcterms:modified>
  <cp:revision>10</cp:revision>
  <dc:subject/>
  <dc:title>День победы! 9 мая.</dc:title>
</cp:coreProperties>
</file>