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rain.wav" ContentType="audio/x-wav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C149-E7A8-4151-94E1-CCD91D9D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гария Ирина Владимировна учитель географии СОШ № 34 г. Енакиево Донецкая область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8EE-5D44-47BA-83A2-EFAE0E96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BEF-6AFA-44B4-974B-E8521DE6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0F6-526B-4E89-822E-A087E39E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7AD-7772-4F47-8AFE-C756F5EB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AE70-0942-4AA9-93A0-515DDF25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FAA0-5A44-46C7-B062-A25DC986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65B-6DFB-464E-871F-ED51EDDF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7C52-A8B6-464E-B073-8511D236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200A-8332-4758-B7FE-9F164BBA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C613-B8FC-44AA-8701-4A259F61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9777-25E5-4E91-96B0-827907A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B3E-19DB-4053-8CAB-09430D30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3C0C-7629-48D3-A4CE-15B3AF16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03AE-196E-46BA-B900-4DA848E5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EEB9-FBFB-4D7C-B628-2D6BF6EB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FDC1-4377-4019-941B-B43B3BD7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BA8B-39C3-41E9-87BC-AD48494B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7D6-2D10-4E26-915C-AF7A1E06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CDA-3D1A-4CB9-AA4E-D44B51B5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0C7-457F-4A32-88CD-2925136D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0B7-1ED3-4187-B644-2150ED10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8DA-D752-4246-9B4C-47172D4F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375-D767-43AF-A3F2-5BE1E0B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BC4-0B0E-4055-8985-782CAADF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DB19-2038-454D-9689-28DE413DF9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060B-FD67-4A96-9E7D-C6A275C841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ra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Атмосферные</a:t>
            </a:r>
            <a:br>
              <a:rPr sz="7200"/>
            </a:br>
            <a:r>
              <a:rPr b="1" i="1" lang="en-US" sz="7200" spc="-1" strike="noStrike">
                <a:solidFill>
                  <a:srgbClr val="fad4bc"/>
                </a:solidFill>
                <a:latin typeface="Arial"/>
              </a:rPr>
              <a:t>осадки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080" y="5516640"/>
            <a:ext cx="43459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гария Ирина Владимиро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географии СОШ № 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Енакиево Донецкая область Укра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1640" y="5157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Кучев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f856"/>
                </a:solidFill>
                <a:latin typeface="Arial"/>
              </a:rPr>
              <a:t>Перистые обла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64080" y="228600"/>
            <a:ext cx="514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360036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Туман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138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a4"/>
                </a:solidFill>
                <a:latin typeface="Arial"/>
              </a:rPr>
              <a:t>Роса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2317" t="4691" r="13111" b="709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76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Дождь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3" name="rain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0" r="43502" b="469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rcRect l="4404" t="1655" r="15488" b="0"/>
          <a:stretch/>
        </p:blipFill>
        <p:spPr>
          <a:xfrm>
            <a:off x="4464000" y="3635280"/>
            <a:ext cx="4680000" cy="322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33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e95335"/>
                </a:solidFill>
                <a:latin typeface="Arial"/>
              </a:rPr>
              <a:t>Град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40000" y="5300640"/>
            <a:ext cx="293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Иней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Молния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1:22:44Z</dcterms:created>
  <dc:creator>Рома</dc:creator>
  <dc:description/>
  <dc:language>en-US</dc:language>
  <cp:lastModifiedBy>Рома</cp:lastModifiedBy>
  <dcterms:modified xsi:type="dcterms:W3CDTF">2009-05-04T16:54:57Z</dcterms:modified>
  <cp:revision>8</cp:revision>
  <dc:subject/>
  <dc:title>Слайд 1</dc:title>
</cp:coreProperties>
</file>