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1.jpeg" ContentType="image/jpeg"/>
  <Override PartName="/ppt/media/image2.jpeg" ContentType="image/jpeg"/>
  <Override PartName="/ppt/media/rain.wav" ContentType="audio/x-wav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3904-9439-4812-907C-8F3659763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агария Ирина Владимировна учитель географии СОШ № 34 г. Енакиево Донецкая область Укра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93BD-8877-4474-A5F4-95A847F6F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78EC-CE38-4410-B2A0-06556EBE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0A55-9394-4BE6-828C-ECB26B334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0CA9-2E07-4C3B-9464-DF74029D7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66EF3-5F40-493A-810C-1832FC858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99870-3750-4917-80E2-A0C4416F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7828-148A-4CB7-B2D8-C60C174D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1503A-1417-4395-8AC2-DB59B4DE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4A2A-112C-4115-A8A2-3FEB395C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2E8D-5BFD-4C74-A4F8-EE7F6309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79BA-FD73-4B97-8D9B-97BB3B57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ACB8-0FB7-4DF0-98F2-DACB7784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2B8B-8335-4AC3-AB38-2732A2D6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85041-59B7-4AAC-AF5C-F46E555E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0991-6F0E-4533-894A-5CF5DCEA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F527-126A-455E-B4A3-71CAD7E62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621E-EC2D-468E-84BC-BFF308370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C0D6-C1DE-496C-8CE4-36A822E3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7D09-293F-49FA-883A-8ACBA384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D5A2-D1BB-46A5-8FE6-93AE769C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E564-000B-4E0B-A7A1-C148ABC3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E6ED-F105-46BC-A8AD-75C97F06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CE91-9FD6-481F-A092-A7FE7A21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515A-0C18-488D-99D4-42C6A817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2321-466C-4FF9-8655-28D6C5E5D6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D9B4-5D1A-4A9E-8002-FD661C2FA9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audio" Target="../media/rain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22050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ad4bc"/>
                </a:solidFill>
                <a:latin typeface="Arial"/>
              </a:rPr>
              <a:t>Атмосферные</a:t>
            </a:r>
            <a:br>
              <a:rPr sz="7200"/>
            </a:br>
            <a:r>
              <a:rPr b="1" i="1" lang="en-US" sz="7200" spc="-1" strike="noStrike">
                <a:solidFill>
                  <a:srgbClr val="fad4bc"/>
                </a:solidFill>
                <a:latin typeface="Arial"/>
              </a:rPr>
              <a:t>осадки</a:t>
            </a:r>
            <a:endParaRPr b="0" lang="en-US" sz="7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5080" y="5516640"/>
            <a:ext cx="434592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гария Ирина Владимиров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итель географии СОШ № 3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. Енакиево Донецкая область Укра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31640" y="515736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a4"/>
                </a:solidFill>
                <a:latin typeface="Arial"/>
              </a:rPr>
              <a:t>Кучевые облака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 advTm="5000">
    <p:wedg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f856"/>
                </a:solidFill>
                <a:latin typeface="Arial"/>
              </a:rPr>
              <a:t>Перистые обла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 advTm="5000">
    <p:zoom dir="ou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64080" y="228600"/>
            <a:ext cx="51480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Слоистые облака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 advTm="5000">
    <p:blinds dir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3600360" cy="4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Туман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 advTm="5000">
    <p:checker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3138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Снег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 advTm="5000">
    <p:strips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508428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a4"/>
                </a:solidFill>
                <a:latin typeface="Arial"/>
              </a:rPr>
              <a:t>Роса</a:t>
            </a:r>
            <a:endParaRPr b="0" lang="en-US" sz="8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 advTm="5000">
    <p:wheel spokes="2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rcRect l="2317" t="4691" r="13111" b="7092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376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b7e7ff"/>
                </a:solidFill>
                <a:latin typeface="Arial"/>
              </a:rPr>
              <a:t>Дождь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>
    <p:plus/>
    <p:sndAc>
      <p:stSnd>
        <p:snd r:embed="rId3" name="rain.wav"/>
      </p:stSnd>
    </p:sndAc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rcRect l="0" t="0" r="43502" b="469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rcRect l="4404" t="1655" r="15488" b="0"/>
          <a:stretch/>
        </p:blipFill>
        <p:spPr>
          <a:xfrm>
            <a:off x="4464000" y="3635280"/>
            <a:ext cx="4680000" cy="3222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3333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e95335"/>
                </a:solidFill>
                <a:latin typeface="Arial"/>
              </a:rPr>
              <a:t>Град</a:t>
            </a:r>
            <a:endParaRPr b="0" lang="en-US" sz="6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40000" y="5300640"/>
            <a:ext cx="293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b7e7ff"/>
                </a:solidFill>
                <a:latin typeface="Arial"/>
              </a:rPr>
              <a:t>Иней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5589360"/>
            <a:ext cx="446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ff"/>
                </a:solidFill>
                <a:latin typeface="Arial"/>
              </a:rPr>
              <a:t>Молния</a:t>
            </a:r>
            <a:endParaRPr b="0" lang="en-US" sz="8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 advTm="5000">
    <p:circl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4T11:22:44Z</dcterms:created>
  <dc:creator>Рома</dc:creator>
  <dc:description/>
  <dc:language>en-US</dc:language>
  <cp:lastModifiedBy>Рома</cp:lastModifiedBy>
  <dcterms:modified xsi:type="dcterms:W3CDTF">2009-05-04T16:54:57Z</dcterms:modified>
  <cp:revision>8</cp:revision>
  <dc:subject/>
  <dc:title>Слайд 1</dc:title>
</cp:coreProperties>
</file>