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rain.wav" ContentType="audio/x-wav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6758-2B34-4199-BD9E-7C7B0ACD2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гария Ирина Владимировна учитель географии СОШ № 34 г. Енакиево Донецкая область Укра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0FDE-F122-4F68-A694-FC1FE38B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0D5-BAE3-4DD8-9B62-B95566D1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3E9-FB9B-458E-A012-07EFE43F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252A-27FA-418D-A7FE-485AC729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0A03-1407-4698-A048-65C49F1C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E3A8-00AB-4002-A0FC-E3E8B1F9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067A-923B-42CE-9AFA-0427032A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D6AA-E5BD-4CCF-9066-E48A712F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B367-5F41-47C1-995C-A3B152EE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4C38-94A1-43A3-8E39-DD24711D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A02D-266A-4C1E-BFAA-8946572E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656-2337-4202-977A-281E23FB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AD64-2600-4449-88E7-1D41B8C9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BE56-8D9C-4521-A33B-A4D9E285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AA60-80B6-4DD0-ADAC-8B0A36CF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8449-0C1C-475C-9B0F-F60202EE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E495-508F-4F32-9D05-02A99DAE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DCB-9A77-47CD-9843-2BCB6538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EAEC-F991-4A5A-B13C-987B9AB0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DFE8-11E1-4353-87CC-23E1A977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A29-F145-4FB8-A103-F8B60F02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F84-2C3E-4DC7-B34A-413758EC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3B88-56B4-4BF1-8B58-FB27BC43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8FF-42CE-4AA7-B27A-E0C4D8F1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FE51-D631-4F02-B2A4-35B9DBB850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3561-A7F0-4419-A0C3-51718989E1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rain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ad4bc"/>
                </a:solidFill>
                <a:latin typeface="Arial"/>
              </a:rPr>
              <a:t>Атмосферные</a:t>
            </a:r>
            <a:br>
              <a:rPr sz="7200"/>
            </a:br>
            <a:r>
              <a:rPr b="1" i="1" lang="en-US" sz="7200" spc="-1" strike="noStrike">
                <a:solidFill>
                  <a:srgbClr val="fad4bc"/>
                </a:solidFill>
                <a:latin typeface="Arial"/>
              </a:rPr>
              <a:t>осадки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080" y="5516640"/>
            <a:ext cx="434592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гария Ирина Владимиро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географии СОШ № 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 Енакиево Донецкая область Укра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1640" y="5157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a4"/>
                </a:solidFill>
                <a:latin typeface="Arial"/>
              </a:rPr>
              <a:t>Кучевые облака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f856"/>
                </a:solidFill>
                <a:latin typeface="Arial"/>
              </a:rPr>
              <a:t>Перистые обла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64080" y="228600"/>
            <a:ext cx="514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Слоистые облака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360036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Туман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checke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138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Снег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a4"/>
                </a:solidFill>
                <a:latin typeface="Arial"/>
              </a:rPr>
              <a:t>Роса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wheel spokes="2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2317" t="4691" r="13111" b="709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76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7e7ff"/>
                </a:solidFill>
                <a:latin typeface="Arial"/>
              </a:rPr>
              <a:t>Дождь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plus/>
    <p:sndAc>
      <p:stSnd>
        <p:snd r:embed="rId3" name="rain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0" t="0" r="43502" b="469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4404" t="1655" r="15488" b="0"/>
          <a:stretch/>
        </p:blipFill>
        <p:spPr>
          <a:xfrm>
            <a:off x="4464000" y="3635280"/>
            <a:ext cx="4680000" cy="3222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33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e95335"/>
                </a:solidFill>
                <a:latin typeface="Arial"/>
              </a:rPr>
              <a:t>Град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40000" y="5300640"/>
            <a:ext cx="293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7e7ff"/>
                </a:solidFill>
                <a:latin typeface="Arial"/>
              </a:rPr>
              <a:t>Иней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58936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Arial"/>
              </a:rPr>
              <a:t>Молния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1:22:44Z</dcterms:created>
  <dc:creator>Рома</dc:creator>
  <dc:description/>
  <dc:language>en-US</dc:language>
  <cp:lastModifiedBy>Рома</cp:lastModifiedBy>
  <dcterms:modified xsi:type="dcterms:W3CDTF">2009-05-04T16:54:57Z</dcterms:modified>
  <cp:revision>8</cp:revision>
  <dc:subject/>
  <dc:title>Слайд 1</dc:title>
</cp:coreProperties>
</file>