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6908-5E17-4D3B-BA3F-90B7291E92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«работает» с применением триггеров (интерактивны поля в среднем столбце, при щелчке по ним появляются надписи в соответствующей строке). Порядок работы с линиями сравнения учитель может определять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я ответов интерактивны (неправильный вариант исчезает, правильный выделяетс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AB7-3FAA-45B7-944D-E5103289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790-4D9D-4398-B9B5-E58F11B0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7CC-599C-47D9-AE2C-B2CB3FC8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339-C2E9-41D1-A34B-F57DDBD1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75D-F789-4B83-92F5-96391BB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382-C0FC-4719-945E-B276B538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FD6-C7F5-4A33-885F-975AC7B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D30-2BA9-49A6-A2AD-87FEDD9B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E80-D69D-46DC-BE12-1002BA45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E0B-89E1-48D6-AE07-37BAA39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D7F-ED81-4D30-A488-B3B97A5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19E-E934-42E5-AD75-597792C4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F25B-F8D9-4C7B-8D06-6F86FC1BA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hyperlink" Target="http://anticrisis.ucoz.ru/CB012045.JPG" TargetMode="External"/><Relationship Id="rId4" Type="http://schemas.openxmlformats.org/officeDocument/2006/relationships/image" Target="../media/image23.png"/><Relationship Id="rId5" Type="http://schemas.openxmlformats.org/officeDocument/2006/relationships/hyperlink" Target="http://shkolazhizni.ru/img/content/i47/47352_or.jpg" TargetMode="External"/><Relationship Id="rId6" Type="http://schemas.openxmlformats.org/officeDocument/2006/relationships/hyperlink" Target="http://shkolazhizni.ru/img/content/i47/47352_or.jpg" TargetMode="External"/><Relationship Id="rId7" Type="http://schemas.openxmlformats.org/officeDocument/2006/relationships/hyperlink" Target="http://shkolazhizni.ru/img/content/i47/47352_or.jpg" TargetMode="External"/><Relationship Id="rId8" Type="http://schemas.openxmlformats.org/officeDocument/2006/relationships/hyperlink" Target="http://shkolazhizni.ru/img/content/i47/47352_or.jpg" TargetMode="External"/><Relationship Id="rId9" Type="http://schemas.openxmlformats.org/officeDocument/2006/relationships/hyperlink" Target="http://shkolazhizni.ru/img/content/i47/47352_or.jpg" TargetMode="External"/><Relationship Id="rId10" Type="http://schemas.openxmlformats.org/officeDocument/2006/relationships/hyperlink" Target="http://shkolazhizni.ru/img/content/i47/47352_or.jpg" TargetMode="External"/><Relationship Id="rId11" Type="http://schemas.openxmlformats.org/officeDocument/2006/relationships/hyperlink" Target="http://shkolazhizni.ru/img/content/i47/47352_or.jpg" TargetMode="External"/><Relationship Id="rId12" Type="http://schemas.openxmlformats.org/officeDocument/2006/relationships/hyperlink" Target="http://shkolazhizni.ru/img/content/i47/47352_or.jpg" TargetMode="Externa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64000" y="3860280"/>
            <a:ext cx="496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(право, 10 клас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профильный уров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492000" y="1412640"/>
            <a:ext cx="5110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рава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и государ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5373720"/>
            <a:ext cx="6400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инина Светлана Александров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СОШ №43 г. Волгогра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5880" y="592128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серватив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5734080"/>
            <a:ext cx="237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уровень стаби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592128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намич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013360"/>
            <a:ext cx="27241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овременно с челове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5013360"/>
            <a:ext cx="23767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время возникнов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911160" y="5013360"/>
            <a:ext cx="26528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овременно с государ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422100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ля рода, пл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4221000"/>
            <a:ext cx="237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422100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28464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знание лю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284640"/>
            <a:ext cx="237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фор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вы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911160" y="328464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енные 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028960"/>
            <a:ext cx="26528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и принуждение рода, пл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2028960"/>
            <a:ext cx="23767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обесп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911160" y="2028960"/>
            <a:ext cx="26528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енное принуж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550880"/>
            <a:ext cx="2652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од, пл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1550880"/>
            <a:ext cx="23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источн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911160" y="1550880"/>
            <a:ext cx="2652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084720" y="189000"/>
            <a:ext cx="265284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Социальные нормы первобытного обще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0"/>
            <a:ext cx="2376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911160" y="404640"/>
            <a:ext cx="2652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Норм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2920" y="1550520"/>
            <a:ext cx="8373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14400" y="333360"/>
            <a:ext cx="20520" cy="612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6099120" y="363600"/>
            <a:ext cx="3240" cy="610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95280" y="206064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95280" y="4220640"/>
            <a:ext cx="8373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95280" y="328464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95280" y="508320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95280" y="587700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f0d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95280" y="513720"/>
            <a:ext cx="8408520" cy="5530680"/>
            <a:chOff x="395280" y="513720"/>
            <a:chExt cx="8408520" cy="5530680"/>
          </a:xfrm>
        </p:grpSpPr>
        <p:sp>
          <p:nvSpPr>
            <p:cNvPr id="152" name="_s25604"/>
            <p:cNvSpPr/>
            <p:nvPr/>
          </p:nvSpPr>
          <p:spPr>
            <a:xfrm flipH="1" flipV="1">
              <a:off x="2605680" y="3031200"/>
              <a:ext cx="1001880" cy="232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_s25605"/>
            <p:cNvSpPr/>
            <p:nvPr/>
          </p:nvSpPr>
          <p:spPr>
            <a:xfrm>
              <a:off x="395280" y="2058120"/>
              <a:ext cx="2399040" cy="148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егализованно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нужден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_s25606"/>
            <p:cNvSpPr/>
            <p:nvPr/>
          </p:nvSpPr>
          <p:spPr>
            <a:xfrm flipH="1">
              <a:off x="3367440" y="4094280"/>
              <a:ext cx="622800" cy="603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_s25607"/>
            <p:cNvSpPr/>
            <p:nvPr/>
          </p:nvSpPr>
          <p:spPr>
            <a:xfrm>
              <a:off x="1475280" y="4555800"/>
              <a:ext cx="2471400" cy="1488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сударственный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уверените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_s25608"/>
            <p:cNvSpPr/>
            <p:nvPr/>
          </p:nvSpPr>
          <p:spPr>
            <a:xfrm>
              <a:off x="5224320" y="4094280"/>
              <a:ext cx="619920" cy="6048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_s25609"/>
            <p:cNvSpPr/>
            <p:nvPr/>
          </p:nvSpPr>
          <p:spPr>
            <a:xfrm>
              <a:off x="5183280" y="4555800"/>
              <a:ext cx="2474280" cy="148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логовы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ститут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_s25610"/>
            <p:cNvSpPr/>
            <p:nvPr/>
          </p:nvSpPr>
          <p:spPr>
            <a:xfrm flipV="1">
              <a:off x="5606640" y="3033000"/>
              <a:ext cx="1004760" cy="230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_s25611"/>
            <p:cNvSpPr/>
            <p:nvPr/>
          </p:nvSpPr>
          <p:spPr>
            <a:xfrm>
              <a:off x="6333120" y="2058120"/>
              <a:ext cx="2470680" cy="1488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дминистративно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рриториально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елен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_s25612"/>
            <p:cNvSpPr/>
            <p:nvPr/>
          </p:nvSpPr>
          <p:spPr>
            <a:xfrm flipV="1">
              <a:off x="4607280" y="2003040"/>
              <a:ext cx="0" cy="7466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_s25613"/>
            <p:cNvSpPr/>
            <p:nvPr/>
          </p:nvSpPr>
          <p:spPr>
            <a:xfrm>
              <a:off x="3329640" y="513720"/>
              <a:ext cx="2470680" cy="148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убличная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ласт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_s25614"/>
            <p:cNvSpPr/>
            <p:nvPr/>
          </p:nvSpPr>
          <p:spPr>
            <a:xfrm>
              <a:off x="3213720" y="2749680"/>
              <a:ext cx="2655360" cy="1488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ризнаки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государства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43280" y="3600"/>
            <a:ext cx="8860320" cy="5502600"/>
            <a:chOff x="143280" y="3600"/>
            <a:chExt cx="8860320" cy="5502600"/>
          </a:xfrm>
        </p:grpSpPr>
        <p:sp>
          <p:nvSpPr>
            <p:cNvPr id="164" name="_s26628"/>
            <p:cNvSpPr/>
            <p:nvPr/>
          </p:nvSpPr>
          <p:spPr>
            <a:xfrm flipH="1" flipV="1">
              <a:off x="2985120" y="1632600"/>
              <a:ext cx="939960" cy="7012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_s26629"/>
            <p:cNvSpPr/>
            <p:nvPr/>
          </p:nvSpPr>
          <p:spPr>
            <a:xfrm>
              <a:off x="1329120" y="512640"/>
              <a:ext cx="2022840" cy="1270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рригационн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_s26630"/>
            <p:cNvSpPr/>
            <p:nvPr/>
          </p:nvSpPr>
          <p:spPr>
            <a:xfrm flipH="1" flipV="1">
              <a:off x="2145960" y="2552040"/>
              <a:ext cx="1435680" cy="1569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_s26631"/>
            <p:cNvSpPr/>
            <p:nvPr/>
          </p:nvSpPr>
          <p:spPr>
            <a:xfrm>
              <a:off x="143280" y="1806480"/>
              <a:ext cx="2022120" cy="1270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рганиче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_s26632"/>
            <p:cNvSpPr/>
            <p:nvPr/>
          </p:nvSpPr>
          <p:spPr>
            <a:xfrm flipH="1">
              <a:off x="2441880" y="3134160"/>
              <a:ext cx="1259640" cy="460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_s26633"/>
            <p:cNvSpPr/>
            <p:nvPr/>
          </p:nvSpPr>
          <p:spPr>
            <a:xfrm>
              <a:off x="396720" y="3276720"/>
              <a:ext cx="2182320" cy="1270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олюнтарист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_s26634"/>
            <p:cNvSpPr/>
            <p:nvPr/>
          </p:nvSpPr>
          <p:spPr>
            <a:xfrm flipH="1">
              <a:off x="3735000" y="3412440"/>
              <a:ext cx="493200" cy="860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_s26635"/>
            <p:cNvSpPr/>
            <p:nvPr/>
          </p:nvSpPr>
          <p:spPr>
            <a:xfrm>
              <a:off x="2378520" y="4235400"/>
              <a:ext cx="2022840" cy="1270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лассов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_s26636"/>
            <p:cNvSpPr/>
            <p:nvPr/>
          </p:nvSpPr>
          <p:spPr>
            <a:xfrm>
              <a:off x="4918320" y="3412440"/>
              <a:ext cx="499320" cy="8582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_s26637"/>
            <p:cNvSpPr/>
            <p:nvPr/>
          </p:nvSpPr>
          <p:spPr>
            <a:xfrm>
              <a:off x="4755240" y="4233240"/>
              <a:ext cx="2022120" cy="1270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атриархальн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_s26638"/>
            <p:cNvSpPr/>
            <p:nvPr/>
          </p:nvSpPr>
          <p:spPr>
            <a:xfrm>
              <a:off x="5444280" y="3134160"/>
              <a:ext cx="1263240" cy="456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_s26639"/>
            <p:cNvSpPr/>
            <p:nvPr/>
          </p:nvSpPr>
          <p:spPr>
            <a:xfrm>
              <a:off x="6571080" y="3272400"/>
              <a:ext cx="2248560" cy="1270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_s26640"/>
            <p:cNvSpPr/>
            <p:nvPr/>
          </p:nvSpPr>
          <p:spPr>
            <a:xfrm flipV="1">
              <a:off x="5564520" y="2547360"/>
              <a:ext cx="1432440" cy="158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_s26641"/>
            <p:cNvSpPr/>
            <p:nvPr/>
          </p:nvSpPr>
          <p:spPr>
            <a:xfrm>
              <a:off x="6980760" y="1802160"/>
              <a:ext cx="2022840" cy="12708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договорн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_s26642"/>
            <p:cNvSpPr/>
            <p:nvPr/>
          </p:nvSpPr>
          <p:spPr>
            <a:xfrm flipV="1">
              <a:off x="5218560" y="1632600"/>
              <a:ext cx="936000" cy="699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_s26643"/>
            <p:cNvSpPr/>
            <p:nvPr/>
          </p:nvSpPr>
          <p:spPr>
            <a:xfrm>
              <a:off x="5791320" y="512640"/>
              <a:ext cx="2022840" cy="1270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насили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_s26644"/>
            <p:cNvSpPr/>
            <p:nvPr/>
          </p:nvSpPr>
          <p:spPr>
            <a:xfrm flipV="1">
              <a:off x="4571640" y="1272600"/>
              <a:ext cx="0" cy="912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_s26645"/>
            <p:cNvSpPr/>
            <p:nvPr/>
          </p:nvSpPr>
          <p:spPr>
            <a:xfrm>
              <a:off x="3562200" y="3600"/>
              <a:ext cx="2022840" cy="12708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теологиче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_s26646"/>
            <p:cNvSpPr/>
            <p:nvPr/>
          </p:nvSpPr>
          <p:spPr>
            <a:xfrm>
              <a:off x="3132000" y="1915200"/>
              <a:ext cx="3022560" cy="1890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происхождения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государства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50920" y="4653000"/>
            <a:ext cx="2050920" cy="911160"/>
          </a:xfrm>
          <a:prstGeom prst="wedgeRoundRectCallout">
            <a:avLst>
              <a:gd name="adj1" fmla="val -1782"/>
              <a:gd name="adj2" fmla="val -100000"/>
              <a:gd name="adj3" fmla="val 16667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 сильной 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924280"/>
            <a:ext cx="2160360" cy="838080"/>
          </a:xfrm>
          <a:prstGeom prst="wedgeRoundRectCallout">
            <a:avLst>
              <a:gd name="adj1" fmla="val -3416"/>
              <a:gd name="adj2" fmla="val -93180"/>
              <a:gd name="adj3" fmla="val 16667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едение сил при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755280" y="5589720"/>
            <a:ext cx="76575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: Возможно 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ь причины возникновения госуда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мках только какой-либо одной теор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появилось раньш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аво или государ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ренажер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360" y="6919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й из признаков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е характеризует государ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5516640"/>
            <a:ext cx="691344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убличная вл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4460760"/>
            <a:ext cx="691344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оохранительные орг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3405240"/>
            <a:ext cx="691344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уверен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349360"/>
            <a:ext cx="691344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парт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3" dur="indefinite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4" dur="indefinite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знаком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юбого государства являе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551664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зависимость судебной в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453240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едерализ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354816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сударственный суверен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565360"/>
            <a:ext cx="741708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зидентское пр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2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юбое государство характеризуетс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551664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блюдением прав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453240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личием аппарата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354816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ховенством пра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565360"/>
            <a:ext cx="741708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м плюрализм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9" dur="indefinite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д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Эссе: «Что появилось раньше: право или государств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2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: учебник для учащихся 10 кл. общеобразовательных учреждений: профильный уровень /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Н.Боголюбов, Е.А.Лукашева, А.И.Матвеев и др.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под ред. Л.Н.Боголюбова. – М.: Просвещение,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аев В.К., Баранов В.М., Толстик В.А. Теория права и государства в схемах и определениях: Учебное пособие. – М.: Юристъ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ерьянова Г.И. ЕГЭ - 2009, Обществознание. Тематические тренировочные задания / Г.И.Аверьянова. – М: Эксмо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зебникова А.Ю. ЕГЭ. Обществознание. Тематическая рабочая тетрадь ФИПИ / А.Ю. Лазебникова, Е.С. Королькова, Е.Л. Рутковская. – М.: Издательство «Экзамен»,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появилось раньш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аво или государ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23080" y="3938760"/>
            <a:ext cx="820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6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точки зрения высказывают уче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 иллюстраций для оформления шабло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76000" y="187488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3"/>
              </a:rPr>
              <a:t>http://anticrisis.ucoz.ru/CB012045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7"/>
              </a:rPr>
              <a:t>shkolazhizni.ru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9"/>
              </a:rPr>
              <a:t>img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10"/>
              </a:rPr>
              <a:t>/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11"/>
              </a:rPr>
              <a:t>content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12"/>
              </a:rPr>
              <a:t>/i47/47352_or.jp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Вспомним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раво -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осударство -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376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общеобязательны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льно определе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р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ционирова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храняемых государ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регулир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ой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933800" y="2303640"/>
            <a:ext cx="38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ая организация вла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ад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паратом принужд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ыражающая интере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ода или его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Обратим внимани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ланета Земл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бразовалас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4,7 млрд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Жизнь на Зем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зникл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3-3,5 млрд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Челове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явил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2 млн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Человек современного ти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 sapien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появил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40 тыс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аво и 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зник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5 тыс. лет наз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395280" y="476280"/>
            <a:ext cx="8316360" cy="2591280"/>
            <a:chOff x="395280" y="476280"/>
            <a:chExt cx="8316360" cy="2591280"/>
          </a:xfrm>
        </p:grpSpPr>
        <p:cxnSp>
          <p:nvCxnSpPr>
            <p:cNvPr id="62" name="_s19460"/>
            <p:cNvCxnSpPr>
              <a:stCxn id="63" idx="0"/>
              <a:endCxn id="64" idx="2"/>
            </p:cNvCxnSpPr>
            <p:nvPr/>
          </p:nvCxnSpPr>
          <p:spPr>
            <a:xfrm flipV="1" rot="16200000">
              <a:off x="5508360" y="747000"/>
              <a:ext cx="346680" cy="2221560"/>
            </a:xfrm>
            <a:prstGeom prst="bentConnector3">
              <a:avLst>
                <a:gd name="adj1" fmla="val 32952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65" name="_s19461"/>
            <p:cNvCxnSpPr>
              <a:stCxn id="66" idx="0"/>
              <a:endCxn id="64" idx="2"/>
            </p:cNvCxnSpPr>
            <p:nvPr/>
          </p:nvCxnSpPr>
          <p:spPr>
            <a:xfrm flipH="1" flipV="1" rot="5400000">
              <a:off x="3269520" y="729360"/>
              <a:ext cx="346680" cy="2257200"/>
            </a:xfrm>
            <a:prstGeom prst="bentConnector3">
              <a:avLst>
                <a:gd name="adj1" fmla="val 32952"/>
              </a:avLst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64" name="_s19462"/>
            <p:cNvSpPr/>
            <p:nvPr/>
          </p:nvSpPr>
          <p:spPr>
            <a:xfrm>
              <a:off x="1980720" y="476280"/>
              <a:ext cx="5184000" cy="1208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Средства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организации и управления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обществом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_s19463"/>
            <p:cNvSpPr/>
            <p:nvPr/>
          </p:nvSpPr>
          <p:spPr>
            <a:xfrm>
              <a:off x="395280" y="2031120"/>
              <a:ext cx="3838320" cy="1036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оциальные норм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_s19464"/>
            <p:cNvSpPr/>
            <p:nvPr/>
          </p:nvSpPr>
          <p:spPr>
            <a:xfrm>
              <a:off x="4873320" y="2031120"/>
              <a:ext cx="3838320" cy="1036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ласт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11280" y="3141720"/>
            <a:ext cx="33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повед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гулирующ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ш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люд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068640"/>
            <a:ext cx="429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ность и возмож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азывать определя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действие на деятельнос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дение людей с помощь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и, авторите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а, наси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циальные норм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обытн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68360" y="1525680"/>
            <a:ext cx="8228520" cy="4494960"/>
            <a:chOff x="468360" y="1525680"/>
            <a:chExt cx="8228520" cy="4494960"/>
          </a:xfrm>
        </p:grpSpPr>
        <p:cxnSp>
          <p:nvCxnSpPr>
            <p:cNvPr id="71" name="_s20485"/>
            <p:cNvCxnSpPr>
              <a:stCxn id="72" idx="1"/>
              <a:endCxn id="73" idx="2"/>
            </p:cNvCxnSpPr>
            <p:nvPr/>
          </p:nvCxnSpPr>
          <p:spPr>
            <a:xfrm rot="10800000">
              <a:off x="4582080" y="2166840"/>
              <a:ext cx="588240" cy="35326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74" name="_s20486"/>
            <p:cNvCxnSpPr>
              <a:stCxn id="75" idx="3"/>
              <a:endCxn id="73" idx="2"/>
            </p:cNvCxnSpPr>
            <p:nvPr/>
          </p:nvCxnSpPr>
          <p:spPr>
            <a:xfrm flipV="1">
              <a:off x="3994920" y="2166840"/>
              <a:ext cx="588240" cy="35326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76" name="_s20487"/>
            <p:cNvCxnSpPr>
              <a:stCxn id="77" idx="1"/>
              <a:endCxn id="73" idx="2"/>
            </p:cNvCxnSpPr>
            <p:nvPr/>
          </p:nvCxnSpPr>
          <p:spPr>
            <a:xfrm rot="10800000">
              <a:off x="4582080" y="2166840"/>
              <a:ext cx="588240" cy="256932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78" name="_s20488"/>
            <p:cNvCxnSpPr>
              <a:stCxn id="79" idx="3"/>
              <a:endCxn id="73" idx="2"/>
            </p:cNvCxnSpPr>
            <p:nvPr/>
          </p:nvCxnSpPr>
          <p:spPr>
            <a:xfrm flipV="1">
              <a:off x="3994920" y="2166840"/>
              <a:ext cx="588240" cy="256932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0" name="_s20489"/>
            <p:cNvCxnSpPr>
              <a:stCxn id="81" idx="1"/>
              <a:endCxn id="73" idx="2"/>
            </p:cNvCxnSpPr>
            <p:nvPr/>
          </p:nvCxnSpPr>
          <p:spPr>
            <a:xfrm rot="10800000">
              <a:off x="4582080" y="2166840"/>
              <a:ext cx="588240" cy="160596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2" name="_s20490"/>
            <p:cNvCxnSpPr>
              <a:stCxn id="83" idx="3"/>
              <a:endCxn id="73" idx="2"/>
            </p:cNvCxnSpPr>
            <p:nvPr/>
          </p:nvCxnSpPr>
          <p:spPr>
            <a:xfrm flipV="1">
              <a:off x="3994920" y="2166840"/>
              <a:ext cx="588240" cy="160596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4" name="_s20491"/>
            <p:cNvCxnSpPr>
              <a:stCxn id="85" idx="1"/>
              <a:endCxn id="73" idx="2"/>
            </p:cNvCxnSpPr>
            <p:nvPr/>
          </p:nvCxnSpPr>
          <p:spPr>
            <a:xfrm rot="10800000">
              <a:off x="4582080" y="2166840"/>
              <a:ext cx="588240" cy="6426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6" name="_s20492"/>
            <p:cNvCxnSpPr>
              <a:stCxn id="87" idx="3"/>
              <a:endCxn id="73" idx="2"/>
            </p:cNvCxnSpPr>
            <p:nvPr/>
          </p:nvCxnSpPr>
          <p:spPr>
            <a:xfrm flipV="1">
              <a:off x="3994920" y="2166840"/>
              <a:ext cx="588240" cy="6426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73" name="_s20493"/>
            <p:cNvSpPr/>
            <p:nvPr/>
          </p:nvSpPr>
          <p:spPr>
            <a:xfrm>
              <a:off x="2819160" y="1525680"/>
              <a:ext cx="3526560" cy="64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ичины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озникновения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_s20494"/>
            <p:cNvSpPr/>
            <p:nvPr/>
          </p:nvSpPr>
          <p:spPr>
            <a:xfrm>
              <a:off x="468360" y="2488680"/>
              <a:ext cx="3526560" cy="641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_s20495"/>
            <p:cNvSpPr/>
            <p:nvPr/>
          </p:nvSpPr>
          <p:spPr>
            <a:xfrm>
              <a:off x="5170320" y="2488680"/>
              <a:ext cx="3526560" cy="641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биолог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_s20496"/>
            <p:cNvSpPr/>
            <p:nvPr/>
          </p:nvSpPr>
          <p:spPr>
            <a:xfrm>
              <a:off x="468360" y="3452040"/>
              <a:ext cx="3526560" cy="641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природны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_s20497"/>
            <p:cNvSpPr/>
            <p:nvPr/>
          </p:nvSpPr>
          <p:spPr>
            <a:xfrm>
              <a:off x="5170320" y="3452040"/>
              <a:ext cx="3526560" cy="641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религиозно-обрядовы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_s20498"/>
            <p:cNvSpPr/>
            <p:nvPr/>
          </p:nvSpPr>
          <p:spPr>
            <a:xfrm>
              <a:off x="471960" y="4415400"/>
              <a:ext cx="3522960" cy="641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демограф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_s20499"/>
            <p:cNvSpPr/>
            <p:nvPr/>
          </p:nvSpPr>
          <p:spPr>
            <a:xfrm>
              <a:off x="5170320" y="4415400"/>
              <a:ext cx="3526560" cy="641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санитарно-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игиен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_s20500"/>
            <p:cNvSpPr/>
            <p:nvPr/>
          </p:nvSpPr>
          <p:spPr>
            <a:xfrm>
              <a:off x="471960" y="5378760"/>
              <a:ext cx="3522960" cy="6418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психолог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_s20501"/>
            <p:cNvSpPr/>
            <p:nvPr/>
          </p:nvSpPr>
          <p:spPr>
            <a:xfrm>
              <a:off x="5170320" y="5378760"/>
              <a:ext cx="3526560" cy="6418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66560" y="60930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ы, иллюстрирующие данные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циальные норм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обытн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5280" y="1614600"/>
            <a:ext cx="8352360" cy="3719160"/>
            <a:chOff x="395280" y="1614600"/>
            <a:chExt cx="8352360" cy="3719160"/>
          </a:xfrm>
        </p:grpSpPr>
        <p:cxnSp>
          <p:nvCxnSpPr>
            <p:cNvPr id="91" name="_s21509"/>
            <p:cNvCxnSpPr>
              <a:stCxn id="92" idx="3"/>
              <a:endCxn id="93" idx="2"/>
            </p:cNvCxnSpPr>
            <p:nvPr/>
          </p:nvCxnSpPr>
          <p:spPr>
            <a:xfrm flipV="1">
              <a:off x="3974400" y="2289960"/>
              <a:ext cx="597240" cy="27054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94" name="_s21510"/>
            <p:cNvCxnSpPr>
              <a:stCxn id="95" idx="1"/>
              <a:endCxn id="93" idx="2"/>
            </p:cNvCxnSpPr>
            <p:nvPr/>
          </p:nvCxnSpPr>
          <p:spPr>
            <a:xfrm rot="10800000">
              <a:off x="4570920" y="2289960"/>
              <a:ext cx="597240" cy="16912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96" name="_s21511"/>
            <p:cNvCxnSpPr>
              <a:stCxn id="97" idx="3"/>
              <a:endCxn id="93" idx="2"/>
            </p:cNvCxnSpPr>
            <p:nvPr/>
          </p:nvCxnSpPr>
          <p:spPr>
            <a:xfrm flipV="1">
              <a:off x="3974400" y="2290320"/>
              <a:ext cx="597240" cy="16912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98" name="_s21512"/>
            <p:cNvCxnSpPr>
              <a:stCxn id="99" idx="1"/>
              <a:endCxn id="93" idx="2"/>
            </p:cNvCxnSpPr>
            <p:nvPr/>
          </p:nvCxnSpPr>
          <p:spPr>
            <a:xfrm rot="10800000">
              <a:off x="4570920" y="2289960"/>
              <a:ext cx="597240" cy="6768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100" name="_s21513"/>
            <p:cNvCxnSpPr>
              <a:stCxn id="101" idx="3"/>
              <a:endCxn id="93" idx="2"/>
            </p:cNvCxnSpPr>
            <p:nvPr/>
          </p:nvCxnSpPr>
          <p:spPr>
            <a:xfrm flipV="1">
              <a:off x="3974400" y="2290320"/>
              <a:ext cx="597240" cy="6768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93" name="_s21514"/>
            <p:cNvSpPr/>
            <p:nvPr/>
          </p:nvSpPr>
          <p:spPr>
            <a:xfrm>
              <a:off x="2781720" y="1614600"/>
              <a:ext cx="3579480" cy="676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Виды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_s21515"/>
            <p:cNvSpPr/>
            <p:nvPr/>
          </p:nvSpPr>
          <p:spPr>
            <a:xfrm>
              <a:off x="395280" y="2628720"/>
              <a:ext cx="3579480" cy="67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_s21516"/>
            <p:cNvSpPr/>
            <p:nvPr/>
          </p:nvSpPr>
          <p:spPr>
            <a:xfrm>
              <a:off x="5168160" y="2628720"/>
              <a:ext cx="3579480" cy="67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простейшие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нормы морали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_s21517"/>
            <p:cNvSpPr/>
            <p:nvPr/>
          </p:nvSpPr>
          <p:spPr>
            <a:xfrm>
              <a:off x="395280" y="3643200"/>
              <a:ext cx="3579480" cy="676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религиозные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нормы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_s21518"/>
            <p:cNvSpPr/>
            <p:nvPr/>
          </p:nvSpPr>
          <p:spPr>
            <a:xfrm>
              <a:off x="5168160" y="3643200"/>
              <a:ext cx="3579480" cy="676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мифологи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_s21519"/>
            <p:cNvSpPr/>
            <p:nvPr/>
          </p:nvSpPr>
          <p:spPr>
            <a:xfrm>
              <a:off x="398880" y="4657680"/>
              <a:ext cx="3575880" cy="676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табу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2286000" y="5867280"/>
            <a:ext cx="426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нонормы</a:t>
            </a:r>
            <a:endParaRPr b="0" lang="en-US" sz="1800" spc="1" strike="noStrike">
              <a:ln w="0">
                <a:noFill/>
              </a:ln>
              <a:solidFill>
                <a:srgbClr val="66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95280" y="410400"/>
            <a:ext cx="8280000" cy="5399640"/>
            <a:chOff x="395280" y="410400"/>
            <a:chExt cx="8280000" cy="5399640"/>
          </a:xfrm>
        </p:grpSpPr>
        <p:sp>
          <p:nvSpPr>
            <p:cNvPr id="104" name="_s22532"/>
            <p:cNvSpPr/>
            <p:nvPr/>
          </p:nvSpPr>
          <p:spPr>
            <a:xfrm flipH="1">
              <a:off x="2503800" y="3110400"/>
              <a:ext cx="1053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22533"/>
            <p:cNvSpPr/>
            <p:nvPr/>
          </p:nvSpPr>
          <p:spPr>
            <a:xfrm>
              <a:off x="395280" y="2303280"/>
              <a:ext cx="2662200" cy="1593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Консерватизм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22534"/>
            <p:cNvSpPr/>
            <p:nvPr/>
          </p:nvSpPr>
          <p:spPr>
            <a:xfrm>
              <a:off x="4607280" y="3785040"/>
              <a:ext cx="0" cy="676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_s22535"/>
            <p:cNvSpPr/>
            <p:nvPr/>
          </p:nvSpPr>
          <p:spPr>
            <a:xfrm>
              <a:off x="2485440" y="4461480"/>
              <a:ext cx="4246560" cy="1348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Обеспечение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ерами общественного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воздействия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_s22536"/>
            <p:cNvSpPr/>
            <p:nvPr/>
          </p:nvSpPr>
          <p:spPr>
            <a:xfrm>
              <a:off x="5657400" y="3110400"/>
              <a:ext cx="1053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_s22537"/>
            <p:cNvSpPr/>
            <p:nvPr/>
          </p:nvSpPr>
          <p:spPr>
            <a:xfrm>
              <a:off x="6085440" y="2303280"/>
              <a:ext cx="2589840" cy="1658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ривычка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в результате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ногократного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овторения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22538"/>
            <p:cNvSpPr/>
            <p:nvPr/>
          </p:nvSpPr>
          <p:spPr>
            <a:xfrm flipV="1">
              <a:off x="4607280" y="1758960"/>
              <a:ext cx="0" cy="676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_s22539"/>
            <p:cNvSpPr/>
            <p:nvPr/>
          </p:nvSpPr>
          <p:spPr>
            <a:xfrm>
              <a:off x="2922840" y="410400"/>
              <a:ext cx="3227760" cy="1348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ормы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_s22540"/>
            <p:cNvSpPr/>
            <p:nvPr/>
          </p:nvSpPr>
          <p:spPr>
            <a:xfrm>
              <a:off x="3492000" y="2274840"/>
              <a:ext cx="2302920" cy="1800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ризнаки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ервобытных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обычаев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68360" y="477720"/>
            <a:ext cx="8206200" cy="2590200"/>
            <a:chOff x="468360" y="477720"/>
            <a:chExt cx="8206200" cy="2590200"/>
          </a:xfrm>
        </p:grpSpPr>
        <p:cxnSp>
          <p:nvCxnSpPr>
            <p:cNvPr id="114" name="_s23556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416920" y="667440"/>
              <a:ext cx="518760" cy="2209680"/>
            </a:xfrm>
            <a:prstGeom prst="bentConnector3">
              <a:avLst>
                <a:gd name="adj1" fmla="val 22083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117" name="_s23557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207600" y="667440"/>
              <a:ext cx="518760" cy="2210400"/>
            </a:xfrm>
            <a:prstGeom prst="bentConnector3">
              <a:avLst>
                <a:gd name="adj1" fmla="val 22083"/>
              </a:avLst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116" name="_s23558"/>
            <p:cNvSpPr/>
            <p:nvPr/>
          </p:nvSpPr>
          <p:spPr>
            <a:xfrm>
              <a:off x="2178000" y="477720"/>
              <a:ext cx="4786560" cy="1036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Причины возникновения 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права и государства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_s23559"/>
            <p:cNvSpPr/>
            <p:nvPr/>
          </p:nvSpPr>
          <p:spPr>
            <a:xfrm>
              <a:off x="468360" y="2031840"/>
              <a:ext cx="3787560" cy="103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_s23560"/>
            <p:cNvSpPr/>
            <p:nvPr/>
          </p:nvSpPr>
          <p:spPr>
            <a:xfrm>
              <a:off x="4887000" y="2031840"/>
              <a:ext cx="3787560" cy="103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68360" y="3098880"/>
            <a:ext cx="3959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 от присваивающ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производящем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щественное раздел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излишков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ультате рос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одительн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частн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ств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855320" y="3213000"/>
            <a:ext cx="386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ложение р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возникновение семь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антагон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ол общества на клас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06:28:19Z</dcterms:created>
  <dc:creator>Оля</dc:creator>
  <dc:description>http://aida.ucoz.ru</dc:description>
  <dc:language>en-US</dc:language>
  <cp:lastModifiedBy>Оля</cp:lastModifiedBy>
  <dcterms:modified xsi:type="dcterms:W3CDTF">2012-07-14T12:12:06Z</dcterms:modified>
  <cp:revision>14</cp:revision>
  <dc:subject/>
  <dc:title>Происхождение  права и государства</dc:title>
</cp:coreProperties>
</file>