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gif" ContentType="image/gif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8FA-4652-4C95-BBC3-D1FFAB8B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03E-4A6D-4C79-8AA8-C377CBBA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E67-A3EB-4B6F-AEFE-DFC060BD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46E-BB6A-47C8-8830-89C8DD3D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2BE-3A10-4E49-BD77-C415E372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02F-13FD-4B33-B3E9-C21390B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24D-C5B4-4C2B-BAA0-763FF0DB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352-B40A-42AC-9423-9847D90A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86A-120B-4C00-8AFC-254A402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D97-0AA5-49DD-80B5-6295E0C6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12F-372D-4363-860D-BB593823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A36-FA32-45E7-BE61-C0CE2F6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D8ED-32C2-4CDE-9E9B-B49F48374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WordArt 10"/>
          <p:cNvSpPr txBox="1"/>
          <p:nvPr/>
        </p:nvSpPr>
        <p:spPr>
          <a:xfrm>
            <a:off x="216000" y="1197000"/>
            <a:ext cx="8604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ая политика и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национальные движения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3640" y="765000"/>
            <a:ext cx="4105440" cy="5832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условиях роста национа-льных движений власти скорректировали нацио-нальную политику.Реп-рессии применялись лишь к участникам отк-рытых выступлений.На-циональные кадры ста-ли массово награждать-ся орденами,медалями и почетными званиями.На чалась«коренизация» ме стного руководства.Во главе республик встали представители коренной национальности,а рус-ские, занимая посты 2-го секретаря оказывались в роли «наблюдате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4.Эволюция национальной политики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70120" y="5964120"/>
            <a:ext cx="26924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к 50-лети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зования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3"/>
          <p:cNvPicPr/>
          <p:nvPr/>
        </p:nvPicPr>
        <p:blipFill>
          <a:blip r:embed="rId3"/>
          <a:stretch/>
        </p:blipFill>
        <p:spPr>
          <a:xfrm>
            <a:off x="1403280" y="692280"/>
            <a:ext cx="3452760" cy="5244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03280" y="1197000"/>
            <a:ext cx="7632720" cy="5184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1.«Новая историческая общност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2.Противоречия между Центром и республи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3.Национальные дви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Monotype Corsiva"/>
              </a:rPr>
              <a:t>4.Эволюция национальной полити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99"/>
                </a:solidFill>
                <a:latin typeface="Monotype Corsiva"/>
              </a:rPr>
              <a:t>Чем объяснялась активизация национальных движений в 60-70-е гг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72 г.страна отметила 50 лет СССР.За эти годы республики добились колоссального успеха в эко-номическом и социальном развитии.В Средней Азии уровень грамотности вырос с 5 до 95 %.Объ-ем промышленного производства в республиках вырос на 176 - 600%.В Узбекистане число специа-листов с высшим образованием было больше чем в СССР в 20-е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61520" y="1557360"/>
            <a:ext cx="2814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обыча уг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ткрытым способ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Экибастуз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2"/>
          <p:cNvPicPr/>
          <p:nvPr/>
        </p:nvPicPr>
        <p:blipFill>
          <a:blip r:embed="rId3"/>
          <a:stretch/>
        </p:blipFill>
        <p:spPr>
          <a:xfrm>
            <a:off x="4284720" y="547560"/>
            <a:ext cx="4680000" cy="3040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ромыщленное производство в прибалтике выросло в среднем в 35 раз.В к.60-х гг власти заявили о том, что в СССР сформирована новая общность-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оветс-кий народ.</a:t>
            </a:r>
            <a:r>
              <a:rPr b="1" lang="ru-RU" sz="2400" spc="-1" strike="noStrike" u="sng">
                <a:solidFill>
                  <a:srgbClr val="ffff99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та идея означала,что советские нации сблизились и объединились на основе построения коммунизма.В 70-е гг. это положение было дополне но выводом о том,что сложившийся в стране «еди-ный народно-хозяйственный комплекс» стал «ма-териальной основой дружбы народ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1.«Новая историческая общность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1801440" y="1482840"/>
            <a:ext cx="21391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оржественн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засед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ремл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1"/>
          <p:cNvPicPr/>
          <p:nvPr/>
        </p:nvPicPr>
        <p:blipFill>
          <a:blip r:embed="rId3"/>
          <a:stretch/>
        </p:blipFill>
        <p:spPr>
          <a:xfrm>
            <a:off x="4498920" y="549360"/>
            <a:ext cx="4465800" cy="302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Экономическая реформа 1965 г. Делала акцент на усиление специализации республик.Каждая из них развивала традици-онное производство.В ин тересах интеграции шло ускоренное развитие наи менее развитых с т.з.про- мышленности союзных республик.В большей ме ре этот процесс затронул Белоруссию,Молдавию,Туркмению,Киргизию, Азербайджан,Узбекис-тан и Литву.Одновремен но была преодолена их обособлен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366560" y="5835600"/>
            <a:ext cx="347868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борка хлеба в Башкир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1"/>
          <p:cNvPicPr/>
          <p:nvPr/>
        </p:nvPicPr>
        <p:blipFill>
          <a:blip r:embed="rId3"/>
          <a:stretch/>
        </p:blipFill>
        <p:spPr>
          <a:xfrm>
            <a:off x="1476360" y="1197000"/>
            <a:ext cx="3375000" cy="394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урное промышленное строительство в респуб-ликах привело к усиле-нию роли Центра.В 70-е гг.были ликвидированы те права и привилегии, которые республики по-лучили в 50-е гг.Эконо-мическое,социальное и культурное развитие те-перь шло под контролем Кремля.Переселение в республики русскоязыч-ных кадров воспринима-лось там как русская эк-спансия.Это привело к усилению национализ-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2.Противоречия между Центром и республикам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803600" y="5877000"/>
            <a:ext cx="26618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Животноводче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комплекс в Литв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2"/>
          <p:cNvPicPr/>
          <p:nvPr/>
        </p:nvPicPr>
        <p:blipFill>
          <a:blip r:embed="rId3"/>
          <a:stretch/>
        </p:blipFill>
        <p:spPr>
          <a:xfrm>
            <a:off x="1403280" y="907920"/>
            <a:ext cx="3483000" cy="4751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явившиеся национальные движения выступали под флагом защиты национальных культур.В 1971 г.был снят с поста 1-й секретарьЦК КПУ П.Шелест за попытку сохранить прежнее количество украин- ских школ.Национализм занял большое место и в диссидентском движении.В 1967 г.развернулось движение евреев за право выезда на «историчес-кую родину».В 1972 г.были сняты все ограничения  в отношении немцев Поволжья,Но их автономия так и не была восстано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464840" y="1231920"/>
            <a:ext cx="331704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 труда Израи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Щаранск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нт из ССС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Руководитель движ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эмиграцию еврее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1"/>
          <p:cNvPicPr/>
          <p:nvPr/>
        </p:nvPicPr>
        <p:blipFill>
          <a:blip r:embed="rId3"/>
          <a:stretch/>
        </p:blipFill>
        <p:spPr>
          <a:xfrm>
            <a:off x="5003640" y="550800"/>
            <a:ext cx="3961080" cy="30463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а 20 лет из СССР выехали 72тыс.немцев и 275 тыс. евреев.В Прибалтике развернулось движение за со блюдение прав и свободу деятельности церкви.В связи с обсуждением новой Конституции в Грузии прошли демонстрации с требованием сохранить ро дной язык в качестве государственного.Армянские националисты организовали ряд взрывов, в т.ч.в московском метро в 1977 г.Всплеск национализма привел к росту русского националь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3.Национальные движ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418760" y="1773360"/>
            <a:ext cx="23965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шкент вечер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1"/>
          <p:cNvPicPr/>
          <p:nvPr/>
        </p:nvPicPr>
        <p:blipFill>
          <a:blip r:embed="rId3"/>
          <a:stretch/>
        </p:blipFill>
        <p:spPr>
          <a:xfrm>
            <a:off x="3995640" y="557280"/>
            <a:ext cx="4932360" cy="3016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COMP</cp:lastModifiedBy>
  <dcterms:modified xsi:type="dcterms:W3CDTF">2011-10-10T08:03:02Z</dcterms:modified>
  <cp:revision>71</cp:revision>
  <dc:subject/>
  <dc:title>Слайд 1</dc:title>
</cp:coreProperties>
</file>