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D75-F8ED-4437-8BB9-A4A72AEF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B8-8949-4E1A-B453-C79C5996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2E0-647B-49E6-ABD5-435E45A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5DF-DD23-4AF9-A29C-7FDDE3AE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F84-B254-4DA9-B491-89000C51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1A7-D6DF-4555-8C4F-8CCE1C9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44B-5A04-4F7B-81F6-F286531F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7F4-C6E4-4BA8-9E10-E015653D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CFE-3DA3-48A8-AEFF-B79D968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E3C-B15A-47E6-B846-84D4999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D15-68AB-4AF2-AF91-5CA6008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AAA-D96C-4BCA-BCE3-C39B71E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781-8A0D-477C-95C1-D7A94E519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16000" y="1197000"/>
            <a:ext cx="8604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 и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ые движени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3640" y="765000"/>
            <a:ext cx="4105440" cy="583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условиях роста национа-льных движений власти скорректировали нацио-нальную политику.Реп-рессии применялись лишь к участникам отк-рытых выступлений.На-циональные кадры ста-ли массово награждать-ся орденами,медалями и почетными званиями.На чалась«коренизация» ме стного руководства.Во главе республик встали представители коренной национальности,а рус-ские, занимая посты 2-го секретаря оказывались в роли «наблюда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4.Эволюция национальной политик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70120" y="5964120"/>
            <a:ext cx="2692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к 50-лет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зования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3"/>
          <p:cNvPicPr/>
          <p:nvPr/>
        </p:nvPicPr>
        <p:blipFill>
          <a:blip r:embed="rId3"/>
          <a:stretch/>
        </p:blipFill>
        <p:spPr>
          <a:xfrm>
            <a:off x="1403280" y="692280"/>
            <a:ext cx="3452760" cy="5244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03280" y="1197000"/>
            <a:ext cx="7632720" cy="5184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1.«Новая историческая общнос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3.Национальные дви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4.Эволюция национальной полит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Чем объяснялась активизация национальных движений в 60-70-е гг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2 г.страна отметила 50 лет СССР.За эти годы республики добились колоссального успеха в эко-номическом и социальном развитии.В Средней Азии уровень грамотности вырос с 5 до 95 %.Объ-ем промышленного производства в республиках вырос на 176 - 600%.В Узбекистане число специа-листов с высшим образованием было больше чем в СССР в 2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1520" y="1557360"/>
            <a:ext cx="2814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обыча уг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крытым способ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Экибастуз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2"/>
          <p:cNvPicPr/>
          <p:nvPr/>
        </p:nvPicPr>
        <p:blipFill>
          <a:blip r:embed="rId3"/>
          <a:stretch/>
        </p:blipFill>
        <p:spPr>
          <a:xfrm>
            <a:off x="4284720" y="547560"/>
            <a:ext cx="4680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мыщленное производство в прибалтике выросло в среднем в 35 раз.В к.60-х гг власти заявили о том, что в СССР сформирована новая общность-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с-кий народ.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а идея означала,что советские нации сблизились и объединились на основе построения коммунизма.В 70-е гг. это положение было дополне но выводом о том,что сложившийся в стране «еди-ный народно-хозяйственный комплекс» стал «ма-териальной основой дружбы народ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801440" y="1482840"/>
            <a:ext cx="2139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оржественн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засед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рем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"/>
          <p:cNvPicPr/>
          <p:nvPr/>
        </p:nvPicPr>
        <p:blipFill>
          <a:blip r:embed="rId3"/>
          <a:stretch/>
        </p:blipFill>
        <p:spPr>
          <a:xfrm>
            <a:off x="4498920" y="549360"/>
            <a:ext cx="446580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кономическая реформа 1965 г. Делала акцент на усиление специализации республик.Каждая из них развивала традици-онное производство.В ин тересах интеграции шло ускоренное развитие наи менее развитых с т.з.про- мышленности союзных республик.В большей ме ре этот процесс затронул Белоруссию,Молдавию,Туркмению,Киргизию, Азербайджан,Узбекис-тан и Литву.Одновремен но была преодолена их обособлен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366560" y="5835600"/>
            <a:ext cx="3478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борка хлеба в Башкир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1"/>
          <p:cNvPicPr/>
          <p:nvPr/>
        </p:nvPicPr>
        <p:blipFill>
          <a:blip r:embed="rId3"/>
          <a:stretch/>
        </p:blipFill>
        <p:spPr>
          <a:xfrm>
            <a:off x="1476360" y="1197000"/>
            <a:ext cx="3375000" cy="394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урное промышленное строительство в респуб-ликах привело к усиле-нию роли Центра.В 70-е гг.были ликвидированы те права и привилегии, которые республики по-лучили в 50-е гг.Эконо-мическое,социальное и культурное развитие те-перь шло под контролем Кремля.Переселение в республики русскоязыч-ных кадров воспринима-лось там как русская эк-спансия.Это привело к усилению национализ-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803600" y="5877000"/>
            <a:ext cx="26618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Животноводче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мплекс в Литв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2"/>
          <p:cNvPicPr/>
          <p:nvPr/>
        </p:nvPicPr>
        <p:blipFill>
          <a:blip r:embed="rId3"/>
          <a:stretch/>
        </p:blipFill>
        <p:spPr>
          <a:xfrm>
            <a:off x="1403280" y="907920"/>
            <a:ext cx="3483000" cy="475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явившиеся национальные движения выступали под флагом защиты национальных культур.В 1971 г.был снят с поста 1-й секретарьЦК КПУ П.Шелест за попытку сохранить прежнее количество украин- ских школ.Национализм занял большое место и в диссидентском движении.В 1967 г.развернулось движение евреев за право выезда на «историчес-кую родину».В 1972 г.были сняты все ограничения  в отношении немцев Поволжья,Но их автономия так и не была вос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464840" y="1231920"/>
            <a:ext cx="331704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 труда Израи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Щаранс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нт из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уководитель движ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цию еврее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"/>
          <p:cNvPicPr/>
          <p:nvPr/>
        </p:nvPicPr>
        <p:blipFill>
          <a:blip r:embed="rId3"/>
          <a:stretch/>
        </p:blipFill>
        <p:spPr>
          <a:xfrm>
            <a:off x="5003640" y="550800"/>
            <a:ext cx="3961080" cy="304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20 лет из СССР выехали 72тыс.немцев и 275 тыс. евреев.В Прибалтике развернулось движение за со блюдение прав и свободу деятельности церкви.В связи с обсуждением новой Конституции в Грузии прошли демонстрации с требованием сохранить ро дной язык в качестве государственного.Армянские националисты организовали ряд взрывов, в т.ч.в московском метро в 1977 г.Всплеск национализма привел к росту русского националь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18760" y="1773360"/>
            <a:ext cx="23965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шкент вече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1"/>
          <p:cNvPicPr/>
          <p:nvPr/>
        </p:nvPicPr>
        <p:blipFill>
          <a:blip r:embed="rId3"/>
          <a:stretch/>
        </p:blipFill>
        <p:spPr>
          <a:xfrm>
            <a:off x="3995640" y="557280"/>
            <a:ext cx="4932360" cy="3016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COMP</cp:lastModifiedBy>
  <dcterms:modified xsi:type="dcterms:W3CDTF">2011-10-10T08:03:02Z</dcterms:modified>
  <cp:revision>71</cp:revision>
  <dc:subject/>
  <dc:title>Слайд 1</dc:title>
</cp:coreProperties>
</file>