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DBAF8-8A65-4EBA-8E32-3A220EE14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1CDCD2-4449-4F24-9CEC-47CC6ABC82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CDF-CED9-413A-B141-1465E9CF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128-39CF-4767-90BA-41BE50D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8D7-7901-4238-A11B-4155479E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DAB-D068-4520-A8E8-B2C2B691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D96-F625-4020-8B8B-3356A5D1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97B6-CE82-4377-A4DD-8A99B505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9EA6-22F6-4A1C-839E-F0074218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814-38D6-4C4C-9157-1224C1F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8D87-51EA-4F31-BF53-EDA9925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C72C-D150-4C49-8F5F-4A11C10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AF18-5B90-4CF5-AB52-AF21705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6DC-71CA-43DE-8D95-DB28A0C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096E-9E78-434F-8956-6C6C5AAB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68A-2548-4085-921D-FE48470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89F2-FA6E-4374-ABBD-22E5C17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A6E-A6BF-4939-8301-884052BA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DEB1-B939-4FFB-9EAC-082FC73E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1CF-8975-43B1-A3DC-15018534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E6B-16D9-4AF5-B064-D1C5F3D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0B7-3B08-424C-9BD6-E40FC00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230-9C36-4CE5-9C56-D6932F8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3AB-B1DA-4910-96BA-A96CE4B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3F2-B8F3-4E50-96BD-D2FC88B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0F3-4546-45EA-8496-9BB138B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F3EFAF-B774-45FD-9390-ED63E2A7AF3B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E9FEF4-AC0F-4360-9A0F-2D627041A75B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volgograd-area.narod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vetert.ru/rossiya/kalmykiya/img/index/03.jpg"/>
          <p:cNvPicPr/>
          <p:nvPr/>
        </p:nvPicPr>
        <p:blipFill>
          <a:blip r:embed="rId1"/>
          <a:stretch/>
        </p:blipFill>
        <p:spPr>
          <a:xfrm>
            <a:off x="-1143000" y="0"/>
            <a:ext cx="12070800" cy="80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7840" y="642960"/>
            <a:ext cx="806580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Животный мир Волгоградской области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новодными область небогат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2" descr="http://www.megabook.ru/MObjects2/data/pict2002/o00035.jpg"/>
          <p:cNvPicPr/>
          <p:nvPr/>
        </p:nvPicPr>
        <p:blipFill>
          <a:blip r:embed="rId1"/>
          <a:stretch/>
        </p:blipFill>
        <p:spPr>
          <a:xfrm>
            <a:off x="285840" y="1214280"/>
            <a:ext cx="4000320" cy="28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zoology.edu.ru/attach.asp?a_no=1446"/>
          <p:cNvPicPr/>
          <p:nvPr/>
        </p:nvPicPr>
        <p:blipFill>
          <a:blip r:embed="rId2"/>
          <a:stretch/>
        </p:blipFill>
        <p:spPr>
          <a:xfrm>
            <a:off x="4972320" y="4143240"/>
            <a:ext cx="3875760" cy="27144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0" y="41432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ягушка пру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000760" y="3571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жаба се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2000"/>
          </a:bodyPr>
          <a:p>
            <a:pPr marL="272520" indent="-272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ках, озерах, искусственных водоемах обитают рыбы, ценные в промысловом отношении: стерлядь, судак, сазан, сом. В Волге и Дону водятся осетр, белуга, сельдь, берш, окунь. Сооружение Волгоградского и Цимлянского водохранилищ изменило условия естественного размножения ценных промысловых рыб, особенно осетровых пород. Для прохождения осетровых рыб к своим нерестилищам в плотинах водохранилищ сооружены подъемники (лифты). Созданы рыбоводные заводы и рыбопитомники по искусственному воспроизводству рыб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2" descr="http://www.rybolov.ru/editor/storage/uploads/2007_06_R_Glazkov0.jpg"/>
          <p:cNvPicPr/>
          <p:nvPr/>
        </p:nvPicPr>
        <p:blipFill>
          <a:blip r:embed="rId1"/>
          <a:stretch/>
        </p:blipFill>
        <p:spPr>
          <a:xfrm>
            <a:off x="642960" y="3357720"/>
            <a:ext cx="5714640" cy="28803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278604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удак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6436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шей области очень много насекомы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http://www.yesnet.yk.ca/schools/wes/webquests_themes/animals/insects/images/praying_mantis_lg.jpg"/>
          <p:cNvPicPr/>
          <p:nvPr/>
        </p:nvPicPr>
        <p:blipFill>
          <a:blip r:embed="rId1"/>
          <a:stretch/>
        </p:blipFill>
        <p:spPr>
          <a:xfrm>
            <a:off x="0" y="1571760"/>
            <a:ext cx="4374720" cy="316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servimg.com/u/f62/15/02/36/43/422910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0" y="4714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богом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429080" y="27860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расотел пахуч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животного мира определяются географическим положением региона на юго-востоке Русской равнины. Эта территория тысячелетиями была переходной полосой, по которой мигрировали живот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2" descr="http://attachments-blog.tut.by/64128/files/2012/06/kabanyi3-B.jpg"/>
          <p:cNvPicPr/>
          <p:nvPr/>
        </p:nvPicPr>
        <p:blipFill>
          <a:blip r:embed="rId1"/>
          <a:stretch/>
        </p:blipFill>
        <p:spPr>
          <a:xfrm>
            <a:off x="2857320" y="3143160"/>
            <a:ext cx="5390640" cy="33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uralinform.ru/media/photo/big/losy.jpg"/>
          <p:cNvPicPr/>
          <p:nvPr/>
        </p:nvPicPr>
        <p:blipFill>
          <a:blip r:embed="rId1"/>
          <a:stretch/>
        </p:blipFill>
        <p:spPr>
          <a:xfrm>
            <a:off x="214200" y="2071800"/>
            <a:ext cx="3999960" cy="2666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4786200"/>
            <a:ext cx="128268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46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есь проходят границы распростране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есных видов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лось, хорек лесной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ухоль и др.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ttp://newsimg.bbc.co.uk/media/images/42937000/jpg/_42937095_polecat.jpg"/>
          <p:cNvPicPr/>
          <p:nvPr/>
        </p:nvPicPr>
        <p:blipFill>
          <a:blip r:embed="rId2"/>
          <a:stretch/>
        </p:blipFill>
        <p:spPr>
          <a:xfrm>
            <a:off x="5429160" y="1928880"/>
            <a:ext cx="3319200" cy="2393640"/>
          </a:xfrm>
          <a:prstGeom prst="rect">
            <a:avLst/>
          </a:prstGeom>
          <a:ln w="0">
            <a:noFill/>
          </a:ln>
        </p:spPr>
      </p:pic>
      <p:sp>
        <p:nvSpPr>
          <p:cNvPr id="161" name="Заголовок 1"/>
          <p:cNvSpPr/>
          <p:nvPr/>
        </p:nvSpPr>
        <p:spPr>
          <a:xfrm>
            <a:off x="5786280" y="121428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есной хор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bm.img.com.ua/img/prikol/images/large/7/4/185047_408538.jpg"/>
          <p:cNvPicPr/>
          <p:nvPr/>
        </p:nvPicPr>
        <p:blipFill>
          <a:blip r:embed="rId3"/>
          <a:stretch/>
        </p:blipFill>
        <p:spPr>
          <a:xfrm>
            <a:off x="4000320" y="440460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643040" y="6286680"/>
            <a:ext cx="24285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http://pospelova.ucoz.ru/_tbkp/vsem/ushastyj_jozh.jpg"/>
          <p:cNvPicPr/>
          <p:nvPr/>
        </p:nvPicPr>
        <p:blipFill>
          <a:blip r:embed="rId1"/>
          <a:stretch/>
        </p:blipFill>
        <p:spPr>
          <a:xfrm>
            <a:off x="214200" y="1643040"/>
            <a:ext cx="4857480" cy="32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900igr.net/datai/okruzhajuschij-mir/Urok-Zona-stepej/0023-032-Ushastaja-kruglogolovka.jpg"/>
          <p:cNvPicPr/>
          <p:nvPr/>
        </p:nvPicPr>
        <p:blipFill>
          <a:blip r:embed="rId2"/>
          <a:stretch/>
        </p:blipFill>
        <p:spPr>
          <a:xfrm>
            <a:off x="4802760" y="4071960"/>
            <a:ext cx="4340880" cy="2785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4857840"/>
            <a:ext cx="363996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шастый ёж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112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пустынных видов (ушастый еж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щерицы-круглоголовки и др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929200" y="335772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-кругло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http://www.moscowzoo.ru/images/a5_06b.jpg"/>
          <p:cNvPicPr/>
          <p:nvPr/>
        </p:nvPicPr>
        <p:blipFill>
          <a:blip r:embed="rId1"/>
          <a:stretch/>
        </p:blipFill>
        <p:spPr>
          <a:xfrm>
            <a:off x="4500720" y="2071800"/>
            <a:ext cx="3744000" cy="280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www.seo.org/lifehubara/imagen/pteori_h.jpg"/>
          <p:cNvPicPr/>
          <p:nvPr/>
        </p:nvPicPr>
        <p:blipFill>
          <a:blip r:embed="rId2"/>
          <a:stretch/>
        </p:blipFill>
        <p:spPr>
          <a:xfrm>
            <a:off x="285840" y="2000160"/>
            <a:ext cx="3928680" cy="3338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5214960"/>
            <a:ext cx="3639960" cy="11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ернобрюхий рябо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61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тречаются даже представите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фриканской фауны: птицы — пустын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нобрюхие рябки и грызуны-песчан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5429160" y="521496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есч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2255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7000"/>
          </a:bodyPr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нсивная хозяйственная деятельность и неумерен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хота за последние столетия значительно измени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родные экосистемы, привели к исчезновению 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теснению многих представителей лесной и степно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уны. Многие крупные дикие копытные и хищники, некотор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ызуны и птицы, обильно заселявшие территорию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гоградской области еще в 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., полностью истреблены —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инный зубр, дикий осел-кулан, лошадь- тарпан и др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2" descr="http://www.september-t.ru/upload/september/location/2881.jpg"/>
          <p:cNvPicPr/>
          <p:nvPr/>
        </p:nvPicPr>
        <p:blipFill>
          <a:blip r:embed="rId1"/>
          <a:stretch/>
        </p:blipFill>
        <p:spPr>
          <a:xfrm>
            <a:off x="1571760" y="2762280"/>
            <a:ext cx="5686200" cy="4095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равнинный зубр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икий осел-кул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2" descr="http://equinepreservation.org/images/IndianAss.jpg"/>
          <p:cNvPicPr/>
          <p:nvPr/>
        </p:nvPicPr>
        <p:blipFill>
          <a:blip r:embed="rId1"/>
          <a:stretch/>
        </p:blipFill>
        <p:spPr>
          <a:xfrm>
            <a:off x="1000080" y="428760"/>
            <a:ext cx="7214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ошадь- тарп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http://img0.liveinternet.ru/images/attach/b/3/8/362/8362095_przhevalez.jpg"/>
          <p:cNvPicPr/>
          <p:nvPr/>
        </p:nvPicPr>
        <p:blipFill>
          <a:blip r:embed="rId1"/>
          <a:stretch/>
        </p:blipFill>
        <p:spPr>
          <a:xfrm>
            <a:off x="1000080" y="785880"/>
            <a:ext cx="7008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ивотный мир Волгоградской области разнообразен. Он состоит из представителей степей, полупустынь и лесов. На территории области обитают 68 видов млекопитающих, 17 видов пресмыкающихся, гнездится около 150 видов птиц и до 50 видов появляются во время перелета, всюду распространены насекомые, а водоемы заселены рыбами и земноводными обитателя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&amp;CHcy;&amp;iocy;&amp;rcy;&amp;ncy;&amp;ycy;&amp;jcy; &amp;khcy;&amp;ocy;&amp;rcy;&amp;iocy;&amp;kcy;"/>
          <p:cNvPicPr/>
          <p:nvPr/>
        </p:nvPicPr>
        <p:blipFill>
          <a:blip r:embed="rId1"/>
          <a:stretch/>
        </p:blipFill>
        <p:spPr>
          <a:xfrm>
            <a:off x="2000160" y="3500280"/>
            <a:ext cx="4056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чень редкими в настоящее время ста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епная антилопа — сайгак, степ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щуха, перевязка, европейский сурок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" descr="http://viki.rdf.ru/media/upload/preview/saigak400.jpg"/>
          <p:cNvPicPr/>
          <p:nvPr/>
        </p:nvPicPr>
        <p:blipFill>
          <a:blip r:embed="rId1"/>
          <a:stretch/>
        </p:blipFill>
        <p:spPr>
          <a:xfrm>
            <a:off x="2357280" y="2071800"/>
            <a:ext cx="4095360" cy="4095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айга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5806440"/>
            <a:ext cx="8000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епная пищух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2" descr="http://900igr.net/datai/okruzhajuschij-mir/Orenburgskaja-oblast/0009-005-Pischukha-stepnaja.jpg"/>
          <p:cNvPicPr/>
          <p:nvPr/>
        </p:nvPicPr>
        <p:blipFill>
          <a:blip r:embed="rId1"/>
          <a:stretch/>
        </p:blipFill>
        <p:spPr>
          <a:xfrm>
            <a:off x="714240" y="500040"/>
            <a:ext cx="7605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перевязк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http://i076.radikal.ru/1005/ac/200e45afe785.jpg"/>
          <p:cNvPicPr/>
          <p:nvPr/>
        </p:nvPicPr>
        <p:blipFill>
          <a:blip r:embed="rId1"/>
          <a:stretch/>
        </p:blipFill>
        <p:spPr>
          <a:xfrm>
            <a:off x="571320" y="500040"/>
            <a:ext cx="7929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европейский суро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http://img1.liveinternet.ru/images/attach/c/1/57/540/57540338_Baybak_evropeyskiy.jpg"/>
          <p:cNvPicPr/>
          <p:nvPr/>
        </p:nvPicPr>
        <p:blipFill>
          <a:blip r:embed="rId1"/>
          <a:stretch/>
        </p:blipFill>
        <p:spPr>
          <a:xfrm>
            <a:off x="1785960" y="928800"/>
            <a:ext cx="5571720" cy="41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zooo-loos.com.ua/_fr/1/5744387.jpg"/>
          <p:cNvPicPr/>
          <p:nvPr/>
        </p:nvPicPr>
        <p:blipFill>
          <a:blip r:embed="rId1"/>
          <a:stretch/>
        </p:blipFill>
        <p:spPr>
          <a:xfrm>
            <a:off x="2500200" y="2015280"/>
            <a:ext cx="4285800" cy="4336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 также многочисленные в начале XX в. дрофа и стрепет, лебедь-шипун, журавли и многие хищные птиц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роф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репет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&amp;Scy;&amp;tcy;&amp;rcy;&amp;iecy;&amp;pcy;&amp;iecy;&amp;tcy; (Tetrax tetrax)"/>
          <p:cNvPicPr/>
          <p:nvPr/>
        </p:nvPicPr>
        <p:blipFill>
          <a:blip r:embed="rId1"/>
          <a:stretch/>
        </p:blipFill>
        <p:spPr>
          <a:xfrm>
            <a:off x="1428840" y="714240"/>
            <a:ext cx="6712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floranimal.ru/gallery/big/1102.jpg"/>
          <p:cNvPicPr/>
          <p:nvPr/>
        </p:nvPicPr>
        <p:blipFill>
          <a:blip r:embed="rId1"/>
          <a:stretch/>
        </p:blipFill>
        <p:spPr>
          <a:xfrm>
            <a:off x="571320" y="714240"/>
            <a:ext cx="7679160" cy="5143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ебедь-шипу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журавли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stat16.privet.ru/lr/0b1196021fb124a6950fed3a536130ca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&amp;IEcy;&amp;ncy;&amp;ocy;&amp;tcy;&amp;ocy;&amp;vcy;&amp;icy;&amp;dcy;&amp;ncy;&amp;acy;&amp;yacy; &amp;scy;&amp;ocy;&amp;bcy;&amp;acy;&amp;kcy;&amp;acy;"/>
          <p:cNvPicPr/>
          <p:nvPr/>
        </p:nvPicPr>
        <p:blipFill>
          <a:blip r:embed="rId1"/>
          <a:stretch/>
        </p:blipFill>
        <p:spPr>
          <a:xfrm>
            <a:off x="2000160" y="2714760"/>
            <a:ext cx="2990520" cy="275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00040" y="5143320"/>
            <a:ext cx="818352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, несмотря на активное антропогенное воздействие, животный мир нашей области уникален и разнообразен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&amp;CHcy;&amp;iocy;&amp;rcy;&amp;ncy;&amp;ycy;&amp;jcy; &amp;khcy;&amp;ocy;&amp;rcy;&amp;iocy;&amp;kcy;"/>
          <p:cNvPicPr/>
          <p:nvPr/>
        </p:nvPicPr>
        <p:blipFill>
          <a:blip r:embed="rId2"/>
          <a:stretch/>
        </p:blipFill>
        <p:spPr>
          <a:xfrm>
            <a:off x="285840" y="357120"/>
            <a:ext cx="4056120" cy="25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&amp;Scy;&amp;acy;&amp;jcy;&amp;gcy;&amp;acy;&amp;kcy;"/>
          <p:cNvPicPr/>
          <p:nvPr/>
        </p:nvPicPr>
        <p:blipFill>
          <a:blip r:embed="rId3"/>
          <a:stretch/>
        </p:blipFill>
        <p:spPr>
          <a:xfrm>
            <a:off x="4929120" y="285840"/>
            <a:ext cx="3638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Составлена учителем экологии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ОУ прогимназии №2 г.Волгограда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Анцыперовой Т.А.</a:t>
            </a:r>
            <a:br>
              <a:rPr sz="2700"/>
            </a:br>
            <a:br>
              <a:rPr sz="3600"/>
            </a:b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3571920" y="6000840"/>
            <a:ext cx="13446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2013</a:t>
            </a:r>
            <a:br>
              <a:rPr sz="36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428760"/>
            <a:ext cx="818352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Используемые источни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ческий атлас-справочник Волгоградской области. / Под ред. В.А. Брылева. – М.: Планета, 2012. –С. 30-3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я и экология Волгоградской области: учеб. пособие для ср. шк.  - 2-е изд., перераб. и доп. / авт. кол.; под общ. ред. проф. В.А. Брылева. – Волгоград: Перемена, 2005. – 260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3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volgograd-area.narod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Фото: из интернет-источников</a:t>
            </a:r>
            <a:br>
              <a:rPr sz="27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&amp;Zcy;&amp;acy;&amp;yacy;&amp;tscy; &amp;rcy;&amp;ucy;&amp;scy;&amp;acy;&amp;kcy;"/>
          <p:cNvPicPr/>
          <p:nvPr/>
        </p:nvPicPr>
        <p:blipFill>
          <a:blip r:embed="rId1"/>
          <a:stretch/>
        </p:blipFill>
        <p:spPr>
          <a:xfrm>
            <a:off x="4429080" y="3071880"/>
            <a:ext cx="3648240" cy="3323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429080"/>
            <a:ext cx="392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яц - русак (Длина тела 57-68 см; масса 4-6 кг, редко  до 7 кг.)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42876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лекопитающ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едставлены грызунами, хищниками и крупными животными. Особенно богата область грызунами (32 вида), они встречаются повсеместно. По балкам, в зарослях кустарников и на полях распространен заяц-русак. Питается главным образом травянистой растительностью, зимой объедает кору ив, боярышника, поедает сухую прошлогоднюю траву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900igr.net/datai/biologija/ZHivotnyj-mir-Rossii/0009-025-Pustynja.jpg"/>
          <p:cNvPicPr/>
          <p:nvPr/>
        </p:nvPicPr>
        <p:blipFill>
          <a:blip r:embed="rId1"/>
          <a:stretch/>
        </p:blipFill>
        <p:spPr>
          <a:xfrm>
            <a:off x="214200" y="3212640"/>
            <a:ext cx="4857480" cy="364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ушканчи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898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вшиеся участки степей обычно заселены землероями—суслик малый, суслик крапчатый, тушканчик, слепыш, хомяк, песчанка, полев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http://dekatop.com/wp-content/uploads/2009/12/under_02.jpg"/>
          <p:cNvPicPr/>
          <p:nvPr/>
        </p:nvPicPr>
        <p:blipFill>
          <a:blip r:embed="rId2"/>
          <a:stretch/>
        </p:blipFill>
        <p:spPr>
          <a:xfrm>
            <a:off x="6191280" y="1928880"/>
            <a:ext cx="2952360" cy="261900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6215040" y="4643280"/>
            <a:ext cx="33573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леп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39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хищных животных встречаются волки, лисицы, барсуки, хорьки и другие. Волки, лисицы живут главным образом по оврагам и балкам. Волк—самый крупный и опасный из наших хищников. В нашей области акклиматизированы европейская норка и енотовидная собака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fliguster.ru/attachments/Image/%3DD0%3DB2%3DD0%3DBE%3DD0%3DBB%3DD0%3DBA%3DD0%3DBA.jpg?template=generic&amp;.jpg"/>
          <p:cNvPicPr/>
          <p:nvPr/>
        </p:nvPicPr>
        <p:blipFill>
          <a:blip r:embed="rId1"/>
          <a:stretch/>
        </p:blipFill>
        <p:spPr>
          <a:xfrm>
            <a:off x="500040" y="3000240"/>
            <a:ext cx="3997440" cy="278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raccoondogs.clan.su/50003099.JPG"/>
          <p:cNvPicPr/>
          <p:nvPr/>
        </p:nvPicPr>
        <p:blipFill>
          <a:blip r:embed="rId2"/>
          <a:stretch/>
        </p:blipFill>
        <p:spPr>
          <a:xfrm>
            <a:off x="5357880" y="2786040"/>
            <a:ext cx="3227040" cy="295236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714240" y="55008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530680" y="56772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нотовидная 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копытных животных обитают лоси, сайгаки, редко встречаются благородный и пятнистый олени, косули, кабаны. Лось—самый крупный представитель оленей. Горбоносая голова самца увенчана массивными лопатообразными рогами. Лоси живут небольшими группами и встречаются в лесных массивах северных районов области и в Волго-Ахтубинской пойме. Сайгаки обитают преимущественно в полупустынной зоне на юго-востоке области. У них короткие и тонкие ноги, горбатая морда, на голове самцов — изящные рога. Живут они стадами, быстро бегают, развивают скорость до 70 км в час. В результате осуществления охранных мероприятий численность сайгаков значительно возросла, и теперь они—предмет охотничьего промысл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tuckerhill.com/wp-content/uploads/2011/06/Moose-Image.jpg"/>
          <p:cNvPicPr/>
          <p:nvPr/>
        </p:nvPicPr>
        <p:blipFill>
          <a:blip r:embed="rId1"/>
          <a:stretch/>
        </p:blipFill>
        <p:spPr>
          <a:xfrm>
            <a:off x="285840" y="3748680"/>
            <a:ext cx="4142880" cy="310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blogotshelnika.ru/wp-content/uploads/2011/09/olen2.jpg"/>
          <p:cNvPicPr/>
          <p:nvPr/>
        </p:nvPicPr>
        <p:blipFill>
          <a:blip r:embed="rId2"/>
          <a:stretch/>
        </p:blipFill>
        <p:spPr>
          <a:xfrm>
            <a:off x="4714920" y="3762360"/>
            <a:ext cx="3656880" cy="309528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21420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4786200" y="314316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ятнистый о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тепях и полупустынях распространены насекомоядные животные: еж и выхухоль. Выхухоль обитает лишь в поймах Дона и Волги, ведет полуводный образ жизни. Мех ее красивый, мягк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http://img-fotki.yandex.ru/get/5504/collector2012.0/0_4e358_7c659089_XL"/>
          <p:cNvPicPr/>
          <p:nvPr/>
        </p:nvPicPr>
        <p:blipFill>
          <a:blip r:embed="rId1"/>
          <a:stretch/>
        </p:blipFill>
        <p:spPr>
          <a:xfrm>
            <a:off x="214200" y="3286080"/>
            <a:ext cx="4188240" cy="314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bm.img.com.ua/img/prikol/images/large/7/4/185047_408538.jpg"/>
          <p:cNvPicPr/>
          <p:nvPr/>
        </p:nvPicPr>
        <p:blipFill>
          <a:blip r:embed="rId2"/>
          <a:stretch/>
        </p:blipFill>
        <p:spPr>
          <a:xfrm>
            <a:off x="5143680" y="314316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ёж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5072040" y="56437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ukachevo.net/Content/img/news/p_21289_1_gallerybig.jpg"/>
          <p:cNvPicPr/>
          <p:nvPr/>
        </p:nvPicPr>
        <p:blipFill>
          <a:blip r:embed="rId1"/>
          <a:stretch/>
        </p:blipFill>
        <p:spPr>
          <a:xfrm>
            <a:off x="0" y="2762280"/>
            <a:ext cx="3524040" cy="409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гата область птицами. Преобладают представители степей, полупустынь: жаворонки, дрофы, стрепеты, серые куропатки, перепела, воробьи, синицы, славки, ласточки и другие. Многие птицы, такие, как обыкновенная пустельга, луни, орлы степные, являются хищными и питаются грызуна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йменные леса, лесополосы и овраги, поросшие кустарниками и деревьями, дают приют лесным птицам—иволгам, синицам, дятлам и другим. В поймах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, на озерах обитают водоплавающие птицы. Создание водохранилищ и лесополос в области способствует распространению видов, обитающих в лесах и на водоема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http://www.goldensites.ru/media/1/B_72.jpg"/>
          <p:cNvPicPr/>
          <p:nvPr/>
        </p:nvPicPr>
        <p:blipFill>
          <a:blip r:embed="rId2"/>
          <a:stretch/>
        </p:blipFill>
        <p:spPr>
          <a:xfrm>
            <a:off x="5500800" y="3143160"/>
            <a:ext cx="3343320" cy="316656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тепной ор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535788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ё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семестно в области распространены пресмыкающиеся: ящерицы, ужи, черепахи и други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yahooeu.ru/uploads/posts/08/10/03/25/yahooeu_ru_6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360" cy="281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copypast.ru/uploads/posts/thumbs/1322210552_394857.jpg"/>
          <p:cNvPicPr/>
          <p:nvPr/>
        </p:nvPicPr>
        <p:blipFill>
          <a:blip r:embed="rId2"/>
          <a:stretch/>
        </p:blipFill>
        <p:spPr>
          <a:xfrm>
            <a:off x="4764960" y="3571920"/>
            <a:ext cx="4378680" cy="328572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1"/>
          <p:cNvSpPr/>
          <p:nvPr/>
        </p:nvSpPr>
        <p:spPr>
          <a:xfrm>
            <a:off x="0" y="50007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 прыт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5000760" y="29289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ж обыкно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891</TotalTime>
  <Application>LibreOffice/7.4.7.2$Linux_X86_64 LibreOffice_project/40$Build-2</Application>
  <AppVersion>15.0000</AppVersion>
  <Words>852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20:23:44Z</dcterms:created>
  <dc:creator>брат</dc:creator>
  <dc:description/>
  <dc:language>en-US</dc:language>
  <cp:lastModifiedBy>брат</cp:lastModifiedBy>
  <dcterms:modified xsi:type="dcterms:W3CDTF">2013-06-09T19:55:15Z</dcterms:modified>
  <cp:revision>100</cp:revision>
  <dc:subject/>
  <dc:title>Живая и неживая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