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7CD54F-F8BC-4F29-823F-CDDEB01C9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16C498-D8C1-4175-A250-33141C4F4E2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D308-757F-4F6D-B399-5C3BBCF4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35C-DA87-4E00-A721-8DEB5036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1DBC-0630-4019-BAEE-A9C6BCDF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A977-6ABE-4923-955F-3DE9A5AD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6983-697E-4600-BD70-886E9C70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C387-7DF2-48D7-9163-6F5E9B92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604B-A70D-4EBC-A7AB-6741ADA7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4511-7CA0-4A80-8203-59B72203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6AEA-2703-4B6A-8975-AC7A9B93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6627-279F-437A-8F4E-CC44CE60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620E-8F27-4F68-9E35-A21779E2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198-5549-401E-A8BE-191B715B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F11A-7A2F-4366-B261-9540D86D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4BEB-16F6-43DB-886B-9BB41F19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F5A7-C3C1-4E66-B839-6202611D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7B30-1595-4EFE-B670-E8F24132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4F94-ED64-4F52-BD32-AC741707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E7D2-9B75-44FE-B1B4-E63A0491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7AA-15A3-4E27-9325-E21D0E2E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0C2-F962-4B2B-BB2B-10C9B365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50F8-840A-4E78-98B5-F3E95731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73D-7CBC-46AA-9184-F680010A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60EE-78D7-42EB-B094-ECC05A12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E77-32BE-44AB-B952-2C6AC72E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14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Скругленный прямоугольник 9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69F79A-DB28-4731-A04F-7AF7B22EE840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1B1AD6-4D7B-45F5-A2AD-CD96BB195B92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volgograd-area.narod.ru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vetert.ru/rossiya/kalmykiya/img/index/03.jpg"/>
          <p:cNvPicPr/>
          <p:nvPr/>
        </p:nvPicPr>
        <p:blipFill>
          <a:blip r:embed="rId1"/>
          <a:stretch/>
        </p:blipFill>
        <p:spPr>
          <a:xfrm>
            <a:off x="-1143000" y="0"/>
            <a:ext cx="12070800" cy="8071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7840" y="642960"/>
            <a:ext cx="806580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c00000"/>
                </a:solidFill>
                <a:latin typeface="Verdana"/>
              </a:rPr>
              <a:t>Животный мир Волгоградской области</a:t>
            </a:r>
            <a:endParaRPr b="0" lang="ru-RU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22520" y="368496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7c79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325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емноводными область небогата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2" descr="http://www.megabook.ru/MObjects2/data/pict2002/o00035.jpg"/>
          <p:cNvPicPr/>
          <p:nvPr/>
        </p:nvPicPr>
        <p:blipFill>
          <a:blip r:embed="rId1"/>
          <a:stretch/>
        </p:blipFill>
        <p:spPr>
          <a:xfrm>
            <a:off x="285840" y="1214280"/>
            <a:ext cx="4000320" cy="2895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zoology.edu.ru/attach.asp?a_no=1446"/>
          <p:cNvPicPr/>
          <p:nvPr/>
        </p:nvPicPr>
        <p:blipFill>
          <a:blip r:embed="rId2"/>
          <a:stretch/>
        </p:blipFill>
        <p:spPr>
          <a:xfrm>
            <a:off x="4972320" y="4143240"/>
            <a:ext cx="3875760" cy="2714400"/>
          </a:xfrm>
          <a:prstGeom prst="rect">
            <a:avLst/>
          </a:prstGeom>
          <a:ln w="0">
            <a:noFill/>
          </a:ln>
        </p:spPr>
      </p:pic>
      <p:sp>
        <p:nvSpPr>
          <p:cNvPr id="142" name="Заголовок 1"/>
          <p:cNvSpPr/>
          <p:nvPr/>
        </p:nvSpPr>
        <p:spPr>
          <a:xfrm>
            <a:off x="0" y="414324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лягушка пруд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5000760" y="357192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жаба се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325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2000"/>
          </a:bodyPr>
          <a:p>
            <a:pPr marL="272520" indent="-272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реках, озерах, искусственных водоемах обитают рыбы, ценные в промысловом отношении: стерлядь, судак, сазан, сом. В Волге и Дону водятся осетр, белуга, сельдь, берш, окунь. Сооружение Волгоградского и Цимлянского водохранилищ изменило условия естественного размножения ценных промысловых рыб, особенно осетровых пород. Для прохождения осетровых рыб к своим нерестилищам в плотинах водохранилищ сооружены подъемники (лифты). Созданы рыбоводные заводы и рыбопитомники по искусственному воспроизводству рыбы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2" descr="http://www.rybolov.ru/editor/storage/uploads/2007_06_R_Glazkov0.jpg"/>
          <p:cNvPicPr/>
          <p:nvPr/>
        </p:nvPicPr>
        <p:blipFill>
          <a:blip r:embed="rId1"/>
          <a:stretch/>
        </p:blipFill>
        <p:spPr>
          <a:xfrm>
            <a:off x="642960" y="3357720"/>
            <a:ext cx="5714640" cy="2880360"/>
          </a:xfrm>
          <a:prstGeom prst="rect">
            <a:avLst/>
          </a:prstGeom>
          <a:ln w="0">
            <a:noFill/>
          </a:ln>
        </p:spPr>
      </p:pic>
      <p:sp>
        <p:nvSpPr>
          <p:cNvPr id="147" name="Заголовок 1"/>
          <p:cNvSpPr/>
          <p:nvPr/>
        </p:nvSpPr>
        <p:spPr>
          <a:xfrm>
            <a:off x="2786040" y="628668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6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судак обыкнов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714240"/>
            <a:ext cx="9643680" cy="1071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нашей области очень много насекомых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" descr="http://www.yesnet.yk.ca/schools/wes/webquests_themes/animals/insects/images/praying_mantis_lg.jpg"/>
          <p:cNvPicPr/>
          <p:nvPr/>
        </p:nvPicPr>
        <p:blipFill>
          <a:blip r:embed="rId1"/>
          <a:stretch/>
        </p:blipFill>
        <p:spPr>
          <a:xfrm>
            <a:off x="0" y="1571760"/>
            <a:ext cx="4374720" cy="3166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www.servimg.com/u/f62/15/02/36/43/422910.jpg"/>
          <p:cNvPicPr/>
          <p:nvPr/>
        </p:nvPicPr>
        <p:blipFill>
          <a:blip r:embed="rId2"/>
          <a:stretch/>
        </p:blipFill>
        <p:spPr>
          <a:xfrm>
            <a:off x="4714920" y="3429000"/>
            <a:ext cx="4283280" cy="3214440"/>
          </a:xfrm>
          <a:prstGeom prst="rect">
            <a:avLst/>
          </a:prstGeom>
          <a:ln w="0">
            <a:noFill/>
          </a:ln>
        </p:spPr>
      </p:pic>
      <p:sp>
        <p:nvSpPr>
          <p:cNvPr id="152" name="Заголовок 1"/>
          <p:cNvSpPr/>
          <p:nvPr/>
        </p:nvSpPr>
        <p:spPr>
          <a:xfrm>
            <a:off x="0" y="471492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богом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Заголовок 1"/>
          <p:cNvSpPr/>
          <p:nvPr/>
        </p:nvSpPr>
        <p:spPr>
          <a:xfrm>
            <a:off x="4429080" y="278604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красотел пахуч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2969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и животного мира определяются географическим положением региона на юго-востоке Русской равнины. Эта территория тысячелетиями была переходной полосой, по которой мигрировали животные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2" descr="http://attachments-blog.tut.by/64128/files/2012/06/kabanyi3-B.jpg"/>
          <p:cNvPicPr/>
          <p:nvPr/>
        </p:nvPicPr>
        <p:blipFill>
          <a:blip r:embed="rId1"/>
          <a:stretch/>
        </p:blipFill>
        <p:spPr>
          <a:xfrm>
            <a:off x="2857320" y="3143160"/>
            <a:ext cx="5390640" cy="337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www.uralinform.ru/media/photo/big/losy.jpg"/>
          <p:cNvPicPr/>
          <p:nvPr/>
        </p:nvPicPr>
        <p:blipFill>
          <a:blip r:embed="rId1"/>
          <a:stretch/>
        </p:blipFill>
        <p:spPr>
          <a:xfrm>
            <a:off x="214200" y="2071800"/>
            <a:ext cx="3999960" cy="2666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00080" y="4786200"/>
            <a:ext cx="1282680" cy="6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лось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469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9000"/>
          </a:bodyPr>
          <a:p>
            <a:pPr marL="262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десь проходят границы распространения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2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лесных видов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лось, хорек лесной,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2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хухоль и др.)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4" descr="http://newsimg.bbc.co.uk/media/images/42937000/jpg/_42937095_polecat.jpg"/>
          <p:cNvPicPr/>
          <p:nvPr/>
        </p:nvPicPr>
        <p:blipFill>
          <a:blip r:embed="rId2"/>
          <a:stretch/>
        </p:blipFill>
        <p:spPr>
          <a:xfrm>
            <a:off x="5429160" y="1928880"/>
            <a:ext cx="3319200" cy="2393640"/>
          </a:xfrm>
          <a:prstGeom prst="rect">
            <a:avLst/>
          </a:prstGeom>
          <a:ln w="0">
            <a:noFill/>
          </a:ln>
        </p:spPr>
      </p:pic>
      <p:sp>
        <p:nvSpPr>
          <p:cNvPr id="161" name="Заголовок 1"/>
          <p:cNvSpPr/>
          <p:nvPr/>
        </p:nvSpPr>
        <p:spPr>
          <a:xfrm>
            <a:off x="5786280" y="1214280"/>
            <a:ext cx="285444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73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лесной хорё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http://bm.img.com.ua/img/prikol/images/large/7/4/185047_408538.jpg"/>
          <p:cNvPicPr/>
          <p:nvPr/>
        </p:nvPicPr>
        <p:blipFill>
          <a:blip r:embed="rId3"/>
          <a:stretch/>
        </p:blipFill>
        <p:spPr>
          <a:xfrm>
            <a:off x="4000320" y="4404600"/>
            <a:ext cx="3571560" cy="245304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643040" y="6286680"/>
            <a:ext cx="242856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98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выхух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http://pospelova.ucoz.ru/_tbkp/vsem/ushastyj_jozh.jpg"/>
          <p:cNvPicPr/>
          <p:nvPr/>
        </p:nvPicPr>
        <p:blipFill>
          <a:blip r:embed="rId1"/>
          <a:stretch/>
        </p:blipFill>
        <p:spPr>
          <a:xfrm>
            <a:off x="214200" y="1643040"/>
            <a:ext cx="4857480" cy="3238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http://900igr.net/datai/okruzhajuschij-mir/Urok-Zona-stepej/0023-032-Ushastaja-kruglogolovka.jpg"/>
          <p:cNvPicPr/>
          <p:nvPr/>
        </p:nvPicPr>
        <p:blipFill>
          <a:blip r:embed="rId2"/>
          <a:stretch/>
        </p:blipFill>
        <p:spPr>
          <a:xfrm>
            <a:off x="4802760" y="4071960"/>
            <a:ext cx="4340880" cy="27856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2960" y="4857840"/>
            <a:ext cx="3639960" cy="6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ушастый ёж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112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пустынных видов (ушастый еж,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щерицы-круглоголовки и др.)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Заголовок 1"/>
          <p:cNvSpPr/>
          <p:nvPr/>
        </p:nvSpPr>
        <p:spPr>
          <a:xfrm>
            <a:off x="5929200" y="3357720"/>
            <a:ext cx="285444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53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ящерица-круглогол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http://www.moscowzoo.ru/images/a5_06b.jpg"/>
          <p:cNvPicPr/>
          <p:nvPr/>
        </p:nvPicPr>
        <p:blipFill>
          <a:blip r:embed="rId1"/>
          <a:stretch/>
        </p:blipFill>
        <p:spPr>
          <a:xfrm>
            <a:off x="4500720" y="2071800"/>
            <a:ext cx="3744000" cy="2809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http://www.seo.org/lifehubara/imagen/pteori_h.jpg"/>
          <p:cNvPicPr/>
          <p:nvPr/>
        </p:nvPicPr>
        <p:blipFill>
          <a:blip r:embed="rId2"/>
          <a:stretch/>
        </p:blipFill>
        <p:spPr>
          <a:xfrm>
            <a:off x="285840" y="2000160"/>
            <a:ext cx="3928680" cy="3338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760" y="5214960"/>
            <a:ext cx="3639960" cy="11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9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чернобрюхий рябок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612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тречаются даже представители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фриканской фауны: птицы — пустынные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рнобрюхие рябки и грызуны-песчанк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Заголовок 1"/>
          <p:cNvSpPr/>
          <p:nvPr/>
        </p:nvSpPr>
        <p:spPr>
          <a:xfrm>
            <a:off x="5429160" y="5214960"/>
            <a:ext cx="285444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песча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8183520" cy="2255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57000"/>
          </a:bodyPr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нсивная хозяйственная деятельность и неумеренная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хота за последние столетия значительно изменили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родные экосистемы, привели к исчезновению и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теснению многих представителей лесной и степной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уны. Многие крупные дикие копытные и хищники, некоторые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ызуны и птицы, обильно заселявшие территорию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лгоградской области еще в 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II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., полностью истреблены —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внинный зубр, дикий осел-кулан, лошадь- тарпан и др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2" descr="http://www.september-t.ru/upload/september/location/2881.jpg"/>
          <p:cNvPicPr/>
          <p:nvPr/>
        </p:nvPicPr>
        <p:blipFill>
          <a:blip r:embed="rId1"/>
          <a:stretch/>
        </p:blipFill>
        <p:spPr>
          <a:xfrm>
            <a:off x="1571760" y="2762280"/>
            <a:ext cx="5686200" cy="4095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0" y="6072120"/>
            <a:ext cx="9143640" cy="78552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равнинный зубр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5806440"/>
            <a:ext cx="892944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дикий осел-кулан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2" descr="http://equinepreservation.org/images/IndianAss.jpg"/>
          <p:cNvPicPr/>
          <p:nvPr/>
        </p:nvPicPr>
        <p:blipFill>
          <a:blip r:embed="rId1"/>
          <a:stretch/>
        </p:blipFill>
        <p:spPr>
          <a:xfrm>
            <a:off x="1000080" y="428760"/>
            <a:ext cx="721476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4200" y="5806440"/>
            <a:ext cx="892944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лошадь- тарпан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2" descr="http://img0.liveinternet.ru/images/attach/b/3/8/362/8362095_przhevalez.jpg"/>
          <p:cNvPicPr/>
          <p:nvPr/>
        </p:nvPicPr>
        <p:blipFill>
          <a:blip r:embed="rId1"/>
          <a:stretch/>
        </p:blipFill>
        <p:spPr>
          <a:xfrm>
            <a:off x="1000080" y="785880"/>
            <a:ext cx="70084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2969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2000"/>
          </a:bodyPr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Животный мир Волгоградской области разнообразен. Он состоит из представителей степей, полупустынь и лесов. На территории области обитают 68 видов млекопитающих, 17 видов пресмыкающихся, гнездится около 150 видов птиц и до 50 видов появляются во время перелета, всюду распространены насекомые, а водоемы заселены рыбами и земноводными обитателям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2" descr="&amp;CHcy;&amp;iocy;&amp;rcy;&amp;ncy;&amp;ycy;&amp;jcy; &amp;khcy;&amp;ocy;&amp;rcy;&amp;iocy;&amp;kcy;"/>
          <p:cNvPicPr/>
          <p:nvPr/>
        </p:nvPicPr>
        <p:blipFill>
          <a:blip r:embed="rId1"/>
          <a:stretch/>
        </p:blipFill>
        <p:spPr>
          <a:xfrm>
            <a:off x="2000160" y="3500280"/>
            <a:ext cx="40561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8183520" cy="1540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чень редкими в настоящее время стали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епная антилопа — сайгак, степная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щуха, перевязка, европейский сурок,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2" descr="http://viki.rdf.ru/media/upload/preview/saigak400.jpg"/>
          <p:cNvPicPr/>
          <p:nvPr/>
        </p:nvPicPr>
        <p:blipFill>
          <a:blip r:embed="rId1"/>
          <a:stretch/>
        </p:blipFill>
        <p:spPr>
          <a:xfrm>
            <a:off x="2357280" y="2071800"/>
            <a:ext cx="4095360" cy="40953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0" y="5806440"/>
            <a:ext cx="914364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сайгак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8760" y="5806440"/>
            <a:ext cx="800064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степная пищуха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2" descr="http://900igr.net/datai/okruzhajuschij-mir/Orenburgskaja-oblast/0009-005-Pischukha-stepnaja.jpg"/>
          <p:cNvPicPr/>
          <p:nvPr/>
        </p:nvPicPr>
        <p:blipFill>
          <a:blip r:embed="rId1"/>
          <a:stretch/>
        </p:blipFill>
        <p:spPr>
          <a:xfrm>
            <a:off x="714240" y="500040"/>
            <a:ext cx="76053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285840" y="5806440"/>
            <a:ext cx="942948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перевязка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2" descr="http://i076.radikal.ru/1005/ac/200e45afe785.jpg"/>
          <p:cNvPicPr/>
          <p:nvPr/>
        </p:nvPicPr>
        <p:blipFill>
          <a:blip r:embed="rId1"/>
          <a:stretch/>
        </p:blipFill>
        <p:spPr>
          <a:xfrm>
            <a:off x="571320" y="500040"/>
            <a:ext cx="792936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5806440"/>
            <a:ext cx="914364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европейский сурок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6" descr="http://img1.liveinternet.ru/images/attach/c/1/57/540/57540338_Baybak_evropeyskiy.jpg"/>
          <p:cNvPicPr/>
          <p:nvPr/>
        </p:nvPicPr>
        <p:blipFill>
          <a:blip r:embed="rId1"/>
          <a:stretch/>
        </p:blipFill>
        <p:spPr>
          <a:xfrm>
            <a:off x="1785960" y="928800"/>
            <a:ext cx="5571720" cy="417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http://zooo-loos.com.ua/_fr/1/5744387.jpg"/>
          <p:cNvPicPr/>
          <p:nvPr/>
        </p:nvPicPr>
        <p:blipFill>
          <a:blip r:embed="rId1"/>
          <a:stretch/>
        </p:blipFill>
        <p:spPr>
          <a:xfrm>
            <a:off x="2500200" y="2015280"/>
            <a:ext cx="4285800" cy="43362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8183520" cy="1540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 также многочисленные в начале XX в. дрофа и стрепет, лебедь-шипун, журавли и многие хищные птицы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0" y="5806440"/>
            <a:ext cx="914364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дрофа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285840" y="5806440"/>
            <a:ext cx="942948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стрепет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4" descr="&amp;Scy;&amp;tcy;&amp;rcy;&amp;iecy;&amp;pcy;&amp;iecy;&amp;tcy; (Tetrax tetrax)"/>
          <p:cNvPicPr/>
          <p:nvPr/>
        </p:nvPicPr>
        <p:blipFill>
          <a:blip r:embed="rId1"/>
          <a:stretch/>
        </p:blipFill>
        <p:spPr>
          <a:xfrm>
            <a:off x="1428840" y="714240"/>
            <a:ext cx="67129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www.floranimal.ru/gallery/big/1102.jpg"/>
          <p:cNvPicPr/>
          <p:nvPr/>
        </p:nvPicPr>
        <p:blipFill>
          <a:blip r:embed="rId1"/>
          <a:stretch/>
        </p:blipFill>
        <p:spPr>
          <a:xfrm>
            <a:off x="571320" y="714240"/>
            <a:ext cx="7679160" cy="51433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285840" y="5806440"/>
            <a:ext cx="942948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лебедь-шипун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285840" y="5806440"/>
            <a:ext cx="942948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журавли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http://stat16.privet.ru/lr/0b1196021fb124a6950fed3a536130ca"/>
          <p:cNvPicPr/>
          <p:nvPr/>
        </p:nvPicPr>
        <p:blipFill>
          <a:blip r:embed="rId1"/>
          <a:stretch/>
        </p:blipFill>
        <p:spPr>
          <a:xfrm>
            <a:off x="1143000" y="642960"/>
            <a:ext cx="6929280" cy="51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&amp;IEcy;&amp;ncy;&amp;ocy;&amp;tcy;&amp;ocy;&amp;vcy;&amp;icy;&amp;dcy;&amp;ncy;&amp;acy;&amp;yacy; &amp;scy;&amp;ocy;&amp;bcy;&amp;acy;&amp;kcy;&amp;acy;"/>
          <p:cNvPicPr/>
          <p:nvPr/>
        </p:nvPicPr>
        <p:blipFill>
          <a:blip r:embed="rId1"/>
          <a:stretch/>
        </p:blipFill>
        <p:spPr>
          <a:xfrm>
            <a:off x="2000160" y="2714760"/>
            <a:ext cx="2990520" cy="27522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00040" y="5143320"/>
            <a:ext cx="818352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, несмотря на активное антропогенное воздействие, животный мир нашей области уникален и разнообразен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2" descr="&amp;CHcy;&amp;iocy;&amp;rcy;&amp;ncy;&amp;ycy;&amp;jcy; &amp;khcy;&amp;ocy;&amp;rcy;&amp;iocy;&amp;kcy;"/>
          <p:cNvPicPr/>
          <p:nvPr/>
        </p:nvPicPr>
        <p:blipFill>
          <a:blip r:embed="rId2"/>
          <a:stretch/>
        </p:blipFill>
        <p:spPr>
          <a:xfrm>
            <a:off x="285840" y="357120"/>
            <a:ext cx="4056120" cy="2571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&amp;Scy;&amp;acy;&amp;jcy;&amp;gcy;&amp;acy;&amp;kcy;"/>
          <p:cNvPicPr/>
          <p:nvPr/>
        </p:nvPicPr>
        <p:blipFill>
          <a:blip r:embed="rId3"/>
          <a:stretch/>
        </p:blipFill>
        <p:spPr>
          <a:xfrm>
            <a:off x="4929120" y="285840"/>
            <a:ext cx="3638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1000"/>
          </a:bodyPr>
          <a:p>
            <a:pPr indent="0">
              <a:lnSpc>
                <a:spcPct val="100000"/>
              </a:lnSpc>
              <a:buNone/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Составлена учителем экологии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МОУ прогимназии №2 г.Волгограда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Анцыперовой Т.А.</a:t>
            </a:r>
            <a:br>
              <a:rPr sz="2700"/>
            </a:br>
            <a:br>
              <a:rPr sz="3600"/>
            </a:br>
            <a:endParaRPr b="0" lang="ru-RU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Заголовок 1"/>
          <p:cNvSpPr/>
          <p:nvPr/>
        </p:nvSpPr>
        <p:spPr>
          <a:xfrm>
            <a:off x="3571920" y="6000840"/>
            <a:ext cx="13446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43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2013</a:t>
            </a:r>
            <a:br>
              <a:rPr sz="36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500040" y="428760"/>
            <a:ext cx="818352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56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Используемые источники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Географический атлас-справочник Волгоградской области. / Под ред. В.А. Брылева. – М.: Планета, 2012. –С. 30-31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География и экология Волгоградской области: учеб. пособие для ср. шк.  - 2-е изд., перераб. и доп. / авт. кол.; под общ. ред. проф. В.А. Брылева. – Волгоград: Перемена, 2005. – 260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0"/>
              </a:tabLst>
            </a:pPr>
            <a:r>
              <a:rPr b="1" lang="ru-RU" sz="30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volgograd-area.narod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Фото: из интернет-источников</a:t>
            </a:r>
            <a:br>
              <a:rPr sz="2700"/>
            </a:br>
            <a:br>
              <a:rPr sz="3600"/>
            </a:b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&amp;Zcy;&amp;acy;&amp;yacy;&amp;tscy; &amp;rcy;&amp;ucy;&amp;scy;&amp;acy;&amp;kcy;"/>
          <p:cNvPicPr/>
          <p:nvPr/>
        </p:nvPicPr>
        <p:blipFill>
          <a:blip r:embed="rId1"/>
          <a:stretch/>
        </p:blipFill>
        <p:spPr>
          <a:xfrm>
            <a:off x="4429080" y="3071880"/>
            <a:ext cx="3648240" cy="3323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4429080"/>
            <a:ext cx="392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Заяц - русак (Длина тела 57-68 см; масса 4-6 кг, редко  до 7 кг.)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8760" y="428760"/>
            <a:ext cx="8183520" cy="2969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2000"/>
          </a:bodyPr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лекопитающ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редставлены грызунами, хищниками и крупными животными. Особенно богата область грызунами (32 вида), они встречаются повсеместно. По балкам, в зарослях кустарников и на полях распространен заяц-русак. Питается главным образом травянистой растительностью, зимой объедает кору ив, боярышника, поедает сухую прошлогоднюю траву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900igr.net/datai/biologija/ZHivotnyj-mir-Rossii/0009-025-Pustynja.jpg"/>
          <p:cNvPicPr/>
          <p:nvPr/>
        </p:nvPicPr>
        <p:blipFill>
          <a:blip r:embed="rId1"/>
          <a:stretch/>
        </p:blipFill>
        <p:spPr>
          <a:xfrm>
            <a:off x="214200" y="3212640"/>
            <a:ext cx="4857480" cy="3645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5806440"/>
            <a:ext cx="421164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тушканчик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898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вшиеся участки степей обычно заселены землероями—суслик малый, суслик крапчатый, тушканчик, слепыш, хомяк, песчанка, полевка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http://dekatop.com/wp-content/uploads/2009/12/under_02.jpg"/>
          <p:cNvPicPr/>
          <p:nvPr/>
        </p:nvPicPr>
        <p:blipFill>
          <a:blip r:embed="rId2"/>
          <a:stretch/>
        </p:blipFill>
        <p:spPr>
          <a:xfrm>
            <a:off x="6191280" y="1928880"/>
            <a:ext cx="2952360" cy="2619000"/>
          </a:xfrm>
          <a:prstGeom prst="rect">
            <a:avLst/>
          </a:prstGeom>
          <a:ln w="0">
            <a:noFill/>
          </a:ln>
        </p:spPr>
      </p:pic>
      <p:sp>
        <p:nvSpPr>
          <p:cNvPr id="107" name="Заголовок 1"/>
          <p:cNvSpPr/>
          <p:nvPr/>
        </p:nvSpPr>
        <p:spPr>
          <a:xfrm>
            <a:off x="6215040" y="4643280"/>
            <a:ext cx="335736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слепы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239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7000"/>
          </a:bodyPr>
          <a:p>
            <a:pPr marL="271440" indent="-271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 хищных животных встречаются волки, лисицы, барсуки, хорьки и другие. Волки, лисицы живут главным образом по оврагам и балкам. Волк—самый крупный и опасный из наших хищников. В нашей области акклиматизированы европейская норка и енотовидная собака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2" descr="http://fliguster.ru/attachments/Image/%3DD0%3DB2%3DD0%3DBE%3DD0%3DBB%3DD0%3DBA%3DD0%3DBA.jpg?template=generic&amp;.jpg"/>
          <p:cNvPicPr/>
          <p:nvPr/>
        </p:nvPicPr>
        <p:blipFill>
          <a:blip r:embed="rId1"/>
          <a:stretch/>
        </p:blipFill>
        <p:spPr>
          <a:xfrm>
            <a:off x="500040" y="3000240"/>
            <a:ext cx="3997440" cy="2785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raccoondogs.clan.su/50003099.JPG"/>
          <p:cNvPicPr/>
          <p:nvPr/>
        </p:nvPicPr>
        <p:blipFill>
          <a:blip r:embed="rId2"/>
          <a:stretch/>
        </p:blipFill>
        <p:spPr>
          <a:xfrm>
            <a:off x="5357880" y="2786040"/>
            <a:ext cx="3227040" cy="2952360"/>
          </a:xfrm>
          <a:prstGeom prst="rect">
            <a:avLst/>
          </a:prstGeom>
          <a:ln w="0">
            <a:noFill/>
          </a:ln>
        </p:spPr>
      </p:pic>
      <p:sp>
        <p:nvSpPr>
          <p:cNvPr id="112" name="Заголовок 1"/>
          <p:cNvSpPr/>
          <p:nvPr/>
        </p:nvSpPr>
        <p:spPr>
          <a:xfrm>
            <a:off x="714240" y="5500800"/>
            <a:ext cx="421164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вол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5530680" y="5677200"/>
            <a:ext cx="421164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енотовидная соб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325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60000"/>
          </a:bodyPr>
          <a:p>
            <a:pPr marL="254520" indent="-254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 копытных животных обитают лоси, сайгаки, редко встречаются благородный и пятнистый олени, косули, кабаны. Лось—самый крупный представитель оленей. Горбоносая голова самца увенчана массивными лопатообразными рогами. Лоси живут небольшими группами и встречаются в лесных массивах северных районов области и в Волго-Ахтубинской пойме. Сайгаки обитают преимущественно в полупустынной зоне на юго-востоке области. У них короткие и тонкие ноги, горбатая морда, на голове самцов — изящные рога. Живут они стадами, быстро бегают, развивают скорость до 70 км в час. В результате осуществления охранных мероприятий численность сайгаков значительно возросла, и теперь они—предмет охотничьего промысла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2" descr="http://www.tuckerhill.com/wp-content/uploads/2011/06/Moose-Image.jpg"/>
          <p:cNvPicPr/>
          <p:nvPr/>
        </p:nvPicPr>
        <p:blipFill>
          <a:blip r:embed="rId1"/>
          <a:stretch/>
        </p:blipFill>
        <p:spPr>
          <a:xfrm>
            <a:off x="285840" y="3748680"/>
            <a:ext cx="4142880" cy="310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blogotshelnika.ru/wp-content/uploads/2011/09/olen2.jpg"/>
          <p:cNvPicPr/>
          <p:nvPr/>
        </p:nvPicPr>
        <p:blipFill>
          <a:blip r:embed="rId2"/>
          <a:stretch/>
        </p:blipFill>
        <p:spPr>
          <a:xfrm>
            <a:off x="4714920" y="3762360"/>
            <a:ext cx="3656880" cy="309528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214200" y="5806440"/>
            <a:ext cx="421164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ло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4786200" y="3143160"/>
            <a:ext cx="47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пятнистый ол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325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тепях и полупустынях распространены насекомоядные животные: еж и выхухоль. Выхухоль обитает лишь в поймах Дона и Волги, ведет полуводный образ жизни. Мех ее красивый, мягкий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2" descr="http://img-fotki.yandex.ru/get/5504/collector2012.0/0_4e358_7c659089_XL"/>
          <p:cNvPicPr/>
          <p:nvPr/>
        </p:nvPicPr>
        <p:blipFill>
          <a:blip r:embed="rId1"/>
          <a:stretch/>
        </p:blipFill>
        <p:spPr>
          <a:xfrm>
            <a:off x="214200" y="3286080"/>
            <a:ext cx="4188240" cy="3142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ttp://bm.img.com.ua/img/prikol/images/large/7/4/185047_408538.jpg"/>
          <p:cNvPicPr/>
          <p:nvPr/>
        </p:nvPicPr>
        <p:blipFill>
          <a:blip r:embed="rId2"/>
          <a:stretch/>
        </p:blipFill>
        <p:spPr>
          <a:xfrm>
            <a:off x="5143680" y="3143160"/>
            <a:ext cx="3571560" cy="2453040"/>
          </a:xfrm>
          <a:prstGeom prst="rect">
            <a:avLst/>
          </a:prstGeom>
          <a:ln w="0">
            <a:noFill/>
          </a:ln>
        </p:spPr>
      </p:pic>
      <p:sp>
        <p:nvSpPr>
          <p:cNvPr id="124" name="Заголовок 1"/>
          <p:cNvSpPr/>
          <p:nvPr/>
        </p:nvSpPr>
        <p:spPr>
          <a:xfrm>
            <a:off x="0" y="628668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ёж обыкнов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5072040" y="564372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выхух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.mukachevo.net/Content/img/news/p_21289_1_gallerybig.jpg"/>
          <p:cNvPicPr/>
          <p:nvPr/>
        </p:nvPicPr>
        <p:blipFill>
          <a:blip r:embed="rId1"/>
          <a:stretch/>
        </p:blipFill>
        <p:spPr>
          <a:xfrm>
            <a:off x="0" y="2762280"/>
            <a:ext cx="3524040" cy="4095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325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60000"/>
          </a:bodyPr>
          <a:p>
            <a:pPr marL="254520" indent="-254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гата область птицами. Преобладают представители степей, полупустынь: жаворонки, дрофы, стрепеты, серые куропатки, перепела, воробьи, синицы, славки, ласточки и другие. Многие птицы, такие, как обыкновенная пустельга, луни, орлы степные, являются хищными и питаются грызунам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4520" indent="-254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йменные леса, лесополосы и овраги, поросшие кустарниками и деревьями, дают приют лесным птицам—иволгам, синицам, дятлам и другим. В поймах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4520" indent="-254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к, на озерах обитают водоплавающие птицы. Создание водохранилищ и лесополос в области способствует распространению видов, обитающих в лесах и на водоемах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4520" indent="-254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http://www.goldensites.ru/media/1/B_72.jpg"/>
          <p:cNvPicPr/>
          <p:nvPr/>
        </p:nvPicPr>
        <p:blipFill>
          <a:blip r:embed="rId2"/>
          <a:stretch/>
        </p:blipFill>
        <p:spPr>
          <a:xfrm>
            <a:off x="5500800" y="3143160"/>
            <a:ext cx="3343320" cy="3166560"/>
          </a:xfrm>
          <a:prstGeom prst="rect">
            <a:avLst/>
          </a:prstGeom>
          <a:ln w="0">
            <a:noFill/>
          </a:ln>
        </p:spPr>
      </p:pic>
      <p:sp>
        <p:nvSpPr>
          <p:cNvPr id="130" name="Заголовок 1"/>
          <p:cNvSpPr/>
          <p:nvPr/>
        </p:nvSpPr>
        <p:spPr>
          <a:xfrm>
            <a:off x="0" y="628668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степной ор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Заголовок 1"/>
          <p:cNvSpPr/>
          <p:nvPr/>
        </p:nvSpPr>
        <p:spPr>
          <a:xfrm>
            <a:off x="5357880" y="628668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пёстрый дят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325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семестно в области распространены пресмыкающиеся: ящерицы, ужи, черепахи и другие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2" descr="http://yahooeu.ru/uploads/posts/08/10/03/25/yahooeu_ru_6.jpg"/>
          <p:cNvPicPr/>
          <p:nvPr/>
        </p:nvPicPr>
        <p:blipFill>
          <a:blip r:embed="rId1"/>
          <a:stretch/>
        </p:blipFill>
        <p:spPr>
          <a:xfrm>
            <a:off x="214200" y="2286000"/>
            <a:ext cx="4500360" cy="2812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copypast.ru/uploads/posts/thumbs/1322210552_394857.jpg"/>
          <p:cNvPicPr/>
          <p:nvPr/>
        </p:nvPicPr>
        <p:blipFill>
          <a:blip r:embed="rId2"/>
          <a:stretch/>
        </p:blipFill>
        <p:spPr>
          <a:xfrm>
            <a:off x="4764960" y="3571920"/>
            <a:ext cx="4378680" cy="3285720"/>
          </a:xfrm>
          <a:prstGeom prst="rect">
            <a:avLst/>
          </a:prstGeom>
          <a:ln w="0">
            <a:noFill/>
          </a:ln>
        </p:spPr>
      </p:pic>
      <p:sp>
        <p:nvSpPr>
          <p:cNvPr id="136" name="Заголовок 1"/>
          <p:cNvSpPr/>
          <p:nvPr/>
        </p:nvSpPr>
        <p:spPr>
          <a:xfrm>
            <a:off x="0" y="500076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ящерица прыт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Заголовок 1"/>
          <p:cNvSpPr/>
          <p:nvPr/>
        </p:nvSpPr>
        <p:spPr>
          <a:xfrm>
            <a:off x="5000760" y="292896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уж обыкнов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891</TotalTime>
  <Application>LibreOffice/7.4.7.2$Linux_X86_64 LibreOffice_project/40$Build-2</Application>
  <AppVersion>15.0000</AppVersion>
  <Words>852</Words>
  <Paragraphs>8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20:23:44Z</dcterms:created>
  <dc:creator>брат</dc:creator>
  <dc:description/>
  <dc:language>en-US</dc:language>
  <cp:lastModifiedBy>брат</cp:lastModifiedBy>
  <dcterms:modified xsi:type="dcterms:W3CDTF">2013-06-09T19:55:15Z</dcterms:modified>
  <cp:revision>100</cp:revision>
  <dc:subject/>
  <dc:title>Живая и неживая приро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9</vt:r8>
  </property>
</Properties>
</file>