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4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8F1-959F-4BB7-B572-AC7CFA69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ED8-DD63-4080-A765-5F43DD6E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77F-B45E-4787-876D-B55221C2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F81-E727-42BB-9EC4-9AA68BFE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48DA-1E0C-42DC-8075-E91AA2DB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7DB-2CC7-42D2-9CA5-447447E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30F8-5322-47B6-859F-9C307AF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E0C2-2F8A-41AC-B8F2-9AD3E604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6E33-E83A-4E7B-92C2-879F1A8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2C88-7C51-4562-B5A2-BCD8E7F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D30E-8978-44B4-9411-1CC45AE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F0A-F9D2-418E-A2A8-1B4CDCDE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9E3E-9F5E-481D-862B-9C1D21D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E0BC-7D1B-4C3D-B66A-E9D875F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9BE4-E869-4951-909B-2B4EEC5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2910-07D6-445F-A111-7B481EFF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49E-24AE-49FB-B50A-8292B2E9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B10-832C-4D0C-A977-8A4FEB06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82D-B97A-4DB7-B798-CBE8A425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1EB-7E54-45D3-844E-1EA551E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6A6-0838-41F4-B788-9D46FD34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0F7-5AA3-4EBC-9774-0BA37CA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6BB-9ED3-4C51-A509-3EEDC8F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B4B-9834-485F-A10D-DEDA55B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C816-EE3A-4CC8-A69E-6CA1B1A7D5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8C57-6563-4DB6-91E4-0A4FA92FC55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БОУ "Суворовская СОШ" Благовещенского района Алтайского кра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час для учащихся начальных класс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руководитель Т.И.Шишк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.Суворов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013 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343240" y="2276640"/>
            <a:ext cx="453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се работы хороши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на вкус!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4360" y="474840"/>
            <a:ext cx="617364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ожит мостовая и воет мото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к нам едет папа-шофе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 синему небу летит самолет,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м управляет папа-пило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ужно шагает с военными в ряд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серой шинели папа-солда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 многоборье у нас рекордсмен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ы отвечаем: «Папа-спортсмен!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голь рубить не устал в недрах г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ерный от сажи папа-шахтер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кры летят, из котла валит па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То варит сталь наш отец-сталева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ылечит тысячи сломанных рук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детской больнице папа-хирур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ран установит, прочистит зас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апа-сантехник или монтер.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ыступает на сцене на бис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известный папа-артис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 мире ненужной профессии нет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!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чит нас с детства папа-поэт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р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71800" cy="209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4932360" y="4581360"/>
            <a:ext cx="3360600" cy="17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948200" cy="2678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едсестр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профессии 004"/>
          <p:cNvPicPr/>
          <p:nvPr/>
        </p:nvPicPr>
        <p:blipFill>
          <a:blip r:embed="rId1"/>
          <a:stretch/>
        </p:blipFill>
        <p:spPr>
          <a:xfrm>
            <a:off x="1655640" y="2023920"/>
            <a:ext cx="5929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ите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4" descr="профессии 003"/>
          <p:cNvPicPr/>
          <p:nvPr/>
        </p:nvPicPr>
        <p:blipFill>
          <a:blip r:embed="rId1"/>
          <a:stretch/>
        </p:blipFill>
        <p:spPr>
          <a:xfrm>
            <a:off x="2916360" y="1557360"/>
            <a:ext cx="31575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ератор машинного до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09760" y="2095560"/>
            <a:ext cx="4605120" cy="416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317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втослес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профессии 001"/>
          <p:cNvPicPr/>
          <p:nvPr/>
        </p:nvPicPr>
        <p:blipFill>
          <a:blip r:embed="rId1"/>
          <a:stretch/>
        </p:blipFill>
        <p:spPr>
          <a:xfrm>
            <a:off x="900000" y="1563840"/>
            <a:ext cx="2826000" cy="5037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Виды деятельност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зборка, ремонт, сборка автомоби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гулировка, разборка, ремонт, замена, установка узлов и деталей автомобил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на расходных материалов (масло, тосол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иагностика агрега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ка тормозной, рулевой сист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держание автомобиля в исправном состоян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ар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456"/>
                </a:solidFill>
                <a:latin typeface="Verdana"/>
              </a:rPr>
              <a:t>Требования к особенностям специалис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изическая си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носливост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строта зрения и цветовосприят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бкость и подвижность всего те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ороший вестибулярный аппара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7" descr="профессии 005"/>
          <p:cNvPicPr/>
          <p:nvPr/>
        </p:nvPicPr>
        <p:blipFill>
          <a:blip r:embed="rId1"/>
          <a:stretch/>
        </p:blipFill>
        <p:spPr>
          <a:xfrm>
            <a:off x="4716360" y="1268280"/>
            <a:ext cx="395928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о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Должен облада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трым зрением, точным линейным и объёмным глазомер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ей зрительно-моторной координаци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хническим мышл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странственным воображ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ю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профессии 006"/>
          <p:cNvPicPr/>
          <p:nvPr/>
        </p:nvPicPr>
        <p:blipFill>
          <a:blip r:embed="rId1"/>
          <a:stretch/>
        </p:blipFill>
        <p:spPr>
          <a:xfrm>
            <a:off x="468360" y="1197000"/>
            <a:ext cx="30812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лектромонтё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 бесперебойной работы электрооборудования зависит эффективность любого производственного объект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фессиональные навыки электромонтёра полезны в быт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7" descr="профессии 007"/>
          <p:cNvPicPr/>
          <p:nvPr/>
        </p:nvPicPr>
        <p:blipFill>
          <a:blip r:embed="rId1"/>
          <a:stretch/>
        </p:blipFill>
        <p:spPr>
          <a:xfrm>
            <a:off x="5384880" y="1600200"/>
            <a:ext cx="2563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ен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8456"/>
                </a:solidFill>
                <a:latin typeface="Verdana"/>
              </a:rPr>
              <a:t>Каменщик должен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ладеть приёмами приготовления раствор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меть читать и воспроизводить чертеж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полнять кладочные рабо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7" descr="профессии 001"/>
          <p:cNvPicPr/>
          <p:nvPr/>
        </p:nvPicPr>
        <p:blipFill>
          <a:blip r:embed="rId1"/>
          <a:stretch/>
        </p:blipFill>
        <p:spPr>
          <a:xfrm>
            <a:off x="803160" y="1600200"/>
            <a:ext cx="3345120" cy="453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Цели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знакомить с многообразием мира професси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точнить знания о профессиях родителе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спитывать уважение к труд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борудование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интерактивная доска, компьютер, презентац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Форма проведения: презентация – путешестви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зраст участников: 6-11 лет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давец магаз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Продавцу необходим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ая памя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рифметические способ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лазоме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чное пространственное восприятие величины и формы предм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ёткая дик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Он должен бы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моционально устойчив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блюда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щи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ст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15" descr="P1000751"/>
          <p:cNvPicPr/>
          <p:nvPr/>
        </p:nvPicPr>
        <p:blipFill>
          <a:blip r:embed="rId1"/>
          <a:stretch/>
        </p:blipFill>
        <p:spPr>
          <a:xfrm>
            <a:off x="5148360" y="436572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7" descr="профессии 003"/>
          <p:cNvPicPr/>
          <p:nvPr/>
        </p:nvPicPr>
        <p:blipFill>
          <a:blip r:embed="rId1"/>
          <a:stretch/>
        </p:blipFill>
        <p:spPr>
          <a:xfrm>
            <a:off x="1193760" y="1600200"/>
            <a:ext cx="2563920" cy="4530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Содержание професс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екает хлеб, хлебобулочные и мучнисто-кондитерские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шивает опару и тес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ледит за выдержкой тес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кладывает тесто на листы, в формы и отправляет их в печ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яет контроль за процессом выпеч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ределяет готовность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0 детских утренников для начальной школы (сценарии) / Авт.-сост. М.М. Давыдова. М., 2003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гры для девочек и мальчиков: ребусы, раскраски, кроссворды, головоломки, загадки / Сост. И.Г. Сухин. М.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урова С. Большая книга школьных праздников. Ярославль, 2008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аздники в начальной школе / Сост. Н.Г. Кувашова. Волгоград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ие народные пословицы, поговорки и загадки / Сост. Ю.Г. Круглов. М., 1986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енны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Я мечтаю быть военны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ыть красивым, здоровенным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88920" y="1628640"/>
            <a:ext cx="4356000" cy="381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Инженер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здесь умнее вс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уплю я в полит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ыстро стану инженером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о всем я буду первы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надо не ленить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немного подучи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30081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ртной, швея, закройщ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4834080" cy="349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Я мечтаю стать портних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ного сшить пальто и шляп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мамочек и для ребя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570480" cy="266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Шеф-повар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мечтаю поваром ст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кусные плюшки для всех выпек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йте повару продукт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ясо, птицу, сухофрукты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ис, картофель... И тог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дет вас вкусная е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рукто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683240" cy="3159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16000" y="105228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хочу стать конструктором важны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дом построить многоэтажны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далекие планет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 Земли летят раке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х конструктор разработал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нь и ночь не спал, работа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пасатели МЧ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040280" cy="28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Я буду спасателем, смелым, от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елом он занят, нужным и 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пасатель там, где есть беда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дет на помощь он всегда.    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 сомневаться нет причин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пасать — работа для мужчин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040280" cy="2573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24000" y="1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еплые вещи быстро и тих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Шьет для детишек мама-портних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ит корову с утра спозаранк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чистом загоне мама-дояр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убки больные без всяких укол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лечит мама — врач-стоматоло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етском саду очень много занят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 там няня и воспита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95280" y="3068640"/>
            <a:ext cx="82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школе не меньше занятий. Смотрит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авит оценки мама-учи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корешочка растить не устане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удо-растение мама-ботани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ишет в газеты статьи и запис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-писатель и журналист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кусной колбаски достала с витрин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, она — продавец магази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люшки и булочки кушать спешите!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х испекла нам мама-кондит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самолета прыгает с риско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мелая мама-парашютист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18:54Z</dcterms:created>
  <dc:creator>VIP</dc:creator>
  <dc:description/>
  <dc:language>en-US</dc:language>
  <cp:lastModifiedBy>VIP</cp:lastModifiedBy>
  <dcterms:modified xsi:type="dcterms:W3CDTF">2013-03-27T15:39:47Z</dcterms:modified>
  <cp:revision>27</cp:revision>
  <dc:subject/>
  <dc:title>Слайд 1</dc:title>
</cp:coreProperties>
</file>