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png" ContentType="image/png"/>
  <Override PartName="/ppt/media/image19.jpeg" ContentType="image/jpeg"/>
  <Override PartName="/ppt/media/image9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3.png" ContentType="image/png"/>
  <Override PartName="/ppt/media/image8.png" ContentType="image/png"/>
  <Override PartName="/ppt/media/image14.jpeg" ContentType="image/jpeg"/>
  <Override PartName="/ppt/media/image24.jpeg" ContentType="image/jpeg"/>
  <Override PartName="/ppt/media/image5.png" ContentType="image/png"/>
  <Override PartName="/ppt/media/image6.jpeg" ContentType="image/jpeg"/>
  <Override PartName="/ppt/media/image10.png" ContentType="image/png"/>
  <Override PartName="/ppt/media/image21.jpeg" ContentType="image/jpeg"/>
  <Override PartName="/ppt/media/image16.png" ContentType="image/png"/>
  <Override PartName="/ppt/media/image18.jpeg" ContentType="image/jpeg"/>
  <Override PartName="/ppt/media/image15.jpeg" ContentType="image/jpeg"/>
  <Override PartName="/ppt/media/image1.png" ContentType="image/png"/>
  <Override PartName="/ppt/media/image23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1567-F9BF-4CA6-BCFE-C5BCE2041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B390-EBC1-4356-861D-821A0FCF2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9ECB-28E2-4D44-AF98-2FCE9BCCE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83F1-B179-468A-A825-813A25A5B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994F1-2F7C-47F7-B834-62E9847E1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44F3A-AE34-44F8-946C-33B9B8961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0E41B-0AA0-4A0A-B5D3-15A827D0F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281E8-B7D3-47DB-98BF-026E39FAF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A86F5-8D5E-458F-97F6-F4E8C8422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26BCD-7C62-4F91-B09B-913E9521B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77E10-E20E-4EB4-B476-06EA704D9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D65B-30D9-4B66-A5E8-17B6402D0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8C2D3-1B58-4726-A2C6-6F8AD3BA3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F8396-FE89-4038-8699-FBEB85D1E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1D8BD-00B6-4B16-A47C-F86C0E275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3235A-DF5C-474E-A769-8BE39AEA3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36987-5731-4D67-8635-87221A230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36E9-0297-4F0B-9260-BA9BE341D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7CB4-08C5-40A5-BB72-F55E4DECC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4332-3D36-4CED-B545-EA3475549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1014-41E4-447F-89E9-4EAEBB46B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9A58-5FB2-4D92-AF53-8F4787FCD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06E4-6D8B-4D75-AF7F-52FD4A201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8349-CE75-437B-AC4A-286A10AFC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8B110-9876-4FAB-BAAC-3D1C242E37B7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98937-6189-4608-93B6-307549C216E2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МБОУ "Суворовская СОШ" Благовещенского района Алтайского края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Классный час для учащихся начальных классов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Классный руководитель Т.И.Шишкина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с.Суворовка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2013 г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6" name="WordArt 4"/>
          <p:cNvSpPr txBox="1"/>
          <p:nvPr/>
        </p:nvSpPr>
        <p:spPr>
          <a:xfrm>
            <a:off x="2343240" y="2276640"/>
            <a:ext cx="453384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"Все работы хороши,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ыбирай на вкус!"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Прямоугольник 1"/>
          <p:cNvSpPr/>
          <p:nvPr/>
        </p:nvSpPr>
        <p:spPr>
          <a:xfrm>
            <a:off x="684360" y="474840"/>
            <a:ext cx="6173640" cy="66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Дрожит мостовая и воет мотор —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Это к нам едет папа-шофер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По синему небу летит самолет,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Им управляет папа-пилот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Дружно шагает с военными в ряд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В серой шинели папа-солдат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Кто в многоборье у нас рекордсмен?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Мы отвечаем: «Папа-спортсмен!»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Уголь рубить не устал в недрах гор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Черный от сажи папа-шахтер. 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Искры летят, из котла валит пар —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То варит сталь наш отец-сталевар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Вылечит тысячи сломанных рук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В детской больнице папа-хирург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Кран установит, прочистит засор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Папа-сантехник или монтер.   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Кто выступает на сцене на бис?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Это известный папа-артист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«В мире ненужной профессии нет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!»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Учит нас с детства папа-поэт. 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Врачи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6" name="Picture 7" descr=""/>
          <p:cNvPicPr/>
          <p:nvPr/>
        </p:nvPicPr>
        <p:blipFill>
          <a:blip r:embed="rId1"/>
          <a:stretch/>
        </p:blipFill>
        <p:spPr>
          <a:xfrm>
            <a:off x="611280" y="981000"/>
            <a:ext cx="2913120" cy="21859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0" descr=""/>
          <p:cNvPicPr/>
          <p:nvPr/>
        </p:nvPicPr>
        <p:blipFill>
          <a:blip r:embed="rId2"/>
          <a:stretch/>
        </p:blipFill>
        <p:spPr>
          <a:xfrm>
            <a:off x="395280" y="4149720"/>
            <a:ext cx="3871800" cy="20970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1" descr=""/>
          <p:cNvPicPr/>
          <p:nvPr/>
        </p:nvPicPr>
        <p:blipFill>
          <a:blip r:embed="rId3"/>
          <a:stretch/>
        </p:blipFill>
        <p:spPr>
          <a:xfrm>
            <a:off x="4932360" y="4581360"/>
            <a:ext cx="3360600" cy="17431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2" descr=""/>
          <p:cNvPicPr/>
          <p:nvPr/>
        </p:nvPicPr>
        <p:blipFill>
          <a:blip r:embed="rId4"/>
          <a:stretch/>
        </p:blipFill>
        <p:spPr>
          <a:xfrm>
            <a:off x="4067280" y="1197000"/>
            <a:ext cx="4948200" cy="267804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5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Медсестра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2" name="Picture 4" descr="профессии 004"/>
          <p:cNvPicPr/>
          <p:nvPr/>
        </p:nvPicPr>
        <p:blipFill>
          <a:blip r:embed="rId1"/>
          <a:stretch/>
        </p:blipFill>
        <p:spPr>
          <a:xfrm>
            <a:off x="1655640" y="2023920"/>
            <a:ext cx="5929560" cy="37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Водитель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5" name="Picture 4" descr="профессии 003"/>
          <p:cNvPicPr/>
          <p:nvPr/>
        </p:nvPicPr>
        <p:blipFill>
          <a:blip r:embed="rId1"/>
          <a:stretch/>
        </p:blipFill>
        <p:spPr>
          <a:xfrm>
            <a:off x="2916360" y="1557360"/>
            <a:ext cx="3157560" cy="44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Оператор машинного доения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7" name="Picture 3" descr=""/>
          <p:cNvPicPr/>
          <p:nvPr/>
        </p:nvPicPr>
        <p:blipFill>
          <a:blip r:embed="rId1"/>
          <a:stretch/>
        </p:blipFill>
        <p:spPr>
          <a:xfrm>
            <a:off x="509760" y="2095560"/>
            <a:ext cx="4605120" cy="41608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8" descr=""/>
          <p:cNvPicPr/>
          <p:nvPr/>
        </p:nvPicPr>
        <p:blipFill>
          <a:blip r:embed="rId2"/>
          <a:stretch/>
        </p:blipFill>
        <p:spPr>
          <a:xfrm>
            <a:off x="4572000" y="1268280"/>
            <a:ext cx="4317840" cy="34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0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Автослесарь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60" name="Picture 7" descr="профессии 001"/>
          <p:cNvPicPr/>
          <p:nvPr/>
        </p:nvPicPr>
        <p:blipFill>
          <a:blip r:embed="rId1"/>
          <a:stretch/>
        </p:blipFill>
        <p:spPr>
          <a:xfrm>
            <a:off x="900000" y="1563840"/>
            <a:ext cx="2826000" cy="503712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a8456"/>
                </a:solidFill>
                <a:latin typeface="Verdana"/>
              </a:rPr>
              <a:t>Виды деятельности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Разборка, ремонт, сборка автомобилей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Регулировка, разборка, ремонт, замена, установка узлов и деталей автомобиля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Замена расходных материалов (масло, тосол)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Диагностика агрегатов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Проверка тормозной, рулевой систем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Поддержание автомобиля в исправном состоянии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wedge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0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768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9" dur="768" fill="hold"/>
                                        <p:tgtEl>
                                          <p:spTgt spid="1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1" dur="768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3" dur="768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Сварщик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a8456"/>
                </a:solidFill>
                <a:latin typeface="Verdana"/>
              </a:rPr>
              <a:t>Требования к особенностям специалиста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Физическая сила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Выносливость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Острота зрения и цветовосприятие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Гибкость и подвижность всего тела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Хороший вестибулярный аппарат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5" name="Picture 7" descr="профессии 005"/>
          <p:cNvPicPr/>
          <p:nvPr/>
        </p:nvPicPr>
        <p:blipFill>
          <a:blip r:embed="rId1"/>
          <a:stretch/>
        </p:blipFill>
        <p:spPr>
          <a:xfrm>
            <a:off x="4716360" y="1268280"/>
            <a:ext cx="3959280" cy="53294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0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99" dur="2000" fill="hold"/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Токарь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a8456"/>
                </a:solidFill>
                <a:latin typeface="Verdana"/>
              </a:rPr>
              <a:t>Должен обладать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Острым зрением, точным линейным и объёмным глазомером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Хорошей зрительно-моторной координацией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Техническим мышлением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Пространственным воображением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Устойчивостью внимания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9" name="Picture 4" descr="профессии 006"/>
          <p:cNvPicPr/>
          <p:nvPr/>
        </p:nvPicPr>
        <p:blipFill>
          <a:blip r:embed="rId1"/>
          <a:stretch/>
        </p:blipFill>
        <p:spPr>
          <a:xfrm>
            <a:off x="468360" y="1197000"/>
            <a:ext cx="3081240" cy="53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0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Электромонтёр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От бесперебойной работы электрооборудования зависит эффективность любого производственного объекта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Профессиональные навыки электромонтёра полезны в быту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72" name="Picture 7" descr="профессии 007"/>
          <p:cNvPicPr/>
          <p:nvPr/>
        </p:nvPicPr>
        <p:blipFill>
          <a:blip r:embed="rId1"/>
          <a:stretch/>
        </p:blipFill>
        <p:spPr>
          <a:xfrm>
            <a:off x="5384880" y="1600200"/>
            <a:ext cx="256356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0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Каменщик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a8456"/>
                </a:solidFill>
                <a:latin typeface="Verdana"/>
              </a:rPr>
              <a:t>Каменщик должен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Владеть приёмами приготовления растворов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Уметь читать и воспроизводить чертежи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Выполнять кладочные работы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75" name="Picture 7" descr="профессии 001"/>
          <p:cNvPicPr/>
          <p:nvPr/>
        </p:nvPicPr>
        <p:blipFill>
          <a:blip r:embed="rId1"/>
          <a:stretch/>
        </p:blipFill>
        <p:spPr>
          <a:xfrm>
            <a:off x="803160" y="1600200"/>
            <a:ext cx="3345120" cy="45306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0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8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8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8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8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Цели занятия:</a:t>
            </a:r>
            <a:br>
              <a:rPr sz="2000"/>
            </a:b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•</a:t>
            </a: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познакомить с многообразием мира профессий; </a:t>
            </a:r>
            <a:br>
              <a:rPr sz="2000"/>
            </a:b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•</a:t>
            </a: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уточнить знания о профессиях родителей; </a:t>
            </a:r>
            <a:br>
              <a:rPr sz="2000"/>
            </a:b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•</a:t>
            </a: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воспитывать уважение к труду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Оборудование занятия:</a:t>
            </a:r>
            <a:br>
              <a:rPr sz="2000"/>
            </a:b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 интерактивная доска, компьютер, презентация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Форма проведения: презентация – путешествие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Возраст участников: 6-11 лет.</a:t>
            </a:r>
            <a:br>
              <a:rPr sz="2000"/>
            </a:b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Продавец магазин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a8456"/>
                </a:solidFill>
                <a:latin typeface="Verdana"/>
              </a:rPr>
              <a:t>Продавцу необходимы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устойчивость внимания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хорошая память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арифметические способности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глазомер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точное пространственное восприятие величины и формы предмета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чёткая дикция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a8456"/>
                </a:solidFill>
                <a:latin typeface="Verdana"/>
              </a:rPr>
              <a:t>Он должен быть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эмоционально устойчивым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наблюдательным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общительным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честным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79" name="Picture 15" descr="P1000751"/>
          <p:cNvPicPr/>
          <p:nvPr/>
        </p:nvPicPr>
        <p:blipFill>
          <a:blip r:embed="rId1"/>
          <a:stretch/>
        </p:blipFill>
        <p:spPr>
          <a:xfrm>
            <a:off x="5148360" y="4365720"/>
            <a:ext cx="291924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Пекарь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81" name="Picture 7" descr="профессии 003"/>
          <p:cNvPicPr/>
          <p:nvPr/>
        </p:nvPicPr>
        <p:blipFill>
          <a:blip r:embed="rId1"/>
          <a:stretch/>
        </p:blipFill>
        <p:spPr>
          <a:xfrm>
            <a:off x="1193760" y="1600200"/>
            <a:ext cx="2563920" cy="453060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a8456"/>
                </a:solidFill>
                <a:latin typeface="Verdana"/>
              </a:rPr>
              <a:t>Содержание профессии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Выпекает хлеб, хлебобулочные и мучнисто-кондитерские изделия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Замешивает опару и тесто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Следит за выдержкой теста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Укладывает тесто на листы, в формы и отправляет их в печь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Осуществляет контроль за процессом выпечки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Определяет готовность изделия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nodeType="clickEffect" fill="hold">
                      <p:stCondLst>
                        <p:cond delay="0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500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9" dur="500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ЛИТЕРАТУРА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1.</a:t>
            </a: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30 детских утренников для начальной школы (сценарии) / Авт.-сост. М.М. Давыдова. М., 2003</a:t>
            </a:r>
            <a:br>
              <a:rPr sz="2000"/>
            </a:b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2.</a:t>
            </a: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Игры для девочек и мальчиков: ребусы, раскраски, кроссворды, головоломки, загадки / Сост. И.Г. Сухин. М., 2005</a:t>
            </a:r>
            <a:br>
              <a:rPr sz="2000"/>
            </a:b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3.</a:t>
            </a: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Качурова С. Большая книга школьных праздников. Ярославль, 2008</a:t>
            </a:r>
            <a:br>
              <a:rPr sz="2000"/>
            </a:b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4.</a:t>
            </a: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Праздники в начальной школе / Сост. Н.Г. Кувашова. Волгоград, 2005</a:t>
            </a:r>
            <a:br>
              <a:rPr sz="2000"/>
            </a:b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5.</a:t>
            </a: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Русские народные пословицы, поговорки и загадки / Сост. Ю.Г. Круглов. М., 1986</a:t>
            </a:r>
            <a:br>
              <a:rPr sz="2000"/>
            </a:b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Военные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4038480" cy="45306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Я мечтаю быть военным,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Быть красивым, здоровенным…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1" name="Picture 8" descr=""/>
          <p:cNvPicPr/>
          <p:nvPr/>
        </p:nvPicPr>
        <p:blipFill>
          <a:blip r:embed="rId2"/>
          <a:stretch/>
        </p:blipFill>
        <p:spPr>
          <a:xfrm>
            <a:off x="88920" y="1628640"/>
            <a:ext cx="4356000" cy="38116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Arial"/>
              </a:rPr>
              <a:t>Инженер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А я здесь умнее всех,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Поступлю я в политех,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Быстро стану инженером,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И во всем я буду первым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Только надо не лениться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И немного подучиться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457200" y="2652840"/>
            <a:ext cx="3008160" cy="2255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Портной, швея, закройщик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6" name="Picture 7" descr=""/>
          <p:cNvPicPr/>
          <p:nvPr/>
        </p:nvPicPr>
        <p:blipFill>
          <a:blip r:embed="rId1"/>
          <a:stretch/>
        </p:blipFill>
        <p:spPr>
          <a:xfrm>
            <a:off x="539640" y="2852640"/>
            <a:ext cx="4834080" cy="34927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Я мечтаю стать портнихой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Много сшить пальто и шляп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Для мамочек и для ребят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8" name="Picture 9" descr=""/>
          <p:cNvPicPr/>
          <p:nvPr/>
        </p:nvPicPr>
        <p:blipFill>
          <a:blip r:embed="rId2"/>
          <a:stretch/>
        </p:blipFill>
        <p:spPr>
          <a:xfrm>
            <a:off x="5003640" y="1197000"/>
            <a:ext cx="3570480" cy="26654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8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8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8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8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Arial"/>
              </a:rPr>
              <a:t>Шеф-повар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А я мечтаю поваром стать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И вкусные плюшки для всех выпекать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Дайте повару продукты: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Мясо, птицу, сухофрукты,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Рис, картофель... И тогда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Ждет вас вкусная еда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1" name="Picture 4" descr=""/>
          <p:cNvPicPr/>
          <p:nvPr/>
        </p:nvPicPr>
        <p:blipFill>
          <a:blip r:embed="rId1"/>
          <a:stretch/>
        </p:blipFill>
        <p:spPr>
          <a:xfrm>
            <a:off x="1332000" y="306864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Конструктор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0" y="3500280"/>
            <a:ext cx="4683240" cy="315936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716000" y="1052280"/>
            <a:ext cx="4041720" cy="39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А я хочу стать конструктором важным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И дом построить многоэтажный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На далекие планеты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От Земли летят ракеты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Их конструктор разработал,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День и ночь не спал, работал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push dir="r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Спасатели МЧС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94920" y="1267920"/>
            <a:ext cx="4040280" cy="280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2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aeaea"/>
                </a:solidFill>
                <a:latin typeface="Verdana"/>
              </a:rPr>
              <a:t>Я буду спасателем, смелым, отважным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aeaea"/>
                </a:solidFill>
                <a:latin typeface="Verdana"/>
              </a:rPr>
              <a:t>Делом он занят, нужным и важным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aeaea"/>
                </a:solidFill>
                <a:latin typeface="Verdana"/>
              </a:rPr>
              <a:t>Спасатель там, где есть беда,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aeaea"/>
                </a:solidFill>
                <a:latin typeface="Verdana"/>
              </a:rPr>
              <a:t>Придет на помощь он всегда.                                 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aeaea"/>
                </a:solidFill>
                <a:latin typeface="Verdana"/>
              </a:rPr>
              <a:t>И сомневаться нет причин: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Verdana"/>
              </a:rPr>
              <a:t>Спасать — работа для мужчин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9" name="Picture 7" descr=""/>
          <p:cNvPicPr/>
          <p:nvPr/>
        </p:nvPicPr>
        <p:blipFill>
          <a:blip r:embed="rId1"/>
          <a:stretch/>
        </p:blipFill>
        <p:spPr>
          <a:xfrm>
            <a:off x="468360" y="3716280"/>
            <a:ext cx="4040280" cy="257328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1" name="Picture 6" descr=""/>
          <p:cNvPicPr/>
          <p:nvPr/>
        </p:nvPicPr>
        <p:blipFill>
          <a:blip r:embed="rId2"/>
          <a:stretch/>
        </p:blipFill>
        <p:spPr>
          <a:xfrm>
            <a:off x="4645080" y="2635200"/>
            <a:ext cx="4041720" cy="303048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Прямоугольник 1"/>
          <p:cNvSpPr/>
          <p:nvPr/>
        </p:nvSpPr>
        <p:spPr>
          <a:xfrm>
            <a:off x="324000" y="189000"/>
            <a:ext cx="7416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Теплые вещи быстро и тихо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Шьет для детишек мама-портниха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Доит корову с утра спозаранку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В чистом загоне мама-доярка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Зубки больные без всяких уколов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Вылечит мама — врач-стоматолог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В детском саду очень много занятий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Мама там няня и воспитатель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3" name="Прямоугольник 2"/>
          <p:cNvSpPr/>
          <p:nvPr/>
        </p:nvSpPr>
        <p:spPr>
          <a:xfrm>
            <a:off x="395280" y="3068640"/>
            <a:ext cx="8244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В школе не меньше занятий. Смотрите: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Ставит оценки мама-учитель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Из корешочка растить не устанет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Чудо-растение мама-ботаник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Пишет в газеты статьи и записки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Мама-писатель и журналистка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Вкусной колбаски достала с витрины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Мама, она — продавец магазина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Плюшки и булочки кушать спешите!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Их испекла нам мама-кондитер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Из самолета прыгает с риском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Смелая мама-парашютистка.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4T14:18:54Z</dcterms:created>
  <dc:creator>VIP</dc:creator>
  <dc:description/>
  <dc:language>en-US</dc:language>
  <cp:lastModifiedBy>VIP</cp:lastModifiedBy>
  <dcterms:modified xsi:type="dcterms:W3CDTF">2013-03-27T15:39:47Z</dcterms:modified>
  <cp:revision>27</cp:revision>
  <dc:subject/>
  <dc:title>Слайд 1</dc:title>
</cp:coreProperties>
</file>