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ADF-79D0-4422-BFE7-0D632E63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430-3532-476E-8424-F7C4CFC2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76A-F768-4B29-9D92-C979A0A2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681-264F-4694-9CB9-34143154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E3C6-393D-42C0-9EFF-4343DF5C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F499-CB1E-4774-BD06-D04DC003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011E-7243-45EA-9407-91D81731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544E-0BA9-43FE-BDF4-5478331B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389F-2028-4F89-9DA6-E2C640A1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22C3-A531-4CEC-B2E6-FECDBBA7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F313-E8A3-4FF8-9593-732C6B6A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58F-846D-4632-B4BF-E3CA01D8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E0FC-8ECA-442B-9C99-31A68D90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E8CC-F75E-4F45-AB3E-EC7511B4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F775-EEF5-4BE1-ACA0-9CAD095D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04B7-D124-4F1D-BAB5-17B5DB6C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DC70-3C93-4DF0-89B5-FAB23590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540-F88B-4B7A-8E42-028792C0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FBA-7D7D-440C-B40D-732AD4EF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5FC-AD62-425E-A1EC-9834F38C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B8C-96F7-4D39-BB36-BDB7DF0C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AC9-D70E-480B-9E8A-33CF1D71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1F9-5B5A-404A-BD52-11E04C82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6CC-8BCA-4978-A3EE-267F9B42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36B7-E05E-41DC-997B-1B425CA6E4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B95D-D8E3-4EB4-9319-D21B3CB8B8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6429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Tahoma"/>
              </a:rPr>
              <a:t>Вавилов Николай Иванович</a:t>
            </a: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08720" y="4220640"/>
            <a:ext cx="3200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вченко Я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 9-Б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vaviliv"/>
          <p:cNvPicPr/>
          <p:nvPr/>
        </p:nvPicPr>
        <p:blipFill>
          <a:blip r:embed="rId1"/>
          <a:stretch/>
        </p:blipFill>
        <p:spPr>
          <a:xfrm>
            <a:off x="428760" y="2214720"/>
            <a:ext cx="3468600" cy="38811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143240" y="6215040"/>
            <a:ext cx="2286000" cy="500040"/>
          </a:xfrm>
          <a:prstGeom prst="rect">
            <a:avLst/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тах Н.И.Вавилова прослежена изменчивость признаков у семейства злаковых. Им описаны наиболее важные морфологические признаки, характерные для видов этого семейства, такие как остистость и безостость колоса, разная окраска колосковых и цветочных чешуй и зерна, пленчатое и голое зерно, форма зерна, его консистенция, строение листьев, окраска всходов, озимость и яровость, скороспелость, холодостойкость и т.п. Из 38 различных признаков, характерных для всех видов семейства, Н.И.Вавиловым было обнаружено у ржи – 37, у пшеницы – 37, у ячменя и овса – по 35, у кукурузы и риса – по 32, у проса – 27 призн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547640" y="404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стижения в нау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vavilov_25"/>
          <p:cNvPicPr/>
          <p:nvPr/>
        </p:nvPicPr>
        <p:blipFill>
          <a:blip r:embed="rId1"/>
          <a:srcRect l="0" t="0" r="2590" b="57017"/>
          <a:stretch/>
        </p:blipFill>
        <p:spPr>
          <a:xfrm>
            <a:off x="250920" y="189000"/>
            <a:ext cx="6554520" cy="4449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vavilov_25"/>
          <p:cNvPicPr/>
          <p:nvPr/>
        </p:nvPicPr>
        <p:blipFill>
          <a:blip r:embed="rId2"/>
          <a:srcRect l="0" t="53335" r="49876" b="2710"/>
          <a:stretch/>
        </p:blipFill>
        <p:spPr>
          <a:xfrm>
            <a:off x="5508720" y="1989000"/>
            <a:ext cx="3430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И. Вавилов был репрессирован, погиб в тюрьме в 1943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VAVILOV"/>
          <p:cNvPicPr/>
          <p:nvPr/>
        </p:nvPicPr>
        <p:blipFill>
          <a:blip r:embed="rId1"/>
          <a:stretch/>
        </p:blipFill>
        <p:spPr>
          <a:xfrm>
            <a:off x="826920" y="1989000"/>
            <a:ext cx="712980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vaviliv"/>
          <p:cNvPicPr/>
          <p:nvPr/>
        </p:nvPicPr>
        <p:blipFill>
          <a:blip r:embed="rId1"/>
          <a:stretch/>
        </p:blipFill>
        <p:spPr>
          <a:xfrm>
            <a:off x="4356000" y="333360"/>
            <a:ext cx="4554720" cy="6248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95280" y="2133720"/>
            <a:ext cx="345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. И. Вавилов родился 26 ноября 1887 г. в Москве. Ко времени окончания коммерческого училища он уже твердо знал, что будет биологом. В 1906 г. Николай Иванович поступил в Московский сельскохозяйственный институт Уже в студенческие годы начали проявляться его замечательные каче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68360" y="33336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Мне не жалко отдать жизнь ради самого малого в науке... 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181080" y="40464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. И. Вавилов летом 1910 г. прошел агрономическую практику на Полтавской опытной станции, получив, по собственному признанию, "импульс для всей дальнейшей работы". По окончании института Н. И. Вавилов был оставлен для подготовки к профессорскому званию на кафедре частного земледелия. Он был прикомандирован на селекционную станцию института, где начал исследование по иммунитету культурных растений к паразитическим гриб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2-tablitsa_06"/>
          <p:cNvPicPr/>
          <p:nvPr/>
        </p:nvPicPr>
        <p:blipFill>
          <a:blip r:embed="rId1"/>
          <a:srcRect l="7089" t="0" r="5874" b="17905"/>
          <a:stretch/>
        </p:blipFill>
        <p:spPr>
          <a:xfrm>
            <a:off x="5219640" y="620640"/>
            <a:ext cx="3760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13 г. Н. И. Вавилов был командирован за границу для научной работы. В Мертоне (Англия), в генетической лаборатории Садоводственного института. Там он продолжил исследование иммунитета хлебных з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колько месяцев Николай Иванович работал в лаборатории генетики Кембриджского университета; во Франции он посетил крупнейшую семеноводческую фирму Вильморена, где ознакомился с новейшими достижениями селекции в семеноводстве, в поражаемости различных сортов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4679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ы этих исследований с широким использованием эксперимента были обобщены в монографии "Иммунитет растений к инфекционным заболеваниям" (1919 г.). В 1917 г. Н. И. Вавилов получил приглашение возглавить кафедру генетики, селекции и частного земледелия на Саратовских высших сельскохозяйственных курсах и переехал в Саратов. Вместе с тем он продолжал широкое полевое изучение сортов различных сельскохозяйственных растений, в первую очередь хлебных зл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0703-3"/>
          <p:cNvPicPr/>
          <p:nvPr/>
        </p:nvPicPr>
        <p:blipFill>
          <a:blip r:embed="rId1"/>
          <a:stretch/>
        </p:blipFill>
        <p:spPr>
          <a:xfrm>
            <a:off x="5148360" y="476280"/>
            <a:ext cx="37162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075520" cy="57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принял активное участие в организации в 1923 г. первой Всесоюзной сельскохозяйственной выставки в Москве. Авторитет Вавилова как ученого и организатора науки рос. В 1924 г. Отдел прикладной ботаники и селекции был преобразован во Всесоюзный институт прикладной ботаники и новых культур при Совнаркоме (с 1930 г. – Всесоюзный институт растениеводства ВИР), и Н. И. Вавилов был утвержден его директором. К концу 20-х годов Всесоюзный институт прикладной ботаники и новых культур превратился в один из крупнейших и известнейших в мире научных центров по изучению культурных раст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240255443"/>
          <p:cNvPicPr/>
          <p:nvPr/>
        </p:nvPicPr>
        <p:blipFill>
          <a:blip r:embed="rId1"/>
          <a:stretch/>
        </p:blipFill>
        <p:spPr>
          <a:xfrm>
            <a:off x="900000" y="4797360"/>
            <a:ext cx="7524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278652712"/>
          <p:cNvPicPr/>
          <p:nvPr/>
        </p:nvPicPr>
        <p:blipFill>
          <a:blip r:embed="rId1"/>
          <a:stretch/>
        </p:blipFill>
        <p:spPr>
          <a:xfrm>
            <a:off x="1403280" y="836640"/>
            <a:ext cx="539136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50920" y="18900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союзный институт прикладной бота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vir_logo"/>
          <p:cNvPicPr/>
          <p:nvPr/>
        </p:nvPicPr>
        <p:blipFill>
          <a:blip r:embed="rId2"/>
          <a:stretch/>
        </p:blipFill>
        <p:spPr>
          <a:xfrm>
            <a:off x="7740720" y="907920"/>
            <a:ext cx="809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вилов активно организовывал и участвовал в экспедициях. В итоге с 1923 по 1940 гг. Н. И. Вавиловым и другими сотрудниками ВИРа было совершено 180 экспедиций, из них 40 – в 65 зарубежных стран. Мировая коллекция института к 1940 г. состояла из 250 тыс. образцов, из них 36 тыс. образцов пшеницы, 10 тыс. – кукурузы, 23 тыс. – кормовых и т. 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vavilov-1"/>
          <p:cNvPicPr/>
          <p:nvPr/>
        </p:nvPicPr>
        <p:blipFill>
          <a:blip r:embed="rId1"/>
          <a:srcRect l="1582" t="0" r="1960" b="1833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36:59Z</dcterms:created>
  <dc:creator>Lusi</dc:creator>
  <dc:description/>
  <dc:language>en-US</dc:language>
  <cp:lastModifiedBy>Admin</cp:lastModifiedBy>
  <dcterms:modified xsi:type="dcterms:W3CDTF">2012-05-27T08:15:18Z</dcterms:modified>
  <cp:revision>7</cp:revision>
  <dc:subject/>
  <dc:title>Вавилов Николай Иванович </dc:title>
</cp:coreProperties>
</file>