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F9B-4E4B-43C2-99CA-6AE65EB0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958-00CF-4A01-9344-A9336828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557-5E80-4AB6-BB72-0A30EC77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6A7-CFF2-483B-9B25-D436150D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FAEC-1E33-47B4-9AC3-3ABDCEFD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3874-E7F2-4083-B8AD-22B283F0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5720-9D9E-452E-B276-AC05AB11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EF16-1148-4F44-A3F2-B7CC8726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6321-8764-4B11-B925-65DDA800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B477-3681-44E4-913E-B2FCD0C9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DA71-694E-468D-BCA3-560B1865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028-BC6C-4FB3-96D3-06A87376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3406-162C-478A-BB22-CECAA107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CCD9-5BE4-4680-8DCA-A4028887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65E5-31A2-4632-AB79-64A20B01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17C6-BE8B-47FD-A028-F853AF93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E151-D08C-4558-98A2-821C7802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E11-4325-4A31-A7C7-A50DC31B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906-85C7-4DCE-AF96-080C87F1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644A-84DD-4EA8-9206-8547E1F4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165-981B-4BFA-B237-40CADFAF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F3B-B15C-4C2F-979D-757AC892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03C-4CA2-445C-9EB0-63C13633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2DA-A87B-40EF-88C4-4EB766A5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05B1-2852-47DF-8651-6281136063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6361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C88D-D68E-4DAE-839B-854A510BC2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6429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Tahoma"/>
              </a:rPr>
              <a:t>Вавилов Николай Иванович</a:t>
            </a:r>
            <a:br>
              <a:rPr sz="4800"/>
            </a:b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508720" y="4220640"/>
            <a:ext cx="3200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евченко Я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а 9-Б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6" descr="vaviliv"/>
          <p:cNvPicPr/>
          <p:nvPr/>
        </p:nvPicPr>
        <p:blipFill>
          <a:blip r:embed="rId1"/>
          <a:stretch/>
        </p:blipFill>
        <p:spPr>
          <a:xfrm>
            <a:off x="428760" y="2214720"/>
            <a:ext cx="3468600" cy="38811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143240" y="6215040"/>
            <a:ext cx="2286000" cy="500040"/>
          </a:xfrm>
          <a:prstGeom prst="rect">
            <a:avLst/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ботах Н.И.Вавилова прослежена изменчивость признаков у семейства злаковых. Им описаны наиболее важные морфологические признаки, характерные для видов этого семейства, такие как остистость и безостость колоса, разная окраска колосковых и цветочных чешуй и зерна, пленчатое и голое зерно, форма зерна, его консистенция, строение листьев, окраска всходов, озимость и яровость, скороспелость, холодостойкость и т.п. Из 38 различных признаков, характерных для всех видов семейства, Н.И.Вавиловым было обнаружено у ржи – 37, у пшеницы – 37, у ячменя и овса – по 35, у кукурузы и риса – по 32, у проса – 27 призна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547640" y="404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остижения в нау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vavilov_25"/>
          <p:cNvPicPr/>
          <p:nvPr/>
        </p:nvPicPr>
        <p:blipFill>
          <a:blip r:embed="rId1"/>
          <a:srcRect l="0" t="0" r="2590" b="57017"/>
          <a:stretch/>
        </p:blipFill>
        <p:spPr>
          <a:xfrm>
            <a:off x="250920" y="189000"/>
            <a:ext cx="6554520" cy="4449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vavilov_25"/>
          <p:cNvPicPr/>
          <p:nvPr/>
        </p:nvPicPr>
        <p:blipFill>
          <a:blip r:embed="rId2"/>
          <a:srcRect l="0" t="53335" r="49876" b="2710"/>
          <a:stretch/>
        </p:blipFill>
        <p:spPr>
          <a:xfrm>
            <a:off x="5508720" y="1989000"/>
            <a:ext cx="3430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И. Вавилов был репрессирован, погиб в тюрьме в 1943 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VAVILOV"/>
          <p:cNvPicPr/>
          <p:nvPr/>
        </p:nvPicPr>
        <p:blipFill>
          <a:blip r:embed="rId1"/>
          <a:stretch/>
        </p:blipFill>
        <p:spPr>
          <a:xfrm>
            <a:off x="826920" y="1989000"/>
            <a:ext cx="712980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vaviliv"/>
          <p:cNvPicPr/>
          <p:nvPr/>
        </p:nvPicPr>
        <p:blipFill>
          <a:blip r:embed="rId1"/>
          <a:stretch/>
        </p:blipFill>
        <p:spPr>
          <a:xfrm>
            <a:off x="4356000" y="333360"/>
            <a:ext cx="4554720" cy="6248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95280" y="2133720"/>
            <a:ext cx="345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. И. Вавилов родился 26 ноября 1887 г. в Москве. Ко времени окончания коммерческого училища он уже твердо знал, что будет биологом. В 1906 г. Николай Иванович поступил в Московский сельскохозяйственный институт Уже в студенческие годы начали проявляться его замечательные каче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68360" y="33336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Мне не жалко отдать жизнь ради самого малого в науке... 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181080" y="404640"/>
            <a:ext cx="54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. И. Вавилов летом 1910 г. прошел агрономическую практику на Полтавской опытной станции, получив, по собственному признанию, "импульс для всей дальнейшей работы". По окончании института Н. И. Вавилов был оставлен для подготовки к профессорскому званию на кафедре частного земледелия. Он был прикомандирован на селекционную станцию института, где начал исследование по иммунитету культурных растений к паразитическим гриб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2-tablitsa_06"/>
          <p:cNvPicPr/>
          <p:nvPr/>
        </p:nvPicPr>
        <p:blipFill>
          <a:blip r:embed="rId1"/>
          <a:srcRect l="7089" t="0" r="5874" b="17905"/>
          <a:stretch/>
        </p:blipFill>
        <p:spPr>
          <a:xfrm>
            <a:off x="5219640" y="620640"/>
            <a:ext cx="37609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915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13 г. Н. И. Вавилов был командирован за границу для научной работы. В Мертоне (Англия), в генетической лаборатории Садоводственного института. Там он продолжил исследование иммунитета хлебных зла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колько месяцев Николай Иванович работал в лаборатории генетики Кембриджского университета; во Франции он посетил крупнейшую семеноводческую фирму Вильморена, где ознакомился с новейшими достижениями селекции в семеноводстве, в поражаемости различных сортов раст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46796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ы этих исследований с широким использованием эксперимента были обобщены в монографии "Иммунитет растений к инфекционным заболеваниям" (1919 г.). В 1917 г. Н. И. Вавилов получил приглашение возглавить кафедру генетики, селекции и частного земледелия на Саратовских высших сельскохозяйственных курсах и переехал в Саратов. Вместе с тем он продолжал широкое полевое изучение сортов различных сельскохозяйственных растений, в первую очередь хлебных зла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0703-3"/>
          <p:cNvPicPr/>
          <p:nvPr/>
        </p:nvPicPr>
        <p:blipFill>
          <a:blip r:embed="rId1"/>
          <a:stretch/>
        </p:blipFill>
        <p:spPr>
          <a:xfrm>
            <a:off x="5148360" y="476280"/>
            <a:ext cx="37162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075520" cy="576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 принял активное участие в организации в 1923 г. первой Всесоюзной сельскохозяйственной выставки в Москве. Авторитет Вавилова как ученого и организатора науки рос. В 1924 г. Отдел прикладной ботаники и селекции был преобразован во Всесоюзный институт прикладной ботаники и новых культур при Совнаркоме (с 1930 г. – Всесоюзный институт растениеводства ВИР), и Н. И. Вавилов был утвержден его директором. К концу 20-х годов Всесоюзный институт прикладной ботаники и новых культур превратился в один из крупнейших и известнейших в мире научных центров по изучению культурных расте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240255443"/>
          <p:cNvPicPr/>
          <p:nvPr/>
        </p:nvPicPr>
        <p:blipFill>
          <a:blip r:embed="rId1"/>
          <a:stretch/>
        </p:blipFill>
        <p:spPr>
          <a:xfrm>
            <a:off x="900000" y="4797360"/>
            <a:ext cx="7524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278652712"/>
          <p:cNvPicPr/>
          <p:nvPr/>
        </p:nvPicPr>
        <p:blipFill>
          <a:blip r:embed="rId1"/>
          <a:stretch/>
        </p:blipFill>
        <p:spPr>
          <a:xfrm>
            <a:off x="1403280" y="836640"/>
            <a:ext cx="539136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50920" y="18900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союзный институт прикладной бота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6" descr="vir_logo"/>
          <p:cNvPicPr/>
          <p:nvPr/>
        </p:nvPicPr>
        <p:blipFill>
          <a:blip r:embed="rId2"/>
          <a:stretch/>
        </p:blipFill>
        <p:spPr>
          <a:xfrm>
            <a:off x="7740720" y="907920"/>
            <a:ext cx="809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вилов активно организовывал и участвовал в экспедициях. В итоге с 1923 по 1940 гг. Н. И. Вавиловым и другими сотрудниками ВИРа было совершено 180 экспедиций, из них 40 – в 65 зарубежных стран. Мировая коллекция института к 1940 г. состояла из 250 тыс. образцов, из них 36 тыс. образцов пшеницы, 10 тыс. – кукурузы, 23 тыс. – кормовых и т. 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vavilov-1"/>
          <p:cNvPicPr/>
          <p:nvPr/>
        </p:nvPicPr>
        <p:blipFill>
          <a:blip r:embed="rId1"/>
          <a:srcRect l="1582" t="0" r="1960" b="1833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1:36:59Z</dcterms:created>
  <dc:creator>Lusi</dc:creator>
  <dc:description/>
  <dc:language>en-US</dc:language>
  <cp:lastModifiedBy>Admin</cp:lastModifiedBy>
  <dcterms:modified xsi:type="dcterms:W3CDTF">2012-05-27T08:15:18Z</dcterms:modified>
  <cp:revision>7</cp:revision>
  <dc:subject/>
  <dc:title>Вавилов Николай Иванович </dc:title>
</cp:coreProperties>
</file>