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C46-7A32-4629-A268-6C885E5B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B343-B7A1-4159-BA49-865AA94C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3C02-A3BC-4B1F-A0EC-DCE1BAFA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A637-F26E-4B04-A63E-EACBE54B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56ED-6CE2-4DF9-AB7A-910B4307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52BD-0BCF-4EA3-8174-044A7E31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199E-863D-4975-AE74-C5B55290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6D2C-F4B5-4802-BECD-B51D004A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88B2-5971-4868-9891-CE9FAEC6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EAD7-7922-4E7A-82AE-246BF944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9584-E932-4DA6-9F7E-59C1ECC8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F0DD-92AD-4F69-AF70-7588D68F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AE70-F61F-4E0F-9692-B69BC1FD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04D8-A1AD-4D0B-8819-715DCF1E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2F69-2D31-48E4-9442-A0BF01B7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0745-FD1D-4F7B-8C5C-4C316364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A1BE-F1B8-493C-8EF1-C50B59A4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9B5C-6B20-4A70-A1E5-5A8B7FEE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FBBE-9813-417A-86F6-9BDB5DD6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5350-2F11-40E5-BBB6-760F690F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6448-607F-4E26-AE28-419E4DBC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C629-F512-4805-ACC9-E245162A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9CF-3BB1-45E0-9344-1389DEB5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C34C-45F7-49CE-B1BB-D03DB049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B746-223E-4EB0-AFFD-9FAE110596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6361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0BBC-9C37-49C1-8B44-ADC4BE40FF0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6429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99"/>
                </a:solidFill>
                <a:latin typeface="Tahoma"/>
              </a:rPr>
              <a:t>Вавилов Николай Иванович</a:t>
            </a:r>
            <a:br>
              <a:rPr sz="4800"/>
            </a:b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508720" y="4220640"/>
            <a:ext cx="32004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а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евченко Я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ница 9-Б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6" descr="vaviliv"/>
          <p:cNvPicPr/>
          <p:nvPr/>
        </p:nvPicPr>
        <p:blipFill>
          <a:blip r:embed="rId1"/>
          <a:stretch/>
        </p:blipFill>
        <p:spPr>
          <a:xfrm>
            <a:off x="428760" y="2214720"/>
            <a:ext cx="3468600" cy="38811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4143240" y="6215040"/>
            <a:ext cx="2286000" cy="500040"/>
          </a:xfrm>
          <a:prstGeom prst="rect">
            <a:avLst/>
          </a:prstGeom>
          <a:solidFill>
            <a:srgbClr val="33cc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аботах Н.И.Вавилова прослежена изменчивость признаков у семейства злаковых. Им описаны наиболее важные морфологические признаки, характерные для видов этого семейства, такие как остистость и безостость колоса, разная окраска колосковых и цветочных чешуй и зерна, пленчатое и голое зерно, форма зерна, его консистенция, строение листьев, окраска всходов, озимость и яровость, скороспелость, холодостойкость и т.п. Из 38 различных признаков, характерных для всех видов семейства, Н.И.Вавиловым было обнаружено у ржи – 37, у пшеницы – 37, у ячменя и овса – по 35, у кукурузы и риса – по 32, у проса – 27 призна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547640" y="404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остижения в нау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vavilov_25"/>
          <p:cNvPicPr/>
          <p:nvPr/>
        </p:nvPicPr>
        <p:blipFill>
          <a:blip r:embed="rId1"/>
          <a:srcRect l="0" t="0" r="2590" b="57017"/>
          <a:stretch/>
        </p:blipFill>
        <p:spPr>
          <a:xfrm>
            <a:off x="250920" y="189000"/>
            <a:ext cx="6554520" cy="4449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vavilov_25"/>
          <p:cNvPicPr/>
          <p:nvPr/>
        </p:nvPicPr>
        <p:blipFill>
          <a:blip r:embed="rId2"/>
          <a:srcRect l="0" t="53335" r="49876" b="2710"/>
          <a:stretch/>
        </p:blipFill>
        <p:spPr>
          <a:xfrm>
            <a:off x="5508720" y="1989000"/>
            <a:ext cx="3430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.И. Вавилов был репрессирован, погиб в тюрьме в 1943 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VAVILOV"/>
          <p:cNvPicPr/>
          <p:nvPr/>
        </p:nvPicPr>
        <p:blipFill>
          <a:blip r:embed="rId1"/>
          <a:stretch/>
        </p:blipFill>
        <p:spPr>
          <a:xfrm>
            <a:off x="826920" y="1989000"/>
            <a:ext cx="7129800" cy="43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vaviliv"/>
          <p:cNvPicPr/>
          <p:nvPr/>
        </p:nvPicPr>
        <p:blipFill>
          <a:blip r:embed="rId1"/>
          <a:stretch/>
        </p:blipFill>
        <p:spPr>
          <a:xfrm>
            <a:off x="4356000" y="333360"/>
            <a:ext cx="4554720" cy="6248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395280" y="2133720"/>
            <a:ext cx="3456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. И. Вавилов родился 26 ноября 1887 г. в Москве. Ко времени окончания коммерческого училища он уже твердо знал, что будет биологом. В 1906 г. Николай Иванович поступил в Московский сельскохозяйственный институт Уже в студенческие годы начали проявляться его замечательные качест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68360" y="33336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Мне не жалко отдать жизнь ради самого малого в науке... 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-181080" y="404640"/>
            <a:ext cx="540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. И. Вавилов летом 1910 г. прошел агрономическую практику на Полтавской опытной станции, получив, по собственному признанию, "импульс для всей дальнейшей работы". По окончании института Н. И. Вавилов был оставлен для подготовки к профессорскому званию на кафедре частного земледелия. Он был прикомандирован на селекционную станцию института, где начал исследование по иммунитету культурных растений к паразитическим гриба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2-tablitsa_06"/>
          <p:cNvPicPr/>
          <p:nvPr/>
        </p:nvPicPr>
        <p:blipFill>
          <a:blip r:embed="rId1"/>
          <a:srcRect l="7089" t="0" r="5874" b="17905"/>
          <a:stretch/>
        </p:blipFill>
        <p:spPr>
          <a:xfrm>
            <a:off x="5219640" y="620640"/>
            <a:ext cx="37609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915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13 г. Н. И. Вавилов был командирован за границу для научной работы. В Мертоне (Англия), в генетической лаборатории Садоводственного института. Там он продолжил исследование иммунитета хлебных зла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колько месяцев Николай Иванович работал в лаборатории генетики Кембриджского университета; во Франции он посетил крупнейшую семеноводческую фирму Вильморена, где ознакомился с новейшими достижениями селекции в семеноводстве, в поражаемости различных сортов раст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46796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зультаты этих исследований с широким использованием эксперимента были обобщены в монографии "Иммунитет растений к инфекционным заболеваниям" (1919 г.). В 1917 г. Н. И. Вавилов получил приглашение возглавить кафедру генетики, селекции и частного земледелия на Саратовских высших сельскохозяйственных курсах и переехал в Саратов. Вместе с тем он продолжал широкое полевое изучение сортов различных сельскохозяйственных растений, в первую очередь хлебных зла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0703-3"/>
          <p:cNvPicPr/>
          <p:nvPr/>
        </p:nvPicPr>
        <p:blipFill>
          <a:blip r:embed="rId1"/>
          <a:stretch/>
        </p:blipFill>
        <p:spPr>
          <a:xfrm>
            <a:off x="5148360" y="476280"/>
            <a:ext cx="371628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075520" cy="576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 принял активное участие в организации в 1923 г. первой Всесоюзной сельскохозяйственной выставки в Москве. Авторитет Вавилова как ученого и организатора науки рос. В 1924 г. Отдел прикладной ботаники и селекции был преобразован во Всесоюзный институт прикладной ботаники и новых культур при Совнаркоме (с 1930 г. – Всесоюзный институт растениеводства ВИР), и Н. И. Вавилов был утвержден его директором. К концу 20-х годов Всесоюзный институт прикладной ботаники и новых культур превратился в один из крупнейших и известнейших в мире научных центров по изучению культурных растен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240255443"/>
          <p:cNvPicPr/>
          <p:nvPr/>
        </p:nvPicPr>
        <p:blipFill>
          <a:blip r:embed="rId1"/>
          <a:stretch/>
        </p:blipFill>
        <p:spPr>
          <a:xfrm>
            <a:off x="900000" y="4797360"/>
            <a:ext cx="75247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278652712"/>
          <p:cNvPicPr/>
          <p:nvPr/>
        </p:nvPicPr>
        <p:blipFill>
          <a:blip r:embed="rId1"/>
          <a:stretch/>
        </p:blipFill>
        <p:spPr>
          <a:xfrm>
            <a:off x="1403280" y="836640"/>
            <a:ext cx="5391360" cy="5759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250920" y="18900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есоюзный институт прикладной бота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6" descr="vir_logo"/>
          <p:cNvPicPr/>
          <p:nvPr/>
        </p:nvPicPr>
        <p:blipFill>
          <a:blip r:embed="rId2"/>
          <a:stretch/>
        </p:blipFill>
        <p:spPr>
          <a:xfrm>
            <a:off x="7740720" y="907920"/>
            <a:ext cx="809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вилов активно организовывал и участвовал в экспедициях. В итоге с 1923 по 1940 гг. Н. И. Вавиловым и другими сотрудниками ВИРа было совершено 180 экспедиций, из них 40 – в 65 зарубежных стран. Мировая коллекция института к 1940 г. состояла из 250 тыс. образцов, из них 36 тыс. образцов пшеницы, 10 тыс. – кукурузы, 23 тыс. – кормовых и т. 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vavilov-1"/>
          <p:cNvPicPr/>
          <p:nvPr/>
        </p:nvPicPr>
        <p:blipFill>
          <a:blip r:embed="rId1"/>
          <a:srcRect l="1582" t="0" r="1960" b="1833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1:36:59Z</dcterms:created>
  <dc:creator>Lusi</dc:creator>
  <dc:description/>
  <dc:language>en-US</dc:language>
  <cp:lastModifiedBy>Admin</cp:lastModifiedBy>
  <dcterms:modified xsi:type="dcterms:W3CDTF">2012-05-27T08:15:18Z</dcterms:modified>
  <cp:revision>7</cp:revision>
  <dc:subject/>
  <dc:title>Вавилов Николай Иванович </dc:title>
</cp:coreProperties>
</file>