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8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29.jpeg" ContentType="image/jpe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5.wmf" ContentType="image/x-wmf"/>
  <Override PartName="/ppt/media/image3.png" ContentType="image/png"/>
  <Override PartName="/ppt/media/image26.png" ContentType="image/png"/>
  <Override PartName="/ppt/media/image4.wmf" ContentType="image/x-wmf"/>
  <Override PartName="/ppt/media/image14.wmf" ContentType="image/x-wmf"/>
  <Override PartName="/ppt/media/image16.wmf" ContentType="image/x-wmf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421-0F63-4DC2-A287-8DDC13D8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3E8-55FA-4E23-8A69-4469DAC3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A8B-0B3E-4D3F-A4EB-1EF17C2B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1C5-4122-4627-B6E3-FFC4AF25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C740B-5465-4E1E-9815-E7C0919C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7AB48-6992-41F5-99B2-163888CC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4819A-81C7-48D6-A809-4041FB14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61365-4392-4FB7-92E9-1D2ABE7B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8E446-0341-42CE-8A68-117436A9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3783B-9C6F-4433-8A1A-D073D523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A6BA0-4D60-4978-9A13-75A1D81D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F0E-ECF9-4D98-A974-33B34FBB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36C0C-77CC-4FA2-8813-5CD5C5E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2F4A6-7C0B-4E04-8E73-9A00152C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D573C-1AEA-4EAD-A2D4-3441FABF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9F9F4-00C6-41D6-957B-E0F12445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BEA0D-1EF7-4BAD-A92A-E9D37511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FB06-08CE-47BD-97AD-E8A805A9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ABAE-CB39-41A4-BA64-4710069A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F495-DB6C-429C-97B0-57E01BE0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AECC-32E6-4B9E-8559-5DE1002A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423E-1BD9-4795-8501-A918917E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F08-E856-4909-9707-8EA57BA9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DA1B2-3610-4A90-B0D7-88C11D70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91F0-4953-4067-8109-09AEFDD9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C1A7-9B79-4A66-A58D-0B9E8CE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CA1B-12D6-491E-AC80-2E64808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EEA5-FBFA-475F-A937-4263821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EEE7A-6D4B-4560-9402-70F30D8F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651B-A6BD-42D5-81FE-679B5338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229C0-9BA9-4C95-B61C-D46FE73E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8643C-1A6D-4C20-9DA3-53E91C3D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2CCA9-B2D8-4C3D-BCD1-EB7D9605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F84-05B4-4393-A894-7DA72D95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90752-EB26-4776-BD5A-D76D8BE0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E69E1B-3410-4B6C-A5D8-17C3DC4F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71059-7617-432C-B97A-AC284DEA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9F911-F027-4756-8BFF-590088F0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5AACA-CD3A-45CD-ADF7-6B09739B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7F63F-B9B8-4A31-A4B6-AAB2E24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A6C31-16B3-4CB3-BAC5-725DD881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E44C3-D69C-47F3-A82E-A0C13F90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6588C-1654-4FFD-A2DD-EDD08ADC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375-DB71-4F63-A385-4F1BC43A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1CA-678A-4862-975D-4249E615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FE1-B179-468C-ADF0-C8B6B037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A7A-F091-4486-8755-AC7929E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0B9-35F0-4191-9F90-AF033070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9619-CE6C-484F-86AF-21BA78C7902F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89deff"/>
          </a:solidFill>
          <a:ln w="38160">
            <a:solidFill>
              <a:srgbClr val="89deff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6DAD-C448-41B4-906A-6BAD6DDEB9B0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607C-FEB8-4412-8BD7-232C8AFE47A3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C25C-7AAB-4A0C-8122-8B999F150598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9ca3"/>
                </a:solidFill>
                <a:latin typeface="Constantia"/>
              </a:rPr>
              <a:t>Автор: учитель математики МОУ СОШ №2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89ca3"/>
                </a:solidFill>
                <a:latin typeface="Constantia"/>
              </a:rPr>
              <a:t>г. Твери Охота Н. С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2" descr=""/>
          <p:cNvPicPr/>
          <p:nvPr/>
        </p:nvPicPr>
        <p:blipFill>
          <a:blip r:embed="rId2"/>
          <a:stretch/>
        </p:blipFill>
        <p:spPr>
          <a:xfrm>
            <a:off x="285840" y="1427040"/>
            <a:ext cx="863892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E:\открытый урок.2\картинки\2518902_f520.jpg"/>
          <p:cNvPicPr/>
          <p:nvPr/>
        </p:nvPicPr>
        <p:blipFill>
          <a:blip r:embed="rId2"/>
          <a:stretch/>
        </p:blipFill>
        <p:spPr>
          <a:xfrm>
            <a:off x="1523880" y="252360"/>
            <a:ext cx="56390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:\открытый урок.2\картинки\0_14753_8ed68a0b_XL.jpg"/>
          <p:cNvPicPr/>
          <p:nvPr/>
        </p:nvPicPr>
        <p:blipFill>
          <a:blip r:embed="rId2"/>
          <a:stretch/>
        </p:blipFill>
        <p:spPr>
          <a:xfrm>
            <a:off x="1143000" y="324000"/>
            <a:ext cx="670572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E:\открытый урок.2\картинки\46c0de750d82b.jpg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324000" y="765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Домашнее задание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8.4; № 8.7; № 8.13 (в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6572160" y="592920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1" descr=""/>
          <p:cNvPicPr/>
          <p:nvPr/>
        </p:nvPicPr>
        <p:blipFill>
          <a:blip r:embed="rId2"/>
          <a:stretch/>
        </p:blipFill>
        <p:spPr>
          <a:xfrm>
            <a:off x="2214720" y="309600"/>
            <a:ext cx="4713120" cy="627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3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7072200" y="600084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592600" cy="640872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7000920" y="5929200"/>
            <a:ext cx="1857240" cy="500040"/>
          </a:xfrm>
          <a:custGeom>
            <a:avLst/>
            <a:gdLst>
              <a:gd name="textAreaLeft" fmla="*/ 32400 w 1857240"/>
              <a:gd name="textAreaRight" fmla="*/ 1824840 w 1857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184" h="21600">
                <a:moveTo>
                  <a:pt x="0" y="0"/>
                </a:moveTo>
                <a:lnTo>
                  <a:pt x="80184" y="0"/>
                </a:lnTo>
                <a:lnTo>
                  <a:pt x="80184" y="21600"/>
                </a:lnTo>
                <a:lnTo>
                  <a:pt x="0" y="21600"/>
                </a:lnTo>
                <a:close/>
              </a:path>
              <a:path fill="lightenLess" w="80184" h="21600">
                <a:moveTo>
                  <a:pt x="0" y="0"/>
                </a:moveTo>
                <a:lnTo>
                  <a:pt x="80184" y="0"/>
                </a:lnTo>
                <a:lnTo>
                  <a:pt x="78784" y="1400"/>
                </a:lnTo>
                <a:lnTo>
                  <a:pt x="1400" y="1400"/>
                </a:lnTo>
                <a:close/>
              </a:path>
              <a:path fill="darken" w="80184" h="21600">
                <a:moveTo>
                  <a:pt x="80184" y="0"/>
                </a:moveTo>
                <a:lnTo>
                  <a:pt x="80184" y="21600"/>
                </a:lnTo>
                <a:lnTo>
                  <a:pt x="78784" y="20200"/>
                </a:lnTo>
                <a:lnTo>
                  <a:pt x="78784" y="1400"/>
                </a:lnTo>
                <a:close/>
              </a:path>
              <a:path fill="darkenLess" w="80184" h="21600">
                <a:moveTo>
                  <a:pt x="80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4" y="20200"/>
                </a:lnTo>
                <a:close/>
              </a:path>
              <a:path fill="lighten" w="80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4" h="21600">
                <a:moveTo>
                  <a:pt x="33086" y="3794"/>
                </a:moveTo>
                <a:lnTo>
                  <a:pt x="47099" y="10800"/>
                </a:lnTo>
                <a:lnTo>
                  <a:pt x="33086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3"/>
          <p:cNvSpPr/>
          <p:nvPr/>
        </p:nvSpPr>
        <p:spPr>
          <a:xfrm>
            <a:off x="3571920" y="1714680"/>
            <a:ext cx="5286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4a864"/>
                </a:solidFill>
                <a:latin typeface="Constantia"/>
              </a:rPr>
              <a:t>Михаил Штифель - 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немецкий математик, который опубликовал несколько научных трудов, и среди них знаменитый - "Полная арифметика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Он ввёл термин «показатель степен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Картинка 1 из 17"/>
          <p:cNvPicPr/>
          <p:nvPr/>
        </p:nvPicPr>
        <p:blipFill>
          <a:blip r:embed="rId2"/>
          <a:stretch/>
        </p:blipFill>
        <p:spPr>
          <a:xfrm>
            <a:off x="79200" y="1146240"/>
            <a:ext cx="3554640" cy="4998960"/>
          </a:xfrm>
          <a:prstGeom prst="rect">
            <a:avLst/>
          </a:prstGeom>
          <a:ln w="0">
            <a:noFill/>
          </a:ln>
        </p:spPr>
      </p:pic>
      <p:sp>
        <p:nvSpPr>
          <p:cNvPr id="238" name="Облако 13"/>
          <p:cNvSpPr/>
          <p:nvPr/>
        </p:nvSpPr>
        <p:spPr>
          <a:xfrm>
            <a:off x="6786720" y="428760"/>
            <a:ext cx="714240" cy="857160"/>
          </a:xfrm>
          <a:prstGeom prst="pie">
            <a:avLst/>
          </a:prstGeom>
          <a:solidFill>
            <a:srgbClr val="6ba42c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6929280" y="57168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2" descr="prof"/>
          <p:cNvPicPr/>
          <p:nvPr/>
        </p:nvPicPr>
        <p:blipFill>
          <a:blip r:embed="rId3"/>
          <a:stretch/>
        </p:blipFill>
        <p:spPr>
          <a:xfrm>
            <a:off x="7429680" y="214200"/>
            <a:ext cx="1285560" cy="15084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15"/>
          <p:cNvSpPr txBox="1"/>
          <p:nvPr/>
        </p:nvSpPr>
        <p:spPr>
          <a:xfrm>
            <a:off x="755640" y="404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Штифель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6929280" y="614376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3"/>
          <p:cNvSpPr/>
          <p:nvPr/>
        </p:nvSpPr>
        <p:spPr>
          <a:xfrm>
            <a:off x="1000080" y="2286000"/>
            <a:ext cx="66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4a864"/>
                </a:solidFill>
                <a:latin typeface="Constantia"/>
              </a:rPr>
              <a:t>Николя Шюке-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великий математик, который впервые ввёл отрицательные и нулевые степ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Облако 13"/>
          <p:cNvSpPr/>
          <p:nvPr/>
        </p:nvSpPr>
        <p:spPr>
          <a:xfrm>
            <a:off x="6786720" y="428760"/>
            <a:ext cx="714240" cy="857160"/>
          </a:xfrm>
          <a:prstGeom prst="pie">
            <a:avLst/>
          </a:prstGeom>
          <a:solidFill>
            <a:srgbClr val="6ba42c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6929280" y="57168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12" descr="prof"/>
          <p:cNvPicPr/>
          <p:nvPr/>
        </p:nvPicPr>
        <p:blipFill>
          <a:blip r:embed="rId2"/>
          <a:stretch/>
        </p:blipFill>
        <p:spPr>
          <a:xfrm>
            <a:off x="7429680" y="214200"/>
            <a:ext cx="1285560" cy="15084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15"/>
          <p:cNvSpPr txBox="1"/>
          <p:nvPr/>
        </p:nvSpPr>
        <p:spPr>
          <a:xfrm>
            <a:off x="755640" y="404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Шюке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8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6858000" y="5929200"/>
            <a:ext cx="1857240" cy="500040"/>
          </a:xfrm>
          <a:custGeom>
            <a:avLst/>
            <a:gdLst>
              <a:gd name="textAreaLeft" fmla="*/ 32400 w 1857240"/>
              <a:gd name="textAreaRight" fmla="*/ 1824840 w 1857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184" h="21600">
                <a:moveTo>
                  <a:pt x="0" y="0"/>
                </a:moveTo>
                <a:lnTo>
                  <a:pt x="80184" y="0"/>
                </a:lnTo>
                <a:lnTo>
                  <a:pt x="80184" y="21600"/>
                </a:lnTo>
                <a:lnTo>
                  <a:pt x="0" y="21600"/>
                </a:lnTo>
                <a:close/>
              </a:path>
              <a:path fill="lightenLess" w="80184" h="21600">
                <a:moveTo>
                  <a:pt x="0" y="0"/>
                </a:moveTo>
                <a:lnTo>
                  <a:pt x="80184" y="0"/>
                </a:lnTo>
                <a:lnTo>
                  <a:pt x="78784" y="1400"/>
                </a:lnTo>
                <a:lnTo>
                  <a:pt x="1400" y="1400"/>
                </a:lnTo>
                <a:close/>
              </a:path>
              <a:path fill="darken" w="80184" h="21600">
                <a:moveTo>
                  <a:pt x="80184" y="0"/>
                </a:moveTo>
                <a:lnTo>
                  <a:pt x="80184" y="21600"/>
                </a:lnTo>
                <a:lnTo>
                  <a:pt x="78784" y="20200"/>
                </a:lnTo>
                <a:lnTo>
                  <a:pt x="78784" y="1400"/>
                </a:lnTo>
                <a:close/>
              </a:path>
              <a:path fill="darkenLess" w="80184" h="21600">
                <a:moveTo>
                  <a:pt x="80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4" y="20200"/>
                </a:lnTo>
                <a:close/>
              </a:path>
              <a:path fill="lighten" w="80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4" h="21600">
                <a:moveTo>
                  <a:pt x="33086" y="3794"/>
                </a:moveTo>
                <a:lnTo>
                  <a:pt x="47099" y="10800"/>
                </a:lnTo>
                <a:lnTo>
                  <a:pt x="33086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571320"/>
            <a:ext cx="74008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 конце </a:t>
            </a:r>
            <a:r>
              <a:rPr b="0" lang="en-US" sz="2000" spc="-1" strike="noStrike">
                <a:solidFill>
                  <a:srgbClr val="254061"/>
                </a:solidFill>
                <a:latin typeface="Constantia"/>
              </a:rPr>
              <a:t>ХVI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века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Франсуа Виет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вел буквы для обозначения не только переменных, но и их коэффициентов. Он применял сокращения: N, Q, C – для первой, второй и третьей степеней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о современные обозначения в </a:t>
            </a:r>
            <a:r>
              <a:rPr b="0" lang="en-US" sz="2000" spc="-1" strike="noStrike">
                <a:solidFill>
                  <a:srgbClr val="953735"/>
                </a:solidFill>
                <a:latin typeface="Constantia"/>
              </a:rPr>
              <a:t>XVII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в ввел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Рене Декарт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Франсуа Виет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Рене Декарт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0" name="Рисунок 6" descr="viete_72595044_tonnel.gif"/>
          <p:cNvPicPr/>
          <p:nvPr/>
        </p:nvPicPr>
        <p:blipFill>
          <a:blip r:embed="rId2"/>
          <a:stretch/>
        </p:blipFill>
        <p:spPr>
          <a:xfrm>
            <a:off x="1692360" y="2133720"/>
            <a:ext cx="2136600" cy="26049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Рене.jpg"/>
          <p:cNvPicPr/>
          <p:nvPr/>
        </p:nvPicPr>
        <p:blipFill>
          <a:blip r:embed="rId3"/>
          <a:stretch/>
        </p:blipFill>
        <p:spPr>
          <a:xfrm>
            <a:off x="4932360" y="2060640"/>
            <a:ext cx="2257560" cy="2654280"/>
          </a:xfrm>
          <a:prstGeom prst="rect">
            <a:avLst/>
          </a:prstGeom>
          <a:ln w="0">
            <a:noFill/>
          </a:ln>
        </p:spPr>
      </p:pic>
      <p:sp>
        <p:nvSpPr>
          <p:cNvPr id="25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6858000" y="5929200"/>
            <a:ext cx="1857240" cy="500040"/>
          </a:xfrm>
          <a:custGeom>
            <a:avLst/>
            <a:gdLst>
              <a:gd name="textAreaLeft" fmla="*/ 32400 w 1857240"/>
              <a:gd name="textAreaRight" fmla="*/ 1824840 w 1857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184" h="21600">
                <a:moveTo>
                  <a:pt x="0" y="0"/>
                </a:moveTo>
                <a:lnTo>
                  <a:pt x="80184" y="0"/>
                </a:lnTo>
                <a:lnTo>
                  <a:pt x="80184" y="21600"/>
                </a:lnTo>
                <a:lnTo>
                  <a:pt x="0" y="21600"/>
                </a:lnTo>
                <a:close/>
              </a:path>
              <a:path fill="lightenLess" w="80184" h="21600">
                <a:moveTo>
                  <a:pt x="0" y="0"/>
                </a:moveTo>
                <a:lnTo>
                  <a:pt x="80184" y="0"/>
                </a:lnTo>
                <a:lnTo>
                  <a:pt x="78784" y="1400"/>
                </a:lnTo>
                <a:lnTo>
                  <a:pt x="1400" y="1400"/>
                </a:lnTo>
                <a:close/>
              </a:path>
              <a:path fill="darken" w="80184" h="21600">
                <a:moveTo>
                  <a:pt x="80184" y="0"/>
                </a:moveTo>
                <a:lnTo>
                  <a:pt x="80184" y="21600"/>
                </a:lnTo>
                <a:lnTo>
                  <a:pt x="78784" y="20200"/>
                </a:lnTo>
                <a:lnTo>
                  <a:pt x="78784" y="1400"/>
                </a:lnTo>
                <a:close/>
              </a:path>
              <a:path fill="darkenLess" w="80184" h="21600">
                <a:moveTo>
                  <a:pt x="80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4" y="20200"/>
                </a:lnTo>
                <a:close/>
              </a:path>
              <a:path fill="lighten" w="80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4" h="21600">
                <a:moveTo>
                  <a:pt x="33086" y="3794"/>
                </a:moveTo>
                <a:lnTo>
                  <a:pt x="47099" y="10800"/>
                </a:lnTo>
                <a:lnTo>
                  <a:pt x="33086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-360" y="642600"/>
            <a:ext cx="7543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7933c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77933c"/>
                </a:solidFill>
                <a:latin typeface="Constantia"/>
              </a:rPr>
              <a:t>Современные определения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и обозначения степени с нулевым, отрицательным и дробным показателем берут начало от работ английских математиков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              </a:t>
            </a: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Джона Валлиса </a:t>
            </a: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(1616–1703)      </a:t>
            </a:r>
            <a:r>
              <a:rPr b="1" lang="en-US" sz="15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Исаака Ньютона </a:t>
            </a: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(1643–1727)</a:t>
            </a:r>
            <a:r>
              <a:rPr b="1" lang="en-US" sz="1500" spc="-1" strike="noStrike">
                <a:solidFill>
                  <a:srgbClr val="ff0000"/>
                </a:solidFill>
                <a:latin typeface="Constantia"/>
              </a:rPr>
              <a:t>              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Рисунок 4" descr="валлис Джон.gif"/>
          <p:cNvPicPr/>
          <p:nvPr/>
        </p:nvPicPr>
        <p:blipFill>
          <a:blip r:embed="rId2"/>
          <a:stretch/>
        </p:blipFill>
        <p:spPr>
          <a:xfrm>
            <a:off x="1000080" y="1643040"/>
            <a:ext cx="2857680" cy="34671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000045-1.jpg"/>
          <p:cNvPicPr/>
          <p:nvPr/>
        </p:nvPicPr>
        <p:blipFill>
          <a:blip r:embed="rId3"/>
          <a:stretch/>
        </p:blipFill>
        <p:spPr>
          <a:xfrm>
            <a:off x="4786200" y="1785960"/>
            <a:ext cx="3043440" cy="3286080"/>
          </a:xfrm>
          <a:prstGeom prst="rect">
            <a:avLst/>
          </a:prstGeom>
          <a:ln w="0">
            <a:noFill/>
          </a:ln>
        </p:spPr>
      </p:pic>
      <p:sp>
        <p:nvSpPr>
          <p:cNvPr id="256" name="Управляющая кнопка: настраиваемая 8"/>
          <p:cNvSpPr/>
          <p:nvPr/>
        </p:nvSpPr>
        <p:spPr>
          <a:xfrm>
            <a:off x="6286680" y="5857920"/>
            <a:ext cx="2428560" cy="571320"/>
          </a:xfrm>
          <a:custGeom>
            <a:avLst/>
            <a:gdLst>
              <a:gd name="textAreaLeft" fmla="*/ 36720 w 2428560"/>
              <a:gd name="textAreaRight" fmla="*/ 2391840 w 24285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91773" h="21600">
                <a:moveTo>
                  <a:pt x="0" y="0"/>
                </a:moveTo>
                <a:lnTo>
                  <a:pt x="91773" y="0"/>
                </a:lnTo>
                <a:lnTo>
                  <a:pt x="91773" y="21600"/>
                </a:lnTo>
                <a:lnTo>
                  <a:pt x="0" y="21600"/>
                </a:lnTo>
                <a:close/>
              </a:path>
              <a:path fill="lightenLess" w="91773" h="21600">
                <a:moveTo>
                  <a:pt x="0" y="0"/>
                </a:moveTo>
                <a:lnTo>
                  <a:pt x="91773" y="0"/>
                </a:lnTo>
                <a:lnTo>
                  <a:pt x="90373" y="1400"/>
                </a:lnTo>
                <a:lnTo>
                  <a:pt x="1400" y="1400"/>
                </a:lnTo>
                <a:close/>
              </a:path>
              <a:path fill="darken" w="91773" h="21600">
                <a:moveTo>
                  <a:pt x="91773" y="0"/>
                </a:moveTo>
                <a:lnTo>
                  <a:pt x="91773" y="21600"/>
                </a:lnTo>
                <a:lnTo>
                  <a:pt x="90373" y="20200"/>
                </a:lnTo>
                <a:lnTo>
                  <a:pt x="90373" y="1400"/>
                </a:lnTo>
                <a:close/>
              </a:path>
              <a:path fill="darkenLess" w="91773" h="21600">
                <a:moveTo>
                  <a:pt x="91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73" y="20200"/>
                </a:lnTo>
                <a:close/>
              </a:path>
              <a:path fill="lighten" w="91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TextBox 9" descr=""/>
          <p:cNvPicPr/>
          <p:nvPr/>
        </p:nvPicPr>
        <p:blipFill>
          <a:blip r:embed="rId4"/>
          <a:stretch/>
        </p:blipFill>
        <p:spPr>
          <a:xfrm>
            <a:off x="6851520" y="5950080"/>
            <a:ext cx="1414440" cy="42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3"/>
          <p:cNvSpPr/>
          <p:nvPr/>
        </p:nvSpPr>
        <p:spPr>
          <a:xfrm>
            <a:off x="1143000" y="428760"/>
            <a:ext cx="75009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)-3-8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)-7+5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)-3∙2+16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)-6-(-10)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)-14-6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928800" y="1714680"/>
            <a:ext cx="72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onstantia"/>
              </a:rPr>
              <a:t>Спасибо за внимание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2286000" y="571680"/>
            <a:ext cx="5000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)8-(-7)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7)-4-5∙(-3)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8)-6+9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)-8+22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1" descr=""/>
          <p:cNvPicPr/>
          <p:nvPr/>
        </p:nvPicPr>
        <p:blipFill>
          <a:blip r:embed="rId2"/>
          <a:stretch/>
        </p:blipFill>
        <p:spPr>
          <a:xfrm>
            <a:off x="1401840" y="1822320"/>
            <a:ext cx="63943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395280" y="836640"/>
            <a:ext cx="8497800" cy="82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⁴     х³∙х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⁵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0,4)²     5³∙2³       2,65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5214960" y="785880"/>
          <a:ext cx="11206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4960" y="785880"/>
                    <a:ext cx="11206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5"/>
          <p:cNvGraphicFramePr/>
          <p:nvPr/>
        </p:nvGraphicFramePr>
        <p:xfrm>
          <a:off x="3352680" y="265428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2654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352680" y="2654280"/>
          <a:ext cx="914400" cy="19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2654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1"/>
          <p:cNvGraphicFramePr/>
          <p:nvPr/>
        </p:nvGraphicFramePr>
        <p:xfrm>
          <a:off x="3352680" y="2654280"/>
          <a:ext cx="914400" cy="19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2654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12"/>
          <p:cNvGraphicFramePr/>
          <p:nvPr/>
        </p:nvGraphicFramePr>
        <p:xfrm>
          <a:off x="2143080" y="4071960"/>
          <a:ext cx="854280" cy="129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43080" y="4071960"/>
                    <a:ext cx="854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14"/>
          <p:cNvGraphicFramePr/>
          <p:nvPr/>
        </p:nvGraphicFramePr>
        <p:xfrm>
          <a:off x="3857760" y="4071960"/>
          <a:ext cx="1368360" cy="115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9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57760" y="4071960"/>
                    <a:ext cx="1368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5"/>
          <p:cNvGraphicFramePr/>
          <p:nvPr/>
        </p:nvGraphicFramePr>
        <p:xfrm>
          <a:off x="6500880" y="4214880"/>
          <a:ext cx="1928880" cy="1143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1" name="Object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500880" y="4214880"/>
                    <a:ext cx="1928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Object 1"/>
          <p:cNvGraphicFramePr/>
          <p:nvPr/>
        </p:nvGraphicFramePr>
        <p:xfrm>
          <a:off x="684360" y="907920"/>
          <a:ext cx="4824360" cy="10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907920"/>
                    <a:ext cx="48243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3"/>
          <p:cNvGraphicFramePr/>
          <p:nvPr/>
        </p:nvGraphicFramePr>
        <p:xfrm>
          <a:off x="2857680" y="3714840"/>
          <a:ext cx="20923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7680" y="3714840"/>
                    <a:ext cx="20923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Левая фигурная скобка 18"/>
          <p:cNvSpPr/>
          <p:nvPr/>
        </p:nvSpPr>
        <p:spPr>
          <a:xfrm rot="16200000">
            <a:off x="3643200" y="285480"/>
            <a:ext cx="428760" cy="3143160"/>
          </a:xfrm>
          <a:custGeom>
            <a:avLst/>
            <a:gdLst>
              <a:gd name="textAreaLeft" fmla="*/ 273960 w 428760"/>
              <a:gd name="textAreaRight" fmla="*/ 429120 w 428760"/>
              <a:gd name="textAreaTop" fmla="*/ 10800 h 3143160"/>
              <a:gd name="textAreaBottom" fmla="*/ 313236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0555"/>
                </a:lnTo>
                <a:cubicBezTo>
                  <a:pt x="10800" y="10678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5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TextBox 19" descr=""/>
          <p:cNvPicPr/>
          <p:nvPr/>
        </p:nvPicPr>
        <p:blipFill>
          <a:blip r:embed="rId6"/>
          <a:stretch/>
        </p:blipFill>
        <p:spPr>
          <a:xfrm>
            <a:off x="2901960" y="1822320"/>
            <a:ext cx="19321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8"/>
          <p:cNvGraphicFramePr/>
          <p:nvPr/>
        </p:nvGraphicFramePr>
        <p:xfrm>
          <a:off x="2411280" y="907920"/>
          <a:ext cx="3384720" cy="8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907920"/>
                    <a:ext cx="33847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411280" y="1628640"/>
          <a:ext cx="3316320" cy="7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1628640"/>
                    <a:ext cx="33163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2411280" y="2133720"/>
          <a:ext cx="3745080" cy="107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2133720"/>
                    <a:ext cx="3745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2411280" y="2852640"/>
          <a:ext cx="3990960" cy="100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2852640"/>
                    <a:ext cx="39909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2484360" y="3645000"/>
          <a:ext cx="2908440" cy="172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1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84360" y="3645000"/>
                    <a:ext cx="290844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6715080" y="592920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Object 1"/>
          <p:cNvGraphicFramePr/>
          <p:nvPr/>
        </p:nvGraphicFramePr>
        <p:xfrm>
          <a:off x="2643120" y="1643040"/>
          <a:ext cx="3444840" cy="34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1643040"/>
                    <a:ext cx="34448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Минус 9"/>
          <p:cNvSpPr/>
          <p:nvPr/>
        </p:nvSpPr>
        <p:spPr>
          <a:xfrm rot="17807400">
            <a:off x="3251160" y="4700160"/>
            <a:ext cx="888840" cy="7308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6715080" y="592920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6"/>
          <p:cNvSpPr/>
          <p:nvPr/>
        </p:nvSpPr>
        <p:spPr>
          <a:xfrm>
            <a:off x="5214960" y="214200"/>
            <a:ext cx="2357280" cy="1214640"/>
          </a:xfrm>
          <a:prstGeom prst="rect">
            <a:avLst/>
          </a:prstGeom>
          <a:solidFill>
            <a:srgbClr val="6633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5286240" y="285840"/>
            <a:ext cx="2214720" cy="1071360"/>
          </a:xfrm>
          <a:prstGeom prst="rect">
            <a:avLst/>
          </a:prstGeom>
          <a:solidFill>
            <a:srgbClr val="08684e"/>
          </a:solidFill>
          <a:ln w="38160">
            <a:solidFill>
              <a:srgbClr val="0c9b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TextBox 8" descr=""/>
          <p:cNvPicPr/>
          <p:nvPr/>
        </p:nvPicPr>
        <p:blipFill>
          <a:blip r:embed="rId2"/>
          <a:stretch/>
        </p:blipFill>
        <p:spPr>
          <a:xfrm>
            <a:off x="5425920" y="536400"/>
            <a:ext cx="1938600" cy="4082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214200" y="6357960"/>
            <a:ext cx="8786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2" descr="prof"/>
          <p:cNvPicPr/>
          <p:nvPr/>
        </p:nvPicPr>
        <p:blipFill>
          <a:blip r:embed="rId3"/>
          <a:stretch/>
        </p:blipFill>
        <p:spPr>
          <a:xfrm>
            <a:off x="6715080" y="428760"/>
            <a:ext cx="1428840" cy="150804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1" descr=""/>
          <p:cNvPicPr/>
          <p:nvPr/>
        </p:nvPicPr>
        <p:blipFill>
          <a:blip r:embed="rId4"/>
          <a:stretch/>
        </p:blipFill>
        <p:spPr>
          <a:xfrm>
            <a:off x="-237960" y="274680"/>
            <a:ext cx="5748120" cy="877680"/>
          </a:xfrm>
          <a:prstGeom prst="rect">
            <a:avLst/>
          </a:prstGeom>
          <a:ln w="0">
            <a:noFill/>
          </a:ln>
        </p:spPr>
      </p:pic>
      <p:sp>
        <p:nvSpPr>
          <p:cNvPr id="225" name="Заголовок 1"/>
          <p:cNvSpPr/>
          <p:nvPr/>
        </p:nvSpPr>
        <p:spPr>
          <a:xfrm>
            <a:off x="1071720" y="1357200"/>
            <a:ext cx="71434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Если минус нам не нравит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 этим горем можно справить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Знак меняем в показател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тепень пишем в знаменател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верху ставим едини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Получается? Отлич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6715080" y="557208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54:46Z</dcterms:created>
  <dc:creator>DNA7 X86</dc:creator>
  <dc:description/>
  <dc:language>en-US</dc:language>
  <cp:lastModifiedBy>КарМаН</cp:lastModifiedBy>
  <dcterms:modified xsi:type="dcterms:W3CDTF">2012-01-25T09:09:48Z</dcterms:modified>
  <cp:revision>40</cp:revision>
  <dc:subject/>
  <dc:title>Слайд 1</dc:title>
</cp:coreProperties>
</file>