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8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9.jpeg" ContentType="image/jpe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3.png" ContentType="image/png"/>
  <Override PartName="/ppt/media/image26.png" ContentType="image/png"/>
  <Override PartName="/ppt/media/image4.wmf" ContentType="image/x-wmf"/>
  <Override PartName="/ppt/media/image14.wmf" ContentType="image/x-wmf"/>
  <Override PartName="/ppt/media/image16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744-6D67-43E5-8311-C4E730B5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381-D009-43BE-874D-C4098BA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F9C-3446-4B3F-A585-EAC55BB3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2EB-9D63-4EF8-9A8B-614A7A51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C821-2724-4034-844C-8C3BC493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836C3-14EB-4663-AA1A-C01BA1B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ECEC7-8E07-432F-B105-7E356C4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C16B-9A32-4A19-8D88-F3F6462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59F5-6D7A-4E42-A746-68D99274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E09BF-DF54-48C7-8354-8D287BE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4CA1-882D-40BE-89B5-E9844B0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412-E922-47A8-9B8B-8F9A70D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C447-5E13-4352-B227-9FF67D2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928A0-E769-48D5-B89B-2AA9E0F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1C659-6A5D-4CC8-89E2-E3871312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F9486-364B-4A0A-8C01-D924AF52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12B7F-E705-4D30-ABF2-565F6AD7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82A6-5328-4C0B-9A96-2624D979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7AA0-1803-4547-8BCB-54F4C22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EF51-4258-400D-B075-30738BF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531C-6BCA-41CB-9D36-F8BE022C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BC9D-2A2C-4FDE-8A68-4A203AE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F08-76FE-45CE-B06E-C3D9F9DC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18C9-013E-45E7-82B9-1343E6D1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7132-4C9C-4211-B535-776F67C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078D-5ADF-4002-B8F0-AD9DAD4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7939-C056-4608-A4CC-52E772F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EE16-45E5-4BEE-B393-3D002D70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CBFC-FA4D-46CA-BEBB-56D9AAC3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A213-9CC6-4C93-8F51-E7F6CF5B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CA0C6-BDFF-4E26-9CBC-72CA39CE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39A3A-B7F7-4740-A4AC-C524EB8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28363-B15F-4D45-9B44-1BDA6CC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77D-EC4D-45A5-B546-E5998EE3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4A6BB-53A6-4632-9FDA-830B818C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6DA09-C631-4F90-8A10-6E43627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F7B68-3CE7-4035-975C-BFC5607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21A9C-88D6-46F4-A72C-BF6A993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F5B3D-4C9F-4D8A-A848-EF7EF78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81054-B0F2-45E1-8003-3B4BC50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967F8-A64A-491E-9450-8B76A3DC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E69F1-E878-42BC-865D-18B9504F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B2477-0DA0-4895-83EA-7B02EE9B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67A-06B2-4526-B0CB-99089E8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443-F163-475D-B293-5D5B97D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27B-FCB1-4F30-B189-B7BA495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CA8-0DB4-42A3-ACD6-F0C3736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2B1-6963-4B19-8B2A-AAF91C6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886-CD66-4E03-B210-DB50870F4C2B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9deff"/>
          </a:solidFill>
          <a:ln w="38160">
            <a:solidFill>
              <a:srgbClr val="89def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766-68A3-4A0A-A33C-8C0C79927408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15F-9EC4-443B-A568-6C009D69E58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0f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9de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63a3b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8c3e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6C3-AD8D-4B04-898F-C2C42B52B4F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Автор: учитель математики МОУ СОШ №2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89ca3"/>
                </a:solidFill>
                <a:latin typeface="Constantia"/>
              </a:rPr>
              <a:t>г. Твери Охота Н. 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2"/>
          <a:stretch/>
        </p:blipFill>
        <p:spPr>
          <a:xfrm>
            <a:off x="285840" y="1427040"/>
            <a:ext cx="863892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:\открытый урок.2\картинки\2518902_f520.jpg"/>
          <p:cNvPicPr/>
          <p:nvPr/>
        </p:nvPicPr>
        <p:blipFill>
          <a:blip r:embed="rId2"/>
          <a:stretch/>
        </p:blipFill>
        <p:spPr>
          <a:xfrm>
            <a:off x="1523880" y="252360"/>
            <a:ext cx="56390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:\открытый урок.2\картинки\0_14753_8ed68a0b_XL.jpg"/>
          <p:cNvPicPr/>
          <p:nvPr/>
        </p:nvPicPr>
        <p:blipFill>
          <a:blip r:embed="rId2"/>
          <a:stretch/>
        </p:blipFill>
        <p:spPr>
          <a:xfrm>
            <a:off x="1143000" y="324000"/>
            <a:ext cx="67057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E:\открытый урок.2\картинки\46c0de750d82b.jpg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324000" y="765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Домашнее задание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8.4; № 8.7; № 8.13 (в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57216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1" descr=""/>
          <p:cNvPicPr/>
          <p:nvPr/>
        </p:nvPicPr>
        <p:blipFill>
          <a:blip r:embed="rId2"/>
          <a:stretch/>
        </p:blipFill>
        <p:spPr>
          <a:xfrm>
            <a:off x="2214720" y="309600"/>
            <a:ext cx="4713120" cy="627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72200" y="600084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592600" cy="640872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00092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3"/>
          <p:cNvSpPr/>
          <p:nvPr/>
        </p:nvSpPr>
        <p:spPr>
          <a:xfrm>
            <a:off x="3571920" y="1714680"/>
            <a:ext cx="528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4a864"/>
                </a:solidFill>
                <a:latin typeface="Constantia"/>
              </a:rPr>
              <a:t>Михаил Штифель -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немецкий математик, который опубликовал несколько научных трудов, и среди них знаменитый - "Полная арифметика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Он ввёл термин «показатель степе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Картинка 1 из 17"/>
          <p:cNvPicPr/>
          <p:nvPr/>
        </p:nvPicPr>
        <p:blipFill>
          <a:blip r:embed="rId2"/>
          <a:stretch/>
        </p:blipFill>
        <p:spPr>
          <a:xfrm>
            <a:off x="79200" y="1146240"/>
            <a:ext cx="3554640" cy="4998960"/>
          </a:xfrm>
          <a:prstGeom prst="rect">
            <a:avLst/>
          </a:prstGeom>
          <a:ln w="0">
            <a:noFill/>
          </a:ln>
        </p:spPr>
      </p:pic>
      <p:sp>
        <p:nvSpPr>
          <p:cNvPr id="238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2" descr="prof"/>
          <p:cNvPicPr/>
          <p:nvPr/>
        </p:nvPicPr>
        <p:blipFill>
          <a:blip r:embed="rId3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тифель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6929280" y="614376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3"/>
          <p:cNvSpPr/>
          <p:nvPr/>
        </p:nvSpPr>
        <p:spPr>
          <a:xfrm>
            <a:off x="1000080" y="228600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4a864"/>
                </a:solidFill>
                <a:latin typeface="Constantia"/>
              </a:rPr>
              <a:t>Николя Шюке-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великий математик, который впервые ввёл отрицательные и нулевые степ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блако 13"/>
          <p:cNvSpPr/>
          <p:nvPr/>
        </p:nvSpPr>
        <p:spPr>
          <a:xfrm>
            <a:off x="6786720" y="428760"/>
            <a:ext cx="714240" cy="857160"/>
          </a:xfrm>
          <a:prstGeom prst="pie">
            <a:avLst/>
          </a:prstGeom>
          <a:solidFill>
            <a:srgbClr val="6ba42c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6929280" y="57168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12" descr="prof"/>
          <p:cNvPicPr/>
          <p:nvPr/>
        </p:nvPicPr>
        <p:blipFill>
          <a:blip r:embed="rId2"/>
          <a:stretch/>
        </p:blipFill>
        <p:spPr>
          <a:xfrm>
            <a:off x="7429680" y="214200"/>
            <a:ext cx="1285560" cy="15084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15"/>
          <p:cNvSpPr txBox="1"/>
          <p:nvPr/>
        </p:nvSpPr>
        <p:spPr>
          <a:xfrm>
            <a:off x="755640" y="404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Шюке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571320"/>
            <a:ext cx="74008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 конце </a:t>
            </a:r>
            <a:r>
              <a:rPr b="0" lang="en-US" sz="2000" spc="-1" strike="noStrike">
                <a:solidFill>
                  <a:srgbClr val="254061"/>
                </a:solidFill>
                <a:latin typeface="Constantia"/>
              </a:rPr>
              <a:t>ХV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ека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вел буквы для обозначения не только переменных, но и их коэффициентов. Он применял сокращения: N, Q, C – для первой, второй и третьей степен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о современные обозначения в </a:t>
            </a:r>
            <a:r>
              <a:rPr b="0" lang="en-US" sz="2000" spc="-1" strike="noStrike">
                <a:solidFill>
                  <a:srgbClr val="953735"/>
                </a:solidFill>
                <a:latin typeface="Constantia"/>
              </a:rPr>
              <a:t>XVII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 ввел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Франсуа Виет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Constantia"/>
              </a:rPr>
              <a:t>Рене Декар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0" name="Рисунок 6" descr="viete_72595044_tonnel.gif"/>
          <p:cNvPicPr/>
          <p:nvPr/>
        </p:nvPicPr>
        <p:blipFill>
          <a:blip r:embed="rId2"/>
          <a:stretch/>
        </p:blipFill>
        <p:spPr>
          <a:xfrm>
            <a:off x="1692360" y="2133720"/>
            <a:ext cx="2136600" cy="2604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Рене.jpg"/>
          <p:cNvPicPr/>
          <p:nvPr/>
        </p:nvPicPr>
        <p:blipFill>
          <a:blip r:embed="rId3"/>
          <a:stretch/>
        </p:blipFill>
        <p:spPr>
          <a:xfrm>
            <a:off x="4932360" y="2060640"/>
            <a:ext cx="2257560" cy="265428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6858000" y="5929200"/>
            <a:ext cx="1857240" cy="500040"/>
          </a:xfrm>
          <a:custGeom>
            <a:avLst/>
            <a:gdLst>
              <a:gd name="textAreaLeft" fmla="*/ 32400 w 1857240"/>
              <a:gd name="textAreaRight" fmla="*/ 1824840 w 1857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184" h="21600">
                <a:moveTo>
                  <a:pt x="0" y="0"/>
                </a:moveTo>
                <a:lnTo>
                  <a:pt x="80184" y="0"/>
                </a:lnTo>
                <a:lnTo>
                  <a:pt x="80184" y="21600"/>
                </a:lnTo>
                <a:lnTo>
                  <a:pt x="0" y="21600"/>
                </a:lnTo>
                <a:close/>
              </a:path>
              <a:path fill="lightenLess" w="80184" h="21600">
                <a:moveTo>
                  <a:pt x="0" y="0"/>
                </a:moveTo>
                <a:lnTo>
                  <a:pt x="80184" y="0"/>
                </a:lnTo>
                <a:lnTo>
                  <a:pt x="78784" y="1400"/>
                </a:lnTo>
                <a:lnTo>
                  <a:pt x="1400" y="1400"/>
                </a:lnTo>
                <a:close/>
              </a:path>
              <a:path fill="darken" w="80184" h="21600">
                <a:moveTo>
                  <a:pt x="80184" y="0"/>
                </a:moveTo>
                <a:lnTo>
                  <a:pt x="80184" y="21600"/>
                </a:lnTo>
                <a:lnTo>
                  <a:pt x="78784" y="20200"/>
                </a:lnTo>
                <a:lnTo>
                  <a:pt x="78784" y="1400"/>
                </a:lnTo>
                <a:close/>
              </a:path>
              <a:path fill="darkenLess" w="80184" h="21600">
                <a:moveTo>
                  <a:pt x="80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4" y="20200"/>
                </a:lnTo>
                <a:close/>
              </a:path>
              <a:path fill="lighten" w="80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4" h="21600">
                <a:moveTo>
                  <a:pt x="33086" y="3794"/>
                </a:moveTo>
                <a:lnTo>
                  <a:pt x="47099" y="10800"/>
                </a:lnTo>
                <a:lnTo>
                  <a:pt x="33086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-360" y="642600"/>
            <a:ext cx="7543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7933c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77933c"/>
                </a:solidFill>
                <a:latin typeface="Constantia"/>
              </a:rPr>
              <a:t>Современные определения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и обозначения степени с нулевым, отрицательным и дробным показателем берут начало от работ английских математик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Джона Валлис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16–1703)      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1" lang="en-US" sz="1500" spc="-1" strike="noStrike">
                <a:solidFill>
                  <a:srgbClr val="77933c"/>
                </a:solidFill>
                <a:latin typeface="Constantia"/>
              </a:rPr>
              <a:t>Исаака Ньютона </a:t>
            </a: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(1643–1727)</a:t>
            </a:r>
            <a:r>
              <a:rPr b="1" lang="en-US" sz="1500" spc="-1" strike="noStrike">
                <a:solidFill>
                  <a:srgbClr val="ff0000"/>
                </a:solidFill>
                <a:latin typeface="Constantia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Рисунок 4" descr="валлис Джон.gif"/>
          <p:cNvPicPr/>
          <p:nvPr/>
        </p:nvPicPr>
        <p:blipFill>
          <a:blip r:embed="rId2"/>
          <a:stretch/>
        </p:blipFill>
        <p:spPr>
          <a:xfrm>
            <a:off x="1000080" y="1643040"/>
            <a:ext cx="2857680" cy="34671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000045-1.jpg"/>
          <p:cNvPicPr/>
          <p:nvPr/>
        </p:nvPicPr>
        <p:blipFill>
          <a:blip r:embed="rId3"/>
          <a:stretch/>
        </p:blipFill>
        <p:spPr>
          <a:xfrm>
            <a:off x="4786200" y="1785960"/>
            <a:ext cx="304344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настраиваемая 8"/>
          <p:cNvSpPr/>
          <p:nvPr/>
        </p:nvSpPr>
        <p:spPr>
          <a:xfrm>
            <a:off x="6286680" y="5857920"/>
            <a:ext cx="2428560" cy="571320"/>
          </a:xfrm>
          <a:custGeom>
            <a:avLst/>
            <a:gdLst>
              <a:gd name="textAreaLeft" fmla="*/ 36720 w 2428560"/>
              <a:gd name="textAreaRight" fmla="*/ 2391840 w 24285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91773" h="21600">
                <a:moveTo>
                  <a:pt x="0" y="0"/>
                </a:moveTo>
                <a:lnTo>
                  <a:pt x="91773" y="0"/>
                </a:lnTo>
                <a:lnTo>
                  <a:pt x="91773" y="21600"/>
                </a:lnTo>
                <a:lnTo>
                  <a:pt x="0" y="21600"/>
                </a:lnTo>
                <a:close/>
              </a:path>
              <a:path fill="lightenLess" w="91773" h="21600">
                <a:moveTo>
                  <a:pt x="0" y="0"/>
                </a:moveTo>
                <a:lnTo>
                  <a:pt x="91773" y="0"/>
                </a:lnTo>
                <a:lnTo>
                  <a:pt x="90373" y="1400"/>
                </a:lnTo>
                <a:lnTo>
                  <a:pt x="1400" y="1400"/>
                </a:lnTo>
                <a:close/>
              </a:path>
              <a:path fill="darken" w="91773" h="21600">
                <a:moveTo>
                  <a:pt x="91773" y="0"/>
                </a:moveTo>
                <a:lnTo>
                  <a:pt x="91773" y="21600"/>
                </a:lnTo>
                <a:lnTo>
                  <a:pt x="90373" y="20200"/>
                </a:lnTo>
                <a:lnTo>
                  <a:pt x="90373" y="1400"/>
                </a:lnTo>
                <a:close/>
              </a:path>
              <a:path fill="darkenLess" w="91773" h="21600">
                <a:moveTo>
                  <a:pt x="91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73" y="20200"/>
                </a:lnTo>
                <a:close/>
              </a:path>
              <a:path fill="lighten" w="91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TextBox 9" descr=""/>
          <p:cNvPicPr/>
          <p:nvPr/>
        </p:nvPicPr>
        <p:blipFill>
          <a:blip r:embed="rId4"/>
          <a:stretch/>
        </p:blipFill>
        <p:spPr>
          <a:xfrm>
            <a:off x="6851520" y="5950080"/>
            <a:ext cx="1414440" cy="42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3"/>
          <p:cNvSpPr/>
          <p:nvPr/>
        </p:nvSpPr>
        <p:spPr>
          <a:xfrm>
            <a:off x="1143000" y="428760"/>
            <a:ext cx="75009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)-3-8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)-7+5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)-3∙2+16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)-6-(-10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)-14-6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928800" y="171468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Спасибо за внимание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286000" y="571680"/>
            <a:ext cx="5000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)8-(-7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)-4-5∙(-3)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)-6+9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)-8+22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1401840" y="1822320"/>
            <a:ext cx="63943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95280" y="836640"/>
            <a:ext cx="8497800" cy="82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⁴     х³∙х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⁵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0,4)²     5³∙2³       2,65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5214960" y="785880"/>
          <a:ext cx="11206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4960" y="785880"/>
                    <a:ext cx="11206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"/>
          <p:cNvGraphicFramePr/>
          <p:nvPr/>
        </p:nvGraphicFramePr>
        <p:xfrm>
          <a:off x="3352680" y="2654280"/>
          <a:ext cx="914400" cy="19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2654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2"/>
          <p:cNvGraphicFramePr/>
          <p:nvPr/>
        </p:nvGraphicFramePr>
        <p:xfrm>
          <a:off x="2143080" y="4071960"/>
          <a:ext cx="854280" cy="12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43080" y="4071960"/>
                    <a:ext cx="854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14"/>
          <p:cNvGraphicFramePr/>
          <p:nvPr/>
        </p:nvGraphicFramePr>
        <p:xfrm>
          <a:off x="3857760" y="4071960"/>
          <a:ext cx="136836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7760" y="4071960"/>
                    <a:ext cx="1368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6500880" y="4214880"/>
          <a:ext cx="19288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00880" y="4214880"/>
                    <a:ext cx="1928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Object 1"/>
          <p:cNvGraphicFramePr/>
          <p:nvPr/>
        </p:nvGraphicFramePr>
        <p:xfrm>
          <a:off x="684360" y="907920"/>
          <a:ext cx="482436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907920"/>
                    <a:ext cx="48243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3"/>
          <p:cNvGraphicFramePr/>
          <p:nvPr/>
        </p:nvGraphicFramePr>
        <p:xfrm>
          <a:off x="2857680" y="3714840"/>
          <a:ext cx="20923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7680" y="3714840"/>
                    <a:ext cx="20923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Левая фигурная скобка 18"/>
          <p:cNvSpPr/>
          <p:nvPr/>
        </p:nvSpPr>
        <p:spPr>
          <a:xfrm rot="16200000">
            <a:off x="3643200" y="285480"/>
            <a:ext cx="428760" cy="31431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3143160"/>
              <a:gd name="textAreaBottom" fmla="*/ 313236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TextBox 19" descr=""/>
          <p:cNvPicPr/>
          <p:nvPr/>
        </p:nvPicPr>
        <p:blipFill>
          <a:blip r:embed="rId6"/>
          <a:stretch/>
        </p:blipFill>
        <p:spPr>
          <a:xfrm>
            <a:off x="2901960" y="1822320"/>
            <a:ext cx="1932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2411280" y="907920"/>
          <a:ext cx="3384720" cy="8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907920"/>
                    <a:ext cx="3384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411280" y="1628640"/>
          <a:ext cx="331632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628640"/>
                    <a:ext cx="3316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2411280" y="2133720"/>
          <a:ext cx="3745080" cy="107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2133720"/>
                    <a:ext cx="3745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2411280" y="2852640"/>
          <a:ext cx="3990960" cy="100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852640"/>
                    <a:ext cx="39909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484360" y="3645000"/>
          <a:ext cx="2908440" cy="172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4360" y="3645000"/>
                    <a:ext cx="29084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1"/>
          <p:cNvGraphicFramePr/>
          <p:nvPr/>
        </p:nvGraphicFramePr>
        <p:xfrm>
          <a:off x="2643120" y="1643040"/>
          <a:ext cx="3444840" cy="34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1643040"/>
                    <a:ext cx="34448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Минус 9"/>
          <p:cNvSpPr/>
          <p:nvPr/>
        </p:nvSpPr>
        <p:spPr>
          <a:xfrm rot="17807400">
            <a:off x="3251160" y="4700160"/>
            <a:ext cx="888840" cy="730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6715080" y="592920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6"/>
          <p:cNvSpPr/>
          <p:nvPr/>
        </p:nvSpPr>
        <p:spPr>
          <a:xfrm>
            <a:off x="5214960" y="214200"/>
            <a:ext cx="2357280" cy="1214640"/>
          </a:xfrm>
          <a:prstGeom prst="rect">
            <a:avLst/>
          </a:prstGeom>
          <a:solidFill>
            <a:srgbClr val="6633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5286240" y="285840"/>
            <a:ext cx="2214720" cy="1071360"/>
          </a:xfrm>
          <a:prstGeom prst="rect">
            <a:avLst/>
          </a:prstGeom>
          <a:solidFill>
            <a:srgbClr val="08684e"/>
          </a:solidFill>
          <a:ln w="38160">
            <a:solidFill>
              <a:srgbClr val="0c9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TextBox 8" descr=""/>
          <p:cNvPicPr/>
          <p:nvPr/>
        </p:nvPicPr>
        <p:blipFill>
          <a:blip r:embed="rId2"/>
          <a:stretch/>
        </p:blipFill>
        <p:spPr>
          <a:xfrm>
            <a:off x="5425920" y="536400"/>
            <a:ext cx="1938600" cy="4082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214200" y="6357960"/>
            <a:ext cx="878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prof"/>
          <p:cNvPicPr/>
          <p:nvPr/>
        </p:nvPicPr>
        <p:blipFill>
          <a:blip r:embed="rId3"/>
          <a:stretch/>
        </p:blipFill>
        <p:spPr>
          <a:xfrm>
            <a:off x="6715080" y="428760"/>
            <a:ext cx="1428840" cy="1508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4"/>
          <a:stretch/>
        </p:blipFill>
        <p:spPr>
          <a:xfrm>
            <a:off x="-237960" y="274680"/>
            <a:ext cx="5748120" cy="87768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"/>
          <p:cNvSpPr/>
          <p:nvPr/>
        </p:nvSpPr>
        <p:spPr>
          <a:xfrm>
            <a:off x="1071720" y="1357200"/>
            <a:ext cx="71434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Если минус нам не нрави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 этим горем можно справить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Знак меняем в показ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тепень пишем в знаменате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верху ставим едини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Получается? Отлич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6715080" y="5572080"/>
            <a:ext cx="1857600" cy="500040"/>
          </a:xfrm>
          <a:custGeom>
            <a:avLst/>
            <a:gdLst>
              <a:gd name="textAreaLeft" fmla="*/ 32400 w 1857600"/>
              <a:gd name="textAreaRight" fmla="*/ 1825200 w 1857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80200" h="21600">
                <a:moveTo>
                  <a:pt x="0" y="0"/>
                </a:moveTo>
                <a:lnTo>
                  <a:pt x="80200" y="0"/>
                </a:lnTo>
                <a:lnTo>
                  <a:pt x="80200" y="21600"/>
                </a:lnTo>
                <a:lnTo>
                  <a:pt x="0" y="21600"/>
                </a:lnTo>
                <a:close/>
              </a:path>
              <a:path fill="lightenLess" w="80200" h="21600">
                <a:moveTo>
                  <a:pt x="0" y="0"/>
                </a:moveTo>
                <a:lnTo>
                  <a:pt x="80200" y="0"/>
                </a:lnTo>
                <a:lnTo>
                  <a:pt x="78800" y="1400"/>
                </a:lnTo>
                <a:lnTo>
                  <a:pt x="1400" y="1400"/>
                </a:lnTo>
                <a:close/>
              </a:path>
              <a:path fill="darken" w="80200" h="21600">
                <a:moveTo>
                  <a:pt x="80200" y="0"/>
                </a:moveTo>
                <a:lnTo>
                  <a:pt x="80200" y="21600"/>
                </a:lnTo>
                <a:lnTo>
                  <a:pt x="78800" y="20200"/>
                </a:lnTo>
                <a:lnTo>
                  <a:pt x="78800" y="1400"/>
                </a:lnTo>
                <a:close/>
              </a:path>
              <a:path fill="darkenLess" w="80200" h="21600">
                <a:moveTo>
                  <a:pt x="80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00" y="20200"/>
                </a:lnTo>
                <a:close/>
              </a:path>
              <a:path fill="lighten" w="80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00" h="21600">
                <a:moveTo>
                  <a:pt x="33093" y="3794"/>
                </a:moveTo>
                <a:lnTo>
                  <a:pt x="47106" y="10800"/>
                </a:lnTo>
                <a:lnTo>
                  <a:pt x="33093" y="17806"/>
                </a:lnTo>
                <a:close/>
              </a:path>
            </a:pathLst>
          </a:custGeom>
          <a:solidFill>
            <a:srgbClr val="0bd0d9"/>
          </a:solidFill>
          <a:ln w="381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54:46Z</dcterms:created>
  <dc:creator>DNA7 X86</dc:creator>
  <dc:description/>
  <dc:language>en-US</dc:language>
  <cp:lastModifiedBy>КарМаН</cp:lastModifiedBy>
  <dcterms:modified xsi:type="dcterms:W3CDTF">2012-01-25T09:09:48Z</dcterms:modified>
  <cp:revision>40</cp:revision>
  <dc:subject/>
  <dc:title>Слайд 1</dc:title>
</cp:coreProperties>
</file>