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8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9.jpeg" ContentType="image/jpe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3.png" ContentType="image/png"/>
  <Override PartName="/ppt/media/image26.png" ContentType="image/png"/>
  <Override PartName="/ppt/media/image4.wmf" ContentType="image/x-wmf"/>
  <Override PartName="/ppt/media/image14.wmf" ContentType="image/x-wmf"/>
  <Override PartName="/ppt/media/image16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A7A-B041-4B82-A85A-A8C52C1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779-7ECE-4B45-BBCC-434F7BB7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A68-CB77-4FFD-BE46-F14864D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A9A-61BE-4662-802A-0216FD9C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7E85-EC1E-42A4-AA2C-D0EB6F08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83804-073E-41D4-844F-3F8CB06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5B26-E3E0-4E2E-A882-16B137DB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A71C8-B46C-44AB-9B67-CDD81547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FC975-087C-40F6-88AC-98C1C3E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3AB2C-F17C-4785-AB2F-848C47A2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7547-2DB1-4243-8B91-95F29F4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711-E50D-4074-8485-7729478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4FF6-A84E-43F2-A15E-4A829D4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169F0-A553-463C-8A36-287500DA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800A8-91D5-439A-A64E-2B1CAA96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1DAB7-332C-4C1A-AE87-C8581C61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5329-CBB3-489A-9805-2F7B6BA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FFDE1-FBF6-4FB0-8D95-79036FFD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86AE-2025-4AA1-BFBF-F1D22478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24FD-5BF8-4E24-8178-886E8F5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7F8E-F1C3-42BA-9C0B-3564399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0AEE-DFAB-4C1A-AF35-60584B75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11E-D401-4425-895E-04693CC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EAE3-1497-4223-AA7C-4D2DC8C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54FA-BDDE-4161-A2A0-FDC8B6F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F29E-B329-475C-B982-5A38933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F0B9-3460-4701-9243-ACE5274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14ED-0DFD-4AA5-8578-9CE18F2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5DF8-B28C-4C73-9392-0865E83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DF54-9AC5-4FB9-8422-5AD10412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AD6C0-11B7-4857-BA1E-771655D9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2939C-369A-4D96-9A84-5B8E19D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43C4B-64C6-4F14-8E36-080E8F35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64E-90CB-48A6-920B-DE90542B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E7A9D-2027-4B17-9241-220B4FA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EB034-AE7A-4A9D-85C8-9C9B0CF5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748A1-7CE8-4DB7-8B9C-87672D7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3F1C4-97E9-4E29-8796-D02BF86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3EB80-DB5E-424B-83C8-FFA23107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42AD7-4D75-497B-BC8A-144CD70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BEDAA-4E9C-4ADF-B693-8CDCBBF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06368-7364-4FF7-B6AB-3CC8D6D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08AD6-C7C8-4E82-89E4-3DD9EA73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5EF-35CB-476A-A63D-24B79D3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450-AC59-4426-B1CA-F5D0822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55-EBEE-4CB2-B105-437D908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5D2-F70E-416E-983A-07A3AE3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2E7-A9DA-4996-89EC-9DB7B95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44C-E0CC-4565-94D0-B21FEC5E9C4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9deff"/>
          </a:solidFill>
          <a:ln w="38160">
            <a:solidFill>
              <a:srgbClr val="89def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3736-97F6-4E09-945A-ADB8F20EB369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7A0-6BAF-4EEC-ACCE-012B2F87839A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7724-BA20-4B69-AE50-86A7A608A87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Автор: учитель математики МОУ СОШ №2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г. Твери Охота Н. 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2"/>
          <a:stretch/>
        </p:blipFill>
        <p:spPr>
          <a:xfrm>
            <a:off x="285840" y="1427040"/>
            <a:ext cx="863892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:\открытый урок.2\картинки\2518902_f520.jpg"/>
          <p:cNvPicPr/>
          <p:nvPr/>
        </p:nvPicPr>
        <p:blipFill>
          <a:blip r:embed="rId2"/>
          <a:stretch/>
        </p:blipFill>
        <p:spPr>
          <a:xfrm>
            <a:off x="1523880" y="252360"/>
            <a:ext cx="56390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:\открытый урок.2\картинки\0_14753_8ed68a0b_XL.jpg"/>
          <p:cNvPicPr/>
          <p:nvPr/>
        </p:nvPicPr>
        <p:blipFill>
          <a:blip r:embed="rId2"/>
          <a:stretch/>
        </p:blipFill>
        <p:spPr>
          <a:xfrm>
            <a:off x="1143000" y="324000"/>
            <a:ext cx="67057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E:\открытый урок.2\картинки\46c0de750d82b.jpg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324000" y="765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Домашнее задание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8.4; № 8.7; № 8.13 (в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57216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1" descr=""/>
          <p:cNvPicPr/>
          <p:nvPr/>
        </p:nvPicPr>
        <p:blipFill>
          <a:blip r:embed="rId2"/>
          <a:stretch/>
        </p:blipFill>
        <p:spPr>
          <a:xfrm>
            <a:off x="2214720" y="309600"/>
            <a:ext cx="4713120" cy="627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72200" y="600084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592600" cy="640872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0092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3"/>
          <p:cNvSpPr/>
          <p:nvPr/>
        </p:nvSpPr>
        <p:spPr>
          <a:xfrm>
            <a:off x="3571920" y="1714680"/>
            <a:ext cx="528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4a864"/>
                </a:solidFill>
                <a:latin typeface="Constantia"/>
              </a:rPr>
              <a:t>Михаил Штифель -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немецкий математик, который опубликовал несколько научных трудов, и среди них знаменитый - "Полная арифметика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Он ввёл термин «показатель степе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Картинка 1 из 17"/>
          <p:cNvPicPr/>
          <p:nvPr/>
        </p:nvPicPr>
        <p:blipFill>
          <a:blip r:embed="rId2"/>
          <a:stretch/>
        </p:blipFill>
        <p:spPr>
          <a:xfrm>
            <a:off x="79200" y="1146240"/>
            <a:ext cx="3554640" cy="4998960"/>
          </a:xfrm>
          <a:prstGeom prst="rect">
            <a:avLst/>
          </a:prstGeom>
          <a:ln w="0">
            <a:noFill/>
          </a:ln>
        </p:spPr>
      </p:pic>
      <p:sp>
        <p:nvSpPr>
          <p:cNvPr id="238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2" descr="prof"/>
          <p:cNvPicPr/>
          <p:nvPr/>
        </p:nvPicPr>
        <p:blipFill>
          <a:blip r:embed="rId3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тифель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6929280" y="614376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3"/>
          <p:cNvSpPr/>
          <p:nvPr/>
        </p:nvSpPr>
        <p:spPr>
          <a:xfrm>
            <a:off x="1000080" y="228600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4a864"/>
                </a:solidFill>
                <a:latin typeface="Constantia"/>
              </a:rPr>
              <a:t>Николя Шюке-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великий математик, который впервые ввёл отрицательные и нулевые степ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12" descr="prof"/>
          <p:cNvPicPr/>
          <p:nvPr/>
        </p:nvPicPr>
        <p:blipFill>
          <a:blip r:embed="rId2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юке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571320"/>
            <a:ext cx="74008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 конце </a:t>
            </a:r>
            <a:r>
              <a:rPr b="0" lang="en-US" sz="2000" spc="-1" strike="noStrike">
                <a:solidFill>
                  <a:srgbClr val="254061"/>
                </a:solidFill>
                <a:latin typeface="Constantia"/>
              </a:rPr>
              <a:t>ХV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ека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вел буквы для обозначения не только переменных, но и их коэффициентов. Он применял сокращения: N, Q, C – для первой, второй и третьей степен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о современные обозначения в </a:t>
            </a:r>
            <a:r>
              <a:rPr b="0" lang="en-US" sz="2000" spc="-1" strike="noStrike">
                <a:solidFill>
                  <a:srgbClr val="953735"/>
                </a:solidFill>
                <a:latin typeface="Constantia"/>
              </a:rPr>
              <a:t>XVI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 ввел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0" name="Рисунок 6" descr="viete_72595044_tonnel.gif"/>
          <p:cNvPicPr/>
          <p:nvPr/>
        </p:nvPicPr>
        <p:blipFill>
          <a:blip r:embed="rId2"/>
          <a:stretch/>
        </p:blipFill>
        <p:spPr>
          <a:xfrm>
            <a:off x="1692360" y="2133720"/>
            <a:ext cx="2136600" cy="2604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Рене.jpg"/>
          <p:cNvPicPr/>
          <p:nvPr/>
        </p:nvPicPr>
        <p:blipFill>
          <a:blip r:embed="rId3"/>
          <a:stretch/>
        </p:blipFill>
        <p:spPr>
          <a:xfrm>
            <a:off x="4932360" y="2060640"/>
            <a:ext cx="2257560" cy="265428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-360" y="642600"/>
            <a:ext cx="7543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7933c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77933c"/>
                </a:solidFill>
                <a:latin typeface="Constantia"/>
              </a:rPr>
              <a:t>Современные определения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и обозначения степени с нулевым, отрицательным и дробным показателем берут начало от работ английских математик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Джона Валлис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16–1703)      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Исаака Ньютон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43–1727)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Рисунок 4" descr="валлис Джон.gif"/>
          <p:cNvPicPr/>
          <p:nvPr/>
        </p:nvPicPr>
        <p:blipFill>
          <a:blip r:embed="rId2"/>
          <a:stretch/>
        </p:blipFill>
        <p:spPr>
          <a:xfrm>
            <a:off x="1000080" y="1643040"/>
            <a:ext cx="2857680" cy="3467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000045-1.jpg"/>
          <p:cNvPicPr/>
          <p:nvPr/>
        </p:nvPicPr>
        <p:blipFill>
          <a:blip r:embed="rId3"/>
          <a:stretch/>
        </p:blipFill>
        <p:spPr>
          <a:xfrm>
            <a:off x="4786200" y="1785960"/>
            <a:ext cx="304344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настраиваемая 8"/>
          <p:cNvSpPr/>
          <p:nvPr/>
        </p:nvSpPr>
        <p:spPr>
          <a:xfrm>
            <a:off x="6286680" y="5857920"/>
            <a:ext cx="2428560" cy="571320"/>
          </a:xfrm>
          <a:custGeom>
            <a:avLst/>
            <a:gdLst>
              <a:gd name="textAreaLeft" fmla="*/ 36720 w 2428560"/>
              <a:gd name="textAreaRight" fmla="*/ 2391840 w 24285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91773" h="21600">
                <a:moveTo>
                  <a:pt x="0" y="0"/>
                </a:moveTo>
                <a:lnTo>
                  <a:pt x="91773" y="0"/>
                </a:lnTo>
                <a:lnTo>
                  <a:pt x="91773" y="21600"/>
                </a:lnTo>
                <a:lnTo>
                  <a:pt x="0" y="21600"/>
                </a:lnTo>
                <a:close/>
              </a:path>
              <a:path fill="lightenLess" w="91773" h="21600">
                <a:moveTo>
                  <a:pt x="0" y="0"/>
                </a:moveTo>
                <a:lnTo>
                  <a:pt x="91773" y="0"/>
                </a:lnTo>
                <a:lnTo>
                  <a:pt x="90373" y="1400"/>
                </a:lnTo>
                <a:lnTo>
                  <a:pt x="1400" y="1400"/>
                </a:lnTo>
                <a:close/>
              </a:path>
              <a:path fill="darken" w="91773" h="21600">
                <a:moveTo>
                  <a:pt x="91773" y="0"/>
                </a:moveTo>
                <a:lnTo>
                  <a:pt x="91773" y="21600"/>
                </a:lnTo>
                <a:lnTo>
                  <a:pt x="90373" y="20200"/>
                </a:lnTo>
                <a:lnTo>
                  <a:pt x="90373" y="1400"/>
                </a:lnTo>
                <a:close/>
              </a:path>
              <a:path fill="darkenLess" w="91773" h="21600">
                <a:moveTo>
                  <a:pt x="91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73" y="20200"/>
                </a:lnTo>
                <a:close/>
              </a:path>
              <a:path fill="lighten" w="91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TextBox 9" descr=""/>
          <p:cNvPicPr/>
          <p:nvPr/>
        </p:nvPicPr>
        <p:blipFill>
          <a:blip r:embed="rId4"/>
          <a:stretch/>
        </p:blipFill>
        <p:spPr>
          <a:xfrm>
            <a:off x="6851520" y="5950080"/>
            <a:ext cx="1414440" cy="42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3"/>
          <p:cNvSpPr/>
          <p:nvPr/>
        </p:nvSpPr>
        <p:spPr>
          <a:xfrm>
            <a:off x="1143000" y="428760"/>
            <a:ext cx="75009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)-3-8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)-7+5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)-3∙2+16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)-6-(-10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)-14-6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928800" y="171468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Спасибо за внимание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286000" y="571680"/>
            <a:ext cx="5000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)8-(-7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)-4-5∙(-3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)-6+9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)-8+22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1401840" y="1822320"/>
            <a:ext cx="63943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95280" y="836640"/>
            <a:ext cx="8497800" cy="82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⁴     х³∙х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⁵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0,4)²     5³∙2³       2,65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5214960" y="785880"/>
          <a:ext cx="11206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4960" y="785880"/>
                    <a:ext cx="11206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2"/>
          <p:cNvGraphicFramePr/>
          <p:nvPr/>
        </p:nvGraphicFramePr>
        <p:xfrm>
          <a:off x="2143080" y="4071960"/>
          <a:ext cx="854280" cy="12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43080" y="4071960"/>
                    <a:ext cx="854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14"/>
          <p:cNvGraphicFramePr/>
          <p:nvPr/>
        </p:nvGraphicFramePr>
        <p:xfrm>
          <a:off x="3857760" y="4071960"/>
          <a:ext cx="136836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7760" y="4071960"/>
                    <a:ext cx="1368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6500880" y="4214880"/>
          <a:ext cx="19288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00880" y="4214880"/>
                    <a:ext cx="1928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Object 1"/>
          <p:cNvGraphicFramePr/>
          <p:nvPr/>
        </p:nvGraphicFramePr>
        <p:xfrm>
          <a:off x="684360" y="907920"/>
          <a:ext cx="482436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907920"/>
                    <a:ext cx="48243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3"/>
          <p:cNvGraphicFramePr/>
          <p:nvPr/>
        </p:nvGraphicFramePr>
        <p:xfrm>
          <a:off x="2857680" y="3714840"/>
          <a:ext cx="20923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7680" y="3714840"/>
                    <a:ext cx="20923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Левая фигурная скобка 18"/>
          <p:cNvSpPr/>
          <p:nvPr/>
        </p:nvSpPr>
        <p:spPr>
          <a:xfrm rot="16200000">
            <a:off x="3643200" y="285480"/>
            <a:ext cx="428760" cy="31431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3143160"/>
              <a:gd name="textAreaBottom" fmla="*/ 313236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TextBox 19" descr=""/>
          <p:cNvPicPr/>
          <p:nvPr/>
        </p:nvPicPr>
        <p:blipFill>
          <a:blip r:embed="rId6"/>
          <a:stretch/>
        </p:blipFill>
        <p:spPr>
          <a:xfrm>
            <a:off x="2901960" y="1822320"/>
            <a:ext cx="1932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2411280" y="907920"/>
          <a:ext cx="3384720" cy="8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907920"/>
                    <a:ext cx="3384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411280" y="1628640"/>
          <a:ext cx="331632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628640"/>
                    <a:ext cx="3316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2411280" y="2133720"/>
          <a:ext cx="3745080" cy="107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2133720"/>
                    <a:ext cx="3745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2411280" y="2852640"/>
          <a:ext cx="3990960" cy="100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852640"/>
                    <a:ext cx="39909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484360" y="3645000"/>
          <a:ext cx="2908440" cy="172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4360" y="3645000"/>
                    <a:ext cx="29084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1"/>
          <p:cNvGraphicFramePr/>
          <p:nvPr/>
        </p:nvGraphicFramePr>
        <p:xfrm>
          <a:off x="2643120" y="1643040"/>
          <a:ext cx="3444840" cy="34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1643040"/>
                    <a:ext cx="34448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Минус 9"/>
          <p:cNvSpPr/>
          <p:nvPr/>
        </p:nvSpPr>
        <p:spPr>
          <a:xfrm rot="17807400">
            <a:off x="3251160" y="4700160"/>
            <a:ext cx="888840" cy="730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6"/>
          <p:cNvSpPr/>
          <p:nvPr/>
        </p:nvSpPr>
        <p:spPr>
          <a:xfrm>
            <a:off x="5214960" y="214200"/>
            <a:ext cx="2357280" cy="1214640"/>
          </a:xfrm>
          <a:prstGeom prst="rect">
            <a:avLst/>
          </a:prstGeom>
          <a:solidFill>
            <a:srgbClr val="6633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5286240" y="285840"/>
            <a:ext cx="2214720" cy="1071360"/>
          </a:xfrm>
          <a:prstGeom prst="rect">
            <a:avLst/>
          </a:prstGeom>
          <a:solidFill>
            <a:srgbClr val="08684e"/>
          </a:solidFill>
          <a:ln w="38160">
            <a:solidFill>
              <a:srgbClr val="0c9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TextBox 8" descr=""/>
          <p:cNvPicPr/>
          <p:nvPr/>
        </p:nvPicPr>
        <p:blipFill>
          <a:blip r:embed="rId2"/>
          <a:stretch/>
        </p:blipFill>
        <p:spPr>
          <a:xfrm>
            <a:off x="5425920" y="536400"/>
            <a:ext cx="1938600" cy="4082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214200" y="6357960"/>
            <a:ext cx="878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prof"/>
          <p:cNvPicPr/>
          <p:nvPr/>
        </p:nvPicPr>
        <p:blipFill>
          <a:blip r:embed="rId3"/>
          <a:stretch/>
        </p:blipFill>
        <p:spPr>
          <a:xfrm>
            <a:off x="6715080" y="428760"/>
            <a:ext cx="1428840" cy="1508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4"/>
          <a:stretch/>
        </p:blipFill>
        <p:spPr>
          <a:xfrm>
            <a:off x="-237960" y="274680"/>
            <a:ext cx="5748120" cy="87768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"/>
          <p:cNvSpPr/>
          <p:nvPr/>
        </p:nvSpPr>
        <p:spPr>
          <a:xfrm>
            <a:off x="1071720" y="1357200"/>
            <a:ext cx="71434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Если минус нам не нрави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 этим горем можно справить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Знак меняем в показ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тепень пишем в знамен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верху ставим едини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Получается? Отлич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57208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54:46Z</dcterms:created>
  <dc:creator>DNA7 X86</dc:creator>
  <dc:description/>
  <dc:language>en-US</dc:language>
  <cp:lastModifiedBy>КарМаН</cp:lastModifiedBy>
  <dcterms:modified xsi:type="dcterms:W3CDTF">2012-01-25T09:09:48Z</dcterms:modified>
  <cp:revision>40</cp:revision>
  <dc:subject/>
  <dc:title>Слайд 1</dc:title>
</cp:coreProperties>
</file>