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FD0-8CB4-4B92-8E79-FBA7D1B7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255-E6B0-4E78-AF1B-258F28C5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365-DA19-40E1-B402-3BDEBAEC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E39-BE96-4FE5-8693-E3DDE477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FB5D-B96F-42FE-B6E8-C2D3F61A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5B60-643F-4A4B-9304-24B6A321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93A3-4156-44AC-A8D7-390E94F1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4A9-024B-40E2-8B94-812202F9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6975-B2A8-4897-9325-FD9DC124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684B-ECA8-4D20-979B-A9287386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2E8B-73FB-4197-8C19-4841606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CF4-7B51-4AFE-A812-81579B43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50D3-5BF1-4C3D-9AA5-EBF2F323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5BBD-D8BB-49C6-A668-A55B496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AB4D-3B02-427A-ACA2-861BD552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627-0F6C-4D3E-99C7-004717D8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705C-8B6D-4A11-93A9-CD045165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040-4229-48F2-8F95-7A209D12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3AA-8655-4E26-AD3E-3F181DC8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B68-412F-43C6-8946-1CB50A1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945-2D5F-461B-A870-6FA0BC95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113-EAF2-412C-AA2A-4C55C63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9A0-ABCA-4A08-BEDA-4733221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3D1-DAD8-4059-A0F3-D5AABBD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0006-99E7-4362-B9D6-593D7BB86D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A3F2-D6CF-4C09-BFAB-9B4FE38B9F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ТЕОРЕТИЧЕСКАЯ 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ДРЕВНЕГРЕЧЕСКИЙ ФИЛОСОФ ОСНОВАЛ В АФИНАХ СОБСТВЕННУЮ ШКОЛУ – АКАДЕМИЮ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ВЁЛ МАТЕМАТИКУ В ЧИСЛ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РЕДМЕТОВ ПРЕПОДАВАНИЯ;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ОСНОВАЛ ЛОГИЧЕСКИЙ МЕТОД РАССУЖДЕНИЯ ОТ ПРОТИВНОГО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УДЕЛЯЛ БОЛЬШОЕ ВНИМАНИЕ ГЕОМЕТРИЧЕСКИМ ЗАДАЧАМ НА ПОСТРОЕНИЕ С ПОМОЩЬЮ ЦИРКУЛЯ И ЛИНЕЙ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1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1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60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429264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429264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79280" y="5661000"/>
            <a:ext cx="8785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МНОГОУГОЛЬНИК, ПЛОЩАДЬ КОТОРОГО ВЫЧИСЛЯЕТСЯ ПО ФОРМУЛЕ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S =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½ (a h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80" y="429264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79280" y="5661000"/>
            <a:ext cx="8785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292428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79280" y="429264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50920" y="5661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ВЫРАЖЕНИЕ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SIN</a:t>
            </a:r>
            <a:r>
              <a:rPr b="1" lang="en-US" sz="2800" spc="-1" strike="noStrike" baseline="30000">
                <a:solidFill>
                  <a:srgbClr val="080808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80808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+ COS</a:t>
            </a:r>
            <a:r>
              <a:rPr b="1" lang="en-US" sz="2800" spc="-1" strike="noStrike" baseline="30000">
                <a:solidFill>
                  <a:srgbClr val="080808"/>
                </a:solidFill>
                <a:latin typeface="Arial"/>
                <a:ea typeface="Arial"/>
              </a:rPr>
              <a:t>2</a:t>
            </a:r>
            <a:r>
              <a:rPr b="1" lang="el-GR" sz="2800" spc="-1" strike="noStrike">
                <a:solidFill>
                  <a:srgbClr val="080808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= 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9280" y="292428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79280" y="429264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50920" y="566100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55736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292428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566100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4292640"/>
          <a:ext cx="32860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2224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79280" y="544500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СТАРИННАЯ МЕРА ДЛИНЫ, РАВНАЯ ПРИМЕРНО 25 ММ. ЭТОЙ ЕДИНИЦЕЙ ИЗМЕРИЛ РОСТ СВОЕЙ ГЕРОИНИ Г.Х. АНДЕРСЕ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55736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292428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826920" y="5805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4292640"/>
          <a:ext cx="32860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2224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18900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79280" y="155736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826920" y="5805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8000" y="2997360"/>
          <a:ext cx="3178080" cy="1239840"/>
        </p:xfrm>
        <a:graphic>
          <a:graphicData uri="http://schemas.openxmlformats.org/drawingml/2006/table">
            <a:tbl>
              <a:tblPr/>
              <a:tblGrid>
                <a:gridCol w="714240"/>
                <a:gridCol w="822240"/>
                <a:gridCol w="81936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397320" y="2997360"/>
          <a:ext cx="5638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600"/>
                <a:gridCol w="822240"/>
                <a:gridCol w="819000"/>
                <a:gridCol w="819360"/>
                <a:gridCol w="714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79280" y="458136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ДРЕВНЕГРЕЧЕСКИЙ УЧЁНЫЙ, КОТОРЫЙ ПОГРУЗИВШИСЬ В ВАННУ ВОСКЛИКНУЛ: «ЭВРИКА!» И ОТКРЫЛ ИЗВЕСТНЫЙ В ФИЗИКЕ ЗАКО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8900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155736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826920" y="5805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8000" y="2997360"/>
          <a:ext cx="3178080" cy="1239840"/>
        </p:xfrm>
        <a:graphic>
          <a:graphicData uri="http://schemas.openxmlformats.org/drawingml/2006/table">
            <a:tbl>
              <a:tblPr/>
              <a:tblGrid>
                <a:gridCol w="714240"/>
                <a:gridCol w="822240"/>
                <a:gridCol w="81936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397320" y="2997360"/>
          <a:ext cx="5638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600"/>
                <a:gridCol w="822240"/>
                <a:gridCol w="819000"/>
                <a:gridCol w="819360"/>
                <a:gridCol w="714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46144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802944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56325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5632560"/>
            <a:ext cx="43344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5661000"/>
            <a:ext cx="432000" cy="74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3274920" y="563256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1114560" y="56325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5661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5661000"/>
            <a:ext cx="43164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846144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02944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4883040"/>
            <a:ext cx="4330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4883040"/>
            <a:ext cx="43200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673272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586908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4883040"/>
            <a:ext cx="433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883040"/>
            <a:ext cx="43164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14036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3274920" y="4883040"/>
            <a:ext cx="43344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284328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547640" y="4883040"/>
            <a:ext cx="43200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114560" y="4883040"/>
            <a:ext cx="4330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8256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846144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802944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7596360" y="4135320"/>
            <a:ext cx="433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716436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73272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586908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435640" y="4135320"/>
            <a:ext cx="433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4135320"/>
            <a:ext cx="432000" cy="74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274920" y="4135320"/>
            <a:ext cx="433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284328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35320"/>
            <a:ext cx="431640" cy="74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114560" y="4135320"/>
            <a:ext cx="433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68256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846144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802944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33861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673272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586908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5435640" y="338616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3386160"/>
            <a:ext cx="43200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3274920" y="338616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3386160"/>
            <a:ext cx="43164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97964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54764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114560" y="33861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68256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846144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802944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7596360" y="263700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716436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586908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263700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414036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370836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3274920" y="263700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«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284328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197964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154764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1114560" y="263700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68256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3386160"/>
            <a:ext cx="259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4135320"/>
            <a:ext cx="172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4883040"/>
            <a:ext cx="129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5632560"/>
            <a:ext cx="129672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8256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111456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547640" y="2637000"/>
            <a:ext cx="0" cy="224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41128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843280" y="2637000"/>
            <a:ext cx="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3274920" y="263700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414036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543564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5869080" y="263700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6300720" y="2637000"/>
            <a:ext cx="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716436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596360" y="2637000"/>
            <a:ext cx="0" cy="224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802944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846144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56325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8893080" y="56325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7596360" y="5632560"/>
            <a:ext cx="129672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596360" y="4883040"/>
            <a:ext cx="0" cy="749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59636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7164360" y="4883040"/>
            <a:ext cx="4320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596360" y="4883040"/>
            <a:ext cx="129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7164360" y="4135320"/>
            <a:ext cx="0" cy="7477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7164360" y="4883040"/>
            <a:ext cx="0" cy="149868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6300720" y="4135320"/>
            <a:ext cx="863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4135320"/>
            <a:ext cx="172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300720" y="33861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630072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5869080" y="3386160"/>
            <a:ext cx="431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300720" y="3386160"/>
            <a:ext cx="259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869080" y="3386160"/>
            <a:ext cx="0" cy="29955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274920" y="2637000"/>
            <a:ext cx="259416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274920" y="3386160"/>
            <a:ext cx="0" cy="29955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2843280" y="3386160"/>
            <a:ext cx="431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274920" y="3386160"/>
            <a:ext cx="259416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2843280" y="33861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84328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843280" y="4135320"/>
            <a:ext cx="345744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5632560"/>
            <a:ext cx="6048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1547640" y="4883040"/>
            <a:ext cx="0" cy="749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154764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547640" y="4883040"/>
            <a:ext cx="4320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135320"/>
            <a:ext cx="0" cy="7477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1979640" y="4883040"/>
            <a:ext cx="0" cy="149868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4135320"/>
            <a:ext cx="863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1979640" y="4883040"/>
            <a:ext cx="5184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68256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1456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673272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802944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846144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2637000"/>
            <a:ext cx="30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869080" y="2637000"/>
            <a:ext cx="30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889308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7985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500"/>
                            </p:stCondLst>
                            <p:childTnLst>
                              <p:par>
                                <p:cTn id="3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9000"/>
                            </p:stCondLst>
                            <p:childTnLst>
                              <p:par>
                                <p:cTn id="3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50920" y="2637000"/>
          <a:ext cx="8642160" cy="374472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  <a:gridCol w="433440"/>
                <a:gridCol w="432000"/>
                <a:gridCol w="431640"/>
                <a:gridCol w="431640"/>
                <a:gridCol w="432000"/>
                <a:gridCol w="433440"/>
                <a:gridCol w="431640"/>
                <a:gridCol w="432000"/>
                <a:gridCol w="431640"/>
                <a:gridCol w="432000"/>
                <a:gridCol w="433080"/>
                <a:gridCol w="432000"/>
                <a:gridCol w="43164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7985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ТЕОРЕТИЧЕСКАЯ 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К уро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«Восхождение на математический Олимп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по т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«Соотношения между сторонами и углами треугольн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Учитель МБОУ СОШ № 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г. Мытищи Московской об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Обухова Ольга Викто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79280" y="1484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ПРОТИВОЛЕЖАЩЕГО КАТЕТА К ГИПОТЕНУЗ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36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ТО, ЧТО ВЫРАЖАЕТ ТЕОРЕМА: «ЕСЛИ ДВА УГЛА ОДНОГО ТРЕУГОЛЬНИКА СООТВЕТСТВЕННО РАВНЫ ДВУМ УГЛАМ ДРУГОГО ТРЕУГОЛЬНИКА, ТО ТАКИЕ ТРЕУГОЛЬНИКИ ПОДОБНЫ»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24188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ПРИЛЕЖАЩЕГО КАТЕТА 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НУЗ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429264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" y="5681520"/>
            <a:ext cx="84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ПРОТИВОЛЕЖАЩЕГО КАТЕТА 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ЛЕЖАЩЕМ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0:06:35Z</dcterms:created>
  <dc:creator>Обухова Ольга</dc:creator>
  <dc:description/>
  <dc:language>en-US</dc:language>
  <cp:lastModifiedBy>Обухова Ольга</cp:lastModifiedBy>
  <dcterms:modified xsi:type="dcterms:W3CDTF">2012-03-28T20:41:16Z</dcterms:modified>
  <cp:revision>14</cp:revision>
  <dc:subject/>
  <dc:title>ТЕОРЕТИЧЕСКАЯ РАЗМИН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