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1A8F-2731-409B-8130-FD06933A2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8918-7E6E-42BF-8AA6-5DCBA7FB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D785-1680-498C-94EC-9F34F9722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805E-FF32-4B52-9BE3-D6EB83745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7F65-9950-4A23-A2DC-F1CB8EDA9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AA8E-F0D3-48F1-AA6F-110144CF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983F-BBB1-4335-8204-4C7CDB7E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AF9F-91C7-43AA-B640-FCC8662A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BF31-48B1-4BF0-B919-7A5FE943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FDD0-A30C-47B7-95E0-01FEE502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6A75-0FB8-44C2-8405-55C0D843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262A-65ED-4CA4-82A4-4B93C429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8C42-5681-433C-B293-8775473D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85B8-A9AE-47E3-8193-790C9EA3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9018-8104-4B85-88D6-AA45177A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748D-B933-4ED0-A9F6-CED746C7E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DA02-83EF-46AC-B005-706FE4AE0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C4EE-3779-47C4-88E6-574D2372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FD8F-A153-4BA2-B6B5-12123B65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58B4-E04E-43F9-9532-3342BDC4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A9F6-5845-428F-8A26-4C14A58F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DF84-1FDC-4F8D-94A7-55DEC520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BE76-065B-4312-BDB3-26135A41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B990-602D-4D5A-A139-58BBDFFF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5BB8-24B8-4F29-9D41-63F0B7CC024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1265-C5D0-4DC5-95EE-CB1BB50CCF0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omic Sans MS"/>
              </a:rPr>
              <a:t>ТЕОРЕТИЧЕСКАЯ РАЗМИН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4000" y="1125000"/>
            <a:ext cx="842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ff"/>
                </a:solidFill>
                <a:latin typeface="Comic Sans MS"/>
              </a:rPr>
              <a:t>ДРЕВНЕГРЕЧЕСКИЙ ФИЛОСОФ ОСНОВАЛ В АФИНАХ СОБСТВЕННУЮ ШКОЛУ – АКАДЕМИЮ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ВВЁЛ МАТЕМАТИКУ В ЧИСЛ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ПРЕДМЕТОВ ПРЕПОДАВАНИЯ;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Comic Sans MS"/>
              </a:rPr>
              <a:t>ОСНОВАЛ ЛОГИЧЕСКИЙ МЕТОД РАССУЖДЕНИЯ ОТ ПРОТИВНОГО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УДЕЛЯЛ БОЛЬШОЕ ВНИМАНИЕ ГЕОМЕТРИЧЕСКИМ ЗАДАЧАМ НА ПОСТРОЕНИЕ С ПОМОЩЬЮ ЦИРКУЛЯ И ЛИНЕЙ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10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3100"/>
                            </p:stCondLst>
                            <p:childTnLst>
                              <p:par>
                                <p:cTn id="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8600"/>
                            </p:stCondLst>
                            <p:childTnLst>
                              <p:par>
                                <p:cTn id="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79280" y="189000"/>
          <a:ext cx="4105440" cy="1239840"/>
        </p:xfrm>
        <a:graphic>
          <a:graphicData uri="http://schemas.openxmlformats.org/drawingml/2006/table">
            <a:tbl>
              <a:tblPr/>
              <a:tblGrid>
                <a:gridCol w="821520"/>
                <a:gridCol w="820080"/>
                <a:gridCol w="821880"/>
                <a:gridCol w="820440"/>
                <a:gridCol w="82152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79280" y="1557360"/>
          <a:ext cx="574668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19000"/>
                <a:gridCol w="822240"/>
                <a:gridCol w="822240"/>
                <a:gridCol w="819360"/>
                <a:gridCol w="819000"/>
                <a:gridCol w="82224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2031840" y="4024440"/>
            <a:ext cx="65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9280" y="292428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3040200" y="5465880"/>
            <a:ext cx="556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79280" y="429264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2751120" y="5734080"/>
            <a:ext cx="578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79280" y="189000"/>
          <a:ext cx="574668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19000"/>
                <a:gridCol w="822240"/>
                <a:gridCol w="822240"/>
                <a:gridCol w="819360"/>
                <a:gridCol w="819000"/>
                <a:gridCol w="82224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2031840" y="4024440"/>
            <a:ext cx="65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79280" y="155736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3040200" y="5465880"/>
            <a:ext cx="556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9280" y="292428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2751120" y="5734080"/>
            <a:ext cx="578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79280" y="4292640"/>
          <a:ext cx="885672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19000"/>
                <a:gridCol w="822240"/>
                <a:gridCol w="822240"/>
                <a:gridCol w="822600"/>
                <a:gridCol w="822240"/>
                <a:gridCol w="822240"/>
                <a:gridCol w="822240"/>
                <a:gridCol w="819360"/>
                <a:gridCol w="819000"/>
                <a:gridCol w="64296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179280" y="5661000"/>
            <a:ext cx="8785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Arial"/>
              </a:rPr>
              <a:t>МНОГОУГОЛЬНИК, ПЛОЩАДЬ КОТОРОГО ВЫЧИСЛЯЕТСЯ ПО ФОРМУЛЕ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S =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½ (a h</a:t>
            </a:r>
            <a:r>
              <a:rPr b="1" lang="en-US" sz="2800" spc="-1" strike="noStrike" baseline="-25000">
                <a:solidFill>
                  <a:srgbClr val="080808"/>
                </a:solidFill>
                <a:latin typeface="Arial"/>
                <a:ea typeface="Arial"/>
              </a:rPr>
              <a:t>a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79280" y="189000"/>
          <a:ext cx="574668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19000"/>
                <a:gridCol w="822240"/>
                <a:gridCol w="822240"/>
                <a:gridCol w="819360"/>
                <a:gridCol w="819000"/>
                <a:gridCol w="82224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031840" y="4024440"/>
            <a:ext cx="65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79280" y="155736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3040200" y="5465880"/>
            <a:ext cx="556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9280" y="292428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751120" y="5734080"/>
            <a:ext cx="578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79280" y="4292640"/>
          <a:ext cx="885672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19000"/>
                <a:gridCol w="822240"/>
                <a:gridCol w="822240"/>
                <a:gridCol w="822600"/>
                <a:gridCol w="822240"/>
                <a:gridCol w="822240"/>
                <a:gridCol w="822240"/>
                <a:gridCol w="819360"/>
                <a:gridCol w="819000"/>
                <a:gridCol w="64296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179280" y="5661000"/>
            <a:ext cx="8785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031840" y="4024440"/>
            <a:ext cx="65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79280" y="18900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3040200" y="5465880"/>
            <a:ext cx="556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79280" y="155736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751120" y="5734080"/>
            <a:ext cx="578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79280" y="2924280"/>
          <a:ext cx="885672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19000"/>
                <a:gridCol w="822240"/>
                <a:gridCol w="822240"/>
                <a:gridCol w="822600"/>
                <a:gridCol w="822240"/>
                <a:gridCol w="822240"/>
                <a:gridCol w="822240"/>
                <a:gridCol w="819360"/>
                <a:gridCol w="819000"/>
                <a:gridCol w="64296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179280" y="4292640"/>
          <a:ext cx="7417080" cy="1268280"/>
        </p:xfrm>
        <a:graphic>
          <a:graphicData uri="http://schemas.openxmlformats.org/drawingml/2006/table">
            <a:tbl>
              <a:tblPr/>
              <a:tblGrid>
                <a:gridCol w="836640"/>
                <a:gridCol w="838440"/>
                <a:gridCol w="836280"/>
                <a:gridCol w="836640"/>
                <a:gridCol w="838440"/>
                <a:gridCol w="836640"/>
                <a:gridCol w="833400"/>
                <a:gridCol w="834840"/>
                <a:gridCol w="72576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250920" y="566100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Arial"/>
              </a:rPr>
              <a:t>ВЫРАЖЕНИЕ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SIN</a:t>
            </a:r>
            <a:r>
              <a:rPr b="1" lang="en-US" sz="2800" spc="-1" strike="noStrike" baseline="30000">
                <a:solidFill>
                  <a:srgbClr val="080808"/>
                </a:solidFill>
                <a:latin typeface="Arial"/>
              </a:rPr>
              <a:t>2</a:t>
            </a:r>
            <a:r>
              <a:rPr b="1" lang="el-GR" sz="2800" spc="-1" strike="noStrike">
                <a:solidFill>
                  <a:srgbClr val="080808"/>
                </a:solidFill>
                <a:latin typeface="Arial"/>
                <a:ea typeface="Arial"/>
              </a:rPr>
              <a:t>α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+ COS</a:t>
            </a:r>
            <a:r>
              <a:rPr b="1" lang="en-US" sz="2800" spc="-1" strike="noStrike" baseline="30000">
                <a:solidFill>
                  <a:srgbClr val="080808"/>
                </a:solidFill>
                <a:latin typeface="Arial"/>
                <a:ea typeface="Arial"/>
              </a:rPr>
              <a:t>2</a:t>
            </a:r>
            <a:r>
              <a:rPr b="1" lang="el-GR" sz="2800" spc="-1" strike="noStrike">
                <a:solidFill>
                  <a:srgbClr val="080808"/>
                </a:solidFill>
                <a:latin typeface="Arial"/>
                <a:ea typeface="Arial"/>
              </a:rPr>
              <a:t>α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= 1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031840" y="4024440"/>
            <a:ext cx="65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79280" y="18900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3040200" y="5465880"/>
            <a:ext cx="556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79280" y="155736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2751120" y="5734080"/>
            <a:ext cx="578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9280" y="2924280"/>
          <a:ext cx="885672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19000"/>
                <a:gridCol w="822240"/>
                <a:gridCol w="822240"/>
                <a:gridCol w="822600"/>
                <a:gridCol w="822240"/>
                <a:gridCol w="822240"/>
                <a:gridCol w="822240"/>
                <a:gridCol w="819360"/>
                <a:gridCol w="819000"/>
                <a:gridCol w="64296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79280" y="4292640"/>
          <a:ext cx="7417080" cy="1268280"/>
        </p:xfrm>
        <a:graphic>
          <a:graphicData uri="http://schemas.openxmlformats.org/drawingml/2006/table">
            <a:tbl>
              <a:tblPr/>
              <a:tblGrid>
                <a:gridCol w="836640"/>
                <a:gridCol w="838440"/>
                <a:gridCol w="836280"/>
                <a:gridCol w="836640"/>
                <a:gridCol w="838440"/>
                <a:gridCol w="836640"/>
                <a:gridCol w="833400"/>
                <a:gridCol w="834840"/>
                <a:gridCol w="72576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250920" y="5661000"/>
            <a:ext cx="871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031840" y="4024440"/>
            <a:ext cx="65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3040200" y="5465880"/>
            <a:ext cx="556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79280" y="18900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2751120" y="5734080"/>
            <a:ext cx="578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79280" y="1557360"/>
          <a:ext cx="885672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19000"/>
                <a:gridCol w="822240"/>
                <a:gridCol w="822240"/>
                <a:gridCol w="822600"/>
                <a:gridCol w="822240"/>
                <a:gridCol w="822240"/>
                <a:gridCol w="822240"/>
                <a:gridCol w="819360"/>
                <a:gridCol w="819000"/>
                <a:gridCol w="64296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79280" y="2924280"/>
          <a:ext cx="7417080" cy="1268280"/>
        </p:xfrm>
        <a:graphic>
          <a:graphicData uri="http://schemas.openxmlformats.org/drawingml/2006/table">
            <a:tbl>
              <a:tblPr/>
              <a:tblGrid>
                <a:gridCol w="836640"/>
                <a:gridCol w="838440"/>
                <a:gridCol w="836280"/>
                <a:gridCol w="836640"/>
                <a:gridCol w="838440"/>
                <a:gridCol w="836640"/>
                <a:gridCol w="833400"/>
                <a:gridCol w="834840"/>
                <a:gridCol w="72576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50920" y="5661000"/>
            <a:ext cx="871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79280" y="4292640"/>
          <a:ext cx="328608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22240"/>
                <a:gridCol w="819000"/>
                <a:gridCol w="82224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179280" y="5445000"/>
            <a:ext cx="878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Arial"/>
              </a:rPr>
              <a:t>СТАРИННАЯ МЕРА ДЛИНЫ, РАВНАЯ ПРИМЕРНО 25 ММ. ЭТОЙ ЕДИНИЦЕЙ ИЗМЕРИЛ РОСТ СВОЕЙ ГЕРОИНИ Г.Х. АНДЕРСЕН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031840" y="4024440"/>
            <a:ext cx="65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3040200" y="5465880"/>
            <a:ext cx="556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79280" y="18900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2751120" y="5734080"/>
            <a:ext cx="578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79280" y="1557360"/>
          <a:ext cx="885672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19000"/>
                <a:gridCol w="822240"/>
                <a:gridCol w="822240"/>
                <a:gridCol w="822600"/>
                <a:gridCol w="822240"/>
                <a:gridCol w="822240"/>
                <a:gridCol w="822240"/>
                <a:gridCol w="819360"/>
                <a:gridCol w="819000"/>
                <a:gridCol w="64296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79280" y="2924280"/>
          <a:ext cx="7417080" cy="1268280"/>
        </p:xfrm>
        <a:graphic>
          <a:graphicData uri="http://schemas.openxmlformats.org/drawingml/2006/table">
            <a:tbl>
              <a:tblPr/>
              <a:tblGrid>
                <a:gridCol w="836640"/>
                <a:gridCol w="838440"/>
                <a:gridCol w="836280"/>
                <a:gridCol w="836640"/>
                <a:gridCol w="838440"/>
                <a:gridCol w="836640"/>
                <a:gridCol w="833400"/>
                <a:gridCol w="834840"/>
                <a:gridCol w="72576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826920" y="5805360"/>
            <a:ext cx="871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79280" y="4292640"/>
          <a:ext cx="328608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22240"/>
                <a:gridCol w="819000"/>
                <a:gridCol w="82224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031840" y="4024440"/>
            <a:ext cx="65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3040200" y="5465880"/>
            <a:ext cx="556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2751120" y="5734080"/>
            <a:ext cx="578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79280" y="189000"/>
          <a:ext cx="885672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19000"/>
                <a:gridCol w="822240"/>
                <a:gridCol w="822240"/>
                <a:gridCol w="822600"/>
                <a:gridCol w="822240"/>
                <a:gridCol w="822240"/>
                <a:gridCol w="822240"/>
                <a:gridCol w="819360"/>
                <a:gridCol w="819000"/>
                <a:gridCol w="64296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79280" y="1557360"/>
          <a:ext cx="7417080" cy="1268280"/>
        </p:xfrm>
        <a:graphic>
          <a:graphicData uri="http://schemas.openxmlformats.org/drawingml/2006/table">
            <a:tbl>
              <a:tblPr/>
              <a:tblGrid>
                <a:gridCol w="836640"/>
                <a:gridCol w="838440"/>
                <a:gridCol w="836280"/>
                <a:gridCol w="836640"/>
                <a:gridCol w="838440"/>
                <a:gridCol w="836640"/>
                <a:gridCol w="833400"/>
                <a:gridCol w="834840"/>
                <a:gridCol w="72576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826920" y="5805360"/>
            <a:ext cx="871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08000" y="2997360"/>
          <a:ext cx="3178080" cy="1239840"/>
        </p:xfrm>
        <a:graphic>
          <a:graphicData uri="http://schemas.openxmlformats.org/drawingml/2006/table">
            <a:tbl>
              <a:tblPr/>
              <a:tblGrid>
                <a:gridCol w="714240"/>
                <a:gridCol w="822240"/>
                <a:gridCol w="819360"/>
                <a:gridCol w="82224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3397320" y="2997360"/>
          <a:ext cx="5638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600"/>
                <a:gridCol w="822240"/>
                <a:gridCol w="819000"/>
                <a:gridCol w="819360"/>
                <a:gridCol w="71424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79280" y="4581360"/>
            <a:ext cx="885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Arial"/>
              </a:rPr>
              <a:t>ДРЕВНЕГРЕЧЕСКИЙ УЧЁНЫЙ, КОТОРЫЙ ПОГРУЗИВШИСЬ В ВАННУ ВОСКЛИКНУЛ: «ЭВРИКА!» И ОТКРЫЛ ИЗВЕСТНЫЙ В ФИЗИКЕ ЗАКОН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031840" y="4024440"/>
            <a:ext cx="65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3040200" y="5465880"/>
            <a:ext cx="556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2751120" y="5734080"/>
            <a:ext cx="578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79280" y="189000"/>
          <a:ext cx="885672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19000"/>
                <a:gridCol w="822240"/>
                <a:gridCol w="822240"/>
                <a:gridCol w="822600"/>
                <a:gridCol w="822240"/>
                <a:gridCol w="822240"/>
                <a:gridCol w="822240"/>
                <a:gridCol w="819360"/>
                <a:gridCol w="819000"/>
                <a:gridCol w="64296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179280" y="1557360"/>
          <a:ext cx="7417080" cy="1268280"/>
        </p:xfrm>
        <a:graphic>
          <a:graphicData uri="http://schemas.openxmlformats.org/drawingml/2006/table">
            <a:tbl>
              <a:tblPr/>
              <a:tblGrid>
                <a:gridCol w="836640"/>
                <a:gridCol w="838440"/>
                <a:gridCol w="836280"/>
                <a:gridCol w="836640"/>
                <a:gridCol w="838440"/>
                <a:gridCol w="836640"/>
                <a:gridCol w="833400"/>
                <a:gridCol w="834840"/>
                <a:gridCol w="72576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826920" y="5805360"/>
            <a:ext cx="871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8000" y="2997360"/>
          <a:ext cx="3178080" cy="1239840"/>
        </p:xfrm>
        <a:graphic>
          <a:graphicData uri="http://schemas.openxmlformats.org/drawingml/2006/table">
            <a:tbl>
              <a:tblPr/>
              <a:tblGrid>
                <a:gridCol w="714240"/>
                <a:gridCol w="822240"/>
                <a:gridCol w="819360"/>
                <a:gridCol w="82224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397320" y="2997360"/>
          <a:ext cx="5638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600"/>
                <a:gridCol w="822240"/>
                <a:gridCol w="819000"/>
                <a:gridCol w="819360"/>
                <a:gridCol w="71424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461440" y="563256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8029440" y="563256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7596360" y="5632560"/>
            <a:ext cx="4330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7164360" y="563256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6732720" y="563256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6300720" y="563256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5869080" y="563256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5435640" y="5632560"/>
            <a:ext cx="433440" cy="7491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5003640" y="5661000"/>
            <a:ext cx="432000" cy="749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563256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4140360" y="563256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Ю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3708360" y="563256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3274920" y="5632560"/>
            <a:ext cx="4334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2843280" y="563256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2411280" y="563256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1979640" y="563256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1547640" y="563256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>
            <a:off x="1114560" y="5632560"/>
            <a:ext cx="4330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684360" y="566100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50920" y="5661000"/>
            <a:ext cx="431640" cy="7491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8461440" y="4883040"/>
            <a:ext cx="4316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8029440" y="4883040"/>
            <a:ext cx="4320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7596360" y="4883040"/>
            <a:ext cx="43308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"/>
          <p:cNvSpPr/>
          <p:nvPr/>
        </p:nvSpPr>
        <p:spPr>
          <a:xfrm>
            <a:off x="7164360" y="4883040"/>
            <a:ext cx="432000" cy="749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"/>
          <p:cNvSpPr/>
          <p:nvPr/>
        </p:nvSpPr>
        <p:spPr>
          <a:xfrm>
            <a:off x="6732720" y="4883040"/>
            <a:ext cx="4316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6300720" y="4883040"/>
            <a:ext cx="4320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5869080" y="4883040"/>
            <a:ext cx="4316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5435640" y="4883040"/>
            <a:ext cx="4334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5003640" y="4883040"/>
            <a:ext cx="4320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4883040"/>
            <a:ext cx="431640" cy="749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4140360" y="4883040"/>
            <a:ext cx="4316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3708360" y="4883040"/>
            <a:ext cx="4320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3274920" y="4883040"/>
            <a:ext cx="433440" cy="749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"/>
          <p:cNvSpPr/>
          <p:nvPr/>
        </p:nvSpPr>
        <p:spPr>
          <a:xfrm>
            <a:off x="2843280" y="4883040"/>
            <a:ext cx="4316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2411280" y="4883040"/>
            <a:ext cx="4320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883040"/>
            <a:ext cx="4316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1547640" y="4883040"/>
            <a:ext cx="432000" cy="749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1114560" y="4883040"/>
            <a:ext cx="43308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682560" y="4883040"/>
            <a:ext cx="4320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4883040"/>
            <a:ext cx="4316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8461440" y="4135320"/>
            <a:ext cx="4316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>
            <a:off x="8029440" y="4135320"/>
            <a:ext cx="4320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7596360" y="4135320"/>
            <a:ext cx="433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7164360" y="4135320"/>
            <a:ext cx="4320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6732720" y="4135320"/>
            <a:ext cx="4316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4135320"/>
            <a:ext cx="4320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5869080" y="4135320"/>
            <a:ext cx="4316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"/>
          <p:cNvSpPr/>
          <p:nvPr/>
        </p:nvSpPr>
        <p:spPr>
          <a:xfrm>
            <a:off x="5435640" y="4135320"/>
            <a:ext cx="4334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" name=""/>
          <p:cNvSpPr/>
          <p:nvPr/>
        </p:nvSpPr>
        <p:spPr>
          <a:xfrm>
            <a:off x="5003640" y="4135320"/>
            <a:ext cx="432000" cy="747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35320"/>
            <a:ext cx="4316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4140360" y="4135320"/>
            <a:ext cx="4316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>
            <a:off x="3708360" y="4135320"/>
            <a:ext cx="4320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3274920" y="4135320"/>
            <a:ext cx="4334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2843280" y="4135320"/>
            <a:ext cx="4316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2411280" y="4135320"/>
            <a:ext cx="4320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1979640" y="4135320"/>
            <a:ext cx="431640" cy="747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1547640" y="4135320"/>
            <a:ext cx="4320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" name=""/>
          <p:cNvSpPr/>
          <p:nvPr/>
        </p:nvSpPr>
        <p:spPr>
          <a:xfrm>
            <a:off x="1114560" y="4135320"/>
            <a:ext cx="433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" name=""/>
          <p:cNvSpPr/>
          <p:nvPr/>
        </p:nvSpPr>
        <p:spPr>
          <a:xfrm>
            <a:off x="682560" y="4135320"/>
            <a:ext cx="4320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"/>
          <p:cNvSpPr/>
          <p:nvPr/>
        </p:nvSpPr>
        <p:spPr>
          <a:xfrm>
            <a:off x="250920" y="4135320"/>
            <a:ext cx="4316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8" name=""/>
          <p:cNvSpPr/>
          <p:nvPr/>
        </p:nvSpPr>
        <p:spPr>
          <a:xfrm>
            <a:off x="8461440" y="338616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"/>
          <p:cNvSpPr/>
          <p:nvPr/>
        </p:nvSpPr>
        <p:spPr>
          <a:xfrm>
            <a:off x="8029440" y="338616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3386160"/>
            <a:ext cx="4330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7164360" y="338616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6732720" y="338616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6300720" y="338616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5869080" y="338616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5435640" y="3386160"/>
            <a:ext cx="4334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5003640" y="3386160"/>
            <a:ext cx="432000" cy="7491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38616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4140360" y="338616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3708360" y="338616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Ю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"/>
          <p:cNvSpPr/>
          <p:nvPr/>
        </p:nvSpPr>
        <p:spPr>
          <a:xfrm>
            <a:off x="3274920" y="3386160"/>
            <a:ext cx="4334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2843280" y="3386160"/>
            <a:ext cx="431640" cy="7491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2411280" y="338616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1979640" y="338616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" name=""/>
          <p:cNvSpPr/>
          <p:nvPr/>
        </p:nvSpPr>
        <p:spPr>
          <a:xfrm>
            <a:off x="1547640" y="338616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1114560" y="3386160"/>
            <a:ext cx="4330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"/>
          <p:cNvSpPr/>
          <p:nvPr/>
        </p:nvSpPr>
        <p:spPr>
          <a:xfrm>
            <a:off x="682560" y="338616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250920" y="338616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8461440" y="263700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9" name=""/>
          <p:cNvSpPr/>
          <p:nvPr/>
        </p:nvSpPr>
        <p:spPr>
          <a:xfrm>
            <a:off x="8029440" y="263700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7596360" y="2637000"/>
            <a:ext cx="4330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7164360" y="263700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6732720" y="263700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6300720" y="263700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5869080" y="263700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5" name=""/>
          <p:cNvSpPr/>
          <p:nvPr/>
        </p:nvSpPr>
        <p:spPr>
          <a:xfrm>
            <a:off x="5435640" y="2637000"/>
            <a:ext cx="4334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"/>
          <p:cNvSpPr/>
          <p:nvPr/>
        </p:nvSpPr>
        <p:spPr>
          <a:xfrm>
            <a:off x="5003640" y="263700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0" y="263700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"/>
          <p:cNvSpPr/>
          <p:nvPr/>
        </p:nvSpPr>
        <p:spPr>
          <a:xfrm>
            <a:off x="4140360" y="263700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9" name=""/>
          <p:cNvSpPr/>
          <p:nvPr/>
        </p:nvSpPr>
        <p:spPr>
          <a:xfrm>
            <a:off x="3708360" y="263700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0" name=""/>
          <p:cNvSpPr/>
          <p:nvPr/>
        </p:nvSpPr>
        <p:spPr>
          <a:xfrm>
            <a:off x="3274920" y="2637000"/>
            <a:ext cx="4334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«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1" name=""/>
          <p:cNvSpPr/>
          <p:nvPr/>
        </p:nvSpPr>
        <p:spPr>
          <a:xfrm>
            <a:off x="2843280" y="263700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2411280" y="263700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3" name=""/>
          <p:cNvSpPr/>
          <p:nvPr/>
        </p:nvSpPr>
        <p:spPr>
          <a:xfrm>
            <a:off x="1979640" y="263700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1547640" y="263700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>
            <a:off x="1114560" y="2637000"/>
            <a:ext cx="4330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682560" y="263700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>
            <a:off x="250920" y="263700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>
            <a:off x="250920" y="3386160"/>
            <a:ext cx="2592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9" name=""/>
          <p:cNvSpPr/>
          <p:nvPr/>
        </p:nvSpPr>
        <p:spPr>
          <a:xfrm>
            <a:off x="250920" y="4135320"/>
            <a:ext cx="1728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0920" y="4883040"/>
            <a:ext cx="1296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250920" y="5632560"/>
            <a:ext cx="1296720" cy="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82560" y="2637000"/>
            <a:ext cx="0" cy="2995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1114560" y="2637000"/>
            <a:ext cx="0" cy="2995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1547640" y="2637000"/>
            <a:ext cx="0" cy="2246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979640" y="2637000"/>
            <a:ext cx="0" cy="1498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2411280" y="2637000"/>
            <a:ext cx="0" cy="1498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2843280" y="2637000"/>
            <a:ext cx="0" cy="749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3274920" y="2637000"/>
            <a:ext cx="0" cy="74916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>
            <a:off x="3708360" y="2637000"/>
            <a:ext cx="0" cy="374472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4140360" y="2637000"/>
            <a:ext cx="0" cy="374472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0" y="2637000"/>
            <a:ext cx="0" cy="374472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3" name=""/>
          <p:cNvSpPr/>
          <p:nvPr/>
        </p:nvSpPr>
        <p:spPr>
          <a:xfrm>
            <a:off x="5003640" y="2637000"/>
            <a:ext cx="0" cy="374472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5435640" y="2637000"/>
            <a:ext cx="0" cy="374472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"/>
          <p:cNvSpPr/>
          <p:nvPr/>
        </p:nvSpPr>
        <p:spPr>
          <a:xfrm>
            <a:off x="5869080" y="2637000"/>
            <a:ext cx="0" cy="74916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"/>
          <p:cNvSpPr/>
          <p:nvPr/>
        </p:nvSpPr>
        <p:spPr>
          <a:xfrm>
            <a:off x="6300720" y="2637000"/>
            <a:ext cx="0" cy="749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"/>
          <p:cNvSpPr/>
          <p:nvPr/>
        </p:nvSpPr>
        <p:spPr>
          <a:xfrm>
            <a:off x="6732720" y="2637000"/>
            <a:ext cx="0" cy="1498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7164360" y="2637000"/>
            <a:ext cx="0" cy="1498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7596360" y="2637000"/>
            <a:ext cx="0" cy="2246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"/>
          <p:cNvSpPr/>
          <p:nvPr/>
        </p:nvSpPr>
        <p:spPr>
          <a:xfrm>
            <a:off x="8029440" y="2637000"/>
            <a:ext cx="0" cy="2995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8461440" y="2637000"/>
            <a:ext cx="0" cy="2995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"/>
          <p:cNvSpPr/>
          <p:nvPr/>
        </p:nvSpPr>
        <p:spPr>
          <a:xfrm>
            <a:off x="250920" y="5632560"/>
            <a:ext cx="0" cy="74916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8893080" y="5632560"/>
            <a:ext cx="0" cy="74916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"/>
          <p:cNvSpPr/>
          <p:nvPr/>
        </p:nvSpPr>
        <p:spPr>
          <a:xfrm>
            <a:off x="7596360" y="5632560"/>
            <a:ext cx="1296720" cy="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>
            <a:off x="7596360" y="4883040"/>
            <a:ext cx="0" cy="74952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6" name=""/>
          <p:cNvSpPr/>
          <p:nvPr/>
        </p:nvSpPr>
        <p:spPr>
          <a:xfrm>
            <a:off x="7596360" y="5632560"/>
            <a:ext cx="0" cy="74916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7164360" y="4883040"/>
            <a:ext cx="432000" cy="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7596360" y="4883040"/>
            <a:ext cx="1296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9" name=""/>
          <p:cNvSpPr/>
          <p:nvPr/>
        </p:nvSpPr>
        <p:spPr>
          <a:xfrm>
            <a:off x="7164360" y="4135320"/>
            <a:ext cx="0" cy="74772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7164360" y="4883040"/>
            <a:ext cx="0" cy="149868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1" name=""/>
          <p:cNvSpPr/>
          <p:nvPr/>
        </p:nvSpPr>
        <p:spPr>
          <a:xfrm>
            <a:off x="6300720" y="4135320"/>
            <a:ext cx="863640" cy="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7164360" y="4135320"/>
            <a:ext cx="1728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3" name=""/>
          <p:cNvSpPr/>
          <p:nvPr/>
        </p:nvSpPr>
        <p:spPr>
          <a:xfrm>
            <a:off x="6300720" y="3386160"/>
            <a:ext cx="0" cy="74916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6300720" y="4135320"/>
            <a:ext cx="0" cy="224640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5869080" y="3386160"/>
            <a:ext cx="431640" cy="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6300720" y="3386160"/>
            <a:ext cx="2592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5869080" y="3386160"/>
            <a:ext cx="0" cy="299556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274920" y="2637000"/>
            <a:ext cx="2594160" cy="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3274920" y="3386160"/>
            <a:ext cx="0" cy="299556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"/>
          <p:cNvSpPr/>
          <p:nvPr/>
        </p:nvSpPr>
        <p:spPr>
          <a:xfrm>
            <a:off x="2843280" y="3386160"/>
            <a:ext cx="431640" cy="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274920" y="3386160"/>
            <a:ext cx="259416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2843280" y="3386160"/>
            <a:ext cx="0" cy="74916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3" name=""/>
          <p:cNvSpPr/>
          <p:nvPr/>
        </p:nvSpPr>
        <p:spPr>
          <a:xfrm>
            <a:off x="2843280" y="4135320"/>
            <a:ext cx="0" cy="224640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4" name=""/>
          <p:cNvSpPr/>
          <p:nvPr/>
        </p:nvSpPr>
        <p:spPr>
          <a:xfrm>
            <a:off x="2843280" y="4135320"/>
            <a:ext cx="345744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5" name=""/>
          <p:cNvSpPr/>
          <p:nvPr/>
        </p:nvSpPr>
        <p:spPr>
          <a:xfrm>
            <a:off x="2411280" y="4135320"/>
            <a:ext cx="0" cy="224640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1547640" y="5632560"/>
            <a:ext cx="604872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7" name=""/>
          <p:cNvSpPr/>
          <p:nvPr/>
        </p:nvSpPr>
        <p:spPr>
          <a:xfrm>
            <a:off x="1547640" y="4883040"/>
            <a:ext cx="0" cy="74952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1547640" y="5632560"/>
            <a:ext cx="0" cy="74916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1547640" y="4883040"/>
            <a:ext cx="432000" cy="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0" name=""/>
          <p:cNvSpPr/>
          <p:nvPr/>
        </p:nvSpPr>
        <p:spPr>
          <a:xfrm>
            <a:off x="1979640" y="4135320"/>
            <a:ext cx="0" cy="74772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1" name=""/>
          <p:cNvSpPr/>
          <p:nvPr/>
        </p:nvSpPr>
        <p:spPr>
          <a:xfrm>
            <a:off x="1979640" y="4883040"/>
            <a:ext cx="0" cy="149868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1979640" y="4135320"/>
            <a:ext cx="863640" cy="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"/>
          <p:cNvSpPr/>
          <p:nvPr/>
        </p:nvSpPr>
        <p:spPr>
          <a:xfrm>
            <a:off x="1979640" y="4883040"/>
            <a:ext cx="518472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4" name=""/>
          <p:cNvSpPr/>
          <p:nvPr/>
        </p:nvSpPr>
        <p:spPr>
          <a:xfrm>
            <a:off x="682560" y="5632560"/>
            <a:ext cx="0" cy="74916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5" name=""/>
          <p:cNvSpPr/>
          <p:nvPr/>
        </p:nvSpPr>
        <p:spPr>
          <a:xfrm>
            <a:off x="1114560" y="5632560"/>
            <a:ext cx="0" cy="74916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6" name=""/>
          <p:cNvSpPr/>
          <p:nvPr/>
        </p:nvSpPr>
        <p:spPr>
          <a:xfrm>
            <a:off x="6732720" y="4135320"/>
            <a:ext cx="0" cy="224640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7" name=""/>
          <p:cNvSpPr/>
          <p:nvPr/>
        </p:nvSpPr>
        <p:spPr>
          <a:xfrm>
            <a:off x="8029440" y="5632560"/>
            <a:ext cx="0" cy="74916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8461440" y="5632560"/>
            <a:ext cx="0" cy="74916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9" name=""/>
          <p:cNvSpPr/>
          <p:nvPr/>
        </p:nvSpPr>
        <p:spPr>
          <a:xfrm>
            <a:off x="250920" y="2637000"/>
            <a:ext cx="302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0" name=""/>
          <p:cNvSpPr/>
          <p:nvPr/>
        </p:nvSpPr>
        <p:spPr>
          <a:xfrm>
            <a:off x="250920" y="2637000"/>
            <a:ext cx="0" cy="2995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869080" y="2637000"/>
            <a:ext cx="302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2" name=""/>
          <p:cNvSpPr/>
          <p:nvPr/>
        </p:nvSpPr>
        <p:spPr>
          <a:xfrm>
            <a:off x="8893080" y="2637000"/>
            <a:ext cx="0" cy="2995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3708360" y="907920"/>
            <a:ext cx="179856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500"/>
                            </p:stCondLst>
                            <p:childTnLst>
                              <p:par>
                                <p:cTn id="3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500"/>
                            </p:stCondLst>
                            <p:childTnLst>
                              <p:par>
                                <p:cTn id="3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000"/>
                            </p:stCondLst>
                            <p:childTnLst>
                              <p:par>
                                <p:cTn id="31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500"/>
                            </p:stCondLst>
                            <p:childTnLst>
                              <p:par>
                                <p:cTn id="32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000"/>
                            </p:stCondLst>
                            <p:childTnLst>
                              <p:par>
                                <p:cTn id="32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500"/>
                            </p:stCondLst>
                            <p:childTnLst>
                              <p:par>
                                <p:cTn id="33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8000"/>
                            </p:stCondLst>
                            <p:childTnLst>
                              <p:par>
                                <p:cTn id="3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8500"/>
                            </p:stCondLst>
                            <p:childTnLst>
                              <p:par>
                                <p:cTn id="34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9000"/>
                            </p:stCondLst>
                            <p:childTnLst>
                              <p:par>
                                <p:cTn id="34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9500"/>
                            </p:stCondLst>
                            <p:childTnLst>
                              <p:par>
                                <p:cTn id="3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1500"/>
                            </p:stCondLst>
                            <p:childTnLst>
                              <p:par>
                                <p:cTn id="3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3500"/>
                            </p:stCondLst>
                            <p:childTnLst>
                              <p:par>
                                <p:cTn id="39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4500"/>
                            </p:stCondLst>
                            <p:childTnLst>
                              <p:par>
                                <p:cTn id="40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5000"/>
                            </p:stCondLst>
                            <p:childTnLst>
                              <p:par>
                                <p:cTn id="40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5500"/>
                            </p:stCondLst>
                            <p:childTnLst>
                              <p:par>
                                <p:cTn id="41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41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6500"/>
                            </p:stCondLst>
                            <p:childTnLst>
                              <p:par>
                                <p:cTn id="42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7000"/>
                            </p:stCondLst>
                            <p:childTnLst>
                              <p:par>
                                <p:cTn id="4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7500"/>
                            </p:stCondLst>
                            <p:childTnLst>
                              <p:par>
                                <p:cTn id="43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8000"/>
                            </p:stCondLst>
                            <p:childTnLst>
                              <p:par>
                                <p:cTn id="43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8500"/>
                            </p:stCondLst>
                            <p:childTnLst>
                              <p:par>
                                <p:cTn id="44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9000"/>
                            </p:stCondLst>
                            <p:childTnLst>
                              <p:par>
                                <p:cTn id="4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9500"/>
                            </p:stCondLst>
                            <p:childTnLst>
                              <p:par>
                                <p:cTn id="45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0"/>
                            </p:stCondLst>
                            <p:childTnLst>
                              <p:par>
                                <p:cTn id="45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500"/>
                            </p:stCondLst>
                            <p:childTnLst>
                              <p:par>
                                <p:cTn id="46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1000"/>
                            </p:stCondLst>
                            <p:childTnLst>
                              <p:par>
                                <p:cTn id="46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1500"/>
                            </p:stCondLst>
                            <p:childTnLst>
                              <p:par>
                                <p:cTn id="47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2000"/>
                            </p:stCondLst>
                            <p:childTnLst>
                              <p:par>
                                <p:cTn id="47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8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3000"/>
                            </p:stCondLst>
                            <p:childTnLst>
                              <p:par>
                                <p:cTn id="4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3500"/>
                            </p:stCondLst>
                            <p:childTnLst>
                              <p:par>
                                <p:cTn id="49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4000"/>
                            </p:stCondLst>
                            <p:childTnLst>
                              <p:par>
                                <p:cTn id="49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4500"/>
                            </p:stCondLst>
                            <p:childTnLst>
                              <p:par>
                                <p:cTn id="50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250920" y="2637000"/>
          <a:ext cx="8642160" cy="3744720"/>
        </p:xfrm>
        <a:graphic>
          <a:graphicData uri="http://schemas.openxmlformats.org/drawingml/2006/table">
            <a:tbl>
              <a:tblPr/>
              <a:tblGrid>
                <a:gridCol w="431640"/>
                <a:gridCol w="432000"/>
                <a:gridCol w="433080"/>
                <a:gridCol w="432000"/>
                <a:gridCol w="431640"/>
                <a:gridCol w="432000"/>
                <a:gridCol w="431640"/>
                <a:gridCol w="433440"/>
                <a:gridCol w="432000"/>
                <a:gridCol w="431640"/>
                <a:gridCol w="431640"/>
                <a:gridCol w="432000"/>
                <a:gridCol w="433440"/>
                <a:gridCol w="431640"/>
                <a:gridCol w="432000"/>
                <a:gridCol w="431640"/>
                <a:gridCol w="432000"/>
                <a:gridCol w="433080"/>
                <a:gridCol w="432000"/>
                <a:gridCol w="431640"/>
              </a:tblGrid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080808"/>
                      </a:solidFill>
                    </a:lnR>
                    <a:lnT>
                      <a:noFill/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80808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080808"/>
                      </a:solidFill>
                    </a:lnR>
                    <a:lnT>
                      <a:noFill/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80808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080808"/>
                      </a:solidFill>
                    </a:lnR>
                    <a:lnT>
                      <a:noFill/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80808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080808"/>
                      </a:solidFill>
                    </a:lnR>
                    <a:lnT>
                      <a:noFill/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80808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708360" y="907920"/>
            <a:ext cx="179856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omic Sans MS"/>
              </a:rPr>
              <a:t>ТЕОРЕТИЧЕСКАЯ РАЗМИН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24000" y="1125000"/>
            <a:ext cx="842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cc"/>
                </a:solidFill>
                <a:latin typeface="Comic Sans MS"/>
              </a:rPr>
              <a:t>К уро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cc"/>
                </a:solidFill>
                <a:latin typeface="Comic Sans MS"/>
              </a:rPr>
              <a:t>«Восхождение на математический Олимп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cc"/>
                </a:solidFill>
                <a:latin typeface="Comic Sans MS"/>
              </a:rPr>
              <a:t>по тем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cc"/>
                </a:solidFill>
                <a:latin typeface="Comic Sans MS"/>
              </a:rPr>
              <a:t>«Соотношения между сторонами и углами треугольник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cc"/>
                </a:solidFill>
                <a:latin typeface="Comic Sans MS"/>
              </a:rPr>
              <a:t>Учитель МБОУ СОШ № 2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cc"/>
                </a:solidFill>
                <a:latin typeface="Comic Sans MS"/>
              </a:rPr>
              <a:t>г. Мытищи Московской обла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cc"/>
                </a:solidFill>
                <a:latin typeface="Comic Sans MS"/>
              </a:rPr>
              <a:t>Обухова Ольга Викторо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179280" y="189000"/>
          <a:ext cx="4105440" cy="1239840"/>
        </p:xfrm>
        <a:graphic>
          <a:graphicData uri="http://schemas.openxmlformats.org/drawingml/2006/table">
            <a:tbl>
              <a:tblPr/>
              <a:tblGrid>
                <a:gridCol w="821520"/>
                <a:gridCol w="820080"/>
                <a:gridCol w="821880"/>
                <a:gridCol w="820440"/>
                <a:gridCol w="82152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179280" y="148428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НОШЕНИЕ ПРОТИВОЛЕЖАЩЕГО КАТЕТА К ГИПОТЕНУЗЕ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79280" y="189000"/>
          <a:ext cx="4105440" cy="1239840"/>
        </p:xfrm>
        <a:graphic>
          <a:graphicData uri="http://schemas.openxmlformats.org/drawingml/2006/table">
            <a:tbl>
              <a:tblPr/>
              <a:tblGrid>
                <a:gridCol w="821520"/>
                <a:gridCol w="820080"/>
                <a:gridCol w="821880"/>
                <a:gridCol w="820440"/>
                <a:gridCol w="82152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79280" y="189000"/>
          <a:ext cx="4105440" cy="1239840"/>
        </p:xfrm>
        <a:graphic>
          <a:graphicData uri="http://schemas.openxmlformats.org/drawingml/2006/table">
            <a:tbl>
              <a:tblPr/>
              <a:tblGrid>
                <a:gridCol w="821520"/>
                <a:gridCol w="820080"/>
                <a:gridCol w="821880"/>
                <a:gridCol w="820440"/>
                <a:gridCol w="82152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179280" y="155736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360"/>
                <a:gridCol w="822240"/>
                <a:gridCol w="822240"/>
                <a:gridCol w="819360"/>
                <a:gridCol w="819000"/>
                <a:gridCol w="82224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2031840" y="4024440"/>
            <a:ext cx="65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2924280"/>
            <a:ext cx="878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Arial"/>
              </a:rPr>
              <a:t>ТО, ЧТО ВЫРАЖАЕТ ТЕОРЕМА: «ЕСЛИ ДВА УГЛА ОДНОГО ТРЕУГОЛЬНИКА СООТВЕТСТВЕННО РАВНЫ ДВУМ УГЛАМ ДРУГОГО ТРЕУГОЛЬНИКА, ТО ТАКИЕ ТРЕУГОЛЬНИКИ ПОДОБНЫ»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79280" y="189000"/>
          <a:ext cx="4105440" cy="1239840"/>
        </p:xfrm>
        <a:graphic>
          <a:graphicData uri="http://schemas.openxmlformats.org/drawingml/2006/table">
            <a:tbl>
              <a:tblPr/>
              <a:tblGrid>
                <a:gridCol w="821520"/>
                <a:gridCol w="820080"/>
                <a:gridCol w="821880"/>
                <a:gridCol w="820440"/>
                <a:gridCol w="82152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179280" y="1557360"/>
          <a:ext cx="574668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19000"/>
                <a:gridCol w="822240"/>
                <a:gridCol w="822240"/>
                <a:gridCol w="819360"/>
                <a:gridCol w="819000"/>
                <a:gridCol w="82224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2031840" y="4024440"/>
            <a:ext cx="65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79280" y="189000"/>
          <a:ext cx="4105440" cy="1239840"/>
        </p:xfrm>
        <a:graphic>
          <a:graphicData uri="http://schemas.openxmlformats.org/drawingml/2006/table">
            <a:tbl>
              <a:tblPr/>
              <a:tblGrid>
                <a:gridCol w="821520"/>
                <a:gridCol w="820080"/>
                <a:gridCol w="821880"/>
                <a:gridCol w="820440"/>
                <a:gridCol w="82152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79280" y="1557360"/>
          <a:ext cx="574668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19000"/>
                <a:gridCol w="822240"/>
                <a:gridCol w="822240"/>
                <a:gridCol w="819360"/>
                <a:gridCol w="819000"/>
                <a:gridCol w="82224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2031840" y="4024440"/>
            <a:ext cx="65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79280" y="292428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3040200" y="5465880"/>
            <a:ext cx="556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4241880"/>
            <a:ext cx="878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НОШЕНИЕ ПРИЛЕЖАЩЕГО КАТЕТА К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ПОТЕНУЗЕ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179280" y="189000"/>
          <a:ext cx="4105440" cy="1239840"/>
        </p:xfrm>
        <a:graphic>
          <a:graphicData uri="http://schemas.openxmlformats.org/drawingml/2006/table">
            <a:tbl>
              <a:tblPr/>
              <a:tblGrid>
                <a:gridCol w="821520"/>
                <a:gridCol w="820080"/>
                <a:gridCol w="821880"/>
                <a:gridCol w="820440"/>
                <a:gridCol w="82152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79280" y="1557360"/>
          <a:ext cx="574668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19000"/>
                <a:gridCol w="822240"/>
                <a:gridCol w="822240"/>
                <a:gridCol w="819360"/>
                <a:gridCol w="819000"/>
                <a:gridCol w="82224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2031840" y="4024440"/>
            <a:ext cx="65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79280" y="292428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3040200" y="5465880"/>
            <a:ext cx="556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79280" y="189000"/>
          <a:ext cx="4105440" cy="1239840"/>
        </p:xfrm>
        <a:graphic>
          <a:graphicData uri="http://schemas.openxmlformats.org/drawingml/2006/table">
            <a:tbl>
              <a:tblPr/>
              <a:tblGrid>
                <a:gridCol w="821520"/>
                <a:gridCol w="820080"/>
                <a:gridCol w="821880"/>
                <a:gridCol w="820440"/>
                <a:gridCol w="82152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79280" y="1557360"/>
          <a:ext cx="574668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19000"/>
                <a:gridCol w="822240"/>
                <a:gridCol w="822240"/>
                <a:gridCol w="819360"/>
                <a:gridCol w="819000"/>
                <a:gridCol w="82224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2031840" y="4024440"/>
            <a:ext cx="65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79280" y="292428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3040200" y="5465880"/>
            <a:ext cx="556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9280" y="429264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2751120" y="5734080"/>
            <a:ext cx="578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" y="5681520"/>
            <a:ext cx="84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НОШЕНИЕ ПРОТИВОЛЕЖАЩЕГО КАТЕТА К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ЛЕЖАЩЕМУ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10:06:35Z</dcterms:created>
  <dc:creator>Обухова Ольга</dc:creator>
  <dc:description/>
  <dc:language>en-US</dc:language>
  <cp:lastModifiedBy>Обухова Ольга</cp:lastModifiedBy>
  <dcterms:modified xsi:type="dcterms:W3CDTF">2012-03-28T20:41:16Z</dcterms:modified>
  <cp:revision>14</cp:revision>
  <dc:subject/>
  <dc:title>ТЕОРЕТИЧЕСКАЯ РАЗМИН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