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E36D-B611-40EA-8EBB-BD5FB606C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4D5D-E86C-4A5D-A499-ED431712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0887-EC7C-432E-851E-62971C131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884D-1A2F-403D-ACFB-3D8103BA0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AE250-AD84-401E-B2EE-FA21E0C6E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D9C5-24E0-4F20-BC7C-C512F742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DBEAA-098F-4285-894C-573D7C39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1414-C492-4459-8968-29E93286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2F8D-57A0-45E7-B143-7ABF8EEF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2791-A72F-41B2-8797-02D86ADC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17AA-7D8A-4419-9D13-29CD72E9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6DE6-F09A-4EB1-9C66-4717014C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172D-63AF-4A33-9865-501FA5F5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35D4-9A7D-4025-A377-37A10B7C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E998-5998-4668-97AA-38F553EE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2708-6DFA-4A4B-95C2-04733A53F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759A-484F-4E8B-A78B-0B8561590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5539-C0F4-418C-BCC2-DA4D9FCD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C755-C098-4A5C-B6A1-BCEB2829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24D1-3806-401C-ABC9-60AD80EC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6802-A69B-405A-905A-E7897BAB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B7AA-1074-43DD-95E4-550775AF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E27A-7057-40E1-9BAA-E24AF049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5A51-4114-4277-8D7D-488B3AAC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D7A4-A813-4D95-BAAE-59470CBE95C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9561-B1F4-43DC-99A4-86977840CC3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omic Sans MS"/>
              </a:rPr>
              <a:t>ТЕОРЕТИЧЕСКАЯ РАЗМИН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4000" y="1125000"/>
            <a:ext cx="8424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ff"/>
                </a:solidFill>
                <a:latin typeface="Comic Sans MS"/>
              </a:rPr>
              <a:t>ДРЕВНЕГРЕЧЕСКИЙ ФИЛОСОФ ОСНОВАЛ В АФИНАХ СОБСТВЕННУЮ ШКОЛУ – АКАДЕМИЮ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ВВЁЛ МАТЕМАТИКУ В ЧИСЛ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ПРЕДМЕТОВ ПРЕПОДАВАНИЯ;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Comic Sans MS"/>
              </a:rPr>
              <a:t>ОСНОВАЛ ЛОГИЧЕСКИЙ МЕТОД РАССУЖДЕНИЯ ОТ ПРОТИВНОГО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omic Sans MS"/>
              </a:rPr>
              <a:t>УДЕЛЯЛ БОЛЬШОЕ ВНИМАНИЕ ГЕОМЕТРИЧЕСКИМ ЗАДАЧАМ НА ПОСТРОЕНИЕ С ПОМОЩЬЮ ЦИРКУЛЯ И ЛИНЕЙ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7100"/>
                            </p:stCondLst>
                            <p:childTnLst>
                              <p:par>
                                <p:cTn id="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3100"/>
                            </p:stCondLst>
                            <p:childTnLst>
                              <p:par>
                                <p:cTn id="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8600"/>
                            </p:stCondLst>
                            <p:childTnLst>
                              <p:par>
                                <p:cTn id="4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79280" y="189000"/>
          <a:ext cx="4105440" cy="1239840"/>
        </p:xfrm>
        <a:graphic>
          <a:graphicData uri="http://schemas.openxmlformats.org/drawingml/2006/table">
            <a:tbl>
              <a:tblPr/>
              <a:tblGrid>
                <a:gridCol w="821520"/>
                <a:gridCol w="820080"/>
                <a:gridCol w="821880"/>
                <a:gridCol w="820440"/>
                <a:gridCol w="82152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179280" y="1557360"/>
          <a:ext cx="5746680" cy="1239840"/>
        </p:xfrm>
        <a:graphic>
          <a:graphicData uri="http://schemas.openxmlformats.org/drawingml/2006/table">
            <a:tbl>
              <a:tblPr/>
              <a:tblGrid>
                <a:gridCol w="822600"/>
                <a:gridCol w="819000"/>
                <a:gridCol w="822240"/>
                <a:gridCol w="822240"/>
                <a:gridCol w="819360"/>
                <a:gridCol w="819000"/>
                <a:gridCol w="82224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2031840" y="4024440"/>
            <a:ext cx="657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79280" y="2924280"/>
          <a:ext cx="5746680" cy="1239840"/>
        </p:xfrm>
        <a:graphic>
          <a:graphicData uri="http://schemas.openxmlformats.org/drawingml/2006/table">
            <a:tbl>
              <a:tblPr/>
              <a:tblGrid>
                <a:gridCol w="822240"/>
                <a:gridCol w="819000"/>
                <a:gridCol w="822240"/>
                <a:gridCol w="822600"/>
                <a:gridCol w="819000"/>
                <a:gridCol w="819000"/>
                <a:gridCol w="82260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3040200" y="5465880"/>
            <a:ext cx="556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79280" y="4292640"/>
          <a:ext cx="5746680" cy="1239840"/>
        </p:xfrm>
        <a:graphic>
          <a:graphicData uri="http://schemas.openxmlformats.org/drawingml/2006/table">
            <a:tbl>
              <a:tblPr/>
              <a:tblGrid>
                <a:gridCol w="822240"/>
                <a:gridCol w="819000"/>
                <a:gridCol w="822240"/>
                <a:gridCol w="822600"/>
                <a:gridCol w="819000"/>
                <a:gridCol w="819000"/>
                <a:gridCol w="82260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2751120" y="5734080"/>
            <a:ext cx="578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79280" y="189000"/>
          <a:ext cx="5746680" cy="1239840"/>
        </p:xfrm>
        <a:graphic>
          <a:graphicData uri="http://schemas.openxmlformats.org/drawingml/2006/table">
            <a:tbl>
              <a:tblPr/>
              <a:tblGrid>
                <a:gridCol w="822600"/>
                <a:gridCol w="819000"/>
                <a:gridCol w="822240"/>
                <a:gridCol w="822240"/>
                <a:gridCol w="819360"/>
                <a:gridCol w="819000"/>
                <a:gridCol w="82224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2031840" y="4024440"/>
            <a:ext cx="657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79280" y="1557360"/>
          <a:ext cx="5746680" cy="1239840"/>
        </p:xfrm>
        <a:graphic>
          <a:graphicData uri="http://schemas.openxmlformats.org/drawingml/2006/table">
            <a:tbl>
              <a:tblPr/>
              <a:tblGrid>
                <a:gridCol w="822240"/>
                <a:gridCol w="819000"/>
                <a:gridCol w="822240"/>
                <a:gridCol w="822600"/>
                <a:gridCol w="819000"/>
                <a:gridCol w="819000"/>
                <a:gridCol w="82260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3040200" y="5465880"/>
            <a:ext cx="556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79280" y="2924280"/>
          <a:ext cx="5746680" cy="1239840"/>
        </p:xfrm>
        <a:graphic>
          <a:graphicData uri="http://schemas.openxmlformats.org/drawingml/2006/table">
            <a:tbl>
              <a:tblPr/>
              <a:tblGrid>
                <a:gridCol w="822240"/>
                <a:gridCol w="819000"/>
                <a:gridCol w="822240"/>
                <a:gridCol w="822600"/>
                <a:gridCol w="819000"/>
                <a:gridCol w="819000"/>
                <a:gridCol w="82260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2751120" y="5734080"/>
            <a:ext cx="578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79280" y="4292640"/>
          <a:ext cx="8856720" cy="1239840"/>
        </p:xfrm>
        <a:graphic>
          <a:graphicData uri="http://schemas.openxmlformats.org/drawingml/2006/table">
            <a:tbl>
              <a:tblPr/>
              <a:tblGrid>
                <a:gridCol w="822600"/>
                <a:gridCol w="819000"/>
                <a:gridCol w="822240"/>
                <a:gridCol w="822240"/>
                <a:gridCol w="822600"/>
                <a:gridCol w="822240"/>
                <a:gridCol w="822240"/>
                <a:gridCol w="822240"/>
                <a:gridCol w="819360"/>
                <a:gridCol w="819000"/>
                <a:gridCol w="64296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179280" y="5661000"/>
            <a:ext cx="8785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Arial"/>
              </a:rPr>
              <a:t>МНОГОУГОЛЬНИК, ПЛОЩАДЬ КОТОРОГО ВЫЧИСЛЯЕТСЯ ПО ФОРМУЛЕ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S =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½ (a h</a:t>
            </a:r>
            <a:r>
              <a:rPr b="1" lang="en-US" sz="2800" spc="-1" strike="noStrike" baseline="-25000">
                <a:solidFill>
                  <a:srgbClr val="080808"/>
                </a:solidFill>
                <a:latin typeface="Arial"/>
                <a:ea typeface="Arial"/>
              </a:rPr>
              <a:t>a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179280" y="189000"/>
          <a:ext cx="5746680" cy="1239840"/>
        </p:xfrm>
        <a:graphic>
          <a:graphicData uri="http://schemas.openxmlformats.org/drawingml/2006/table">
            <a:tbl>
              <a:tblPr/>
              <a:tblGrid>
                <a:gridCol w="822600"/>
                <a:gridCol w="819000"/>
                <a:gridCol w="822240"/>
                <a:gridCol w="822240"/>
                <a:gridCol w="819360"/>
                <a:gridCol w="819000"/>
                <a:gridCol w="82224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2031840" y="4024440"/>
            <a:ext cx="657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79280" y="1557360"/>
          <a:ext cx="5746680" cy="1239840"/>
        </p:xfrm>
        <a:graphic>
          <a:graphicData uri="http://schemas.openxmlformats.org/drawingml/2006/table">
            <a:tbl>
              <a:tblPr/>
              <a:tblGrid>
                <a:gridCol w="822240"/>
                <a:gridCol w="819000"/>
                <a:gridCol w="822240"/>
                <a:gridCol w="822600"/>
                <a:gridCol w="819000"/>
                <a:gridCol w="819000"/>
                <a:gridCol w="82260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3040200" y="5465880"/>
            <a:ext cx="556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79280" y="2924280"/>
          <a:ext cx="5746680" cy="1239840"/>
        </p:xfrm>
        <a:graphic>
          <a:graphicData uri="http://schemas.openxmlformats.org/drawingml/2006/table">
            <a:tbl>
              <a:tblPr/>
              <a:tblGrid>
                <a:gridCol w="822240"/>
                <a:gridCol w="819000"/>
                <a:gridCol w="822240"/>
                <a:gridCol w="822600"/>
                <a:gridCol w="819000"/>
                <a:gridCol w="819000"/>
                <a:gridCol w="82260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2751120" y="5734080"/>
            <a:ext cx="578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79280" y="4292640"/>
          <a:ext cx="8856720" cy="1239840"/>
        </p:xfrm>
        <a:graphic>
          <a:graphicData uri="http://schemas.openxmlformats.org/drawingml/2006/table">
            <a:tbl>
              <a:tblPr/>
              <a:tblGrid>
                <a:gridCol w="822600"/>
                <a:gridCol w="819000"/>
                <a:gridCol w="822240"/>
                <a:gridCol w="822240"/>
                <a:gridCol w="822600"/>
                <a:gridCol w="822240"/>
                <a:gridCol w="822240"/>
                <a:gridCol w="822240"/>
                <a:gridCol w="819360"/>
                <a:gridCol w="819000"/>
                <a:gridCol w="64296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179280" y="5661000"/>
            <a:ext cx="8785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031840" y="4024440"/>
            <a:ext cx="657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79280" y="189000"/>
          <a:ext cx="5746680" cy="1239840"/>
        </p:xfrm>
        <a:graphic>
          <a:graphicData uri="http://schemas.openxmlformats.org/drawingml/2006/table">
            <a:tbl>
              <a:tblPr/>
              <a:tblGrid>
                <a:gridCol w="822240"/>
                <a:gridCol w="819000"/>
                <a:gridCol w="822240"/>
                <a:gridCol w="822600"/>
                <a:gridCol w="819000"/>
                <a:gridCol w="819000"/>
                <a:gridCol w="82260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3040200" y="5465880"/>
            <a:ext cx="556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79280" y="1557360"/>
          <a:ext cx="5746680" cy="1239840"/>
        </p:xfrm>
        <a:graphic>
          <a:graphicData uri="http://schemas.openxmlformats.org/drawingml/2006/table">
            <a:tbl>
              <a:tblPr/>
              <a:tblGrid>
                <a:gridCol w="822240"/>
                <a:gridCol w="819000"/>
                <a:gridCol w="822240"/>
                <a:gridCol w="822600"/>
                <a:gridCol w="819000"/>
                <a:gridCol w="819000"/>
                <a:gridCol w="82260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2751120" y="5734080"/>
            <a:ext cx="578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79280" y="2924280"/>
          <a:ext cx="8856720" cy="1239840"/>
        </p:xfrm>
        <a:graphic>
          <a:graphicData uri="http://schemas.openxmlformats.org/drawingml/2006/table">
            <a:tbl>
              <a:tblPr/>
              <a:tblGrid>
                <a:gridCol w="822600"/>
                <a:gridCol w="819000"/>
                <a:gridCol w="822240"/>
                <a:gridCol w="822240"/>
                <a:gridCol w="822600"/>
                <a:gridCol w="822240"/>
                <a:gridCol w="822240"/>
                <a:gridCol w="822240"/>
                <a:gridCol w="819360"/>
                <a:gridCol w="819000"/>
                <a:gridCol w="64296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179280" y="4292640"/>
          <a:ext cx="7417080" cy="1268280"/>
        </p:xfrm>
        <a:graphic>
          <a:graphicData uri="http://schemas.openxmlformats.org/drawingml/2006/table">
            <a:tbl>
              <a:tblPr/>
              <a:tblGrid>
                <a:gridCol w="836640"/>
                <a:gridCol w="838440"/>
                <a:gridCol w="836280"/>
                <a:gridCol w="836640"/>
                <a:gridCol w="838440"/>
                <a:gridCol w="836640"/>
                <a:gridCol w="833400"/>
                <a:gridCol w="834840"/>
                <a:gridCol w="725760"/>
              </a:tblGrid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250920" y="566100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Arial"/>
              </a:rPr>
              <a:t>ВЫРАЖЕНИЕ 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SIN</a:t>
            </a:r>
            <a:r>
              <a:rPr b="1" lang="en-US" sz="2800" spc="-1" strike="noStrike" baseline="30000">
                <a:solidFill>
                  <a:srgbClr val="080808"/>
                </a:solidFill>
                <a:latin typeface="Arial"/>
              </a:rPr>
              <a:t>2</a:t>
            </a:r>
            <a:r>
              <a:rPr b="1" lang="el-GR" sz="2800" spc="-1" strike="noStrike">
                <a:solidFill>
                  <a:srgbClr val="080808"/>
                </a:solidFill>
                <a:latin typeface="Arial"/>
                <a:ea typeface="Arial"/>
              </a:rPr>
              <a:t>α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+ COS</a:t>
            </a:r>
            <a:r>
              <a:rPr b="1" lang="en-US" sz="2800" spc="-1" strike="noStrike" baseline="30000">
                <a:solidFill>
                  <a:srgbClr val="080808"/>
                </a:solidFill>
                <a:latin typeface="Arial"/>
                <a:ea typeface="Arial"/>
              </a:rPr>
              <a:t>2</a:t>
            </a:r>
            <a:r>
              <a:rPr b="1" lang="el-GR" sz="2800" spc="-1" strike="noStrike">
                <a:solidFill>
                  <a:srgbClr val="080808"/>
                </a:solidFill>
                <a:latin typeface="Arial"/>
                <a:ea typeface="Arial"/>
              </a:rPr>
              <a:t>α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Arial"/>
              </a:rPr>
              <a:t> = 1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031840" y="4024440"/>
            <a:ext cx="657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79280" y="189000"/>
          <a:ext cx="5746680" cy="1239840"/>
        </p:xfrm>
        <a:graphic>
          <a:graphicData uri="http://schemas.openxmlformats.org/drawingml/2006/table">
            <a:tbl>
              <a:tblPr/>
              <a:tblGrid>
                <a:gridCol w="822240"/>
                <a:gridCol w="819000"/>
                <a:gridCol w="822240"/>
                <a:gridCol w="822600"/>
                <a:gridCol w="819000"/>
                <a:gridCol w="819000"/>
                <a:gridCol w="82260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3040200" y="5465880"/>
            <a:ext cx="556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79280" y="1557360"/>
          <a:ext cx="5746680" cy="1239840"/>
        </p:xfrm>
        <a:graphic>
          <a:graphicData uri="http://schemas.openxmlformats.org/drawingml/2006/table">
            <a:tbl>
              <a:tblPr/>
              <a:tblGrid>
                <a:gridCol w="822240"/>
                <a:gridCol w="819000"/>
                <a:gridCol w="822240"/>
                <a:gridCol w="822600"/>
                <a:gridCol w="819000"/>
                <a:gridCol w="819000"/>
                <a:gridCol w="82260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2751120" y="5734080"/>
            <a:ext cx="578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9280" y="2924280"/>
          <a:ext cx="8856720" cy="1239840"/>
        </p:xfrm>
        <a:graphic>
          <a:graphicData uri="http://schemas.openxmlformats.org/drawingml/2006/table">
            <a:tbl>
              <a:tblPr/>
              <a:tblGrid>
                <a:gridCol w="822600"/>
                <a:gridCol w="819000"/>
                <a:gridCol w="822240"/>
                <a:gridCol w="822240"/>
                <a:gridCol w="822600"/>
                <a:gridCol w="822240"/>
                <a:gridCol w="822240"/>
                <a:gridCol w="822240"/>
                <a:gridCol w="819360"/>
                <a:gridCol w="819000"/>
                <a:gridCol w="64296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179280" y="4292640"/>
          <a:ext cx="7417080" cy="1268280"/>
        </p:xfrm>
        <a:graphic>
          <a:graphicData uri="http://schemas.openxmlformats.org/drawingml/2006/table">
            <a:tbl>
              <a:tblPr/>
              <a:tblGrid>
                <a:gridCol w="836640"/>
                <a:gridCol w="838440"/>
                <a:gridCol w="836280"/>
                <a:gridCol w="836640"/>
                <a:gridCol w="838440"/>
                <a:gridCol w="836640"/>
                <a:gridCol w="833400"/>
                <a:gridCol w="834840"/>
                <a:gridCol w="725760"/>
              </a:tblGrid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250920" y="5661000"/>
            <a:ext cx="871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031840" y="4024440"/>
            <a:ext cx="657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3040200" y="5465880"/>
            <a:ext cx="556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79280" y="189000"/>
          <a:ext cx="5746680" cy="1239840"/>
        </p:xfrm>
        <a:graphic>
          <a:graphicData uri="http://schemas.openxmlformats.org/drawingml/2006/table">
            <a:tbl>
              <a:tblPr/>
              <a:tblGrid>
                <a:gridCol w="822240"/>
                <a:gridCol w="819000"/>
                <a:gridCol w="822240"/>
                <a:gridCol w="822600"/>
                <a:gridCol w="819000"/>
                <a:gridCol w="819000"/>
                <a:gridCol w="82260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2751120" y="5734080"/>
            <a:ext cx="578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79280" y="1557360"/>
          <a:ext cx="8856720" cy="1239840"/>
        </p:xfrm>
        <a:graphic>
          <a:graphicData uri="http://schemas.openxmlformats.org/drawingml/2006/table">
            <a:tbl>
              <a:tblPr/>
              <a:tblGrid>
                <a:gridCol w="822600"/>
                <a:gridCol w="819000"/>
                <a:gridCol w="822240"/>
                <a:gridCol w="822240"/>
                <a:gridCol w="822600"/>
                <a:gridCol w="822240"/>
                <a:gridCol w="822240"/>
                <a:gridCol w="822240"/>
                <a:gridCol w="819360"/>
                <a:gridCol w="819000"/>
                <a:gridCol w="64296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79280" y="2924280"/>
          <a:ext cx="7417080" cy="1268280"/>
        </p:xfrm>
        <a:graphic>
          <a:graphicData uri="http://schemas.openxmlformats.org/drawingml/2006/table">
            <a:tbl>
              <a:tblPr/>
              <a:tblGrid>
                <a:gridCol w="836640"/>
                <a:gridCol w="838440"/>
                <a:gridCol w="836280"/>
                <a:gridCol w="836640"/>
                <a:gridCol w="838440"/>
                <a:gridCol w="836640"/>
                <a:gridCol w="833400"/>
                <a:gridCol w="834840"/>
                <a:gridCol w="725760"/>
              </a:tblGrid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50920" y="5661000"/>
            <a:ext cx="871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79280" y="4292640"/>
          <a:ext cx="3286080" cy="1239840"/>
        </p:xfrm>
        <a:graphic>
          <a:graphicData uri="http://schemas.openxmlformats.org/drawingml/2006/table">
            <a:tbl>
              <a:tblPr/>
              <a:tblGrid>
                <a:gridCol w="822600"/>
                <a:gridCol w="822240"/>
                <a:gridCol w="819000"/>
                <a:gridCol w="82224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179280" y="5445000"/>
            <a:ext cx="878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Arial"/>
              </a:rPr>
              <a:t>СТАРИННАЯ МЕРА ДЛИНЫ, РАВНАЯ ПРИМЕРНО 25 ММ. ЭТОЙ ЕДИНИЦЕЙ ИЗМЕРИЛ РОСТ СВОЕЙ ГЕРОИНИ Г.Х. АНДЕРСЕН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031840" y="4024440"/>
            <a:ext cx="657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3040200" y="5465880"/>
            <a:ext cx="556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79280" y="189000"/>
          <a:ext cx="5746680" cy="1239840"/>
        </p:xfrm>
        <a:graphic>
          <a:graphicData uri="http://schemas.openxmlformats.org/drawingml/2006/table">
            <a:tbl>
              <a:tblPr/>
              <a:tblGrid>
                <a:gridCol w="822240"/>
                <a:gridCol w="819000"/>
                <a:gridCol w="822240"/>
                <a:gridCol w="822600"/>
                <a:gridCol w="819000"/>
                <a:gridCol w="819000"/>
                <a:gridCol w="82260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2751120" y="5734080"/>
            <a:ext cx="578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79280" y="1557360"/>
          <a:ext cx="8856720" cy="1239840"/>
        </p:xfrm>
        <a:graphic>
          <a:graphicData uri="http://schemas.openxmlformats.org/drawingml/2006/table">
            <a:tbl>
              <a:tblPr/>
              <a:tblGrid>
                <a:gridCol w="822600"/>
                <a:gridCol w="819000"/>
                <a:gridCol w="822240"/>
                <a:gridCol w="822240"/>
                <a:gridCol w="822600"/>
                <a:gridCol w="822240"/>
                <a:gridCol w="822240"/>
                <a:gridCol w="822240"/>
                <a:gridCol w="819360"/>
                <a:gridCol w="819000"/>
                <a:gridCol w="64296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179280" y="2924280"/>
          <a:ext cx="7417080" cy="1268280"/>
        </p:xfrm>
        <a:graphic>
          <a:graphicData uri="http://schemas.openxmlformats.org/drawingml/2006/table">
            <a:tbl>
              <a:tblPr/>
              <a:tblGrid>
                <a:gridCol w="836640"/>
                <a:gridCol w="838440"/>
                <a:gridCol w="836280"/>
                <a:gridCol w="836640"/>
                <a:gridCol w="838440"/>
                <a:gridCol w="836640"/>
                <a:gridCol w="833400"/>
                <a:gridCol w="834840"/>
                <a:gridCol w="725760"/>
              </a:tblGrid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826920" y="5805360"/>
            <a:ext cx="871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79280" y="4292640"/>
          <a:ext cx="3286080" cy="1239840"/>
        </p:xfrm>
        <a:graphic>
          <a:graphicData uri="http://schemas.openxmlformats.org/drawingml/2006/table">
            <a:tbl>
              <a:tblPr/>
              <a:tblGrid>
                <a:gridCol w="822600"/>
                <a:gridCol w="822240"/>
                <a:gridCol w="819000"/>
                <a:gridCol w="82224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031840" y="4024440"/>
            <a:ext cx="657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3040200" y="5465880"/>
            <a:ext cx="556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2751120" y="5734080"/>
            <a:ext cx="578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79280" y="189000"/>
          <a:ext cx="8856720" cy="1239840"/>
        </p:xfrm>
        <a:graphic>
          <a:graphicData uri="http://schemas.openxmlformats.org/drawingml/2006/table">
            <a:tbl>
              <a:tblPr/>
              <a:tblGrid>
                <a:gridCol w="822600"/>
                <a:gridCol w="819000"/>
                <a:gridCol w="822240"/>
                <a:gridCol w="822240"/>
                <a:gridCol w="822600"/>
                <a:gridCol w="822240"/>
                <a:gridCol w="822240"/>
                <a:gridCol w="822240"/>
                <a:gridCol w="819360"/>
                <a:gridCol w="819000"/>
                <a:gridCol w="64296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179280" y="1557360"/>
          <a:ext cx="7417080" cy="1268280"/>
        </p:xfrm>
        <a:graphic>
          <a:graphicData uri="http://schemas.openxmlformats.org/drawingml/2006/table">
            <a:tbl>
              <a:tblPr/>
              <a:tblGrid>
                <a:gridCol w="836640"/>
                <a:gridCol w="838440"/>
                <a:gridCol w="836280"/>
                <a:gridCol w="836640"/>
                <a:gridCol w="838440"/>
                <a:gridCol w="836640"/>
                <a:gridCol w="833400"/>
                <a:gridCol w="834840"/>
                <a:gridCol w="725760"/>
              </a:tblGrid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826920" y="5805360"/>
            <a:ext cx="871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08000" y="2997360"/>
          <a:ext cx="3178080" cy="1239840"/>
        </p:xfrm>
        <a:graphic>
          <a:graphicData uri="http://schemas.openxmlformats.org/drawingml/2006/table">
            <a:tbl>
              <a:tblPr/>
              <a:tblGrid>
                <a:gridCol w="714240"/>
                <a:gridCol w="822240"/>
                <a:gridCol w="819360"/>
                <a:gridCol w="82224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3397320" y="2997360"/>
          <a:ext cx="5638680" cy="1239840"/>
        </p:xfrm>
        <a:graphic>
          <a:graphicData uri="http://schemas.openxmlformats.org/drawingml/2006/table">
            <a:tbl>
              <a:tblPr/>
              <a:tblGrid>
                <a:gridCol w="822240"/>
                <a:gridCol w="819000"/>
                <a:gridCol w="822600"/>
                <a:gridCol w="822240"/>
                <a:gridCol w="819000"/>
                <a:gridCol w="819360"/>
                <a:gridCol w="71424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179280" y="4581360"/>
            <a:ext cx="885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Arial"/>
              </a:rPr>
              <a:t>ДРЕВНЕГРЕЧЕСКИЙ УЧЁНЫЙ, КОТОРЫЙ ПОГРУЗИВШИСЬ В ВАННУ ВОСКЛИКНУЛ: «ЭВРИКА!» И ОТКРЫЛ ИЗВЕСТНЫЙ В ФИЗИКЕ ЗАКОН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031840" y="4024440"/>
            <a:ext cx="657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"/>
          <p:cNvSpPr/>
          <p:nvPr/>
        </p:nvSpPr>
        <p:spPr>
          <a:xfrm>
            <a:off x="3040200" y="5465880"/>
            <a:ext cx="556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2751120" y="5734080"/>
            <a:ext cx="578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79280" y="189000"/>
          <a:ext cx="8856720" cy="1239840"/>
        </p:xfrm>
        <a:graphic>
          <a:graphicData uri="http://schemas.openxmlformats.org/drawingml/2006/table">
            <a:tbl>
              <a:tblPr/>
              <a:tblGrid>
                <a:gridCol w="822600"/>
                <a:gridCol w="819000"/>
                <a:gridCol w="822240"/>
                <a:gridCol w="822240"/>
                <a:gridCol w="822600"/>
                <a:gridCol w="822240"/>
                <a:gridCol w="822240"/>
                <a:gridCol w="822240"/>
                <a:gridCol w="819360"/>
                <a:gridCol w="819000"/>
                <a:gridCol w="64296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179280" y="1557360"/>
          <a:ext cx="7417080" cy="1268280"/>
        </p:xfrm>
        <a:graphic>
          <a:graphicData uri="http://schemas.openxmlformats.org/drawingml/2006/table">
            <a:tbl>
              <a:tblPr/>
              <a:tblGrid>
                <a:gridCol w="836640"/>
                <a:gridCol w="838440"/>
                <a:gridCol w="836280"/>
                <a:gridCol w="836640"/>
                <a:gridCol w="838440"/>
                <a:gridCol w="836640"/>
                <a:gridCol w="833400"/>
                <a:gridCol w="834840"/>
                <a:gridCol w="725760"/>
              </a:tblGrid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826920" y="5805360"/>
            <a:ext cx="871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8000" y="2997360"/>
          <a:ext cx="3178080" cy="1239840"/>
        </p:xfrm>
        <a:graphic>
          <a:graphicData uri="http://schemas.openxmlformats.org/drawingml/2006/table">
            <a:tbl>
              <a:tblPr/>
              <a:tblGrid>
                <a:gridCol w="714240"/>
                <a:gridCol w="822240"/>
                <a:gridCol w="819360"/>
                <a:gridCol w="82224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397320" y="2997360"/>
          <a:ext cx="5638680" cy="1239840"/>
        </p:xfrm>
        <a:graphic>
          <a:graphicData uri="http://schemas.openxmlformats.org/drawingml/2006/table">
            <a:tbl>
              <a:tblPr/>
              <a:tblGrid>
                <a:gridCol w="822240"/>
                <a:gridCol w="819000"/>
                <a:gridCol w="822600"/>
                <a:gridCol w="822240"/>
                <a:gridCol w="819000"/>
                <a:gridCol w="819360"/>
                <a:gridCol w="71424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8461440" y="563256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8029440" y="5632560"/>
            <a:ext cx="432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7596360" y="5632560"/>
            <a:ext cx="4330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7164360" y="5632560"/>
            <a:ext cx="432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6732720" y="563256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>
            <a:off x="6300720" y="5632560"/>
            <a:ext cx="432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5869080" y="563256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5435640" y="5632560"/>
            <a:ext cx="433440" cy="7491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5003640" y="5661000"/>
            <a:ext cx="432000" cy="749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563256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4140360" y="563256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Ю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3708360" y="5632560"/>
            <a:ext cx="432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3274920" y="5632560"/>
            <a:ext cx="4334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2843280" y="563256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2" name=""/>
          <p:cNvSpPr/>
          <p:nvPr/>
        </p:nvSpPr>
        <p:spPr>
          <a:xfrm>
            <a:off x="2411280" y="5632560"/>
            <a:ext cx="432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1979640" y="563256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"/>
          <p:cNvSpPr/>
          <p:nvPr/>
        </p:nvSpPr>
        <p:spPr>
          <a:xfrm>
            <a:off x="1547640" y="5632560"/>
            <a:ext cx="432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"/>
          <p:cNvSpPr/>
          <p:nvPr/>
        </p:nvSpPr>
        <p:spPr>
          <a:xfrm>
            <a:off x="1114560" y="5632560"/>
            <a:ext cx="4330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684360" y="566100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50920" y="5661000"/>
            <a:ext cx="431640" cy="7491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>
            <a:off x="8461440" y="4883040"/>
            <a:ext cx="4316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"/>
          <p:cNvSpPr/>
          <p:nvPr/>
        </p:nvSpPr>
        <p:spPr>
          <a:xfrm>
            <a:off x="8029440" y="4883040"/>
            <a:ext cx="4320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7596360" y="4883040"/>
            <a:ext cx="43308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1" name=""/>
          <p:cNvSpPr/>
          <p:nvPr/>
        </p:nvSpPr>
        <p:spPr>
          <a:xfrm>
            <a:off x="7164360" y="4883040"/>
            <a:ext cx="432000" cy="749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"/>
          <p:cNvSpPr/>
          <p:nvPr/>
        </p:nvSpPr>
        <p:spPr>
          <a:xfrm>
            <a:off x="6732720" y="4883040"/>
            <a:ext cx="4316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"/>
          <p:cNvSpPr/>
          <p:nvPr/>
        </p:nvSpPr>
        <p:spPr>
          <a:xfrm>
            <a:off x="6300720" y="4883040"/>
            <a:ext cx="4320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"/>
          <p:cNvSpPr/>
          <p:nvPr/>
        </p:nvSpPr>
        <p:spPr>
          <a:xfrm>
            <a:off x="5869080" y="4883040"/>
            <a:ext cx="4316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5435640" y="4883040"/>
            <a:ext cx="4334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"/>
          <p:cNvSpPr/>
          <p:nvPr/>
        </p:nvSpPr>
        <p:spPr>
          <a:xfrm>
            <a:off x="5003640" y="4883040"/>
            <a:ext cx="4320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0" y="4883040"/>
            <a:ext cx="431640" cy="749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4140360" y="4883040"/>
            <a:ext cx="4316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"/>
          <p:cNvSpPr/>
          <p:nvPr/>
        </p:nvSpPr>
        <p:spPr>
          <a:xfrm>
            <a:off x="3708360" y="4883040"/>
            <a:ext cx="4320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"/>
          <p:cNvSpPr/>
          <p:nvPr/>
        </p:nvSpPr>
        <p:spPr>
          <a:xfrm>
            <a:off x="3274920" y="4883040"/>
            <a:ext cx="433440" cy="749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"/>
          <p:cNvSpPr/>
          <p:nvPr/>
        </p:nvSpPr>
        <p:spPr>
          <a:xfrm>
            <a:off x="2843280" y="4883040"/>
            <a:ext cx="4316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2411280" y="4883040"/>
            <a:ext cx="4320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883040"/>
            <a:ext cx="4316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>
            <a:off x="1547640" y="4883040"/>
            <a:ext cx="432000" cy="749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1114560" y="4883040"/>
            <a:ext cx="43308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682560" y="4883040"/>
            <a:ext cx="4320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"/>
          <p:cNvSpPr/>
          <p:nvPr/>
        </p:nvSpPr>
        <p:spPr>
          <a:xfrm>
            <a:off x="250920" y="4883040"/>
            <a:ext cx="4316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"/>
          <p:cNvSpPr/>
          <p:nvPr/>
        </p:nvSpPr>
        <p:spPr>
          <a:xfrm>
            <a:off x="8461440" y="4135320"/>
            <a:ext cx="4316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9" name=""/>
          <p:cNvSpPr/>
          <p:nvPr/>
        </p:nvSpPr>
        <p:spPr>
          <a:xfrm>
            <a:off x="8029440" y="4135320"/>
            <a:ext cx="4320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0" name=""/>
          <p:cNvSpPr/>
          <p:nvPr/>
        </p:nvSpPr>
        <p:spPr>
          <a:xfrm>
            <a:off x="7596360" y="4135320"/>
            <a:ext cx="4330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1" name=""/>
          <p:cNvSpPr/>
          <p:nvPr/>
        </p:nvSpPr>
        <p:spPr>
          <a:xfrm>
            <a:off x="7164360" y="4135320"/>
            <a:ext cx="4320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2" name=""/>
          <p:cNvSpPr/>
          <p:nvPr/>
        </p:nvSpPr>
        <p:spPr>
          <a:xfrm>
            <a:off x="6732720" y="4135320"/>
            <a:ext cx="4316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6300720" y="4135320"/>
            <a:ext cx="4320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4" name=""/>
          <p:cNvSpPr/>
          <p:nvPr/>
        </p:nvSpPr>
        <p:spPr>
          <a:xfrm>
            <a:off x="5869080" y="4135320"/>
            <a:ext cx="4316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"/>
          <p:cNvSpPr/>
          <p:nvPr/>
        </p:nvSpPr>
        <p:spPr>
          <a:xfrm>
            <a:off x="5435640" y="4135320"/>
            <a:ext cx="4334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6" name=""/>
          <p:cNvSpPr/>
          <p:nvPr/>
        </p:nvSpPr>
        <p:spPr>
          <a:xfrm>
            <a:off x="5003640" y="4135320"/>
            <a:ext cx="432000" cy="747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35320"/>
            <a:ext cx="4316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8" name=""/>
          <p:cNvSpPr/>
          <p:nvPr/>
        </p:nvSpPr>
        <p:spPr>
          <a:xfrm>
            <a:off x="4140360" y="4135320"/>
            <a:ext cx="4316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"/>
          <p:cNvSpPr/>
          <p:nvPr/>
        </p:nvSpPr>
        <p:spPr>
          <a:xfrm>
            <a:off x="3708360" y="4135320"/>
            <a:ext cx="4320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0" name=""/>
          <p:cNvSpPr/>
          <p:nvPr/>
        </p:nvSpPr>
        <p:spPr>
          <a:xfrm>
            <a:off x="3274920" y="4135320"/>
            <a:ext cx="4334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" name=""/>
          <p:cNvSpPr/>
          <p:nvPr/>
        </p:nvSpPr>
        <p:spPr>
          <a:xfrm>
            <a:off x="2843280" y="4135320"/>
            <a:ext cx="4316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2" name=""/>
          <p:cNvSpPr/>
          <p:nvPr/>
        </p:nvSpPr>
        <p:spPr>
          <a:xfrm>
            <a:off x="2411280" y="4135320"/>
            <a:ext cx="4320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" name=""/>
          <p:cNvSpPr/>
          <p:nvPr/>
        </p:nvSpPr>
        <p:spPr>
          <a:xfrm>
            <a:off x="1979640" y="4135320"/>
            <a:ext cx="431640" cy="747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" name=""/>
          <p:cNvSpPr/>
          <p:nvPr/>
        </p:nvSpPr>
        <p:spPr>
          <a:xfrm>
            <a:off x="1547640" y="4135320"/>
            <a:ext cx="4320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5" name=""/>
          <p:cNvSpPr/>
          <p:nvPr/>
        </p:nvSpPr>
        <p:spPr>
          <a:xfrm>
            <a:off x="1114560" y="4135320"/>
            <a:ext cx="4330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6" name=""/>
          <p:cNvSpPr/>
          <p:nvPr/>
        </p:nvSpPr>
        <p:spPr>
          <a:xfrm>
            <a:off x="682560" y="4135320"/>
            <a:ext cx="4320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" name=""/>
          <p:cNvSpPr/>
          <p:nvPr/>
        </p:nvSpPr>
        <p:spPr>
          <a:xfrm>
            <a:off x="250920" y="4135320"/>
            <a:ext cx="4316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8" name=""/>
          <p:cNvSpPr/>
          <p:nvPr/>
        </p:nvSpPr>
        <p:spPr>
          <a:xfrm>
            <a:off x="8461440" y="338616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9" name=""/>
          <p:cNvSpPr/>
          <p:nvPr/>
        </p:nvSpPr>
        <p:spPr>
          <a:xfrm>
            <a:off x="8029440" y="3386160"/>
            <a:ext cx="432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3386160"/>
            <a:ext cx="4330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7164360" y="3386160"/>
            <a:ext cx="432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6732720" y="338616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6300720" y="3386160"/>
            <a:ext cx="432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4" name=""/>
          <p:cNvSpPr/>
          <p:nvPr/>
        </p:nvSpPr>
        <p:spPr>
          <a:xfrm>
            <a:off x="5869080" y="338616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5" name=""/>
          <p:cNvSpPr/>
          <p:nvPr/>
        </p:nvSpPr>
        <p:spPr>
          <a:xfrm>
            <a:off x="5435640" y="3386160"/>
            <a:ext cx="4334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"/>
          <p:cNvSpPr/>
          <p:nvPr/>
        </p:nvSpPr>
        <p:spPr>
          <a:xfrm>
            <a:off x="5003640" y="3386160"/>
            <a:ext cx="432000" cy="7491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338616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4140360" y="338616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3708360" y="3386160"/>
            <a:ext cx="432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Ю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" name=""/>
          <p:cNvSpPr/>
          <p:nvPr/>
        </p:nvSpPr>
        <p:spPr>
          <a:xfrm>
            <a:off x="3274920" y="3386160"/>
            <a:ext cx="4334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"/>
          <p:cNvSpPr/>
          <p:nvPr/>
        </p:nvSpPr>
        <p:spPr>
          <a:xfrm>
            <a:off x="2843280" y="3386160"/>
            <a:ext cx="431640" cy="7491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>
            <a:off x="2411280" y="3386160"/>
            <a:ext cx="432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3" name=""/>
          <p:cNvSpPr/>
          <p:nvPr/>
        </p:nvSpPr>
        <p:spPr>
          <a:xfrm>
            <a:off x="1979640" y="338616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4" name=""/>
          <p:cNvSpPr/>
          <p:nvPr/>
        </p:nvSpPr>
        <p:spPr>
          <a:xfrm>
            <a:off x="1547640" y="3386160"/>
            <a:ext cx="432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5" name=""/>
          <p:cNvSpPr/>
          <p:nvPr/>
        </p:nvSpPr>
        <p:spPr>
          <a:xfrm>
            <a:off x="1114560" y="3386160"/>
            <a:ext cx="4330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"/>
          <p:cNvSpPr/>
          <p:nvPr/>
        </p:nvSpPr>
        <p:spPr>
          <a:xfrm>
            <a:off x="682560" y="3386160"/>
            <a:ext cx="432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250920" y="338616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>
            <a:off x="8461440" y="263700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9" name=""/>
          <p:cNvSpPr/>
          <p:nvPr/>
        </p:nvSpPr>
        <p:spPr>
          <a:xfrm>
            <a:off x="8029440" y="2637000"/>
            <a:ext cx="432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0" name=""/>
          <p:cNvSpPr/>
          <p:nvPr/>
        </p:nvSpPr>
        <p:spPr>
          <a:xfrm>
            <a:off x="7596360" y="2637000"/>
            <a:ext cx="4330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7164360" y="2637000"/>
            <a:ext cx="432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2" name=""/>
          <p:cNvSpPr/>
          <p:nvPr/>
        </p:nvSpPr>
        <p:spPr>
          <a:xfrm>
            <a:off x="6732720" y="263700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3" name=""/>
          <p:cNvSpPr/>
          <p:nvPr/>
        </p:nvSpPr>
        <p:spPr>
          <a:xfrm>
            <a:off x="6300720" y="2637000"/>
            <a:ext cx="432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5869080" y="263700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5" name=""/>
          <p:cNvSpPr/>
          <p:nvPr/>
        </p:nvSpPr>
        <p:spPr>
          <a:xfrm>
            <a:off x="5435640" y="2637000"/>
            <a:ext cx="4334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6" name=""/>
          <p:cNvSpPr/>
          <p:nvPr/>
        </p:nvSpPr>
        <p:spPr>
          <a:xfrm>
            <a:off x="5003640" y="2637000"/>
            <a:ext cx="432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0" y="263700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8" name=""/>
          <p:cNvSpPr/>
          <p:nvPr/>
        </p:nvSpPr>
        <p:spPr>
          <a:xfrm>
            <a:off x="4140360" y="263700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9" name=""/>
          <p:cNvSpPr/>
          <p:nvPr/>
        </p:nvSpPr>
        <p:spPr>
          <a:xfrm>
            <a:off x="3708360" y="2637000"/>
            <a:ext cx="432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0" name=""/>
          <p:cNvSpPr/>
          <p:nvPr/>
        </p:nvSpPr>
        <p:spPr>
          <a:xfrm>
            <a:off x="3274920" y="2637000"/>
            <a:ext cx="4334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«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1" name=""/>
          <p:cNvSpPr/>
          <p:nvPr/>
        </p:nvSpPr>
        <p:spPr>
          <a:xfrm>
            <a:off x="2843280" y="263700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>
            <a:off x="2411280" y="2637000"/>
            <a:ext cx="432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3" name=""/>
          <p:cNvSpPr/>
          <p:nvPr/>
        </p:nvSpPr>
        <p:spPr>
          <a:xfrm>
            <a:off x="1979640" y="263700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1547640" y="2637000"/>
            <a:ext cx="432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5" name=""/>
          <p:cNvSpPr/>
          <p:nvPr/>
        </p:nvSpPr>
        <p:spPr>
          <a:xfrm>
            <a:off x="1114560" y="2637000"/>
            <a:ext cx="4330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6" name=""/>
          <p:cNvSpPr/>
          <p:nvPr/>
        </p:nvSpPr>
        <p:spPr>
          <a:xfrm>
            <a:off x="682560" y="2637000"/>
            <a:ext cx="432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7" name=""/>
          <p:cNvSpPr/>
          <p:nvPr/>
        </p:nvSpPr>
        <p:spPr>
          <a:xfrm>
            <a:off x="250920" y="2637000"/>
            <a:ext cx="43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8" name=""/>
          <p:cNvSpPr/>
          <p:nvPr/>
        </p:nvSpPr>
        <p:spPr>
          <a:xfrm>
            <a:off x="250920" y="3386160"/>
            <a:ext cx="2592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9" name=""/>
          <p:cNvSpPr/>
          <p:nvPr/>
        </p:nvSpPr>
        <p:spPr>
          <a:xfrm>
            <a:off x="250920" y="4135320"/>
            <a:ext cx="1728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0920" y="4883040"/>
            <a:ext cx="1296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250920" y="5632560"/>
            <a:ext cx="1296720" cy="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2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82560" y="2637000"/>
            <a:ext cx="0" cy="2995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>
            <a:off x="1114560" y="2637000"/>
            <a:ext cx="0" cy="2995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5" name=""/>
          <p:cNvSpPr/>
          <p:nvPr/>
        </p:nvSpPr>
        <p:spPr>
          <a:xfrm>
            <a:off x="1547640" y="2637000"/>
            <a:ext cx="0" cy="2246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979640" y="2637000"/>
            <a:ext cx="0" cy="1498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7" name=""/>
          <p:cNvSpPr/>
          <p:nvPr/>
        </p:nvSpPr>
        <p:spPr>
          <a:xfrm>
            <a:off x="2411280" y="2637000"/>
            <a:ext cx="0" cy="1498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2843280" y="2637000"/>
            <a:ext cx="0" cy="749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9" name=""/>
          <p:cNvSpPr/>
          <p:nvPr/>
        </p:nvSpPr>
        <p:spPr>
          <a:xfrm>
            <a:off x="3274920" y="2637000"/>
            <a:ext cx="0" cy="74916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0" name=""/>
          <p:cNvSpPr/>
          <p:nvPr/>
        </p:nvSpPr>
        <p:spPr>
          <a:xfrm>
            <a:off x="3708360" y="2637000"/>
            <a:ext cx="0" cy="374472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>
            <a:off x="4140360" y="2637000"/>
            <a:ext cx="0" cy="374472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0" y="2637000"/>
            <a:ext cx="0" cy="374472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3" name=""/>
          <p:cNvSpPr/>
          <p:nvPr/>
        </p:nvSpPr>
        <p:spPr>
          <a:xfrm>
            <a:off x="5003640" y="2637000"/>
            <a:ext cx="0" cy="374472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4" name=""/>
          <p:cNvSpPr/>
          <p:nvPr/>
        </p:nvSpPr>
        <p:spPr>
          <a:xfrm>
            <a:off x="5435640" y="2637000"/>
            <a:ext cx="0" cy="374472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5" name=""/>
          <p:cNvSpPr/>
          <p:nvPr/>
        </p:nvSpPr>
        <p:spPr>
          <a:xfrm>
            <a:off x="5869080" y="2637000"/>
            <a:ext cx="0" cy="74916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"/>
          <p:cNvSpPr/>
          <p:nvPr/>
        </p:nvSpPr>
        <p:spPr>
          <a:xfrm>
            <a:off x="6300720" y="2637000"/>
            <a:ext cx="0" cy="749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7" name=""/>
          <p:cNvSpPr/>
          <p:nvPr/>
        </p:nvSpPr>
        <p:spPr>
          <a:xfrm>
            <a:off x="6732720" y="2637000"/>
            <a:ext cx="0" cy="1498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7164360" y="2637000"/>
            <a:ext cx="0" cy="1498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7596360" y="2637000"/>
            <a:ext cx="0" cy="2246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0" name=""/>
          <p:cNvSpPr/>
          <p:nvPr/>
        </p:nvSpPr>
        <p:spPr>
          <a:xfrm>
            <a:off x="8029440" y="2637000"/>
            <a:ext cx="0" cy="2995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8461440" y="2637000"/>
            <a:ext cx="0" cy="2995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"/>
          <p:cNvSpPr/>
          <p:nvPr/>
        </p:nvSpPr>
        <p:spPr>
          <a:xfrm>
            <a:off x="250920" y="5632560"/>
            <a:ext cx="0" cy="74916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8893080" y="5632560"/>
            <a:ext cx="0" cy="74916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4" name=""/>
          <p:cNvSpPr/>
          <p:nvPr/>
        </p:nvSpPr>
        <p:spPr>
          <a:xfrm>
            <a:off x="7596360" y="5632560"/>
            <a:ext cx="1296720" cy="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5" name=""/>
          <p:cNvSpPr/>
          <p:nvPr/>
        </p:nvSpPr>
        <p:spPr>
          <a:xfrm>
            <a:off x="7596360" y="4883040"/>
            <a:ext cx="0" cy="74952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6" name=""/>
          <p:cNvSpPr/>
          <p:nvPr/>
        </p:nvSpPr>
        <p:spPr>
          <a:xfrm>
            <a:off x="7596360" y="5632560"/>
            <a:ext cx="0" cy="74916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7" name=""/>
          <p:cNvSpPr/>
          <p:nvPr/>
        </p:nvSpPr>
        <p:spPr>
          <a:xfrm>
            <a:off x="7164360" y="4883040"/>
            <a:ext cx="432000" cy="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7596360" y="4883040"/>
            <a:ext cx="1296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9" name=""/>
          <p:cNvSpPr/>
          <p:nvPr/>
        </p:nvSpPr>
        <p:spPr>
          <a:xfrm>
            <a:off x="7164360" y="4135320"/>
            <a:ext cx="0" cy="74772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7164360" y="4883040"/>
            <a:ext cx="0" cy="149868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1" name=""/>
          <p:cNvSpPr/>
          <p:nvPr/>
        </p:nvSpPr>
        <p:spPr>
          <a:xfrm>
            <a:off x="6300720" y="4135320"/>
            <a:ext cx="863640" cy="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7164360" y="4135320"/>
            <a:ext cx="1728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3" name=""/>
          <p:cNvSpPr/>
          <p:nvPr/>
        </p:nvSpPr>
        <p:spPr>
          <a:xfrm>
            <a:off x="6300720" y="3386160"/>
            <a:ext cx="0" cy="74916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6300720" y="4135320"/>
            <a:ext cx="0" cy="224640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5" name=""/>
          <p:cNvSpPr/>
          <p:nvPr/>
        </p:nvSpPr>
        <p:spPr>
          <a:xfrm>
            <a:off x="5869080" y="3386160"/>
            <a:ext cx="431640" cy="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6" name=""/>
          <p:cNvSpPr/>
          <p:nvPr/>
        </p:nvSpPr>
        <p:spPr>
          <a:xfrm>
            <a:off x="6300720" y="3386160"/>
            <a:ext cx="2592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5869080" y="3386160"/>
            <a:ext cx="0" cy="299556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274920" y="2637000"/>
            <a:ext cx="2594160" cy="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9" name=""/>
          <p:cNvSpPr/>
          <p:nvPr/>
        </p:nvSpPr>
        <p:spPr>
          <a:xfrm>
            <a:off x="3274920" y="3386160"/>
            <a:ext cx="0" cy="299556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0" name=""/>
          <p:cNvSpPr/>
          <p:nvPr/>
        </p:nvSpPr>
        <p:spPr>
          <a:xfrm>
            <a:off x="2843280" y="3386160"/>
            <a:ext cx="431640" cy="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274920" y="3386160"/>
            <a:ext cx="2594160" cy="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2843280" y="3386160"/>
            <a:ext cx="0" cy="74916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3" name=""/>
          <p:cNvSpPr/>
          <p:nvPr/>
        </p:nvSpPr>
        <p:spPr>
          <a:xfrm>
            <a:off x="2843280" y="4135320"/>
            <a:ext cx="0" cy="224640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4" name=""/>
          <p:cNvSpPr/>
          <p:nvPr/>
        </p:nvSpPr>
        <p:spPr>
          <a:xfrm>
            <a:off x="2843280" y="4135320"/>
            <a:ext cx="3457440" cy="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5" name=""/>
          <p:cNvSpPr/>
          <p:nvPr/>
        </p:nvSpPr>
        <p:spPr>
          <a:xfrm>
            <a:off x="2411280" y="4135320"/>
            <a:ext cx="0" cy="224640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6" name=""/>
          <p:cNvSpPr/>
          <p:nvPr/>
        </p:nvSpPr>
        <p:spPr>
          <a:xfrm>
            <a:off x="1547640" y="5632560"/>
            <a:ext cx="6048720" cy="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7" name=""/>
          <p:cNvSpPr/>
          <p:nvPr/>
        </p:nvSpPr>
        <p:spPr>
          <a:xfrm>
            <a:off x="1547640" y="4883040"/>
            <a:ext cx="0" cy="74952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1547640" y="5632560"/>
            <a:ext cx="0" cy="74916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1547640" y="4883040"/>
            <a:ext cx="432000" cy="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0" name=""/>
          <p:cNvSpPr/>
          <p:nvPr/>
        </p:nvSpPr>
        <p:spPr>
          <a:xfrm>
            <a:off x="1979640" y="4135320"/>
            <a:ext cx="0" cy="74772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1" name=""/>
          <p:cNvSpPr/>
          <p:nvPr/>
        </p:nvSpPr>
        <p:spPr>
          <a:xfrm>
            <a:off x="1979640" y="4883040"/>
            <a:ext cx="0" cy="149868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1979640" y="4135320"/>
            <a:ext cx="863640" cy="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3" name=""/>
          <p:cNvSpPr/>
          <p:nvPr/>
        </p:nvSpPr>
        <p:spPr>
          <a:xfrm>
            <a:off x="1979640" y="4883040"/>
            <a:ext cx="5184720" cy="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4" name=""/>
          <p:cNvSpPr/>
          <p:nvPr/>
        </p:nvSpPr>
        <p:spPr>
          <a:xfrm>
            <a:off x="682560" y="5632560"/>
            <a:ext cx="0" cy="74916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5" name=""/>
          <p:cNvSpPr/>
          <p:nvPr/>
        </p:nvSpPr>
        <p:spPr>
          <a:xfrm>
            <a:off x="1114560" y="5632560"/>
            <a:ext cx="0" cy="74916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6" name=""/>
          <p:cNvSpPr/>
          <p:nvPr/>
        </p:nvSpPr>
        <p:spPr>
          <a:xfrm>
            <a:off x="6732720" y="4135320"/>
            <a:ext cx="0" cy="224640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7" name=""/>
          <p:cNvSpPr/>
          <p:nvPr/>
        </p:nvSpPr>
        <p:spPr>
          <a:xfrm>
            <a:off x="8029440" y="5632560"/>
            <a:ext cx="0" cy="74916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8461440" y="5632560"/>
            <a:ext cx="0" cy="74916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9" name=""/>
          <p:cNvSpPr/>
          <p:nvPr/>
        </p:nvSpPr>
        <p:spPr>
          <a:xfrm>
            <a:off x="250920" y="2637000"/>
            <a:ext cx="302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0" name=""/>
          <p:cNvSpPr/>
          <p:nvPr/>
        </p:nvSpPr>
        <p:spPr>
          <a:xfrm>
            <a:off x="250920" y="2637000"/>
            <a:ext cx="0" cy="2995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869080" y="2637000"/>
            <a:ext cx="302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2" name=""/>
          <p:cNvSpPr/>
          <p:nvPr/>
        </p:nvSpPr>
        <p:spPr>
          <a:xfrm>
            <a:off x="8893080" y="2637000"/>
            <a:ext cx="0" cy="2995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3708360" y="907920"/>
            <a:ext cx="179856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500"/>
                            </p:stCondLst>
                            <p:childTnLst>
                              <p:par>
                                <p:cTn id="2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000"/>
                            </p:stCondLst>
                            <p:childTnLst>
                              <p:par>
                                <p:cTn id="2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500"/>
                            </p:stCondLst>
                            <p:childTnLst>
                              <p:par>
                                <p:cTn id="3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500"/>
                            </p:stCondLst>
                            <p:childTnLst>
                              <p:par>
                                <p:cTn id="3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000"/>
                            </p:stCondLst>
                            <p:childTnLst>
                              <p:par>
                                <p:cTn id="31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6500"/>
                            </p:stCondLst>
                            <p:childTnLst>
                              <p:par>
                                <p:cTn id="32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7000"/>
                            </p:stCondLst>
                            <p:childTnLst>
                              <p:par>
                                <p:cTn id="32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500"/>
                            </p:stCondLst>
                            <p:childTnLst>
                              <p:par>
                                <p:cTn id="33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8000"/>
                            </p:stCondLst>
                            <p:childTnLst>
                              <p:par>
                                <p:cTn id="3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8500"/>
                            </p:stCondLst>
                            <p:childTnLst>
                              <p:par>
                                <p:cTn id="34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9000"/>
                            </p:stCondLst>
                            <p:childTnLst>
                              <p:par>
                                <p:cTn id="34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9500"/>
                            </p:stCondLst>
                            <p:childTnLst>
                              <p:par>
                                <p:cTn id="35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1500"/>
                            </p:stCondLst>
                            <p:childTnLst>
                              <p:par>
                                <p:cTn id="37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3500"/>
                            </p:stCondLst>
                            <p:childTnLst>
                              <p:par>
                                <p:cTn id="39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4500"/>
                            </p:stCondLst>
                            <p:childTnLst>
                              <p:par>
                                <p:cTn id="40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5000"/>
                            </p:stCondLst>
                            <p:childTnLst>
                              <p:par>
                                <p:cTn id="40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5500"/>
                            </p:stCondLst>
                            <p:childTnLst>
                              <p:par>
                                <p:cTn id="41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6000"/>
                            </p:stCondLst>
                            <p:childTnLst>
                              <p:par>
                                <p:cTn id="41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6500"/>
                            </p:stCondLst>
                            <p:childTnLst>
                              <p:par>
                                <p:cTn id="42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7000"/>
                            </p:stCondLst>
                            <p:childTnLst>
                              <p:par>
                                <p:cTn id="42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7500"/>
                            </p:stCondLst>
                            <p:childTnLst>
                              <p:par>
                                <p:cTn id="43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8000"/>
                            </p:stCondLst>
                            <p:childTnLst>
                              <p:par>
                                <p:cTn id="43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8500"/>
                            </p:stCondLst>
                            <p:childTnLst>
                              <p:par>
                                <p:cTn id="44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9000"/>
                            </p:stCondLst>
                            <p:childTnLst>
                              <p:par>
                                <p:cTn id="4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9500"/>
                            </p:stCondLst>
                            <p:childTnLst>
                              <p:par>
                                <p:cTn id="45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0"/>
                            </p:stCondLst>
                            <p:childTnLst>
                              <p:par>
                                <p:cTn id="45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500"/>
                            </p:stCondLst>
                            <p:childTnLst>
                              <p:par>
                                <p:cTn id="46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1000"/>
                            </p:stCondLst>
                            <p:childTnLst>
                              <p:par>
                                <p:cTn id="46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1500"/>
                            </p:stCondLst>
                            <p:childTnLst>
                              <p:par>
                                <p:cTn id="47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2000"/>
                            </p:stCondLst>
                            <p:childTnLst>
                              <p:par>
                                <p:cTn id="47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8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23000"/>
                            </p:stCondLst>
                            <p:childTnLst>
                              <p:par>
                                <p:cTn id="48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3500"/>
                            </p:stCondLst>
                            <p:childTnLst>
                              <p:par>
                                <p:cTn id="49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4000"/>
                            </p:stCondLst>
                            <p:childTnLst>
                              <p:par>
                                <p:cTn id="49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4500"/>
                            </p:stCondLst>
                            <p:childTnLst>
                              <p:par>
                                <p:cTn id="50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250920" y="2637000"/>
          <a:ext cx="8642160" cy="3744720"/>
        </p:xfrm>
        <a:graphic>
          <a:graphicData uri="http://schemas.openxmlformats.org/drawingml/2006/table">
            <a:tbl>
              <a:tblPr/>
              <a:tblGrid>
                <a:gridCol w="431640"/>
                <a:gridCol w="432000"/>
                <a:gridCol w="433080"/>
                <a:gridCol w="432000"/>
                <a:gridCol w="431640"/>
                <a:gridCol w="432000"/>
                <a:gridCol w="431640"/>
                <a:gridCol w="433440"/>
                <a:gridCol w="432000"/>
                <a:gridCol w="431640"/>
                <a:gridCol w="431640"/>
                <a:gridCol w="432000"/>
                <a:gridCol w="433440"/>
                <a:gridCol w="431640"/>
                <a:gridCol w="432000"/>
                <a:gridCol w="431640"/>
                <a:gridCol w="432000"/>
                <a:gridCol w="433080"/>
                <a:gridCol w="432000"/>
                <a:gridCol w="431640"/>
              </a:tblGrid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080808"/>
                      </a:solidFill>
                    </a:lnR>
                    <a:lnT>
                      <a:noFill/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80808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080808"/>
                      </a:solidFill>
                    </a:lnR>
                    <a:lnT>
                      <a:noFill/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80808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080808"/>
                      </a:solidFill>
                    </a:lnR>
                    <a:lnT>
                      <a:noFill/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80808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080808"/>
                      </a:solidFill>
                    </a:lnR>
                    <a:lnT>
                      <a:noFill/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80808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708360" y="907920"/>
            <a:ext cx="179856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omic Sans MS"/>
              </a:rPr>
              <a:t>ТЕОРЕТИЧЕСКАЯ РАЗМИН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324000" y="1125000"/>
            <a:ext cx="8424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cc"/>
                </a:solidFill>
                <a:latin typeface="Comic Sans MS"/>
              </a:rPr>
              <a:t>К уро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cc"/>
                </a:solidFill>
                <a:latin typeface="Comic Sans MS"/>
              </a:rPr>
              <a:t>«Восхождение на математический Олимп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cc"/>
                </a:solidFill>
                <a:latin typeface="Comic Sans MS"/>
              </a:rPr>
              <a:t>по тем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cc"/>
                </a:solidFill>
                <a:latin typeface="Comic Sans MS"/>
              </a:rPr>
              <a:t>«Соотношения между сторонами и углами треугольник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cc"/>
                </a:solidFill>
                <a:latin typeface="Comic Sans MS"/>
              </a:rPr>
              <a:t>Учитель МБОУ СОШ № 2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cc"/>
                </a:solidFill>
                <a:latin typeface="Comic Sans MS"/>
              </a:rPr>
              <a:t>г. Мытищи Московской обла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cc"/>
                </a:solidFill>
                <a:latin typeface="Comic Sans MS"/>
              </a:rPr>
              <a:t>Обухова Ольга Викторо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179280" y="189000"/>
          <a:ext cx="4105440" cy="1239840"/>
        </p:xfrm>
        <a:graphic>
          <a:graphicData uri="http://schemas.openxmlformats.org/drawingml/2006/table">
            <a:tbl>
              <a:tblPr/>
              <a:tblGrid>
                <a:gridCol w="821520"/>
                <a:gridCol w="820080"/>
                <a:gridCol w="821880"/>
                <a:gridCol w="820440"/>
                <a:gridCol w="82152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179280" y="148428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НОШЕНИЕ ПРОТИВОЛЕЖАЩЕГО КАТЕТА К ГИПОТЕНУЗЕ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79280" y="189000"/>
          <a:ext cx="4105440" cy="1239840"/>
        </p:xfrm>
        <a:graphic>
          <a:graphicData uri="http://schemas.openxmlformats.org/drawingml/2006/table">
            <a:tbl>
              <a:tblPr/>
              <a:tblGrid>
                <a:gridCol w="821520"/>
                <a:gridCol w="820080"/>
                <a:gridCol w="821880"/>
                <a:gridCol w="820440"/>
                <a:gridCol w="82152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179280" y="189000"/>
          <a:ext cx="4105440" cy="1239840"/>
        </p:xfrm>
        <a:graphic>
          <a:graphicData uri="http://schemas.openxmlformats.org/drawingml/2006/table">
            <a:tbl>
              <a:tblPr/>
              <a:tblGrid>
                <a:gridCol w="821520"/>
                <a:gridCol w="820080"/>
                <a:gridCol w="821880"/>
                <a:gridCol w="820440"/>
                <a:gridCol w="82152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179280" y="1557360"/>
          <a:ext cx="5746680" cy="1239840"/>
        </p:xfrm>
        <a:graphic>
          <a:graphicData uri="http://schemas.openxmlformats.org/drawingml/2006/table">
            <a:tbl>
              <a:tblPr/>
              <a:tblGrid>
                <a:gridCol w="822240"/>
                <a:gridCol w="819360"/>
                <a:gridCol w="822240"/>
                <a:gridCol w="822240"/>
                <a:gridCol w="819360"/>
                <a:gridCol w="819000"/>
                <a:gridCol w="82224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2031840" y="4024440"/>
            <a:ext cx="657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2924280"/>
            <a:ext cx="8785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Arial"/>
              </a:rPr>
              <a:t>ТО, ЧТО ВЫРАЖАЕТ ТЕОРЕМА: «ЕСЛИ ДВА УГЛА ОДНОГО ТРЕУГОЛЬНИКА СООТВЕТСТВЕННО РАВНЫ ДВУМ УГЛАМ ДРУГОГО ТРЕУГОЛЬНИКА, ТО ТАКИЕ ТРЕУГОЛЬНИКИ ПОДОБНЫ»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79280" y="189000"/>
          <a:ext cx="4105440" cy="1239840"/>
        </p:xfrm>
        <a:graphic>
          <a:graphicData uri="http://schemas.openxmlformats.org/drawingml/2006/table">
            <a:tbl>
              <a:tblPr/>
              <a:tblGrid>
                <a:gridCol w="821520"/>
                <a:gridCol w="820080"/>
                <a:gridCol w="821880"/>
                <a:gridCol w="820440"/>
                <a:gridCol w="82152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179280" y="1557360"/>
          <a:ext cx="5746680" cy="1239840"/>
        </p:xfrm>
        <a:graphic>
          <a:graphicData uri="http://schemas.openxmlformats.org/drawingml/2006/table">
            <a:tbl>
              <a:tblPr/>
              <a:tblGrid>
                <a:gridCol w="822600"/>
                <a:gridCol w="819000"/>
                <a:gridCol w="822240"/>
                <a:gridCol w="822240"/>
                <a:gridCol w="819360"/>
                <a:gridCol w="819000"/>
                <a:gridCol w="82224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2031840" y="4024440"/>
            <a:ext cx="657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79280" y="189000"/>
          <a:ext cx="4105440" cy="1239840"/>
        </p:xfrm>
        <a:graphic>
          <a:graphicData uri="http://schemas.openxmlformats.org/drawingml/2006/table">
            <a:tbl>
              <a:tblPr/>
              <a:tblGrid>
                <a:gridCol w="821520"/>
                <a:gridCol w="820080"/>
                <a:gridCol w="821880"/>
                <a:gridCol w="820440"/>
                <a:gridCol w="82152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179280" y="1557360"/>
          <a:ext cx="5746680" cy="1239840"/>
        </p:xfrm>
        <a:graphic>
          <a:graphicData uri="http://schemas.openxmlformats.org/drawingml/2006/table">
            <a:tbl>
              <a:tblPr/>
              <a:tblGrid>
                <a:gridCol w="822600"/>
                <a:gridCol w="819000"/>
                <a:gridCol w="822240"/>
                <a:gridCol w="822240"/>
                <a:gridCol w="819360"/>
                <a:gridCol w="819000"/>
                <a:gridCol w="82224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2031840" y="4024440"/>
            <a:ext cx="657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79280" y="2924280"/>
          <a:ext cx="5746680" cy="1239840"/>
        </p:xfrm>
        <a:graphic>
          <a:graphicData uri="http://schemas.openxmlformats.org/drawingml/2006/table">
            <a:tbl>
              <a:tblPr/>
              <a:tblGrid>
                <a:gridCol w="822240"/>
                <a:gridCol w="819000"/>
                <a:gridCol w="822240"/>
                <a:gridCol w="822600"/>
                <a:gridCol w="819000"/>
                <a:gridCol w="819000"/>
                <a:gridCol w="82260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3040200" y="5465880"/>
            <a:ext cx="556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4241880"/>
            <a:ext cx="878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НОШЕНИЕ ПРИЛЕЖАЩЕГО КАТЕТА К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ИПОТЕНУЗЕ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179280" y="189000"/>
          <a:ext cx="4105440" cy="1239840"/>
        </p:xfrm>
        <a:graphic>
          <a:graphicData uri="http://schemas.openxmlformats.org/drawingml/2006/table">
            <a:tbl>
              <a:tblPr/>
              <a:tblGrid>
                <a:gridCol w="821520"/>
                <a:gridCol w="820080"/>
                <a:gridCol w="821880"/>
                <a:gridCol w="820440"/>
                <a:gridCol w="82152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179280" y="1557360"/>
          <a:ext cx="5746680" cy="1239840"/>
        </p:xfrm>
        <a:graphic>
          <a:graphicData uri="http://schemas.openxmlformats.org/drawingml/2006/table">
            <a:tbl>
              <a:tblPr/>
              <a:tblGrid>
                <a:gridCol w="822600"/>
                <a:gridCol w="819000"/>
                <a:gridCol w="822240"/>
                <a:gridCol w="822240"/>
                <a:gridCol w="819360"/>
                <a:gridCol w="819000"/>
                <a:gridCol w="82224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2031840" y="4024440"/>
            <a:ext cx="657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79280" y="2924280"/>
          <a:ext cx="5746680" cy="1239840"/>
        </p:xfrm>
        <a:graphic>
          <a:graphicData uri="http://schemas.openxmlformats.org/drawingml/2006/table">
            <a:tbl>
              <a:tblPr/>
              <a:tblGrid>
                <a:gridCol w="822240"/>
                <a:gridCol w="819000"/>
                <a:gridCol w="822240"/>
                <a:gridCol w="822600"/>
                <a:gridCol w="819000"/>
                <a:gridCol w="819000"/>
                <a:gridCol w="82260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3040200" y="5465880"/>
            <a:ext cx="556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179280" y="189000"/>
          <a:ext cx="4105440" cy="1239840"/>
        </p:xfrm>
        <a:graphic>
          <a:graphicData uri="http://schemas.openxmlformats.org/drawingml/2006/table">
            <a:tbl>
              <a:tblPr/>
              <a:tblGrid>
                <a:gridCol w="821520"/>
                <a:gridCol w="820080"/>
                <a:gridCol w="821880"/>
                <a:gridCol w="820440"/>
                <a:gridCol w="82152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79280" y="1557360"/>
          <a:ext cx="5746680" cy="1239840"/>
        </p:xfrm>
        <a:graphic>
          <a:graphicData uri="http://schemas.openxmlformats.org/drawingml/2006/table">
            <a:tbl>
              <a:tblPr/>
              <a:tblGrid>
                <a:gridCol w="822600"/>
                <a:gridCol w="819000"/>
                <a:gridCol w="822240"/>
                <a:gridCol w="822240"/>
                <a:gridCol w="819360"/>
                <a:gridCol w="819000"/>
                <a:gridCol w="82224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2031840" y="4024440"/>
            <a:ext cx="657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79280" y="2924280"/>
          <a:ext cx="5746680" cy="1239840"/>
        </p:xfrm>
        <a:graphic>
          <a:graphicData uri="http://schemas.openxmlformats.org/drawingml/2006/table">
            <a:tbl>
              <a:tblPr/>
              <a:tblGrid>
                <a:gridCol w="822240"/>
                <a:gridCol w="819000"/>
                <a:gridCol w="822240"/>
                <a:gridCol w="822600"/>
                <a:gridCol w="819000"/>
                <a:gridCol w="819000"/>
                <a:gridCol w="82260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3040200" y="5465880"/>
            <a:ext cx="556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9280" y="4292640"/>
          <a:ext cx="5746680" cy="1239840"/>
        </p:xfrm>
        <a:graphic>
          <a:graphicData uri="http://schemas.openxmlformats.org/drawingml/2006/table">
            <a:tbl>
              <a:tblPr/>
              <a:tblGrid>
                <a:gridCol w="822240"/>
                <a:gridCol w="819000"/>
                <a:gridCol w="822240"/>
                <a:gridCol w="822600"/>
                <a:gridCol w="819000"/>
                <a:gridCol w="819000"/>
                <a:gridCol w="82260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2751120" y="5734080"/>
            <a:ext cx="578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"/>
          <p:cNvSpPr/>
          <p:nvPr/>
        </p:nvSpPr>
        <p:spPr>
          <a:xfrm>
            <a:off x="190800" y="5681520"/>
            <a:ext cx="846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НОШЕНИЕ ПРОТИВОЛЕЖАЩЕГО КАТЕТА К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ЛЕЖАЩЕМУ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10:06:35Z</dcterms:created>
  <dc:creator>Обухова Ольга</dc:creator>
  <dc:description/>
  <dc:language>en-US</dc:language>
  <cp:lastModifiedBy>Обухова Ольга</cp:lastModifiedBy>
  <dcterms:modified xsi:type="dcterms:W3CDTF">2012-03-28T20:41:16Z</dcterms:modified>
  <cp:revision>14</cp:revision>
  <dc:subject/>
  <dc:title>ТЕОРЕТИЧЕСКАЯ РАЗМИН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