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0B3-F87F-4F91-BB53-B725ED981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02A-D198-45A7-87E0-01C4F0E89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A0C-9937-427C-AFFA-FF5D4D0A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DCA-B3C4-4CA5-9817-1B3DE69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325-D35F-4A30-B3A9-F981F1DD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7F9-3432-4A5D-9064-D8DFAC23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D96-A91B-4201-A707-D15F3664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7E9-193A-4C82-AF79-2F9CF75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C98-5411-403A-A7B3-0A64E5F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498-5451-4A18-B722-F90336C1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E1E-DA44-419D-9294-2B149123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4F0-2C3C-4A8E-83DD-4F7E7CFD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67F-729C-4ECF-82E5-D687A64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CBF-A67D-4EF6-A11C-642F943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A2F-EF19-4900-AA85-463A4D7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5C7-996D-4CB8-86EC-74D7EEB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5216-FBD3-4592-BBDF-FEBFF19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FAF-3DEB-49D5-9CE1-CDC826E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DC0B-78B7-40A3-9021-A0205BD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E9D7-86CF-4BB7-9139-7BF0B19A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8C09-824F-4C91-AA8D-ED898228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ED88-7EC6-4A6F-A85C-CCA04444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FBCC-CBA5-4422-ADBF-DF3233C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71F5-45B9-421F-9A71-CC8BC28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FF6-B9C7-4F66-BC73-559A9E3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E83D-9589-42EE-8207-7BBACAB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7EF8-3355-4972-821F-9CF8CC8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DD6B-EAB2-439E-88C5-5F4F83D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8B46-E926-4173-B0F1-91B6E0D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3AD4-5921-4AA6-80A8-E285313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B752-448A-4BE7-B92E-DFDEA7E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12E0-736A-400D-839B-79AD958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B16C-93EF-4310-8090-FD8FD17E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A3F37-1B99-4AF0-9469-9C077CCA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A592-BE42-4B4E-9858-D4D1656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FD-2C78-4B8A-9846-439285BE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3ABE-DE30-4091-B991-29B231C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1599-087A-4580-988A-8833208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91C7-2DE9-4DC3-8DED-419F1509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3D0B-B39D-4433-99AC-05F853E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E235-FDC7-443D-8BC8-DF88E4F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F528-C575-44F7-98E6-5CDB92F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0ECE-6A65-4627-80FE-5886DE3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B1B8-D5E9-403A-A154-A4D6F70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0D03-EB6C-453C-921B-81228688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E950-F12D-4620-A52A-6388CD4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F0B-06F4-41EB-A1D6-F04787F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2EF1-7F4E-4F79-9F98-6852861D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7243-9AC0-43BB-A82A-64384AB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B7F93-0D62-4F72-9A82-D176227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9167-C1A8-4DB4-838F-49EC34C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B5DC-BBB5-4EA5-909C-41BE543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C019-BD57-425A-9305-F02D462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418B-0E9B-4D18-89D6-272AD55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77A4-9961-43B4-BE6D-C813BEF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9A227-E5A8-436E-9C17-04DC54A7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6532-C58A-4F3C-A5C4-0CD2A34D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D53-FDAE-4E0E-8A89-CBA6FDF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94FA-3251-4768-8876-EFCAF4EE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271C-C7A6-46F0-9D08-C780C51A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5265-E394-41DB-A087-F205D709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8E0E-00F6-47E3-8527-894F4B2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542A-9EBA-422A-99BD-5387929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458A-163A-4A37-871B-5C67AAD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2AE8-6456-4ED8-9FA3-4A6E286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9FD5-2B2B-4FA6-A933-7B7B72DD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FDAD-E9D4-47E6-8FA4-236F066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40F35-6BAF-4ECD-B211-1B02F14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715-55B3-4278-8EFE-2AA43FF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8D6A-F7CF-4E98-B057-673577B0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7555-C36D-49F9-954D-010C80F7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538F5-51ED-4157-A22D-8CA346D0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574B-2F91-4F41-9871-F3276A86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32FA-9126-4A15-A410-4531CA6A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2A83-7460-4EC4-975A-153A9F29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DC74-C92C-46B7-B0A6-506C8E8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1872-81DB-472C-9B26-FEEB9DE5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169E-1D16-48A3-B870-5296DF82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1C73-3A54-4E7F-82D8-1807AB4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905-2CFD-45F2-A7DE-2FE0D4A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E427-CC48-4718-A388-A2ECEC3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6969-DA2A-49FD-BFE7-DAA10B3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2CFAF-C55D-4AAD-8400-4FA6F7FA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B0F0-684C-4E05-B33E-D7E39CED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7E878-C262-4F88-8A4C-45A77DD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0D1-7F69-4EF7-A538-D5CD85A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ED3-13B0-4244-BD47-CCB6A535C3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E52-0F97-4784-993D-1BFFBC20FC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962-8C80-49F3-B91D-906FE1C61C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D7D-D80F-4340-B0B3-3DB0A1A379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F98-EA14-4766-8922-06BCF85F62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50B7-6291-431A-8700-85B91247A5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09CA-C23F-4E6E-9BC6-10BC8505FF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7" descr=""/>
          <p:cNvPicPr/>
          <p:nvPr/>
        </p:nvPicPr>
        <p:blipFill>
          <a:blip r:embed="rId1"/>
          <a:stretch/>
        </p:blipFill>
        <p:spPr>
          <a:xfrm>
            <a:off x="-30240" y="-268200"/>
            <a:ext cx="9412200" cy="45590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9"/>
          <p:cNvSpPr/>
          <p:nvPr/>
        </p:nvSpPr>
        <p:spPr>
          <a:xfrm>
            <a:off x="4108320" y="4411800"/>
            <a:ext cx="51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Н.С. Гаврил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Учитель  начальных класс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МАОУ  СОШ № 2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Юж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Муравье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Муравьед ест муравьёв и термитов, за что и получил своё название. Он когтями (а они у него длиной с карандаш) пробивает крепкую стенку термитника, просовывает в дыру узкую, как труба, морду и высовывает язык. Язык у муравьеда достигает полуметра. Им он слизывает термитов. За день он съедает до 30 тысяч насекомых. А потом сворачивается калачиком в тени, укрывается пышным хвостом и спит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-4657680" y="826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Муравьед"/>
          <p:cNvPicPr/>
          <p:nvPr/>
        </p:nvPicPr>
        <p:blipFill>
          <a:blip r:embed="rId1"/>
          <a:stretch/>
        </p:blipFill>
        <p:spPr>
          <a:xfrm>
            <a:off x="4500720" y="3110040"/>
            <a:ext cx="251928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587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ф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895320" y="3645000"/>
            <a:ext cx="1540080" cy="17938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3995640" y="2060640"/>
            <a:ext cx="4929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а – самый знойный 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мли. Круглый год там жарко,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 бывает морозов, и местные ж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когда не видели снега. Здесь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на из самых красивых гор ми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лиманджаро, вершину которой укр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ают ледники. Самая крупная р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– Нил. Самая большая пусты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и всего мира – Сах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ф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932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раф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раф – самый высокий зверь. Он ест листья деревьев. Он пасётся как бы на висячем лугу. Сверху ему хорошо видно всех, кто к нему подходит. Если кто-то попытается подобраться к нему незаметно, то может получить копытом в ло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7" name="Picture 11" descr="Африка"/>
          <p:cNvPicPr/>
          <p:nvPr/>
        </p:nvPicPr>
        <p:blipFill>
          <a:blip r:embed="rId1"/>
          <a:stretch/>
        </p:blipFill>
        <p:spPr>
          <a:xfrm>
            <a:off x="324000" y="3429000"/>
            <a:ext cx="2536560" cy="2330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73e87"/>
                </a:solidFill>
                <a:latin typeface="Monotype Corsiva"/>
              </a:rPr>
              <a:t>Обитатели Афр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встрал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06560" y="3794040"/>
            <a:ext cx="1981080" cy="1949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8"/>
          <p:cNvSpPr/>
          <p:nvPr/>
        </p:nvSpPr>
        <p:spPr>
          <a:xfrm>
            <a:off x="3833280" y="1967040"/>
            <a:ext cx="582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й маленький матер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встралия. Расположен он в юж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У природы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ного особенностей, отличающих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 других материков.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животные и растения,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т больше нигде на земном ш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десь много сумчатых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торые вынашивают своих детён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ей в сумке на жив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Австр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ала похож на плюшевого медвежонка. В лесу у него нет врагов. Ест коала листья и побеги эвкалипта. Детёнышей носит на спин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Picture 6" descr="Коала"/>
          <p:cNvPicPr/>
          <p:nvPr/>
        </p:nvPicPr>
        <p:blipFill>
          <a:blip r:embed="rId1"/>
          <a:stretch/>
        </p:blipFill>
        <p:spPr>
          <a:xfrm>
            <a:off x="826920" y="3357720"/>
            <a:ext cx="1622520" cy="2273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нтарктид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/>
          <a:stretch/>
        </p:blipFill>
        <p:spPr>
          <a:xfrm>
            <a:off x="19080" y="3602160"/>
            <a:ext cx="2406600" cy="1884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4228560" y="1751040"/>
            <a:ext cx="551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ый холодный матер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многие сотни километр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нтарктиде простир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жные равнины, прерыв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ногда хребтами гор. Антаркт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 – единственная часть св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де запрещены любые во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отовления. Весь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дан в распоряжение учёных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ых стран мира. Там пост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янно находится около 7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нтарктид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9" name="Picture 8" descr="Антарктида"/>
          <p:cNvPicPr/>
          <p:nvPr/>
        </p:nvPicPr>
        <p:blipFill>
          <a:blip r:embed="rId1"/>
          <a:stretch/>
        </p:blipFill>
        <p:spPr>
          <a:xfrm>
            <a:off x="250920" y="3933720"/>
            <a:ext cx="1639800" cy="12956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0"/>
          <p:cNvSpPr/>
          <p:nvPr/>
        </p:nvSpPr>
        <p:spPr>
          <a:xfrm>
            <a:off x="4137120" y="1916280"/>
            <a:ext cx="4368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нг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рупная океаническая п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ингвина обтекаемой фор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он хорошо плавае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ряет. Питается мелкой ры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ьмарами, рако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057" descr="PH01046J"/>
          <p:cNvPicPr/>
          <p:nvPr/>
        </p:nvPicPr>
        <p:blipFill>
          <a:blip r:embed="rId1"/>
          <a:stretch/>
        </p:blipFill>
        <p:spPr>
          <a:xfrm>
            <a:off x="3211560" y="4087800"/>
            <a:ext cx="1360440" cy="1789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50920" y="23194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на интерактивной до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670120" cy="20286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673600" y="922320"/>
            <a:ext cx="350892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2" action="ppaction://hlinksldjump"/>
              </a:rPr>
              <a:t>Евр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3" action="ppaction://hlinksldjump"/>
              </a:rPr>
              <a:t>Аме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4" action="ppaction://hlinksldjump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5" action="ppaction://hlinksldjump"/>
              </a:rPr>
              <a:t>Австр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6" action="ppaction://hlinksldjump"/>
              </a:rPr>
              <a:t>Антаркт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Organization Chart 7"/>
          <p:cNvGrpSpPr/>
          <p:nvPr/>
        </p:nvGrpSpPr>
        <p:grpSpPr>
          <a:xfrm>
            <a:off x="539640" y="404640"/>
            <a:ext cx="8209080" cy="1944720"/>
            <a:chOff x="539640" y="404640"/>
            <a:chExt cx="8209080" cy="1944720"/>
          </a:xfrm>
        </p:grpSpPr>
        <p:cxnSp>
          <p:nvCxnSpPr>
            <p:cNvPr id="347" name="_s1028"/>
            <p:cNvCxnSpPr>
              <a:stCxn id="348" idx="0"/>
              <a:endCxn id="349" idx="2"/>
            </p:cNvCxnSpPr>
            <p:nvPr/>
          </p:nvCxnSpPr>
          <p:spPr>
            <a:xfrm flipV="1" rot="16200000">
              <a:off x="5554800" y="27144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1029"/>
            <p:cNvCxnSpPr>
              <a:stCxn id="351" idx="0"/>
              <a:endCxn id="349" idx="2"/>
            </p:cNvCxnSpPr>
            <p:nvPr/>
          </p:nvCxnSpPr>
          <p:spPr>
            <a:xfrm flipH="1" flipV="1" rot="5400000">
              <a:off x="3345480" y="27180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1030"/>
            <p:cNvSpPr/>
            <p:nvPr/>
          </p:nvSpPr>
          <p:spPr>
            <a:xfrm>
              <a:off x="2752560" y="404640"/>
              <a:ext cx="3783240" cy="7779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Monotype Corsiva"/>
                </a:rPr>
                <a:t>Евр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1"/>
            <p:cNvSpPr/>
            <p:nvPr/>
          </p:nvSpPr>
          <p:spPr>
            <a:xfrm>
              <a:off x="53964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Европ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2"/>
            <p:cNvSpPr/>
            <p:nvPr/>
          </p:nvSpPr>
          <p:spPr>
            <a:xfrm>
              <a:off x="495936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19" descr=""/>
            <p:cNvPicPr/>
            <p:nvPr/>
          </p:nvPicPr>
          <p:blipFill>
            <a:blip r:embed="rId3"/>
            <a:stretch/>
          </p:blipFill>
          <p:spPr>
            <a:xfrm>
              <a:off x="539640" y="1557360"/>
              <a:ext cx="71280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Picture 18" descr="BL00392_"/>
          <p:cNvPicPr/>
          <p:nvPr/>
        </p:nvPicPr>
        <p:blipFill>
          <a:blip r:embed="rId4"/>
          <a:stretch/>
        </p:blipFill>
        <p:spPr>
          <a:xfrm>
            <a:off x="5076720" y="1557360"/>
            <a:ext cx="863640" cy="771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"/>
          <p:cNvPicPr/>
          <p:nvPr/>
        </p:nvPicPr>
        <p:blipFill>
          <a:blip r:embed="rId5"/>
          <a:stretch/>
        </p:blipFill>
        <p:spPr>
          <a:xfrm>
            <a:off x="2627280" y="3467160"/>
            <a:ext cx="306396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Европ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2"/>
          <a:srcRect l="0" t="0" r="0" b="14726"/>
          <a:stretch/>
        </p:blipFill>
        <p:spPr>
          <a:xfrm>
            <a:off x="468360" y="3683160"/>
            <a:ext cx="2628720" cy="15490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0"/>
          <p:cNvSpPr/>
          <p:nvPr/>
        </p:nvSpPr>
        <p:spPr>
          <a:xfrm>
            <a:off x="5563080" y="2039760"/>
            <a:ext cx="408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внинная. Самые вы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е горы-Альпы.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ых  рек Европ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лга, Дунай, Днеп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н, Рейн, Эльб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вропейск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образна. 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ть арктические пу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ыни, тундры, 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смешанные леса, ст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Аз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rcRect l="0" t="0" r="0" b="11737"/>
          <a:stretch/>
        </p:blipFill>
        <p:spPr>
          <a:xfrm>
            <a:off x="214200" y="3367080"/>
            <a:ext cx="2484720" cy="150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4140360" y="1413000"/>
            <a:ext cx="474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ая большая часть света. Здесь находятся самые высокие горы на Земле - Гималаи и величайшая вершина – Джомолунгма) Эверест. Самые  длинные и полноводные  реки Азии – Обь, Иртыш, Енисей, Лена, Аму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уанхэ, Янцзы, Инд, Г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территории нашей страны находится в  Азии, в том числе и г.Краснояр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8"/>
          <p:cNvGrpSpPr/>
          <p:nvPr/>
        </p:nvGrpSpPr>
        <p:grpSpPr>
          <a:xfrm>
            <a:off x="468360" y="1052640"/>
            <a:ext cx="8208000" cy="4462560"/>
            <a:chOff x="468360" y="1052640"/>
            <a:chExt cx="8208000" cy="4462560"/>
          </a:xfrm>
        </p:grpSpPr>
        <p:cxnSp>
          <p:nvCxnSpPr>
            <p:cNvPr id="362" name="_s2052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230800" y="217836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2053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21120" y="217800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4" name="_s2054"/>
            <p:cNvSpPr/>
            <p:nvPr/>
          </p:nvSpPr>
          <p:spPr>
            <a:xfrm>
              <a:off x="2678760" y="105264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Monotype Corsiva"/>
                </a:rPr>
                <a:t>Амери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2055"/>
            <p:cNvSpPr/>
            <p:nvPr/>
          </p:nvSpPr>
          <p:spPr>
            <a:xfrm>
              <a:off x="46836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Север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56"/>
            <p:cNvSpPr/>
            <p:nvPr/>
          </p:nvSpPr>
          <p:spPr>
            <a:xfrm>
              <a:off x="488808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3" action="ppaction://hlinksldjump"/>
                </a:rPr>
                <a:t>Юж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4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Север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17600" y="2492280"/>
            <a:ext cx="2082960" cy="20163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3671640" y="2039760"/>
            <a:ext cx="578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т материк находится в север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В западной части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янутся горы Кордильеры. С них с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ет самая крупная река матери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иссиси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рода Северной Америки раз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разна. Здесь есть ледники, тун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устая тайга, степи и 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е Север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27280" y="1920960"/>
            <a:ext cx="4259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Аллигат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реках, озёрах и болотах Северной Америки водятся древнейшие обитатели нашей планеты – аллигаторы. Благодаря обтекаемой форме тела, могучему хвосту и перепонкам на лапах этим свирепым и ненасытным хищникам живётся в водной стихии привольно. У аллигаторов сильные челюсти и острые зубы, отличные зрение и слух. От их рёва, подобного львиному, содрогаются все животные в округ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-4406760" y="687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8" descr="Аллигатор"/>
          <p:cNvPicPr/>
          <p:nvPr/>
        </p:nvPicPr>
        <p:blipFill>
          <a:blip r:embed="rId1"/>
          <a:stretch/>
        </p:blipFill>
        <p:spPr>
          <a:xfrm>
            <a:off x="755640" y="2997360"/>
            <a:ext cx="266076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Юж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755640" y="3249720"/>
            <a:ext cx="1871640" cy="20174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4286160" y="1928880"/>
            <a:ext cx="4635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этом материке пр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е длинны горы-Анды и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ая полноводная река мир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азонка. На севере Анд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е дождливое место в мире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юге - одна из наиболее засушл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устынь мира – Атаками. Ю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ерика-родина картофеля, помид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околадного и каучукового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20:43:52Z</dcterms:created>
  <dc:creator>рыжук</dc:creator>
  <dc:description/>
  <dc:language>en-US</dc:language>
  <cp:lastModifiedBy>днс</cp:lastModifiedBy>
  <dcterms:modified xsi:type="dcterms:W3CDTF">2014-01-29T18:44:20Z</dcterms:modified>
  <cp:revision>31</cp:revision>
  <dc:subject/>
  <dc:title>Путешествие по материкам </dc:title>
</cp:coreProperties>
</file>