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F8B8-92E3-4C20-8D9A-86189FD12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2AE-ECA1-4CCB-8E3A-E045390C0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EFC-67EB-4A0B-9BD5-B6EC0CF5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DE5-BC3F-48C9-8DC2-280AD65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52D-4084-4C24-B89C-56B9608E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ECB-013E-4ABC-A880-9752508F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AC2-F802-47D0-8371-49C0BF14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316-4240-4DBD-9F92-378A18E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876-CD21-4CC0-9F69-71ACAB9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2D2-BA4A-48D4-B0E2-BB4FA8C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FB5-4E16-4157-A81D-C9C89FF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940-FFCA-48E6-88A8-5C0300A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715D-49EE-4934-BA68-BAACE9D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B91-EEA8-41C8-8DB6-8DEE06F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0FC8-15DF-4A3D-863C-493BF2E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A033-238D-4CB7-9A80-21347E2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431-5704-4B24-BE5F-6E7C001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C2FE-6533-4663-A98A-48CA660C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0AF-2310-461A-ACF1-05982E34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8693-0F51-4296-AF8D-D658176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A822-627C-4476-A092-7D1E23D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C5A4-D3AE-49FA-8F82-08ADCD3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A351-F0DE-4891-8E1F-F21EB90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3DD7-C490-4862-8F8A-6597F015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AAA-D0EB-4E5E-A5C6-3F0233F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6AFF-2E7A-410C-A2D2-1E8ECBB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202D-7E41-4583-8862-F67A856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0443-BD61-4417-947E-6EEB7AB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BB0D-35DF-4BBB-A6E1-96FF54C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D241-18BE-4BED-9396-DF7B80F3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243E-4466-470F-A9D5-3FB69F14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D489-962B-45A6-AF39-622B96AF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E02A-1DFD-49ED-AB86-38739F5B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48A2-7302-48EE-A916-DAB1C2C6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89F3-0EEC-4C16-A6BB-9049761E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3E2-5CC6-4A4B-AE5D-7F0C5E1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837AF-3E29-4F95-A16C-C86593F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CF2F-9152-4E7E-BE7E-EA2CA36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4106-6EC5-477D-AE76-D5EA4AC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7131-F77A-48FF-9193-6D91AAE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2F80-7374-482C-891E-34C8FA6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8481-B234-4675-98FD-6D4E740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8C39-F610-43E3-8A72-07F54F46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038A-5A8D-4092-98C2-BCB9F975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5CE3-6CCB-4F6B-8409-EBA34D25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3413-9AD0-4F37-967C-D310C30D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938-5760-4D69-AD3D-94881F0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184A-E606-4ED6-A91D-FB905F7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E99C-2E5B-4496-97FB-E973239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C1A8-73B1-4A11-B6BD-473A00F0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94C58-3480-426F-9D14-01D53D3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C148-1FBB-4FCD-B13A-0700682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29F4-6319-4071-9569-8CBB70B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2796-BE3E-443C-9898-4061C69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EEAF-1B4F-4194-AA61-95DF213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F4C5-B1A5-4551-A56F-E688934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F9D8-35A6-400C-81FC-C823B791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114-E7B0-40F6-9BD2-171D094E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27CD-C272-4CF7-A915-DBA7A726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30FD-A226-41E7-A78C-681D897F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EE58-CCCA-41DB-8B8F-540133A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7446-6FD3-45D6-8EF4-F1F4779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9D6C7-1A16-4220-B6A4-E513C1E0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CAE8D-D33B-459E-A8DB-74A320AA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F5EA-5EDA-4CEA-9E36-2621FED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A7DDB-127B-4DCF-B858-90D9A1A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1C25-2FC6-4386-A59E-4A798F1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DD0F-E58F-454F-8036-D3F5C2C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9E7-10FC-4F0A-8468-6178C16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C676-A5C2-4A4C-BD6F-2B1BC3D6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C68C1-AA91-4472-81C6-B2424852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43A2-09E6-40CB-B7F6-39B0945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1B76-2FB0-43A9-B641-A8822EC7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D22E8-D12F-405B-8D9B-FDF7C37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02DE-A559-4B69-A681-D58F08F3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BFCB4-7A38-4970-8FA1-CF737EC9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9228-5D1B-462B-98F0-30A70916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AE4A-108E-4848-A59B-3AAD892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BF5F7-93AA-4083-9836-2DF2512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F40-52BA-427F-BBC2-7F9DD65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1D61-D309-43B1-A235-F8F622AF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6B12-EDDA-4AF9-888A-AA648F8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7862-858B-48A7-8DB5-A34E123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9296-2BAC-4749-B168-F618A501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09C0-D683-46EC-9C44-6B7943D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A3A-E633-4865-95C1-108A599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3F1-1466-4603-B5BD-9A691111BD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02F4-E734-4E60-971B-7F8725E3A6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2AA-7C0E-454F-B935-207C1E1F0F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3DC-842F-485E-B244-32B080B92D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EDE-6BD0-4A20-8538-0991CF9931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089-2F65-44B5-B625-4DC2645BF3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16E-4B6A-45CB-AEC6-1C3BEF276B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7" descr=""/>
          <p:cNvPicPr/>
          <p:nvPr/>
        </p:nvPicPr>
        <p:blipFill>
          <a:blip r:embed="rId1"/>
          <a:stretch/>
        </p:blipFill>
        <p:spPr>
          <a:xfrm>
            <a:off x="-30240" y="-268200"/>
            <a:ext cx="9412200" cy="45590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9"/>
          <p:cNvSpPr/>
          <p:nvPr/>
        </p:nvSpPr>
        <p:spPr>
          <a:xfrm>
            <a:off x="4108320" y="4411800"/>
            <a:ext cx="51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Н.С. Гаврил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Учитель  начальных класс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МАОУ  СОШ № 2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Юж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Муравье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Муравьед ест муравьёв и термитов, за что и получил своё название. Он когтями (а они у него длиной с карандаш) пробивает крепкую стенку термитника, просовывает в дыру узкую, как труба, морду и высовывает язык. Язык у муравьеда достигает полуметра. Им он слизывает термитов. За день он съедает до 30 тысяч насекомых. А потом сворачивается калачиком в тени, укрывается пышным хвостом и спит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-4657680" y="826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Муравьед"/>
          <p:cNvPicPr/>
          <p:nvPr/>
        </p:nvPicPr>
        <p:blipFill>
          <a:blip r:embed="rId1"/>
          <a:stretch/>
        </p:blipFill>
        <p:spPr>
          <a:xfrm>
            <a:off x="4500720" y="3110040"/>
            <a:ext cx="251928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587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ф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895320" y="3645000"/>
            <a:ext cx="1540080" cy="17938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3995640" y="2060640"/>
            <a:ext cx="4929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а – самый знойный 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мли. Круглый год там жарко,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 бывает морозов, и местные ж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когда не видели снега. Здесь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на из самых красивых гор ми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лиманджаро, вершину которой укр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ают ледники. Самая крупная р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– Нил. Самая большая пусты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фрики и всего мира – Сах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ф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932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раф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раф – самый высокий зверь. Он ест листья деревьев. Он пасётся как бы на висячем лугу. Сверху ему хорошо видно всех, кто к нему подходит. Если кто-то попытается подобраться к нему незаметно, то может получить копытом в ло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7" name="Picture 11" descr="Африка"/>
          <p:cNvPicPr/>
          <p:nvPr/>
        </p:nvPicPr>
        <p:blipFill>
          <a:blip r:embed="rId1"/>
          <a:stretch/>
        </p:blipFill>
        <p:spPr>
          <a:xfrm>
            <a:off x="324000" y="3429000"/>
            <a:ext cx="2536560" cy="2330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73e87"/>
                </a:solidFill>
                <a:latin typeface="Monotype Corsiva"/>
              </a:rPr>
              <a:t>Обитатели Афр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встрал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06560" y="3794040"/>
            <a:ext cx="1981080" cy="1949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8"/>
          <p:cNvSpPr/>
          <p:nvPr/>
        </p:nvSpPr>
        <p:spPr>
          <a:xfrm>
            <a:off x="3833280" y="1967040"/>
            <a:ext cx="582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й маленький матер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встралия. Расположен он в юж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У природы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ного особенностей, отличающих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 других материков.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животные и растения,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т больше нигде на земном ш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десь много сумчатых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торые вынашивают своих детён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ей в сумке на жив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й мир Австр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ала похож на плюшевого медвежонка. В лесу у него нет врагов. Ест коала листья и побеги эвкалипта. Детёнышей носит на спин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Picture 6" descr="Коала"/>
          <p:cNvPicPr/>
          <p:nvPr/>
        </p:nvPicPr>
        <p:blipFill>
          <a:blip r:embed="rId1"/>
          <a:stretch/>
        </p:blipFill>
        <p:spPr>
          <a:xfrm>
            <a:off x="826920" y="3357720"/>
            <a:ext cx="1622520" cy="2273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Антарктид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/>
          <a:stretch/>
        </p:blipFill>
        <p:spPr>
          <a:xfrm>
            <a:off x="19080" y="3602160"/>
            <a:ext cx="2406600" cy="1884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4228560" y="1751040"/>
            <a:ext cx="551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ый холодный матер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многие сотни километр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нтарктиде простир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жные равнины, прерыв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ногда хребтами гор. Антаркт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 – единственная часть св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де запрещены любые во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отовления. Весь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дан в распоряжение учёных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ых стран мира. Там пост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янно находится около 7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битатели Антарктид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9" name="Picture 8" descr="Антарктида"/>
          <p:cNvPicPr/>
          <p:nvPr/>
        </p:nvPicPr>
        <p:blipFill>
          <a:blip r:embed="rId1"/>
          <a:stretch/>
        </p:blipFill>
        <p:spPr>
          <a:xfrm>
            <a:off x="250920" y="3933720"/>
            <a:ext cx="1639800" cy="12956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0"/>
          <p:cNvSpPr/>
          <p:nvPr/>
        </p:nvSpPr>
        <p:spPr>
          <a:xfrm>
            <a:off x="4137120" y="1916280"/>
            <a:ext cx="4368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нг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рупная океаническая п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ингвина обтекаемой фор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он хорошо плавае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ряет. Питается мелкой ры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ьмарами, рако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057" descr="PH01046J"/>
          <p:cNvPicPr/>
          <p:nvPr/>
        </p:nvPicPr>
        <p:blipFill>
          <a:blip r:embed="rId1"/>
          <a:stretch/>
        </p:blipFill>
        <p:spPr>
          <a:xfrm>
            <a:off x="3211560" y="4087800"/>
            <a:ext cx="1360440" cy="1789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50920" y="23194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на интерактивной до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670120" cy="20286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673600" y="922320"/>
            <a:ext cx="350892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2" action="ppaction://hlinksldjump"/>
              </a:rPr>
              <a:t>Евр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3" action="ppaction://hlinksldjump"/>
              </a:rPr>
              <a:t>Аме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4" action="ppaction://hlinksldjump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5" action="ppaction://hlinksldjump"/>
              </a:rPr>
              <a:t>Австр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ff"/>
                </a:solidFill>
                <a:uFillTx/>
                <a:latin typeface="Monotype Corsiva"/>
                <a:hlinkClick r:id="rId6" action="ppaction://hlinksldjump"/>
              </a:rPr>
              <a:t>Антаркт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Organization Chart 7"/>
          <p:cNvGrpSpPr/>
          <p:nvPr/>
        </p:nvGrpSpPr>
        <p:grpSpPr>
          <a:xfrm>
            <a:off x="539640" y="404640"/>
            <a:ext cx="8209080" cy="1944720"/>
            <a:chOff x="539640" y="404640"/>
            <a:chExt cx="8209080" cy="1944720"/>
          </a:xfrm>
        </p:grpSpPr>
        <p:cxnSp>
          <p:nvCxnSpPr>
            <p:cNvPr id="347" name="_s1028"/>
            <p:cNvCxnSpPr>
              <a:stCxn id="348" idx="0"/>
              <a:endCxn id="349" idx="2"/>
            </p:cNvCxnSpPr>
            <p:nvPr/>
          </p:nvCxnSpPr>
          <p:spPr>
            <a:xfrm flipV="1" rot="16200000">
              <a:off x="5554800" y="27144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1029"/>
            <p:cNvCxnSpPr>
              <a:stCxn id="351" idx="0"/>
              <a:endCxn id="349" idx="2"/>
            </p:cNvCxnSpPr>
            <p:nvPr/>
          </p:nvCxnSpPr>
          <p:spPr>
            <a:xfrm flipH="1" flipV="1" rot="5400000">
              <a:off x="3345480" y="271800"/>
              <a:ext cx="389880" cy="2210400"/>
            </a:xfrm>
            <a:prstGeom prst="bentConnector3">
              <a:avLst>
                <a:gd name="adj1" fmla="val 292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1030"/>
            <p:cNvSpPr/>
            <p:nvPr/>
          </p:nvSpPr>
          <p:spPr>
            <a:xfrm>
              <a:off x="2752560" y="404640"/>
              <a:ext cx="3783240" cy="7779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Monotype Corsiva"/>
                </a:rPr>
                <a:t>Евр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1"/>
            <p:cNvSpPr/>
            <p:nvPr/>
          </p:nvSpPr>
          <p:spPr>
            <a:xfrm>
              <a:off x="53964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Европ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2"/>
            <p:cNvSpPr/>
            <p:nvPr/>
          </p:nvSpPr>
          <p:spPr>
            <a:xfrm>
              <a:off x="4959360" y="1571760"/>
              <a:ext cx="3789360" cy="77760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зия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19" descr=""/>
            <p:cNvPicPr/>
            <p:nvPr/>
          </p:nvPicPr>
          <p:blipFill>
            <a:blip r:embed="rId3"/>
            <a:stretch/>
          </p:blipFill>
          <p:spPr>
            <a:xfrm>
              <a:off x="539640" y="1557360"/>
              <a:ext cx="71280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Picture 18" descr="BL00392_"/>
          <p:cNvPicPr/>
          <p:nvPr/>
        </p:nvPicPr>
        <p:blipFill>
          <a:blip r:embed="rId4"/>
          <a:stretch/>
        </p:blipFill>
        <p:spPr>
          <a:xfrm>
            <a:off x="5076720" y="1557360"/>
            <a:ext cx="863640" cy="771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"/>
          <p:cNvPicPr/>
          <p:nvPr/>
        </p:nvPicPr>
        <p:blipFill>
          <a:blip r:embed="rId5"/>
          <a:stretch/>
        </p:blipFill>
        <p:spPr>
          <a:xfrm>
            <a:off x="2627280" y="3467160"/>
            <a:ext cx="306396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Европ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2"/>
          <a:srcRect l="0" t="0" r="0" b="14726"/>
          <a:stretch/>
        </p:blipFill>
        <p:spPr>
          <a:xfrm>
            <a:off x="468360" y="3683160"/>
            <a:ext cx="2628720" cy="15490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0"/>
          <p:cNvSpPr/>
          <p:nvPr/>
        </p:nvSpPr>
        <p:spPr>
          <a:xfrm>
            <a:off x="5563080" y="2039760"/>
            <a:ext cx="408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внинная. Самые вы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ие горы-Альпы.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ых  рек Европ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лга, Дунай, Днеп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н, Рейн, Эльб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вропейск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образна. 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ть арктические пу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ыни, тундры, 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смешанные леса, ст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ff"/>
                </a:solidFill>
                <a:uFillTx/>
                <a:latin typeface="Monotype Corsiva"/>
                <a:hlinkClick r:id="rId1" action="ppaction://hlinksldjump"/>
              </a:rPr>
              <a:t>Аз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rcRect l="0" t="0" r="0" b="11737"/>
          <a:stretch/>
        </p:blipFill>
        <p:spPr>
          <a:xfrm>
            <a:off x="214200" y="3367080"/>
            <a:ext cx="2484720" cy="150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4140360" y="1413000"/>
            <a:ext cx="474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 самая большая часть света. Здесь находятся самые высокие горы на Земле - Гималаи и величайшая вершина – Джомолунгма) Эверест. Самые  длинные и полноводные  реки Азии – Обь, Иртыш, Енисей, Лена, Аму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уанхэ, Янцзы, Инд, Г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ьшая часть территории нашей страны находится в  Азии, в том числе и г.Краснояр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8"/>
          <p:cNvGrpSpPr/>
          <p:nvPr/>
        </p:nvGrpSpPr>
        <p:grpSpPr>
          <a:xfrm>
            <a:off x="468360" y="1052640"/>
            <a:ext cx="8208000" cy="4462560"/>
            <a:chOff x="468360" y="1052640"/>
            <a:chExt cx="8208000" cy="4462560"/>
          </a:xfrm>
        </p:grpSpPr>
        <p:cxnSp>
          <p:nvCxnSpPr>
            <p:cNvPr id="362" name="_s2052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230800" y="217836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2053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21120" y="217800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4" name="_s2054"/>
            <p:cNvSpPr/>
            <p:nvPr/>
          </p:nvSpPr>
          <p:spPr>
            <a:xfrm>
              <a:off x="2678760" y="105264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Monotype Corsiva"/>
                </a:rPr>
                <a:t>Амери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2055"/>
            <p:cNvSpPr/>
            <p:nvPr/>
          </p:nvSpPr>
          <p:spPr>
            <a:xfrm>
              <a:off x="46836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1" action="ppaction://hlinksldjump"/>
                </a:rPr>
                <a:t>Север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2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56"/>
            <p:cNvSpPr/>
            <p:nvPr/>
          </p:nvSpPr>
          <p:spPr>
            <a:xfrm>
              <a:off x="4888080" y="373032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3" action="ppaction://hlinksldjump"/>
                </a:rPr>
                <a:t>Южн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80ff"/>
                  </a:solidFill>
                  <a:uFillTx/>
                  <a:latin typeface="Monotype Corsiva"/>
                  <a:hlinkClick r:id="rId4" action="ppaction://hlinksldjump"/>
                </a:rPr>
                <a:t>Америк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Север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17600" y="2492280"/>
            <a:ext cx="2082960" cy="20163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3671640" y="2039760"/>
            <a:ext cx="578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от материк находится в север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ушарии. В западной части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янутся горы Кордильеры. С них с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ет самая крупная река матери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иссиси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рода Северной Америки раз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разна. Здесь есть ледники, тун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устая тайга, степи и 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Животные Северной Амер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27280" y="1920960"/>
            <a:ext cx="4259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Аллигат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реках, озёрах и болотах Северной Америки водятся древнейшие обитатели нашей планеты – аллигаторы. Благодаря обтекаемой форме тела, могучему хвосту и перепонкам на лапах этим свирепым и ненасытным хищникам живётся в водной стихии привольно. У аллигаторов сильные челюсти и острые зубы, отличные зрение и слух. От их рёва, подобного львиному, содрогаются все животные в округ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-4406760" y="687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8" descr="Аллигатор"/>
          <p:cNvPicPr/>
          <p:nvPr/>
        </p:nvPicPr>
        <p:blipFill>
          <a:blip r:embed="rId1"/>
          <a:stretch/>
        </p:blipFill>
        <p:spPr>
          <a:xfrm>
            <a:off x="755640" y="2997360"/>
            <a:ext cx="266076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Южная Америк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755640" y="3249720"/>
            <a:ext cx="1871640" cy="20174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4286160" y="1928880"/>
            <a:ext cx="4635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этом материке пр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ые длинны горы-Анды и те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ая полноводная река мир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азонка. На севере Анд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е дождливое место в мире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юге - одна из наиболее засушли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устынь мира – Атаками. Ю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мерика-родина картофеля, помид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околадного и каучукового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20:43:52Z</dcterms:created>
  <dc:creator>рыжук</dc:creator>
  <dc:description/>
  <dc:language>en-US</dc:language>
  <cp:lastModifiedBy>днс</cp:lastModifiedBy>
  <dcterms:modified xsi:type="dcterms:W3CDTF">2014-01-29T18:44:20Z</dcterms:modified>
  <cp:revision>31</cp:revision>
  <dc:subject/>
  <dc:title>Путешествие по материкам </dc:title>
</cp:coreProperties>
</file>