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6300-DE86-46AC-80E8-3B69A99C50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8C17-E7A1-43D2-A9E8-E17A5362C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FFE-D43F-4D0E-80C1-B09BCA4F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3EA-55B7-413D-9538-C8815DFD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854-8B60-4080-89C5-08BC699A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BE8-8DC9-4CD8-AAFF-3F0574EA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338C-4496-49E8-B15B-A7291B97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9C21-7D71-46AA-BC1C-3F704FB6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0A2A-B373-47B4-AE26-CBA8C2F9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2074-9DF4-4E1A-9CC3-6A93A2DA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5355-72CE-4676-ADF0-F64C53D4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AACC-27FA-4706-B204-D3AF08D4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F73B-5313-4E9B-87E8-670B42F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92A-23FC-4F0D-BF08-5B60B5DE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41A9-7A90-4F38-A1FB-7E5CECCB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06F5-30E1-4E2B-9EC4-2B2A2202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CE00-24EF-4756-98A3-5BE40686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5902-55AA-4ED9-B2F6-484D5535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3C8A-CB78-4C64-BB2C-7428FFCF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208A-2BA7-48BF-B213-19FA18D6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8EC2-243A-431A-BA00-E7FB570A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27495-89A4-48E8-9CD8-34052A0E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DD0E-C381-47BC-8373-A6DB686A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F681-E607-4480-BAF6-99C1A4D0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BC7-1A6E-4F18-B39D-639585A4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3AC8-24BF-4A4C-851D-49AF7E6E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783D-7556-4DD0-B0E2-DAACCB0C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1868-2113-4D42-8DBF-D4EB8D8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9BBE9-4A05-4075-BC0B-A599E96B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E099-1539-489E-BBCB-929BC57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27C2-B975-470C-8E14-255A4174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82B2-2D5F-48AC-9605-7ACD7908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7DAC-4713-4431-B9AD-2CCD28B8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A749A-E19D-4E92-AC1E-B2C9F83D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B37B7-20AE-43C8-B636-19320145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4B9-E618-4EEF-A0D9-236EA2B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88B1-D8B3-4100-8877-12AE192F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3E74-4FB4-4EA6-825E-239467F6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291E-DDCB-4AAA-BA3A-8753D624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343B-9BED-4B14-ACAD-18C5010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A346-DD32-4C48-AC60-498D9DF6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0403-066A-47CC-9C96-C69CB8F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98ECA-7EEA-4425-BB67-C92E15E9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11C1-76F9-4684-BCD3-5DF08A52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2F68-7BDA-4315-A342-8614D6B1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6D74D-81E8-4A95-987B-BC45E85E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F6D-CAEF-470E-9557-7E0782E1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9A9A-F22C-4497-975D-57BAAE18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C6B1-D0AB-4F82-A9D5-626764DB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4F1B-D407-44FE-A5BB-C3F3D381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FAD55-F296-4690-9CCA-EA2CD0A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5C6E6-8CC1-4161-B880-4D79C3C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DF4FB-297F-44A3-94D3-3E0AA6E4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31A7B-6052-43D8-8103-2893B45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95EF1-D47D-4976-AC02-CC152F0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5D2A-D02F-46EC-97DE-BCB7833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A61F7-3A06-4D00-BBFB-9E6B9CDC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8EE-2F7B-4AEB-A7AA-C84A149A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F2808-BA84-4FAA-B618-2F90B338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B9935-6FED-43E5-A930-C8D0846E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2C455-9B8F-4130-84CD-20AB8866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190A-25FA-444F-AD9E-2891E4F1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9140-F285-4C29-B84A-583AED1E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6599F-115E-4F3B-95AA-9EB83C46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36E97-29BE-4309-A5DB-79DD1D42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68966-6600-4E7A-BFA8-7049C844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30F7-E30A-49AE-9CD8-92B8BFF9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033C-CBEA-45FD-84C8-32840D82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E06-41EF-4A3B-BA62-6EC4554F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313F2-8E52-4A84-90B8-6C9E2071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599E0-30D1-478B-AD27-A243557C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900E-3D95-4C00-94FF-D3009455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48F25-27C2-462D-8612-95ED253B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192EA-D08F-481E-8273-CBE468FA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CF1F-E6AE-43FB-9A81-B9BDBAB9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5515-E126-4C68-9CF9-F58D2DB6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CDA50-2E7C-48F2-9A5C-08FF0424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A1418-7D94-4AB2-BE96-EAAA62FE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06A98-0A37-4238-8F91-15F81BB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A8C-F663-45A1-9761-FA0547FA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58DF-893A-4F46-BA60-28B03E6D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9CD3B-3110-4A48-AC4C-F57F1F7D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EB3E-078A-4D47-8871-10313B10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3BFC0-6AF5-4634-9B54-D0D6A3D2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F2063-D083-477C-9B51-4DDF3719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C29-2BBB-447B-B1CF-B2E41AF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69D8-D442-48B6-87F3-4B9D9DDF610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EF66-F0C1-4C97-A4FB-A0FB8EA4D03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1501-71C6-4538-9B05-6AE59AF6FDF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5CBF-2A2F-442F-B8DD-866EF96A27F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908-7477-4F93-B04E-FCE8BCB302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CFA3-6B8E-4855-93E2-34E4B53D7A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FE16-F5B8-496B-A7C5-9FDC3BBE6D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7" descr=""/>
          <p:cNvPicPr/>
          <p:nvPr/>
        </p:nvPicPr>
        <p:blipFill>
          <a:blip r:embed="rId1"/>
          <a:stretch/>
        </p:blipFill>
        <p:spPr>
          <a:xfrm>
            <a:off x="-30240" y="-268200"/>
            <a:ext cx="9412200" cy="45590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9"/>
          <p:cNvSpPr/>
          <p:nvPr/>
        </p:nvSpPr>
        <p:spPr>
          <a:xfrm>
            <a:off x="4108320" y="4411800"/>
            <a:ext cx="51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Н.С. Гавриле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Учитель  начальных класс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МАОУ  СОШ № 2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Животный мир Южной Амер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Муравьед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Муравьед ест муравьёв и термитов, за что и получил своё название. Он когтями (а они у него длиной с карандаш) пробивает крепкую стенку термитника, просовывает в дыру узкую, как труба, морду и высовывает язык. Язык у муравьеда достигает полуметра. Им он слизывает термитов. За день он съедает до 30 тысяч насекомых. А потом сворачивается калачиком в тени, укрывается пышным хвостом и спит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-4657680" y="826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Муравьед"/>
          <p:cNvPicPr/>
          <p:nvPr/>
        </p:nvPicPr>
        <p:blipFill>
          <a:blip r:embed="rId1"/>
          <a:stretch/>
        </p:blipFill>
        <p:spPr>
          <a:xfrm>
            <a:off x="4500720" y="3110040"/>
            <a:ext cx="2519280" cy="160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587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Афри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895320" y="3645000"/>
            <a:ext cx="1540080" cy="17938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8"/>
          <p:cNvSpPr/>
          <p:nvPr/>
        </p:nvSpPr>
        <p:spPr>
          <a:xfrm>
            <a:off x="3995640" y="2060640"/>
            <a:ext cx="4929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фрика – самый знойный 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емли. Круглый год там жарко, ни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 бывает морозов, и местные ж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икогда не видели снега. Здесь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дна из самых красивых гор ми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илиманджаро, вершину которой укр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ают ледники. Самая крупная р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фрики – Нил. Самая большая пусты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фрики и всего мира – Сах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битатели Афр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932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ираф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Жираф – самый высокий зверь. Он ест листья деревьев. Он пасётся как бы на висячем лугу. Сверху ему хорошо видно всех, кто к нему подходит. Если кто-то попытается подобраться к нему незаметно, то может получить копытом в ло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7" name="Picture 11" descr="Африка"/>
          <p:cNvPicPr/>
          <p:nvPr/>
        </p:nvPicPr>
        <p:blipFill>
          <a:blip r:embed="rId1"/>
          <a:stretch/>
        </p:blipFill>
        <p:spPr>
          <a:xfrm>
            <a:off x="324000" y="3429000"/>
            <a:ext cx="2536560" cy="2330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73e87"/>
                </a:solidFill>
                <a:latin typeface="Monotype Corsiva"/>
              </a:rPr>
              <a:t>Обитатели Афр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50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Австралия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1006560" y="3794040"/>
            <a:ext cx="1981080" cy="1949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8"/>
          <p:cNvSpPr/>
          <p:nvPr/>
        </p:nvSpPr>
        <p:spPr>
          <a:xfrm>
            <a:off x="3833280" y="1967040"/>
            <a:ext cx="5821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ый маленький матери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встралия. Расположен он в юж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лушарии. У природы Австра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ного особенностей, отличающих 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 других материков.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 животные и растения,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т больше нигде на земном ша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десь много сумчатых живот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торые вынашивают своих детён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ей в сумке на жив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Животный мир Австрал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о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ала похож на плюшевого медвежонка. В лесу у него нет врагов. Ест коала листья и побеги эвкалипта. Детёнышей носит на спин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4" name="Picture 6" descr="Коала"/>
          <p:cNvPicPr/>
          <p:nvPr/>
        </p:nvPicPr>
        <p:blipFill>
          <a:blip r:embed="rId1"/>
          <a:stretch/>
        </p:blipFill>
        <p:spPr>
          <a:xfrm>
            <a:off x="826920" y="3357720"/>
            <a:ext cx="1622520" cy="2273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Антарктид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5" descr=""/>
          <p:cNvPicPr/>
          <p:nvPr/>
        </p:nvPicPr>
        <p:blipFill>
          <a:blip r:embed="rId1"/>
          <a:stretch/>
        </p:blipFill>
        <p:spPr>
          <a:xfrm>
            <a:off x="19080" y="3602160"/>
            <a:ext cx="2406600" cy="18842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4228560" y="1751040"/>
            <a:ext cx="551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 самый холодный матер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многие сотни километров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нтарктиде простир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ежные равнины, прерывае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ногда хребтами гор. Антаркт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а – единственная часть св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де запрещены любые во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отовления. Весь мате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дан в распоряжение учёных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ных стран мира. Там пост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янно находится около 70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битатели Антарктид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9" name="Picture 8" descr="Антарктида"/>
          <p:cNvPicPr/>
          <p:nvPr/>
        </p:nvPicPr>
        <p:blipFill>
          <a:blip r:embed="rId1"/>
          <a:stretch/>
        </p:blipFill>
        <p:spPr>
          <a:xfrm>
            <a:off x="250920" y="3933720"/>
            <a:ext cx="1639800" cy="12956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0"/>
          <p:cNvSpPr/>
          <p:nvPr/>
        </p:nvSpPr>
        <p:spPr>
          <a:xfrm>
            <a:off x="4137120" y="1916280"/>
            <a:ext cx="4368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нг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рупная океаническая п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ингвина обтекаемой фор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он хорошо плавае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ыряет. Питается мелкой ры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ьмарами, ракообраз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057" descr="PH01046J"/>
          <p:cNvPicPr/>
          <p:nvPr/>
        </p:nvPicPr>
        <p:blipFill>
          <a:blip r:embed="rId1"/>
          <a:stretch/>
        </p:blipFill>
        <p:spPr>
          <a:xfrm>
            <a:off x="3211560" y="4087800"/>
            <a:ext cx="1360440" cy="17892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50920" y="23194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на интерактивной до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670120" cy="20286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673600" y="922320"/>
            <a:ext cx="350892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2" action="ppaction://hlinksldjump"/>
              </a:rPr>
              <a:t>Евра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3" action="ppaction://hlinksldjump"/>
              </a:rPr>
              <a:t>Аме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4" action="ppaction://hlinksldjump"/>
              </a:rPr>
              <a:t>Аф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5" action="ppaction://hlinksldjump"/>
              </a:rPr>
              <a:t>Австра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6" action="ppaction://hlinksldjump"/>
              </a:rPr>
              <a:t>Антаркт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Organization Chart 7"/>
          <p:cNvGrpSpPr/>
          <p:nvPr/>
        </p:nvGrpSpPr>
        <p:grpSpPr>
          <a:xfrm>
            <a:off x="539640" y="404640"/>
            <a:ext cx="8209080" cy="1944720"/>
            <a:chOff x="539640" y="404640"/>
            <a:chExt cx="8209080" cy="1944720"/>
          </a:xfrm>
        </p:grpSpPr>
        <p:cxnSp>
          <p:nvCxnSpPr>
            <p:cNvPr id="347" name="_s1028"/>
            <p:cNvCxnSpPr>
              <a:stCxn id="348" idx="0"/>
              <a:endCxn id="349" idx="2"/>
            </p:cNvCxnSpPr>
            <p:nvPr/>
          </p:nvCxnSpPr>
          <p:spPr>
            <a:xfrm flipV="1" rot="16200000">
              <a:off x="5554800" y="271440"/>
              <a:ext cx="389880" cy="2210400"/>
            </a:xfrm>
            <a:prstGeom prst="bentConnector3">
              <a:avLst>
                <a:gd name="adj1" fmla="val 292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1029"/>
            <p:cNvCxnSpPr>
              <a:stCxn id="351" idx="0"/>
              <a:endCxn id="349" idx="2"/>
            </p:cNvCxnSpPr>
            <p:nvPr/>
          </p:nvCxnSpPr>
          <p:spPr>
            <a:xfrm flipH="1" flipV="1" rot="5400000">
              <a:off x="3345480" y="271800"/>
              <a:ext cx="389880" cy="2210400"/>
            </a:xfrm>
            <a:prstGeom prst="bentConnector3">
              <a:avLst>
                <a:gd name="adj1" fmla="val 292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9" name="_s1030"/>
            <p:cNvSpPr/>
            <p:nvPr/>
          </p:nvSpPr>
          <p:spPr>
            <a:xfrm>
              <a:off x="2752560" y="404640"/>
              <a:ext cx="3783240" cy="7779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Monotype Corsiva"/>
                </a:rPr>
                <a:t>Еврази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031"/>
            <p:cNvSpPr/>
            <p:nvPr/>
          </p:nvSpPr>
          <p:spPr>
            <a:xfrm>
              <a:off x="539640" y="1571760"/>
              <a:ext cx="3789360" cy="77760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1" action="ppaction://hlinksldjump"/>
                </a:rPr>
                <a:t>Европ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032"/>
            <p:cNvSpPr/>
            <p:nvPr/>
          </p:nvSpPr>
          <p:spPr>
            <a:xfrm>
              <a:off x="4959360" y="1571760"/>
              <a:ext cx="3789360" cy="77760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2" action="ppaction://hlinksldjump"/>
                </a:rPr>
                <a:t>Ази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19" descr=""/>
            <p:cNvPicPr/>
            <p:nvPr/>
          </p:nvPicPr>
          <p:blipFill>
            <a:blip r:embed="rId3"/>
            <a:stretch/>
          </p:blipFill>
          <p:spPr>
            <a:xfrm>
              <a:off x="539640" y="1557360"/>
              <a:ext cx="712800" cy="7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3" name="Picture 18" descr="BL00392_"/>
          <p:cNvPicPr/>
          <p:nvPr/>
        </p:nvPicPr>
        <p:blipFill>
          <a:blip r:embed="rId4"/>
          <a:stretch/>
        </p:blipFill>
        <p:spPr>
          <a:xfrm>
            <a:off x="5076720" y="1557360"/>
            <a:ext cx="863640" cy="771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0" descr=""/>
          <p:cNvPicPr/>
          <p:nvPr/>
        </p:nvPicPr>
        <p:blipFill>
          <a:blip r:embed="rId5"/>
          <a:stretch/>
        </p:blipFill>
        <p:spPr>
          <a:xfrm>
            <a:off x="2627280" y="3467160"/>
            <a:ext cx="3063960" cy="1940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80ff"/>
                </a:solidFill>
                <a:uFillTx/>
                <a:latin typeface="Monotype Corsiva"/>
                <a:hlinkClick r:id="rId1" action="ppaction://hlinksldjump"/>
              </a:rPr>
              <a:t>Европ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2"/>
          <a:srcRect l="0" t="0" r="0" b="14726"/>
          <a:stretch/>
        </p:blipFill>
        <p:spPr>
          <a:xfrm>
            <a:off x="468360" y="3683160"/>
            <a:ext cx="2628720" cy="15490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0"/>
          <p:cNvSpPr/>
          <p:nvPr/>
        </p:nvSpPr>
        <p:spPr>
          <a:xfrm>
            <a:off x="5563080" y="2039760"/>
            <a:ext cx="4083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льшая часть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внинная. Самые выс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ие горы-Альпы. С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лавных  рек Европ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лга, Дунай, Днеп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н, Рейн, Эльба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вропейская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нообразна. Зд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ть арктические пус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ыни, тундры, 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смешанные леса, ст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80ff"/>
                </a:solidFill>
                <a:uFillTx/>
                <a:latin typeface="Monotype Corsiva"/>
                <a:hlinkClick r:id="rId1" action="ppaction://hlinksldjump"/>
              </a:rPr>
              <a:t>Азия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2"/>
          <a:srcRect l="0" t="0" r="0" b="11737"/>
          <a:stretch/>
        </p:blipFill>
        <p:spPr>
          <a:xfrm>
            <a:off x="214200" y="3367080"/>
            <a:ext cx="2484720" cy="1509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4140360" y="1413000"/>
            <a:ext cx="474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 самая большая часть света. Здесь находятся самые высокие горы на Земле - Гималаи и величайшая вершина – Джомолунгма) Эверест. Самые  длинные и полноводные  реки Азии – Обь, Иртыш, Енисей, Лена, Аму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Хуанхэ, Янцзы, Инд, Г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льшая часть территории нашей страны находится в  Азии, в том числе и г.Краснояр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8"/>
          <p:cNvGrpSpPr/>
          <p:nvPr/>
        </p:nvGrpSpPr>
        <p:grpSpPr>
          <a:xfrm>
            <a:off x="468360" y="1052640"/>
            <a:ext cx="8208000" cy="4462560"/>
            <a:chOff x="468360" y="1052640"/>
            <a:chExt cx="8208000" cy="4462560"/>
          </a:xfrm>
        </p:grpSpPr>
        <p:cxnSp>
          <p:nvCxnSpPr>
            <p:cNvPr id="362" name="_s2052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230800" y="217836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2053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21120" y="217800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4" name="_s2054"/>
            <p:cNvSpPr/>
            <p:nvPr/>
          </p:nvSpPr>
          <p:spPr>
            <a:xfrm>
              <a:off x="2678760" y="105264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Monotype Corsiva"/>
                </a:rPr>
                <a:t>Амери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2055"/>
            <p:cNvSpPr/>
            <p:nvPr/>
          </p:nvSpPr>
          <p:spPr>
            <a:xfrm>
              <a:off x="468360" y="373032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1" action="ppaction://hlinksldjump"/>
                </a:rPr>
                <a:t>Северн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2" action="ppaction://hlinksldjump"/>
                </a:rPr>
                <a:t>Америк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2056"/>
            <p:cNvSpPr/>
            <p:nvPr/>
          </p:nvSpPr>
          <p:spPr>
            <a:xfrm>
              <a:off x="4888080" y="373032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3" action="ppaction://hlinksldjump"/>
                </a:rPr>
                <a:t>Южн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4" action="ppaction://hlinksldjump"/>
                </a:rPr>
                <a:t>Америк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Северная Амери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1317600" y="2492280"/>
            <a:ext cx="2082960" cy="20163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9"/>
          <p:cNvSpPr/>
          <p:nvPr/>
        </p:nvSpPr>
        <p:spPr>
          <a:xfrm>
            <a:off x="3671640" y="2039760"/>
            <a:ext cx="578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т материк находится в север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лушарии. В западной части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янутся горы Кордильеры. С них с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ет самая крупная река матери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иссисип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рода Северной Америки раз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разна. Здесь есть ледники, тунд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устая тайга, степи и пусты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Животные Северной Амер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27280" y="1920960"/>
            <a:ext cx="42591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Аллигатор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реках, озёрах и болотах Северной Америки водятся древнейшие обитатели нашей планеты – аллигаторы. Благодаря обтекаемой форме тела, могучему хвосту и перепонкам на лапах этим свирепым и ненасытным хищникам живётся в водной стихии привольно. У аллигаторов сильные челюсти и острые зубы, отличные зрение и слух. От их рёва, подобного львиному, содрогаются все животные в округ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-4406760" y="687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8" descr="Аллигатор"/>
          <p:cNvPicPr/>
          <p:nvPr/>
        </p:nvPicPr>
        <p:blipFill>
          <a:blip r:embed="rId1"/>
          <a:stretch/>
        </p:blipFill>
        <p:spPr>
          <a:xfrm>
            <a:off x="755640" y="2997360"/>
            <a:ext cx="2660760" cy="169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Южная Амери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755640" y="3249720"/>
            <a:ext cx="1871640" cy="20174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9"/>
          <p:cNvSpPr/>
          <p:nvPr/>
        </p:nvSpPr>
        <p:spPr>
          <a:xfrm>
            <a:off x="4286160" y="1928880"/>
            <a:ext cx="4635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этом материке протя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ые длинны горы-Анды и теч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ая полноводная река мир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мазонка. На севере Анд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е дождливое место в мире, 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юге - одна из наиболее засушли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устынь мира – Атаками. Юж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мерика-родина картофеля, помид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околадного и каучукового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20:43:52Z</dcterms:created>
  <dc:creator>рыжук</dc:creator>
  <dc:description/>
  <dc:language>en-US</dc:language>
  <cp:lastModifiedBy>днс</cp:lastModifiedBy>
  <dcterms:modified xsi:type="dcterms:W3CDTF">2014-01-29T18:44:20Z</dcterms:modified>
  <cp:revision>31</cp:revision>
  <dc:subject/>
  <dc:title>Путешествие по материкам </dc:title>
</cp:coreProperties>
</file>