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51.gif" ContentType="image/gif"/>
  <Override PartName="/ppt/media/image40.png" ContentType="image/png"/>
  <Override PartName="/ppt/media/image42.png" ContentType="image/png"/>
  <Override PartName="/ppt/media/image45.wmf" ContentType="image/x-wmf"/>
  <Override PartName="/ppt/media/image46.png" ContentType="image/png"/>
  <Override PartName="/ppt/media/image11.png" ContentType="image/png"/>
  <Override PartName="/ppt/media/image44.jpeg" ContentType="image/jpeg"/>
  <Override PartName="/ppt/media/image48.wmf" ContentType="image/x-wmf"/>
  <Override PartName="/ppt/media/image41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52.wmf" ContentType="image/x-wmf"/>
  <Override PartName="/ppt/media/image7.png" ContentType="image/png"/>
  <Override PartName="/ppt/media/image50.gif" ContentType="image/gif"/>
  <Override PartName="/ppt/media/image43.png" ContentType="image/png"/>
  <Override PartName="/ppt/media/image37.wmf" ContentType="image/x-wmf"/>
  <Override PartName="/ppt/media/image30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E69-C090-4B49-A205-54DAC2A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3AE-E0AD-47B4-A2B7-238AF876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19690-B710-4658-B260-D8A84686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80B3E-9DCE-47B7-8DCD-B350E08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DE911-5F13-4EAD-A6A0-C64963B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59878-6085-453D-A02E-DE43A12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38AF8-64C9-496F-9C5A-7CEE6ED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51E3-6ED3-464D-B244-729244E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6A49-4437-4866-929A-CEFD195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D55BB-A958-459B-89B9-DD6C9511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F622-3FC4-417C-A0CF-57216A0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4DC47-8335-46B1-8483-92DB75EF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D00-17DD-4EF1-8713-25186D57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E9A8C-A1D9-4884-AB29-5ABF151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B699-178E-416A-A9E0-20198B6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582C9-961A-431D-972E-CA99F3F2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875B1-0CDA-4F96-847C-F08ADFA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33C87-ECA6-4732-B300-026CA452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B3662-C827-4ECE-919F-74368D98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121A8-C2A4-439C-B935-851A7B4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833AA-F055-43A5-B3CB-79F9682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992B6-8582-4450-8FCD-4A0E93E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7B9F5-E2A6-4C36-BCDB-E9E32CA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4CE-902A-4555-AEEF-AA44DBC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EAB98-8E1A-422D-BB00-2BABE6FB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64C5-4825-4613-B7AD-0ED97498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429C3-02BC-4498-9325-70872CA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BA51-727C-4233-9BE4-FCB7FF0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BBA77-7697-4CC6-B634-62CCC98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7291D-915D-4AD2-A2B5-7A8AE477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188A-2862-4B50-89AB-B336773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060FC-1FF9-49BB-BBB8-3224E5A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B1C1-E38A-4E52-BE6A-0DF70E9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1D275-85DE-4AF8-8973-A012139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0428-7F91-4B27-B11E-1B875A0E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0E59-DD78-4BEE-922D-65454331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7AC93-C9BB-4C12-812C-14EE7272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17497-A3D1-49C7-8CA4-6C8E5791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C2E0A-EDEC-453C-8D92-29E6474A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397F8-A456-4F38-9F0B-1D607A5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A8C92-4B2F-4475-A191-00BD84F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C960A-499B-46A0-8FF2-3D73DE8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436A5-EA73-40CC-9CEF-AC5277A8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236A-9EF1-4197-BE93-0A677E4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1C15E-000B-4BE8-88E4-1FC86DE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2A5B-0877-49BB-9487-55E02825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605C2-B5B3-4238-B8E9-C10B7CF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6B7E-6709-4545-B89C-8D86160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3FF55-5C5E-422F-89A1-BEC785E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826EC-9209-4D93-8C41-A4A05925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D0EB-8019-45F5-88D4-6DCBF84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795F6-FDC0-487D-87CC-488A515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70D02-3A85-4D5D-A46F-23A5F7F9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177E5-79BD-4B89-B053-C0A579F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9D70C-1B45-4BD1-8A2A-1EB5889F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64F2B-D5D2-4A7E-B8D6-587C27E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259C-9687-43A4-AB89-8065CA6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1684D-A5B0-46C0-A29D-4844C90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94603-ED91-4AB6-B871-E2ECC40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6D51E-B5FE-4CFA-8142-EE84BD6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6395D-FC60-4B43-8A3C-10D1BDB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D3C1B-1B66-4B6A-8606-009CE916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C8587-0A1E-4211-B88F-0A396271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D1C10-1713-4EDA-AF2B-52C3C7BA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6B63F-8AA8-41DD-9611-88D889F0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22F52-EA98-4BF6-98D0-7FD9790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95C49-B375-440C-9F45-4FC7A97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C3EE-FFA5-4967-9ECD-2F3C5212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28735-AB18-4EAC-8077-764EFD8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B60C6-8B44-441F-B71C-C19F582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01C03-6BA7-475F-8B1F-2E68C1D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95F73-B5FD-492F-990D-E37F7E3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96F55-19E7-4585-81D9-B053126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A4762-257A-4C74-A519-5A4F105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0159F-0D5B-4561-9197-6C8294B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0BD29-10F5-4EC5-AEF1-4B7750DA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C9C41-123E-480A-AEDA-D10A1AF2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A0224-A009-4D79-B728-546B35C0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E478-3197-4333-A2E3-DD0758A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F993E-8118-4A6C-BEFA-D2554734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8CEB1-F57D-46CE-A673-41556CD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FB86E-E4FF-4E64-B031-3D32FD20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A6BC7-25D1-4A5F-BE5D-4A393758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2ABFE-0F94-470B-A9F5-E1051C7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74DD6-CFCF-461E-82F3-CA2A8A0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867CF-41FF-44D3-A34C-A2AA950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D66B9-C583-46FE-9D7F-854161C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93877-1E93-49BE-A0C0-156E4ED6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CE2DA-77C3-48AE-B6EC-5DE43AEB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2496-74FF-4203-835F-5584D392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3D604-EF26-47A4-A695-3A855B03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B366E-EBF5-431F-BF83-9772CD6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9D63C-1E03-4C8B-BBB0-AECCAF0E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88D48-4021-40BB-ABFD-4CC83AA6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23C0B-D8A0-47E5-A2CD-891ADF2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651EB-75E9-47E6-828C-672A041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98FED-1A88-4761-8FD1-FE2D1F8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E22D2-BCB1-4FB2-A909-3F2FF69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C03BC-E0E0-4AE1-8563-C37586A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D6C7E-74E4-472C-BF3F-B06B5CB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250-58B2-4A40-914C-114625C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CEF1F-ED6C-439E-BEBB-FAE5911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D9364-4D2E-430B-A13F-44381D85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322C2-27AC-413A-9D00-BE48D496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B7DAB-A012-4ED5-AAB4-8FA7A0F8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66F7F-B7BC-4FED-AD7B-011F814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829A5-F7C0-48B7-82C4-9321512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0EA95-7367-4124-AE34-D7BA1C3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8CB1E-7079-4FF1-BDCB-E349754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4F006-72E3-4688-99E0-0B086A1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9A0E7-785B-4FBE-8EAC-65E4B44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553-5ED7-4549-93E3-2479E0CD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805D-BB85-4B52-BD74-41EFB05F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F1879-3923-45FA-8BD4-E527541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27BC7-D0D2-4CB7-A626-0622991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7C215-6101-457E-916E-FAB8A32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9D0F2-0A8E-449C-AB9B-A9D2594F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F1EFF-3DF3-4BB1-9D17-E3B6140F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3D2D6-078B-42C1-A7BB-EECC5A7C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A6EC3-716B-4DA2-94E2-1090C85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D1718-A393-47C5-9B1B-009D23C4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FABBF9-673C-46D0-8DE5-2170627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EF27F-7304-4614-B271-F3100AB7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535-452B-4AB3-98FE-D8A41B5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BF753-E61E-4B77-A981-F29D6DC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2CC1B-4740-4CDF-A341-44AA9F9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8929B-5F88-4FD7-9995-C1B6603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E0254-B235-47F1-A2ED-146D47A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B482E-99CB-4016-84C8-97330411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6CFA0-3D6C-4166-AAFC-905FA3D3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78386-5475-46C6-A37A-F1A95D80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8B203-021D-473F-9787-E3770E68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77C87-C3FA-445D-8534-AD49FBA7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2F8DE-2378-4CB5-B7EB-E0E0BA0F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B7F-C486-4545-A6D6-C29D815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6E209-678A-4289-9024-46E81E2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F169B-19CD-4347-8EDF-4BCB609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A3DF3-273E-4473-BE66-518BDF96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66FC8-EB68-45D0-9AA4-99680B7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13E32-E737-40E9-A87D-56430E3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3DB42-55C9-495E-A44C-D2B6987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B1009-3CB3-4AC6-AC88-EEE5955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85408-DDB0-4708-9B5C-E0F2341A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1B8B0-C928-4C24-900F-36F3B00F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39305E-474F-454A-BB0F-8A5EDD6B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617-9495-4144-8DA1-4080EAB0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1CFF38-23CC-41A0-B0C2-E308110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5BB996-0422-4843-86A3-FDFCD92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A7E4A7-1E08-4FF3-B203-D71B663C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A93187-35F4-4AB6-B143-F9EAC819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949C09-4404-4356-8A06-BD5A2EAD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698106-6CE8-4C75-9780-82404F1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7B28C1-A8A0-4632-A296-4C52981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D6BE03-5C5F-492A-9009-1A9A405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F99EB9-52AE-408D-9C18-6C8ED43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F37547-8D3E-405E-B040-F8CF8730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139B-70E6-4FE5-8D29-2A941B22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DEEBB5-F4D9-41A5-B9DC-BC610175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85FA4-9E18-45BE-BD9F-42885B78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13986-3011-42F6-A177-D67938AC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6CFE5-949E-4EF7-9718-656204F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C3B79-A735-4AE3-B0B3-2B98ACE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9852C-B3AF-4CB2-9952-3685BBA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FDE2B-E1A4-4B1F-A7B5-F06274B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FA36D-276D-409C-ABE8-1F7804E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BBB87-5E3F-4695-9096-B5C19E9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933FD-847E-4442-A8E2-7437964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77B6-B303-4B99-BCE3-64DBD69E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355A5-672B-49B2-B5A1-468D39F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5C321-0661-42A3-BDF3-32184D3E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41AF9-0A49-4CBE-AB86-F4629D88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55394-0CC7-4C3B-B258-4224E3C3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41264-8568-4C8F-ADC0-86C5C9F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1627BA-E827-4FB7-A7B8-F97BFE5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705A3-DEDA-4B2E-B048-BEB43DF3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D9873-8B76-4AF3-A373-6B554B1F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4236E-4BE5-4E49-8577-BABD2D07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585AF-5F1C-403D-9B82-2C34366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956D-2046-49C5-B938-12B70371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C8155-7AAB-42E5-BB1E-AB18714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EED1C-1486-4668-A613-1176131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9DFECB-398D-4688-8072-B60A62D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062A46-917F-4807-95B3-1221D250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F2E177-B7AF-45D5-9181-0BC14950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170CD3-0F26-4138-9C83-C46A1F1C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DFDB9-62CE-43BE-B4EF-712D275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C41B8-3CFA-41DC-A281-AAD0868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5C5A5-3C7D-40F7-8A00-E053032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7D8FF-3996-4A7E-90D1-B45D3D9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75DF-D6E4-4998-94F6-A6999B8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E89A69-5EF0-4A57-8508-46601CFD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1BFFB-D5BF-47E5-95ED-A9C5F83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9E33EA-4ACF-4DF7-A1E3-319A541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A9401A-BEA7-4CD6-A918-8BC39A8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443E24-A160-4F69-A976-575EC51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0BD79-6032-439B-8D1E-6008214B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225701-5F3E-42E3-AE93-5754E9BA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049E12-8BE3-4478-91DC-37A08CD5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5F7CD7-E4C2-42A4-A19E-BE8B0AB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7451E-E910-40C2-8521-C0E2ADCB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2482-906A-4DFC-9BB1-20FF64E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64EB3F-8BB1-4481-B870-C5DE3B6D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41691-20B2-46FD-840A-7EEBFE2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CEBA9-3FED-43FD-898C-06F2E77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ED930-B65D-410F-9B4D-A2F0004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66C184-EEF6-43B1-925C-994C286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0FAA4-0929-4F02-8469-FCF0E3A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E65480-7968-4969-861B-889BD92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6797E-ED04-4ACF-ABB9-1835479A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C4D8B9-74F3-40B6-8218-6118DDFD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D5F7EC-118A-48AB-8214-E36CCFD1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2668-F93D-4EFB-A9AC-311CF5F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309E9A-D189-40CB-AC76-CF896AA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1493E0-93FE-4EAE-83CE-D6CF71DC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312AE5-8B21-4592-96FD-A7B23C0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49DF8B-BC86-4F02-B572-5CFCF72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D2495-B2FA-45F8-B8A5-E6A63FC0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28484-F08E-4EEA-A208-CDC60CA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75D6D-714D-42C0-B41E-574643D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FFA68-54A7-4B7B-957F-8CE61B1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9E0AE9-B6EB-4518-8766-97CACC89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C8D15A-ACFF-42D4-AA4A-AA2DB9B3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807-7BC8-4F03-BBBB-16E094D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C730-4405-40C0-84D8-383BECB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2CDBA4-B3FC-4AAE-B3BA-C9298FE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3364-437C-4CE0-8A2F-31B8655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CCFF-91B7-458A-A225-50910DF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0998-21A3-44E3-BC78-45E5669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A652-4A99-4891-A3D8-589EFDA5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7995-9D93-4BCC-8114-26FF0EAC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D091-7BB5-4FC3-8A15-7D53E102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2507-90AD-44E4-B4CC-328715A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41B0-7C87-40C0-B424-A28104A7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15A9-E2B8-41E8-9AFC-4A0F4D4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E42-E862-49A9-8F53-87D5F62D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7842-289F-49DC-AF55-F6F0F7B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886E-3BA2-4687-9035-9F30CFC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EB99-6A46-48D6-B2EA-42892380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63F4-7059-4040-B91E-624C4038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2F5C-9276-43FF-800A-C022F81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1167-C2BA-44F2-9392-F1DC70E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3C92-D7FD-40CB-82B4-7733D85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C79B-8313-4143-B67D-1F999D0E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1F37-08DE-456C-89A3-0E7199F2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570A-B7C4-4B1A-B760-F2E56D8E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BB1-C568-4938-B7EF-70C0F9B3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F0C8-269C-49C6-8E9A-60C45F0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D3E0-DE8E-4ABF-B5DD-12658903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4E07-4AF1-449E-9734-C76FC90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437F-FFF5-4703-950F-7BC7C64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CC87-FDEA-4275-9FBF-C93524B1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E94E-ACFC-4317-ACB3-624664D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BB1F-E1DA-4AA2-85D9-0A073B7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FA53-C32A-47E7-B9CE-58C1149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1CD3-8DE5-467A-96A2-C6AE15A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4D37-C5BB-4E77-8DC9-CC965B51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FFB-2A8D-43AB-B0C4-4975B48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BAB3C-82A0-4C57-94B5-97D99CE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F7AF-4F0B-4FCD-9820-6BA74070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5D1F-BBBB-4447-8961-8C64081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BE3D-4365-44A7-9BD0-B60BE4F3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861B-C4E2-4344-8C7B-A8B2A4E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A7DA-C0D6-46CF-8C7A-5857F10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CB88-AF3F-4639-AAE6-229040B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F4F75-739B-4E04-9604-BB18527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9796-A762-46BB-B257-581078D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8540-F4AD-42A5-A239-211EB2E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977-97F3-4AA9-A38A-6779990F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336B-6493-4EF7-8363-ACC9F098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10F0-FAF1-42C7-80C5-D33DBB4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D651-F5A4-44E5-B060-6586C5F5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BDEE-20C6-4872-836B-5CFAA55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387E-88EE-4487-905B-FED33B4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5CA04-1557-418B-9924-5DC4C74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17FD-9562-4797-A45F-654CCA15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C8EB-30EB-4C00-958D-5F2DF07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D7DC-63A5-4CC1-822A-F6E1EC9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C6BA-CB3E-4759-AAC7-43B0DB7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BAF-6686-406B-829E-60FFA31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A0E8-F964-4884-ADB8-0B154DA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9723-E397-4C35-B4E5-3A83234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BF31-6BA4-4BD0-AB87-D12D0B6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758A-52C3-4B91-83BF-12F325B2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3AE7-AEAB-4084-B6C5-4FD0C216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AEA4A-02DF-4BA9-B3AA-96EC95D5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710E1-F8F2-4B16-981E-AC2C29A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4716E-9ECB-4D53-B34B-9C669F1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C49E0-9B59-4016-84AF-CDC26FF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29B58-59B4-4DC6-AB7A-15F7E593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104-16DB-49E4-9A93-0481E7C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004CD-0441-403D-B3E0-1FBA8F7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A53E-22A0-46EA-86E6-83B3A57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1E47-A604-4329-9CD7-398F9AB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4E6D-FB91-4653-A1F0-24FA22E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A0F8-4648-4D7C-A502-2AF3D0B1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C6FA-8D35-4F18-A082-53C40BC7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1363-E6ED-4B32-B36E-73CE8C51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86272-D2EC-4D8A-AB7C-BA55AB8D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68414-DBDF-4DED-894A-64AB069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98117-E5BA-409C-B670-CD9BF904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40E-16FB-44C0-8FE9-76EA5CEBF037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8EE9-DF9A-4D1A-9B01-B395DEE615E0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BC29-2370-4412-87DD-668A2337EA2B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964-546E-4854-9B6D-8769E44D0C4C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6B7-F047-4195-8E39-FD402C0F869B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148-B2B8-4468-B689-CE2A6D1EE797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44E-4EAD-40E7-90EC-A1B95525F997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0299-8B8D-4215-95BB-7D0A60BC625A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738-6526-46C5-BDB1-AD26313A0433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858-8977-4CC8-BE25-A749C2862D92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85AF-8496-4253-9E9E-87885C628B48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2E0-4FA1-4330-B560-CFB50C2B15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5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6525-8EC8-49A5-B97B-936EC8828AF5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ftr" idx="6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2B55-7F14-4B51-9353-D25A7AF67396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984-D015-4749-91D8-C4A58EB9DA64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0EA-D448-471D-A11D-87DF4F660615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B4E-A6BF-4EBA-8721-CC21F0E53113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423-B200-46B5-9D34-320E8236B2B0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9F0-0957-4FDE-8A4C-32618B36AD46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7E8-47A2-4634-87A7-8D13DC706EEF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9D1-EA8F-478C-BC05-2C2FD6C89CC8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59F-8B71-4A2F-ABBA-CEBF44992816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787-36D9-4AD3-B8C3-328C1615E022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0FAE-10C8-4560-BC9D-F57A2B686C94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66B9-F5D5-4E1F-BDE6-0F376971B740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wmf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jpeg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-79200"/>
            <a:ext cx="6315120" cy="4760640"/>
          </a:xfrm>
          <a:prstGeom prst="rect">
            <a:avLst/>
          </a:prstGeom>
          <a:ln w="0">
            <a:noFill/>
          </a:ln>
        </p:spPr>
      </p:pic>
      <p:pic>
        <p:nvPicPr>
          <p:cNvPr id="1066" name="Прямоугольник 3" descr=""/>
          <p:cNvPicPr/>
          <p:nvPr/>
        </p:nvPicPr>
        <p:blipFill>
          <a:blip r:embed="rId2"/>
          <a:stretch/>
        </p:blipFill>
        <p:spPr>
          <a:xfrm>
            <a:off x="3938760" y="2494080"/>
            <a:ext cx="3700440" cy="4400280"/>
          </a:xfrm>
          <a:prstGeom prst="rect">
            <a:avLst/>
          </a:prstGeom>
          <a:ln w="0">
            <a:noFill/>
          </a:ln>
        </p:spPr>
      </p:pic>
      <p:pic>
        <p:nvPicPr>
          <p:cNvPr id="1067" name="Прямоугольник 4" descr=""/>
          <p:cNvPicPr/>
          <p:nvPr/>
        </p:nvPicPr>
        <p:blipFill>
          <a:blip r:embed="rId3"/>
          <a:stretch/>
        </p:blipFill>
        <p:spPr>
          <a:xfrm>
            <a:off x="5986440" y="4121280"/>
            <a:ext cx="2840040" cy="1517400"/>
          </a:xfrm>
          <a:prstGeom prst="rect">
            <a:avLst/>
          </a:prstGeom>
          <a:ln w="0">
            <a:noFill/>
          </a:ln>
        </p:spPr>
      </p:pic>
      <p:sp>
        <p:nvSpPr>
          <p:cNvPr id="1068" name="Прямоугольник 5"/>
          <p:cNvSpPr/>
          <p:nvPr/>
        </p:nvSpPr>
        <p:spPr>
          <a:xfrm>
            <a:off x="2214720" y="60008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арчинский Павел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БОУ СОШ № 873 ЮАО г.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456552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Box 3"/>
          <p:cNvSpPr/>
          <p:nvPr/>
        </p:nvSpPr>
        <p:spPr>
          <a:xfrm>
            <a:off x="468360" y="3213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одновременное прикосновение двумя руками к двум оголенным пр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прикосновение к оголенному проводу, стоя на земле, на сыром или цементном по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асно пользоваться неисправными электрическими приборами. Электрические приборы должны периодически осматривать квалифицированные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собирать, разбирать и исправлять что-либо в электрическом приборе, не отключив его от источ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производить какие-либо операции с электрической аппаратурой, не выключив ее из се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2"/>
          <p:cNvSpPr/>
          <p:nvPr/>
        </p:nvSpPr>
        <p:spPr>
          <a:xfrm>
            <a:off x="539640" y="189000"/>
            <a:ext cx="51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боте с электрическими приборами необходимо строго и неуклонно соблюдать меры предосторожности. Если этого не делать, то ваша жизнь будет подвергаться смертельной опас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ческое тело — проводн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лучайно человек окажется под напряжением, то в большинстве случаев он не избежит травмы и даже смер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любому человеку, имеющему дело с электричеством, надо помнить следующие по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Picture 2" descr=""/>
          <p:cNvPicPr/>
          <p:nvPr/>
        </p:nvPicPr>
        <p:blipFill>
          <a:blip r:embed="rId1"/>
          <a:srcRect l="10522" t="10688" r="4684" b="8157"/>
          <a:stretch/>
        </p:blipFill>
        <p:spPr>
          <a:xfrm>
            <a:off x="5364000" y="260280"/>
            <a:ext cx="378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Прямоугольник 1"/>
          <p:cNvSpPr/>
          <p:nvPr/>
        </p:nvSpPr>
        <p:spPr>
          <a:xfrm>
            <a:off x="1714680" y="214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Прямоугольник 2"/>
          <p:cNvSpPr/>
          <p:nvPr/>
        </p:nvSpPr>
        <p:spPr>
          <a:xfrm>
            <a:off x="3143160" y="630396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чинский Павел Степа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У СОШ № 873 ЮАО г. Моск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Прямоугольник 4"/>
          <p:cNvSpPr/>
          <p:nvPr/>
        </p:nvSpPr>
        <p:spPr>
          <a:xfrm>
            <a:off x="64296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езентации использованы материал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Прямоугольник 5"/>
          <p:cNvSpPr/>
          <p:nvPr/>
        </p:nvSpPr>
        <p:spPr>
          <a:xfrm>
            <a:off x="142920" y="1500120"/>
            <a:ext cx="828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И. А. Сасов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«Технология»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нтана-Граф» ОАО «Московские учебники» 20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Прямоугольник 6"/>
          <p:cNvSpPr/>
          <p:nvPr/>
        </p:nvSpPr>
        <p:spPr>
          <a:xfrm>
            <a:off x="214200" y="2500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Идея, дизайн, комплект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ская работа 2010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Прямоугольник 7"/>
          <p:cNvSpPr/>
          <p:nvPr/>
        </p:nvSpPr>
        <p:spPr>
          <a:xfrm>
            <a:off x="214200" y="364320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артинки, фотографии и мульти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имация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Управляющая кнопка: домой 10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Прямоугольник 11"/>
          <p:cNvSpPr/>
          <p:nvPr/>
        </p:nvSpPr>
        <p:spPr>
          <a:xfrm>
            <a:off x="3276720" y="42926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pts-russia.com/img_ProD/Vilka_220V_small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365040"/>
            <a:ext cx="6242040" cy="4005360"/>
          </a:xfrm>
          <a:prstGeom prst="rect">
            <a:avLst/>
          </a:prstGeom>
          <a:ln w="0">
            <a:noFill/>
          </a:ln>
        </p:spPr>
      </p:pic>
      <p:sp>
        <p:nvSpPr>
          <p:cNvPr id="1399" name="TextBox 2"/>
          <p:cNvSpPr/>
          <p:nvPr/>
        </p:nvSpPr>
        <p:spPr>
          <a:xfrm>
            <a:off x="1143000" y="5429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ские права защищены законом РФ "Об авторских правах и о смежных правах"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Перепечатка и переиздание в любом виде разрешены только с согласия ав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0" name="Picture 3" descr="pe01916_"/>
          <p:cNvPicPr/>
          <p:nvPr/>
        </p:nvPicPr>
        <p:blipFill>
          <a:blip r:embed="rId2"/>
          <a:stretch/>
        </p:blipFill>
        <p:spPr>
          <a:xfrm>
            <a:off x="0" y="4714920"/>
            <a:ext cx="1714680" cy="156348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4" descr="j0432598"/>
          <p:cNvPicPr/>
          <p:nvPr/>
        </p:nvPicPr>
        <p:blipFill>
          <a:blip r:embed="rId3"/>
          <a:stretch/>
        </p:blipFill>
        <p:spPr>
          <a:xfrm>
            <a:off x="750096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5" descr="j0315756"/>
          <p:cNvPicPr/>
          <p:nvPr/>
        </p:nvPicPr>
        <p:blipFill>
          <a:blip r:embed="rId4"/>
          <a:stretch/>
        </p:blipFill>
        <p:spPr>
          <a:xfrm>
            <a:off x="3071880" y="2786040"/>
            <a:ext cx="4429080" cy="2577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j0236288"/>
          <p:cNvPicPr/>
          <p:nvPr/>
        </p:nvPicPr>
        <p:blipFill>
          <a:blip r:embed="rId5"/>
          <a:stretch/>
        </p:blipFill>
        <p:spPr>
          <a:xfrm rot="435600">
            <a:off x="72720" y="195120"/>
            <a:ext cx="911160" cy="122076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8" descr="j0345783"/>
          <p:cNvPicPr/>
          <p:nvPr/>
        </p:nvPicPr>
        <p:blipFill>
          <a:blip r:embed="rId6"/>
          <a:stretch/>
        </p:blipFill>
        <p:spPr>
          <a:xfrm>
            <a:off x="6259680" y="500040"/>
            <a:ext cx="28843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Прямоугольник 1" descr=""/>
          <p:cNvPicPr/>
          <p:nvPr/>
        </p:nvPicPr>
        <p:blipFill>
          <a:blip r:embed="rId1"/>
          <a:stretch/>
        </p:blipFill>
        <p:spPr>
          <a:xfrm>
            <a:off x="1719360" y="-66600"/>
            <a:ext cx="5029200" cy="1535040"/>
          </a:xfrm>
          <a:prstGeom prst="rect">
            <a:avLst/>
          </a:prstGeom>
          <a:ln w="0">
            <a:noFill/>
          </a:ln>
        </p:spPr>
      </p:pic>
      <p:sp>
        <p:nvSpPr>
          <p:cNvPr id="1071" name="TextBox 4"/>
          <p:cNvSpPr/>
          <p:nvPr/>
        </p:nvSpPr>
        <p:spPr>
          <a:xfrm>
            <a:off x="1489320" y="11970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пределения проводника и изоля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11"/>
          <p:cNvSpPr/>
          <p:nvPr/>
        </p:nvSpPr>
        <p:spPr>
          <a:xfrm>
            <a:off x="1490760" y="494172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Литер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14"/>
          <p:cNvSpPr/>
          <p:nvPr/>
        </p:nvSpPr>
        <p:spPr>
          <a:xfrm>
            <a:off x="1483560" y="1989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хема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14"/>
          <p:cNvSpPr/>
          <p:nvPr/>
        </p:nvSpPr>
        <p:spPr>
          <a:xfrm>
            <a:off x="1501920" y="2637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бор образцов для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1485000" y="335772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Таблица для за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15"/>
          <p:cNvSpPr/>
          <p:nvPr/>
        </p:nvSpPr>
        <p:spPr>
          <a:xfrm>
            <a:off x="1490040" y="414972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просы для повто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96840"/>
            <a:ext cx="6742080" cy="40291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245880" y="4429080"/>
            <a:ext cx="852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материалы либо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1e3a42"/>
                </a:solidFill>
                <a:latin typeface="Arial"/>
              </a:rPr>
              <a:t>проводниками</a:t>
            </a:r>
            <a:r>
              <a:rPr b="0" lang="ru-RU" sz="2800" spc="-1" strike="noStrike">
                <a:solidFill>
                  <a:srgbClr val="1e3a42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бо не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олятора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6521400" y="189000"/>
            <a:ext cx="2622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Группа 17"/>
          <p:cNvGrpSpPr/>
          <p:nvPr/>
        </p:nvGrpSpPr>
        <p:grpSpPr>
          <a:xfrm>
            <a:off x="3714840" y="1214280"/>
            <a:ext cx="1714320" cy="1571760"/>
            <a:chOff x="3714840" y="1214280"/>
            <a:chExt cx="1714320" cy="1571760"/>
          </a:xfrm>
        </p:grpSpPr>
        <p:sp>
          <p:nvSpPr>
            <p:cNvPr id="1081" name="Прямая соединительная линия 2"/>
            <p:cNvSpPr/>
            <p:nvPr/>
          </p:nvSpPr>
          <p:spPr>
            <a:xfrm flipH="1">
              <a:off x="4429080" y="1643040"/>
              <a:ext cx="1440" cy="71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Прямая соединительная линия 4"/>
            <p:cNvSpPr/>
            <p:nvPr/>
          </p:nvSpPr>
          <p:spPr>
            <a:xfrm flipH="1">
              <a:off x="4714920" y="1214280"/>
              <a:ext cx="144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Прямая соединительная линия 6"/>
            <p:cNvSpPr/>
            <p:nvPr/>
          </p:nvSpPr>
          <p:spPr>
            <a:xfrm flipH="1" flipV="1">
              <a:off x="371484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Прямая соединительная линия 7"/>
            <p:cNvSpPr/>
            <p:nvPr/>
          </p:nvSpPr>
          <p:spPr>
            <a:xfrm flipH="1" flipV="1">
              <a:off x="471492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Плюс 8"/>
            <p:cNvSpPr/>
            <p:nvPr/>
          </p:nvSpPr>
          <p:spPr>
            <a:xfrm>
              <a:off x="3714840" y="1428480"/>
              <a:ext cx="500040" cy="428760"/>
            </a:xfrm>
            <a:custGeom>
              <a:avLst/>
              <a:gdLst/>
              <a:ahLst/>
              <a:rect l="l" t="t" r="r" b="b"/>
              <a:pathLst>
                <a:path w="500067" h="428628">
                  <a:moveTo>
                    <a:pt x="66284" y="163907"/>
                  </a:moveTo>
                  <a:lnTo>
                    <a:pt x="199627" y="163907"/>
                  </a:lnTo>
                  <a:lnTo>
                    <a:pt x="199627" y="56815"/>
                  </a:lnTo>
                  <a:lnTo>
                    <a:pt x="300440" y="56815"/>
                  </a:lnTo>
                  <a:lnTo>
                    <a:pt x="300440" y="163907"/>
                  </a:lnTo>
                  <a:lnTo>
                    <a:pt x="433783" y="163907"/>
                  </a:lnTo>
                  <a:lnTo>
                    <a:pt x="433783" y="264721"/>
                  </a:lnTo>
                  <a:lnTo>
                    <a:pt x="300440" y="264721"/>
                  </a:lnTo>
                  <a:lnTo>
                    <a:pt x="300440" y="371813"/>
                  </a:lnTo>
                  <a:lnTo>
                    <a:pt x="199627" y="371813"/>
                  </a:lnTo>
                  <a:lnTo>
                    <a:pt x="199627" y="264721"/>
                  </a:lnTo>
                  <a:lnTo>
                    <a:pt x="66284" y="264721"/>
                  </a:lnTo>
                  <a:lnTo>
                    <a:pt x="66284" y="163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Минус 9"/>
            <p:cNvSpPr/>
            <p:nvPr/>
          </p:nvSpPr>
          <p:spPr>
            <a:xfrm>
              <a:off x="4929120" y="149976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5" h="357189">
                  <a:moveTo>
                    <a:pt x="66284" y="136589"/>
                  </a:moveTo>
                  <a:lnTo>
                    <a:pt x="433781" y="136589"/>
                  </a:lnTo>
                  <a:lnTo>
                    <a:pt x="433781" y="220600"/>
                  </a:lnTo>
                  <a:lnTo>
                    <a:pt x="66284" y="220600"/>
                  </a:lnTo>
                  <a:lnTo>
                    <a:pt x="66284" y="13658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Группа 18"/>
          <p:cNvGrpSpPr/>
          <p:nvPr/>
        </p:nvGrpSpPr>
        <p:grpSpPr>
          <a:xfrm>
            <a:off x="8143920" y="1857240"/>
            <a:ext cx="693720" cy="2260800"/>
            <a:chOff x="8143920" y="1857240"/>
            <a:chExt cx="693720" cy="2260800"/>
          </a:xfrm>
        </p:grpSpPr>
        <p:sp>
          <p:nvSpPr>
            <p:cNvPr id="1088" name="Полилиния 11"/>
            <p:cNvSpPr/>
            <p:nvPr/>
          </p:nvSpPr>
          <p:spPr>
            <a:xfrm>
              <a:off x="8143920" y="2670120"/>
              <a:ext cx="382680" cy="1447920"/>
            </a:xfrm>
            <a:custGeom>
              <a:avLst/>
              <a:gdLst/>
              <a:ahLst/>
              <a:rect l="l" t="t" r="r" b="b"/>
              <a:pathLst>
                <a:path w="381964" h="1446835">
                  <a:moveTo>
                    <a:pt x="0" y="1446835"/>
                  </a:moveTo>
                  <a:lnTo>
                    <a:pt x="0" y="740779"/>
                  </a:lnTo>
                  <a:lnTo>
                    <a:pt x="381964" y="0"/>
                  </a:lnTo>
                  <a:lnTo>
                    <a:pt x="3819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Полилиния 12"/>
            <p:cNvSpPr/>
            <p:nvPr/>
          </p:nvSpPr>
          <p:spPr>
            <a:xfrm>
              <a:off x="8143920" y="1963440"/>
              <a:ext cx="10800" cy="719280"/>
            </a:xfrm>
            <a:custGeom>
              <a:avLst/>
              <a:gdLst/>
              <a:ahLst/>
              <a:rect l="l" t="t" r="r" b="b"/>
              <a:pathLst>
                <a:path w="11575" h="717630">
                  <a:moveTo>
                    <a:pt x="0" y="717630"/>
                  </a:moveTo>
                  <a:lnTo>
                    <a:pt x="1157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Плюс 13"/>
            <p:cNvSpPr/>
            <p:nvPr/>
          </p:nvSpPr>
          <p:spPr>
            <a:xfrm>
              <a:off x="8337600" y="1857240"/>
              <a:ext cx="500040" cy="428400"/>
            </a:xfrm>
            <a:custGeom>
              <a:avLst/>
              <a:gdLst/>
              <a:ahLst/>
              <a:rect l="l" t="t" r="r" b="b"/>
              <a:pathLst>
                <a:path w="499570" h="428506">
                  <a:moveTo>
                    <a:pt x="66218" y="163861"/>
                  </a:moveTo>
                  <a:lnTo>
                    <a:pt x="199393" y="163861"/>
                  </a:lnTo>
                  <a:lnTo>
                    <a:pt x="199393" y="56798"/>
                  </a:lnTo>
                  <a:lnTo>
                    <a:pt x="300177" y="56798"/>
                  </a:lnTo>
                  <a:lnTo>
                    <a:pt x="300177" y="163861"/>
                  </a:lnTo>
                  <a:lnTo>
                    <a:pt x="433352" y="163861"/>
                  </a:lnTo>
                  <a:lnTo>
                    <a:pt x="433352" y="264645"/>
                  </a:lnTo>
                  <a:lnTo>
                    <a:pt x="300177" y="264645"/>
                  </a:lnTo>
                  <a:lnTo>
                    <a:pt x="300177" y="371708"/>
                  </a:lnTo>
                  <a:lnTo>
                    <a:pt x="199393" y="371708"/>
                  </a:lnTo>
                  <a:lnTo>
                    <a:pt x="199393" y="264645"/>
                  </a:lnTo>
                  <a:lnTo>
                    <a:pt x="66218" y="264645"/>
                  </a:lnTo>
                  <a:lnTo>
                    <a:pt x="66218" y="16386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Минус 15"/>
            <p:cNvSpPr/>
            <p:nvPr/>
          </p:nvSpPr>
          <p:spPr>
            <a:xfrm>
              <a:off x="8337600" y="3500640"/>
              <a:ext cx="500040" cy="357120"/>
            </a:xfrm>
            <a:custGeom>
              <a:avLst/>
              <a:gdLst/>
              <a:ahLst/>
              <a:rect l="l" t="t" r="r" b="b"/>
              <a:pathLst>
                <a:path w="499570" h="357088">
                  <a:moveTo>
                    <a:pt x="66218" y="136550"/>
                  </a:moveTo>
                  <a:lnTo>
                    <a:pt x="433352" y="136550"/>
                  </a:lnTo>
                  <a:lnTo>
                    <a:pt x="433352" y="220538"/>
                  </a:lnTo>
                  <a:lnTo>
                    <a:pt x="66218" y="220538"/>
                  </a:lnTo>
                  <a:lnTo>
                    <a:pt x="66218" y="13655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2" name="Группа 22"/>
          <p:cNvGrpSpPr/>
          <p:nvPr/>
        </p:nvGrpSpPr>
        <p:grpSpPr>
          <a:xfrm>
            <a:off x="285840" y="1998360"/>
            <a:ext cx="1142640" cy="1857600"/>
            <a:chOff x="285840" y="1998360"/>
            <a:chExt cx="1142640" cy="1857600"/>
          </a:xfrm>
        </p:grpSpPr>
        <p:sp>
          <p:nvSpPr>
            <p:cNvPr id="1093" name="Блок-схема: узел суммирования 10"/>
            <p:cNvSpPr/>
            <p:nvPr/>
          </p:nvSpPr>
          <p:spPr>
            <a:xfrm rot="16200000">
              <a:off x="571320" y="2536560"/>
              <a:ext cx="857160" cy="8571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Плюс 14"/>
            <p:cNvSpPr/>
            <p:nvPr/>
          </p:nvSpPr>
          <p:spPr>
            <a:xfrm rot="16200000">
              <a:off x="249840" y="3319920"/>
              <a:ext cx="500040" cy="428400"/>
            </a:xfrm>
            <a:custGeom>
              <a:avLst/>
              <a:gdLst/>
              <a:ahLst/>
              <a:rect l="l" t="t" r="r" b="b"/>
              <a:pathLst>
                <a:path w="500067" h="428625">
                  <a:moveTo>
                    <a:pt x="66284" y="163906"/>
                  </a:moveTo>
                  <a:lnTo>
                    <a:pt x="199627" y="163906"/>
                  </a:lnTo>
                  <a:lnTo>
                    <a:pt x="199627" y="56814"/>
                  </a:lnTo>
                  <a:lnTo>
                    <a:pt x="300440" y="56814"/>
                  </a:lnTo>
                  <a:lnTo>
                    <a:pt x="300440" y="163906"/>
                  </a:lnTo>
                  <a:lnTo>
                    <a:pt x="433783" y="163906"/>
                  </a:lnTo>
                  <a:lnTo>
                    <a:pt x="433783" y="264719"/>
                  </a:lnTo>
                  <a:lnTo>
                    <a:pt x="300440" y="264719"/>
                  </a:lnTo>
                  <a:lnTo>
                    <a:pt x="300440" y="371811"/>
                  </a:lnTo>
                  <a:lnTo>
                    <a:pt x="199627" y="371811"/>
                  </a:lnTo>
                  <a:lnTo>
                    <a:pt x="199627" y="264719"/>
                  </a:lnTo>
                  <a:lnTo>
                    <a:pt x="66284" y="264719"/>
                  </a:lnTo>
                  <a:lnTo>
                    <a:pt x="66284" y="1639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Минус 16"/>
            <p:cNvSpPr/>
            <p:nvPr/>
          </p:nvSpPr>
          <p:spPr>
            <a:xfrm rot="16200000">
              <a:off x="285480" y="206964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7" h="357187">
                  <a:moveTo>
                    <a:pt x="66284" y="136588"/>
                  </a:moveTo>
                  <a:lnTo>
                    <a:pt x="433783" y="136588"/>
                  </a:lnTo>
                  <a:lnTo>
                    <a:pt x="433783" y="220599"/>
                  </a:lnTo>
                  <a:lnTo>
                    <a:pt x="66284" y="220599"/>
                  </a:lnTo>
                  <a:lnTo>
                    <a:pt x="66284" y="13658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Прямая соединительная линия 20"/>
            <p:cNvSpPr/>
            <p:nvPr/>
          </p:nvSpPr>
          <p:spPr>
            <a:xfrm flipH="1">
              <a:off x="1000080" y="33559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Прямая соединительная линия 21"/>
            <p:cNvSpPr/>
            <p:nvPr/>
          </p:nvSpPr>
          <p:spPr>
            <a:xfrm flipH="1">
              <a:off x="1000080" y="19987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8" name="Прямоугольник 33" descr=""/>
          <p:cNvPicPr/>
          <p:nvPr/>
        </p:nvPicPr>
        <p:blipFill>
          <a:blip r:embed="rId1"/>
          <a:stretch/>
        </p:blipFill>
        <p:spPr>
          <a:xfrm>
            <a:off x="1195560" y="2371680"/>
            <a:ext cx="9572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1099" name="Группа 27"/>
          <p:cNvGrpSpPr/>
          <p:nvPr/>
        </p:nvGrpSpPr>
        <p:grpSpPr>
          <a:xfrm>
            <a:off x="3857760" y="4000680"/>
            <a:ext cx="214200" cy="1571400"/>
            <a:chOff x="3857760" y="4000680"/>
            <a:chExt cx="214200" cy="1571400"/>
          </a:xfrm>
        </p:grpSpPr>
        <p:sp>
          <p:nvSpPr>
            <p:cNvPr id="1100" name="Овал 23"/>
            <p:cNvSpPr/>
            <p:nvPr/>
          </p:nvSpPr>
          <p:spPr>
            <a:xfrm>
              <a:off x="385776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Скругленный прямоугольник 26"/>
            <p:cNvSpPr/>
            <p:nvPr/>
          </p:nvSpPr>
          <p:spPr>
            <a:xfrm>
              <a:off x="392904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Группа 28"/>
          <p:cNvGrpSpPr/>
          <p:nvPr/>
        </p:nvGrpSpPr>
        <p:grpSpPr>
          <a:xfrm>
            <a:off x="4714920" y="4000680"/>
            <a:ext cx="214200" cy="1571400"/>
            <a:chOff x="4714920" y="4000680"/>
            <a:chExt cx="214200" cy="1571400"/>
          </a:xfrm>
        </p:grpSpPr>
        <p:sp>
          <p:nvSpPr>
            <p:cNvPr id="1103" name="Овал 29"/>
            <p:cNvSpPr/>
            <p:nvPr/>
          </p:nvSpPr>
          <p:spPr>
            <a:xfrm>
              <a:off x="471492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Скругленный прямоугольник 30"/>
            <p:cNvSpPr/>
            <p:nvPr/>
          </p:nvSpPr>
          <p:spPr>
            <a:xfrm>
              <a:off x="478620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Прямая соединительная линия 37"/>
          <p:cNvSpPr/>
          <p:nvPr/>
        </p:nvSpPr>
        <p:spPr>
          <a:xfrm>
            <a:off x="1000080" y="2000160"/>
            <a:ext cx="271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Полилиния 40"/>
          <p:cNvSpPr/>
          <p:nvPr/>
        </p:nvSpPr>
        <p:spPr>
          <a:xfrm>
            <a:off x="1008000" y="3816360"/>
            <a:ext cx="2843280" cy="279360"/>
          </a:xfrm>
          <a:custGeom>
            <a:avLst/>
            <a:gdLst/>
            <a:ahLst/>
            <a:rect l="l" t="t" r="r" b="b"/>
            <a:pathLst>
              <a:path w="2843561" h="278780">
                <a:moveTo>
                  <a:pt x="0" y="0"/>
                </a:moveTo>
                <a:lnTo>
                  <a:pt x="0" y="278780"/>
                </a:lnTo>
                <a:lnTo>
                  <a:pt x="2843561" y="256478"/>
                </a:lnTo>
                <a:lnTo>
                  <a:pt x="2843561" y="256478"/>
                </a:lnTo>
                <a:lnTo>
                  <a:pt x="2843561" y="256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Прямая соединительная линия 42"/>
          <p:cNvSpPr/>
          <p:nvPr/>
        </p:nvSpPr>
        <p:spPr>
          <a:xfrm>
            <a:off x="4929120" y="4108320"/>
            <a:ext cx="321480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Прямая соединительная линия 44"/>
          <p:cNvSpPr/>
          <p:nvPr/>
        </p:nvSpPr>
        <p:spPr>
          <a:xfrm flipH="1">
            <a:off x="5429160" y="1963800"/>
            <a:ext cx="2725920" cy="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1"/>
          <p:cNvSpPr/>
          <p:nvPr/>
        </p:nvSpPr>
        <p:spPr>
          <a:xfrm>
            <a:off x="1026360" y="4287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ни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пределения проводимости матер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Прямоугольник 31"/>
          <p:cNvSpPr/>
          <p:nvPr/>
        </p:nvSpPr>
        <p:spPr>
          <a:xfrm>
            <a:off x="6083280" y="59292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12" name="Багетная рамка 34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13" name="Багетная рамка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5" name="Группа 71"/>
            <p:cNvGrpSpPr/>
            <p:nvPr/>
          </p:nvGrpSpPr>
          <p:grpSpPr>
            <a:xfrm>
              <a:off x="4585680" y="4042080"/>
              <a:ext cx="367200" cy="429120"/>
              <a:chOff x="4585680" y="4042080"/>
              <a:chExt cx="367200" cy="429120"/>
            </a:xfrm>
          </p:grpSpPr>
          <p:sp>
            <p:nvSpPr>
              <p:cNvPr id="1116" name="Трапеция 59"/>
              <p:cNvSpPr/>
              <p:nvPr/>
            </p:nvSpPr>
            <p:spPr>
              <a:xfrm rot="11040000">
                <a:off x="4595400" y="4053600"/>
                <a:ext cx="347760" cy="288000"/>
              </a:xfrm>
              <a:custGeom>
                <a:avLst/>
                <a:gdLst/>
                <a:ahLst/>
                <a:rect l="l" t="t" r="r" b="b"/>
                <a:pathLst>
                  <a:path w="500062" h="362384">
                    <a:moveTo>
                      <a:pt x="0" y="362384"/>
                    </a:moveTo>
                    <a:lnTo>
                      <a:pt x="114082" y="0"/>
                    </a:lnTo>
                    <a:lnTo>
                      <a:pt x="385980" y="0"/>
                    </a:lnTo>
                    <a:lnTo>
                      <a:pt x="500062" y="362384"/>
                    </a:lnTo>
                    <a:lnTo>
                      <a:pt x="0" y="362384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17" name="Кольцо 6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60200" y="4232520"/>
                <a:ext cx="231480" cy="23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8" name="Группа 85"/>
            <p:cNvGrpSpPr/>
            <p:nvPr/>
          </p:nvGrpSpPr>
          <p:grpSpPr>
            <a:xfrm>
              <a:off x="3853080" y="4583880"/>
              <a:ext cx="277920" cy="1538280"/>
              <a:chOff x="3853080" y="4583880"/>
              <a:chExt cx="277920" cy="1538280"/>
            </a:xfrm>
          </p:grpSpPr>
          <p:sp>
            <p:nvSpPr>
              <p:cNvPr id="1119" name="Скругленный прямоугольник 52"/>
              <p:cNvSpPr/>
              <p:nvPr/>
            </p:nvSpPr>
            <p:spPr>
              <a:xfrm rot="10800000">
                <a:off x="385308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Кольцо 53"/>
              <p:cNvSpPr/>
              <p:nvPr/>
            </p:nvSpPr>
            <p:spPr>
              <a:xfrm rot="10800000">
                <a:off x="388080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Кольцо 54"/>
              <p:cNvSpPr/>
              <p:nvPr/>
            </p:nvSpPr>
            <p:spPr>
              <a:xfrm rot="10800000">
                <a:off x="388080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Кольцо 55"/>
              <p:cNvSpPr/>
              <p:nvPr/>
            </p:nvSpPr>
            <p:spPr>
              <a:xfrm rot="10800000">
                <a:off x="388080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Кольцо 56"/>
              <p:cNvSpPr/>
              <p:nvPr/>
            </p:nvSpPr>
            <p:spPr>
              <a:xfrm rot="10800000">
                <a:off x="388080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Кольцо 57"/>
              <p:cNvSpPr/>
              <p:nvPr/>
            </p:nvSpPr>
            <p:spPr>
              <a:xfrm rot="10800000">
                <a:off x="388080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Кольцо 58"/>
              <p:cNvSpPr/>
              <p:nvPr/>
            </p:nvSpPr>
            <p:spPr>
              <a:xfrm rot="10800000">
                <a:off x="388080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6" name="Группа 87"/>
            <p:cNvGrpSpPr/>
            <p:nvPr/>
          </p:nvGrpSpPr>
          <p:grpSpPr>
            <a:xfrm>
              <a:off x="3820320" y="4042080"/>
              <a:ext cx="367200" cy="428760"/>
              <a:chOff x="3820320" y="4042080"/>
              <a:chExt cx="367200" cy="428760"/>
            </a:xfrm>
          </p:grpSpPr>
          <p:sp>
            <p:nvSpPr>
              <p:cNvPr id="1127" name="Трапеция 50"/>
              <p:cNvSpPr/>
              <p:nvPr/>
            </p:nvSpPr>
            <p:spPr>
              <a:xfrm rot="11040000">
                <a:off x="3830040" y="4053600"/>
                <a:ext cx="347760" cy="287640"/>
              </a:xfrm>
              <a:custGeom>
                <a:avLst/>
                <a:gdLst/>
                <a:ahLst/>
                <a:rect l="l" t="t" r="r" b="b"/>
                <a:pathLst>
                  <a:path w="500063" h="360526">
                    <a:moveTo>
                      <a:pt x="0" y="360526"/>
                    </a:moveTo>
                    <a:lnTo>
                      <a:pt x="113497" y="0"/>
                    </a:lnTo>
                    <a:lnTo>
                      <a:pt x="386566" y="0"/>
                    </a:lnTo>
                    <a:lnTo>
                      <a:pt x="500063" y="360526"/>
                    </a:lnTo>
                    <a:lnTo>
                      <a:pt x="0" y="360526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28" name="Кольцо 5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3888360" y="4231440"/>
                <a:ext cx="231480" cy="2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9" name="Группа 90"/>
            <p:cNvGrpSpPr/>
            <p:nvPr/>
          </p:nvGrpSpPr>
          <p:grpSpPr>
            <a:xfrm>
              <a:off x="4618440" y="4583880"/>
              <a:ext cx="277920" cy="1538280"/>
              <a:chOff x="4618440" y="4583880"/>
              <a:chExt cx="277920" cy="1538280"/>
            </a:xfrm>
          </p:grpSpPr>
          <p:sp>
            <p:nvSpPr>
              <p:cNvPr id="1130" name="Скругленный прямоугольник 41"/>
              <p:cNvSpPr/>
              <p:nvPr/>
            </p:nvSpPr>
            <p:spPr>
              <a:xfrm rot="10800000">
                <a:off x="461844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Кольцо 43"/>
              <p:cNvSpPr/>
              <p:nvPr/>
            </p:nvSpPr>
            <p:spPr>
              <a:xfrm rot="10800000">
                <a:off x="464616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Кольцо 45"/>
              <p:cNvSpPr/>
              <p:nvPr/>
            </p:nvSpPr>
            <p:spPr>
              <a:xfrm rot="10800000">
                <a:off x="464616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Кольцо 46"/>
              <p:cNvSpPr/>
              <p:nvPr/>
            </p:nvSpPr>
            <p:spPr>
              <a:xfrm rot="10800000">
                <a:off x="464616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Кольцо 47"/>
              <p:cNvSpPr/>
              <p:nvPr/>
            </p:nvSpPr>
            <p:spPr>
              <a:xfrm rot="10800000">
                <a:off x="464616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Кольцо 48"/>
              <p:cNvSpPr/>
              <p:nvPr/>
            </p:nvSpPr>
            <p:spPr>
              <a:xfrm rot="10800000">
                <a:off x="464616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Кольцо 49"/>
              <p:cNvSpPr/>
              <p:nvPr/>
            </p:nvSpPr>
            <p:spPr>
              <a:xfrm rot="10800000">
                <a:off x="464616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141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3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144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145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148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0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151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53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154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155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158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0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163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164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6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173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176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179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182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185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188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0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191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192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93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94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6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197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98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200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7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208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09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211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219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222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Полилиния 129"/>
          <p:cNvSpPr/>
          <p:nvPr/>
        </p:nvSpPr>
        <p:spPr>
          <a:xfrm flipH="1" flipV="1" rot="20953800">
            <a:off x="2928240" y="5357520"/>
            <a:ext cx="3071880" cy="135720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Группа 5"/>
          <p:cNvGrpSpPr/>
          <p:nvPr/>
        </p:nvGrpSpPr>
        <p:grpSpPr>
          <a:xfrm>
            <a:off x="4728240" y="5518800"/>
            <a:ext cx="1219320" cy="403560"/>
            <a:chOff x="4728240" y="5518800"/>
            <a:chExt cx="1219320" cy="403560"/>
          </a:xfrm>
        </p:grpSpPr>
        <p:sp>
          <p:nvSpPr>
            <p:cNvPr id="1228" name="Скругленный прямоугольник 106"/>
            <p:cNvSpPr/>
            <p:nvPr/>
          </p:nvSpPr>
          <p:spPr>
            <a:xfrm rot="5585400">
              <a:off x="4890960" y="5402520"/>
              <a:ext cx="71280" cy="393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3840"/>
                <a:gd name="textAreaBottom" fmla="*/ 390600 h 393840"/>
              </a:gdLst>
              <a:ahLst/>
              <a:rect l="textAreaLeft" t="textAreaTop" r="textAreaRight" b="textAreaBottom"/>
              <a:pathLst>
                <a:path w="21600" h="118854">
                  <a:moveTo>
                    <a:pt x="3600" y="0"/>
                  </a:moveTo>
                  <a:arcTo wR="3600" hR="3600" stAng="16200000" swAng="-5400000"/>
                  <a:lnTo>
                    <a:pt x="0" y="115254"/>
                  </a:lnTo>
                  <a:arcTo wR="3600" hR="3600" stAng="10800000" swAng="-5400000"/>
                  <a:lnTo>
                    <a:pt x="18000" y="11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Полилиния 125"/>
            <p:cNvSpPr/>
            <p:nvPr/>
          </p:nvSpPr>
          <p:spPr>
            <a:xfrm rot="5585400">
              <a:off x="5326920" y="5287320"/>
              <a:ext cx="357120" cy="8661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0" name="Группа 5"/>
          <p:cNvGrpSpPr/>
          <p:nvPr/>
        </p:nvGrpSpPr>
        <p:grpSpPr>
          <a:xfrm>
            <a:off x="2929320" y="5428800"/>
            <a:ext cx="1227960" cy="396000"/>
            <a:chOff x="2929320" y="5428800"/>
            <a:chExt cx="1227960" cy="396000"/>
          </a:xfrm>
        </p:grpSpPr>
        <p:sp>
          <p:nvSpPr>
            <p:cNvPr id="1231" name="Скругленный прямоугольник 103"/>
            <p:cNvSpPr/>
            <p:nvPr/>
          </p:nvSpPr>
          <p:spPr>
            <a:xfrm flipH="1" rot="16356600">
              <a:off x="3924000" y="5349240"/>
              <a:ext cx="71280" cy="3924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400"/>
                <a:gd name="textAreaBottom" fmla="*/ 389160 h 392400"/>
              </a:gdLst>
              <a:ahLst/>
              <a:rect l="textAreaLeft" t="textAreaTop" r="textAreaRight" b="textAreaBottom"/>
              <a:pathLst>
                <a:path w="21600" h="118420">
                  <a:moveTo>
                    <a:pt x="3600" y="0"/>
                  </a:moveTo>
                  <a:arcTo wR="3600" hR="3600" stAng="16200000" swAng="-5400000"/>
                  <a:lnTo>
                    <a:pt x="0" y="114820"/>
                  </a:lnTo>
                  <a:arcTo wR="3600" hR="3600" stAng="10800000" swAng="-5400000"/>
                  <a:lnTo>
                    <a:pt x="18000" y="11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Полилиния 104"/>
            <p:cNvSpPr/>
            <p:nvPr/>
          </p:nvSpPr>
          <p:spPr>
            <a:xfrm flipH="1" rot="16356600">
              <a:off x="3189240" y="5195160"/>
              <a:ext cx="357120" cy="8625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Блок-схема: знак завершения 182"/>
          <p:cNvSpPr/>
          <p:nvPr/>
        </p:nvSpPr>
        <p:spPr>
          <a:xfrm>
            <a:off x="785880" y="3571920"/>
            <a:ext cx="214308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Группа 8" descr=""/>
          <p:cNvPicPr/>
          <p:nvPr/>
        </p:nvPicPr>
        <p:blipFill>
          <a:blip r:embed="rId1"/>
          <a:stretch/>
        </p:blipFill>
        <p:spPr>
          <a:xfrm>
            <a:off x="-19080" y="3292560"/>
            <a:ext cx="2781360" cy="809640"/>
          </a:xfrm>
          <a:prstGeom prst="rect">
            <a:avLst/>
          </a:prstGeom>
          <a:ln w="0">
            <a:noFill/>
          </a:ln>
        </p:spPr>
      </p:pic>
      <p:sp>
        <p:nvSpPr>
          <p:cNvPr id="123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Прямоугольник 97" descr=""/>
          <p:cNvPicPr/>
          <p:nvPr/>
        </p:nvPicPr>
        <p:blipFill>
          <a:blip r:embed="rId2"/>
          <a:stretch/>
        </p:blipFill>
        <p:spPr>
          <a:xfrm>
            <a:off x="1494000" y="2682720"/>
            <a:ext cx="14619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237" name="Цилиндр 131"/>
          <p:cNvGrpSpPr/>
          <p:nvPr/>
        </p:nvGrpSpPr>
        <p:grpSpPr>
          <a:xfrm>
            <a:off x="1311120" y="3382920"/>
            <a:ext cx="2213280" cy="330120"/>
            <a:chOff x="1311120" y="3382920"/>
            <a:chExt cx="2213280" cy="330120"/>
          </a:xfrm>
        </p:grpSpPr>
        <p:pic>
          <p:nvPicPr>
            <p:cNvPr id="1238" name="Цилиндр 131" descr=""/>
            <p:cNvPicPr/>
            <p:nvPr/>
          </p:nvPicPr>
          <p:blipFill>
            <a:blip r:embed="rId3"/>
            <a:stretch/>
          </p:blipFill>
          <p:spPr>
            <a:xfrm>
              <a:off x="1311120" y="3382920"/>
              <a:ext cx="22132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 rot="16200000">
              <a:off x="2376360" y="2576160"/>
              <a:ext cx="9540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0" name="Цилиндр 132"/>
          <p:cNvGrpSpPr/>
          <p:nvPr/>
        </p:nvGrpSpPr>
        <p:grpSpPr>
          <a:xfrm>
            <a:off x="1384200" y="3316320"/>
            <a:ext cx="2266920" cy="274680"/>
            <a:chOff x="1384200" y="3316320"/>
            <a:chExt cx="2266920" cy="274680"/>
          </a:xfrm>
        </p:grpSpPr>
        <p:pic>
          <p:nvPicPr>
            <p:cNvPr id="1241" name="Цилиндр 132" descr=""/>
            <p:cNvPicPr/>
            <p:nvPr/>
          </p:nvPicPr>
          <p:blipFill>
            <a:blip r:embed="rId4"/>
            <a:stretch/>
          </p:blipFill>
          <p:spPr>
            <a:xfrm>
              <a:off x="1384200" y="3316320"/>
              <a:ext cx="2266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 rot="16200000">
              <a:off x="2495520" y="244476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Цилиндр 133"/>
          <p:cNvGrpSpPr/>
          <p:nvPr/>
        </p:nvGrpSpPr>
        <p:grpSpPr>
          <a:xfrm>
            <a:off x="1809720" y="2955960"/>
            <a:ext cx="2268720" cy="280800"/>
            <a:chOff x="1809720" y="2955960"/>
            <a:chExt cx="2268720" cy="280800"/>
          </a:xfrm>
        </p:grpSpPr>
        <p:pic>
          <p:nvPicPr>
            <p:cNvPr id="1244" name="Цилиндр 133" descr=""/>
            <p:cNvPicPr/>
            <p:nvPr/>
          </p:nvPicPr>
          <p:blipFill>
            <a:blip r:embed="rId5"/>
            <a:stretch/>
          </p:blipFill>
          <p:spPr>
            <a:xfrm>
              <a:off x="1809720" y="2955960"/>
              <a:ext cx="226872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 rot="16200000">
              <a:off x="2924280" y="208764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6" name="Скругленный прямоугольник 134"/>
          <p:cNvSpPr/>
          <p:nvPr/>
        </p:nvSpPr>
        <p:spPr>
          <a:xfrm>
            <a:off x="1357200" y="3143160"/>
            <a:ext cx="2143080" cy="285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Скругленный прямоугольник 135"/>
          <p:cNvSpPr/>
          <p:nvPr/>
        </p:nvSpPr>
        <p:spPr>
          <a:xfrm>
            <a:off x="928800" y="3357720"/>
            <a:ext cx="1868400" cy="2854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8" name="Группа 138"/>
          <p:cNvGrpSpPr/>
          <p:nvPr/>
        </p:nvGrpSpPr>
        <p:grpSpPr>
          <a:xfrm>
            <a:off x="1357200" y="3499920"/>
            <a:ext cx="1812960" cy="95760"/>
            <a:chOff x="1357200" y="3499920"/>
            <a:chExt cx="1812960" cy="95760"/>
          </a:xfrm>
        </p:grpSpPr>
        <p:grpSp>
          <p:nvGrpSpPr>
            <p:cNvPr id="1249" name="Цилиндр 137"/>
            <p:cNvGrpSpPr/>
            <p:nvPr/>
          </p:nvGrpSpPr>
          <p:grpSpPr>
            <a:xfrm>
              <a:off x="1357200" y="3499920"/>
              <a:ext cx="1812960" cy="81360"/>
              <a:chOff x="1357200" y="3499920"/>
              <a:chExt cx="1812960" cy="81360"/>
            </a:xfrm>
          </p:grpSpPr>
          <p:pic>
            <p:nvPicPr>
              <p:cNvPr id="1250" name="Цилиндр 137" descr=""/>
              <p:cNvPicPr/>
              <p:nvPr/>
            </p:nvPicPr>
            <p:blipFill>
              <a:blip r:embed="rId8"/>
              <a:stretch/>
            </p:blipFill>
            <p:spPr>
              <a:xfrm>
                <a:off x="1357200" y="3499920"/>
                <a:ext cx="1812960" cy="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 rot="16200000">
                <a:off x="2258280" y="2743560"/>
                <a:ext cx="1368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2" name="Цилиндр 136"/>
            <p:cNvGrpSpPr/>
            <p:nvPr/>
          </p:nvGrpSpPr>
          <p:grpSpPr>
            <a:xfrm>
              <a:off x="1438200" y="3500280"/>
              <a:ext cx="1688760" cy="95400"/>
              <a:chOff x="1438200" y="3500280"/>
              <a:chExt cx="1688760" cy="95400"/>
            </a:xfrm>
          </p:grpSpPr>
          <p:pic>
            <p:nvPicPr>
              <p:cNvPr id="1253" name="Цилиндр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1438200" y="3500280"/>
                <a:ext cx="1688760" cy="9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4" name=""/>
              <p:cNvSpPr/>
              <p:nvPr/>
            </p:nvSpPr>
            <p:spPr>
              <a:xfrm rot="16200000">
                <a:off x="2275200" y="2820600"/>
                <a:ext cx="27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5" name="Скругленный прямоугольник 139"/>
          <p:cNvGrpSpPr/>
          <p:nvPr/>
        </p:nvGrpSpPr>
        <p:grpSpPr>
          <a:xfrm>
            <a:off x="1584360" y="3303720"/>
            <a:ext cx="2073240" cy="493560"/>
            <a:chOff x="1584360" y="3303720"/>
            <a:chExt cx="2073240" cy="493560"/>
          </a:xfrm>
        </p:grpSpPr>
        <p:pic>
          <p:nvPicPr>
            <p:cNvPr id="1256" name="Скругленный прямоугольник 139" descr=""/>
            <p:cNvPicPr/>
            <p:nvPr/>
          </p:nvPicPr>
          <p:blipFill>
            <a:blip r:embed="rId10"/>
            <a:stretch/>
          </p:blipFill>
          <p:spPr>
            <a:xfrm>
              <a:off x="1584360" y="3303720"/>
              <a:ext cx="20732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1717560" y="3432240"/>
              <a:ext cx="1806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8" name="Группа 145" descr=""/>
          <p:cNvPicPr/>
          <p:nvPr/>
        </p:nvPicPr>
        <p:blipFill>
          <a:blip r:embed="rId11"/>
          <a:stretch/>
        </p:blipFill>
        <p:spPr>
          <a:xfrm>
            <a:off x="1847880" y="3060720"/>
            <a:ext cx="13953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259" name="Группа 154"/>
          <p:cNvGrpSpPr/>
          <p:nvPr/>
        </p:nvGrpSpPr>
        <p:grpSpPr>
          <a:xfrm>
            <a:off x="1857240" y="3286080"/>
            <a:ext cx="1833840" cy="324000"/>
            <a:chOff x="1857240" y="3286080"/>
            <a:chExt cx="1833840" cy="324000"/>
          </a:xfrm>
        </p:grpSpPr>
        <p:sp>
          <p:nvSpPr>
            <p:cNvPr id="1260" name="Скругленный прямоугольник 146"/>
            <p:cNvSpPr/>
            <p:nvPr/>
          </p:nvSpPr>
          <p:spPr>
            <a:xfrm rot="5400000">
              <a:off x="2612160" y="2531160"/>
              <a:ext cx="324000" cy="1833840"/>
            </a:xfrm>
            <a:custGeom>
              <a:avLst/>
              <a:gdLst>
                <a:gd name="textAreaLeft" fmla="*/ 27000 w 324000"/>
                <a:gd name="textAreaRight" fmla="*/ 297000 w 324000"/>
                <a:gd name="textAreaTop" fmla="*/ 27000 h 1833840"/>
                <a:gd name="textAreaBottom" fmla="*/ 1806840 h 1833840"/>
              </a:gdLst>
              <a:ahLst/>
              <a:rect l="textAreaLeft" t="textAreaTop" r="textAreaRight" b="textAreaBottom"/>
              <a:pathLst>
                <a:path w="21600" h="122144">
                  <a:moveTo>
                    <a:pt x="6160" y="0"/>
                  </a:moveTo>
                  <a:arcTo wR="6160" hR="6160" stAng="16200000" swAng="-5400000"/>
                  <a:lnTo>
                    <a:pt x="0" y="115984"/>
                  </a:lnTo>
                  <a:arcTo wR="6160" hR="6160" stAng="10800000" swAng="-5400000"/>
                  <a:lnTo>
                    <a:pt x="15440" y="122144"/>
                  </a:lnTo>
                  <a:arcTo wR="6160" hR="6160" stAng="5400000" swAng="-5400000"/>
                  <a:lnTo>
                    <a:pt x="21600" y="6160"/>
                  </a:lnTo>
                  <a:arcTo wR="6160" hR="616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Овал 148"/>
            <p:cNvSpPr/>
            <p:nvPr/>
          </p:nvSpPr>
          <p:spPr>
            <a:xfrm rot="5400000">
              <a:off x="33861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Овал 149"/>
            <p:cNvSpPr/>
            <p:nvPr/>
          </p:nvSpPr>
          <p:spPr>
            <a:xfrm rot="5400000">
              <a:off x="306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Овал 150"/>
            <p:cNvSpPr/>
            <p:nvPr/>
          </p:nvSpPr>
          <p:spPr>
            <a:xfrm rot="5400000">
              <a:off x="279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Овал 151"/>
            <p:cNvSpPr/>
            <p:nvPr/>
          </p:nvSpPr>
          <p:spPr>
            <a:xfrm rot="5400000">
              <a:off x="252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Овал 152"/>
            <p:cNvSpPr/>
            <p:nvPr/>
          </p:nvSpPr>
          <p:spPr>
            <a:xfrm rot="5400000">
              <a:off x="225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Овал 153"/>
            <p:cNvSpPr/>
            <p:nvPr/>
          </p:nvSpPr>
          <p:spPr>
            <a:xfrm rot="5400000">
              <a:off x="198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7" name="Куб 156"/>
          <p:cNvSpPr/>
          <p:nvPr/>
        </p:nvSpPr>
        <p:spPr>
          <a:xfrm rot="16200000">
            <a:off x="2321640" y="2392560"/>
            <a:ext cx="214200" cy="2000160"/>
          </a:xfrm>
          <a:prstGeom prst="cube">
            <a:avLst>
              <a:gd name="adj" fmla="val 25000"/>
            </a:avLst>
          </a:prstGeom>
          <a:solidFill>
            <a:srgbClr val="7f7f7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Группа 36" descr=""/>
          <p:cNvPicPr/>
          <p:nvPr/>
        </p:nvPicPr>
        <p:blipFill>
          <a:blip r:embed="rId12"/>
          <a:stretch/>
        </p:blipFill>
        <p:spPr>
          <a:xfrm>
            <a:off x="1262160" y="3438360"/>
            <a:ext cx="2487600" cy="19548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" descr=""/>
          <p:cNvPicPr/>
          <p:nvPr/>
        </p:nvPicPr>
        <p:blipFill>
          <a:blip r:embed="rId13">
            <a:lum contrast="40000"/>
          </a:blip>
          <a:stretch/>
        </p:blipFill>
        <p:spPr>
          <a:xfrm rot="10611000">
            <a:off x="1652040" y="3273480"/>
            <a:ext cx="2143080" cy="42840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9" descr="j0233729"/>
          <p:cNvPicPr/>
          <p:nvPr/>
        </p:nvPicPr>
        <p:blipFill>
          <a:blip r:embed="rId14"/>
          <a:stretch/>
        </p:blipFill>
        <p:spPr>
          <a:xfrm rot="391200">
            <a:off x="1595520" y="3279600"/>
            <a:ext cx="2430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1271" name="Группа 9"/>
          <p:cNvGrpSpPr/>
          <p:nvPr/>
        </p:nvGrpSpPr>
        <p:grpSpPr>
          <a:xfrm>
            <a:off x="1857240" y="3429000"/>
            <a:ext cx="2063880" cy="163440"/>
            <a:chOff x="1857240" y="3429000"/>
            <a:chExt cx="2063880" cy="163440"/>
          </a:xfrm>
        </p:grpSpPr>
        <p:sp>
          <p:nvSpPr>
            <p:cNvPr id="1272" name="Полилиния 170"/>
            <p:cNvSpPr/>
            <p:nvPr/>
          </p:nvSpPr>
          <p:spPr>
            <a:xfrm rot="16200000">
              <a:off x="2490480" y="2795400"/>
              <a:ext cx="158760" cy="1425600"/>
            </a:xfrm>
            <a:custGeom>
              <a:avLst/>
              <a:gdLst/>
              <a:ahLst/>
              <a:rect l="l" t="t" r="r" b="b"/>
              <a:pathLst>
                <a:path w="544010" h="2870522">
                  <a:moveTo>
                    <a:pt x="0" y="2847372"/>
                  </a:moveTo>
                  <a:lnTo>
                    <a:pt x="196769" y="2604304"/>
                  </a:lnTo>
                  <a:lnTo>
                    <a:pt x="243068" y="2870522"/>
                  </a:lnTo>
                  <a:lnTo>
                    <a:pt x="416688" y="2615879"/>
                  </a:lnTo>
                  <a:lnTo>
                    <a:pt x="509286" y="2858947"/>
                  </a:lnTo>
                  <a:lnTo>
                    <a:pt x="544010" y="0"/>
                  </a:lnTo>
                  <a:lnTo>
                    <a:pt x="138896" y="0"/>
                  </a:lnTo>
                  <a:lnTo>
                    <a:pt x="0" y="284737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Полилиния 171"/>
            <p:cNvSpPr/>
            <p:nvPr/>
          </p:nvSpPr>
          <p:spPr>
            <a:xfrm rot="16200000">
              <a:off x="3455640" y="3149640"/>
              <a:ext cx="152640" cy="730080"/>
            </a:xfrm>
            <a:custGeom>
              <a:avLst/>
              <a:gdLst/>
              <a:ahLst/>
              <a:rect l="l" t="t" r="r" b="b"/>
              <a:pathLst>
                <a:path w="520861" h="1469985">
                  <a:moveTo>
                    <a:pt x="0" y="208344"/>
                  </a:moveTo>
                  <a:lnTo>
                    <a:pt x="92597" y="1469985"/>
                  </a:lnTo>
                  <a:lnTo>
                    <a:pt x="520861" y="185195"/>
                  </a:lnTo>
                  <a:lnTo>
                    <a:pt x="405114" y="0"/>
                  </a:lnTo>
                  <a:lnTo>
                    <a:pt x="254643" y="243068"/>
                  </a:lnTo>
                  <a:lnTo>
                    <a:pt x="185195" y="11575"/>
                  </a:lnTo>
                  <a:lnTo>
                    <a:pt x="0" y="208344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Полилиния 172"/>
            <p:cNvSpPr/>
            <p:nvPr/>
          </p:nvSpPr>
          <p:spPr>
            <a:xfrm rot="16200000">
              <a:off x="3736440" y="3407760"/>
              <a:ext cx="59760" cy="309600"/>
            </a:xfrm>
            <a:custGeom>
              <a:avLst/>
              <a:gdLst/>
              <a:ahLst/>
              <a:rect l="l" t="t" r="r" b="b"/>
              <a:pathLst>
                <a:path w="208345" h="625033">
                  <a:moveTo>
                    <a:pt x="0" y="57873"/>
                  </a:moveTo>
                  <a:lnTo>
                    <a:pt x="34724" y="625033"/>
                  </a:lnTo>
                  <a:lnTo>
                    <a:pt x="208345" y="46298"/>
                  </a:lnTo>
                  <a:lnTo>
                    <a:pt x="150471" y="34724"/>
                  </a:lnTo>
                  <a:lnTo>
                    <a:pt x="81023" y="0"/>
                  </a:lnTo>
                  <a:lnTo>
                    <a:pt x="0" y="5787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5" name="Прямая соединительная линия 101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6" name="Группа 178"/>
          <p:cNvGrpSpPr/>
          <p:nvPr/>
        </p:nvGrpSpPr>
        <p:grpSpPr>
          <a:xfrm>
            <a:off x="285840" y="2428920"/>
            <a:ext cx="4000320" cy="1495440"/>
            <a:chOff x="285840" y="2428920"/>
            <a:chExt cx="4000320" cy="1495440"/>
          </a:xfrm>
        </p:grpSpPr>
        <p:grpSp>
          <p:nvGrpSpPr>
            <p:cNvPr id="1277" name="Куб 91"/>
            <p:cNvGrpSpPr/>
            <p:nvPr/>
          </p:nvGrpSpPr>
          <p:grpSpPr>
            <a:xfrm>
              <a:off x="285840" y="2428920"/>
              <a:ext cx="4000320" cy="1112400"/>
              <a:chOff x="285840" y="2428920"/>
              <a:chExt cx="4000320" cy="1112400"/>
            </a:xfrm>
          </p:grpSpPr>
          <p:pic>
            <p:nvPicPr>
              <p:cNvPr id="1278" name="Куб 91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5840" y="2428920"/>
                <a:ext cx="40003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"/>
              <p:cNvSpPr/>
              <p:nvPr/>
            </p:nvSpPr>
            <p:spPr>
              <a:xfrm>
                <a:off x="308880" y="2935080"/>
                <a:ext cx="330696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80" name="Прямоугольник 177" descr=""/>
            <p:cNvPicPr/>
            <p:nvPr/>
          </p:nvPicPr>
          <p:blipFill>
            <a:blip r:embed="rId16"/>
            <a:stretch/>
          </p:blipFill>
          <p:spPr>
            <a:xfrm>
              <a:off x="1392480" y="2725200"/>
              <a:ext cx="1359360" cy="119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Прямая соединительная линия 180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Группа 105"/>
          <p:cNvGrpSpPr/>
          <p:nvPr/>
        </p:nvGrpSpPr>
        <p:grpSpPr>
          <a:xfrm>
            <a:off x="214200" y="2286000"/>
            <a:ext cx="4143600" cy="857160"/>
            <a:chOff x="214200" y="2286000"/>
            <a:chExt cx="4143600" cy="857160"/>
          </a:xfrm>
        </p:grpSpPr>
        <p:sp>
          <p:nvSpPr>
            <p:cNvPr id="1283" name="Куб 92"/>
            <p:cNvSpPr/>
            <p:nvPr/>
          </p:nvSpPr>
          <p:spPr>
            <a:xfrm>
              <a:off x="214200" y="2520720"/>
              <a:ext cx="4143600" cy="446400"/>
            </a:xfrm>
            <a:prstGeom prst="cube">
              <a:avLst>
                <a:gd name="adj" fmla="val 81805"/>
              </a:avLst>
            </a:prstGeom>
            <a:solidFill>
              <a:srgbClr val="9c9cdf"/>
            </a:solidFill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4" name="Прямоугольник 95" descr=""/>
            <p:cNvPicPr/>
            <p:nvPr/>
          </p:nvPicPr>
          <p:blipFill>
            <a:blip r:embed="rId17"/>
            <a:stretch/>
          </p:blipFill>
          <p:spPr>
            <a:xfrm>
              <a:off x="2163960" y="2286000"/>
              <a:ext cx="184716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5" name="Прямоугольник 183" descr=""/>
          <p:cNvPicPr/>
          <p:nvPr/>
        </p:nvPicPr>
        <p:blipFill>
          <a:blip r:embed="rId18"/>
          <a:stretch/>
        </p:blipFill>
        <p:spPr>
          <a:xfrm>
            <a:off x="-60480" y="-165240"/>
            <a:ext cx="4272120" cy="1920960"/>
          </a:xfrm>
          <a:prstGeom prst="rect">
            <a:avLst/>
          </a:prstGeom>
          <a:ln w="0">
            <a:noFill/>
          </a:ln>
        </p:spPr>
      </p:pic>
      <p:sp>
        <p:nvSpPr>
          <p:cNvPr id="1286" name="TextBox 184"/>
          <p:cNvSpPr/>
          <p:nvPr/>
        </p:nvSpPr>
        <p:spPr>
          <a:xfrm>
            <a:off x="0" y="428616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ь коробку и достать образцы для проверки электропров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C 0.03143 -0.03796 0.06302 -0.07593 0.05834 -0.10741 C 0.05365 -0.13889 0.01285 -0.16389 -0.02778 -0.18889 E">
                                      <p:cBhvr>
                                        <p:cTn id="92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7222 C -0.01181 -0.15254 -0.000350000000000003 -0.23148 0.04635 -0.28148 C 0.09306 -0.33101 0.16319 -0.33495 0.25747 -0.37013 C 0.35174 -0.40578 0.54219 -0.48148 0.61163 -0.49421 C 0.6809 -0.50694 0.67674 -0.47685 0.67274 -0.44606 E">
                                      <p:cBhvr>
                                        <p:cTn id="96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2.22222E-006 C 0.00434 -0.09908 0.00886 -0.19815 0.05834 -0.25556 C 0.10782 -0.31297 0.21875 -0.31134 0.29723 -0.34445 C 0.3757 -0.37755 0.48108 -0.44838 0.52917 -0.45371 C 0.57726 -0.45903 0.5816 -0.41759 0.58612 -0.37593 E">
                                      <p:cBhvr>
                                        <p:cTn id="99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34 -0.00324 C 0.04548 -0.08241 0.0368 -0.16158 0.08351 -0.2088 C 0.13021 -0.25602 0.27239 -0.28681 0.33489 -0.28658 C 0.39739 -0.28634 0.43785 -0.22014 0.45851 -0.20695 E">
                                      <p:cBhvr>
                                        <p:cTn id="102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C 0.10903 -0.15602 0.21823 -0.31158 0.29862 -0.33449 C 0.379 -0.35718 0.43039 -0.24699 0.48178 -0.13611 E">
                                      <p:cBhvr>
                                        <p:cTn id="105" dur="20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56 -0.0132 C -0.06493 -0.09561 -0.05312 -0.17778 -0.01267 -0.22431 C 0.02778 -0.27084 0.09896 -0.28912 0.16649 -0.29283 C 0.23403 -0.29653 0.34514 -0.27987 0.39288 -0.24653 C 0.44063 -0.2132 0.44653 -0.15301 0.45261 -0.09283 E">
                                      <p:cBhvr>
                                        <p:cTn id="108" dur="2000" fill="hold"/>
                                        <p:tgtEl>
                                          <p:spTgt spid="1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35 -0.00625 C -0.03906 -0.08796 -0.0316 -0.16944 0.00226 -0.21736 C 0.03611 -0.26528 0.09653 -0.28958 0.15642 -0.29329 C 0.21632 -0.29699 0.31146 -0.2794 0.36198 -0.23958 C 0.4125 -0.19977 0.44306 -0.08518 0.4592 -0.0544 E">
                                      <p:cBhvr>
                                        <p:cTn id="111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0023 C 0.02275 -0.06412 0.02205 -0.12824 0.04566 -0.17569 C 0.06927 -0.22315 0.1125 -0.29051 0.16511 -0.28495 C 0.21771 -0.2794 0.31302 -0.19051 0.36094 -0.14236 C 0.40886 -0.09421 0.43733 -0.02037 0.45261 0.00394 E">
                                      <p:cBhvr>
                                        <p:cTn id="114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4 -0.02709 C -0.03768 -0.10741 -0.03282 -0.1875 0.03941 -0.22523 C 0.11163 -0.26297 0.31145 -0.29746 0.39079 -0.25301 C 0.47013 -0.20857 0.49288 -0.08357 0.51579 0.04143 E">
                                      <p:cBhvr>
                                        <p:cTn id="11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2662 C 0.05017 -0.11042 0.0651 -0.19421 0.10885 -0.23032 C 0.1526 -0.26644 0.23507 -0.29514 0.29774 -0.24329 C 0.36041 -0.19144 0.42274 -0.05532 0.48524 0.08079 E">
                                      <p:cBhvr>
                                        <p:cTn id="120" dur="2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-0.00104 -0.07731 -0.00208 -0.1544 0.05001 -0.19259 C 0.10209 -0.23078 0.24566 -0.25347 0.31251 -0.22963 C 0.37935 -0.20578 0.42014 -0.11319 0.45139 -0.05 C 0.48264 0.0132 0.49185 0.11667 0.50001 0.15 E">
                                      <p:cBhvr>
                                        <p:cTn id="123" dur="20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C 0.01667 -0.09467 0.03351 -0.18912 0.08334 -0.22592 C 0.13316 -0.26273 0.23108 -0.29051 0.29861 -0.22037 C 0.36615 -0.15023 0.42743 0.02199 0.48889 0.19445 E">
                                      <p:cBhvr>
                                        <p:cTn id="126" dur="20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-0.00747 -0.0743 -0.01476 -0.14838 0.04097 -0.17824 C 0.09687 -0.20787 0.26146 -0.25648 0.33576 -0.17824 C 0.41007 -0.09954 0.46111 0.21389 0.48663 0.29282 E">
                                      <p:cBhvr>
                                        <p:cTn id="129" dur="2000" fill="hold"/>
                                        <p:tgtEl>
                                          <p:spTgt spid="1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1 0.01527 C 0.03316 -0.0676 0.05712 -0.15047 0.11754 -0.17917 C 0.17796 -0.20787 0.29532 -0.2257 0.37171 -0.15695 C 0.4481 -0.0882 0.54879 0.14236 0.57587 0.23379 C 0.60296 0.32523 0.56858 0.3581 0.53421 0.3912 E">
                                      <p:cBhvr>
                                        <p:cTn id="132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0.0257 C -0.01857 -0.09676 -0.03177 -0.16783 -0.0026 -0.19838 C 0.02656 -0.22871 0.13941 -0.26945 0.16997 -0.20834 C 0.20052 -0.14722 0.19045 0.01088 0.18056 0.16898 E">
                                      <p:cBhvr>
                                        <p:cTn id="135" dur="2000" fill="hold"/>
                                        <p:tgtEl>
                                          <p:spTgt spid="1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1111 C -0.08993 -0.09629 -0.10504 -0.18148 -0.05521 -0.21273 C -0.00539 -0.24375 0.17847 -0.28148 0.22396 -0.19745 C 0.26944 -0.11342 0.24375 0.08913 0.21823 0.29213 E">
                                      <p:cBhvr>
                                        <p:cTn id="138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73 -0.02825 C -0.11007 -0.12709 -0.08924 -0.2257 -0.04045 -0.26158 C 0.00833 -0.29746 0.12621 -0.34769 0.16233 -0.24306 C 0.19844 -0.13843 0.18733 0.11388 0.17621 0.3662 E">
                                      <p:cBhvr>
                                        <p:cTn id="141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7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9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294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6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297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298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301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304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6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07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308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311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316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317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9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2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3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5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326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8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329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332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335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338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341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3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344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45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346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347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9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350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51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2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353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0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361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62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3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364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372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375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8" name="Группа 89" descr=""/>
          <p:cNvPicPr/>
          <p:nvPr/>
        </p:nvPicPr>
        <p:blipFill>
          <a:blip r:embed="rId15"/>
          <a:stretch/>
        </p:blipFill>
        <p:spPr>
          <a:xfrm>
            <a:off x="3181320" y="4595760"/>
            <a:ext cx="3232080" cy="512640"/>
          </a:xfrm>
          <a:prstGeom prst="rect">
            <a:avLst/>
          </a:prstGeom>
          <a:ln w="0">
            <a:noFill/>
          </a:ln>
        </p:spPr>
      </p:pic>
      <p:pic>
        <p:nvPicPr>
          <p:cNvPr id="1379" name="Скругленный прямоугольник 95" descr=""/>
          <p:cNvPicPr/>
          <p:nvPr/>
        </p:nvPicPr>
        <p:blipFill>
          <a:blip r:embed="rId16"/>
          <a:stretch/>
        </p:blipFill>
        <p:spPr>
          <a:xfrm>
            <a:off x="3114720" y="5346720"/>
            <a:ext cx="2547720" cy="304920"/>
          </a:xfrm>
          <a:prstGeom prst="rect">
            <a:avLst/>
          </a:prstGeom>
          <a:ln w="0">
            <a:noFill/>
          </a:ln>
        </p:spPr>
      </p:pic>
      <p:sp>
        <p:nvSpPr>
          <p:cNvPr id="1380" name="Блок-схема: знак завершения 97"/>
          <p:cNvSpPr/>
          <p:nvPr/>
        </p:nvSpPr>
        <p:spPr>
          <a:xfrm>
            <a:off x="3071880" y="5715000"/>
            <a:ext cx="278604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Куб 98"/>
          <p:cNvSpPr/>
          <p:nvPr/>
        </p:nvSpPr>
        <p:spPr>
          <a:xfrm>
            <a:off x="3143160" y="5072040"/>
            <a:ext cx="2428920" cy="285840"/>
          </a:xfrm>
          <a:prstGeom prst="cube">
            <a:avLst>
              <a:gd name="adj" fmla="val 59666"/>
            </a:avLst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3" name="Picture 47" descr="j0251066"/>
          <p:cNvPicPr/>
          <p:nvPr/>
        </p:nvPicPr>
        <p:blipFill>
          <a:blip r:embed="rId18"/>
          <a:stretch/>
        </p:blipFill>
        <p:spPr>
          <a:xfrm flipH="1" rot="17500200">
            <a:off x="6669360" y="973800"/>
            <a:ext cx="15793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4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воз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е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стм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5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6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28:29Z</dcterms:created>
  <dc:creator>Asus</dc:creator>
  <dc:description/>
  <dc:language>en-US</dc:language>
  <cp:lastModifiedBy>pavel-57</cp:lastModifiedBy>
  <dcterms:modified xsi:type="dcterms:W3CDTF">2012-04-02T20:16:56Z</dcterms:modified>
  <cp:revision>19</cp:revision>
  <dc:subject/>
  <dc:title>Слайд 1</dc:title>
</cp:coreProperties>
</file>