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jpeg" ContentType="image/jpeg"/>
  <Override PartName="/ppt/media/image28.png" ContentType="image/png"/>
  <Override PartName="/ppt/media/image51.gif" ContentType="image/gif"/>
  <Override PartName="/ppt/media/image40.png" ContentType="image/png"/>
  <Override PartName="/ppt/media/image42.png" ContentType="image/png"/>
  <Override PartName="/ppt/media/image45.wmf" ContentType="image/x-wmf"/>
  <Override PartName="/ppt/media/image46.png" ContentType="image/png"/>
  <Override PartName="/ppt/media/image11.png" ContentType="image/png"/>
  <Override PartName="/ppt/media/image44.jpeg" ContentType="image/jpeg"/>
  <Override PartName="/ppt/media/image48.wmf" ContentType="image/x-wmf"/>
  <Override PartName="/ppt/media/image41.png" ContentType="image/png"/>
  <Override PartName="/ppt/media/image9.png" ContentType="image/png"/>
  <Override PartName="/ppt/media/image39.png" ContentType="image/png"/>
  <Override PartName="/ppt/media/image49.png" ContentType="image/png"/>
  <Override PartName="/ppt/media/image52.wmf" ContentType="image/x-wmf"/>
  <Override PartName="/ppt/media/image7.png" ContentType="image/png"/>
  <Override PartName="/ppt/media/image50.gif" ContentType="image/gif"/>
  <Override PartName="/ppt/media/image43.png" ContentType="image/png"/>
  <Override PartName="/ppt/media/image37.wmf" ContentType="image/x-wmf"/>
  <Override PartName="/ppt/media/image30.jpeg" ContentType="image/jpe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6B5-0890-4E32-A1FD-8D135A51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9F0-A10B-402D-A4EB-ACD4F8FB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0C2F1-B2AB-4D38-8FC2-226A61DA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01F86-C524-4111-8A26-2838445F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947A4-F837-4D20-AA13-D6F2CFD1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9C463-9B87-4C0E-8940-0185966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2E27E-DB4D-4EAF-B7E7-B23BBCFA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036B3-5BEC-49E8-86E0-40DDA44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E9113-960A-4F36-8F4D-737126EE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B0FD0-ED9F-429A-B2B6-90F05A53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5F4F1-733F-4971-B732-A017696E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7AD27-6805-4C5A-B244-32061C19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1CA-DF04-4053-B5E6-D90FC456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5D9E4-A630-43AC-97E0-D948D877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012DB-B9D5-41C4-BEF1-264B35D8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B5490-8BFA-4933-8111-8DF3A2CB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DA163-7EB1-45EC-830C-6A3B34A2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DE8B9-26CB-4680-AA82-1158EB6B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E3342-E656-497E-96F8-6A0EF3B9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BAAC3-98F5-4EBF-BACF-179032F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8891C-8FEA-4573-A1B8-191066C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69584-9DD0-4C48-A9A8-9667E11D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8D071-DABA-4F27-B3AB-41D587DB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E75-CD94-48FF-A0CA-2ACC60F0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3FC5D-BFEB-49DC-A299-A352143B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E4D1F-F369-4C01-BF83-3622F58B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7B9BB-07AC-4FA1-83B6-60C9926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D8CF0-BF07-4036-8D4E-9C72EE58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EFC5B-D93A-4535-A203-F1CD596F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F734D-FE1E-4603-9F9C-BE7ADE6B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26C17-3FBA-45FF-9C4D-C5305E3C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20350-0F11-42F1-B253-7FA39A3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A12BA-5FA2-4D46-8F23-86D74F5C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6CCBC-4D4F-480B-BCED-A872446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8AB0-B961-40F7-BD79-FCB0239F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AACBF-B4DA-4F44-8EC4-C3537724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8A422-9A24-430B-9154-205D4F0C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F6A24-A6F8-4B25-91E9-E23AAB8E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8B825-8289-461E-82A2-7361F747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47CB3-E1FE-49E5-A287-49038F48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44544-A97E-4EE4-BFF7-649E7387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6135E-B3ED-4E7F-B2A0-02974253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2F168-CF28-4E3D-814B-07DD6EF7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FC10F-109B-4649-8294-1CE4F0E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F6BC4-B009-417B-89BF-E99F9738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D074-03CB-4E9B-9E9B-DB05C927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63DD8-ECE5-4343-9929-281E8F8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855BA-881E-4303-BA4D-6E5CDFA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FBF8E-5767-4B90-AAEB-DCE5F12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95A08-DE36-428C-AB4C-8ABA1DE9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18E5A-C9DE-438B-9E18-507A7333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0B067-5813-45D1-BA8E-D8E27336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DB1FB-F265-453B-936F-F6122E78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7604D-F35F-4973-A3B9-A2FA22D8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5441D-0BD2-48C8-8CE1-46BB0C4E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86AAA-000B-44A3-A1D5-B49C5BE9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581D-6C9A-4F5D-8553-DED8982A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519E2-4D98-4322-BDD1-FA07EB3F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AADE1-29AA-4E8B-8D2B-A9413D17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5A27A-EFAE-4A29-8099-38E5B561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59EC5-0E96-4812-A2F1-368EA0B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C5B81-ED58-4128-A3AC-DD888C6A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17FE7-47E3-401B-87BF-8C9ACDC5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FB89A-BC0F-4298-AE17-18E22AAB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F3A08-A78E-4248-B7B4-583E0870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AD224-67DA-4336-92BC-CF959FE8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3E11F-D062-4BA2-A04F-2E439E37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C754-CC06-473D-8904-E17FA339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B2778-53A8-441A-B578-C4BB7773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0ADB4-F85B-458D-96F5-6FF1109C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5FEF0-85C5-47DC-8F76-6A360C0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C0B88-F9FD-4470-804A-7F8A11E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1F40B-19AE-4DA8-9536-841A5F71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23435-22BC-453A-BB69-2FE99A1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A5F9F-9B0E-482C-803E-262D674D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0D5B5-1B3D-461A-B483-61387E48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DD94A-E2CA-4DB2-8CA5-59B5EB5C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44753-01D1-4137-83EC-2E00193F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7357-9AB6-4C1D-9FBA-88BF073D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53CA7-6B9D-4564-98A1-28616927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184EA4-7F13-4B47-BE3B-55D078A0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7752F-BDBE-4AA9-8D46-34990A79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6B471-598E-4CCF-9C0E-F9AB9916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4E185-D72E-47BC-A052-6EA626E7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631CD-180A-454D-8426-FD6558B9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A6DEB-59A8-41FC-A5CE-75E52867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E8C9E-30B7-4EB7-ACC2-64304EFE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031D8-C94A-4066-80AD-5D8354A1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DB0B6-BBB3-45AC-BF4B-41472F33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3343-F877-40CC-9A0C-21521BD1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93B3D-99F1-4B81-8005-5042D73D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D8E95-F6CB-4BF5-931B-87EF4D50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CD2CE-A1CD-4342-BA83-9ED98AE7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135A4-BCE5-4596-B584-2E7C41E2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870D4-5106-4385-8367-05A40595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177FE-134E-4DB9-8067-10D6F91D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E08CB-18A8-4A4A-84EC-55F35254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B69DA-576A-41F2-93F5-2DFDE0B9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73C0C-6F4A-476A-8060-02D02251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208A3-714D-4DB1-BDBF-9423D3E7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5B39-D525-4474-B1B1-3F533990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F9C8D-67D2-4DF1-BF2F-A3065DA6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7DF23-5F3C-43EB-BBE8-9ABE8F96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088A9-518B-433B-AE99-3B18B01E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E1F6EF-4FC5-40FA-810D-6B48857F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1E19C-1302-4852-9AB5-037547D1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BD78B-0487-4234-A023-AB1DE155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B1C43-22D7-4F05-892D-5B827C0C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BDCE0-36FB-42EE-972B-A074BDD3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67BCD-6774-4412-B5C3-FBD5FA65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21339-F3DE-4451-86C4-93227BC3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3DE-3283-4F45-B5CE-A19B5822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5DD6-391D-4720-B52B-A5430B4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A1DE2-5CE1-4623-A409-1510B748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3EF42-65A4-4624-A3C2-2C87F43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39503-C0CE-4028-A734-461F5B04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438DE-92D6-460B-B750-4C822582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18D38-99FA-40A9-BC81-156BDDBD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0FC21E-2D7C-4E92-B870-0CA16D3C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DA7C4-EA53-4F67-A82A-6FF7BBE7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D7908E-54CD-4475-9384-C71816FB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EC3C92-572B-4F3E-A2B9-7DCD1A77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FEEAA-6D5B-45B1-A3E5-5F4C1D7A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463A-04C3-43DB-AD98-7982806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2ED54-4F59-438D-8C33-FEEA0509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E490C-3C96-4048-B1D1-A37C168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5954B-11AA-453D-813A-604D858B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7810E-ED21-47E3-BA8D-BA962246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17BE8-2E4A-4714-A386-5AF3D0E0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0CBC4-E41A-45D8-A8E9-AA2AED96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A04FB-86CB-404E-A943-27F0375E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D85BA-F40A-4980-A744-E2148C15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EFB85-E106-4F99-BA9B-0FD12304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B113D8-9071-4F74-B05E-2CC3032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BE8B-462F-4EB0-B340-B4526C80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E3446-FDCF-4576-906E-747093D5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FC57F-E350-4011-9C1F-7BECDE0C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85A44-9071-4CEA-A0B9-5B67CF84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F576E4-A550-4909-B1A4-159C2807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5A53AB-0367-47E0-B06B-599591CB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D75870-94F9-4053-A80B-808ED4E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03D75-3F2A-4F35-BE7B-1D7BCE88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CCC84B-3AF3-40EF-A521-BBD31361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842E0-6664-4846-9CD0-AF8532B6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6EA312-F47A-465B-9584-7E173268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6380-E9A9-473B-A71F-0108C0F3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CF9811-ED7A-4AF1-8CD6-2978869C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081A2F-CC6E-4FA6-9E56-EAB6735E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776D648-3A22-45A9-A9D7-4D09E1EF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1BFDCA-DDFE-41D2-93B4-4038256C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8E155C-4F42-49E8-9CF0-22D61513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8419DB-2F9E-424D-8EFD-C6970EB2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C731BBE-76C5-4358-B877-4BF66348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184838-FD68-4F1C-8F20-C89C6BCF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30DB24F-C35E-41FC-8B72-847A9CDB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7621D9-38F9-47E8-A59B-F0AD8ADF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AEF6-CA86-4A61-A2D4-FFAC0394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8F8530C-CB4E-43AA-B5A7-3C17A6F6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137DE-135B-44BB-B4E6-DDAD9CD7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DDA30-8CFD-4A2B-9082-F755AC93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3EB3D7-0E90-4346-A92C-70DAF84C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E77D1-8AC8-478D-9A09-004BDF11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6C360B-56DA-4BA7-BBDC-A8B11CE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4E4AC1-FD0F-4ADB-BD62-95EBBEE1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75A33-BC1F-4AAD-B7C4-3A76D02C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24D31C-AA32-4D78-B88C-0224C683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548FD-0071-417C-9953-7A4BB4E8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6F9E-45D8-405C-B19D-5AB64BB8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FE389-86F5-4451-8A16-70E7BE5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0EF31-E823-40EA-B5AA-88CEC297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AD48C-AB4D-406D-B81C-68422FF8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F0C53D-DDCC-429B-B8F8-1DA3760B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A3EAE-4132-47E3-95C0-F58A5992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690D31-191B-4443-8769-7AA70151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AD0D7C-19EC-4152-B91B-94E9CBB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C54A61-74E6-4E04-8CAC-6ECE97D1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30B372-C0FA-4ABD-8EBC-0B64F647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654A64-1679-4B79-8BDE-D42E71C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10C1A-7895-4047-8074-D8B0007C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3E519-48C7-43BF-BDEB-FB1BA8F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28B3E1-9E3E-42B1-B5B1-E0E3A645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79801-0E2A-4262-BA8F-9C74BB15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DDBE36-1DBD-402A-BA09-6F16AAC0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1327B4-77DB-46D8-8CC0-C02F351D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6C6373-133F-4A5F-8074-7AC40BD9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D8104A-0D42-4E76-B481-B14F0FF0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45341D-2785-4C06-9095-E8A1602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7A3A1C-1274-4BCF-9876-5C661AD3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FE58B3-3E81-4846-9D38-63FF7061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9CF6-549F-4688-84B8-99323931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E80E81-C752-4AB2-A872-7AE7F56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6A5358-7CC1-45C3-8316-FC959090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30EEEE-E9F6-4443-B4D8-27FFAACD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805F20-DDE7-40FB-A6FE-F01E95A6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F44BBC-F497-40A1-ADEC-E53D708A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D8C4EC-0AEA-407B-A955-9DA2CC75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93B6F2-11E2-4666-AD82-FA10BB9D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07683D-7395-40C1-9912-F1E3EE24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55B923-3831-4650-B195-71C74BFB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C5E559-31C2-4F61-B8FF-16636785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2442-D575-44BA-BA2B-39A709E6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00717B-BC1C-4FAD-9D89-D28DF2F1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66C67F-43B6-4C5A-8389-568339C8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82A90D-1849-436F-97D8-E4404720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9891CD-C791-42D9-AD06-61DF58F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E3F68F-927C-4874-BDF6-11D02A1D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E65218-FAAD-4EAC-8971-4D6AFA74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26FBCD-A5E5-4848-B164-8854ACDC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10ADB6-D38F-4E60-8C4E-C5FB1DA7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1450A8-6C12-4FB8-B643-0D4B058A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2D8703-9F27-4044-A00E-9B74F87C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9C63-34CB-4423-AF58-2AFE91FB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7CE869-A27B-4587-B0E6-44F07D7C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153CF5-7289-4424-AF9E-1AAB49DE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56DEE6-6CE8-4B60-987F-9830A48E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32F07C-6682-4B20-8D16-CD68B0A8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40287A-B3EB-4A55-B3F2-925B154A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73D2E1-06B6-437C-89CC-F6621EB7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3813B5-CF1F-4C13-8C5A-158449A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DEB848-CEBD-4ABF-98BC-BE58EFF4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539A65-F781-4468-880F-8C12973F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3F4271-3F2E-48CF-A883-1A247ED9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F75-5BC0-4DAC-9FCD-C9421361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FC2A-AC12-4A30-8CEB-912B8F3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4D9C0A-CC41-42BC-A7F0-D38CD6AE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8C84-822A-48B7-A8BA-CD34601A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1862-D6D6-498C-BF66-B90FD462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E09C-EEEA-4FC5-A536-F6BC88A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7C59-3C90-4736-B758-22EE8F9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DA3E-6B40-4810-B578-91032D16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82F5-8E56-4A2F-B3C3-4441B0B6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3845-38E5-432E-9849-53C7AF05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4B7AC-24F9-41E7-855B-42682600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62D28-4B3A-4FFE-809C-573CF967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083-CDD6-4D8A-99DF-2AA67298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36E5-30A5-46B0-94A8-D6BDB09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387F-23FA-49D3-B07A-4E443B20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23E1C-DCF2-466D-84B1-36971D97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022C-C425-4E2C-AE1C-B806709D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CE35-E901-4ACE-8075-2B28EA18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6294-E63D-4949-B2D4-DCEC50FE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0C18-C91B-4731-81A0-EE7A13D6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73A3-A734-4D20-BDFC-DC1DFA88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F15F1-4A6C-407D-B8A2-4B3ACF19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DBF7A-8845-4DB8-A045-E3596E39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CDB-CE12-4246-9524-40794EB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C42DA-02D5-4753-A1F0-4D4229CF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9D29-9DC3-482E-AE0F-7C8CCD8B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05AAD-3839-49AD-83B9-7F979EC6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C56F7-9D09-47B1-B42C-D9F2C001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575DB-D2BA-43CC-81E6-7CF23453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298D6-4EE6-4BE5-A4AA-CA45175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7F047-0AD8-415C-93D1-01EE4E16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7A943-58C7-4139-8C0F-C0BCB4CF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756A-F992-4B37-B9E2-060ED299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0AB4E-F742-4017-8F48-D7094C48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C72-3C9E-46BD-B473-A3474C3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FEA14-B57A-4600-9CAE-76ABF154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A7625-AB19-4833-95E3-12D19AEA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3D3EE-E734-4152-8719-D33061A0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1E012-5760-4F9F-B738-3E20B610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097E7-4C2A-4E76-A1DD-ED4FE089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98F9-BC4B-4C1B-9215-C1EEDBAC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EA5C9-1A92-4C05-B815-00218503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02E16-4B65-4542-981D-608B11CD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4E7A3-2709-4D84-BEA5-1245446E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6811-034D-4AAE-8616-CE1D0FA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13C-6FEC-40A8-85D1-DF43B4D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1545A-6743-422F-B920-727DF632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554F-B593-42F5-BFE0-9765AD97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70ED0-6C53-4973-BA52-860C3BF3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19645-F386-4174-968B-0E9A9E4C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3BE7-8D38-4B55-806D-2AD3CE95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B0F0-7AD0-4F7D-A18F-4E5D1359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F8DF-1A34-4E35-9290-A89ABFD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279B7-A939-45D8-BC84-0F4A6D8D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3589-401F-4270-AB55-4ACBA854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81E5A-DF86-4D48-9B7C-2A2C845D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878-ECEA-4E0A-B543-F50E0AB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8A2EA-24D0-4A59-B6F9-6A3B87F8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6086D-075E-4183-AEBC-3870ABCD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DD6AD-8712-42BA-BCEE-9D1BA356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5D1EA-804D-4A00-8814-88FE740A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DAB62-8F48-4053-BEDE-E5B3020E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7FB58-98B6-47F8-8DF1-93E8066A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94299-13F0-44B4-B007-A962A865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13A2B-6F27-4716-BAD5-ED6D8619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B22AC-1D12-441C-A20A-182BC5D6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DF567-2AE3-4FEB-91A2-09239F35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3FA-5949-43C7-BD93-D43D6BF2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08197-8608-415D-B367-3D05A47B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E9B7B-B8F6-40E4-9872-DCBB4350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91A16-A71C-4812-BE17-8D1C29CC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5F3F6-BF56-4771-8E0D-283A3136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6AE25-66F6-4984-AF42-1713DC52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0D3B5-4E48-4176-89C6-DBFF8AAA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23998-6803-4E3D-85FB-3BEE3922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86550-D28D-45D1-B5D2-8E9E2BCA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74BD7-C9E3-4B7E-A0D8-F9438550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0C537-60C9-4CF0-A40A-238079A1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9E48-FCB7-4596-8F5E-FEB729DFD8C7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28F8-D06B-4128-ADFB-60D3525BB6A3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3F27-79C6-4521-86DD-DEA80E5939A3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5FC-592A-4D84-A81E-5EA0AC7B8F0A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681A-5F32-4FB9-981A-81F23A190717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711-3DDA-4EC1-8293-DDF02F31C37F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147"/>
            </a:gs>
            <a:gs pos="100000">
              <a:srgbClr val="918f9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126B-DA1F-47E4-A034-346FA29741AF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9406-227E-413D-8967-4C751A9C3F7B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147"/>
            </a:gs>
            <a:gs pos="100000">
              <a:srgbClr val="918f9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E786-27D1-4F11-999D-253DB19D6B30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45F-A12C-4D2B-946B-4D63B1EBD63F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5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69C6-3F9E-498C-99A5-AA02CA9AFF96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C28E-38FD-4171-85F5-CCE3C74191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5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140A-3FB4-4835-BC95-42CAEE0C821E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ftr" idx="6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B62C-4B8B-4B52-89A2-1698B509403C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66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5917-B820-4FD8-8B46-C6BDB9D42B31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0C8A-392C-4EDC-926B-8352B083BC0B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AA2D-251F-463F-A131-591E17F9CA0C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5D5C-AAF3-4E92-8C3F-50E698093A97}" type="slidenum">
              <a:rPr b="0" lang="ru-RU" sz="1000" spc="-1" strike="noStrike">
                <a:solidFill>
                  <a:srgbClr val="938e99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22160" indent="-272880">
              <a:spcBef>
                <a:spcPts val="751"/>
              </a:spcBef>
              <a:buClr>
                <a:srgbClr val="ceb9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004760" indent="-255600">
              <a:spcBef>
                <a:spcPts val="751"/>
              </a:spcBef>
              <a:buClr>
                <a:srgbClr val="9cb084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79440" indent="-236520">
              <a:spcBef>
                <a:spcPts val="751"/>
              </a:spcBef>
              <a:buClr>
                <a:srgbClr val="6bb1c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8960" indent="-182520">
              <a:spcBef>
                <a:spcPts val="751"/>
              </a:spcBef>
              <a:buClr>
                <a:srgbClr val="6585c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8C28-1C0D-4135-83E0-E65D88E01541}" type="slidenum">
              <a:rPr b="0" lang="ru-RU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7687"/>
            </a:gs>
            <a:gs pos="100000">
              <a:srgbClr val="75c8e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5795-9877-4B10-AD2E-8664B5F58126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D531-7834-4B28-8049-450AA71419C4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7687"/>
            </a:gs>
            <a:gs pos="100000">
              <a:srgbClr val="75c8e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3958-E2BF-42A9-9E98-301FC1D374E8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9625-265E-41AC-A815-F9E892634232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B38A-C485-4E1A-BD95-2C08AA69BDD5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a7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5a5b6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30a7ce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cfe0c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cfe0c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9979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4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92AE-76B0-4FE2-A8FF-46F39FD4E326}" type="slidenum">
              <a:rPr b="0" lang="ru-RU" sz="1000" spc="-1" strike="noStrike">
                <a:solidFill>
                  <a:srgbClr val="bc4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gif"/><Relationship Id="rId11" Type="http://schemas.openxmlformats.org/officeDocument/2006/relationships/image" Target="../media/image21.png"/><Relationship Id="rId12" Type="http://schemas.openxmlformats.org/officeDocument/2006/relationships/image" Target="../media/image9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wmf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gif"/><Relationship Id="rId11" Type="http://schemas.openxmlformats.org/officeDocument/2006/relationships/image" Target="../media/image21.png"/><Relationship Id="rId12" Type="http://schemas.openxmlformats.org/officeDocument/2006/relationships/image" Target="../media/image9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jpeg"/><Relationship Id="rId18" Type="http://schemas.openxmlformats.org/officeDocument/2006/relationships/image" Target="../media/image45.wmf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Прямоугольник 1" descr=""/>
          <p:cNvPicPr/>
          <p:nvPr/>
        </p:nvPicPr>
        <p:blipFill>
          <a:blip r:embed="rId1"/>
          <a:stretch/>
        </p:blipFill>
        <p:spPr>
          <a:xfrm>
            <a:off x="66600" y="-79200"/>
            <a:ext cx="6315120" cy="4760640"/>
          </a:xfrm>
          <a:prstGeom prst="rect">
            <a:avLst/>
          </a:prstGeom>
          <a:ln w="0">
            <a:noFill/>
          </a:ln>
        </p:spPr>
      </p:pic>
      <p:pic>
        <p:nvPicPr>
          <p:cNvPr id="1066" name="Прямоугольник 3" descr=""/>
          <p:cNvPicPr/>
          <p:nvPr/>
        </p:nvPicPr>
        <p:blipFill>
          <a:blip r:embed="rId2"/>
          <a:stretch/>
        </p:blipFill>
        <p:spPr>
          <a:xfrm>
            <a:off x="3938760" y="2494080"/>
            <a:ext cx="3700440" cy="4400280"/>
          </a:xfrm>
          <a:prstGeom prst="rect">
            <a:avLst/>
          </a:prstGeom>
          <a:ln w="0">
            <a:noFill/>
          </a:ln>
        </p:spPr>
      </p:pic>
      <p:pic>
        <p:nvPicPr>
          <p:cNvPr id="1067" name="Прямоугольник 4" descr=""/>
          <p:cNvPicPr/>
          <p:nvPr/>
        </p:nvPicPr>
        <p:blipFill>
          <a:blip r:embed="rId3"/>
          <a:stretch/>
        </p:blipFill>
        <p:spPr>
          <a:xfrm>
            <a:off x="5986440" y="4121280"/>
            <a:ext cx="2840040" cy="1517400"/>
          </a:xfrm>
          <a:prstGeom prst="rect">
            <a:avLst/>
          </a:prstGeom>
          <a:ln w="0">
            <a:noFill/>
          </a:ln>
        </p:spPr>
      </p:pic>
      <p:sp>
        <p:nvSpPr>
          <p:cNvPr id="1068" name="Прямоугольник 5"/>
          <p:cNvSpPr/>
          <p:nvPr/>
        </p:nvSpPr>
        <p:spPr>
          <a:xfrm>
            <a:off x="2214720" y="60008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Жарчинский Павел Степ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БОУ СОШ № 873 ЮАО г. 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Прямоугольник 5" descr=""/>
          <p:cNvPicPr/>
          <p:nvPr/>
        </p:nvPicPr>
        <p:blipFill>
          <a:blip r:embed="rId4"/>
          <a:stretch/>
        </p:blipFill>
        <p:spPr>
          <a:xfrm>
            <a:off x="268200" y="4565520"/>
            <a:ext cx="415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Box 3"/>
          <p:cNvSpPr/>
          <p:nvPr/>
        </p:nvSpPr>
        <p:spPr>
          <a:xfrm>
            <a:off x="468360" y="321300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чень опасно одновременное прикосновение двумя руками к двум оголенным провод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чень опасно прикосновение к оголенному проводу, стоя на земле, на сыром или цементном по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асно пользоваться неисправными электрическими приборами. Электрические приборы должны периодически осматривать квалифицированные специалис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льзя собирать, разбирать и исправлять что-либо в электрическом приборе, не отключив его от источ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льзя производить какие-либо операции с электрической аппаратурой, не выключив ее из се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Box 2"/>
          <p:cNvSpPr/>
          <p:nvPr/>
        </p:nvSpPr>
        <p:spPr>
          <a:xfrm>
            <a:off x="539640" y="189000"/>
            <a:ext cx="51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боте с электрическими приборами необходимо строго и неуклонно соблюдать меры предосторожности. Если этого не делать, то ваша жизнь будет подвергаться смертельной опас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ческое тело — проводни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лучайно человек окажется под напряжением, то в большинстве случаев он не избежит травмы и даже смер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 любому человеку, имеющему дело с электричеством, надо помнить следующие поло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9" name="Picture 2" descr=""/>
          <p:cNvPicPr/>
          <p:nvPr/>
        </p:nvPicPr>
        <p:blipFill>
          <a:blip r:embed="rId1"/>
          <a:srcRect l="10522" t="10688" r="4684" b="8157"/>
          <a:stretch/>
        </p:blipFill>
        <p:spPr>
          <a:xfrm>
            <a:off x="5364000" y="260280"/>
            <a:ext cx="3780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Прямоугольник 1"/>
          <p:cNvSpPr/>
          <p:nvPr/>
        </p:nvSpPr>
        <p:spPr>
          <a:xfrm>
            <a:off x="1714680" y="214200"/>
            <a:ext cx="1839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Прямоугольник 2"/>
          <p:cNvSpPr/>
          <p:nvPr/>
        </p:nvSpPr>
        <p:spPr>
          <a:xfrm>
            <a:off x="3143160" y="630396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чинский Павел Степа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У СОШ № 873 ЮАО г. Моск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Прямоугольник 4"/>
          <p:cNvSpPr/>
          <p:nvPr/>
        </p:nvSpPr>
        <p:spPr>
          <a:xfrm>
            <a:off x="642960" y="2858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езентации использованы материал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Прямоугольник 5"/>
          <p:cNvSpPr/>
          <p:nvPr/>
        </p:nvSpPr>
        <p:spPr>
          <a:xfrm>
            <a:off x="142920" y="1500120"/>
            <a:ext cx="8286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И. А. Сасов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 «Технология»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ентана-Граф» ОАО «Московские учебники» 20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Прямоугольник 6"/>
          <p:cNvSpPr/>
          <p:nvPr/>
        </p:nvSpPr>
        <p:spPr>
          <a:xfrm>
            <a:off x="214200" y="2500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Идея, дизайн, комплектов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ормление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ская работа 2010г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Прямоугольник 7"/>
          <p:cNvSpPr/>
          <p:nvPr/>
        </p:nvSpPr>
        <p:spPr>
          <a:xfrm>
            <a:off x="214200" y="364320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Картинки, фотографии и мультимеди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имация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Управляющая кнопка: домой 10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Прямоугольник 11"/>
          <p:cNvSpPr/>
          <p:nvPr/>
        </p:nvSpPr>
        <p:spPr>
          <a:xfrm>
            <a:off x="3276720" y="4292640"/>
            <a:ext cx="539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pts-russia.com/img_ProD/Vilka_220V_small.jp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365040"/>
            <a:ext cx="6242040" cy="4005360"/>
          </a:xfrm>
          <a:prstGeom prst="rect">
            <a:avLst/>
          </a:prstGeom>
          <a:ln w="0">
            <a:noFill/>
          </a:ln>
        </p:spPr>
      </p:pic>
      <p:sp>
        <p:nvSpPr>
          <p:cNvPr id="1399" name="TextBox 2"/>
          <p:cNvSpPr/>
          <p:nvPr/>
        </p:nvSpPr>
        <p:spPr>
          <a:xfrm>
            <a:off x="1143000" y="54291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ские права защищены законом РФ "Об авторских правах и о смежных правах"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Перепечатка и переиздание в любом виде разрешены только с согласия авт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0" name="Picture 3" descr="pe01916_"/>
          <p:cNvPicPr/>
          <p:nvPr/>
        </p:nvPicPr>
        <p:blipFill>
          <a:blip r:embed="rId2"/>
          <a:stretch/>
        </p:blipFill>
        <p:spPr>
          <a:xfrm>
            <a:off x="0" y="4714920"/>
            <a:ext cx="1714680" cy="156348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4" descr="j0432598"/>
          <p:cNvPicPr/>
          <p:nvPr/>
        </p:nvPicPr>
        <p:blipFill>
          <a:blip r:embed="rId3"/>
          <a:stretch/>
        </p:blipFill>
        <p:spPr>
          <a:xfrm>
            <a:off x="750096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5" descr="j0315756"/>
          <p:cNvPicPr/>
          <p:nvPr/>
        </p:nvPicPr>
        <p:blipFill>
          <a:blip r:embed="rId4"/>
          <a:stretch/>
        </p:blipFill>
        <p:spPr>
          <a:xfrm>
            <a:off x="3071880" y="2786040"/>
            <a:ext cx="4429080" cy="2577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j0236288"/>
          <p:cNvPicPr/>
          <p:nvPr/>
        </p:nvPicPr>
        <p:blipFill>
          <a:blip r:embed="rId5"/>
          <a:stretch/>
        </p:blipFill>
        <p:spPr>
          <a:xfrm rot="435600">
            <a:off x="72720" y="195120"/>
            <a:ext cx="911160" cy="122076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8" descr="j0345783"/>
          <p:cNvPicPr/>
          <p:nvPr/>
        </p:nvPicPr>
        <p:blipFill>
          <a:blip r:embed="rId6"/>
          <a:stretch/>
        </p:blipFill>
        <p:spPr>
          <a:xfrm>
            <a:off x="6259680" y="500040"/>
            <a:ext cx="288432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Прямоугольник 1" descr=""/>
          <p:cNvPicPr/>
          <p:nvPr/>
        </p:nvPicPr>
        <p:blipFill>
          <a:blip r:embed="rId1"/>
          <a:stretch/>
        </p:blipFill>
        <p:spPr>
          <a:xfrm>
            <a:off x="1719360" y="-66600"/>
            <a:ext cx="5029200" cy="1535040"/>
          </a:xfrm>
          <a:prstGeom prst="rect">
            <a:avLst/>
          </a:prstGeom>
          <a:ln w="0">
            <a:noFill/>
          </a:ln>
        </p:spPr>
      </p:pic>
      <p:sp>
        <p:nvSpPr>
          <p:cNvPr id="1071" name="TextBox 4"/>
          <p:cNvSpPr/>
          <p:nvPr/>
        </p:nvSpPr>
        <p:spPr>
          <a:xfrm>
            <a:off x="1489320" y="11970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Определения проводника и изоля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Box 11"/>
          <p:cNvSpPr/>
          <p:nvPr/>
        </p:nvSpPr>
        <p:spPr>
          <a:xfrm>
            <a:off x="1490760" y="494172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Литерат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14"/>
          <p:cNvSpPr/>
          <p:nvPr/>
        </p:nvSpPr>
        <p:spPr>
          <a:xfrm>
            <a:off x="1483560" y="1989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хема про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14"/>
          <p:cNvSpPr/>
          <p:nvPr/>
        </p:nvSpPr>
        <p:spPr>
          <a:xfrm>
            <a:off x="1501920" y="263700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абор образцов для про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14"/>
          <p:cNvSpPr/>
          <p:nvPr/>
        </p:nvSpPr>
        <p:spPr>
          <a:xfrm>
            <a:off x="1485000" y="3357720"/>
            <a:ext cx="43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Таблица для за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Box 15"/>
          <p:cNvSpPr/>
          <p:nvPr/>
        </p:nvSpPr>
        <p:spPr>
          <a:xfrm>
            <a:off x="1490040" y="414972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Вопросы для повто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-96840"/>
            <a:ext cx="6742080" cy="402912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2"/>
          <p:cNvSpPr/>
          <p:nvPr/>
        </p:nvSpPr>
        <p:spPr>
          <a:xfrm>
            <a:off x="245880" y="4429080"/>
            <a:ext cx="852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 материалы либо проводят электрический т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называются </a:t>
            </a:r>
            <a:r>
              <a:rPr b="1" lang="ru-RU" sz="2800" spc="-1" strike="noStrike">
                <a:solidFill>
                  <a:srgbClr val="1e3a42"/>
                </a:solidFill>
                <a:latin typeface="Arial"/>
              </a:rPr>
              <a:t>проводниками</a:t>
            </a:r>
            <a:r>
              <a:rPr b="0" lang="ru-RU" sz="2800" spc="-1" strike="noStrike">
                <a:solidFill>
                  <a:srgbClr val="1e3a42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ибо не проводят электрический т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называю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золятора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9" name="Picture 4" descr=""/>
          <p:cNvPicPr/>
          <p:nvPr/>
        </p:nvPicPr>
        <p:blipFill>
          <a:blip r:embed="rId2"/>
          <a:stretch/>
        </p:blipFill>
        <p:spPr>
          <a:xfrm>
            <a:off x="6521400" y="189000"/>
            <a:ext cx="26226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Группа 17"/>
          <p:cNvGrpSpPr/>
          <p:nvPr/>
        </p:nvGrpSpPr>
        <p:grpSpPr>
          <a:xfrm>
            <a:off x="3714840" y="1214280"/>
            <a:ext cx="1714320" cy="1571760"/>
            <a:chOff x="3714840" y="1214280"/>
            <a:chExt cx="1714320" cy="1571760"/>
          </a:xfrm>
        </p:grpSpPr>
        <p:sp>
          <p:nvSpPr>
            <p:cNvPr id="1081" name="Прямая соединительная линия 2"/>
            <p:cNvSpPr/>
            <p:nvPr/>
          </p:nvSpPr>
          <p:spPr>
            <a:xfrm flipH="1">
              <a:off x="4429080" y="1643040"/>
              <a:ext cx="1440" cy="71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Прямая соединительная линия 4"/>
            <p:cNvSpPr/>
            <p:nvPr/>
          </p:nvSpPr>
          <p:spPr>
            <a:xfrm flipH="1">
              <a:off x="4714920" y="1214280"/>
              <a:ext cx="1440" cy="157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Прямая соединительная линия 6"/>
            <p:cNvSpPr/>
            <p:nvPr/>
          </p:nvSpPr>
          <p:spPr>
            <a:xfrm flipH="1" flipV="1">
              <a:off x="3714840" y="2000160"/>
              <a:ext cx="714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Прямая соединительная линия 7"/>
            <p:cNvSpPr/>
            <p:nvPr/>
          </p:nvSpPr>
          <p:spPr>
            <a:xfrm flipH="1" flipV="1">
              <a:off x="4714920" y="2000160"/>
              <a:ext cx="7142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Плюс 8"/>
            <p:cNvSpPr/>
            <p:nvPr/>
          </p:nvSpPr>
          <p:spPr>
            <a:xfrm>
              <a:off x="3714840" y="1428480"/>
              <a:ext cx="500040" cy="428760"/>
            </a:xfrm>
            <a:custGeom>
              <a:avLst/>
              <a:gdLst/>
              <a:ahLst/>
              <a:rect l="l" t="t" r="r" b="b"/>
              <a:pathLst>
                <a:path w="500067" h="428628">
                  <a:moveTo>
                    <a:pt x="66284" y="163907"/>
                  </a:moveTo>
                  <a:lnTo>
                    <a:pt x="199627" y="163907"/>
                  </a:lnTo>
                  <a:lnTo>
                    <a:pt x="199627" y="56815"/>
                  </a:lnTo>
                  <a:lnTo>
                    <a:pt x="300440" y="56815"/>
                  </a:lnTo>
                  <a:lnTo>
                    <a:pt x="300440" y="163907"/>
                  </a:lnTo>
                  <a:lnTo>
                    <a:pt x="433783" y="163907"/>
                  </a:lnTo>
                  <a:lnTo>
                    <a:pt x="433783" y="264721"/>
                  </a:lnTo>
                  <a:lnTo>
                    <a:pt x="300440" y="264721"/>
                  </a:lnTo>
                  <a:lnTo>
                    <a:pt x="300440" y="371813"/>
                  </a:lnTo>
                  <a:lnTo>
                    <a:pt x="199627" y="371813"/>
                  </a:lnTo>
                  <a:lnTo>
                    <a:pt x="199627" y="264721"/>
                  </a:lnTo>
                  <a:lnTo>
                    <a:pt x="66284" y="264721"/>
                  </a:lnTo>
                  <a:lnTo>
                    <a:pt x="66284" y="16390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Минус 9"/>
            <p:cNvSpPr/>
            <p:nvPr/>
          </p:nvSpPr>
          <p:spPr>
            <a:xfrm>
              <a:off x="4929120" y="1499760"/>
              <a:ext cx="500040" cy="357120"/>
            </a:xfrm>
            <a:custGeom>
              <a:avLst/>
              <a:gdLst/>
              <a:ahLst/>
              <a:rect l="l" t="t" r="r" b="b"/>
              <a:pathLst>
                <a:path w="500065" h="357189">
                  <a:moveTo>
                    <a:pt x="66284" y="136589"/>
                  </a:moveTo>
                  <a:lnTo>
                    <a:pt x="433781" y="136589"/>
                  </a:lnTo>
                  <a:lnTo>
                    <a:pt x="433781" y="220600"/>
                  </a:lnTo>
                  <a:lnTo>
                    <a:pt x="66284" y="220600"/>
                  </a:lnTo>
                  <a:lnTo>
                    <a:pt x="66284" y="13658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Группа 18"/>
          <p:cNvGrpSpPr/>
          <p:nvPr/>
        </p:nvGrpSpPr>
        <p:grpSpPr>
          <a:xfrm>
            <a:off x="8143920" y="1857240"/>
            <a:ext cx="693720" cy="2260800"/>
            <a:chOff x="8143920" y="1857240"/>
            <a:chExt cx="693720" cy="2260800"/>
          </a:xfrm>
        </p:grpSpPr>
        <p:sp>
          <p:nvSpPr>
            <p:cNvPr id="1088" name="Полилиния 11"/>
            <p:cNvSpPr/>
            <p:nvPr/>
          </p:nvSpPr>
          <p:spPr>
            <a:xfrm>
              <a:off x="8143920" y="2670120"/>
              <a:ext cx="382680" cy="1447920"/>
            </a:xfrm>
            <a:custGeom>
              <a:avLst/>
              <a:gdLst/>
              <a:ahLst/>
              <a:rect l="l" t="t" r="r" b="b"/>
              <a:pathLst>
                <a:path w="381964" h="1446835">
                  <a:moveTo>
                    <a:pt x="0" y="1446835"/>
                  </a:moveTo>
                  <a:lnTo>
                    <a:pt x="0" y="740779"/>
                  </a:lnTo>
                  <a:lnTo>
                    <a:pt x="381964" y="0"/>
                  </a:lnTo>
                  <a:lnTo>
                    <a:pt x="3819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Полилиния 12"/>
            <p:cNvSpPr/>
            <p:nvPr/>
          </p:nvSpPr>
          <p:spPr>
            <a:xfrm>
              <a:off x="8143920" y="1963440"/>
              <a:ext cx="10800" cy="719280"/>
            </a:xfrm>
            <a:custGeom>
              <a:avLst/>
              <a:gdLst/>
              <a:ahLst/>
              <a:rect l="l" t="t" r="r" b="b"/>
              <a:pathLst>
                <a:path w="11575" h="717630">
                  <a:moveTo>
                    <a:pt x="0" y="717630"/>
                  </a:moveTo>
                  <a:lnTo>
                    <a:pt x="1157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Плюс 13"/>
            <p:cNvSpPr/>
            <p:nvPr/>
          </p:nvSpPr>
          <p:spPr>
            <a:xfrm>
              <a:off x="8337600" y="1857240"/>
              <a:ext cx="500040" cy="428400"/>
            </a:xfrm>
            <a:custGeom>
              <a:avLst/>
              <a:gdLst/>
              <a:ahLst/>
              <a:rect l="l" t="t" r="r" b="b"/>
              <a:pathLst>
                <a:path w="499570" h="428506">
                  <a:moveTo>
                    <a:pt x="66218" y="163861"/>
                  </a:moveTo>
                  <a:lnTo>
                    <a:pt x="199393" y="163861"/>
                  </a:lnTo>
                  <a:lnTo>
                    <a:pt x="199393" y="56798"/>
                  </a:lnTo>
                  <a:lnTo>
                    <a:pt x="300177" y="56798"/>
                  </a:lnTo>
                  <a:lnTo>
                    <a:pt x="300177" y="163861"/>
                  </a:lnTo>
                  <a:lnTo>
                    <a:pt x="433352" y="163861"/>
                  </a:lnTo>
                  <a:lnTo>
                    <a:pt x="433352" y="264645"/>
                  </a:lnTo>
                  <a:lnTo>
                    <a:pt x="300177" y="264645"/>
                  </a:lnTo>
                  <a:lnTo>
                    <a:pt x="300177" y="371708"/>
                  </a:lnTo>
                  <a:lnTo>
                    <a:pt x="199393" y="371708"/>
                  </a:lnTo>
                  <a:lnTo>
                    <a:pt x="199393" y="264645"/>
                  </a:lnTo>
                  <a:lnTo>
                    <a:pt x="66218" y="264645"/>
                  </a:lnTo>
                  <a:lnTo>
                    <a:pt x="66218" y="16386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Минус 15"/>
            <p:cNvSpPr/>
            <p:nvPr/>
          </p:nvSpPr>
          <p:spPr>
            <a:xfrm>
              <a:off x="8337600" y="3500640"/>
              <a:ext cx="500040" cy="357120"/>
            </a:xfrm>
            <a:custGeom>
              <a:avLst/>
              <a:gdLst/>
              <a:ahLst/>
              <a:rect l="l" t="t" r="r" b="b"/>
              <a:pathLst>
                <a:path w="499570" h="357088">
                  <a:moveTo>
                    <a:pt x="66218" y="136550"/>
                  </a:moveTo>
                  <a:lnTo>
                    <a:pt x="433352" y="136550"/>
                  </a:lnTo>
                  <a:lnTo>
                    <a:pt x="433352" y="220538"/>
                  </a:lnTo>
                  <a:lnTo>
                    <a:pt x="66218" y="220538"/>
                  </a:lnTo>
                  <a:lnTo>
                    <a:pt x="66218" y="13655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2" name="Группа 22"/>
          <p:cNvGrpSpPr/>
          <p:nvPr/>
        </p:nvGrpSpPr>
        <p:grpSpPr>
          <a:xfrm>
            <a:off x="285840" y="1998360"/>
            <a:ext cx="1142640" cy="1857600"/>
            <a:chOff x="285840" y="1998360"/>
            <a:chExt cx="1142640" cy="1857600"/>
          </a:xfrm>
        </p:grpSpPr>
        <p:sp>
          <p:nvSpPr>
            <p:cNvPr id="1093" name="Блок-схема: узел суммирования 10"/>
            <p:cNvSpPr/>
            <p:nvPr/>
          </p:nvSpPr>
          <p:spPr>
            <a:xfrm rot="16200000">
              <a:off x="571320" y="2536560"/>
              <a:ext cx="857160" cy="85716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Плюс 14"/>
            <p:cNvSpPr/>
            <p:nvPr/>
          </p:nvSpPr>
          <p:spPr>
            <a:xfrm rot="16200000">
              <a:off x="249840" y="3319920"/>
              <a:ext cx="500040" cy="428400"/>
            </a:xfrm>
            <a:custGeom>
              <a:avLst/>
              <a:gdLst/>
              <a:ahLst/>
              <a:rect l="l" t="t" r="r" b="b"/>
              <a:pathLst>
                <a:path w="500067" h="428625">
                  <a:moveTo>
                    <a:pt x="66284" y="163906"/>
                  </a:moveTo>
                  <a:lnTo>
                    <a:pt x="199627" y="163906"/>
                  </a:lnTo>
                  <a:lnTo>
                    <a:pt x="199627" y="56814"/>
                  </a:lnTo>
                  <a:lnTo>
                    <a:pt x="300440" y="56814"/>
                  </a:lnTo>
                  <a:lnTo>
                    <a:pt x="300440" y="163906"/>
                  </a:lnTo>
                  <a:lnTo>
                    <a:pt x="433783" y="163906"/>
                  </a:lnTo>
                  <a:lnTo>
                    <a:pt x="433783" y="264719"/>
                  </a:lnTo>
                  <a:lnTo>
                    <a:pt x="300440" y="264719"/>
                  </a:lnTo>
                  <a:lnTo>
                    <a:pt x="300440" y="371811"/>
                  </a:lnTo>
                  <a:lnTo>
                    <a:pt x="199627" y="371811"/>
                  </a:lnTo>
                  <a:lnTo>
                    <a:pt x="199627" y="264719"/>
                  </a:lnTo>
                  <a:lnTo>
                    <a:pt x="66284" y="264719"/>
                  </a:lnTo>
                  <a:lnTo>
                    <a:pt x="66284" y="1639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Минус 16"/>
            <p:cNvSpPr/>
            <p:nvPr/>
          </p:nvSpPr>
          <p:spPr>
            <a:xfrm rot="16200000">
              <a:off x="285480" y="2069640"/>
              <a:ext cx="500040" cy="357120"/>
            </a:xfrm>
            <a:custGeom>
              <a:avLst/>
              <a:gdLst/>
              <a:ahLst/>
              <a:rect l="l" t="t" r="r" b="b"/>
              <a:pathLst>
                <a:path w="500067" h="357187">
                  <a:moveTo>
                    <a:pt x="66284" y="136588"/>
                  </a:moveTo>
                  <a:lnTo>
                    <a:pt x="433783" y="136588"/>
                  </a:lnTo>
                  <a:lnTo>
                    <a:pt x="433783" y="220599"/>
                  </a:lnTo>
                  <a:lnTo>
                    <a:pt x="66284" y="220599"/>
                  </a:lnTo>
                  <a:lnTo>
                    <a:pt x="66284" y="13658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Прямая соединительная линия 20"/>
            <p:cNvSpPr/>
            <p:nvPr/>
          </p:nvSpPr>
          <p:spPr>
            <a:xfrm flipH="1">
              <a:off x="1000080" y="3355920"/>
              <a:ext cx="144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Прямая соединительная линия 21"/>
            <p:cNvSpPr/>
            <p:nvPr/>
          </p:nvSpPr>
          <p:spPr>
            <a:xfrm flipH="1">
              <a:off x="1000080" y="1998720"/>
              <a:ext cx="144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98" name="Прямоугольник 33" descr=""/>
          <p:cNvPicPr/>
          <p:nvPr/>
        </p:nvPicPr>
        <p:blipFill>
          <a:blip r:embed="rId1"/>
          <a:stretch/>
        </p:blipFill>
        <p:spPr>
          <a:xfrm>
            <a:off x="1195560" y="2371680"/>
            <a:ext cx="957240" cy="1127160"/>
          </a:xfrm>
          <a:prstGeom prst="rect">
            <a:avLst/>
          </a:prstGeom>
          <a:ln w="0">
            <a:noFill/>
          </a:ln>
        </p:spPr>
      </p:pic>
      <p:grpSp>
        <p:nvGrpSpPr>
          <p:cNvPr id="1099" name="Группа 27"/>
          <p:cNvGrpSpPr/>
          <p:nvPr/>
        </p:nvGrpSpPr>
        <p:grpSpPr>
          <a:xfrm>
            <a:off x="3857760" y="4000680"/>
            <a:ext cx="214200" cy="1571400"/>
            <a:chOff x="3857760" y="4000680"/>
            <a:chExt cx="214200" cy="1571400"/>
          </a:xfrm>
        </p:grpSpPr>
        <p:sp>
          <p:nvSpPr>
            <p:cNvPr id="1100" name="Овал 23"/>
            <p:cNvSpPr/>
            <p:nvPr/>
          </p:nvSpPr>
          <p:spPr>
            <a:xfrm>
              <a:off x="3857760" y="4000680"/>
              <a:ext cx="214200" cy="214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Скругленный прямоугольник 26"/>
            <p:cNvSpPr/>
            <p:nvPr/>
          </p:nvSpPr>
          <p:spPr>
            <a:xfrm>
              <a:off x="3929040" y="4214880"/>
              <a:ext cx="71280" cy="135720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1357200"/>
                <a:gd name="textAreaBottom" fmla="*/ 1353960 h 1357200"/>
              </a:gdLst>
              <a:ahLst/>
              <a:rect l="textAreaLeft" t="textAreaTop" r="textAreaRight" b="textAreaBottom"/>
              <a:pathLst>
                <a:path w="21600" h="409315">
                  <a:moveTo>
                    <a:pt x="3600" y="0"/>
                  </a:moveTo>
                  <a:arcTo wR="3600" hR="3600" stAng="16200000" swAng="-5400000"/>
                  <a:lnTo>
                    <a:pt x="0" y="405715"/>
                  </a:lnTo>
                  <a:arcTo wR="3600" hR="3600" stAng="10800000" swAng="-5400000"/>
                  <a:lnTo>
                    <a:pt x="18000" y="409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2" name="Группа 28"/>
          <p:cNvGrpSpPr/>
          <p:nvPr/>
        </p:nvGrpSpPr>
        <p:grpSpPr>
          <a:xfrm>
            <a:off x="4714920" y="4000680"/>
            <a:ext cx="214200" cy="1571400"/>
            <a:chOff x="4714920" y="4000680"/>
            <a:chExt cx="214200" cy="1571400"/>
          </a:xfrm>
        </p:grpSpPr>
        <p:sp>
          <p:nvSpPr>
            <p:cNvPr id="1103" name="Овал 29"/>
            <p:cNvSpPr/>
            <p:nvPr/>
          </p:nvSpPr>
          <p:spPr>
            <a:xfrm>
              <a:off x="4714920" y="4000680"/>
              <a:ext cx="214200" cy="214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Скругленный прямоугольник 30"/>
            <p:cNvSpPr/>
            <p:nvPr/>
          </p:nvSpPr>
          <p:spPr>
            <a:xfrm>
              <a:off x="4786200" y="4214880"/>
              <a:ext cx="71280" cy="135720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1357200"/>
                <a:gd name="textAreaBottom" fmla="*/ 1353960 h 1357200"/>
              </a:gdLst>
              <a:ahLst/>
              <a:rect l="textAreaLeft" t="textAreaTop" r="textAreaRight" b="textAreaBottom"/>
              <a:pathLst>
                <a:path w="21600" h="409315">
                  <a:moveTo>
                    <a:pt x="3600" y="0"/>
                  </a:moveTo>
                  <a:arcTo wR="3600" hR="3600" stAng="16200000" swAng="-5400000"/>
                  <a:lnTo>
                    <a:pt x="0" y="405715"/>
                  </a:lnTo>
                  <a:arcTo wR="3600" hR="3600" stAng="10800000" swAng="-5400000"/>
                  <a:lnTo>
                    <a:pt x="18000" y="409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5" name="Прямая соединительная линия 37"/>
          <p:cNvSpPr/>
          <p:nvPr/>
        </p:nvSpPr>
        <p:spPr>
          <a:xfrm>
            <a:off x="1000080" y="2000160"/>
            <a:ext cx="271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Полилиния 40"/>
          <p:cNvSpPr/>
          <p:nvPr/>
        </p:nvSpPr>
        <p:spPr>
          <a:xfrm>
            <a:off x="1008000" y="3816360"/>
            <a:ext cx="2843280" cy="279360"/>
          </a:xfrm>
          <a:custGeom>
            <a:avLst/>
            <a:gdLst/>
            <a:ahLst/>
            <a:rect l="l" t="t" r="r" b="b"/>
            <a:pathLst>
              <a:path w="2843561" h="278780">
                <a:moveTo>
                  <a:pt x="0" y="0"/>
                </a:moveTo>
                <a:lnTo>
                  <a:pt x="0" y="278780"/>
                </a:lnTo>
                <a:lnTo>
                  <a:pt x="2843561" y="256478"/>
                </a:lnTo>
                <a:lnTo>
                  <a:pt x="2843561" y="256478"/>
                </a:lnTo>
                <a:lnTo>
                  <a:pt x="2843561" y="2564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Прямая соединительная линия 42"/>
          <p:cNvSpPr/>
          <p:nvPr/>
        </p:nvSpPr>
        <p:spPr>
          <a:xfrm>
            <a:off x="4929120" y="4108320"/>
            <a:ext cx="321480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Прямая соединительная линия 44"/>
          <p:cNvSpPr/>
          <p:nvPr/>
        </p:nvSpPr>
        <p:spPr>
          <a:xfrm flipH="1">
            <a:off x="5429160" y="1963800"/>
            <a:ext cx="2725920" cy="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31"/>
          <p:cNvSpPr/>
          <p:nvPr/>
        </p:nvSpPr>
        <p:spPr>
          <a:xfrm>
            <a:off x="1026360" y="4287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ни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пределения проводимости материа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Прямоугольник 31"/>
          <p:cNvSpPr/>
          <p:nvPr/>
        </p:nvSpPr>
        <p:spPr>
          <a:xfrm>
            <a:off x="6083280" y="59292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1" name="Группа 101"/>
          <p:cNvGrpSpPr/>
          <p:nvPr/>
        </p:nvGrpSpPr>
        <p:grpSpPr>
          <a:xfrm>
            <a:off x="3429000" y="3929040"/>
            <a:ext cx="2000160" cy="2500200"/>
            <a:chOff x="3429000" y="3929040"/>
            <a:chExt cx="2000160" cy="2500200"/>
          </a:xfrm>
        </p:grpSpPr>
        <p:grpSp>
          <p:nvGrpSpPr>
            <p:cNvPr id="1112" name="Багетная рамка 34"/>
            <p:cNvGrpSpPr/>
            <p:nvPr/>
          </p:nvGrpSpPr>
          <p:grpSpPr>
            <a:xfrm>
              <a:off x="3429000" y="3929040"/>
              <a:ext cx="2000160" cy="2500200"/>
              <a:chOff x="3429000" y="3929040"/>
              <a:chExt cx="2000160" cy="2500200"/>
            </a:xfrm>
          </p:grpSpPr>
          <p:pic>
            <p:nvPicPr>
              <p:cNvPr id="1113" name="Багетная рамка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3929040"/>
                <a:ext cx="2000160" cy="25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6230600">
                <a:off x="3327840" y="4327560"/>
                <a:ext cx="220248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5" name="Группа 71"/>
            <p:cNvGrpSpPr/>
            <p:nvPr/>
          </p:nvGrpSpPr>
          <p:grpSpPr>
            <a:xfrm>
              <a:off x="4585680" y="4042080"/>
              <a:ext cx="367200" cy="429120"/>
              <a:chOff x="4585680" y="4042080"/>
              <a:chExt cx="367200" cy="429120"/>
            </a:xfrm>
          </p:grpSpPr>
          <p:sp>
            <p:nvSpPr>
              <p:cNvPr id="1116" name="Трапеция 59"/>
              <p:cNvSpPr/>
              <p:nvPr/>
            </p:nvSpPr>
            <p:spPr>
              <a:xfrm rot="11040000">
                <a:off x="4595400" y="4053600"/>
                <a:ext cx="347760" cy="288000"/>
              </a:xfrm>
              <a:custGeom>
                <a:avLst/>
                <a:gdLst/>
                <a:ahLst/>
                <a:rect l="l" t="t" r="r" b="b"/>
                <a:pathLst>
                  <a:path w="500062" h="362384">
                    <a:moveTo>
                      <a:pt x="0" y="362384"/>
                    </a:moveTo>
                    <a:lnTo>
                      <a:pt x="114082" y="0"/>
                    </a:lnTo>
                    <a:lnTo>
                      <a:pt x="385980" y="0"/>
                    </a:lnTo>
                    <a:lnTo>
                      <a:pt x="500062" y="362384"/>
                    </a:lnTo>
                    <a:lnTo>
                      <a:pt x="0" y="362384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17" name="Кольцо 60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4660200" y="4232520"/>
                <a:ext cx="231480" cy="23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8" name="Группа 85"/>
            <p:cNvGrpSpPr/>
            <p:nvPr/>
          </p:nvGrpSpPr>
          <p:grpSpPr>
            <a:xfrm>
              <a:off x="3853080" y="4583880"/>
              <a:ext cx="277920" cy="1538280"/>
              <a:chOff x="3853080" y="4583880"/>
              <a:chExt cx="277920" cy="1538280"/>
            </a:xfrm>
          </p:grpSpPr>
          <p:sp>
            <p:nvSpPr>
              <p:cNvPr id="1119" name="Скругленный прямоугольник 52"/>
              <p:cNvSpPr/>
              <p:nvPr/>
            </p:nvSpPr>
            <p:spPr>
              <a:xfrm rot="10800000">
                <a:off x="3853080" y="458388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Кольцо 53"/>
              <p:cNvSpPr/>
              <p:nvPr/>
            </p:nvSpPr>
            <p:spPr>
              <a:xfrm rot="10800000">
                <a:off x="3880800" y="5861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Кольцо 54"/>
              <p:cNvSpPr/>
              <p:nvPr/>
            </p:nvSpPr>
            <p:spPr>
              <a:xfrm rot="10800000">
                <a:off x="3880800" y="559116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Кольцо 55"/>
              <p:cNvSpPr/>
              <p:nvPr/>
            </p:nvSpPr>
            <p:spPr>
              <a:xfrm rot="10800000">
                <a:off x="3880800" y="53967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Кольцо 56"/>
              <p:cNvSpPr/>
              <p:nvPr/>
            </p:nvSpPr>
            <p:spPr>
              <a:xfrm rot="10800000">
                <a:off x="3880800" y="51652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Кольцо 57"/>
              <p:cNvSpPr/>
              <p:nvPr/>
            </p:nvSpPr>
            <p:spPr>
              <a:xfrm rot="10800000">
                <a:off x="3880800" y="493200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Кольцо 58"/>
              <p:cNvSpPr/>
              <p:nvPr/>
            </p:nvSpPr>
            <p:spPr>
              <a:xfrm rot="10800000">
                <a:off x="3880800" y="4700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6" name="Группа 87"/>
            <p:cNvGrpSpPr/>
            <p:nvPr/>
          </p:nvGrpSpPr>
          <p:grpSpPr>
            <a:xfrm>
              <a:off x="3820320" y="4042080"/>
              <a:ext cx="367200" cy="428760"/>
              <a:chOff x="3820320" y="4042080"/>
              <a:chExt cx="367200" cy="428760"/>
            </a:xfrm>
          </p:grpSpPr>
          <p:sp>
            <p:nvSpPr>
              <p:cNvPr id="1127" name="Трапеция 50"/>
              <p:cNvSpPr/>
              <p:nvPr/>
            </p:nvSpPr>
            <p:spPr>
              <a:xfrm rot="11040000">
                <a:off x="3830040" y="4053600"/>
                <a:ext cx="347760" cy="287640"/>
              </a:xfrm>
              <a:custGeom>
                <a:avLst/>
                <a:gdLst/>
                <a:ahLst/>
                <a:rect l="l" t="t" r="r" b="b"/>
                <a:pathLst>
                  <a:path w="500063" h="360526">
                    <a:moveTo>
                      <a:pt x="0" y="360526"/>
                    </a:moveTo>
                    <a:lnTo>
                      <a:pt x="113497" y="0"/>
                    </a:lnTo>
                    <a:lnTo>
                      <a:pt x="386566" y="0"/>
                    </a:lnTo>
                    <a:lnTo>
                      <a:pt x="500063" y="360526"/>
                    </a:lnTo>
                    <a:lnTo>
                      <a:pt x="0" y="360526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28" name="Кольцо 5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3888360" y="4231440"/>
                <a:ext cx="231480" cy="2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9" name="Группа 90"/>
            <p:cNvGrpSpPr/>
            <p:nvPr/>
          </p:nvGrpSpPr>
          <p:grpSpPr>
            <a:xfrm>
              <a:off x="4618440" y="4583880"/>
              <a:ext cx="277920" cy="1538280"/>
              <a:chOff x="4618440" y="4583880"/>
              <a:chExt cx="277920" cy="1538280"/>
            </a:xfrm>
          </p:grpSpPr>
          <p:sp>
            <p:nvSpPr>
              <p:cNvPr id="1130" name="Скругленный прямоугольник 41"/>
              <p:cNvSpPr/>
              <p:nvPr/>
            </p:nvSpPr>
            <p:spPr>
              <a:xfrm rot="10800000">
                <a:off x="4618440" y="458388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Кольцо 43"/>
              <p:cNvSpPr/>
              <p:nvPr/>
            </p:nvSpPr>
            <p:spPr>
              <a:xfrm rot="10800000">
                <a:off x="4646160" y="5861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Кольцо 45"/>
              <p:cNvSpPr/>
              <p:nvPr/>
            </p:nvSpPr>
            <p:spPr>
              <a:xfrm rot="10800000">
                <a:off x="4646160" y="559116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Кольцо 46"/>
              <p:cNvSpPr/>
              <p:nvPr/>
            </p:nvSpPr>
            <p:spPr>
              <a:xfrm rot="10800000">
                <a:off x="4646160" y="53967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Кольцо 47"/>
              <p:cNvSpPr/>
              <p:nvPr/>
            </p:nvSpPr>
            <p:spPr>
              <a:xfrm rot="10800000">
                <a:off x="4646160" y="51652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Кольцо 48"/>
              <p:cNvSpPr/>
              <p:nvPr/>
            </p:nvSpPr>
            <p:spPr>
              <a:xfrm rot="10800000">
                <a:off x="4646160" y="493200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Кольцо 49"/>
              <p:cNvSpPr/>
              <p:nvPr/>
            </p:nvSpPr>
            <p:spPr>
              <a:xfrm rot="10800000">
                <a:off x="4646160" y="47005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Полилиния 128"/>
          <p:cNvSpPr/>
          <p:nvPr/>
        </p:nvSpPr>
        <p:spPr>
          <a:xfrm>
            <a:off x="2571840" y="1285920"/>
            <a:ext cx="1357200" cy="2071800"/>
          </a:xfrm>
          <a:custGeom>
            <a:avLst/>
            <a:gdLst/>
            <a:ahLst/>
            <a:rect l="l" t="t" r="r" b="b"/>
            <a:pathLst>
              <a:path w="1583474" h="1051932">
                <a:moveTo>
                  <a:pt x="178420" y="598449"/>
                </a:moveTo>
                <a:cubicBezTo>
                  <a:pt x="89210" y="391222"/>
                  <a:pt x="0" y="183995"/>
                  <a:pt x="44605" y="107795"/>
                </a:cubicBezTo>
                <a:cubicBezTo>
                  <a:pt x="89210" y="31595"/>
                  <a:pt x="312234" y="0"/>
                  <a:pt x="446049" y="141249"/>
                </a:cubicBezTo>
                <a:cubicBezTo>
                  <a:pt x="579864" y="282498"/>
                  <a:pt x="691376" y="858644"/>
                  <a:pt x="847493" y="955288"/>
                </a:cubicBezTo>
                <a:cubicBezTo>
                  <a:pt x="1003610" y="1051932"/>
                  <a:pt x="1260089" y="721112"/>
                  <a:pt x="1382752" y="721112"/>
                </a:cubicBezTo>
                <a:cubicBezTo>
                  <a:pt x="1505415" y="721112"/>
                  <a:pt x="1583474" y="955288"/>
                  <a:pt x="1583474" y="955288"/>
                </a:cubicBezTo>
                <a:lnTo>
                  <a:pt x="1583474" y="955288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Полилиния 94"/>
          <p:cNvSpPr/>
          <p:nvPr/>
        </p:nvSpPr>
        <p:spPr>
          <a:xfrm>
            <a:off x="4500720" y="0"/>
            <a:ext cx="2079360" cy="1771560"/>
          </a:xfrm>
          <a:custGeom>
            <a:avLst/>
            <a:gdLst/>
            <a:ahLst/>
            <a:rect l="l" t="t" r="r" b="b"/>
            <a:pathLst>
              <a:path w="2857017" h="1240421">
                <a:moveTo>
                  <a:pt x="2747058" y="1240421"/>
                </a:moveTo>
                <a:cubicBezTo>
                  <a:pt x="2800108" y="1054261"/>
                  <a:pt x="2853159" y="868101"/>
                  <a:pt x="2851230" y="707985"/>
                </a:cubicBezTo>
                <a:cubicBezTo>
                  <a:pt x="2849301" y="547869"/>
                  <a:pt x="2857017" y="362674"/>
                  <a:pt x="2735483" y="279722"/>
                </a:cubicBezTo>
                <a:cubicBezTo>
                  <a:pt x="2613949" y="196770"/>
                  <a:pt x="2122025" y="210274"/>
                  <a:pt x="2122025" y="210274"/>
                </a:cubicBezTo>
                <a:cubicBezTo>
                  <a:pt x="1772856" y="165904"/>
                  <a:pt x="978061" y="27008"/>
                  <a:pt x="640466" y="13504"/>
                </a:cubicBezTo>
                <a:cubicBezTo>
                  <a:pt x="302871" y="0"/>
                  <a:pt x="192912" y="5788"/>
                  <a:pt x="96456" y="129251"/>
                </a:cubicBezTo>
                <a:cubicBezTo>
                  <a:pt x="0" y="252714"/>
                  <a:pt x="30866" y="503499"/>
                  <a:pt x="61732" y="75428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Полилиния 90"/>
          <p:cNvSpPr/>
          <p:nvPr/>
        </p:nvSpPr>
        <p:spPr>
          <a:xfrm>
            <a:off x="500040" y="214200"/>
            <a:ext cx="3571920" cy="2000520"/>
          </a:xfrm>
          <a:custGeom>
            <a:avLst/>
            <a:gdLst/>
            <a:ahLst/>
            <a:rect l="l" t="t" r="r" b="b"/>
            <a:pathLst>
              <a:path w="2926465" h="4060785">
                <a:moveTo>
                  <a:pt x="2766349" y="530506"/>
                </a:moveTo>
                <a:cubicBezTo>
                  <a:pt x="2846407" y="286473"/>
                  <a:pt x="2926465" y="42440"/>
                  <a:pt x="2812647" y="21220"/>
                </a:cubicBezTo>
                <a:cubicBezTo>
                  <a:pt x="2698829" y="0"/>
                  <a:pt x="2380526" y="50157"/>
                  <a:pt x="2083442" y="403185"/>
                </a:cubicBezTo>
                <a:cubicBezTo>
                  <a:pt x="1786359" y="756213"/>
                  <a:pt x="1354237" y="1726557"/>
                  <a:pt x="1030146" y="2139387"/>
                </a:cubicBezTo>
                <a:cubicBezTo>
                  <a:pt x="706055" y="2552217"/>
                  <a:pt x="277792" y="2559934"/>
                  <a:pt x="138896" y="2880167"/>
                </a:cubicBezTo>
                <a:cubicBezTo>
                  <a:pt x="0" y="3200400"/>
                  <a:pt x="98384" y="3630592"/>
                  <a:pt x="196769" y="406078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0" name="Багетная рамка 2"/>
          <p:cNvGrpSpPr/>
          <p:nvPr/>
        </p:nvGrpSpPr>
        <p:grpSpPr>
          <a:xfrm>
            <a:off x="365040" y="2657520"/>
            <a:ext cx="2408400" cy="1073160"/>
            <a:chOff x="365040" y="2657520"/>
            <a:chExt cx="2408400" cy="1073160"/>
          </a:xfrm>
        </p:grpSpPr>
        <p:pic>
          <p:nvPicPr>
            <p:cNvPr id="1141" name="Багетная рамка 2" descr=""/>
            <p:cNvPicPr/>
            <p:nvPr/>
          </p:nvPicPr>
          <p:blipFill>
            <a:blip r:embed="rId1"/>
            <a:stretch/>
          </p:blipFill>
          <p:spPr>
            <a:xfrm>
              <a:off x="365040" y="2657520"/>
              <a:ext cx="24084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47560" y="2806560"/>
              <a:ext cx="20480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43" name="Picture 12" descr="j0404041"/>
          <p:cNvPicPr/>
          <p:nvPr/>
        </p:nvPicPr>
        <p:blipFill>
          <a:blip r:embed="rId2"/>
          <a:stretch/>
        </p:blipFill>
        <p:spPr>
          <a:xfrm rot="19284000">
            <a:off x="1277640" y="2142720"/>
            <a:ext cx="595080" cy="711360"/>
          </a:xfrm>
          <a:prstGeom prst="rect">
            <a:avLst/>
          </a:prstGeom>
          <a:ln w="0">
            <a:noFill/>
          </a:ln>
        </p:spPr>
      </p:pic>
      <p:pic>
        <p:nvPicPr>
          <p:cNvPr id="1144" name="Группа 37" descr=""/>
          <p:cNvPicPr/>
          <p:nvPr/>
        </p:nvPicPr>
        <p:blipFill>
          <a:blip r:embed="rId3"/>
          <a:stretch/>
        </p:blipFill>
        <p:spPr>
          <a:xfrm>
            <a:off x="517680" y="2762280"/>
            <a:ext cx="2109600" cy="596880"/>
          </a:xfrm>
          <a:prstGeom prst="rect">
            <a:avLst/>
          </a:prstGeom>
          <a:ln w="0">
            <a:noFill/>
          </a:ln>
        </p:spPr>
      </p:pic>
      <p:sp>
        <p:nvSpPr>
          <p:cNvPr id="1145" name="Плюс 5"/>
          <p:cNvSpPr/>
          <p:nvPr/>
        </p:nvSpPr>
        <p:spPr>
          <a:xfrm>
            <a:off x="2000160" y="2786040"/>
            <a:ext cx="347760" cy="301680"/>
          </a:xfrm>
          <a:custGeom>
            <a:avLst/>
            <a:gdLst/>
            <a:ahLst/>
            <a:rect l="l" t="t" r="r" b="b"/>
            <a:pathLst>
              <a:path w="347663" h="301625">
                <a:moveTo>
                  <a:pt x="46083" y="115341"/>
                </a:moveTo>
                <a:lnTo>
                  <a:pt x="138360" y="115341"/>
                </a:lnTo>
                <a:lnTo>
                  <a:pt x="138360" y="39980"/>
                </a:lnTo>
                <a:lnTo>
                  <a:pt x="209303" y="39980"/>
                </a:lnTo>
                <a:lnTo>
                  <a:pt x="209303" y="115341"/>
                </a:lnTo>
                <a:lnTo>
                  <a:pt x="301580" y="115341"/>
                </a:lnTo>
                <a:lnTo>
                  <a:pt x="301580" y="186284"/>
                </a:lnTo>
                <a:lnTo>
                  <a:pt x="209303" y="186284"/>
                </a:lnTo>
                <a:lnTo>
                  <a:pt x="209303" y="261645"/>
                </a:lnTo>
                <a:lnTo>
                  <a:pt x="138360" y="261645"/>
                </a:lnTo>
                <a:lnTo>
                  <a:pt x="138360" y="186284"/>
                </a:lnTo>
                <a:lnTo>
                  <a:pt x="46083" y="186284"/>
                </a:lnTo>
                <a:lnTo>
                  <a:pt x="46083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Минус 6"/>
          <p:cNvSpPr/>
          <p:nvPr/>
        </p:nvSpPr>
        <p:spPr>
          <a:xfrm>
            <a:off x="857160" y="2786040"/>
            <a:ext cx="297000" cy="301680"/>
          </a:xfrm>
          <a:custGeom>
            <a:avLst/>
            <a:gdLst/>
            <a:ahLst/>
            <a:rect l="l" t="t" r="r" b="b"/>
            <a:pathLst>
              <a:path w="296863" h="301625">
                <a:moveTo>
                  <a:pt x="39349" y="115341"/>
                </a:moveTo>
                <a:lnTo>
                  <a:pt x="257514" y="115341"/>
                </a:lnTo>
                <a:lnTo>
                  <a:pt x="257514" y="186284"/>
                </a:lnTo>
                <a:lnTo>
                  <a:pt x="39349" y="186284"/>
                </a:lnTo>
                <a:lnTo>
                  <a:pt x="39349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7" name="Группа 54"/>
          <p:cNvGrpSpPr/>
          <p:nvPr/>
        </p:nvGrpSpPr>
        <p:grpSpPr>
          <a:xfrm>
            <a:off x="4049280" y="360"/>
            <a:ext cx="2117880" cy="2213640"/>
            <a:chOff x="4049280" y="360"/>
            <a:chExt cx="2117880" cy="2213640"/>
          </a:xfrm>
        </p:grpSpPr>
        <p:sp>
          <p:nvSpPr>
            <p:cNvPr id="1148" name="Полилиния 39"/>
            <p:cNvSpPr/>
            <p:nvPr/>
          </p:nvSpPr>
          <p:spPr>
            <a:xfrm rot="5247000">
              <a:off x="4083120" y="124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Полилиния 40"/>
            <p:cNvSpPr/>
            <p:nvPr/>
          </p:nvSpPr>
          <p:spPr>
            <a:xfrm rot="5247000">
              <a:off x="4013280" y="133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0" name="Куб 42"/>
          <p:cNvGrpSpPr/>
          <p:nvPr/>
        </p:nvGrpSpPr>
        <p:grpSpPr>
          <a:xfrm>
            <a:off x="3133800" y="1060560"/>
            <a:ext cx="2309760" cy="1238040"/>
            <a:chOff x="3133800" y="1060560"/>
            <a:chExt cx="2309760" cy="1238040"/>
          </a:xfrm>
        </p:grpSpPr>
        <p:pic>
          <p:nvPicPr>
            <p:cNvPr id="1151" name="Куб 42" descr=""/>
            <p:cNvPicPr/>
            <p:nvPr/>
          </p:nvPicPr>
          <p:blipFill>
            <a:blip r:embed="rId4"/>
            <a:stretch/>
          </p:blipFill>
          <p:spPr>
            <a:xfrm>
              <a:off x="3133800" y="1060560"/>
              <a:ext cx="230976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>
              <a:off x="3143160" y="1630440"/>
              <a:ext cx="1727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53" name="Кольцо 43" descr=""/>
          <p:cNvPicPr/>
          <p:nvPr/>
        </p:nvPicPr>
        <p:blipFill>
          <a:blip r:embed="rId5"/>
          <a:stretch/>
        </p:blipFill>
        <p:spPr>
          <a:xfrm>
            <a:off x="3517920" y="1047600"/>
            <a:ext cx="14922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154" name="Кольцо 44"/>
          <p:cNvGrpSpPr/>
          <p:nvPr/>
        </p:nvGrpSpPr>
        <p:grpSpPr>
          <a:xfrm>
            <a:off x="4211640" y="1127160"/>
            <a:ext cx="585720" cy="525600"/>
            <a:chOff x="4211640" y="1127160"/>
            <a:chExt cx="585720" cy="525600"/>
          </a:xfrm>
        </p:grpSpPr>
        <p:pic>
          <p:nvPicPr>
            <p:cNvPr id="1155" name="Кольцо 44" descr=""/>
            <p:cNvPicPr/>
            <p:nvPr/>
          </p:nvPicPr>
          <p:blipFill>
            <a:blip r:embed="rId6"/>
            <a:stretch/>
          </p:blipFill>
          <p:spPr>
            <a:xfrm>
              <a:off x="4211640" y="1127160"/>
              <a:ext cx="58572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4414680" y="1281240"/>
              <a:ext cx="1749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7" name="Кольцо 45"/>
          <p:cNvGrpSpPr/>
          <p:nvPr/>
        </p:nvGrpSpPr>
        <p:grpSpPr>
          <a:xfrm>
            <a:off x="3718080" y="1189080"/>
            <a:ext cx="585720" cy="523800"/>
            <a:chOff x="3718080" y="1189080"/>
            <a:chExt cx="585720" cy="523800"/>
          </a:xfrm>
        </p:grpSpPr>
        <p:pic>
          <p:nvPicPr>
            <p:cNvPr id="1158" name="Кольцо 45" descr=""/>
            <p:cNvPicPr/>
            <p:nvPr/>
          </p:nvPicPr>
          <p:blipFill>
            <a:blip r:embed="rId7"/>
            <a:stretch/>
          </p:blipFill>
          <p:spPr>
            <a:xfrm>
              <a:off x="3718080" y="1189080"/>
              <a:ext cx="5857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3921120" y="1341360"/>
              <a:ext cx="17460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0" name="Плюс 46"/>
          <p:cNvSpPr/>
          <p:nvPr/>
        </p:nvSpPr>
        <p:spPr>
          <a:xfrm>
            <a:off x="3357720" y="1357200"/>
            <a:ext cx="247320" cy="303480"/>
          </a:xfrm>
          <a:custGeom>
            <a:avLst/>
            <a:gdLst/>
            <a:ahLst/>
            <a:rect l="l" t="t" r="r" b="b"/>
            <a:pathLst>
              <a:path w="247650" h="303212">
                <a:moveTo>
                  <a:pt x="32826" y="122482"/>
                </a:moveTo>
                <a:lnTo>
                  <a:pt x="94701" y="122482"/>
                </a:lnTo>
                <a:lnTo>
                  <a:pt x="94701" y="40191"/>
                </a:lnTo>
                <a:lnTo>
                  <a:pt x="152949" y="40191"/>
                </a:lnTo>
                <a:lnTo>
                  <a:pt x="152949" y="122482"/>
                </a:lnTo>
                <a:lnTo>
                  <a:pt x="214824" y="122482"/>
                </a:lnTo>
                <a:lnTo>
                  <a:pt x="214824" y="180730"/>
                </a:lnTo>
                <a:lnTo>
                  <a:pt x="152949" y="180730"/>
                </a:lnTo>
                <a:lnTo>
                  <a:pt x="152949" y="263021"/>
                </a:lnTo>
                <a:lnTo>
                  <a:pt x="94701" y="263021"/>
                </a:lnTo>
                <a:lnTo>
                  <a:pt x="94701" y="180730"/>
                </a:lnTo>
                <a:lnTo>
                  <a:pt x="32826" y="180730"/>
                </a:lnTo>
                <a:lnTo>
                  <a:pt x="32826" y="12248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инус 47"/>
          <p:cNvSpPr/>
          <p:nvPr/>
        </p:nvSpPr>
        <p:spPr>
          <a:xfrm>
            <a:off x="4929120" y="1071720"/>
            <a:ext cx="309600" cy="242640"/>
          </a:xfrm>
          <a:custGeom>
            <a:avLst/>
            <a:gdLst/>
            <a:ahLst/>
            <a:rect l="l" t="t" r="r" b="b"/>
            <a:pathLst>
              <a:path w="309562" h="242887">
                <a:moveTo>
                  <a:pt x="41032" y="92880"/>
                </a:moveTo>
                <a:lnTo>
                  <a:pt x="268530" y="92880"/>
                </a:lnTo>
                <a:lnTo>
                  <a:pt x="268530" y="150007"/>
                </a:lnTo>
                <a:lnTo>
                  <a:pt x="41032" y="150007"/>
                </a:lnTo>
                <a:lnTo>
                  <a:pt x="41032" y="928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2" name="Группа 14"/>
          <p:cNvGrpSpPr/>
          <p:nvPr/>
        </p:nvGrpSpPr>
        <p:grpSpPr>
          <a:xfrm>
            <a:off x="6215040" y="2176920"/>
            <a:ext cx="2286000" cy="1285560"/>
            <a:chOff x="6215040" y="2176920"/>
            <a:chExt cx="2286000" cy="1285560"/>
          </a:xfrm>
        </p:grpSpPr>
        <p:grpSp>
          <p:nvGrpSpPr>
            <p:cNvPr id="1163" name="Багетная рамка 52"/>
            <p:cNvGrpSpPr/>
            <p:nvPr/>
          </p:nvGrpSpPr>
          <p:grpSpPr>
            <a:xfrm>
              <a:off x="6215040" y="2458440"/>
              <a:ext cx="2286000" cy="1004040"/>
              <a:chOff x="6215040" y="2458440"/>
              <a:chExt cx="2286000" cy="1004040"/>
            </a:xfrm>
          </p:grpSpPr>
          <p:pic>
            <p:nvPicPr>
              <p:cNvPr id="1164" name="Багетная рамка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6215040" y="2458440"/>
                <a:ext cx="22860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5" name=""/>
              <p:cNvSpPr/>
              <p:nvPr/>
            </p:nvSpPr>
            <p:spPr>
              <a:xfrm>
                <a:off x="6383520" y="2599560"/>
                <a:ext cx="19436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6" name="Кольцо 2"/>
            <p:cNvSpPr/>
            <p:nvPr/>
          </p:nvSpPr>
          <p:spPr>
            <a:xfrm>
              <a:off x="7898040" y="2822400"/>
              <a:ext cx="271080" cy="267480"/>
            </a:xfrm>
            <a:custGeom>
              <a:avLst/>
              <a:gdLst/>
              <a:ahLst/>
              <a:rect l="l" t="t" r="r" b="b"/>
              <a:pathLst>
                <a:path w="285752" h="285901">
                  <a:moveTo>
                    <a:pt x="0" y="142951"/>
                  </a:moveTo>
                  <a:cubicBezTo>
                    <a:pt x="0" y="64001"/>
                    <a:pt x="63968" y="0"/>
                    <a:pt x="142876" y="0"/>
                  </a:cubicBezTo>
                  <a:cubicBezTo>
                    <a:pt x="221784" y="0"/>
                    <a:pt x="285752" y="64001"/>
                    <a:pt x="285752" y="142951"/>
                  </a:cubicBezTo>
                  <a:cubicBezTo>
                    <a:pt x="285752" y="221901"/>
                    <a:pt x="221784" y="285902"/>
                    <a:pt x="142876" y="285902"/>
                  </a:cubicBezTo>
                  <a:cubicBezTo>
                    <a:pt x="63968" y="285902"/>
                    <a:pt x="0" y="221901"/>
                    <a:pt x="0" y="142951"/>
                  </a:cubicBezTo>
                  <a:close/>
                  <a:moveTo>
                    <a:pt x="71438" y="142951"/>
                  </a:moveTo>
                  <a:cubicBezTo>
                    <a:pt x="71438" y="182447"/>
                    <a:pt x="103422" y="214464"/>
                    <a:pt x="142876" y="214464"/>
                  </a:cubicBezTo>
                  <a:cubicBezTo>
                    <a:pt x="182330" y="214464"/>
                    <a:pt x="214314" y="182447"/>
                    <a:pt x="214314" y="142951"/>
                  </a:cubicBezTo>
                  <a:cubicBezTo>
                    <a:pt x="214314" y="103455"/>
                    <a:pt x="182330" y="71438"/>
                    <a:pt x="142876" y="71438"/>
                  </a:cubicBezTo>
                  <a:cubicBezTo>
                    <a:pt x="103422" y="71438"/>
                    <a:pt x="71438" y="103455"/>
                    <a:pt x="71438" y="142951"/>
                  </a:cubicBez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Фигура, имеющая форму буквы L 3"/>
            <p:cNvSpPr/>
            <p:nvPr/>
          </p:nvSpPr>
          <p:spPr>
            <a:xfrm rot="857400">
              <a:off x="6752520" y="2613960"/>
              <a:ext cx="1257120" cy="218160"/>
            </a:xfrm>
            <a:custGeom>
              <a:avLst/>
              <a:gdLst/>
              <a:ahLst/>
              <a:rect l="l" t="t" r="r" b="b"/>
              <a:pathLst>
                <a:path w="1323984" h="233486">
                  <a:moveTo>
                    <a:pt x="0" y="0"/>
                  </a:moveTo>
                  <a:lnTo>
                    <a:pt x="123047" y="0"/>
                  </a:lnTo>
                  <a:lnTo>
                    <a:pt x="123047" y="129354"/>
                  </a:lnTo>
                  <a:lnTo>
                    <a:pt x="1323984" y="129354"/>
                  </a:lnTo>
                  <a:lnTo>
                    <a:pt x="1323984" y="233486"/>
                  </a:lnTo>
                  <a:lnTo>
                    <a:pt x="0" y="233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Трапеция 4"/>
            <p:cNvSpPr/>
            <p:nvPr/>
          </p:nvSpPr>
          <p:spPr>
            <a:xfrm rot="11657400">
              <a:off x="6730920" y="2215800"/>
              <a:ext cx="351000" cy="271800"/>
            </a:xfrm>
            <a:custGeom>
              <a:avLst/>
              <a:gdLst/>
              <a:ahLst/>
              <a:rect l="l" t="t" r="r" b="b"/>
              <a:pathLst>
                <a:path w="369890" h="290666">
                  <a:moveTo>
                    <a:pt x="0" y="290666"/>
                  </a:moveTo>
                  <a:lnTo>
                    <a:pt x="72667" y="0"/>
                  </a:lnTo>
                  <a:lnTo>
                    <a:pt x="297224" y="0"/>
                  </a:lnTo>
                  <a:lnTo>
                    <a:pt x="369890" y="290666"/>
                  </a:lnTo>
                  <a:lnTo>
                    <a:pt x="0" y="290666"/>
                  </a:lnTo>
                  <a:close/>
                </a:path>
              </a:pathLst>
            </a:cu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9" name="Группа 13" descr=""/>
            <p:cNvPicPr/>
            <p:nvPr/>
          </p:nvPicPr>
          <p:blipFill>
            <a:blip r:embed="rId9"/>
            <a:stretch/>
          </p:blipFill>
          <p:spPr>
            <a:xfrm>
              <a:off x="6394320" y="2811960"/>
              <a:ext cx="56700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0" name="Плюс 50"/>
          <p:cNvSpPr/>
          <p:nvPr/>
        </p:nvSpPr>
        <p:spPr>
          <a:xfrm>
            <a:off x="6357960" y="3071880"/>
            <a:ext cx="35712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144989" y="109271"/>
                </a:lnTo>
                <a:lnTo>
                  <a:pt x="144989" y="37876"/>
                </a:lnTo>
                <a:lnTo>
                  <a:pt x="212198" y="37876"/>
                </a:lnTo>
                <a:lnTo>
                  <a:pt x="212198" y="109271"/>
                </a:lnTo>
                <a:lnTo>
                  <a:pt x="309842" y="109271"/>
                </a:lnTo>
                <a:lnTo>
                  <a:pt x="309842" y="176479"/>
                </a:lnTo>
                <a:lnTo>
                  <a:pt x="212198" y="176479"/>
                </a:lnTo>
                <a:lnTo>
                  <a:pt x="212198" y="247874"/>
                </a:lnTo>
                <a:lnTo>
                  <a:pt x="144989" y="247874"/>
                </a:lnTo>
                <a:lnTo>
                  <a:pt x="144989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инус 51"/>
          <p:cNvSpPr/>
          <p:nvPr/>
        </p:nvSpPr>
        <p:spPr>
          <a:xfrm>
            <a:off x="8072280" y="2571840"/>
            <a:ext cx="35748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309842" y="109271"/>
                </a:lnTo>
                <a:lnTo>
                  <a:pt x="309842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Группа 5"/>
          <p:cNvGrpSpPr/>
          <p:nvPr/>
        </p:nvGrpSpPr>
        <p:grpSpPr>
          <a:xfrm>
            <a:off x="6215040" y="1785960"/>
            <a:ext cx="357120" cy="1214280"/>
            <a:chOff x="6215040" y="1785960"/>
            <a:chExt cx="357120" cy="1214280"/>
          </a:xfrm>
        </p:grpSpPr>
        <p:sp>
          <p:nvSpPr>
            <p:cNvPr id="1173" name="Скругленный прямоугольник 60"/>
            <p:cNvSpPr/>
            <p:nvPr/>
          </p:nvSpPr>
          <p:spPr>
            <a:xfrm flipH="1">
              <a:off x="6465960" y="260820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Полилиния 61"/>
            <p:cNvSpPr/>
            <p:nvPr/>
          </p:nvSpPr>
          <p:spPr>
            <a:xfrm flipH="1">
              <a:off x="6215040" y="178596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Группа 5"/>
          <p:cNvGrpSpPr/>
          <p:nvPr/>
        </p:nvGrpSpPr>
        <p:grpSpPr>
          <a:xfrm>
            <a:off x="4429080" y="285840"/>
            <a:ext cx="357120" cy="1214280"/>
            <a:chOff x="4429080" y="285840"/>
            <a:chExt cx="357120" cy="1214280"/>
          </a:xfrm>
        </p:grpSpPr>
        <p:sp>
          <p:nvSpPr>
            <p:cNvPr id="1176" name="Скругленный прямоугольник 63"/>
            <p:cNvSpPr/>
            <p:nvPr/>
          </p:nvSpPr>
          <p:spPr>
            <a:xfrm>
              <a:off x="4464000" y="11080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Полилиния 64"/>
            <p:cNvSpPr/>
            <p:nvPr/>
          </p:nvSpPr>
          <p:spPr>
            <a:xfrm>
              <a:off x="4429080" y="28584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8" name="Группа 5"/>
          <p:cNvGrpSpPr/>
          <p:nvPr/>
        </p:nvGrpSpPr>
        <p:grpSpPr>
          <a:xfrm>
            <a:off x="642960" y="2071800"/>
            <a:ext cx="357120" cy="1214280"/>
            <a:chOff x="642960" y="2071800"/>
            <a:chExt cx="357120" cy="1214280"/>
          </a:xfrm>
        </p:grpSpPr>
        <p:sp>
          <p:nvSpPr>
            <p:cNvPr id="1179" name="Скругленный прямоугольник 72"/>
            <p:cNvSpPr/>
            <p:nvPr/>
          </p:nvSpPr>
          <p:spPr>
            <a:xfrm>
              <a:off x="677880" y="28940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Полилиния 73"/>
            <p:cNvSpPr/>
            <p:nvPr/>
          </p:nvSpPr>
          <p:spPr>
            <a:xfrm>
              <a:off x="642960" y="207180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1" name="Группа 5"/>
          <p:cNvGrpSpPr/>
          <p:nvPr/>
        </p:nvGrpSpPr>
        <p:grpSpPr>
          <a:xfrm>
            <a:off x="8001000" y="1857240"/>
            <a:ext cx="357120" cy="1214640"/>
            <a:chOff x="8001000" y="1857240"/>
            <a:chExt cx="357120" cy="1214640"/>
          </a:xfrm>
        </p:grpSpPr>
        <p:sp>
          <p:nvSpPr>
            <p:cNvPr id="1182" name="Скругленный прямоугольник 75"/>
            <p:cNvSpPr/>
            <p:nvPr/>
          </p:nvSpPr>
          <p:spPr>
            <a:xfrm>
              <a:off x="8035920" y="26798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Полилиния 76"/>
            <p:cNvSpPr/>
            <p:nvPr/>
          </p:nvSpPr>
          <p:spPr>
            <a:xfrm>
              <a:off x="8001000" y="1857240"/>
              <a:ext cx="35712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4" name="Группа 5"/>
          <p:cNvGrpSpPr/>
          <p:nvPr/>
        </p:nvGrpSpPr>
        <p:grpSpPr>
          <a:xfrm>
            <a:off x="2458440" y="1928520"/>
            <a:ext cx="479880" cy="1217160"/>
            <a:chOff x="2458440" y="1928520"/>
            <a:chExt cx="479880" cy="1217160"/>
          </a:xfrm>
        </p:grpSpPr>
        <p:sp>
          <p:nvSpPr>
            <p:cNvPr id="1185" name="Скругленный прямоугольник 84"/>
            <p:cNvSpPr/>
            <p:nvPr/>
          </p:nvSpPr>
          <p:spPr>
            <a:xfrm rot="439200">
              <a:off x="2482920" y="2751120"/>
              <a:ext cx="71280" cy="3916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1680"/>
                <a:gd name="textAreaBottom" fmla="*/ 388440 h 391680"/>
              </a:gdLst>
              <a:ahLst/>
              <a:rect l="textAreaLeft" t="textAreaTop" r="textAreaRight" b="textAreaBottom"/>
              <a:pathLst>
                <a:path w="21600" h="118203">
                  <a:moveTo>
                    <a:pt x="3600" y="0"/>
                  </a:moveTo>
                  <a:arcTo wR="3600" hR="3600" stAng="16200000" swAng="-5400000"/>
                  <a:lnTo>
                    <a:pt x="0" y="114603"/>
                  </a:lnTo>
                  <a:arcTo wR="3600" hR="3600" stAng="10800000" swAng="-5400000"/>
                  <a:lnTo>
                    <a:pt x="18000" y="118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Полилиния 85"/>
            <p:cNvSpPr/>
            <p:nvPr/>
          </p:nvSpPr>
          <p:spPr>
            <a:xfrm rot="439200">
              <a:off x="2527560" y="1947600"/>
              <a:ext cx="357120" cy="86112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Группа 5"/>
          <p:cNvGrpSpPr/>
          <p:nvPr/>
        </p:nvGrpSpPr>
        <p:grpSpPr>
          <a:xfrm>
            <a:off x="3642840" y="357120"/>
            <a:ext cx="357480" cy="1214640"/>
            <a:chOff x="3642840" y="357120"/>
            <a:chExt cx="357480" cy="1214640"/>
          </a:xfrm>
        </p:grpSpPr>
        <p:sp>
          <p:nvSpPr>
            <p:cNvPr id="1188" name="Скругленный прямоугольник 87"/>
            <p:cNvSpPr/>
            <p:nvPr/>
          </p:nvSpPr>
          <p:spPr>
            <a:xfrm flipH="1">
              <a:off x="3894120" y="117972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Полилиния 88"/>
            <p:cNvSpPr/>
            <p:nvPr/>
          </p:nvSpPr>
          <p:spPr>
            <a:xfrm flipH="1">
              <a:off x="3642480" y="357120"/>
              <a:ext cx="35748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0" name="Picture 34" descr="j0234717"/>
          <p:cNvPicPr/>
          <p:nvPr/>
        </p:nvPicPr>
        <p:blipFill>
          <a:blip r:embed="rId10"/>
          <a:stretch/>
        </p:blipFill>
        <p:spPr>
          <a:xfrm>
            <a:off x="1143000" y="1928880"/>
            <a:ext cx="811080" cy="1069920"/>
          </a:xfrm>
          <a:prstGeom prst="rect">
            <a:avLst/>
          </a:prstGeom>
          <a:ln w="0">
            <a:noFill/>
          </a:ln>
        </p:spPr>
      </p:pic>
      <p:pic>
        <p:nvPicPr>
          <p:cNvPr id="1191" name="Прямоугольник 100" descr=""/>
          <p:cNvPicPr/>
          <p:nvPr/>
        </p:nvPicPr>
        <p:blipFill>
          <a:blip r:embed="rId11"/>
          <a:stretch/>
        </p:blipFill>
        <p:spPr>
          <a:xfrm>
            <a:off x="1378080" y="2352600"/>
            <a:ext cx="10476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192" name="Группа 101"/>
          <p:cNvGrpSpPr/>
          <p:nvPr/>
        </p:nvGrpSpPr>
        <p:grpSpPr>
          <a:xfrm>
            <a:off x="3429000" y="3929040"/>
            <a:ext cx="2000160" cy="2500200"/>
            <a:chOff x="3429000" y="3929040"/>
            <a:chExt cx="2000160" cy="2500200"/>
          </a:xfrm>
        </p:grpSpPr>
        <p:grpSp>
          <p:nvGrpSpPr>
            <p:cNvPr id="1193" name="Багетная рамка 102"/>
            <p:cNvGrpSpPr/>
            <p:nvPr/>
          </p:nvGrpSpPr>
          <p:grpSpPr>
            <a:xfrm>
              <a:off x="3429000" y="3929040"/>
              <a:ext cx="2000160" cy="2500200"/>
              <a:chOff x="3429000" y="3929040"/>
              <a:chExt cx="2000160" cy="2500200"/>
            </a:xfrm>
          </p:grpSpPr>
          <p:pic>
            <p:nvPicPr>
              <p:cNvPr id="1194" name="Багетная рамка 10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29000" y="3929040"/>
                <a:ext cx="2000160" cy="25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6230600">
                <a:off x="3327840" y="4327560"/>
                <a:ext cx="220248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6" name="Группа 71"/>
            <p:cNvGrpSpPr/>
            <p:nvPr/>
          </p:nvGrpSpPr>
          <p:grpSpPr>
            <a:xfrm>
              <a:off x="4659120" y="4048920"/>
              <a:ext cx="347400" cy="426240"/>
              <a:chOff x="4659120" y="4048920"/>
              <a:chExt cx="347400" cy="426240"/>
            </a:xfrm>
          </p:grpSpPr>
          <p:sp>
            <p:nvSpPr>
              <p:cNvPr id="1197" name="Трапеция 123"/>
              <p:cNvSpPr/>
              <p:nvPr/>
            </p:nvSpPr>
            <p:spPr>
              <a:xfrm rot="11040000">
                <a:off x="4668840" y="4059360"/>
                <a:ext cx="320760" cy="289080"/>
              </a:xfrm>
              <a:custGeom>
                <a:avLst/>
                <a:gdLst/>
                <a:ahLst/>
                <a:rect l="l" t="t" r="r" b="b"/>
                <a:pathLst>
                  <a:path w="500062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5" y="0"/>
                    </a:lnTo>
                    <a:lnTo>
                      <a:pt x="500062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98" name="Кольцо 124" descr=""/>
              <p:cNvPicPr/>
              <p:nvPr/>
            </p:nvPicPr>
            <p:blipFill>
              <a:blip r:embed="rId13"/>
              <a:stretch/>
            </p:blipFill>
            <p:spPr>
              <a:xfrm rot="21599400">
                <a:off x="4793040" y="4236840"/>
                <a:ext cx="2134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9" name="Группа 85"/>
            <p:cNvGrpSpPr/>
            <p:nvPr/>
          </p:nvGrpSpPr>
          <p:grpSpPr>
            <a:xfrm>
              <a:off x="3913560" y="4551840"/>
              <a:ext cx="277920" cy="1538280"/>
              <a:chOff x="3913560" y="4551840"/>
              <a:chExt cx="277920" cy="1538280"/>
            </a:xfrm>
          </p:grpSpPr>
          <p:sp>
            <p:nvSpPr>
              <p:cNvPr id="1200" name="Скругленный прямоугольник 116"/>
              <p:cNvSpPr/>
              <p:nvPr/>
            </p:nvSpPr>
            <p:spPr>
              <a:xfrm rot="10800000">
                <a:off x="3913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Кольцо 117"/>
              <p:cNvSpPr/>
              <p:nvPr/>
            </p:nvSpPr>
            <p:spPr>
              <a:xfrm rot="10800000">
                <a:off x="3942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Кольцо 118"/>
              <p:cNvSpPr/>
              <p:nvPr/>
            </p:nvSpPr>
            <p:spPr>
              <a:xfrm rot="10800000">
                <a:off x="3942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Кольцо 119"/>
              <p:cNvSpPr/>
              <p:nvPr/>
            </p:nvSpPr>
            <p:spPr>
              <a:xfrm rot="10800000">
                <a:off x="3942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Кольцо 120"/>
              <p:cNvSpPr/>
              <p:nvPr/>
            </p:nvSpPr>
            <p:spPr>
              <a:xfrm rot="10800000">
                <a:off x="3942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Кольцо 121"/>
              <p:cNvSpPr/>
              <p:nvPr/>
            </p:nvSpPr>
            <p:spPr>
              <a:xfrm rot="10800000">
                <a:off x="3942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Кольцо 122"/>
              <p:cNvSpPr/>
              <p:nvPr/>
            </p:nvSpPr>
            <p:spPr>
              <a:xfrm rot="10800000">
                <a:off x="3942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7" name="Группа 87"/>
            <p:cNvGrpSpPr/>
            <p:nvPr/>
          </p:nvGrpSpPr>
          <p:grpSpPr>
            <a:xfrm>
              <a:off x="3893760" y="4048920"/>
              <a:ext cx="347040" cy="425880"/>
              <a:chOff x="3893760" y="4048920"/>
              <a:chExt cx="347040" cy="425880"/>
            </a:xfrm>
          </p:grpSpPr>
          <p:sp>
            <p:nvSpPr>
              <p:cNvPr id="1208" name="Трапеция 114"/>
              <p:cNvSpPr/>
              <p:nvPr/>
            </p:nvSpPr>
            <p:spPr>
              <a:xfrm rot="11040000">
                <a:off x="3903480" y="4059360"/>
                <a:ext cx="316440" cy="289080"/>
              </a:xfrm>
              <a:custGeom>
                <a:avLst/>
                <a:gdLst/>
                <a:ahLst/>
                <a:rect l="l" t="t" r="r" b="b"/>
                <a:pathLst>
                  <a:path w="500063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6" y="0"/>
                    </a:lnTo>
                    <a:lnTo>
                      <a:pt x="500063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09" name="Кольцо 115" descr=""/>
              <p:cNvPicPr/>
              <p:nvPr/>
            </p:nvPicPr>
            <p:blipFill>
              <a:blip r:embed="rId14"/>
              <a:stretch/>
            </p:blipFill>
            <p:spPr>
              <a:xfrm rot="21599400">
                <a:off x="4024800" y="4236480"/>
                <a:ext cx="21600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Группа 90"/>
            <p:cNvGrpSpPr/>
            <p:nvPr/>
          </p:nvGrpSpPr>
          <p:grpSpPr>
            <a:xfrm>
              <a:off x="4678560" y="4551840"/>
              <a:ext cx="277920" cy="1538280"/>
              <a:chOff x="4678560" y="4551840"/>
              <a:chExt cx="277920" cy="1538280"/>
            </a:xfrm>
          </p:grpSpPr>
          <p:sp>
            <p:nvSpPr>
              <p:cNvPr id="1211" name="Скругленный прямоугольник 107"/>
              <p:cNvSpPr/>
              <p:nvPr/>
            </p:nvSpPr>
            <p:spPr>
              <a:xfrm rot="10800000">
                <a:off x="4678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Кольцо 108"/>
              <p:cNvSpPr/>
              <p:nvPr/>
            </p:nvSpPr>
            <p:spPr>
              <a:xfrm rot="10800000">
                <a:off x="4707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Кольцо 109"/>
              <p:cNvSpPr/>
              <p:nvPr/>
            </p:nvSpPr>
            <p:spPr>
              <a:xfrm rot="10800000">
                <a:off x="4707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Кольцо 110"/>
              <p:cNvSpPr/>
              <p:nvPr/>
            </p:nvSpPr>
            <p:spPr>
              <a:xfrm rot="10800000">
                <a:off x="4707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Кольцо 111"/>
              <p:cNvSpPr/>
              <p:nvPr/>
            </p:nvSpPr>
            <p:spPr>
              <a:xfrm rot="10800000">
                <a:off x="4707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Кольцо 112"/>
              <p:cNvSpPr/>
              <p:nvPr/>
            </p:nvSpPr>
            <p:spPr>
              <a:xfrm rot="10800000">
                <a:off x="4707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Кольцо 113"/>
              <p:cNvSpPr/>
              <p:nvPr/>
            </p:nvSpPr>
            <p:spPr>
              <a:xfrm rot="10800000">
                <a:off x="4707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18" name="Группа 5"/>
          <p:cNvGrpSpPr/>
          <p:nvPr/>
        </p:nvGrpSpPr>
        <p:grpSpPr>
          <a:xfrm>
            <a:off x="4816080" y="3142440"/>
            <a:ext cx="590760" cy="1206720"/>
            <a:chOff x="4816080" y="3142440"/>
            <a:chExt cx="590760" cy="1206720"/>
          </a:xfrm>
        </p:grpSpPr>
        <p:sp>
          <p:nvSpPr>
            <p:cNvPr id="1219" name="Скругленный прямоугольник 78"/>
            <p:cNvSpPr/>
            <p:nvPr/>
          </p:nvSpPr>
          <p:spPr>
            <a:xfrm rot="775800">
              <a:off x="4858920" y="39538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Полилиния 79"/>
            <p:cNvSpPr/>
            <p:nvPr/>
          </p:nvSpPr>
          <p:spPr>
            <a:xfrm rot="775800">
              <a:off x="4957200" y="3171240"/>
              <a:ext cx="35748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Группа 5"/>
          <p:cNvGrpSpPr/>
          <p:nvPr/>
        </p:nvGrpSpPr>
        <p:grpSpPr>
          <a:xfrm>
            <a:off x="3642480" y="3142800"/>
            <a:ext cx="472680" cy="1215720"/>
            <a:chOff x="3642480" y="3142800"/>
            <a:chExt cx="472680" cy="1215720"/>
          </a:xfrm>
        </p:grpSpPr>
        <p:sp>
          <p:nvSpPr>
            <p:cNvPr id="1222" name="Скругленный прямоугольник 126"/>
            <p:cNvSpPr/>
            <p:nvPr/>
          </p:nvSpPr>
          <p:spPr>
            <a:xfrm flipH="1" rot="21259200">
              <a:off x="4024080" y="3970800"/>
              <a:ext cx="71280" cy="3848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84840"/>
                <a:gd name="textAreaBottom" fmla="*/ 381600 h 384840"/>
              </a:gdLst>
              <a:ahLst/>
              <a:rect l="textAreaLeft" t="textAreaTop" r="textAreaRight" b="textAreaBottom"/>
              <a:pathLst>
                <a:path w="21600" h="116141">
                  <a:moveTo>
                    <a:pt x="3600" y="0"/>
                  </a:moveTo>
                  <a:arcTo wR="3600" hR="3600" stAng="16200000" swAng="-5400000"/>
                  <a:lnTo>
                    <a:pt x="0" y="112541"/>
                  </a:lnTo>
                  <a:arcTo wR="3600" hR="3600" stAng="10800000" swAng="-5400000"/>
                  <a:lnTo>
                    <a:pt x="18000" y="116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Полилиния 127"/>
            <p:cNvSpPr/>
            <p:nvPr/>
          </p:nvSpPr>
          <p:spPr>
            <a:xfrm flipH="1" rot="21259200">
              <a:off x="3683160" y="3158280"/>
              <a:ext cx="357480" cy="8474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4" name="Полилиния 86"/>
          <p:cNvSpPr/>
          <p:nvPr/>
        </p:nvSpPr>
        <p:spPr>
          <a:xfrm>
            <a:off x="5008680" y="949320"/>
            <a:ext cx="4127400" cy="3403440"/>
          </a:xfrm>
          <a:custGeom>
            <a:avLst/>
            <a:gdLst/>
            <a:ahLst/>
            <a:rect l="l" t="t" r="r" b="b"/>
            <a:pathLst>
              <a:path w="4127810" h="3402981">
                <a:moveTo>
                  <a:pt x="120805" y="2194932"/>
                </a:moveTo>
                <a:cubicBezTo>
                  <a:pt x="60402" y="1996998"/>
                  <a:pt x="0" y="1799064"/>
                  <a:pt x="109654" y="1782337"/>
                </a:cubicBezTo>
                <a:cubicBezTo>
                  <a:pt x="219308" y="1765610"/>
                  <a:pt x="581722" y="1891991"/>
                  <a:pt x="778727" y="2094571"/>
                </a:cubicBezTo>
                <a:cubicBezTo>
                  <a:pt x="975732" y="2297151"/>
                  <a:pt x="797312" y="2850996"/>
                  <a:pt x="1291683" y="2997820"/>
                </a:cubicBezTo>
                <a:cubicBezTo>
                  <a:pt x="1786054" y="3144644"/>
                  <a:pt x="3362092" y="3402981"/>
                  <a:pt x="3744951" y="2975517"/>
                </a:cubicBezTo>
                <a:cubicBezTo>
                  <a:pt x="4127810" y="2548053"/>
                  <a:pt x="3705922" y="866078"/>
                  <a:pt x="3588834" y="433039"/>
                </a:cubicBezTo>
                <a:cubicBezTo>
                  <a:pt x="3471746" y="0"/>
                  <a:pt x="3127917" y="295507"/>
                  <a:pt x="3042424" y="377283"/>
                </a:cubicBezTo>
                <a:cubicBezTo>
                  <a:pt x="2956931" y="459059"/>
                  <a:pt x="3016404" y="691376"/>
                  <a:pt x="3075878" y="923693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Управляющая кнопка: домой 99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Полилиния 129"/>
          <p:cNvSpPr/>
          <p:nvPr/>
        </p:nvSpPr>
        <p:spPr>
          <a:xfrm flipH="1" flipV="1" rot="20953800">
            <a:off x="2928240" y="5357520"/>
            <a:ext cx="3071880" cy="1357200"/>
          </a:xfrm>
          <a:custGeom>
            <a:avLst/>
            <a:gdLst/>
            <a:ahLst/>
            <a:rect l="l" t="t" r="r" b="b"/>
            <a:pathLst>
              <a:path w="2857017" h="1240421">
                <a:moveTo>
                  <a:pt x="2747058" y="1240421"/>
                </a:moveTo>
                <a:cubicBezTo>
                  <a:pt x="2800108" y="1054261"/>
                  <a:pt x="2853159" y="868101"/>
                  <a:pt x="2851230" y="707985"/>
                </a:cubicBezTo>
                <a:cubicBezTo>
                  <a:pt x="2849301" y="547869"/>
                  <a:pt x="2857017" y="362674"/>
                  <a:pt x="2735483" y="279722"/>
                </a:cubicBezTo>
                <a:cubicBezTo>
                  <a:pt x="2613949" y="196770"/>
                  <a:pt x="2122025" y="210274"/>
                  <a:pt x="2122025" y="210274"/>
                </a:cubicBezTo>
                <a:cubicBezTo>
                  <a:pt x="1772856" y="165904"/>
                  <a:pt x="978061" y="27008"/>
                  <a:pt x="640466" y="13504"/>
                </a:cubicBezTo>
                <a:cubicBezTo>
                  <a:pt x="302871" y="0"/>
                  <a:pt x="192912" y="5788"/>
                  <a:pt x="96456" y="129251"/>
                </a:cubicBezTo>
                <a:cubicBezTo>
                  <a:pt x="0" y="252714"/>
                  <a:pt x="30866" y="503499"/>
                  <a:pt x="61732" y="75428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7" name="Группа 5"/>
          <p:cNvGrpSpPr/>
          <p:nvPr/>
        </p:nvGrpSpPr>
        <p:grpSpPr>
          <a:xfrm>
            <a:off x="4728240" y="5518800"/>
            <a:ext cx="1219320" cy="403560"/>
            <a:chOff x="4728240" y="5518800"/>
            <a:chExt cx="1219320" cy="403560"/>
          </a:xfrm>
        </p:grpSpPr>
        <p:sp>
          <p:nvSpPr>
            <p:cNvPr id="1228" name="Скругленный прямоугольник 106"/>
            <p:cNvSpPr/>
            <p:nvPr/>
          </p:nvSpPr>
          <p:spPr>
            <a:xfrm rot="5585400">
              <a:off x="4890960" y="5402520"/>
              <a:ext cx="71280" cy="3938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3840"/>
                <a:gd name="textAreaBottom" fmla="*/ 390600 h 393840"/>
              </a:gdLst>
              <a:ahLst/>
              <a:rect l="textAreaLeft" t="textAreaTop" r="textAreaRight" b="textAreaBottom"/>
              <a:pathLst>
                <a:path w="21600" h="118854">
                  <a:moveTo>
                    <a:pt x="3600" y="0"/>
                  </a:moveTo>
                  <a:arcTo wR="3600" hR="3600" stAng="16200000" swAng="-5400000"/>
                  <a:lnTo>
                    <a:pt x="0" y="115254"/>
                  </a:lnTo>
                  <a:arcTo wR="3600" hR="3600" stAng="10800000" swAng="-5400000"/>
                  <a:lnTo>
                    <a:pt x="18000" y="11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Полилиния 125"/>
            <p:cNvSpPr/>
            <p:nvPr/>
          </p:nvSpPr>
          <p:spPr>
            <a:xfrm rot="5585400">
              <a:off x="5326920" y="5287320"/>
              <a:ext cx="357120" cy="86616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0" name="Группа 5"/>
          <p:cNvGrpSpPr/>
          <p:nvPr/>
        </p:nvGrpSpPr>
        <p:grpSpPr>
          <a:xfrm>
            <a:off x="2929320" y="5428800"/>
            <a:ext cx="1227960" cy="396000"/>
            <a:chOff x="2929320" y="5428800"/>
            <a:chExt cx="1227960" cy="396000"/>
          </a:xfrm>
        </p:grpSpPr>
        <p:sp>
          <p:nvSpPr>
            <p:cNvPr id="1231" name="Скругленный прямоугольник 103"/>
            <p:cNvSpPr/>
            <p:nvPr/>
          </p:nvSpPr>
          <p:spPr>
            <a:xfrm flipH="1" rot="16356600">
              <a:off x="3924000" y="5349240"/>
              <a:ext cx="71280" cy="39240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400"/>
                <a:gd name="textAreaBottom" fmla="*/ 389160 h 392400"/>
              </a:gdLst>
              <a:ahLst/>
              <a:rect l="textAreaLeft" t="textAreaTop" r="textAreaRight" b="textAreaBottom"/>
              <a:pathLst>
                <a:path w="21600" h="118420">
                  <a:moveTo>
                    <a:pt x="3600" y="0"/>
                  </a:moveTo>
                  <a:arcTo wR="3600" hR="3600" stAng="16200000" swAng="-5400000"/>
                  <a:lnTo>
                    <a:pt x="0" y="114820"/>
                  </a:lnTo>
                  <a:arcTo wR="3600" hR="3600" stAng="10800000" swAng="-5400000"/>
                  <a:lnTo>
                    <a:pt x="18000" y="1184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Полилиния 104"/>
            <p:cNvSpPr/>
            <p:nvPr/>
          </p:nvSpPr>
          <p:spPr>
            <a:xfrm flipH="1" rot="16356600">
              <a:off x="3189240" y="5195160"/>
              <a:ext cx="357120" cy="86256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Блок-схема: знак завершения 182"/>
          <p:cNvSpPr/>
          <p:nvPr/>
        </p:nvSpPr>
        <p:spPr>
          <a:xfrm>
            <a:off x="785880" y="3571920"/>
            <a:ext cx="2143080" cy="142920"/>
          </a:xfrm>
          <a:prstGeom prst="flowChartTerminator">
            <a:avLst/>
          </a:prstGeom>
          <a:solidFill>
            <a:srgbClr val="00b0f0"/>
          </a:solidFill>
          <a:ln w="381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4" name="Группа 8" descr=""/>
          <p:cNvPicPr/>
          <p:nvPr/>
        </p:nvPicPr>
        <p:blipFill>
          <a:blip r:embed="rId1"/>
          <a:stretch/>
        </p:blipFill>
        <p:spPr>
          <a:xfrm>
            <a:off x="-19080" y="3292560"/>
            <a:ext cx="2781360" cy="809640"/>
          </a:xfrm>
          <a:prstGeom prst="rect">
            <a:avLst/>
          </a:prstGeom>
          <a:ln w="0">
            <a:noFill/>
          </a:ln>
        </p:spPr>
      </p:pic>
      <p:sp>
        <p:nvSpPr>
          <p:cNvPr id="1235" name="Управляющая кнопка: домой 99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Прямоугольник 97" descr=""/>
          <p:cNvPicPr/>
          <p:nvPr/>
        </p:nvPicPr>
        <p:blipFill>
          <a:blip r:embed="rId2"/>
          <a:stretch/>
        </p:blipFill>
        <p:spPr>
          <a:xfrm>
            <a:off x="1494000" y="2682720"/>
            <a:ext cx="14619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237" name="Цилиндр 131"/>
          <p:cNvGrpSpPr/>
          <p:nvPr/>
        </p:nvGrpSpPr>
        <p:grpSpPr>
          <a:xfrm>
            <a:off x="1311120" y="3382920"/>
            <a:ext cx="2213280" cy="330120"/>
            <a:chOff x="1311120" y="3382920"/>
            <a:chExt cx="2213280" cy="330120"/>
          </a:xfrm>
        </p:grpSpPr>
        <p:pic>
          <p:nvPicPr>
            <p:cNvPr id="1238" name="Цилиндр 131" descr=""/>
            <p:cNvPicPr/>
            <p:nvPr/>
          </p:nvPicPr>
          <p:blipFill>
            <a:blip r:embed="rId3"/>
            <a:stretch/>
          </p:blipFill>
          <p:spPr>
            <a:xfrm>
              <a:off x="1311120" y="3382920"/>
              <a:ext cx="22132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 rot="16200000">
              <a:off x="2376360" y="2576160"/>
              <a:ext cx="9540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0" name="Цилиндр 132"/>
          <p:cNvGrpSpPr/>
          <p:nvPr/>
        </p:nvGrpSpPr>
        <p:grpSpPr>
          <a:xfrm>
            <a:off x="1384200" y="3316320"/>
            <a:ext cx="2266920" cy="274680"/>
            <a:chOff x="1384200" y="3316320"/>
            <a:chExt cx="2266920" cy="274680"/>
          </a:xfrm>
        </p:grpSpPr>
        <p:pic>
          <p:nvPicPr>
            <p:cNvPr id="1241" name="Цилиндр 132" descr=""/>
            <p:cNvPicPr/>
            <p:nvPr/>
          </p:nvPicPr>
          <p:blipFill>
            <a:blip r:embed="rId4"/>
            <a:stretch/>
          </p:blipFill>
          <p:spPr>
            <a:xfrm>
              <a:off x="1384200" y="3316320"/>
              <a:ext cx="22669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"/>
            <p:cNvSpPr/>
            <p:nvPr/>
          </p:nvSpPr>
          <p:spPr>
            <a:xfrm rot="16200000">
              <a:off x="2495520" y="2444760"/>
              <a:ext cx="4752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3" name="Цилиндр 133"/>
          <p:cNvGrpSpPr/>
          <p:nvPr/>
        </p:nvGrpSpPr>
        <p:grpSpPr>
          <a:xfrm>
            <a:off x="1809720" y="2955960"/>
            <a:ext cx="2268720" cy="280800"/>
            <a:chOff x="1809720" y="2955960"/>
            <a:chExt cx="2268720" cy="280800"/>
          </a:xfrm>
        </p:grpSpPr>
        <p:pic>
          <p:nvPicPr>
            <p:cNvPr id="1244" name="Цилиндр 133" descr=""/>
            <p:cNvPicPr/>
            <p:nvPr/>
          </p:nvPicPr>
          <p:blipFill>
            <a:blip r:embed="rId5"/>
            <a:stretch/>
          </p:blipFill>
          <p:spPr>
            <a:xfrm>
              <a:off x="1809720" y="2955960"/>
              <a:ext cx="226872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5" name=""/>
            <p:cNvSpPr/>
            <p:nvPr/>
          </p:nvSpPr>
          <p:spPr>
            <a:xfrm rot="16200000">
              <a:off x="2924280" y="2087640"/>
              <a:ext cx="4752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6" name="Скругленный прямоугольник 134"/>
          <p:cNvSpPr/>
          <p:nvPr/>
        </p:nvSpPr>
        <p:spPr>
          <a:xfrm>
            <a:off x="1357200" y="3143160"/>
            <a:ext cx="2143080" cy="2858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Скругленный прямоугольник 135"/>
          <p:cNvSpPr/>
          <p:nvPr/>
        </p:nvSpPr>
        <p:spPr>
          <a:xfrm>
            <a:off x="928800" y="3357720"/>
            <a:ext cx="1868400" cy="28548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8" name="Группа 138"/>
          <p:cNvGrpSpPr/>
          <p:nvPr/>
        </p:nvGrpSpPr>
        <p:grpSpPr>
          <a:xfrm>
            <a:off x="1357200" y="3499920"/>
            <a:ext cx="1812960" cy="95760"/>
            <a:chOff x="1357200" y="3499920"/>
            <a:chExt cx="1812960" cy="95760"/>
          </a:xfrm>
        </p:grpSpPr>
        <p:grpSp>
          <p:nvGrpSpPr>
            <p:cNvPr id="1249" name="Цилиндр 137"/>
            <p:cNvGrpSpPr/>
            <p:nvPr/>
          </p:nvGrpSpPr>
          <p:grpSpPr>
            <a:xfrm>
              <a:off x="1357200" y="3499920"/>
              <a:ext cx="1812960" cy="81360"/>
              <a:chOff x="1357200" y="3499920"/>
              <a:chExt cx="1812960" cy="81360"/>
            </a:xfrm>
          </p:grpSpPr>
          <p:pic>
            <p:nvPicPr>
              <p:cNvPr id="1250" name="Цилиндр 137" descr=""/>
              <p:cNvPicPr/>
              <p:nvPr/>
            </p:nvPicPr>
            <p:blipFill>
              <a:blip r:embed="rId8"/>
              <a:stretch/>
            </p:blipFill>
            <p:spPr>
              <a:xfrm>
                <a:off x="1357200" y="3499920"/>
                <a:ext cx="1812960" cy="8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"/>
              <p:cNvSpPr/>
              <p:nvPr/>
            </p:nvSpPr>
            <p:spPr>
              <a:xfrm rot="16200000">
                <a:off x="2258280" y="2743560"/>
                <a:ext cx="13680" cy="15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2" name="Цилиндр 136"/>
            <p:cNvGrpSpPr/>
            <p:nvPr/>
          </p:nvGrpSpPr>
          <p:grpSpPr>
            <a:xfrm>
              <a:off x="1438200" y="3500280"/>
              <a:ext cx="1688760" cy="95400"/>
              <a:chOff x="1438200" y="3500280"/>
              <a:chExt cx="1688760" cy="95400"/>
            </a:xfrm>
          </p:grpSpPr>
          <p:pic>
            <p:nvPicPr>
              <p:cNvPr id="1253" name="Цилиндр 136" descr=""/>
              <p:cNvPicPr/>
              <p:nvPr/>
            </p:nvPicPr>
            <p:blipFill>
              <a:blip r:embed="rId9"/>
              <a:stretch/>
            </p:blipFill>
            <p:spPr>
              <a:xfrm>
                <a:off x="1438200" y="3500280"/>
                <a:ext cx="1688760" cy="9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4" name=""/>
              <p:cNvSpPr/>
              <p:nvPr/>
            </p:nvSpPr>
            <p:spPr>
              <a:xfrm rot="16200000">
                <a:off x="2275200" y="2820600"/>
                <a:ext cx="27360" cy="14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55" name="Скругленный прямоугольник 139"/>
          <p:cNvGrpSpPr/>
          <p:nvPr/>
        </p:nvGrpSpPr>
        <p:grpSpPr>
          <a:xfrm>
            <a:off x="1584360" y="3303720"/>
            <a:ext cx="2073240" cy="493560"/>
            <a:chOff x="1584360" y="3303720"/>
            <a:chExt cx="2073240" cy="493560"/>
          </a:xfrm>
        </p:grpSpPr>
        <p:pic>
          <p:nvPicPr>
            <p:cNvPr id="1256" name="Скругленный прямоугольник 139" descr=""/>
            <p:cNvPicPr/>
            <p:nvPr/>
          </p:nvPicPr>
          <p:blipFill>
            <a:blip r:embed="rId10"/>
            <a:stretch/>
          </p:blipFill>
          <p:spPr>
            <a:xfrm>
              <a:off x="1584360" y="3303720"/>
              <a:ext cx="20732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1717560" y="3432240"/>
              <a:ext cx="18068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58" name="Группа 145" descr=""/>
          <p:cNvPicPr/>
          <p:nvPr/>
        </p:nvPicPr>
        <p:blipFill>
          <a:blip r:embed="rId11"/>
          <a:stretch/>
        </p:blipFill>
        <p:spPr>
          <a:xfrm>
            <a:off x="1847880" y="3060720"/>
            <a:ext cx="1395360" cy="663480"/>
          </a:xfrm>
          <a:prstGeom prst="rect">
            <a:avLst/>
          </a:prstGeom>
          <a:ln w="0">
            <a:noFill/>
          </a:ln>
        </p:spPr>
      </p:pic>
      <p:grpSp>
        <p:nvGrpSpPr>
          <p:cNvPr id="1259" name="Группа 154"/>
          <p:cNvGrpSpPr/>
          <p:nvPr/>
        </p:nvGrpSpPr>
        <p:grpSpPr>
          <a:xfrm>
            <a:off x="1857240" y="3286080"/>
            <a:ext cx="1833840" cy="324000"/>
            <a:chOff x="1857240" y="3286080"/>
            <a:chExt cx="1833840" cy="324000"/>
          </a:xfrm>
        </p:grpSpPr>
        <p:sp>
          <p:nvSpPr>
            <p:cNvPr id="1260" name="Скругленный прямоугольник 146"/>
            <p:cNvSpPr/>
            <p:nvPr/>
          </p:nvSpPr>
          <p:spPr>
            <a:xfrm rot="5400000">
              <a:off x="2612160" y="2531160"/>
              <a:ext cx="324000" cy="1833840"/>
            </a:xfrm>
            <a:custGeom>
              <a:avLst/>
              <a:gdLst>
                <a:gd name="textAreaLeft" fmla="*/ 27000 w 324000"/>
                <a:gd name="textAreaRight" fmla="*/ 297000 w 324000"/>
                <a:gd name="textAreaTop" fmla="*/ 27000 h 1833840"/>
                <a:gd name="textAreaBottom" fmla="*/ 1806840 h 1833840"/>
              </a:gdLst>
              <a:ahLst/>
              <a:rect l="textAreaLeft" t="textAreaTop" r="textAreaRight" b="textAreaBottom"/>
              <a:pathLst>
                <a:path w="21600" h="122144">
                  <a:moveTo>
                    <a:pt x="6160" y="0"/>
                  </a:moveTo>
                  <a:arcTo wR="6160" hR="6160" stAng="16200000" swAng="-5400000"/>
                  <a:lnTo>
                    <a:pt x="0" y="115984"/>
                  </a:lnTo>
                  <a:arcTo wR="6160" hR="6160" stAng="10800000" swAng="-5400000"/>
                  <a:lnTo>
                    <a:pt x="15440" y="122144"/>
                  </a:lnTo>
                  <a:arcTo wR="6160" hR="6160" stAng="5400000" swAng="-5400000"/>
                  <a:lnTo>
                    <a:pt x="21600" y="6160"/>
                  </a:lnTo>
                  <a:arcTo wR="6160" hR="6160" stAng="0" swAng="-5400000"/>
                  <a:close/>
                </a:path>
              </a:pathLst>
            </a:custGeom>
            <a:solidFill>
              <a:srgbClr val="7f7f7f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Овал 148"/>
            <p:cNvSpPr/>
            <p:nvPr/>
          </p:nvSpPr>
          <p:spPr>
            <a:xfrm rot="5400000">
              <a:off x="33861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Овал 149"/>
            <p:cNvSpPr/>
            <p:nvPr/>
          </p:nvSpPr>
          <p:spPr>
            <a:xfrm rot="5400000">
              <a:off x="306252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Овал 150"/>
            <p:cNvSpPr/>
            <p:nvPr/>
          </p:nvSpPr>
          <p:spPr>
            <a:xfrm rot="5400000">
              <a:off x="279252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Овал 151"/>
            <p:cNvSpPr/>
            <p:nvPr/>
          </p:nvSpPr>
          <p:spPr>
            <a:xfrm rot="5400000">
              <a:off x="25239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Овал 152"/>
            <p:cNvSpPr/>
            <p:nvPr/>
          </p:nvSpPr>
          <p:spPr>
            <a:xfrm rot="5400000">
              <a:off x="22539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Овал 153"/>
            <p:cNvSpPr/>
            <p:nvPr/>
          </p:nvSpPr>
          <p:spPr>
            <a:xfrm rot="5400000">
              <a:off x="1983960" y="3340080"/>
              <a:ext cx="216000" cy="215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7" name="Куб 156"/>
          <p:cNvSpPr/>
          <p:nvPr/>
        </p:nvSpPr>
        <p:spPr>
          <a:xfrm rot="16200000">
            <a:off x="2321640" y="2392560"/>
            <a:ext cx="214200" cy="2000160"/>
          </a:xfrm>
          <a:prstGeom prst="cube">
            <a:avLst>
              <a:gd name="adj" fmla="val 25000"/>
            </a:avLst>
          </a:prstGeom>
          <a:solidFill>
            <a:srgbClr val="7f7f7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8" name="Группа 36" descr=""/>
          <p:cNvPicPr/>
          <p:nvPr/>
        </p:nvPicPr>
        <p:blipFill>
          <a:blip r:embed="rId12"/>
          <a:stretch/>
        </p:blipFill>
        <p:spPr>
          <a:xfrm>
            <a:off x="1262160" y="3438360"/>
            <a:ext cx="2487600" cy="19548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3" descr=""/>
          <p:cNvPicPr/>
          <p:nvPr/>
        </p:nvPicPr>
        <p:blipFill>
          <a:blip r:embed="rId13">
            <a:lum contrast="40000"/>
          </a:blip>
          <a:stretch/>
        </p:blipFill>
        <p:spPr>
          <a:xfrm rot="10611000">
            <a:off x="1652040" y="3273480"/>
            <a:ext cx="2143080" cy="42840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9" descr="j0233729"/>
          <p:cNvPicPr/>
          <p:nvPr/>
        </p:nvPicPr>
        <p:blipFill>
          <a:blip r:embed="rId14"/>
          <a:stretch/>
        </p:blipFill>
        <p:spPr>
          <a:xfrm rot="391200">
            <a:off x="1595520" y="3279600"/>
            <a:ext cx="2430360" cy="571680"/>
          </a:xfrm>
          <a:prstGeom prst="rect">
            <a:avLst/>
          </a:prstGeom>
          <a:ln w="0">
            <a:noFill/>
          </a:ln>
        </p:spPr>
      </p:pic>
      <p:grpSp>
        <p:nvGrpSpPr>
          <p:cNvPr id="1271" name="Группа 9"/>
          <p:cNvGrpSpPr/>
          <p:nvPr/>
        </p:nvGrpSpPr>
        <p:grpSpPr>
          <a:xfrm>
            <a:off x="1857240" y="3429000"/>
            <a:ext cx="2063880" cy="163440"/>
            <a:chOff x="1857240" y="3429000"/>
            <a:chExt cx="2063880" cy="163440"/>
          </a:xfrm>
        </p:grpSpPr>
        <p:sp>
          <p:nvSpPr>
            <p:cNvPr id="1272" name="Полилиния 170"/>
            <p:cNvSpPr/>
            <p:nvPr/>
          </p:nvSpPr>
          <p:spPr>
            <a:xfrm rot="16200000">
              <a:off x="2490480" y="2795400"/>
              <a:ext cx="158760" cy="1425600"/>
            </a:xfrm>
            <a:custGeom>
              <a:avLst/>
              <a:gdLst/>
              <a:ahLst/>
              <a:rect l="l" t="t" r="r" b="b"/>
              <a:pathLst>
                <a:path w="544010" h="2870522">
                  <a:moveTo>
                    <a:pt x="0" y="2847372"/>
                  </a:moveTo>
                  <a:lnTo>
                    <a:pt x="196769" y="2604304"/>
                  </a:lnTo>
                  <a:lnTo>
                    <a:pt x="243068" y="2870522"/>
                  </a:lnTo>
                  <a:lnTo>
                    <a:pt x="416688" y="2615879"/>
                  </a:lnTo>
                  <a:lnTo>
                    <a:pt x="509286" y="2858947"/>
                  </a:lnTo>
                  <a:lnTo>
                    <a:pt x="544010" y="0"/>
                  </a:lnTo>
                  <a:lnTo>
                    <a:pt x="138896" y="0"/>
                  </a:lnTo>
                  <a:lnTo>
                    <a:pt x="0" y="284737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Полилиния 171"/>
            <p:cNvSpPr/>
            <p:nvPr/>
          </p:nvSpPr>
          <p:spPr>
            <a:xfrm rot="16200000">
              <a:off x="3455640" y="3149640"/>
              <a:ext cx="152640" cy="730080"/>
            </a:xfrm>
            <a:custGeom>
              <a:avLst/>
              <a:gdLst/>
              <a:ahLst/>
              <a:rect l="l" t="t" r="r" b="b"/>
              <a:pathLst>
                <a:path w="520861" h="1469985">
                  <a:moveTo>
                    <a:pt x="0" y="208344"/>
                  </a:moveTo>
                  <a:lnTo>
                    <a:pt x="92597" y="1469985"/>
                  </a:lnTo>
                  <a:lnTo>
                    <a:pt x="520861" y="185195"/>
                  </a:lnTo>
                  <a:lnTo>
                    <a:pt x="405114" y="0"/>
                  </a:lnTo>
                  <a:lnTo>
                    <a:pt x="254643" y="243068"/>
                  </a:lnTo>
                  <a:lnTo>
                    <a:pt x="185195" y="11575"/>
                  </a:lnTo>
                  <a:lnTo>
                    <a:pt x="0" y="208344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Полилиния 172"/>
            <p:cNvSpPr/>
            <p:nvPr/>
          </p:nvSpPr>
          <p:spPr>
            <a:xfrm rot="16200000">
              <a:off x="3736440" y="3407760"/>
              <a:ext cx="59760" cy="309600"/>
            </a:xfrm>
            <a:custGeom>
              <a:avLst/>
              <a:gdLst/>
              <a:ahLst/>
              <a:rect l="l" t="t" r="r" b="b"/>
              <a:pathLst>
                <a:path w="208345" h="625033">
                  <a:moveTo>
                    <a:pt x="0" y="57873"/>
                  </a:moveTo>
                  <a:lnTo>
                    <a:pt x="34724" y="625033"/>
                  </a:lnTo>
                  <a:lnTo>
                    <a:pt x="208345" y="46298"/>
                  </a:lnTo>
                  <a:lnTo>
                    <a:pt x="150471" y="34724"/>
                  </a:lnTo>
                  <a:lnTo>
                    <a:pt x="81023" y="0"/>
                  </a:lnTo>
                  <a:lnTo>
                    <a:pt x="0" y="5787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5" name="Прямая соединительная линия 101"/>
          <p:cNvSpPr/>
          <p:nvPr/>
        </p:nvSpPr>
        <p:spPr>
          <a:xfrm>
            <a:off x="928800" y="2428920"/>
            <a:ext cx="0" cy="64296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6" name="Группа 178"/>
          <p:cNvGrpSpPr/>
          <p:nvPr/>
        </p:nvGrpSpPr>
        <p:grpSpPr>
          <a:xfrm>
            <a:off x="285840" y="2428920"/>
            <a:ext cx="4000320" cy="1495440"/>
            <a:chOff x="285840" y="2428920"/>
            <a:chExt cx="4000320" cy="1495440"/>
          </a:xfrm>
        </p:grpSpPr>
        <p:grpSp>
          <p:nvGrpSpPr>
            <p:cNvPr id="1277" name="Куб 91"/>
            <p:cNvGrpSpPr/>
            <p:nvPr/>
          </p:nvGrpSpPr>
          <p:grpSpPr>
            <a:xfrm>
              <a:off x="285840" y="2428920"/>
              <a:ext cx="4000320" cy="1112400"/>
              <a:chOff x="285840" y="2428920"/>
              <a:chExt cx="4000320" cy="1112400"/>
            </a:xfrm>
          </p:grpSpPr>
          <p:pic>
            <p:nvPicPr>
              <p:cNvPr id="1278" name="Куб 91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5840" y="2428920"/>
                <a:ext cx="40003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9" name=""/>
              <p:cNvSpPr/>
              <p:nvPr/>
            </p:nvSpPr>
            <p:spPr>
              <a:xfrm>
                <a:off x="308880" y="2935080"/>
                <a:ext cx="3306960" cy="58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80" name="Прямоугольник 177" descr=""/>
            <p:cNvPicPr/>
            <p:nvPr/>
          </p:nvPicPr>
          <p:blipFill>
            <a:blip r:embed="rId16"/>
            <a:stretch/>
          </p:blipFill>
          <p:spPr>
            <a:xfrm>
              <a:off x="1392480" y="2725200"/>
              <a:ext cx="1359360" cy="119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1" name="Прямая соединительная линия 180"/>
          <p:cNvSpPr/>
          <p:nvPr/>
        </p:nvSpPr>
        <p:spPr>
          <a:xfrm>
            <a:off x="928800" y="2428920"/>
            <a:ext cx="0" cy="64296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2" name="Группа 105"/>
          <p:cNvGrpSpPr/>
          <p:nvPr/>
        </p:nvGrpSpPr>
        <p:grpSpPr>
          <a:xfrm>
            <a:off x="214200" y="2286000"/>
            <a:ext cx="4143600" cy="857160"/>
            <a:chOff x="214200" y="2286000"/>
            <a:chExt cx="4143600" cy="857160"/>
          </a:xfrm>
        </p:grpSpPr>
        <p:sp>
          <p:nvSpPr>
            <p:cNvPr id="1283" name="Куб 92"/>
            <p:cNvSpPr/>
            <p:nvPr/>
          </p:nvSpPr>
          <p:spPr>
            <a:xfrm>
              <a:off x="214200" y="2520720"/>
              <a:ext cx="4143600" cy="446400"/>
            </a:xfrm>
            <a:prstGeom prst="cube">
              <a:avLst>
                <a:gd name="adj" fmla="val 81805"/>
              </a:avLst>
            </a:prstGeom>
            <a:solidFill>
              <a:srgbClr val="9c9cdf"/>
            </a:solidFill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4" name="Прямоугольник 95" descr=""/>
            <p:cNvPicPr/>
            <p:nvPr/>
          </p:nvPicPr>
          <p:blipFill>
            <a:blip r:embed="rId17"/>
            <a:stretch/>
          </p:blipFill>
          <p:spPr>
            <a:xfrm>
              <a:off x="2163960" y="2286000"/>
              <a:ext cx="184716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5" name="Прямоугольник 183" descr=""/>
          <p:cNvPicPr/>
          <p:nvPr/>
        </p:nvPicPr>
        <p:blipFill>
          <a:blip r:embed="rId18"/>
          <a:stretch/>
        </p:blipFill>
        <p:spPr>
          <a:xfrm>
            <a:off x="-60480" y="-165240"/>
            <a:ext cx="4272120" cy="1920960"/>
          </a:xfrm>
          <a:prstGeom prst="rect">
            <a:avLst/>
          </a:prstGeom>
          <a:ln w="0">
            <a:noFill/>
          </a:ln>
        </p:spPr>
      </p:pic>
      <p:sp>
        <p:nvSpPr>
          <p:cNvPr id="1286" name="TextBox 184"/>
          <p:cNvSpPr/>
          <p:nvPr/>
        </p:nvSpPr>
        <p:spPr>
          <a:xfrm>
            <a:off x="0" y="428616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ь коробку и достать образцы для проверки электропровод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C 0.03143 -0.03796 0.06302 -0.07593 0.05834 -0.10741 C 0.05365 -0.13889 0.01285 -0.16389 -0.02778 -0.18889 E">
                                      <p:cBhvr>
                                        <p:cTn id="92" dur="2000" fill="hold"/>
                                        <p:tgtEl>
                                          <p:spTgt spid="1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7222 C -0.01181 -0.15254 -0.000350000000000003 -0.23148 0.04635 -0.28148 C 0.09306 -0.33101 0.16319 -0.33495 0.25747 -0.37013 C 0.35174 -0.40578 0.54219 -0.48148 0.61163 -0.49421 C 0.6809 -0.50694 0.67674 -0.47685 0.67274 -0.44606 E">
                                      <p:cBhvr>
                                        <p:cTn id="96" dur="2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2.22222E-006 C 0.00434 -0.09908 0.00886 -0.19815 0.05834 -0.25556 C 0.10782 -0.31297 0.21875 -0.31134 0.29723 -0.34445 C 0.3757 -0.37755 0.48108 -0.44838 0.52917 -0.45371 C 0.57726 -0.45903 0.5816 -0.41759 0.58612 -0.37593 E">
                                      <p:cBhvr>
                                        <p:cTn id="99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34 -0.00324 C 0.04548 -0.08241 0.0368 -0.16158 0.08351 -0.2088 C 0.13021 -0.25602 0.27239 -0.28681 0.33489 -0.28658 C 0.39739 -0.28634 0.43785 -0.22014 0.45851 -0.20695 E">
                                      <p:cBhvr>
                                        <p:cTn id="102" dur="2000" fill="hold"/>
                                        <p:tgtEl>
                                          <p:spTgt spid="1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C 0.10903 -0.15602 0.21823 -0.31158 0.29862 -0.33449 C 0.379 -0.35718 0.43039 -0.24699 0.48178 -0.13611 E">
                                      <p:cBhvr>
                                        <p:cTn id="105" dur="2000" fill="hold"/>
                                        <p:tgtEl>
                                          <p:spTgt spid="1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56 -0.0132 C -0.06493 -0.09561 -0.05312 -0.17778 -0.01267 -0.22431 C 0.02778 -0.27084 0.09896 -0.28912 0.16649 -0.29283 C 0.23403 -0.29653 0.34514 -0.27987 0.39288 -0.24653 C 0.44063 -0.2132 0.44653 -0.15301 0.45261 -0.09283 E">
                                      <p:cBhvr>
                                        <p:cTn id="108" dur="2000" fill="hold"/>
                                        <p:tgtEl>
                                          <p:spTgt spid="1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35 -0.00625 C -0.03906 -0.08796 -0.0316 -0.16944 0.00226 -0.21736 C 0.03611 -0.26528 0.09653 -0.28958 0.15642 -0.29329 C 0.21632 -0.29699 0.31146 -0.2794 0.36198 -0.23958 C 0.4125 -0.19977 0.44306 -0.08518 0.4592 -0.0544 E">
                                      <p:cBhvr>
                                        <p:cTn id="111" dur="2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0023 C 0.02275 -0.06412 0.02205 -0.12824 0.04566 -0.17569 C 0.06927 -0.22315 0.1125 -0.29051 0.16511 -0.28495 C 0.21771 -0.2794 0.31302 -0.19051 0.36094 -0.14236 C 0.40886 -0.09421 0.43733 -0.02037 0.45261 0.00394 E">
                                      <p:cBhvr>
                                        <p:cTn id="114" dur="2000" fill="hold"/>
                                        <p:tgtEl>
                                          <p:spTgt spid="1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4 -0.02709 C -0.03768 -0.10741 -0.03282 -0.1875 0.03941 -0.22523 C 0.11163 -0.26297 0.31145 -0.29746 0.39079 -0.25301 C 0.47013 -0.20857 0.49288 -0.08357 0.51579 0.04143 E">
                                      <p:cBhvr>
                                        <p:cTn id="117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2662 C 0.05017 -0.11042 0.0651 -0.19421 0.10885 -0.23032 C 0.1526 -0.26644 0.23507 -0.29514 0.29774 -0.24329 C 0.36041 -0.19144 0.42274 -0.05532 0.48524 0.08079 E">
                                      <p:cBhvr>
                                        <p:cTn id="120" dur="2000" fill="hold"/>
                                        <p:tgtEl>
                                          <p:spTgt spid="1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-0.00104 -0.07731 -0.00208 -0.1544 0.05001 -0.19259 C 0.10209 -0.23078 0.24566 -0.25347 0.31251 -0.22963 C 0.37935 -0.20578 0.42014 -0.11319 0.45139 -0.05 C 0.48264 0.0132 0.49185 0.11667 0.50001 0.15 E">
                                      <p:cBhvr>
                                        <p:cTn id="123" dur="2000" fill="hold"/>
                                        <p:tgtEl>
                                          <p:spTgt spid="1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C 0.01667 -0.09467 0.03351 -0.18912 0.08334 -0.22592 C 0.13316 -0.26273 0.23108 -0.29051 0.29861 -0.22037 C 0.36615 -0.15023 0.42743 0.02199 0.48889 0.19445 E">
                                      <p:cBhvr>
                                        <p:cTn id="126" dur="2000" fill="hold"/>
                                        <p:tgtEl>
                                          <p:spTgt spid="1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C -0.00747 -0.0743 -0.01476 -0.14838 0.04097 -0.17824 C 0.09687 -0.20787 0.26146 -0.25648 0.33576 -0.17824 C 0.41007 -0.09954 0.46111 0.21389 0.48663 0.29282 E">
                                      <p:cBhvr>
                                        <p:cTn id="129" dur="2000" fill="hold"/>
                                        <p:tgtEl>
                                          <p:spTgt spid="1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1 0.01527 C 0.03316 -0.0676 0.05712 -0.15047 0.11754 -0.17917 C 0.17796 -0.20787 0.29532 -0.2257 0.37171 -0.15695 C 0.4481 -0.0882 0.54879 0.14236 0.57587 0.23379 C 0.60296 0.32523 0.56858 0.3581 0.53421 0.3912 E">
                                      <p:cBhvr>
                                        <p:cTn id="132" dur="2000" fill="hold"/>
                                        <p:tgtEl>
                                          <p:spTgt spid="1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-0.0257 C -0.01857 -0.09676 -0.03177 -0.16783 -0.0026 -0.19838 C 0.02656 -0.22871 0.13941 -0.26945 0.16997 -0.20834 C 0.20052 -0.14722 0.19045 0.01088 0.18056 0.16898 E">
                                      <p:cBhvr>
                                        <p:cTn id="135" dur="2000" fill="hold"/>
                                        <p:tgtEl>
                                          <p:spTgt spid="1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01111 C -0.08993 -0.09629 -0.10504 -0.18148 -0.05521 -0.21273 C -0.00539 -0.24375 0.17847 -0.28148 0.22396 -0.19745 C 0.26944 -0.11342 0.24375 0.08913 0.21823 0.29213 E">
                                      <p:cBhvr>
                                        <p:cTn id="138" dur="2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073 -0.02825 C -0.11007 -0.12709 -0.08924 -0.2257 -0.04045 -0.26158 C 0.00833 -0.29746 0.12621 -0.34769 0.16233 -0.24306 C 0.19844 -0.13843 0.18733 0.11388 0.17621 0.3662 E">
                                      <p:cBhvr>
                                        <p:cTn id="141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7" name=""/>
          <p:cNvGraphicFramePr/>
          <p:nvPr/>
        </p:nvGraphicFramePr>
        <p:xfrm>
          <a:off x="1214280" y="571680"/>
          <a:ext cx="6405840" cy="5843520"/>
        </p:xfrm>
        <a:graphic>
          <a:graphicData uri="http://schemas.openxmlformats.org/drawingml/2006/table">
            <a:tbl>
              <a:tblPr/>
              <a:tblGrid>
                <a:gridCol w="3275280"/>
                <a:gridCol w="313056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ля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8" name=""/>
          <p:cNvGraphicFramePr/>
          <p:nvPr/>
        </p:nvGraphicFramePr>
        <p:xfrm>
          <a:off x="1177920" y="582480"/>
          <a:ext cx="6458040" cy="617760"/>
        </p:xfrm>
        <a:graphic>
          <a:graphicData uri="http://schemas.openxmlformats.org/drawingml/2006/table">
            <a:tbl>
              <a:tblPr/>
              <a:tblGrid>
                <a:gridCol w="6458040"/>
              </a:tblGrid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9" name="Прямоугольник 3"/>
          <p:cNvSpPr/>
          <p:nvPr/>
        </p:nvSpPr>
        <p:spPr>
          <a:xfrm>
            <a:off x="6410160" y="6357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6a6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Полилиния 128"/>
          <p:cNvSpPr/>
          <p:nvPr/>
        </p:nvSpPr>
        <p:spPr>
          <a:xfrm>
            <a:off x="2571840" y="1285920"/>
            <a:ext cx="1357200" cy="2071800"/>
          </a:xfrm>
          <a:custGeom>
            <a:avLst/>
            <a:gdLst/>
            <a:ahLst/>
            <a:rect l="l" t="t" r="r" b="b"/>
            <a:pathLst>
              <a:path w="1583474" h="1051932">
                <a:moveTo>
                  <a:pt x="178420" y="598449"/>
                </a:moveTo>
                <a:cubicBezTo>
                  <a:pt x="89210" y="391222"/>
                  <a:pt x="0" y="183995"/>
                  <a:pt x="44605" y="107795"/>
                </a:cubicBezTo>
                <a:cubicBezTo>
                  <a:pt x="89210" y="31595"/>
                  <a:pt x="312234" y="0"/>
                  <a:pt x="446049" y="141249"/>
                </a:cubicBezTo>
                <a:cubicBezTo>
                  <a:pt x="579864" y="282498"/>
                  <a:pt x="691376" y="858644"/>
                  <a:pt x="847493" y="955288"/>
                </a:cubicBezTo>
                <a:cubicBezTo>
                  <a:pt x="1003610" y="1051932"/>
                  <a:pt x="1260089" y="721112"/>
                  <a:pt x="1382752" y="721112"/>
                </a:cubicBezTo>
                <a:cubicBezTo>
                  <a:pt x="1505415" y="721112"/>
                  <a:pt x="1583474" y="955288"/>
                  <a:pt x="1583474" y="955288"/>
                </a:cubicBezTo>
                <a:lnTo>
                  <a:pt x="1583474" y="955288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Полилиния 94"/>
          <p:cNvSpPr/>
          <p:nvPr/>
        </p:nvSpPr>
        <p:spPr>
          <a:xfrm>
            <a:off x="4500720" y="0"/>
            <a:ext cx="2079360" cy="1771560"/>
          </a:xfrm>
          <a:custGeom>
            <a:avLst/>
            <a:gdLst/>
            <a:ahLst/>
            <a:rect l="l" t="t" r="r" b="b"/>
            <a:pathLst>
              <a:path w="2857017" h="1240421">
                <a:moveTo>
                  <a:pt x="2747058" y="1240421"/>
                </a:moveTo>
                <a:cubicBezTo>
                  <a:pt x="2800108" y="1054261"/>
                  <a:pt x="2853159" y="868101"/>
                  <a:pt x="2851230" y="707985"/>
                </a:cubicBezTo>
                <a:cubicBezTo>
                  <a:pt x="2849301" y="547869"/>
                  <a:pt x="2857017" y="362674"/>
                  <a:pt x="2735483" y="279722"/>
                </a:cubicBezTo>
                <a:cubicBezTo>
                  <a:pt x="2613949" y="196770"/>
                  <a:pt x="2122025" y="210274"/>
                  <a:pt x="2122025" y="210274"/>
                </a:cubicBezTo>
                <a:cubicBezTo>
                  <a:pt x="1772856" y="165904"/>
                  <a:pt x="978061" y="27008"/>
                  <a:pt x="640466" y="13504"/>
                </a:cubicBezTo>
                <a:cubicBezTo>
                  <a:pt x="302871" y="0"/>
                  <a:pt x="192912" y="5788"/>
                  <a:pt x="96456" y="129251"/>
                </a:cubicBezTo>
                <a:cubicBezTo>
                  <a:pt x="0" y="252714"/>
                  <a:pt x="30866" y="503499"/>
                  <a:pt x="61732" y="754284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Полилиния 90"/>
          <p:cNvSpPr/>
          <p:nvPr/>
        </p:nvSpPr>
        <p:spPr>
          <a:xfrm>
            <a:off x="500040" y="214200"/>
            <a:ext cx="3571920" cy="2000520"/>
          </a:xfrm>
          <a:custGeom>
            <a:avLst/>
            <a:gdLst/>
            <a:ahLst/>
            <a:rect l="l" t="t" r="r" b="b"/>
            <a:pathLst>
              <a:path w="2926465" h="4060785">
                <a:moveTo>
                  <a:pt x="2766349" y="530506"/>
                </a:moveTo>
                <a:cubicBezTo>
                  <a:pt x="2846407" y="286473"/>
                  <a:pt x="2926465" y="42440"/>
                  <a:pt x="2812647" y="21220"/>
                </a:cubicBezTo>
                <a:cubicBezTo>
                  <a:pt x="2698829" y="0"/>
                  <a:pt x="2380526" y="50157"/>
                  <a:pt x="2083442" y="403185"/>
                </a:cubicBezTo>
                <a:cubicBezTo>
                  <a:pt x="1786359" y="756213"/>
                  <a:pt x="1354237" y="1726557"/>
                  <a:pt x="1030146" y="2139387"/>
                </a:cubicBezTo>
                <a:cubicBezTo>
                  <a:pt x="706055" y="2552217"/>
                  <a:pt x="277792" y="2559934"/>
                  <a:pt x="138896" y="2880167"/>
                </a:cubicBezTo>
                <a:cubicBezTo>
                  <a:pt x="0" y="3200400"/>
                  <a:pt x="98384" y="3630592"/>
                  <a:pt x="196769" y="406078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3" name="Багетная рамка 2"/>
          <p:cNvGrpSpPr/>
          <p:nvPr/>
        </p:nvGrpSpPr>
        <p:grpSpPr>
          <a:xfrm>
            <a:off x="365040" y="2657520"/>
            <a:ext cx="2408400" cy="1073160"/>
            <a:chOff x="365040" y="2657520"/>
            <a:chExt cx="2408400" cy="1073160"/>
          </a:xfrm>
        </p:grpSpPr>
        <p:pic>
          <p:nvPicPr>
            <p:cNvPr id="1294" name="Багетная рамка 2" descr=""/>
            <p:cNvPicPr/>
            <p:nvPr/>
          </p:nvPicPr>
          <p:blipFill>
            <a:blip r:embed="rId1"/>
            <a:stretch/>
          </p:blipFill>
          <p:spPr>
            <a:xfrm>
              <a:off x="365040" y="2657520"/>
              <a:ext cx="24084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547560" y="2806560"/>
              <a:ext cx="204804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96" name="Picture 12" descr="j0404041"/>
          <p:cNvPicPr/>
          <p:nvPr/>
        </p:nvPicPr>
        <p:blipFill>
          <a:blip r:embed="rId2"/>
          <a:stretch/>
        </p:blipFill>
        <p:spPr>
          <a:xfrm rot="19284000">
            <a:off x="1277640" y="2142720"/>
            <a:ext cx="595080" cy="711360"/>
          </a:xfrm>
          <a:prstGeom prst="rect">
            <a:avLst/>
          </a:prstGeom>
          <a:ln w="0">
            <a:noFill/>
          </a:ln>
        </p:spPr>
      </p:pic>
      <p:pic>
        <p:nvPicPr>
          <p:cNvPr id="1297" name="Группа 37" descr=""/>
          <p:cNvPicPr/>
          <p:nvPr/>
        </p:nvPicPr>
        <p:blipFill>
          <a:blip r:embed="rId3"/>
          <a:stretch/>
        </p:blipFill>
        <p:spPr>
          <a:xfrm>
            <a:off x="517680" y="2762280"/>
            <a:ext cx="2109600" cy="596880"/>
          </a:xfrm>
          <a:prstGeom prst="rect">
            <a:avLst/>
          </a:prstGeom>
          <a:ln w="0">
            <a:noFill/>
          </a:ln>
        </p:spPr>
      </p:pic>
      <p:sp>
        <p:nvSpPr>
          <p:cNvPr id="1298" name="Плюс 5"/>
          <p:cNvSpPr/>
          <p:nvPr/>
        </p:nvSpPr>
        <p:spPr>
          <a:xfrm>
            <a:off x="2000160" y="2786040"/>
            <a:ext cx="347760" cy="301680"/>
          </a:xfrm>
          <a:custGeom>
            <a:avLst/>
            <a:gdLst/>
            <a:ahLst/>
            <a:rect l="l" t="t" r="r" b="b"/>
            <a:pathLst>
              <a:path w="347663" h="301625">
                <a:moveTo>
                  <a:pt x="46083" y="115341"/>
                </a:moveTo>
                <a:lnTo>
                  <a:pt x="138360" y="115341"/>
                </a:lnTo>
                <a:lnTo>
                  <a:pt x="138360" y="39980"/>
                </a:lnTo>
                <a:lnTo>
                  <a:pt x="209303" y="39980"/>
                </a:lnTo>
                <a:lnTo>
                  <a:pt x="209303" y="115341"/>
                </a:lnTo>
                <a:lnTo>
                  <a:pt x="301580" y="115341"/>
                </a:lnTo>
                <a:lnTo>
                  <a:pt x="301580" y="186284"/>
                </a:lnTo>
                <a:lnTo>
                  <a:pt x="209303" y="186284"/>
                </a:lnTo>
                <a:lnTo>
                  <a:pt x="209303" y="261645"/>
                </a:lnTo>
                <a:lnTo>
                  <a:pt x="138360" y="261645"/>
                </a:lnTo>
                <a:lnTo>
                  <a:pt x="138360" y="186284"/>
                </a:lnTo>
                <a:lnTo>
                  <a:pt x="46083" y="186284"/>
                </a:lnTo>
                <a:lnTo>
                  <a:pt x="46083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Минус 6"/>
          <p:cNvSpPr/>
          <p:nvPr/>
        </p:nvSpPr>
        <p:spPr>
          <a:xfrm>
            <a:off x="857160" y="2786040"/>
            <a:ext cx="297000" cy="301680"/>
          </a:xfrm>
          <a:custGeom>
            <a:avLst/>
            <a:gdLst/>
            <a:ahLst/>
            <a:rect l="l" t="t" r="r" b="b"/>
            <a:pathLst>
              <a:path w="296863" h="301625">
                <a:moveTo>
                  <a:pt x="39349" y="115341"/>
                </a:moveTo>
                <a:lnTo>
                  <a:pt x="257514" y="115341"/>
                </a:lnTo>
                <a:lnTo>
                  <a:pt x="257514" y="186284"/>
                </a:lnTo>
                <a:lnTo>
                  <a:pt x="39349" y="186284"/>
                </a:lnTo>
                <a:lnTo>
                  <a:pt x="39349" y="11534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Группа 54"/>
          <p:cNvGrpSpPr/>
          <p:nvPr/>
        </p:nvGrpSpPr>
        <p:grpSpPr>
          <a:xfrm>
            <a:off x="4049280" y="360"/>
            <a:ext cx="2117880" cy="2213640"/>
            <a:chOff x="4049280" y="360"/>
            <a:chExt cx="2117880" cy="2213640"/>
          </a:xfrm>
        </p:grpSpPr>
        <p:sp>
          <p:nvSpPr>
            <p:cNvPr id="1301" name="Полилиния 39"/>
            <p:cNvSpPr/>
            <p:nvPr/>
          </p:nvSpPr>
          <p:spPr>
            <a:xfrm rot="5247000">
              <a:off x="4083120" y="124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Полилиния 40"/>
            <p:cNvSpPr/>
            <p:nvPr/>
          </p:nvSpPr>
          <p:spPr>
            <a:xfrm rot="5247000">
              <a:off x="4013280" y="133560"/>
              <a:ext cx="2119680" cy="1955520"/>
            </a:xfrm>
            <a:custGeom>
              <a:avLst/>
              <a:gdLst/>
              <a:ahLst/>
              <a:rect l="l" t="t" r="r" b="b"/>
              <a:pathLst>
                <a:path w="1018572" h="1770927">
                  <a:moveTo>
                    <a:pt x="1018572" y="1770927"/>
                  </a:moveTo>
                  <a:cubicBezTo>
                    <a:pt x="998316" y="1651322"/>
                    <a:pt x="978060" y="1531717"/>
                    <a:pt x="937549" y="1469985"/>
                  </a:cubicBezTo>
                  <a:cubicBezTo>
                    <a:pt x="897038" y="1408253"/>
                    <a:pt x="829519" y="1446836"/>
                    <a:pt x="775504" y="1400537"/>
                  </a:cubicBezTo>
                  <a:cubicBezTo>
                    <a:pt x="721489" y="1354238"/>
                    <a:pt x="667473" y="1255853"/>
                    <a:pt x="613458" y="1192192"/>
                  </a:cubicBezTo>
                  <a:cubicBezTo>
                    <a:pt x="559443" y="1128531"/>
                    <a:pt x="484208" y="1093807"/>
                    <a:pt x="451413" y="1018572"/>
                  </a:cubicBezTo>
                  <a:cubicBezTo>
                    <a:pt x="418618" y="943337"/>
                    <a:pt x="435980" y="800582"/>
                    <a:pt x="416689" y="740780"/>
                  </a:cubicBezTo>
                  <a:cubicBezTo>
                    <a:pt x="397398" y="680978"/>
                    <a:pt x="354957" y="698339"/>
                    <a:pt x="335666" y="659757"/>
                  </a:cubicBezTo>
                  <a:cubicBezTo>
                    <a:pt x="316375" y="621175"/>
                    <a:pt x="331808" y="563301"/>
                    <a:pt x="300942" y="509286"/>
                  </a:cubicBezTo>
                  <a:cubicBezTo>
                    <a:pt x="270076" y="455271"/>
                    <a:pt x="181337" y="383894"/>
                    <a:pt x="150471" y="335666"/>
                  </a:cubicBezTo>
                  <a:cubicBezTo>
                    <a:pt x="119605" y="287438"/>
                    <a:pt x="115747" y="219919"/>
                    <a:pt x="115747" y="219919"/>
                  </a:cubicBezTo>
                  <a:cubicBezTo>
                    <a:pt x="104172" y="181337"/>
                    <a:pt x="100314" y="140825"/>
                    <a:pt x="81023" y="104172"/>
                  </a:cubicBezTo>
                  <a:cubicBezTo>
                    <a:pt x="61732" y="67519"/>
                    <a:pt x="0" y="0"/>
                    <a:pt x="0" y="0"/>
                  </a:cubicBez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b05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3" name="Куб 42"/>
          <p:cNvGrpSpPr/>
          <p:nvPr/>
        </p:nvGrpSpPr>
        <p:grpSpPr>
          <a:xfrm>
            <a:off x="3133800" y="1060560"/>
            <a:ext cx="2309760" cy="1238040"/>
            <a:chOff x="3133800" y="1060560"/>
            <a:chExt cx="2309760" cy="1238040"/>
          </a:xfrm>
        </p:grpSpPr>
        <p:pic>
          <p:nvPicPr>
            <p:cNvPr id="1304" name="Куб 42" descr=""/>
            <p:cNvPicPr/>
            <p:nvPr/>
          </p:nvPicPr>
          <p:blipFill>
            <a:blip r:embed="rId4"/>
            <a:stretch/>
          </p:blipFill>
          <p:spPr>
            <a:xfrm>
              <a:off x="3133800" y="1060560"/>
              <a:ext cx="230976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"/>
            <p:cNvSpPr/>
            <p:nvPr/>
          </p:nvSpPr>
          <p:spPr>
            <a:xfrm>
              <a:off x="3143160" y="1630440"/>
              <a:ext cx="1727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6" name="Кольцо 43" descr=""/>
          <p:cNvPicPr/>
          <p:nvPr/>
        </p:nvPicPr>
        <p:blipFill>
          <a:blip r:embed="rId5"/>
          <a:stretch/>
        </p:blipFill>
        <p:spPr>
          <a:xfrm>
            <a:off x="3517920" y="1047600"/>
            <a:ext cx="14922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07" name="Кольцо 44"/>
          <p:cNvGrpSpPr/>
          <p:nvPr/>
        </p:nvGrpSpPr>
        <p:grpSpPr>
          <a:xfrm>
            <a:off x="4211640" y="1127160"/>
            <a:ext cx="585720" cy="525600"/>
            <a:chOff x="4211640" y="1127160"/>
            <a:chExt cx="585720" cy="525600"/>
          </a:xfrm>
        </p:grpSpPr>
        <p:pic>
          <p:nvPicPr>
            <p:cNvPr id="1308" name="Кольцо 44" descr=""/>
            <p:cNvPicPr/>
            <p:nvPr/>
          </p:nvPicPr>
          <p:blipFill>
            <a:blip r:embed="rId6"/>
            <a:stretch/>
          </p:blipFill>
          <p:spPr>
            <a:xfrm>
              <a:off x="4211640" y="1127160"/>
              <a:ext cx="58572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4414680" y="1281240"/>
              <a:ext cx="17496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0" name="Кольцо 45"/>
          <p:cNvGrpSpPr/>
          <p:nvPr/>
        </p:nvGrpSpPr>
        <p:grpSpPr>
          <a:xfrm>
            <a:off x="3718080" y="1189080"/>
            <a:ext cx="585720" cy="523800"/>
            <a:chOff x="3718080" y="1189080"/>
            <a:chExt cx="585720" cy="523800"/>
          </a:xfrm>
        </p:grpSpPr>
        <p:pic>
          <p:nvPicPr>
            <p:cNvPr id="1311" name="Кольцо 45" descr=""/>
            <p:cNvPicPr/>
            <p:nvPr/>
          </p:nvPicPr>
          <p:blipFill>
            <a:blip r:embed="rId7"/>
            <a:stretch/>
          </p:blipFill>
          <p:spPr>
            <a:xfrm>
              <a:off x="3718080" y="1189080"/>
              <a:ext cx="5857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3921120" y="1341360"/>
              <a:ext cx="17460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Плюс 46"/>
          <p:cNvSpPr/>
          <p:nvPr/>
        </p:nvSpPr>
        <p:spPr>
          <a:xfrm>
            <a:off x="3357720" y="1357200"/>
            <a:ext cx="247320" cy="303480"/>
          </a:xfrm>
          <a:custGeom>
            <a:avLst/>
            <a:gdLst/>
            <a:ahLst/>
            <a:rect l="l" t="t" r="r" b="b"/>
            <a:pathLst>
              <a:path w="247650" h="303212">
                <a:moveTo>
                  <a:pt x="32826" y="122482"/>
                </a:moveTo>
                <a:lnTo>
                  <a:pt x="94701" y="122482"/>
                </a:lnTo>
                <a:lnTo>
                  <a:pt x="94701" y="40191"/>
                </a:lnTo>
                <a:lnTo>
                  <a:pt x="152949" y="40191"/>
                </a:lnTo>
                <a:lnTo>
                  <a:pt x="152949" y="122482"/>
                </a:lnTo>
                <a:lnTo>
                  <a:pt x="214824" y="122482"/>
                </a:lnTo>
                <a:lnTo>
                  <a:pt x="214824" y="180730"/>
                </a:lnTo>
                <a:lnTo>
                  <a:pt x="152949" y="180730"/>
                </a:lnTo>
                <a:lnTo>
                  <a:pt x="152949" y="263021"/>
                </a:lnTo>
                <a:lnTo>
                  <a:pt x="94701" y="263021"/>
                </a:lnTo>
                <a:lnTo>
                  <a:pt x="94701" y="180730"/>
                </a:lnTo>
                <a:lnTo>
                  <a:pt x="32826" y="180730"/>
                </a:lnTo>
                <a:lnTo>
                  <a:pt x="32826" y="12248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Минус 47"/>
          <p:cNvSpPr/>
          <p:nvPr/>
        </p:nvSpPr>
        <p:spPr>
          <a:xfrm>
            <a:off x="4929120" y="1071720"/>
            <a:ext cx="309600" cy="242640"/>
          </a:xfrm>
          <a:custGeom>
            <a:avLst/>
            <a:gdLst/>
            <a:ahLst/>
            <a:rect l="l" t="t" r="r" b="b"/>
            <a:pathLst>
              <a:path w="309562" h="242887">
                <a:moveTo>
                  <a:pt x="41032" y="92880"/>
                </a:moveTo>
                <a:lnTo>
                  <a:pt x="268530" y="92880"/>
                </a:lnTo>
                <a:lnTo>
                  <a:pt x="268530" y="150007"/>
                </a:lnTo>
                <a:lnTo>
                  <a:pt x="41032" y="150007"/>
                </a:lnTo>
                <a:lnTo>
                  <a:pt x="41032" y="928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5" name="Группа 14"/>
          <p:cNvGrpSpPr/>
          <p:nvPr/>
        </p:nvGrpSpPr>
        <p:grpSpPr>
          <a:xfrm>
            <a:off x="6215040" y="2176920"/>
            <a:ext cx="2286000" cy="1285560"/>
            <a:chOff x="6215040" y="2176920"/>
            <a:chExt cx="2286000" cy="1285560"/>
          </a:xfrm>
        </p:grpSpPr>
        <p:grpSp>
          <p:nvGrpSpPr>
            <p:cNvPr id="1316" name="Багетная рамка 52"/>
            <p:cNvGrpSpPr/>
            <p:nvPr/>
          </p:nvGrpSpPr>
          <p:grpSpPr>
            <a:xfrm>
              <a:off x="6215040" y="2458440"/>
              <a:ext cx="2286000" cy="1004040"/>
              <a:chOff x="6215040" y="2458440"/>
              <a:chExt cx="2286000" cy="1004040"/>
            </a:xfrm>
          </p:grpSpPr>
          <p:pic>
            <p:nvPicPr>
              <p:cNvPr id="1317" name="Багетная рамка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6215040" y="2458440"/>
                <a:ext cx="22860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>
                <a:off x="6383520" y="2599560"/>
                <a:ext cx="19436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9" name="Кольцо 2"/>
            <p:cNvSpPr/>
            <p:nvPr/>
          </p:nvSpPr>
          <p:spPr>
            <a:xfrm>
              <a:off x="7898040" y="2822400"/>
              <a:ext cx="271080" cy="267480"/>
            </a:xfrm>
            <a:custGeom>
              <a:avLst/>
              <a:gdLst/>
              <a:ahLst/>
              <a:rect l="l" t="t" r="r" b="b"/>
              <a:pathLst>
                <a:path w="285752" h="285901">
                  <a:moveTo>
                    <a:pt x="0" y="142951"/>
                  </a:moveTo>
                  <a:cubicBezTo>
                    <a:pt x="0" y="64001"/>
                    <a:pt x="63968" y="0"/>
                    <a:pt x="142876" y="0"/>
                  </a:cubicBezTo>
                  <a:cubicBezTo>
                    <a:pt x="221784" y="0"/>
                    <a:pt x="285752" y="64001"/>
                    <a:pt x="285752" y="142951"/>
                  </a:cubicBezTo>
                  <a:cubicBezTo>
                    <a:pt x="285752" y="221901"/>
                    <a:pt x="221784" y="285902"/>
                    <a:pt x="142876" y="285902"/>
                  </a:cubicBezTo>
                  <a:cubicBezTo>
                    <a:pt x="63968" y="285902"/>
                    <a:pt x="0" y="221901"/>
                    <a:pt x="0" y="142951"/>
                  </a:cubicBezTo>
                  <a:close/>
                  <a:moveTo>
                    <a:pt x="71438" y="142951"/>
                  </a:moveTo>
                  <a:cubicBezTo>
                    <a:pt x="71438" y="182447"/>
                    <a:pt x="103422" y="214464"/>
                    <a:pt x="142876" y="214464"/>
                  </a:cubicBezTo>
                  <a:cubicBezTo>
                    <a:pt x="182330" y="214464"/>
                    <a:pt x="214314" y="182447"/>
                    <a:pt x="214314" y="142951"/>
                  </a:cubicBezTo>
                  <a:cubicBezTo>
                    <a:pt x="214314" y="103455"/>
                    <a:pt x="182330" y="71438"/>
                    <a:pt x="142876" y="71438"/>
                  </a:cubicBezTo>
                  <a:cubicBezTo>
                    <a:pt x="103422" y="71438"/>
                    <a:pt x="71438" y="103455"/>
                    <a:pt x="71438" y="142951"/>
                  </a:cubicBez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Фигура, имеющая форму буквы L 3"/>
            <p:cNvSpPr/>
            <p:nvPr/>
          </p:nvSpPr>
          <p:spPr>
            <a:xfrm rot="857400">
              <a:off x="6752520" y="2613960"/>
              <a:ext cx="1257120" cy="218160"/>
            </a:xfrm>
            <a:custGeom>
              <a:avLst/>
              <a:gdLst/>
              <a:ahLst/>
              <a:rect l="l" t="t" r="r" b="b"/>
              <a:pathLst>
                <a:path w="1323984" h="233486">
                  <a:moveTo>
                    <a:pt x="0" y="0"/>
                  </a:moveTo>
                  <a:lnTo>
                    <a:pt x="123047" y="0"/>
                  </a:lnTo>
                  <a:lnTo>
                    <a:pt x="123047" y="129354"/>
                  </a:lnTo>
                  <a:lnTo>
                    <a:pt x="1323984" y="129354"/>
                  </a:lnTo>
                  <a:lnTo>
                    <a:pt x="1323984" y="233486"/>
                  </a:lnTo>
                  <a:lnTo>
                    <a:pt x="0" y="233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Трапеция 4"/>
            <p:cNvSpPr/>
            <p:nvPr/>
          </p:nvSpPr>
          <p:spPr>
            <a:xfrm rot="11657400">
              <a:off x="6730920" y="2215800"/>
              <a:ext cx="351000" cy="271800"/>
            </a:xfrm>
            <a:custGeom>
              <a:avLst/>
              <a:gdLst/>
              <a:ahLst/>
              <a:rect l="l" t="t" r="r" b="b"/>
              <a:pathLst>
                <a:path w="369890" h="290666">
                  <a:moveTo>
                    <a:pt x="0" y="290666"/>
                  </a:moveTo>
                  <a:lnTo>
                    <a:pt x="72667" y="0"/>
                  </a:lnTo>
                  <a:lnTo>
                    <a:pt x="297224" y="0"/>
                  </a:lnTo>
                  <a:lnTo>
                    <a:pt x="369890" y="290666"/>
                  </a:lnTo>
                  <a:lnTo>
                    <a:pt x="0" y="290666"/>
                  </a:lnTo>
                  <a:close/>
                </a:path>
              </a:pathLst>
            </a:custGeom>
            <a:solidFill>
              <a:srgbClr val="6b6bc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22" name="Группа 13" descr=""/>
            <p:cNvPicPr/>
            <p:nvPr/>
          </p:nvPicPr>
          <p:blipFill>
            <a:blip r:embed="rId9"/>
            <a:stretch/>
          </p:blipFill>
          <p:spPr>
            <a:xfrm>
              <a:off x="6394320" y="2811960"/>
              <a:ext cx="567000" cy="22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3" name="Плюс 50"/>
          <p:cNvSpPr/>
          <p:nvPr/>
        </p:nvSpPr>
        <p:spPr>
          <a:xfrm>
            <a:off x="6357960" y="3071880"/>
            <a:ext cx="35712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144989" y="109271"/>
                </a:lnTo>
                <a:lnTo>
                  <a:pt x="144989" y="37876"/>
                </a:lnTo>
                <a:lnTo>
                  <a:pt x="212198" y="37876"/>
                </a:lnTo>
                <a:lnTo>
                  <a:pt x="212198" y="109271"/>
                </a:lnTo>
                <a:lnTo>
                  <a:pt x="309842" y="109271"/>
                </a:lnTo>
                <a:lnTo>
                  <a:pt x="309842" y="176479"/>
                </a:lnTo>
                <a:lnTo>
                  <a:pt x="212198" y="176479"/>
                </a:lnTo>
                <a:lnTo>
                  <a:pt x="212198" y="247874"/>
                </a:lnTo>
                <a:lnTo>
                  <a:pt x="144989" y="247874"/>
                </a:lnTo>
                <a:lnTo>
                  <a:pt x="144989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Минус 51"/>
          <p:cNvSpPr/>
          <p:nvPr/>
        </p:nvSpPr>
        <p:spPr>
          <a:xfrm>
            <a:off x="8072280" y="2571840"/>
            <a:ext cx="357480" cy="285840"/>
          </a:xfrm>
          <a:custGeom>
            <a:avLst/>
            <a:gdLst/>
            <a:ahLst/>
            <a:rect l="l" t="t" r="r" b="b"/>
            <a:pathLst>
              <a:path w="357187" h="285750">
                <a:moveTo>
                  <a:pt x="47345" y="109271"/>
                </a:moveTo>
                <a:lnTo>
                  <a:pt x="309842" y="109271"/>
                </a:lnTo>
                <a:lnTo>
                  <a:pt x="309842" y="176479"/>
                </a:lnTo>
                <a:lnTo>
                  <a:pt x="47345" y="176479"/>
                </a:lnTo>
                <a:lnTo>
                  <a:pt x="47345" y="1092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5" name="Группа 5"/>
          <p:cNvGrpSpPr/>
          <p:nvPr/>
        </p:nvGrpSpPr>
        <p:grpSpPr>
          <a:xfrm>
            <a:off x="6215040" y="1785960"/>
            <a:ext cx="357120" cy="1214280"/>
            <a:chOff x="6215040" y="1785960"/>
            <a:chExt cx="357120" cy="1214280"/>
          </a:xfrm>
        </p:grpSpPr>
        <p:sp>
          <p:nvSpPr>
            <p:cNvPr id="1326" name="Скругленный прямоугольник 60"/>
            <p:cNvSpPr/>
            <p:nvPr/>
          </p:nvSpPr>
          <p:spPr>
            <a:xfrm flipH="1">
              <a:off x="6465960" y="260820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Полилиния 61"/>
            <p:cNvSpPr/>
            <p:nvPr/>
          </p:nvSpPr>
          <p:spPr>
            <a:xfrm flipH="1">
              <a:off x="6215040" y="178596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8" name="Группа 5"/>
          <p:cNvGrpSpPr/>
          <p:nvPr/>
        </p:nvGrpSpPr>
        <p:grpSpPr>
          <a:xfrm>
            <a:off x="4429080" y="285840"/>
            <a:ext cx="357120" cy="1214280"/>
            <a:chOff x="4429080" y="285840"/>
            <a:chExt cx="357120" cy="1214280"/>
          </a:xfrm>
        </p:grpSpPr>
        <p:sp>
          <p:nvSpPr>
            <p:cNvPr id="1329" name="Скругленный прямоугольник 63"/>
            <p:cNvSpPr/>
            <p:nvPr/>
          </p:nvSpPr>
          <p:spPr>
            <a:xfrm>
              <a:off x="4464000" y="11080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Полилиния 64"/>
            <p:cNvSpPr/>
            <p:nvPr/>
          </p:nvSpPr>
          <p:spPr>
            <a:xfrm>
              <a:off x="4429080" y="28584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1" name="Группа 5"/>
          <p:cNvGrpSpPr/>
          <p:nvPr/>
        </p:nvGrpSpPr>
        <p:grpSpPr>
          <a:xfrm>
            <a:off x="642960" y="2071800"/>
            <a:ext cx="357120" cy="1214280"/>
            <a:chOff x="642960" y="2071800"/>
            <a:chExt cx="357120" cy="1214280"/>
          </a:xfrm>
        </p:grpSpPr>
        <p:sp>
          <p:nvSpPr>
            <p:cNvPr id="1332" name="Скругленный прямоугольник 72"/>
            <p:cNvSpPr/>
            <p:nvPr/>
          </p:nvSpPr>
          <p:spPr>
            <a:xfrm>
              <a:off x="677880" y="28940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Полилиния 73"/>
            <p:cNvSpPr/>
            <p:nvPr/>
          </p:nvSpPr>
          <p:spPr>
            <a:xfrm>
              <a:off x="642960" y="2071800"/>
              <a:ext cx="35712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4" name="Группа 5"/>
          <p:cNvGrpSpPr/>
          <p:nvPr/>
        </p:nvGrpSpPr>
        <p:grpSpPr>
          <a:xfrm>
            <a:off x="8001000" y="1857240"/>
            <a:ext cx="357120" cy="1214640"/>
            <a:chOff x="8001000" y="1857240"/>
            <a:chExt cx="357120" cy="1214640"/>
          </a:xfrm>
        </p:grpSpPr>
        <p:sp>
          <p:nvSpPr>
            <p:cNvPr id="1335" name="Скругленный прямоугольник 75"/>
            <p:cNvSpPr/>
            <p:nvPr/>
          </p:nvSpPr>
          <p:spPr>
            <a:xfrm>
              <a:off x="8035920" y="267984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Полилиния 76"/>
            <p:cNvSpPr/>
            <p:nvPr/>
          </p:nvSpPr>
          <p:spPr>
            <a:xfrm>
              <a:off x="8001000" y="1857240"/>
              <a:ext cx="35712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7" name="Группа 5"/>
          <p:cNvGrpSpPr/>
          <p:nvPr/>
        </p:nvGrpSpPr>
        <p:grpSpPr>
          <a:xfrm>
            <a:off x="2458440" y="1928520"/>
            <a:ext cx="479880" cy="1217160"/>
            <a:chOff x="2458440" y="1928520"/>
            <a:chExt cx="479880" cy="1217160"/>
          </a:xfrm>
        </p:grpSpPr>
        <p:sp>
          <p:nvSpPr>
            <p:cNvPr id="1338" name="Скругленный прямоугольник 84"/>
            <p:cNvSpPr/>
            <p:nvPr/>
          </p:nvSpPr>
          <p:spPr>
            <a:xfrm rot="439200">
              <a:off x="2482920" y="2751120"/>
              <a:ext cx="71280" cy="39168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1680"/>
                <a:gd name="textAreaBottom" fmla="*/ 388440 h 391680"/>
              </a:gdLst>
              <a:ahLst/>
              <a:rect l="textAreaLeft" t="textAreaTop" r="textAreaRight" b="textAreaBottom"/>
              <a:pathLst>
                <a:path w="21600" h="118203">
                  <a:moveTo>
                    <a:pt x="3600" y="0"/>
                  </a:moveTo>
                  <a:arcTo wR="3600" hR="3600" stAng="16200000" swAng="-5400000"/>
                  <a:lnTo>
                    <a:pt x="0" y="114603"/>
                  </a:lnTo>
                  <a:arcTo wR="3600" hR="3600" stAng="10800000" swAng="-5400000"/>
                  <a:lnTo>
                    <a:pt x="18000" y="118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Полилиния 85"/>
            <p:cNvSpPr/>
            <p:nvPr/>
          </p:nvSpPr>
          <p:spPr>
            <a:xfrm rot="439200">
              <a:off x="2527560" y="1947600"/>
              <a:ext cx="357120" cy="86112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0" name="Группа 5"/>
          <p:cNvGrpSpPr/>
          <p:nvPr/>
        </p:nvGrpSpPr>
        <p:grpSpPr>
          <a:xfrm>
            <a:off x="3642840" y="357120"/>
            <a:ext cx="357480" cy="1214640"/>
            <a:chOff x="3642840" y="357120"/>
            <a:chExt cx="357480" cy="1214640"/>
          </a:xfrm>
        </p:grpSpPr>
        <p:sp>
          <p:nvSpPr>
            <p:cNvPr id="1341" name="Скругленный прямоугольник 87"/>
            <p:cNvSpPr/>
            <p:nvPr/>
          </p:nvSpPr>
          <p:spPr>
            <a:xfrm flipH="1">
              <a:off x="3894120" y="117972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Полилиния 88"/>
            <p:cNvSpPr/>
            <p:nvPr/>
          </p:nvSpPr>
          <p:spPr>
            <a:xfrm flipH="1">
              <a:off x="3642480" y="357120"/>
              <a:ext cx="357480" cy="86220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43" name="Picture 34" descr="j0234717"/>
          <p:cNvPicPr/>
          <p:nvPr/>
        </p:nvPicPr>
        <p:blipFill>
          <a:blip r:embed="rId10"/>
          <a:stretch/>
        </p:blipFill>
        <p:spPr>
          <a:xfrm>
            <a:off x="1143000" y="1928880"/>
            <a:ext cx="811080" cy="1069920"/>
          </a:xfrm>
          <a:prstGeom prst="rect">
            <a:avLst/>
          </a:prstGeom>
          <a:ln w="0">
            <a:noFill/>
          </a:ln>
        </p:spPr>
      </p:pic>
      <p:pic>
        <p:nvPicPr>
          <p:cNvPr id="1344" name="Прямоугольник 100" descr=""/>
          <p:cNvPicPr/>
          <p:nvPr/>
        </p:nvPicPr>
        <p:blipFill>
          <a:blip r:embed="rId11"/>
          <a:stretch/>
        </p:blipFill>
        <p:spPr>
          <a:xfrm>
            <a:off x="1378080" y="2352600"/>
            <a:ext cx="10476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45" name="Группа 101"/>
          <p:cNvGrpSpPr/>
          <p:nvPr/>
        </p:nvGrpSpPr>
        <p:grpSpPr>
          <a:xfrm>
            <a:off x="3429000" y="3929040"/>
            <a:ext cx="2000160" cy="2500200"/>
            <a:chOff x="3429000" y="3929040"/>
            <a:chExt cx="2000160" cy="2500200"/>
          </a:xfrm>
        </p:grpSpPr>
        <p:grpSp>
          <p:nvGrpSpPr>
            <p:cNvPr id="1346" name="Багетная рамка 102"/>
            <p:cNvGrpSpPr/>
            <p:nvPr/>
          </p:nvGrpSpPr>
          <p:grpSpPr>
            <a:xfrm>
              <a:off x="3429000" y="3929040"/>
              <a:ext cx="2000160" cy="2500200"/>
              <a:chOff x="3429000" y="3929040"/>
              <a:chExt cx="2000160" cy="2500200"/>
            </a:xfrm>
          </p:grpSpPr>
          <p:pic>
            <p:nvPicPr>
              <p:cNvPr id="1347" name="Багетная рамка 10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429000" y="3929040"/>
                <a:ext cx="2000160" cy="25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8" name=""/>
              <p:cNvSpPr/>
              <p:nvPr/>
            </p:nvSpPr>
            <p:spPr>
              <a:xfrm rot="16230600">
                <a:off x="3327840" y="4327560"/>
                <a:ext cx="2202480" cy="170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9" name="Группа 71"/>
            <p:cNvGrpSpPr/>
            <p:nvPr/>
          </p:nvGrpSpPr>
          <p:grpSpPr>
            <a:xfrm>
              <a:off x="4659120" y="4048920"/>
              <a:ext cx="347400" cy="426240"/>
              <a:chOff x="4659120" y="4048920"/>
              <a:chExt cx="347400" cy="426240"/>
            </a:xfrm>
          </p:grpSpPr>
          <p:sp>
            <p:nvSpPr>
              <p:cNvPr id="1350" name="Трапеция 123"/>
              <p:cNvSpPr/>
              <p:nvPr/>
            </p:nvSpPr>
            <p:spPr>
              <a:xfrm rot="11040000">
                <a:off x="4668840" y="4059360"/>
                <a:ext cx="320760" cy="289080"/>
              </a:xfrm>
              <a:custGeom>
                <a:avLst/>
                <a:gdLst/>
                <a:ahLst/>
                <a:rect l="l" t="t" r="r" b="b"/>
                <a:pathLst>
                  <a:path w="500062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5" y="0"/>
                    </a:lnTo>
                    <a:lnTo>
                      <a:pt x="500062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51" name="Кольцо 124" descr=""/>
              <p:cNvPicPr/>
              <p:nvPr/>
            </p:nvPicPr>
            <p:blipFill>
              <a:blip r:embed="rId13"/>
              <a:stretch/>
            </p:blipFill>
            <p:spPr>
              <a:xfrm rot="21599400">
                <a:off x="4793040" y="4236840"/>
                <a:ext cx="2134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2" name="Группа 85"/>
            <p:cNvGrpSpPr/>
            <p:nvPr/>
          </p:nvGrpSpPr>
          <p:grpSpPr>
            <a:xfrm>
              <a:off x="3913560" y="4551840"/>
              <a:ext cx="277920" cy="1538280"/>
              <a:chOff x="3913560" y="4551840"/>
              <a:chExt cx="277920" cy="1538280"/>
            </a:xfrm>
          </p:grpSpPr>
          <p:sp>
            <p:nvSpPr>
              <p:cNvPr id="1353" name="Скругленный прямоугольник 116"/>
              <p:cNvSpPr/>
              <p:nvPr/>
            </p:nvSpPr>
            <p:spPr>
              <a:xfrm rot="10800000">
                <a:off x="3913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Кольцо 117"/>
              <p:cNvSpPr/>
              <p:nvPr/>
            </p:nvSpPr>
            <p:spPr>
              <a:xfrm rot="10800000">
                <a:off x="3942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Кольцо 118"/>
              <p:cNvSpPr/>
              <p:nvPr/>
            </p:nvSpPr>
            <p:spPr>
              <a:xfrm rot="10800000">
                <a:off x="3942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Кольцо 119"/>
              <p:cNvSpPr/>
              <p:nvPr/>
            </p:nvSpPr>
            <p:spPr>
              <a:xfrm rot="10800000">
                <a:off x="3942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Кольцо 120"/>
              <p:cNvSpPr/>
              <p:nvPr/>
            </p:nvSpPr>
            <p:spPr>
              <a:xfrm rot="10800000">
                <a:off x="3942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Кольцо 121"/>
              <p:cNvSpPr/>
              <p:nvPr/>
            </p:nvSpPr>
            <p:spPr>
              <a:xfrm rot="10800000">
                <a:off x="3942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Кольцо 122"/>
              <p:cNvSpPr/>
              <p:nvPr/>
            </p:nvSpPr>
            <p:spPr>
              <a:xfrm rot="10800000">
                <a:off x="3942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0" name="Группа 87"/>
            <p:cNvGrpSpPr/>
            <p:nvPr/>
          </p:nvGrpSpPr>
          <p:grpSpPr>
            <a:xfrm>
              <a:off x="3893760" y="4048920"/>
              <a:ext cx="347040" cy="425880"/>
              <a:chOff x="3893760" y="4048920"/>
              <a:chExt cx="347040" cy="425880"/>
            </a:xfrm>
          </p:grpSpPr>
          <p:sp>
            <p:nvSpPr>
              <p:cNvPr id="1361" name="Трапеция 114"/>
              <p:cNvSpPr/>
              <p:nvPr/>
            </p:nvSpPr>
            <p:spPr>
              <a:xfrm rot="11040000">
                <a:off x="3903480" y="4059360"/>
                <a:ext cx="316440" cy="289080"/>
              </a:xfrm>
              <a:custGeom>
                <a:avLst/>
                <a:gdLst/>
                <a:ahLst/>
                <a:rect l="l" t="t" r="r" b="b"/>
                <a:pathLst>
                  <a:path w="500063" h="364242">
                    <a:moveTo>
                      <a:pt x="0" y="364242"/>
                    </a:moveTo>
                    <a:lnTo>
                      <a:pt x="114667" y="0"/>
                    </a:lnTo>
                    <a:lnTo>
                      <a:pt x="385396" y="0"/>
                    </a:lnTo>
                    <a:lnTo>
                      <a:pt x="500063" y="364242"/>
                    </a:lnTo>
                    <a:lnTo>
                      <a:pt x="0" y="364242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362" name="Кольцо 115" descr=""/>
              <p:cNvPicPr/>
              <p:nvPr/>
            </p:nvPicPr>
            <p:blipFill>
              <a:blip r:embed="rId14"/>
              <a:stretch/>
            </p:blipFill>
            <p:spPr>
              <a:xfrm rot="21599400">
                <a:off x="4024800" y="4236480"/>
                <a:ext cx="21600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3" name="Группа 90"/>
            <p:cNvGrpSpPr/>
            <p:nvPr/>
          </p:nvGrpSpPr>
          <p:grpSpPr>
            <a:xfrm>
              <a:off x="4678560" y="4551840"/>
              <a:ext cx="277920" cy="1538280"/>
              <a:chOff x="4678560" y="4551840"/>
              <a:chExt cx="277920" cy="1538280"/>
            </a:xfrm>
          </p:grpSpPr>
          <p:sp>
            <p:nvSpPr>
              <p:cNvPr id="1364" name="Скругленный прямоугольник 107"/>
              <p:cNvSpPr/>
              <p:nvPr/>
            </p:nvSpPr>
            <p:spPr>
              <a:xfrm rot="10800000">
                <a:off x="4678560" y="4551840"/>
                <a:ext cx="277920" cy="1538280"/>
              </a:xfrm>
              <a:custGeom>
                <a:avLst/>
                <a:gdLst>
                  <a:gd name="textAreaLeft" fmla="*/ 13320 w 277920"/>
                  <a:gd name="textAreaRight" fmla="*/ 264600 w 277920"/>
                  <a:gd name="textAreaTop" fmla="*/ 13320 h 1538280"/>
                  <a:gd name="textAreaBottom" fmla="*/ 1524960 h 1538280"/>
                </a:gdLst>
                <a:ahLst/>
                <a:rect l="textAreaLeft" t="textAreaTop" r="textAreaRight" b="textAreaBottom"/>
                <a:pathLst>
                  <a:path w="21600" h="119429">
                    <a:moveTo>
                      <a:pt x="3600" y="0"/>
                    </a:moveTo>
                    <a:arcTo wR="3600" hR="3600" stAng="16200000" swAng="-5400000"/>
                    <a:lnTo>
                      <a:pt x="0" y="115829"/>
                    </a:lnTo>
                    <a:arcTo wR="3600" hR="3600" stAng="10800000" swAng="-5400000"/>
                    <a:lnTo>
                      <a:pt x="18000" y="11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7e7e7e"/>
                  </a:gs>
                  <a:gs pos="100000">
                    <a:srgbClr val="d9d9d9"/>
                  </a:gs>
                </a:gsLst>
                <a:lin ang="0"/>
              </a:gradFill>
              <a:ln w="284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Кольцо 108"/>
              <p:cNvSpPr/>
              <p:nvPr/>
            </p:nvSpPr>
            <p:spPr>
              <a:xfrm rot="10800000">
                <a:off x="4707720" y="5829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Кольцо 109"/>
              <p:cNvSpPr/>
              <p:nvPr/>
            </p:nvSpPr>
            <p:spPr>
              <a:xfrm rot="10800000">
                <a:off x="4707720" y="5559120"/>
                <a:ext cx="185400" cy="175320"/>
              </a:xfrm>
              <a:custGeom>
                <a:avLst/>
                <a:gdLst/>
                <a:ahLst/>
                <a:rect l="l" t="t" r="r" b="b"/>
                <a:pathLst>
                  <a:path w="428625" h="432160">
                    <a:moveTo>
                      <a:pt x="0" y="216080"/>
                    </a:moveTo>
                    <a:cubicBezTo>
                      <a:pt x="0" y="96742"/>
                      <a:pt x="95951" y="0"/>
                      <a:pt x="214313" y="0"/>
                    </a:cubicBezTo>
                    <a:cubicBezTo>
                      <a:pt x="332675" y="0"/>
                      <a:pt x="428626" y="96742"/>
                      <a:pt x="428626" y="216080"/>
                    </a:cubicBezTo>
                    <a:cubicBezTo>
                      <a:pt x="428626" y="335418"/>
                      <a:pt x="332675" y="432160"/>
                      <a:pt x="214313" y="432160"/>
                    </a:cubicBezTo>
                    <a:cubicBezTo>
                      <a:pt x="95951" y="432160"/>
                      <a:pt x="0" y="335418"/>
                      <a:pt x="0" y="216080"/>
                    </a:cubicBezTo>
                    <a:close/>
                    <a:moveTo>
                      <a:pt x="107156" y="216080"/>
                    </a:moveTo>
                    <a:cubicBezTo>
                      <a:pt x="107156" y="276237"/>
                      <a:pt x="155131" y="325004"/>
                      <a:pt x="214312" y="325004"/>
                    </a:cubicBezTo>
                    <a:cubicBezTo>
                      <a:pt x="273493" y="325004"/>
                      <a:pt x="321468" y="276237"/>
                      <a:pt x="321468" y="216080"/>
                    </a:cubicBezTo>
                    <a:cubicBezTo>
                      <a:pt x="321468" y="155923"/>
                      <a:pt x="273493" y="107156"/>
                      <a:pt x="214312" y="107156"/>
                    </a:cubicBezTo>
                    <a:cubicBezTo>
                      <a:pt x="155131" y="107156"/>
                      <a:pt x="107156" y="155923"/>
                      <a:pt x="107156" y="216080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Кольцо 110"/>
              <p:cNvSpPr/>
              <p:nvPr/>
            </p:nvSpPr>
            <p:spPr>
              <a:xfrm rot="10800000">
                <a:off x="4707720" y="536472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Кольцо 111"/>
              <p:cNvSpPr/>
              <p:nvPr/>
            </p:nvSpPr>
            <p:spPr>
              <a:xfrm rot="10800000">
                <a:off x="4707720" y="513324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Кольцо 112"/>
              <p:cNvSpPr/>
              <p:nvPr/>
            </p:nvSpPr>
            <p:spPr>
              <a:xfrm rot="10800000">
                <a:off x="4707720" y="489996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Кольцо 113"/>
              <p:cNvSpPr/>
              <p:nvPr/>
            </p:nvSpPr>
            <p:spPr>
              <a:xfrm rot="10800000">
                <a:off x="4707720" y="4668480"/>
                <a:ext cx="185400" cy="173880"/>
              </a:xfrm>
              <a:custGeom>
                <a:avLst/>
                <a:gdLst/>
                <a:ahLst/>
                <a:rect l="l" t="t" r="r" b="b"/>
                <a:pathLst>
                  <a:path w="428625" h="428336">
                    <a:moveTo>
                      <a:pt x="0" y="214168"/>
                    </a:moveTo>
                    <a:cubicBezTo>
                      <a:pt x="0" y="95886"/>
                      <a:pt x="95951" y="0"/>
                      <a:pt x="214313" y="0"/>
                    </a:cubicBezTo>
                    <a:cubicBezTo>
                      <a:pt x="332675" y="0"/>
                      <a:pt x="428626" y="95886"/>
                      <a:pt x="428626" y="214168"/>
                    </a:cubicBezTo>
                    <a:cubicBezTo>
                      <a:pt x="428626" y="332450"/>
                      <a:pt x="332675" y="428336"/>
                      <a:pt x="214313" y="428336"/>
                    </a:cubicBezTo>
                    <a:cubicBezTo>
                      <a:pt x="95951" y="428336"/>
                      <a:pt x="0" y="332450"/>
                      <a:pt x="0" y="214168"/>
                    </a:cubicBezTo>
                    <a:close/>
                    <a:moveTo>
                      <a:pt x="107084" y="214168"/>
                    </a:moveTo>
                    <a:cubicBezTo>
                      <a:pt x="107084" y="273309"/>
                      <a:pt x="155092" y="321252"/>
                      <a:pt x="214313" y="321252"/>
                    </a:cubicBezTo>
                    <a:cubicBezTo>
                      <a:pt x="273534" y="321252"/>
                      <a:pt x="321542" y="273309"/>
                      <a:pt x="321542" y="214168"/>
                    </a:cubicBezTo>
                    <a:cubicBezTo>
                      <a:pt x="321542" y="155027"/>
                      <a:pt x="273534" y="107084"/>
                      <a:pt x="214313" y="107084"/>
                    </a:cubicBezTo>
                    <a:cubicBezTo>
                      <a:pt x="155092" y="107084"/>
                      <a:pt x="107084" y="155027"/>
                      <a:pt x="107084" y="214168"/>
                    </a:cubicBezTo>
                    <a:close/>
                  </a:path>
                </a:pathLst>
              </a:custGeom>
              <a:solidFill>
                <a:srgbClr val="a6a6a6"/>
              </a:solidFill>
              <a:ln w="2844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71" name="Группа 5"/>
          <p:cNvGrpSpPr/>
          <p:nvPr/>
        </p:nvGrpSpPr>
        <p:grpSpPr>
          <a:xfrm>
            <a:off x="4816080" y="3142440"/>
            <a:ext cx="590760" cy="1206720"/>
            <a:chOff x="4816080" y="3142440"/>
            <a:chExt cx="590760" cy="1206720"/>
          </a:xfrm>
        </p:grpSpPr>
        <p:sp>
          <p:nvSpPr>
            <p:cNvPr id="1372" name="Скругленный прямоугольник 78"/>
            <p:cNvSpPr/>
            <p:nvPr/>
          </p:nvSpPr>
          <p:spPr>
            <a:xfrm rot="775800">
              <a:off x="4858920" y="3953880"/>
              <a:ext cx="71280" cy="3920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92040"/>
                <a:gd name="textAreaBottom" fmla="*/ 388800 h 392040"/>
              </a:gdLst>
              <a:ahLst/>
              <a:rect l="textAreaLeft" t="textAreaTop" r="textAreaRight" b="textAreaBottom"/>
              <a:pathLst>
                <a:path w="21600" h="118312">
                  <a:moveTo>
                    <a:pt x="3600" y="0"/>
                  </a:moveTo>
                  <a:arcTo wR="3600" hR="3600" stAng="16200000" swAng="-5400000"/>
                  <a:lnTo>
                    <a:pt x="0" y="114712"/>
                  </a:lnTo>
                  <a:arcTo wR="3600" hR="3600" stAng="10800000" swAng="-5400000"/>
                  <a:lnTo>
                    <a:pt x="18000" y="1183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Полилиния 79"/>
            <p:cNvSpPr/>
            <p:nvPr/>
          </p:nvSpPr>
          <p:spPr>
            <a:xfrm rot="775800">
              <a:off x="4957200" y="3171240"/>
              <a:ext cx="357480" cy="8618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4" name="Группа 5"/>
          <p:cNvGrpSpPr/>
          <p:nvPr/>
        </p:nvGrpSpPr>
        <p:grpSpPr>
          <a:xfrm>
            <a:off x="3642480" y="3142800"/>
            <a:ext cx="472680" cy="1215720"/>
            <a:chOff x="3642480" y="3142800"/>
            <a:chExt cx="472680" cy="1215720"/>
          </a:xfrm>
        </p:grpSpPr>
        <p:sp>
          <p:nvSpPr>
            <p:cNvPr id="1375" name="Скругленный прямоугольник 126"/>
            <p:cNvSpPr/>
            <p:nvPr/>
          </p:nvSpPr>
          <p:spPr>
            <a:xfrm flipH="1" rot="21259200">
              <a:off x="4024080" y="3970800"/>
              <a:ext cx="71280" cy="384840"/>
            </a:xfrm>
            <a:custGeom>
              <a:avLst/>
              <a:gdLst>
                <a:gd name="textAreaLeft" fmla="*/ 3240 w 71280"/>
                <a:gd name="textAreaRight" fmla="*/ 68040 w 71280"/>
                <a:gd name="textAreaTop" fmla="*/ 3240 h 384840"/>
                <a:gd name="textAreaBottom" fmla="*/ 381600 h 384840"/>
              </a:gdLst>
              <a:ahLst/>
              <a:rect l="textAreaLeft" t="textAreaTop" r="textAreaRight" b="textAreaBottom"/>
              <a:pathLst>
                <a:path w="21600" h="116141">
                  <a:moveTo>
                    <a:pt x="3600" y="0"/>
                  </a:moveTo>
                  <a:arcTo wR="3600" hR="3600" stAng="16200000" swAng="-5400000"/>
                  <a:lnTo>
                    <a:pt x="0" y="112541"/>
                  </a:lnTo>
                  <a:arcTo wR="3600" hR="3600" stAng="10800000" swAng="-5400000"/>
                  <a:lnTo>
                    <a:pt x="18000" y="116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Полилиния 127"/>
            <p:cNvSpPr/>
            <p:nvPr/>
          </p:nvSpPr>
          <p:spPr>
            <a:xfrm flipH="1" rot="21259200">
              <a:off x="3683160" y="3158280"/>
              <a:ext cx="357480" cy="847440"/>
            </a:xfrm>
            <a:custGeom>
              <a:avLst/>
              <a:gdLst/>
              <a:ahLst/>
              <a:rect l="l" t="t" r="r" b="b"/>
              <a:pathLst>
                <a:path w="1041722" h="2858947">
                  <a:moveTo>
                    <a:pt x="0" y="2858947"/>
                  </a:moveTo>
                  <a:lnTo>
                    <a:pt x="23150" y="2789499"/>
                  </a:lnTo>
                  <a:lnTo>
                    <a:pt x="34724" y="0"/>
                  </a:lnTo>
                  <a:lnTo>
                    <a:pt x="520861" y="0"/>
                  </a:lnTo>
                  <a:lnTo>
                    <a:pt x="1041722" y="462987"/>
                  </a:lnTo>
                  <a:lnTo>
                    <a:pt x="347241" y="2858947"/>
                  </a:lnTo>
                  <a:lnTo>
                    <a:pt x="0" y="2858947"/>
                  </a:lnTo>
                  <a:close/>
                </a:path>
              </a:pathLst>
            </a:custGeom>
            <a:solidFill>
              <a:srgbClr val="00b0f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7" name="Полилиния 86"/>
          <p:cNvSpPr/>
          <p:nvPr/>
        </p:nvSpPr>
        <p:spPr>
          <a:xfrm>
            <a:off x="5008680" y="949320"/>
            <a:ext cx="4127400" cy="3403440"/>
          </a:xfrm>
          <a:custGeom>
            <a:avLst/>
            <a:gdLst/>
            <a:ahLst/>
            <a:rect l="l" t="t" r="r" b="b"/>
            <a:pathLst>
              <a:path w="4127810" h="3402981">
                <a:moveTo>
                  <a:pt x="120805" y="2194932"/>
                </a:moveTo>
                <a:cubicBezTo>
                  <a:pt x="60402" y="1996998"/>
                  <a:pt x="0" y="1799064"/>
                  <a:pt x="109654" y="1782337"/>
                </a:cubicBezTo>
                <a:cubicBezTo>
                  <a:pt x="219308" y="1765610"/>
                  <a:pt x="581722" y="1891991"/>
                  <a:pt x="778727" y="2094571"/>
                </a:cubicBezTo>
                <a:cubicBezTo>
                  <a:pt x="975732" y="2297151"/>
                  <a:pt x="797312" y="2850996"/>
                  <a:pt x="1291683" y="2997820"/>
                </a:cubicBezTo>
                <a:cubicBezTo>
                  <a:pt x="1786054" y="3144644"/>
                  <a:pt x="3362092" y="3402981"/>
                  <a:pt x="3744951" y="2975517"/>
                </a:cubicBezTo>
                <a:cubicBezTo>
                  <a:pt x="4127810" y="2548053"/>
                  <a:pt x="3705922" y="866078"/>
                  <a:pt x="3588834" y="433039"/>
                </a:cubicBezTo>
                <a:cubicBezTo>
                  <a:pt x="3471746" y="0"/>
                  <a:pt x="3127917" y="295507"/>
                  <a:pt x="3042424" y="377283"/>
                </a:cubicBezTo>
                <a:cubicBezTo>
                  <a:pt x="2956931" y="459059"/>
                  <a:pt x="3016404" y="691376"/>
                  <a:pt x="3075878" y="923693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8" name="Группа 89" descr=""/>
          <p:cNvPicPr/>
          <p:nvPr/>
        </p:nvPicPr>
        <p:blipFill>
          <a:blip r:embed="rId15"/>
          <a:stretch/>
        </p:blipFill>
        <p:spPr>
          <a:xfrm>
            <a:off x="3181320" y="4595760"/>
            <a:ext cx="3232080" cy="512640"/>
          </a:xfrm>
          <a:prstGeom prst="rect">
            <a:avLst/>
          </a:prstGeom>
          <a:ln w="0">
            <a:noFill/>
          </a:ln>
        </p:spPr>
      </p:pic>
      <p:pic>
        <p:nvPicPr>
          <p:cNvPr id="1379" name="Скругленный прямоугольник 95" descr=""/>
          <p:cNvPicPr/>
          <p:nvPr/>
        </p:nvPicPr>
        <p:blipFill>
          <a:blip r:embed="rId16"/>
          <a:stretch/>
        </p:blipFill>
        <p:spPr>
          <a:xfrm>
            <a:off x="3114720" y="5346720"/>
            <a:ext cx="2547720" cy="304920"/>
          </a:xfrm>
          <a:prstGeom prst="rect">
            <a:avLst/>
          </a:prstGeom>
          <a:ln w="0">
            <a:noFill/>
          </a:ln>
        </p:spPr>
      </p:pic>
      <p:sp>
        <p:nvSpPr>
          <p:cNvPr id="1380" name="Блок-схема: знак завершения 97"/>
          <p:cNvSpPr/>
          <p:nvPr/>
        </p:nvSpPr>
        <p:spPr>
          <a:xfrm>
            <a:off x="3071880" y="5715000"/>
            <a:ext cx="2786040" cy="142920"/>
          </a:xfrm>
          <a:prstGeom prst="flowChartTerminator">
            <a:avLst/>
          </a:prstGeom>
          <a:solidFill>
            <a:srgbClr val="00b0f0"/>
          </a:solidFill>
          <a:ln w="381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Куб 98"/>
          <p:cNvSpPr/>
          <p:nvPr/>
        </p:nvSpPr>
        <p:spPr>
          <a:xfrm>
            <a:off x="3143160" y="5072040"/>
            <a:ext cx="2428920" cy="285840"/>
          </a:xfrm>
          <a:prstGeom prst="cube">
            <a:avLst>
              <a:gd name="adj" fmla="val 59666"/>
            </a:avLst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Управляющая кнопка: домой 99"/>
          <p:cNvSpPr/>
          <p:nvPr/>
        </p:nvSpPr>
        <p:spPr>
          <a:xfrm>
            <a:off x="8815320" y="6458040"/>
            <a:ext cx="328680" cy="399960"/>
          </a:xfrm>
          <a:custGeom>
            <a:avLst/>
            <a:gdLst>
              <a:gd name="textAreaLeft" fmla="*/ 21240 w 328680"/>
              <a:gd name="textAreaRight" fmla="*/ 307440 w 328680"/>
              <a:gd name="textAreaTop" fmla="*/ 21240 h 399960"/>
              <a:gd name="textAreaBottom" fmla="*/ 378720 h 399960"/>
            </a:gdLst>
            <a:ahLst/>
            <a:rect l="textAreaLeft" t="textAreaTop" r="textAreaRight" b="textAreaBottom"/>
            <a:pathLst>
              <a:path w="21600" h="26279">
                <a:moveTo>
                  <a:pt x="0" y="0"/>
                </a:moveTo>
                <a:lnTo>
                  <a:pt x="21600" y="0"/>
                </a:lnTo>
                <a:lnTo>
                  <a:pt x="21600" y="26279"/>
                </a:lnTo>
                <a:lnTo>
                  <a:pt x="0" y="26279"/>
                </a:lnTo>
                <a:close/>
              </a:path>
              <a:path fill="lightenLess" w="21600" h="26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79">
                <a:moveTo>
                  <a:pt x="21600" y="0"/>
                </a:moveTo>
                <a:lnTo>
                  <a:pt x="21600" y="26279"/>
                </a:lnTo>
                <a:lnTo>
                  <a:pt x="20200" y="24879"/>
                </a:lnTo>
                <a:lnTo>
                  <a:pt x="20200" y="1400"/>
                </a:lnTo>
                <a:close/>
              </a:path>
              <a:path fill="darkenLess" w="21600" h="26279">
                <a:moveTo>
                  <a:pt x="21600" y="26279"/>
                </a:moveTo>
                <a:lnTo>
                  <a:pt x="0" y="26279"/>
                </a:lnTo>
                <a:lnTo>
                  <a:pt x="1400" y="24879"/>
                </a:lnTo>
                <a:lnTo>
                  <a:pt x="20200" y="24879"/>
                </a:lnTo>
                <a:close/>
              </a:path>
              <a:path fill="lighten" w="21600" h="26279">
                <a:moveTo>
                  <a:pt x="0" y="26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79"/>
                </a:lnTo>
                <a:close/>
              </a:path>
              <a:path fill="darken" w="21600" h="26279">
                <a:moveTo>
                  <a:pt x="10800" y="6177"/>
                </a:moveTo>
                <a:lnTo>
                  <a:pt x="13376" y="8788"/>
                </a:ln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lnTo>
                  <a:pt x="17763" y="13140"/>
                </a:lnTo>
                <a:lnTo>
                  <a:pt x="16109" y="13140"/>
                </a:lnTo>
                <a:lnTo>
                  <a:pt x="16109" y="20329"/>
                </a:lnTo>
                <a:lnTo>
                  <a:pt x="5491" y="20329"/>
                </a:lnTo>
                <a:lnTo>
                  <a:pt x="5491" y="13140"/>
                </a:lnTo>
                <a:lnTo>
                  <a:pt x="3837" y="13140"/>
                </a:lnTo>
                <a:close/>
              </a:path>
              <a:path fill="darkenLess" w="21600" h="26279">
                <a:moveTo>
                  <a:pt x="13376" y="8788"/>
                </a:moveTo>
                <a:lnTo>
                  <a:pt x="13376" y="7047"/>
                </a:lnTo>
                <a:lnTo>
                  <a:pt x="15152" y="7047"/>
                </a:lnTo>
                <a:lnTo>
                  <a:pt x="15152" y="10563"/>
                </a:lnTo>
                <a:close/>
              </a:path>
              <a:path fill="darkenLess" w="21600" h="26279">
                <a:moveTo>
                  <a:pt x="9877" y="16638"/>
                </a:moveTo>
                <a:lnTo>
                  <a:pt x="11723" y="16638"/>
                </a:lnTo>
                <a:lnTo>
                  <a:pt x="11723" y="20329"/>
                </a:lnTo>
                <a:lnTo>
                  <a:pt x="16109" y="20329"/>
                </a:lnTo>
                <a:lnTo>
                  <a:pt x="16109" y="13140"/>
                </a:lnTo>
                <a:lnTo>
                  <a:pt x="5491" y="13140"/>
                </a:lnTo>
                <a:lnTo>
                  <a:pt x="5491" y="20329"/>
                </a:lnTo>
                <a:lnTo>
                  <a:pt x="9877" y="203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3" name="Picture 47" descr="j0251066"/>
          <p:cNvPicPr/>
          <p:nvPr/>
        </p:nvPicPr>
        <p:blipFill>
          <a:blip r:embed="rId18"/>
          <a:stretch/>
        </p:blipFill>
        <p:spPr>
          <a:xfrm flipH="1" rot="17500200">
            <a:off x="6669360" y="973800"/>
            <a:ext cx="15793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10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4" name=""/>
          <p:cNvGraphicFramePr/>
          <p:nvPr/>
        </p:nvGraphicFramePr>
        <p:xfrm>
          <a:off x="1214280" y="571680"/>
          <a:ext cx="6405840" cy="5843520"/>
        </p:xfrm>
        <a:graphic>
          <a:graphicData uri="http://schemas.openxmlformats.org/drawingml/2006/table">
            <a:tbl>
              <a:tblPr/>
              <a:tblGrid>
                <a:gridCol w="3275280"/>
                <a:gridCol w="313056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од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ля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возд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е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стм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5" name=""/>
          <p:cNvGraphicFramePr/>
          <p:nvPr/>
        </p:nvGraphicFramePr>
        <p:xfrm>
          <a:off x="1177920" y="582480"/>
          <a:ext cx="6458040" cy="617760"/>
        </p:xfrm>
        <a:graphic>
          <a:graphicData uri="http://schemas.openxmlformats.org/drawingml/2006/table">
            <a:tbl>
              <a:tblPr/>
              <a:tblGrid>
                <a:gridCol w="6458040"/>
              </a:tblGrid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6" name="Прямоугольник 3"/>
          <p:cNvSpPr/>
          <p:nvPr/>
        </p:nvSpPr>
        <p:spPr>
          <a:xfrm>
            <a:off x="6410160" y="6357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(Записать в тетрад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28:29Z</dcterms:created>
  <dc:creator>Asus</dc:creator>
  <dc:description/>
  <dc:language>en-US</dc:language>
  <cp:lastModifiedBy>pavel-57</cp:lastModifiedBy>
  <dcterms:modified xsi:type="dcterms:W3CDTF">2012-04-02T20:16:56Z</dcterms:modified>
  <cp:revision>19</cp:revision>
  <dc:subject/>
  <dc:title>Слайд 1</dc:title>
</cp:coreProperties>
</file>