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jpeg" ContentType="image/jpeg"/>
  <Override PartName="/ppt/media/image28.png" ContentType="image/png"/>
  <Override PartName="/ppt/media/image51.gif" ContentType="image/gif"/>
  <Override PartName="/ppt/media/image40.png" ContentType="image/png"/>
  <Override PartName="/ppt/media/image42.png" ContentType="image/png"/>
  <Override PartName="/ppt/media/image45.wmf" ContentType="image/x-wmf"/>
  <Override PartName="/ppt/media/image46.png" ContentType="image/png"/>
  <Override PartName="/ppt/media/image11.png" ContentType="image/png"/>
  <Override PartName="/ppt/media/image44.jpeg" ContentType="image/jpeg"/>
  <Override PartName="/ppt/media/image48.wmf" ContentType="image/x-wmf"/>
  <Override PartName="/ppt/media/image41.png" ContentType="image/png"/>
  <Override PartName="/ppt/media/image9.png" ContentType="image/png"/>
  <Override PartName="/ppt/media/image39.png" ContentType="image/png"/>
  <Override PartName="/ppt/media/image49.png" ContentType="image/png"/>
  <Override PartName="/ppt/media/image52.wmf" ContentType="image/x-wmf"/>
  <Override PartName="/ppt/media/image7.png" ContentType="image/png"/>
  <Override PartName="/ppt/media/image50.gif" ContentType="image/gif"/>
  <Override PartName="/ppt/media/image43.png" ContentType="image/png"/>
  <Override PartName="/ppt/media/image37.wmf" ContentType="image/x-wmf"/>
  <Override PartName="/ppt/media/image30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49C-3115-4D0D-B324-1AA34A72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AE5-26FD-481B-8468-91402BA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8895-E796-4520-BB1D-04FBBBB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B7928-2827-4F47-B235-980EBB51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7AA3-C3F1-4C74-944D-26B9944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4471D-508A-4FAE-96C7-84F37D4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C1AAB-A1EB-4867-89E1-E58E9D8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84823-2E4D-44AE-9762-8A50B09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55830-B3AA-4AC6-B9A3-56D6811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BF942-E281-47B1-B88C-2AF6BA3E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DB579-0DEF-43C4-923C-6958AD2E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FC003-BE1A-4EE0-991B-F6F171A0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3F1-35A0-48B6-98A2-19CAF2F5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7401F-C411-4ED7-A77B-7317DD80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9173A-0203-4171-88B3-19C05486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CA60C-2DEE-47A8-BA2D-8392AD9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0C9CD-B949-48F4-9FE0-AE84EE8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0CF28-1352-44D1-8668-0A38396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35377-C2E6-4E7D-A845-A8E488E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C2BBC-DF45-40C3-ADA2-19F4F79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26021-9ECB-4315-9C18-28D6118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775E6-340C-4ECE-B7A3-BCEC8EEA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8D151-F118-4150-9C7D-DD44514F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5C5-FEAD-484F-A790-6BC4F76B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5722F-CDED-4B6C-B467-9052DD42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45EA4-9F24-4678-BECC-B3F796D9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A6A0C-7D30-4120-AAA7-7E0B486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0157D-6508-48F6-9806-B0D459F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87EA5-1EA8-4358-A759-C6F31909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FD97-81F9-49AE-B500-EDF2FAC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E646E-FC2E-4ED7-A0A1-8B023F0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406A6-35A1-4C1B-AD4A-D42BAC8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393B8-8B37-4C8D-9569-E1AE4C2F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1ECFA-238F-460C-AD71-AFAF33C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5EF0-D88D-475D-AB6D-F8BCD590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BFA67-F2C1-400E-92B3-3377B832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7F3A4-0516-4A70-AAA0-B98BB069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DB34C-37C6-4134-9BF6-FC573E78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54F7E-CC48-4D91-AC53-E48834BA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05028-70C1-4A7D-B812-C0C3D586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C640-3AA9-4779-9974-1131B0D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D9D91-25B9-4DDA-A020-8B0ACCA3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AC9BD-B641-4B12-BF93-AC14001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F4DDF-0A5D-4104-B78F-4136577E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B4210-0896-408C-BA6C-779BAFF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236-33B7-4EB0-B54D-3301D50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0BDDB-6495-4167-BA76-E62971AB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71BAA-2CF8-4366-8515-A66C263E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EB1E5-8299-4382-83ED-F2A13D2D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5D607-7BBC-4C35-9773-F2D64EF2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CDF84-96A3-4269-9A22-FC3DEE39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E435C-0AFA-4EEC-80BC-EABA7912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B002D-BCAF-4487-A6D4-AD6E5BA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464D1-3360-4E9C-9055-2795DC34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EA98B-A3D1-4AB6-A1AF-4D0E2258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8CC17-8E67-43C7-8850-744B187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F7DB-3832-41D4-8CF3-A45AD5C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AC3FD-B58D-4BD2-8558-0C903D6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21DAB-33F4-4448-BDAA-E1A930F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71D86-F4D7-43FC-A88E-7665EC4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36B4E-6FCE-4D4B-AA16-6DA7216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C42FE-BEEF-4453-9992-6A4E539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12491-002D-40AE-B497-B480F111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69155-A5D7-409C-97E1-213142FB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943A0-1DA6-4A6F-9F0D-6D93AAD8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298B8-FE5E-4A79-8BD6-3AD346AB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89F3B-3643-4C3E-B614-90F104CF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2A86-62B6-4DAA-9D9D-6D081A9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FB3CA-4D4C-4D85-BE2C-A93B9486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0050D-44B5-4785-AC99-69BA9342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E4957-DE56-4229-B6B4-39035805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2C65F-5B6B-4447-B2BA-70CBEA12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640B8-BA49-4EA7-B3CF-159D36C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47ADE-80E8-43E2-BABC-7E66517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7430C-42F5-44B5-98D4-A050F69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CF41D-CCC2-4010-AD98-AF725A2D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4DA93-2FD5-4170-B5B2-8123D9F0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5B6A9-9EFC-451C-896B-531A1D91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0372-36FD-436A-BA1B-38163D8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6685C-1830-4098-A2FC-2AC8429C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30279-571C-4048-B36D-88AA179C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496A5-5CFD-44AE-8C8F-E112144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99B99-115F-4AB7-B4ED-2F00D03A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DCB44-DF23-4702-911A-3CBCFCCA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3E013-A168-4B1A-8057-2E61809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9F918-F883-4745-B43E-184F87D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C6769-2343-4558-9918-F0E05FB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BBEEB-2804-429F-9A15-38BC1853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0A927-D1C0-486B-9054-084A3F7B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C438-53F0-43EB-947A-8B6CBB84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2C1C1-CAB1-484E-A80A-7DA61D6D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7740E-F8AA-4213-A86F-A99D95CA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B4161-966A-486C-9D62-525BC649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9E108-0731-42C5-A70E-B1592474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E16DF-D9F4-4BC9-85F4-91CA8929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4A85D-01C7-4E45-A990-B7CD020C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C8375-A076-4FCF-AF46-60FB790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5EC4F-D3B3-4A20-836D-C0EE0BF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C2CCB-CE29-449B-ABF8-5DB5277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E50E7-E1D2-410C-A02B-2B8BBF97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FE8-7FF1-4EF4-95C4-AB0A4AE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B0941-5A48-4479-AF55-3B44BCA5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C2797-765A-4739-96E1-5AA4C239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3E583-FE06-4552-A98A-BD560602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157F5-9072-4C7F-AEDC-6F52BC1B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E8EC6-5E9E-49F3-B9E5-2260C22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30727-7CE1-4A47-B867-794DFBD0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3A87F-5F7A-4142-970A-A8C985C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ABE68-2DB9-479E-B2D6-F37AE09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B1753-B729-4ECF-A3EF-4D02873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2D58B-D9CE-43D3-A911-F44C1C4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ACA-FB57-4499-8E89-8265D663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F840-3C3A-43A2-82FC-B412D5C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17F72-15BB-4138-A7B4-DFF3EFE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637B8-4F39-48F8-B57E-C83849D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FFD37-2B6E-43D4-BD58-5F817B02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37FC6-F06D-4E41-8493-8976BE19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3BCEF-2782-4C53-8E2F-93DB8ACA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A139C-9D77-4EEC-AFC6-269A6C7B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4DD5D-D4ED-44FE-9D04-74509961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57E41-C0D0-4553-8EDF-669336C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D35A1-7BAC-44AE-A23A-7B56B44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FC7C1-BB2A-4621-829C-0DA8A238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535A-3821-41BA-9352-32ACDAD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A8BAF-27A1-42BB-9658-25B8315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1663E-F33C-4A4A-9095-52C1E073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51501-3572-46A7-A98B-9337E24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12342-3A63-43A4-933F-013D9CDE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E151D-7B47-4BE9-B593-09236DDD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E587E-C430-4C47-8241-1C13CC3F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43FC9-C06D-4E47-8544-899E25D5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C84FF-0308-4B5D-A41C-13FCF397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D73FF-88FC-4200-A3B1-93163240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19D4D-629F-4A13-A342-6917F4B2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B64A-4A94-40F2-89B4-2292CCEC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3B39E-1230-45C0-82DE-7DC37D29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B520B-3387-4B45-97A9-BA1068D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3D262-C1D6-4536-AD0A-C7B54E3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7C1CF-7A61-4E55-A768-22077DF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239C1-5472-4CAC-8995-B2B210A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252A0-CCE8-436C-AB02-D1C08D9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E2E21-48EF-435B-BF1B-D6587739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F9459-B1DC-4082-A3D9-177386A1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AC6CD-CFBD-4A65-B60C-25F06A40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9D30CB-826A-4553-AE59-79702791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BD4-41E6-4B33-A9BC-86B57F0F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5A2F7E-8955-4833-84B6-640237D9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C8F277-D290-41B8-9AEF-E905F743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C4C587-9400-4E07-9B7B-73F79F14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F58217-02B1-4E38-AEFC-B3AFA9B6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63AC52-BFCE-44A2-9007-D48CF434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228119-664F-4639-BE2B-9E23BDE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DB5976-57A3-4C04-B54A-43F74ADB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0CAA86-1A7C-4005-9648-578455A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C8EBF7-AB44-4DC9-8EDB-744FEFBF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9CA4FC-30E2-4EBA-A8AD-37AF7444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C15-354A-47BA-BD58-EB75171F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27FFCB-6759-4DE9-A6FE-A0B71622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814C3-3652-4A58-B560-4A4C1D9B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AF486-F98C-463F-B768-9050293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C496F-EFF1-4C1C-BAE2-BD85B498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A4B19-2300-4647-832E-970C21F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F4A48-5D65-41DF-818E-605D2153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11399-6907-4561-A149-0E2F063E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06A18-4A5E-49CD-818A-C5BB5DCB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DC27F-EF0E-4816-970D-B9C0369B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D0196-23CF-49E9-98A7-6DFDB22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9CED-473C-4157-B3CC-186A4BA8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38983-967E-468A-98FA-C58D5B7F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7D4C9-A043-4A50-936C-90E23FDC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65F685-C0D7-4EC1-B8DB-A8D39145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DFD2D-0229-418B-9C54-4839B00A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A3E4A5-2B31-4BCA-A23B-6377E329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E3154-597C-4EB9-9FF0-3127D92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A6CBA-5A78-47F8-AC5D-9295EA18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73F83-9522-4D6D-BED8-04F566AC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1E0CAD-55D9-451C-BB6A-D1185773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37668-81B5-4515-80E4-423101A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3C31-22B7-4741-8BCD-5745A9F8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9143F-046F-4C22-92D3-1CAA752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93D82-43BD-4044-83B0-1D152F2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24F80-8E5B-49E6-800E-9729D25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022779-783D-4026-A69D-96D3EBEB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BDDB2-015F-4266-BDC6-5A9370FB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FB179-CCD0-4F70-BB5A-1430BB08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A726CA-4183-45AD-801A-64AA153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CAA7B5-3524-4104-A85B-9D76F03C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445DD-38F6-4331-9639-179C9B1B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2654EB-5EFD-42A0-83B2-E1E2296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563E-221E-4E2B-9C53-76562DB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CDB58-A3DC-482E-BE18-8FCC2DB7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080A5-3F35-47F9-A044-5119290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0D401A-26AD-4FD5-9820-85B7FFF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396B81-E3C5-4430-8E16-EC58D39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3080E-B84E-437A-8FD1-4EC1681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5C26C6-D11C-4247-9B55-8175C1D3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143CBF-C18A-4BEC-A0E8-CF2E5A24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EF188-56D5-4ABD-9E09-5B57E0C6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67725-008E-494B-B6AD-DF77904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89305C-9E04-4AAF-A5AF-E7DB8FD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DD30-7676-4ABF-9D05-6C4A1F95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BCBF2-4CBA-410B-80A3-6E11D05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3CC06D-B0F6-4C63-8075-C7DDB1EF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184BCE-26C3-4E42-8302-0547B1DB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D7C55-3425-43FD-A8B6-0765237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FBD852-B888-4764-9C05-B6114FC9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D6D57-E096-4B4E-B133-9C60FAC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9D65E5-7B6A-4901-B0A8-DEE9CE86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50955-0398-414B-808D-DF6DFB5F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800156-A6A3-4714-B79B-EC454CFE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F84C01-6074-4205-81FC-77731BC1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2516-9040-4BB8-A818-5CF9D96B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DDE9AA-9230-46B9-B469-964693DB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7A340B-0C20-4A10-ACF9-53281BE4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CEC19D-98DC-40BF-A388-67B4495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C3972A-CD9F-4288-8E6C-5F4F6E8B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42F099-DEF8-4A37-83BE-8E5A45E7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84DF02-FAA8-4199-A004-DF7525E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BE0FE-6727-49D9-83CD-3D7CE258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11210E-9F4A-4CF1-9686-A5A6697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024B22-E13B-4BAE-93AD-B58EBFF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50E3C1-8287-49BA-9D65-A24F607D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611-B977-4EFB-BAAF-E6659D6F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0022-9E3D-49DC-8A07-7C4860D0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41984B-7E11-47F3-9A63-7A8DD713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64CB-E6C8-4603-A811-4F0CA07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B29D-EAD1-4334-8C94-87DF638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D62A-840E-44AC-A3A8-46A35DE3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C90B-FD38-4A12-A7D0-6A8E0A7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A8A6-6292-4463-B712-B263679C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A6F5-3FA9-445B-B5B4-CF953E0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B4BD-37F6-4CAA-947E-09D04C5E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64DC-A1E8-4D62-8D21-5AC08BB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B92D-4759-4919-B2F1-F865BBE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5AD-1D69-4F8E-B386-196A725A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92A5-DF96-4DC4-9ABC-9A1E537E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F133-40B7-4F5B-ADAA-0209E82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0F16-2ADE-4693-88B5-2C79D2D6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E5C6-7C1C-4C96-94F8-B523B9B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EA78-ABAF-47C7-B8A6-AE51623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E759-D11E-4EA1-845D-82C0D038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E72D-6673-4A3A-AC4A-960FDE7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5AC3-D192-4656-96CE-32720FE6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35E6-FA6F-4374-B2EF-E054F079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AA89-53FC-4FFA-A3FB-EA0FD7FA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E03-7A36-4AF8-8EEE-0C10AB1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DE91-F6C3-448C-9CF0-ACC132C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1164F-E779-46CC-ACE9-9593681D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DA88-5D73-4591-81D0-A716DED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464F-A885-4098-9734-253085B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108A-FD94-431B-BC87-82E48B9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C347-E8B2-42BE-AB24-6374542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2F6B-B0BC-477F-953F-C01F0F1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8992-413B-49D3-B757-1F5D156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71C6-0887-497E-9598-B7C30F6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420B-DD97-4E70-B531-F354B1DB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3A5-5E50-4EE5-BD4C-C93F114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4FF8-3CAF-4EAA-8F5E-F70F5DE8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3082F-389C-4F48-A508-7DB72108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602C-0836-4EAA-A7E0-6C9FA94F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C912-2E73-4868-BE0D-A70C4AA0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2753F-8A1C-48B4-B60D-7A6A4380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CCAB-6267-4531-9467-755CE4F7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9875A-BF8B-44A8-982C-7A79036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C078-C4AA-43F3-AB2F-2805C45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55B7-23E2-4E5D-9A2D-753C05F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505B-FEC9-43DE-9335-3993022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475-2A05-4F21-B0FA-2F889E96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147C-3A2D-452B-96EF-B3B8373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ABF0-3398-4584-AC66-DA306A00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CBA6-FBD6-4D5E-A0E7-FA9E2101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E2762-75A8-4230-BCD2-4372FC01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0099-7E48-4F97-8DCF-7849D20A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51398-4081-4E39-8689-48C30DB8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0750-8CC5-4CFB-96AB-828DA25D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6AC1-8942-4BD9-A9B3-20ED253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C629-BF8C-4E8D-A74F-F06E0BF2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27306-0B35-40BC-86C4-14C2F46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199-2F57-438C-ADB7-767CAC2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8D92-5C72-4628-9295-67A3A3C5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B8BA-6ADF-4D0A-BDAD-4BE8171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86525-EB81-40D9-9A72-CACD4933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B213-A90B-4487-9EF4-C00BE5D5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61503-655A-40B9-BFA3-0B91111B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756A5-026C-49EA-96C3-D458BDC9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D2F43-E63F-4BC9-8A9A-570FB6C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ECED4-C2DC-4F79-8654-7C8CC59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AEAB-1E34-4445-8FF8-F1FCF03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0BFD6-FFBD-4095-B11B-A506DDD0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7E8-3E25-4FCD-AB2A-834BA65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713AE-FDA6-4A7D-8EAD-00414524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36D78-7BDA-4C8C-852D-95F6E96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A0CE-DE34-4F41-B774-43D29F0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96B6E-684E-4EB1-BC38-DECFA6D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0A83-00B5-45B5-A4E8-C40C6B9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0706-C9EA-4541-B659-EC44666A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C2434-90D5-45FA-AE87-6962B82C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6AA28-119F-4F80-9031-91C13CB3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F6624-52C1-4B89-8FC5-9201E87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5261A-3087-483C-9908-2DA0E893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32D-551A-4B73-A974-15853158ED79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14C-5894-4CD5-B6E2-55A60EB22205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915B-00B2-4F5F-AFAF-F139890BC3AF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8C9-5B35-4694-85D3-5F077592D545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711-0D96-4B75-9355-0C7535E6A24D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B59F-3949-41E6-A7D4-AAB0A39711CF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147"/>
            </a:gs>
            <a:gs pos="100000">
              <a:srgbClr val="918f9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320-7AA2-4E04-B75F-1401357E1D01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6D84-2EA5-4030-BBFC-81DF7B393AF8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147"/>
            </a:gs>
            <a:gs pos="100000">
              <a:srgbClr val="918f9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3185-5628-4CA4-869B-C08C728C5C94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AE5-4C3F-4087-A611-45F06B5F1C93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9624-D83F-4593-9548-4BC1CDF4CE8A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DB1-4A6D-49C3-931D-A43E0B5C3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5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1E68-AFFB-4164-BA17-0793A445BC19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ftr" idx="6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708-46FD-4DAA-8452-9E3B3705F4C5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5D98-B8A5-47D6-AAEA-E96FC0D1E6C7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CD2F-8B81-4435-ABC8-E3F0949DF8B2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7477-83FC-497A-A467-FE41B3DCC1D2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095-B124-4E7C-B8DC-2CCFF41878FF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CC19-DA2D-4A15-B082-434EA3352B03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7687"/>
            </a:gs>
            <a:gs pos="100000">
              <a:srgbClr val="75c8e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5C84-BAC5-4F8B-A3F5-387B8F1FC4E5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38C-F960-4373-97EE-3BC122F08F98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7687"/>
            </a:gs>
            <a:gs pos="100000">
              <a:srgbClr val="75c8e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AC2-960F-4EEF-AFDD-94BCE4FFC035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90B-02C0-49C5-AF92-9AD0BEBEC9E8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AF5E-E665-4B38-9845-E09E3628BCA0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B9AC-4E80-4110-A2D0-12F206A6D6E0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wmf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jpeg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Прямоугольник 1" descr=""/>
          <p:cNvPicPr/>
          <p:nvPr/>
        </p:nvPicPr>
        <p:blipFill>
          <a:blip r:embed="rId1"/>
          <a:stretch/>
        </p:blipFill>
        <p:spPr>
          <a:xfrm>
            <a:off x="66600" y="-79200"/>
            <a:ext cx="6315120" cy="4760640"/>
          </a:xfrm>
          <a:prstGeom prst="rect">
            <a:avLst/>
          </a:prstGeom>
          <a:ln w="0">
            <a:noFill/>
          </a:ln>
        </p:spPr>
      </p:pic>
      <p:pic>
        <p:nvPicPr>
          <p:cNvPr id="1066" name="Прямоугольник 3" descr=""/>
          <p:cNvPicPr/>
          <p:nvPr/>
        </p:nvPicPr>
        <p:blipFill>
          <a:blip r:embed="rId2"/>
          <a:stretch/>
        </p:blipFill>
        <p:spPr>
          <a:xfrm>
            <a:off x="3938760" y="2494080"/>
            <a:ext cx="3700440" cy="4400280"/>
          </a:xfrm>
          <a:prstGeom prst="rect">
            <a:avLst/>
          </a:prstGeom>
          <a:ln w="0">
            <a:noFill/>
          </a:ln>
        </p:spPr>
      </p:pic>
      <p:pic>
        <p:nvPicPr>
          <p:cNvPr id="1067" name="Прямоугольник 4" descr=""/>
          <p:cNvPicPr/>
          <p:nvPr/>
        </p:nvPicPr>
        <p:blipFill>
          <a:blip r:embed="rId3"/>
          <a:stretch/>
        </p:blipFill>
        <p:spPr>
          <a:xfrm>
            <a:off x="5986440" y="4121280"/>
            <a:ext cx="2840040" cy="1517400"/>
          </a:xfrm>
          <a:prstGeom prst="rect">
            <a:avLst/>
          </a:prstGeom>
          <a:ln w="0">
            <a:noFill/>
          </a:ln>
        </p:spPr>
      </p:pic>
      <p:sp>
        <p:nvSpPr>
          <p:cNvPr id="1068" name="Прямоугольник 5"/>
          <p:cNvSpPr/>
          <p:nvPr/>
        </p:nvSpPr>
        <p:spPr>
          <a:xfrm>
            <a:off x="2214720" y="60008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арчинский Павел Степ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БОУ СОШ № 873 ЮАО г.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456552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Box 3"/>
          <p:cNvSpPr/>
          <p:nvPr/>
        </p:nvSpPr>
        <p:spPr>
          <a:xfrm>
            <a:off x="468360" y="32130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чень опасно одновременное прикосновение двумя руками к двум оголенным пров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чень опасно прикосновение к оголенному проводу, стоя на земле, на сыром или цементном по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асно пользоваться неисправными электрическими приборами. Электрические приборы должны периодически осматривать квалифицированные специал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льзя собирать, разбирать и исправлять что-либо в электрическом приборе, не отключив его от источ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льзя производить какие-либо операции с электрической аппаратурой, не выключив ее из се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Box 2"/>
          <p:cNvSpPr/>
          <p:nvPr/>
        </p:nvSpPr>
        <p:spPr>
          <a:xfrm>
            <a:off x="539640" y="189000"/>
            <a:ext cx="51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боте с электрическими приборами необходимо строго и неуклонно соблюдать меры предосторожности. Если этого не делать, то ваша жизнь будет подвергаться смертельной опас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ческое тело — проводн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лучайно человек окажется под напряжением, то в большинстве случаев он не избежит травмы и даже смер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любому человеку, имеющему дело с электричеством, надо помнить следующие по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9" name="Picture 2" descr=""/>
          <p:cNvPicPr/>
          <p:nvPr/>
        </p:nvPicPr>
        <p:blipFill>
          <a:blip r:embed="rId1"/>
          <a:srcRect l="10522" t="10688" r="4684" b="8157"/>
          <a:stretch/>
        </p:blipFill>
        <p:spPr>
          <a:xfrm>
            <a:off x="5364000" y="260280"/>
            <a:ext cx="378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Прямоугольник 1"/>
          <p:cNvSpPr/>
          <p:nvPr/>
        </p:nvSpPr>
        <p:spPr>
          <a:xfrm>
            <a:off x="1714680" y="21420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Прямоугольник 2"/>
          <p:cNvSpPr/>
          <p:nvPr/>
        </p:nvSpPr>
        <p:spPr>
          <a:xfrm>
            <a:off x="3143160" y="630396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чинский Павел Степа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У СОШ № 873 ЮАО г. Моск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Прямоугольник 4"/>
          <p:cNvSpPr/>
          <p:nvPr/>
        </p:nvSpPr>
        <p:spPr>
          <a:xfrm>
            <a:off x="642960" y="285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езентации использованы материал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Прямоугольник 5"/>
          <p:cNvSpPr/>
          <p:nvPr/>
        </p:nvSpPr>
        <p:spPr>
          <a:xfrm>
            <a:off x="142920" y="1500120"/>
            <a:ext cx="828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И. А. Сасов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«Технология»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нтана-Граф» ОАО «Московские учебники» 20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Прямоугольник 6"/>
          <p:cNvSpPr/>
          <p:nvPr/>
        </p:nvSpPr>
        <p:spPr>
          <a:xfrm>
            <a:off x="214200" y="2500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Идея, дизайн, комплект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ление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ская работа 2010г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Прямоугольник 7"/>
          <p:cNvSpPr/>
          <p:nvPr/>
        </p:nvSpPr>
        <p:spPr>
          <a:xfrm>
            <a:off x="214200" y="364320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артинки, фотографии и мультимед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имация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Управляющая кнопка: домой 10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Прямоугольник 11"/>
          <p:cNvSpPr/>
          <p:nvPr/>
        </p:nvSpPr>
        <p:spPr>
          <a:xfrm>
            <a:off x="3276720" y="42926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pts-russia.com/img_ProD/Vilka_220V_small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365040"/>
            <a:ext cx="6242040" cy="4005360"/>
          </a:xfrm>
          <a:prstGeom prst="rect">
            <a:avLst/>
          </a:prstGeom>
          <a:ln w="0">
            <a:noFill/>
          </a:ln>
        </p:spPr>
      </p:pic>
      <p:sp>
        <p:nvSpPr>
          <p:cNvPr id="1399" name="TextBox 2"/>
          <p:cNvSpPr/>
          <p:nvPr/>
        </p:nvSpPr>
        <p:spPr>
          <a:xfrm>
            <a:off x="1143000" y="54291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ские права защищены законом РФ "Об авторских правах и о смежных правах"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Перепечатка и переиздание в любом виде разрешены только с согласия ав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0" name="Picture 3" descr="pe01916_"/>
          <p:cNvPicPr/>
          <p:nvPr/>
        </p:nvPicPr>
        <p:blipFill>
          <a:blip r:embed="rId2"/>
          <a:stretch/>
        </p:blipFill>
        <p:spPr>
          <a:xfrm>
            <a:off x="0" y="4714920"/>
            <a:ext cx="1714680" cy="156348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4" descr="j0432598"/>
          <p:cNvPicPr/>
          <p:nvPr/>
        </p:nvPicPr>
        <p:blipFill>
          <a:blip r:embed="rId3"/>
          <a:stretch/>
        </p:blipFill>
        <p:spPr>
          <a:xfrm>
            <a:off x="750096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5" descr="j0315756"/>
          <p:cNvPicPr/>
          <p:nvPr/>
        </p:nvPicPr>
        <p:blipFill>
          <a:blip r:embed="rId4"/>
          <a:stretch/>
        </p:blipFill>
        <p:spPr>
          <a:xfrm>
            <a:off x="3071880" y="2786040"/>
            <a:ext cx="4429080" cy="2577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j0236288"/>
          <p:cNvPicPr/>
          <p:nvPr/>
        </p:nvPicPr>
        <p:blipFill>
          <a:blip r:embed="rId5"/>
          <a:stretch/>
        </p:blipFill>
        <p:spPr>
          <a:xfrm rot="435600">
            <a:off x="72720" y="195120"/>
            <a:ext cx="911160" cy="122076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8" descr="j0345783"/>
          <p:cNvPicPr/>
          <p:nvPr/>
        </p:nvPicPr>
        <p:blipFill>
          <a:blip r:embed="rId6"/>
          <a:stretch/>
        </p:blipFill>
        <p:spPr>
          <a:xfrm>
            <a:off x="6259680" y="500040"/>
            <a:ext cx="28843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Прямоугольник 1" descr=""/>
          <p:cNvPicPr/>
          <p:nvPr/>
        </p:nvPicPr>
        <p:blipFill>
          <a:blip r:embed="rId1"/>
          <a:stretch/>
        </p:blipFill>
        <p:spPr>
          <a:xfrm>
            <a:off x="1719360" y="-66600"/>
            <a:ext cx="5029200" cy="1535040"/>
          </a:xfrm>
          <a:prstGeom prst="rect">
            <a:avLst/>
          </a:prstGeom>
          <a:ln w="0">
            <a:noFill/>
          </a:ln>
        </p:spPr>
      </p:pic>
      <p:sp>
        <p:nvSpPr>
          <p:cNvPr id="1071" name="TextBox 4"/>
          <p:cNvSpPr/>
          <p:nvPr/>
        </p:nvSpPr>
        <p:spPr>
          <a:xfrm>
            <a:off x="1489320" y="11970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пределения проводника и изоля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Box 11"/>
          <p:cNvSpPr/>
          <p:nvPr/>
        </p:nvSpPr>
        <p:spPr>
          <a:xfrm>
            <a:off x="1490760" y="494172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Литер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14"/>
          <p:cNvSpPr/>
          <p:nvPr/>
        </p:nvSpPr>
        <p:spPr>
          <a:xfrm>
            <a:off x="1483560" y="1989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хема про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14"/>
          <p:cNvSpPr/>
          <p:nvPr/>
        </p:nvSpPr>
        <p:spPr>
          <a:xfrm>
            <a:off x="1501920" y="26370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бор образцов для про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1485000" y="335772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Таблица для за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Box 15"/>
          <p:cNvSpPr/>
          <p:nvPr/>
        </p:nvSpPr>
        <p:spPr>
          <a:xfrm>
            <a:off x="1490040" y="414972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опросы для повто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96840"/>
            <a:ext cx="6742080" cy="40291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245880" y="4429080"/>
            <a:ext cx="852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материалы либо проводят электрический т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зываются </a:t>
            </a:r>
            <a:r>
              <a:rPr b="1" lang="ru-RU" sz="2800" spc="-1" strike="noStrike">
                <a:solidFill>
                  <a:srgbClr val="1e3a42"/>
                </a:solidFill>
                <a:latin typeface="Arial"/>
              </a:rPr>
              <a:t>проводниками</a:t>
            </a:r>
            <a:r>
              <a:rPr b="0" lang="ru-RU" sz="2800" spc="-1" strike="noStrike">
                <a:solidFill>
                  <a:srgbClr val="1e3a42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бо не проводят электрический т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зываю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олятора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Picture 4" descr=""/>
          <p:cNvPicPr/>
          <p:nvPr/>
        </p:nvPicPr>
        <p:blipFill>
          <a:blip r:embed="rId2"/>
          <a:stretch/>
        </p:blipFill>
        <p:spPr>
          <a:xfrm>
            <a:off x="6521400" y="189000"/>
            <a:ext cx="2622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Группа 17"/>
          <p:cNvGrpSpPr/>
          <p:nvPr/>
        </p:nvGrpSpPr>
        <p:grpSpPr>
          <a:xfrm>
            <a:off x="3714840" y="1214280"/>
            <a:ext cx="1714320" cy="1571760"/>
            <a:chOff x="3714840" y="1214280"/>
            <a:chExt cx="1714320" cy="1571760"/>
          </a:xfrm>
        </p:grpSpPr>
        <p:sp>
          <p:nvSpPr>
            <p:cNvPr id="1081" name="Прямая соединительная линия 2"/>
            <p:cNvSpPr/>
            <p:nvPr/>
          </p:nvSpPr>
          <p:spPr>
            <a:xfrm flipH="1">
              <a:off x="4429080" y="1643040"/>
              <a:ext cx="1440" cy="71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Прямая соединительная линия 4"/>
            <p:cNvSpPr/>
            <p:nvPr/>
          </p:nvSpPr>
          <p:spPr>
            <a:xfrm flipH="1">
              <a:off x="4714920" y="1214280"/>
              <a:ext cx="144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Прямая соединительная линия 6"/>
            <p:cNvSpPr/>
            <p:nvPr/>
          </p:nvSpPr>
          <p:spPr>
            <a:xfrm flipH="1" flipV="1">
              <a:off x="3714840" y="2000160"/>
              <a:ext cx="714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Прямая соединительная линия 7"/>
            <p:cNvSpPr/>
            <p:nvPr/>
          </p:nvSpPr>
          <p:spPr>
            <a:xfrm flipH="1" flipV="1">
              <a:off x="4714920" y="2000160"/>
              <a:ext cx="714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Плюс 8"/>
            <p:cNvSpPr/>
            <p:nvPr/>
          </p:nvSpPr>
          <p:spPr>
            <a:xfrm>
              <a:off x="3714840" y="1428480"/>
              <a:ext cx="500040" cy="428760"/>
            </a:xfrm>
            <a:custGeom>
              <a:avLst/>
              <a:gdLst/>
              <a:ahLst/>
              <a:rect l="l" t="t" r="r" b="b"/>
              <a:pathLst>
                <a:path w="500067" h="428628">
                  <a:moveTo>
                    <a:pt x="66284" y="163907"/>
                  </a:moveTo>
                  <a:lnTo>
                    <a:pt x="199627" y="163907"/>
                  </a:lnTo>
                  <a:lnTo>
                    <a:pt x="199627" y="56815"/>
                  </a:lnTo>
                  <a:lnTo>
                    <a:pt x="300440" y="56815"/>
                  </a:lnTo>
                  <a:lnTo>
                    <a:pt x="300440" y="163907"/>
                  </a:lnTo>
                  <a:lnTo>
                    <a:pt x="433783" y="163907"/>
                  </a:lnTo>
                  <a:lnTo>
                    <a:pt x="433783" y="264721"/>
                  </a:lnTo>
                  <a:lnTo>
                    <a:pt x="300440" y="264721"/>
                  </a:lnTo>
                  <a:lnTo>
                    <a:pt x="300440" y="371813"/>
                  </a:lnTo>
                  <a:lnTo>
                    <a:pt x="199627" y="371813"/>
                  </a:lnTo>
                  <a:lnTo>
                    <a:pt x="199627" y="264721"/>
                  </a:lnTo>
                  <a:lnTo>
                    <a:pt x="66284" y="264721"/>
                  </a:lnTo>
                  <a:lnTo>
                    <a:pt x="66284" y="16390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Минус 9"/>
            <p:cNvSpPr/>
            <p:nvPr/>
          </p:nvSpPr>
          <p:spPr>
            <a:xfrm>
              <a:off x="4929120" y="1499760"/>
              <a:ext cx="500040" cy="357120"/>
            </a:xfrm>
            <a:custGeom>
              <a:avLst/>
              <a:gdLst/>
              <a:ahLst/>
              <a:rect l="l" t="t" r="r" b="b"/>
              <a:pathLst>
                <a:path w="500065" h="357189">
                  <a:moveTo>
                    <a:pt x="66284" y="136589"/>
                  </a:moveTo>
                  <a:lnTo>
                    <a:pt x="433781" y="136589"/>
                  </a:lnTo>
                  <a:lnTo>
                    <a:pt x="433781" y="220600"/>
                  </a:lnTo>
                  <a:lnTo>
                    <a:pt x="66284" y="220600"/>
                  </a:lnTo>
                  <a:lnTo>
                    <a:pt x="66284" y="13658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Группа 18"/>
          <p:cNvGrpSpPr/>
          <p:nvPr/>
        </p:nvGrpSpPr>
        <p:grpSpPr>
          <a:xfrm>
            <a:off x="8143920" y="1857240"/>
            <a:ext cx="693720" cy="2260800"/>
            <a:chOff x="8143920" y="1857240"/>
            <a:chExt cx="693720" cy="2260800"/>
          </a:xfrm>
        </p:grpSpPr>
        <p:sp>
          <p:nvSpPr>
            <p:cNvPr id="1088" name="Полилиния 11"/>
            <p:cNvSpPr/>
            <p:nvPr/>
          </p:nvSpPr>
          <p:spPr>
            <a:xfrm>
              <a:off x="8143920" y="2670120"/>
              <a:ext cx="382680" cy="1447920"/>
            </a:xfrm>
            <a:custGeom>
              <a:avLst/>
              <a:gdLst/>
              <a:ahLst/>
              <a:rect l="l" t="t" r="r" b="b"/>
              <a:pathLst>
                <a:path w="381964" h="1446835">
                  <a:moveTo>
                    <a:pt x="0" y="1446835"/>
                  </a:moveTo>
                  <a:lnTo>
                    <a:pt x="0" y="740779"/>
                  </a:lnTo>
                  <a:lnTo>
                    <a:pt x="381964" y="0"/>
                  </a:lnTo>
                  <a:lnTo>
                    <a:pt x="3819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Полилиния 12"/>
            <p:cNvSpPr/>
            <p:nvPr/>
          </p:nvSpPr>
          <p:spPr>
            <a:xfrm>
              <a:off x="8143920" y="1963440"/>
              <a:ext cx="10800" cy="719280"/>
            </a:xfrm>
            <a:custGeom>
              <a:avLst/>
              <a:gdLst/>
              <a:ahLst/>
              <a:rect l="l" t="t" r="r" b="b"/>
              <a:pathLst>
                <a:path w="11575" h="717630">
                  <a:moveTo>
                    <a:pt x="0" y="717630"/>
                  </a:moveTo>
                  <a:lnTo>
                    <a:pt x="1157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Плюс 13"/>
            <p:cNvSpPr/>
            <p:nvPr/>
          </p:nvSpPr>
          <p:spPr>
            <a:xfrm>
              <a:off x="8337600" y="1857240"/>
              <a:ext cx="500040" cy="428400"/>
            </a:xfrm>
            <a:custGeom>
              <a:avLst/>
              <a:gdLst/>
              <a:ahLst/>
              <a:rect l="l" t="t" r="r" b="b"/>
              <a:pathLst>
                <a:path w="499570" h="428506">
                  <a:moveTo>
                    <a:pt x="66218" y="163861"/>
                  </a:moveTo>
                  <a:lnTo>
                    <a:pt x="199393" y="163861"/>
                  </a:lnTo>
                  <a:lnTo>
                    <a:pt x="199393" y="56798"/>
                  </a:lnTo>
                  <a:lnTo>
                    <a:pt x="300177" y="56798"/>
                  </a:lnTo>
                  <a:lnTo>
                    <a:pt x="300177" y="163861"/>
                  </a:lnTo>
                  <a:lnTo>
                    <a:pt x="433352" y="163861"/>
                  </a:lnTo>
                  <a:lnTo>
                    <a:pt x="433352" y="264645"/>
                  </a:lnTo>
                  <a:lnTo>
                    <a:pt x="300177" y="264645"/>
                  </a:lnTo>
                  <a:lnTo>
                    <a:pt x="300177" y="371708"/>
                  </a:lnTo>
                  <a:lnTo>
                    <a:pt x="199393" y="371708"/>
                  </a:lnTo>
                  <a:lnTo>
                    <a:pt x="199393" y="264645"/>
                  </a:lnTo>
                  <a:lnTo>
                    <a:pt x="66218" y="264645"/>
                  </a:lnTo>
                  <a:lnTo>
                    <a:pt x="66218" y="16386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Минус 15"/>
            <p:cNvSpPr/>
            <p:nvPr/>
          </p:nvSpPr>
          <p:spPr>
            <a:xfrm>
              <a:off x="8337600" y="3500640"/>
              <a:ext cx="500040" cy="357120"/>
            </a:xfrm>
            <a:custGeom>
              <a:avLst/>
              <a:gdLst/>
              <a:ahLst/>
              <a:rect l="l" t="t" r="r" b="b"/>
              <a:pathLst>
                <a:path w="499570" h="357088">
                  <a:moveTo>
                    <a:pt x="66218" y="136550"/>
                  </a:moveTo>
                  <a:lnTo>
                    <a:pt x="433352" y="136550"/>
                  </a:lnTo>
                  <a:lnTo>
                    <a:pt x="433352" y="220538"/>
                  </a:lnTo>
                  <a:lnTo>
                    <a:pt x="66218" y="220538"/>
                  </a:lnTo>
                  <a:lnTo>
                    <a:pt x="66218" y="13655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2" name="Группа 22"/>
          <p:cNvGrpSpPr/>
          <p:nvPr/>
        </p:nvGrpSpPr>
        <p:grpSpPr>
          <a:xfrm>
            <a:off x="285840" y="1998360"/>
            <a:ext cx="1142640" cy="1857600"/>
            <a:chOff x="285840" y="1998360"/>
            <a:chExt cx="1142640" cy="1857600"/>
          </a:xfrm>
        </p:grpSpPr>
        <p:sp>
          <p:nvSpPr>
            <p:cNvPr id="1093" name="Блок-схема: узел суммирования 10"/>
            <p:cNvSpPr/>
            <p:nvPr/>
          </p:nvSpPr>
          <p:spPr>
            <a:xfrm rot="16200000">
              <a:off x="571320" y="2536560"/>
              <a:ext cx="857160" cy="8571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Плюс 14"/>
            <p:cNvSpPr/>
            <p:nvPr/>
          </p:nvSpPr>
          <p:spPr>
            <a:xfrm rot="16200000">
              <a:off x="249840" y="3319920"/>
              <a:ext cx="500040" cy="428400"/>
            </a:xfrm>
            <a:custGeom>
              <a:avLst/>
              <a:gdLst/>
              <a:ahLst/>
              <a:rect l="l" t="t" r="r" b="b"/>
              <a:pathLst>
                <a:path w="500067" h="428625">
                  <a:moveTo>
                    <a:pt x="66284" y="163906"/>
                  </a:moveTo>
                  <a:lnTo>
                    <a:pt x="199627" y="163906"/>
                  </a:lnTo>
                  <a:lnTo>
                    <a:pt x="199627" y="56814"/>
                  </a:lnTo>
                  <a:lnTo>
                    <a:pt x="300440" y="56814"/>
                  </a:lnTo>
                  <a:lnTo>
                    <a:pt x="300440" y="163906"/>
                  </a:lnTo>
                  <a:lnTo>
                    <a:pt x="433783" y="163906"/>
                  </a:lnTo>
                  <a:lnTo>
                    <a:pt x="433783" y="264719"/>
                  </a:lnTo>
                  <a:lnTo>
                    <a:pt x="300440" y="264719"/>
                  </a:lnTo>
                  <a:lnTo>
                    <a:pt x="300440" y="371811"/>
                  </a:lnTo>
                  <a:lnTo>
                    <a:pt x="199627" y="371811"/>
                  </a:lnTo>
                  <a:lnTo>
                    <a:pt x="199627" y="264719"/>
                  </a:lnTo>
                  <a:lnTo>
                    <a:pt x="66284" y="264719"/>
                  </a:lnTo>
                  <a:lnTo>
                    <a:pt x="66284" y="1639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Минус 16"/>
            <p:cNvSpPr/>
            <p:nvPr/>
          </p:nvSpPr>
          <p:spPr>
            <a:xfrm rot="16200000">
              <a:off x="285480" y="2069640"/>
              <a:ext cx="500040" cy="357120"/>
            </a:xfrm>
            <a:custGeom>
              <a:avLst/>
              <a:gdLst/>
              <a:ahLst/>
              <a:rect l="l" t="t" r="r" b="b"/>
              <a:pathLst>
                <a:path w="500067" h="357187">
                  <a:moveTo>
                    <a:pt x="66284" y="136588"/>
                  </a:moveTo>
                  <a:lnTo>
                    <a:pt x="433783" y="136588"/>
                  </a:lnTo>
                  <a:lnTo>
                    <a:pt x="433783" y="220599"/>
                  </a:lnTo>
                  <a:lnTo>
                    <a:pt x="66284" y="220599"/>
                  </a:lnTo>
                  <a:lnTo>
                    <a:pt x="66284" y="13658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Прямая соединительная линия 20"/>
            <p:cNvSpPr/>
            <p:nvPr/>
          </p:nvSpPr>
          <p:spPr>
            <a:xfrm flipH="1">
              <a:off x="1000080" y="3355920"/>
              <a:ext cx="144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Прямая соединительная линия 21"/>
            <p:cNvSpPr/>
            <p:nvPr/>
          </p:nvSpPr>
          <p:spPr>
            <a:xfrm flipH="1">
              <a:off x="1000080" y="1998720"/>
              <a:ext cx="144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8" name="Прямоугольник 33" descr=""/>
          <p:cNvPicPr/>
          <p:nvPr/>
        </p:nvPicPr>
        <p:blipFill>
          <a:blip r:embed="rId1"/>
          <a:stretch/>
        </p:blipFill>
        <p:spPr>
          <a:xfrm>
            <a:off x="1195560" y="2371680"/>
            <a:ext cx="957240" cy="1127160"/>
          </a:xfrm>
          <a:prstGeom prst="rect">
            <a:avLst/>
          </a:prstGeom>
          <a:ln w="0">
            <a:noFill/>
          </a:ln>
        </p:spPr>
      </p:pic>
      <p:grpSp>
        <p:nvGrpSpPr>
          <p:cNvPr id="1099" name="Группа 27"/>
          <p:cNvGrpSpPr/>
          <p:nvPr/>
        </p:nvGrpSpPr>
        <p:grpSpPr>
          <a:xfrm>
            <a:off x="3857760" y="4000680"/>
            <a:ext cx="214200" cy="1571400"/>
            <a:chOff x="3857760" y="4000680"/>
            <a:chExt cx="214200" cy="1571400"/>
          </a:xfrm>
        </p:grpSpPr>
        <p:sp>
          <p:nvSpPr>
            <p:cNvPr id="1100" name="Овал 23"/>
            <p:cNvSpPr/>
            <p:nvPr/>
          </p:nvSpPr>
          <p:spPr>
            <a:xfrm>
              <a:off x="3857760" y="4000680"/>
              <a:ext cx="214200" cy="214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Скругленный прямоугольник 26"/>
            <p:cNvSpPr/>
            <p:nvPr/>
          </p:nvSpPr>
          <p:spPr>
            <a:xfrm>
              <a:off x="3929040" y="4214880"/>
              <a:ext cx="71280" cy="13572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1357200"/>
                <a:gd name="textAreaBottom" fmla="*/ 1353960 h 1357200"/>
              </a:gdLst>
              <a:ahLst/>
              <a:rect l="textAreaLeft" t="textAreaTop" r="textAreaRight" b="textAreaBottom"/>
              <a:pathLst>
                <a:path w="21600" h="409315">
                  <a:moveTo>
                    <a:pt x="3600" y="0"/>
                  </a:moveTo>
                  <a:arcTo wR="3600" hR="3600" stAng="16200000" swAng="-5400000"/>
                  <a:lnTo>
                    <a:pt x="0" y="405715"/>
                  </a:lnTo>
                  <a:arcTo wR="3600" hR="3600" stAng="10800000" swAng="-5400000"/>
                  <a:lnTo>
                    <a:pt x="18000" y="409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Группа 28"/>
          <p:cNvGrpSpPr/>
          <p:nvPr/>
        </p:nvGrpSpPr>
        <p:grpSpPr>
          <a:xfrm>
            <a:off x="4714920" y="4000680"/>
            <a:ext cx="214200" cy="1571400"/>
            <a:chOff x="4714920" y="4000680"/>
            <a:chExt cx="214200" cy="1571400"/>
          </a:xfrm>
        </p:grpSpPr>
        <p:sp>
          <p:nvSpPr>
            <p:cNvPr id="1103" name="Овал 29"/>
            <p:cNvSpPr/>
            <p:nvPr/>
          </p:nvSpPr>
          <p:spPr>
            <a:xfrm>
              <a:off x="4714920" y="4000680"/>
              <a:ext cx="214200" cy="214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Скругленный прямоугольник 30"/>
            <p:cNvSpPr/>
            <p:nvPr/>
          </p:nvSpPr>
          <p:spPr>
            <a:xfrm>
              <a:off x="4786200" y="4214880"/>
              <a:ext cx="71280" cy="13572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1357200"/>
                <a:gd name="textAreaBottom" fmla="*/ 1353960 h 1357200"/>
              </a:gdLst>
              <a:ahLst/>
              <a:rect l="textAreaLeft" t="textAreaTop" r="textAreaRight" b="textAreaBottom"/>
              <a:pathLst>
                <a:path w="21600" h="409315">
                  <a:moveTo>
                    <a:pt x="3600" y="0"/>
                  </a:moveTo>
                  <a:arcTo wR="3600" hR="3600" stAng="16200000" swAng="-5400000"/>
                  <a:lnTo>
                    <a:pt x="0" y="405715"/>
                  </a:lnTo>
                  <a:arcTo wR="3600" hR="3600" stAng="10800000" swAng="-5400000"/>
                  <a:lnTo>
                    <a:pt x="18000" y="409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5" name="Прямая соединительная линия 37"/>
          <p:cNvSpPr/>
          <p:nvPr/>
        </p:nvSpPr>
        <p:spPr>
          <a:xfrm>
            <a:off x="1000080" y="2000160"/>
            <a:ext cx="271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Полилиния 40"/>
          <p:cNvSpPr/>
          <p:nvPr/>
        </p:nvSpPr>
        <p:spPr>
          <a:xfrm>
            <a:off x="1008000" y="3816360"/>
            <a:ext cx="2843280" cy="279360"/>
          </a:xfrm>
          <a:custGeom>
            <a:avLst/>
            <a:gdLst/>
            <a:ahLst/>
            <a:rect l="l" t="t" r="r" b="b"/>
            <a:pathLst>
              <a:path w="2843561" h="278780">
                <a:moveTo>
                  <a:pt x="0" y="0"/>
                </a:moveTo>
                <a:lnTo>
                  <a:pt x="0" y="278780"/>
                </a:lnTo>
                <a:lnTo>
                  <a:pt x="2843561" y="256478"/>
                </a:lnTo>
                <a:lnTo>
                  <a:pt x="2843561" y="256478"/>
                </a:lnTo>
                <a:lnTo>
                  <a:pt x="2843561" y="256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Прямая соединительная линия 42"/>
          <p:cNvSpPr/>
          <p:nvPr/>
        </p:nvSpPr>
        <p:spPr>
          <a:xfrm>
            <a:off x="4929120" y="4108320"/>
            <a:ext cx="321480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Прямая соединительная линия 44"/>
          <p:cNvSpPr/>
          <p:nvPr/>
        </p:nvSpPr>
        <p:spPr>
          <a:xfrm flipH="1">
            <a:off x="5429160" y="1963800"/>
            <a:ext cx="2725920" cy="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1"/>
          <p:cNvSpPr/>
          <p:nvPr/>
        </p:nvSpPr>
        <p:spPr>
          <a:xfrm>
            <a:off x="1026360" y="4287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ни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пределения проводимости матери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Прямоугольник 31"/>
          <p:cNvSpPr/>
          <p:nvPr/>
        </p:nvSpPr>
        <p:spPr>
          <a:xfrm>
            <a:off x="6083280" y="59292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1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112" name="Багетная рамка 34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113" name="Багетная рамка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5" name="Группа 71"/>
            <p:cNvGrpSpPr/>
            <p:nvPr/>
          </p:nvGrpSpPr>
          <p:grpSpPr>
            <a:xfrm>
              <a:off x="4585680" y="4042080"/>
              <a:ext cx="367200" cy="429120"/>
              <a:chOff x="4585680" y="4042080"/>
              <a:chExt cx="367200" cy="429120"/>
            </a:xfrm>
          </p:grpSpPr>
          <p:sp>
            <p:nvSpPr>
              <p:cNvPr id="1116" name="Трапеция 59"/>
              <p:cNvSpPr/>
              <p:nvPr/>
            </p:nvSpPr>
            <p:spPr>
              <a:xfrm rot="11040000">
                <a:off x="4595400" y="4053600"/>
                <a:ext cx="347760" cy="288000"/>
              </a:xfrm>
              <a:custGeom>
                <a:avLst/>
                <a:gdLst/>
                <a:ahLst/>
                <a:rect l="l" t="t" r="r" b="b"/>
                <a:pathLst>
                  <a:path w="500062" h="362384">
                    <a:moveTo>
                      <a:pt x="0" y="362384"/>
                    </a:moveTo>
                    <a:lnTo>
                      <a:pt x="114082" y="0"/>
                    </a:lnTo>
                    <a:lnTo>
                      <a:pt x="385980" y="0"/>
                    </a:lnTo>
                    <a:lnTo>
                      <a:pt x="500062" y="362384"/>
                    </a:lnTo>
                    <a:lnTo>
                      <a:pt x="0" y="362384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17" name="Кольцо 6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60200" y="4232520"/>
                <a:ext cx="231480" cy="23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8" name="Группа 85"/>
            <p:cNvGrpSpPr/>
            <p:nvPr/>
          </p:nvGrpSpPr>
          <p:grpSpPr>
            <a:xfrm>
              <a:off x="3853080" y="4583880"/>
              <a:ext cx="277920" cy="1538280"/>
              <a:chOff x="3853080" y="4583880"/>
              <a:chExt cx="277920" cy="1538280"/>
            </a:xfrm>
          </p:grpSpPr>
          <p:sp>
            <p:nvSpPr>
              <p:cNvPr id="1119" name="Скругленный прямоугольник 52"/>
              <p:cNvSpPr/>
              <p:nvPr/>
            </p:nvSpPr>
            <p:spPr>
              <a:xfrm rot="10800000">
                <a:off x="3853080" y="458388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Кольцо 53"/>
              <p:cNvSpPr/>
              <p:nvPr/>
            </p:nvSpPr>
            <p:spPr>
              <a:xfrm rot="10800000">
                <a:off x="3880800" y="5861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Кольцо 54"/>
              <p:cNvSpPr/>
              <p:nvPr/>
            </p:nvSpPr>
            <p:spPr>
              <a:xfrm rot="10800000">
                <a:off x="3880800" y="559116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Кольцо 55"/>
              <p:cNvSpPr/>
              <p:nvPr/>
            </p:nvSpPr>
            <p:spPr>
              <a:xfrm rot="10800000">
                <a:off x="3880800" y="53967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Кольцо 56"/>
              <p:cNvSpPr/>
              <p:nvPr/>
            </p:nvSpPr>
            <p:spPr>
              <a:xfrm rot="10800000">
                <a:off x="3880800" y="51652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Кольцо 57"/>
              <p:cNvSpPr/>
              <p:nvPr/>
            </p:nvSpPr>
            <p:spPr>
              <a:xfrm rot="10800000">
                <a:off x="3880800" y="493200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Кольцо 58"/>
              <p:cNvSpPr/>
              <p:nvPr/>
            </p:nvSpPr>
            <p:spPr>
              <a:xfrm rot="10800000">
                <a:off x="3880800" y="4700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6" name="Группа 87"/>
            <p:cNvGrpSpPr/>
            <p:nvPr/>
          </p:nvGrpSpPr>
          <p:grpSpPr>
            <a:xfrm>
              <a:off x="3820320" y="4042080"/>
              <a:ext cx="367200" cy="428760"/>
              <a:chOff x="3820320" y="4042080"/>
              <a:chExt cx="367200" cy="428760"/>
            </a:xfrm>
          </p:grpSpPr>
          <p:sp>
            <p:nvSpPr>
              <p:cNvPr id="1127" name="Трапеция 50"/>
              <p:cNvSpPr/>
              <p:nvPr/>
            </p:nvSpPr>
            <p:spPr>
              <a:xfrm rot="11040000">
                <a:off x="3830040" y="4053600"/>
                <a:ext cx="347760" cy="287640"/>
              </a:xfrm>
              <a:custGeom>
                <a:avLst/>
                <a:gdLst/>
                <a:ahLst/>
                <a:rect l="l" t="t" r="r" b="b"/>
                <a:pathLst>
                  <a:path w="500063" h="360526">
                    <a:moveTo>
                      <a:pt x="0" y="360526"/>
                    </a:moveTo>
                    <a:lnTo>
                      <a:pt x="113497" y="0"/>
                    </a:lnTo>
                    <a:lnTo>
                      <a:pt x="386566" y="0"/>
                    </a:lnTo>
                    <a:lnTo>
                      <a:pt x="500063" y="360526"/>
                    </a:lnTo>
                    <a:lnTo>
                      <a:pt x="0" y="360526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28" name="Кольцо 5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3888360" y="4231440"/>
                <a:ext cx="231480" cy="2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9" name="Группа 90"/>
            <p:cNvGrpSpPr/>
            <p:nvPr/>
          </p:nvGrpSpPr>
          <p:grpSpPr>
            <a:xfrm>
              <a:off x="4618440" y="4583880"/>
              <a:ext cx="277920" cy="1538280"/>
              <a:chOff x="4618440" y="4583880"/>
              <a:chExt cx="277920" cy="1538280"/>
            </a:xfrm>
          </p:grpSpPr>
          <p:sp>
            <p:nvSpPr>
              <p:cNvPr id="1130" name="Скругленный прямоугольник 41"/>
              <p:cNvSpPr/>
              <p:nvPr/>
            </p:nvSpPr>
            <p:spPr>
              <a:xfrm rot="10800000">
                <a:off x="4618440" y="458388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Кольцо 43"/>
              <p:cNvSpPr/>
              <p:nvPr/>
            </p:nvSpPr>
            <p:spPr>
              <a:xfrm rot="10800000">
                <a:off x="4646160" y="5861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Кольцо 45"/>
              <p:cNvSpPr/>
              <p:nvPr/>
            </p:nvSpPr>
            <p:spPr>
              <a:xfrm rot="10800000">
                <a:off x="4646160" y="559116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Кольцо 46"/>
              <p:cNvSpPr/>
              <p:nvPr/>
            </p:nvSpPr>
            <p:spPr>
              <a:xfrm rot="10800000">
                <a:off x="4646160" y="53967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Кольцо 47"/>
              <p:cNvSpPr/>
              <p:nvPr/>
            </p:nvSpPr>
            <p:spPr>
              <a:xfrm rot="10800000">
                <a:off x="4646160" y="51652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Кольцо 48"/>
              <p:cNvSpPr/>
              <p:nvPr/>
            </p:nvSpPr>
            <p:spPr>
              <a:xfrm rot="10800000">
                <a:off x="4646160" y="493200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Кольцо 49"/>
              <p:cNvSpPr/>
              <p:nvPr/>
            </p:nvSpPr>
            <p:spPr>
              <a:xfrm rot="10800000">
                <a:off x="4646160" y="4700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Полилиния 128"/>
          <p:cNvSpPr/>
          <p:nvPr/>
        </p:nvSpPr>
        <p:spPr>
          <a:xfrm>
            <a:off x="2571840" y="1285920"/>
            <a:ext cx="1357200" cy="2071800"/>
          </a:xfrm>
          <a:custGeom>
            <a:avLst/>
            <a:gdLst/>
            <a:ahLst/>
            <a:rect l="l" t="t" r="r" b="b"/>
            <a:pathLst>
              <a:path w="1583474" h="1051932">
                <a:moveTo>
                  <a:pt x="178420" y="598449"/>
                </a:moveTo>
                <a:cubicBezTo>
                  <a:pt x="89210" y="391222"/>
                  <a:pt x="0" y="183995"/>
                  <a:pt x="44605" y="107795"/>
                </a:cubicBezTo>
                <a:cubicBezTo>
                  <a:pt x="89210" y="31595"/>
                  <a:pt x="312234" y="0"/>
                  <a:pt x="446049" y="141249"/>
                </a:cubicBezTo>
                <a:cubicBezTo>
                  <a:pt x="579864" y="282498"/>
                  <a:pt x="691376" y="858644"/>
                  <a:pt x="847493" y="955288"/>
                </a:cubicBezTo>
                <a:cubicBezTo>
                  <a:pt x="1003610" y="1051932"/>
                  <a:pt x="1260089" y="721112"/>
                  <a:pt x="1382752" y="721112"/>
                </a:cubicBezTo>
                <a:cubicBezTo>
                  <a:pt x="1505415" y="721112"/>
                  <a:pt x="1583474" y="955288"/>
                  <a:pt x="1583474" y="955288"/>
                </a:cubicBezTo>
                <a:lnTo>
                  <a:pt x="1583474" y="955288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Полилиния 94"/>
          <p:cNvSpPr/>
          <p:nvPr/>
        </p:nvSpPr>
        <p:spPr>
          <a:xfrm>
            <a:off x="4500720" y="0"/>
            <a:ext cx="2079360" cy="177156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Полилиния 90"/>
          <p:cNvSpPr/>
          <p:nvPr/>
        </p:nvSpPr>
        <p:spPr>
          <a:xfrm>
            <a:off x="500040" y="214200"/>
            <a:ext cx="3571920" cy="2000520"/>
          </a:xfrm>
          <a:custGeom>
            <a:avLst/>
            <a:gdLst/>
            <a:ahLst/>
            <a:rect l="l" t="t" r="r" b="b"/>
            <a:pathLst>
              <a:path w="2926465" h="4060785">
                <a:moveTo>
                  <a:pt x="2766349" y="530506"/>
                </a:moveTo>
                <a:cubicBezTo>
                  <a:pt x="2846407" y="286473"/>
                  <a:pt x="2926465" y="42440"/>
                  <a:pt x="2812647" y="21220"/>
                </a:cubicBezTo>
                <a:cubicBezTo>
                  <a:pt x="2698829" y="0"/>
                  <a:pt x="2380526" y="50157"/>
                  <a:pt x="2083442" y="403185"/>
                </a:cubicBezTo>
                <a:cubicBezTo>
                  <a:pt x="1786359" y="756213"/>
                  <a:pt x="1354237" y="1726557"/>
                  <a:pt x="1030146" y="2139387"/>
                </a:cubicBezTo>
                <a:cubicBezTo>
                  <a:pt x="706055" y="2552217"/>
                  <a:pt x="277792" y="2559934"/>
                  <a:pt x="138896" y="2880167"/>
                </a:cubicBezTo>
                <a:cubicBezTo>
                  <a:pt x="0" y="3200400"/>
                  <a:pt x="98384" y="3630592"/>
                  <a:pt x="196769" y="406078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Багетная рамка 2"/>
          <p:cNvGrpSpPr/>
          <p:nvPr/>
        </p:nvGrpSpPr>
        <p:grpSpPr>
          <a:xfrm>
            <a:off x="365040" y="2657520"/>
            <a:ext cx="2408400" cy="1073160"/>
            <a:chOff x="365040" y="2657520"/>
            <a:chExt cx="2408400" cy="1073160"/>
          </a:xfrm>
        </p:grpSpPr>
        <p:pic>
          <p:nvPicPr>
            <p:cNvPr id="1141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365040" y="2657520"/>
              <a:ext cx="24084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47560" y="2806560"/>
              <a:ext cx="2048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3" name="Picture 12" descr="j0404041"/>
          <p:cNvPicPr/>
          <p:nvPr/>
        </p:nvPicPr>
        <p:blipFill>
          <a:blip r:embed="rId2"/>
          <a:stretch/>
        </p:blipFill>
        <p:spPr>
          <a:xfrm rot="19284000">
            <a:off x="1277640" y="2142720"/>
            <a:ext cx="595080" cy="711360"/>
          </a:xfrm>
          <a:prstGeom prst="rect">
            <a:avLst/>
          </a:prstGeom>
          <a:ln w="0">
            <a:noFill/>
          </a:ln>
        </p:spPr>
      </p:pic>
      <p:pic>
        <p:nvPicPr>
          <p:cNvPr id="1144" name="Группа 37" descr=""/>
          <p:cNvPicPr/>
          <p:nvPr/>
        </p:nvPicPr>
        <p:blipFill>
          <a:blip r:embed="rId3"/>
          <a:stretch/>
        </p:blipFill>
        <p:spPr>
          <a:xfrm>
            <a:off x="517680" y="2762280"/>
            <a:ext cx="2109600" cy="596880"/>
          </a:xfrm>
          <a:prstGeom prst="rect">
            <a:avLst/>
          </a:prstGeom>
          <a:ln w="0">
            <a:noFill/>
          </a:ln>
        </p:spPr>
      </p:pic>
      <p:sp>
        <p:nvSpPr>
          <p:cNvPr id="1145" name="Плюс 5"/>
          <p:cNvSpPr/>
          <p:nvPr/>
        </p:nvSpPr>
        <p:spPr>
          <a:xfrm>
            <a:off x="2000160" y="2786040"/>
            <a:ext cx="347760" cy="301680"/>
          </a:xfrm>
          <a:custGeom>
            <a:avLst/>
            <a:gdLst/>
            <a:ahLst/>
            <a:rect l="l" t="t" r="r" b="b"/>
            <a:pathLst>
              <a:path w="347663" h="301625">
                <a:moveTo>
                  <a:pt x="46083" y="115341"/>
                </a:moveTo>
                <a:lnTo>
                  <a:pt x="138360" y="115341"/>
                </a:lnTo>
                <a:lnTo>
                  <a:pt x="138360" y="39980"/>
                </a:lnTo>
                <a:lnTo>
                  <a:pt x="209303" y="39980"/>
                </a:lnTo>
                <a:lnTo>
                  <a:pt x="209303" y="115341"/>
                </a:lnTo>
                <a:lnTo>
                  <a:pt x="301580" y="115341"/>
                </a:lnTo>
                <a:lnTo>
                  <a:pt x="301580" y="186284"/>
                </a:lnTo>
                <a:lnTo>
                  <a:pt x="209303" y="186284"/>
                </a:lnTo>
                <a:lnTo>
                  <a:pt x="209303" y="261645"/>
                </a:lnTo>
                <a:lnTo>
                  <a:pt x="138360" y="261645"/>
                </a:lnTo>
                <a:lnTo>
                  <a:pt x="138360" y="186284"/>
                </a:lnTo>
                <a:lnTo>
                  <a:pt x="46083" y="186284"/>
                </a:lnTo>
                <a:lnTo>
                  <a:pt x="46083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Минус 6"/>
          <p:cNvSpPr/>
          <p:nvPr/>
        </p:nvSpPr>
        <p:spPr>
          <a:xfrm>
            <a:off x="857160" y="2786040"/>
            <a:ext cx="297000" cy="301680"/>
          </a:xfrm>
          <a:custGeom>
            <a:avLst/>
            <a:gdLst/>
            <a:ahLst/>
            <a:rect l="l" t="t" r="r" b="b"/>
            <a:pathLst>
              <a:path w="296863" h="301625">
                <a:moveTo>
                  <a:pt x="39349" y="115341"/>
                </a:moveTo>
                <a:lnTo>
                  <a:pt x="257514" y="115341"/>
                </a:lnTo>
                <a:lnTo>
                  <a:pt x="257514" y="186284"/>
                </a:lnTo>
                <a:lnTo>
                  <a:pt x="39349" y="186284"/>
                </a:lnTo>
                <a:lnTo>
                  <a:pt x="39349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7" name="Группа 54"/>
          <p:cNvGrpSpPr/>
          <p:nvPr/>
        </p:nvGrpSpPr>
        <p:grpSpPr>
          <a:xfrm>
            <a:off x="4049280" y="360"/>
            <a:ext cx="2117880" cy="2213640"/>
            <a:chOff x="4049280" y="360"/>
            <a:chExt cx="2117880" cy="2213640"/>
          </a:xfrm>
        </p:grpSpPr>
        <p:sp>
          <p:nvSpPr>
            <p:cNvPr id="1148" name="Полилиния 39"/>
            <p:cNvSpPr/>
            <p:nvPr/>
          </p:nvSpPr>
          <p:spPr>
            <a:xfrm rot="5247000">
              <a:off x="4083120" y="124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Полилиния 40"/>
            <p:cNvSpPr/>
            <p:nvPr/>
          </p:nvSpPr>
          <p:spPr>
            <a:xfrm rot="5247000">
              <a:off x="4013280" y="133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0" name="Куб 42"/>
          <p:cNvGrpSpPr/>
          <p:nvPr/>
        </p:nvGrpSpPr>
        <p:grpSpPr>
          <a:xfrm>
            <a:off x="3133800" y="1060560"/>
            <a:ext cx="2309760" cy="1238040"/>
            <a:chOff x="3133800" y="1060560"/>
            <a:chExt cx="2309760" cy="1238040"/>
          </a:xfrm>
        </p:grpSpPr>
        <p:pic>
          <p:nvPicPr>
            <p:cNvPr id="1151" name="Куб 42" descr=""/>
            <p:cNvPicPr/>
            <p:nvPr/>
          </p:nvPicPr>
          <p:blipFill>
            <a:blip r:embed="rId4"/>
            <a:stretch/>
          </p:blipFill>
          <p:spPr>
            <a:xfrm>
              <a:off x="3133800" y="1060560"/>
              <a:ext cx="230976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3143160" y="1630440"/>
              <a:ext cx="1727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53" name="Кольцо 43" descr=""/>
          <p:cNvPicPr/>
          <p:nvPr/>
        </p:nvPicPr>
        <p:blipFill>
          <a:blip r:embed="rId5"/>
          <a:stretch/>
        </p:blipFill>
        <p:spPr>
          <a:xfrm>
            <a:off x="3517920" y="1047600"/>
            <a:ext cx="1492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154" name="Кольцо 44"/>
          <p:cNvGrpSpPr/>
          <p:nvPr/>
        </p:nvGrpSpPr>
        <p:grpSpPr>
          <a:xfrm>
            <a:off x="4211640" y="1127160"/>
            <a:ext cx="585720" cy="525600"/>
            <a:chOff x="4211640" y="1127160"/>
            <a:chExt cx="585720" cy="525600"/>
          </a:xfrm>
        </p:grpSpPr>
        <p:pic>
          <p:nvPicPr>
            <p:cNvPr id="1155" name="Кольцо 44" descr=""/>
            <p:cNvPicPr/>
            <p:nvPr/>
          </p:nvPicPr>
          <p:blipFill>
            <a:blip r:embed="rId6"/>
            <a:stretch/>
          </p:blipFill>
          <p:spPr>
            <a:xfrm>
              <a:off x="4211640" y="1127160"/>
              <a:ext cx="5857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4414680" y="1281240"/>
              <a:ext cx="174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Кольцо 45"/>
          <p:cNvGrpSpPr/>
          <p:nvPr/>
        </p:nvGrpSpPr>
        <p:grpSpPr>
          <a:xfrm>
            <a:off x="3718080" y="1189080"/>
            <a:ext cx="585720" cy="523800"/>
            <a:chOff x="3718080" y="1189080"/>
            <a:chExt cx="585720" cy="523800"/>
          </a:xfrm>
        </p:grpSpPr>
        <p:pic>
          <p:nvPicPr>
            <p:cNvPr id="1158" name="Кольцо 45" descr=""/>
            <p:cNvPicPr/>
            <p:nvPr/>
          </p:nvPicPr>
          <p:blipFill>
            <a:blip r:embed="rId7"/>
            <a:stretch/>
          </p:blipFill>
          <p:spPr>
            <a:xfrm>
              <a:off x="3718080" y="1189080"/>
              <a:ext cx="5857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3921120" y="1341360"/>
              <a:ext cx="1746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0" name="Плюс 46"/>
          <p:cNvSpPr/>
          <p:nvPr/>
        </p:nvSpPr>
        <p:spPr>
          <a:xfrm>
            <a:off x="3357720" y="1357200"/>
            <a:ext cx="247320" cy="303480"/>
          </a:xfrm>
          <a:custGeom>
            <a:avLst/>
            <a:gdLst/>
            <a:ahLst/>
            <a:rect l="l" t="t" r="r" b="b"/>
            <a:pathLst>
              <a:path w="247650" h="303212">
                <a:moveTo>
                  <a:pt x="32826" y="122482"/>
                </a:moveTo>
                <a:lnTo>
                  <a:pt x="94701" y="122482"/>
                </a:lnTo>
                <a:lnTo>
                  <a:pt x="94701" y="40191"/>
                </a:lnTo>
                <a:lnTo>
                  <a:pt x="152949" y="40191"/>
                </a:lnTo>
                <a:lnTo>
                  <a:pt x="152949" y="122482"/>
                </a:lnTo>
                <a:lnTo>
                  <a:pt x="214824" y="122482"/>
                </a:lnTo>
                <a:lnTo>
                  <a:pt x="214824" y="180730"/>
                </a:lnTo>
                <a:lnTo>
                  <a:pt x="152949" y="180730"/>
                </a:lnTo>
                <a:lnTo>
                  <a:pt x="152949" y="263021"/>
                </a:lnTo>
                <a:lnTo>
                  <a:pt x="94701" y="263021"/>
                </a:lnTo>
                <a:lnTo>
                  <a:pt x="94701" y="180730"/>
                </a:lnTo>
                <a:lnTo>
                  <a:pt x="32826" y="180730"/>
                </a:lnTo>
                <a:lnTo>
                  <a:pt x="32826" y="12248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инус 47"/>
          <p:cNvSpPr/>
          <p:nvPr/>
        </p:nvSpPr>
        <p:spPr>
          <a:xfrm>
            <a:off x="4929120" y="1071720"/>
            <a:ext cx="309600" cy="242640"/>
          </a:xfrm>
          <a:custGeom>
            <a:avLst/>
            <a:gdLst/>
            <a:ahLst/>
            <a:rect l="l" t="t" r="r" b="b"/>
            <a:pathLst>
              <a:path w="309562" h="242887">
                <a:moveTo>
                  <a:pt x="41032" y="92880"/>
                </a:moveTo>
                <a:lnTo>
                  <a:pt x="268530" y="92880"/>
                </a:lnTo>
                <a:lnTo>
                  <a:pt x="268530" y="150007"/>
                </a:lnTo>
                <a:lnTo>
                  <a:pt x="41032" y="150007"/>
                </a:lnTo>
                <a:lnTo>
                  <a:pt x="41032" y="928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Группа 14"/>
          <p:cNvGrpSpPr/>
          <p:nvPr/>
        </p:nvGrpSpPr>
        <p:grpSpPr>
          <a:xfrm>
            <a:off x="6215040" y="2176920"/>
            <a:ext cx="2286000" cy="1285560"/>
            <a:chOff x="6215040" y="2176920"/>
            <a:chExt cx="2286000" cy="1285560"/>
          </a:xfrm>
        </p:grpSpPr>
        <p:grpSp>
          <p:nvGrpSpPr>
            <p:cNvPr id="1163" name="Багетная рамка 52"/>
            <p:cNvGrpSpPr/>
            <p:nvPr/>
          </p:nvGrpSpPr>
          <p:grpSpPr>
            <a:xfrm>
              <a:off x="6215040" y="2458440"/>
              <a:ext cx="2286000" cy="1004040"/>
              <a:chOff x="6215040" y="2458440"/>
              <a:chExt cx="2286000" cy="1004040"/>
            </a:xfrm>
          </p:grpSpPr>
          <p:pic>
            <p:nvPicPr>
              <p:cNvPr id="1164" name="Багетная рамка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5040" y="2458440"/>
                <a:ext cx="22860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"/>
              <p:cNvSpPr/>
              <p:nvPr/>
            </p:nvSpPr>
            <p:spPr>
              <a:xfrm>
                <a:off x="6383520" y="2599560"/>
                <a:ext cx="19436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6" name="Кольцо 2"/>
            <p:cNvSpPr/>
            <p:nvPr/>
          </p:nvSpPr>
          <p:spPr>
            <a:xfrm>
              <a:off x="7898040" y="2822400"/>
              <a:ext cx="271080" cy="267480"/>
            </a:xfrm>
            <a:custGeom>
              <a:avLst/>
              <a:gdLst/>
              <a:ahLst/>
              <a:rect l="l" t="t" r="r" b="b"/>
              <a:pathLst>
                <a:path w="285752" h="285901">
                  <a:moveTo>
                    <a:pt x="0" y="142951"/>
                  </a:moveTo>
                  <a:cubicBezTo>
                    <a:pt x="0" y="64001"/>
                    <a:pt x="63968" y="0"/>
                    <a:pt x="142876" y="0"/>
                  </a:cubicBezTo>
                  <a:cubicBezTo>
                    <a:pt x="221784" y="0"/>
                    <a:pt x="285752" y="64001"/>
                    <a:pt x="285752" y="142951"/>
                  </a:cubicBezTo>
                  <a:cubicBezTo>
                    <a:pt x="285752" y="221901"/>
                    <a:pt x="221784" y="285902"/>
                    <a:pt x="142876" y="285902"/>
                  </a:cubicBezTo>
                  <a:cubicBezTo>
                    <a:pt x="63968" y="285902"/>
                    <a:pt x="0" y="221901"/>
                    <a:pt x="0" y="142951"/>
                  </a:cubicBezTo>
                  <a:close/>
                  <a:moveTo>
                    <a:pt x="71438" y="142951"/>
                  </a:moveTo>
                  <a:cubicBezTo>
                    <a:pt x="71438" y="182447"/>
                    <a:pt x="103422" y="214464"/>
                    <a:pt x="142876" y="214464"/>
                  </a:cubicBezTo>
                  <a:cubicBezTo>
                    <a:pt x="182330" y="214464"/>
                    <a:pt x="214314" y="182447"/>
                    <a:pt x="214314" y="142951"/>
                  </a:cubicBezTo>
                  <a:cubicBezTo>
                    <a:pt x="214314" y="103455"/>
                    <a:pt x="182330" y="71438"/>
                    <a:pt x="142876" y="71438"/>
                  </a:cubicBezTo>
                  <a:cubicBezTo>
                    <a:pt x="103422" y="71438"/>
                    <a:pt x="71438" y="103455"/>
                    <a:pt x="71438" y="142951"/>
                  </a:cubicBez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Фигура, имеющая форму буквы L 3"/>
            <p:cNvSpPr/>
            <p:nvPr/>
          </p:nvSpPr>
          <p:spPr>
            <a:xfrm rot="857400">
              <a:off x="6752520" y="2613960"/>
              <a:ext cx="1257120" cy="218160"/>
            </a:xfrm>
            <a:custGeom>
              <a:avLst/>
              <a:gdLst/>
              <a:ahLst/>
              <a:rect l="l" t="t" r="r" b="b"/>
              <a:pathLst>
                <a:path w="1323984" h="233486">
                  <a:moveTo>
                    <a:pt x="0" y="0"/>
                  </a:moveTo>
                  <a:lnTo>
                    <a:pt x="123047" y="0"/>
                  </a:lnTo>
                  <a:lnTo>
                    <a:pt x="123047" y="129354"/>
                  </a:lnTo>
                  <a:lnTo>
                    <a:pt x="1323984" y="129354"/>
                  </a:lnTo>
                  <a:lnTo>
                    <a:pt x="1323984" y="233486"/>
                  </a:lnTo>
                  <a:lnTo>
                    <a:pt x="0" y="233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Трапеция 4"/>
            <p:cNvSpPr/>
            <p:nvPr/>
          </p:nvSpPr>
          <p:spPr>
            <a:xfrm rot="11657400">
              <a:off x="6730920" y="2215800"/>
              <a:ext cx="351000" cy="271800"/>
            </a:xfrm>
            <a:custGeom>
              <a:avLst/>
              <a:gdLst/>
              <a:ahLst/>
              <a:rect l="l" t="t" r="r" b="b"/>
              <a:pathLst>
                <a:path w="369890" h="290666">
                  <a:moveTo>
                    <a:pt x="0" y="290666"/>
                  </a:moveTo>
                  <a:lnTo>
                    <a:pt x="72667" y="0"/>
                  </a:lnTo>
                  <a:lnTo>
                    <a:pt x="297224" y="0"/>
                  </a:lnTo>
                  <a:lnTo>
                    <a:pt x="369890" y="290666"/>
                  </a:lnTo>
                  <a:lnTo>
                    <a:pt x="0" y="290666"/>
                  </a:lnTo>
                  <a:close/>
                </a:path>
              </a:pathLst>
            </a:cu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Группа 13" descr=""/>
            <p:cNvPicPr/>
            <p:nvPr/>
          </p:nvPicPr>
          <p:blipFill>
            <a:blip r:embed="rId9"/>
            <a:stretch/>
          </p:blipFill>
          <p:spPr>
            <a:xfrm>
              <a:off x="6394320" y="2811960"/>
              <a:ext cx="56700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Плюс 50"/>
          <p:cNvSpPr/>
          <p:nvPr/>
        </p:nvSpPr>
        <p:spPr>
          <a:xfrm>
            <a:off x="6357960" y="307188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144989" y="109271"/>
                </a:lnTo>
                <a:lnTo>
                  <a:pt x="144989" y="37876"/>
                </a:lnTo>
                <a:lnTo>
                  <a:pt x="212198" y="37876"/>
                </a:lnTo>
                <a:lnTo>
                  <a:pt x="212198" y="109271"/>
                </a:lnTo>
                <a:lnTo>
                  <a:pt x="309842" y="109271"/>
                </a:lnTo>
                <a:lnTo>
                  <a:pt x="309842" y="176479"/>
                </a:lnTo>
                <a:lnTo>
                  <a:pt x="212198" y="176479"/>
                </a:lnTo>
                <a:lnTo>
                  <a:pt x="212198" y="247874"/>
                </a:lnTo>
                <a:lnTo>
                  <a:pt x="144989" y="247874"/>
                </a:lnTo>
                <a:lnTo>
                  <a:pt x="144989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инус 51"/>
          <p:cNvSpPr/>
          <p:nvPr/>
        </p:nvSpPr>
        <p:spPr>
          <a:xfrm>
            <a:off x="8072280" y="257184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309842" y="109271"/>
                </a:lnTo>
                <a:lnTo>
                  <a:pt x="309842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Группа 5"/>
          <p:cNvGrpSpPr/>
          <p:nvPr/>
        </p:nvGrpSpPr>
        <p:grpSpPr>
          <a:xfrm>
            <a:off x="6215040" y="1785960"/>
            <a:ext cx="357120" cy="1214280"/>
            <a:chOff x="6215040" y="1785960"/>
            <a:chExt cx="357120" cy="1214280"/>
          </a:xfrm>
        </p:grpSpPr>
        <p:sp>
          <p:nvSpPr>
            <p:cNvPr id="1173" name="Скругленный прямоугольник 60"/>
            <p:cNvSpPr/>
            <p:nvPr/>
          </p:nvSpPr>
          <p:spPr>
            <a:xfrm flipH="1">
              <a:off x="6465960" y="260820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Полилиния 61"/>
            <p:cNvSpPr/>
            <p:nvPr/>
          </p:nvSpPr>
          <p:spPr>
            <a:xfrm flipH="1">
              <a:off x="6215040" y="178596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Группа 5"/>
          <p:cNvGrpSpPr/>
          <p:nvPr/>
        </p:nvGrpSpPr>
        <p:grpSpPr>
          <a:xfrm>
            <a:off x="4429080" y="285840"/>
            <a:ext cx="357120" cy="1214280"/>
            <a:chOff x="4429080" y="285840"/>
            <a:chExt cx="357120" cy="1214280"/>
          </a:xfrm>
        </p:grpSpPr>
        <p:sp>
          <p:nvSpPr>
            <p:cNvPr id="1176" name="Скругленный прямоугольник 63"/>
            <p:cNvSpPr/>
            <p:nvPr/>
          </p:nvSpPr>
          <p:spPr>
            <a:xfrm>
              <a:off x="4464000" y="11080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Полилиния 64"/>
            <p:cNvSpPr/>
            <p:nvPr/>
          </p:nvSpPr>
          <p:spPr>
            <a:xfrm>
              <a:off x="4429080" y="28584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Группа 5"/>
          <p:cNvGrpSpPr/>
          <p:nvPr/>
        </p:nvGrpSpPr>
        <p:grpSpPr>
          <a:xfrm>
            <a:off x="642960" y="2071800"/>
            <a:ext cx="357120" cy="1214280"/>
            <a:chOff x="642960" y="2071800"/>
            <a:chExt cx="357120" cy="1214280"/>
          </a:xfrm>
        </p:grpSpPr>
        <p:sp>
          <p:nvSpPr>
            <p:cNvPr id="1179" name="Скругленный прямоугольник 72"/>
            <p:cNvSpPr/>
            <p:nvPr/>
          </p:nvSpPr>
          <p:spPr>
            <a:xfrm>
              <a:off x="677880" y="28940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Полилиния 73"/>
            <p:cNvSpPr/>
            <p:nvPr/>
          </p:nvSpPr>
          <p:spPr>
            <a:xfrm>
              <a:off x="642960" y="207180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1" name="Группа 5"/>
          <p:cNvGrpSpPr/>
          <p:nvPr/>
        </p:nvGrpSpPr>
        <p:grpSpPr>
          <a:xfrm>
            <a:off x="8001000" y="1857240"/>
            <a:ext cx="357120" cy="1214640"/>
            <a:chOff x="8001000" y="1857240"/>
            <a:chExt cx="357120" cy="1214640"/>
          </a:xfrm>
        </p:grpSpPr>
        <p:sp>
          <p:nvSpPr>
            <p:cNvPr id="1182" name="Скругленный прямоугольник 75"/>
            <p:cNvSpPr/>
            <p:nvPr/>
          </p:nvSpPr>
          <p:spPr>
            <a:xfrm>
              <a:off x="8035920" y="26798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Полилиния 76"/>
            <p:cNvSpPr/>
            <p:nvPr/>
          </p:nvSpPr>
          <p:spPr>
            <a:xfrm>
              <a:off x="8001000" y="1857240"/>
              <a:ext cx="35712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Группа 5"/>
          <p:cNvGrpSpPr/>
          <p:nvPr/>
        </p:nvGrpSpPr>
        <p:grpSpPr>
          <a:xfrm>
            <a:off x="2458440" y="1928520"/>
            <a:ext cx="479880" cy="1217160"/>
            <a:chOff x="2458440" y="1928520"/>
            <a:chExt cx="479880" cy="1217160"/>
          </a:xfrm>
        </p:grpSpPr>
        <p:sp>
          <p:nvSpPr>
            <p:cNvPr id="1185" name="Скругленный прямоугольник 84"/>
            <p:cNvSpPr/>
            <p:nvPr/>
          </p:nvSpPr>
          <p:spPr>
            <a:xfrm rot="439200">
              <a:off x="2482920" y="2751120"/>
              <a:ext cx="71280" cy="3916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1680"/>
                <a:gd name="textAreaBottom" fmla="*/ 388440 h 391680"/>
              </a:gdLst>
              <a:ahLst/>
              <a:rect l="textAreaLeft" t="textAreaTop" r="textAreaRight" b="textAreaBottom"/>
              <a:pathLst>
                <a:path w="21600" h="118203">
                  <a:moveTo>
                    <a:pt x="3600" y="0"/>
                  </a:moveTo>
                  <a:arcTo wR="3600" hR="3600" stAng="16200000" swAng="-5400000"/>
                  <a:lnTo>
                    <a:pt x="0" y="114603"/>
                  </a:lnTo>
                  <a:arcTo wR="3600" hR="3600" stAng="10800000" swAng="-5400000"/>
                  <a:lnTo>
                    <a:pt x="18000" y="118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Полилиния 85"/>
            <p:cNvSpPr/>
            <p:nvPr/>
          </p:nvSpPr>
          <p:spPr>
            <a:xfrm rot="439200">
              <a:off x="2527560" y="1947600"/>
              <a:ext cx="357120" cy="86112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Группа 5"/>
          <p:cNvGrpSpPr/>
          <p:nvPr/>
        </p:nvGrpSpPr>
        <p:grpSpPr>
          <a:xfrm>
            <a:off x="3642840" y="357120"/>
            <a:ext cx="357480" cy="1214640"/>
            <a:chOff x="3642840" y="357120"/>
            <a:chExt cx="357480" cy="1214640"/>
          </a:xfrm>
        </p:grpSpPr>
        <p:sp>
          <p:nvSpPr>
            <p:cNvPr id="1188" name="Скругленный прямоугольник 87"/>
            <p:cNvSpPr/>
            <p:nvPr/>
          </p:nvSpPr>
          <p:spPr>
            <a:xfrm flipH="1">
              <a:off x="3894120" y="117972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Полилиния 88"/>
            <p:cNvSpPr/>
            <p:nvPr/>
          </p:nvSpPr>
          <p:spPr>
            <a:xfrm flipH="1">
              <a:off x="3642480" y="357120"/>
              <a:ext cx="35748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0" name="Picture 34" descr="j0234717"/>
          <p:cNvPicPr/>
          <p:nvPr/>
        </p:nvPicPr>
        <p:blipFill>
          <a:blip r:embed="rId10"/>
          <a:stretch/>
        </p:blipFill>
        <p:spPr>
          <a:xfrm>
            <a:off x="1143000" y="1928880"/>
            <a:ext cx="811080" cy="1069920"/>
          </a:xfrm>
          <a:prstGeom prst="rect">
            <a:avLst/>
          </a:prstGeom>
          <a:ln w="0">
            <a:noFill/>
          </a:ln>
        </p:spPr>
      </p:pic>
      <p:pic>
        <p:nvPicPr>
          <p:cNvPr id="1191" name="Прямоугольник 100" descr=""/>
          <p:cNvPicPr/>
          <p:nvPr/>
        </p:nvPicPr>
        <p:blipFill>
          <a:blip r:embed="rId11"/>
          <a:stretch/>
        </p:blipFill>
        <p:spPr>
          <a:xfrm>
            <a:off x="1378080" y="2352600"/>
            <a:ext cx="104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192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193" name="Багетная рамка 102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194" name="Багетная рамка 10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6" name="Группа 71"/>
            <p:cNvGrpSpPr/>
            <p:nvPr/>
          </p:nvGrpSpPr>
          <p:grpSpPr>
            <a:xfrm>
              <a:off x="4659120" y="4048920"/>
              <a:ext cx="347400" cy="426240"/>
              <a:chOff x="4659120" y="4048920"/>
              <a:chExt cx="347400" cy="426240"/>
            </a:xfrm>
          </p:grpSpPr>
          <p:sp>
            <p:nvSpPr>
              <p:cNvPr id="1197" name="Трапеция 123"/>
              <p:cNvSpPr/>
              <p:nvPr/>
            </p:nvSpPr>
            <p:spPr>
              <a:xfrm rot="11040000">
                <a:off x="4668840" y="4059360"/>
                <a:ext cx="320760" cy="289080"/>
              </a:xfrm>
              <a:custGeom>
                <a:avLst/>
                <a:gdLst/>
                <a:ahLst/>
                <a:rect l="l" t="t" r="r" b="b"/>
                <a:pathLst>
                  <a:path w="500062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5" y="0"/>
                    </a:lnTo>
                    <a:lnTo>
                      <a:pt x="500062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98" name="Кольцо 124" descr=""/>
              <p:cNvPicPr/>
              <p:nvPr/>
            </p:nvPicPr>
            <p:blipFill>
              <a:blip r:embed="rId13"/>
              <a:stretch/>
            </p:blipFill>
            <p:spPr>
              <a:xfrm rot="21599400">
                <a:off x="4793040" y="4236840"/>
                <a:ext cx="2134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9" name="Группа 85"/>
            <p:cNvGrpSpPr/>
            <p:nvPr/>
          </p:nvGrpSpPr>
          <p:grpSpPr>
            <a:xfrm>
              <a:off x="3913560" y="4551840"/>
              <a:ext cx="277920" cy="1538280"/>
              <a:chOff x="3913560" y="4551840"/>
              <a:chExt cx="277920" cy="1538280"/>
            </a:xfrm>
          </p:grpSpPr>
          <p:sp>
            <p:nvSpPr>
              <p:cNvPr id="1200" name="Скругленный прямоугольник 116"/>
              <p:cNvSpPr/>
              <p:nvPr/>
            </p:nvSpPr>
            <p:spPr>
              <a:xfrm rot="10800000">
                <a:off x="3913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Кольцо 117"/>
              <p:cNvSpPr/>
              <p:nvPr/>
            </p:nvSpPr>
            <p:spPr>
              <a:xfrm rot="10800000">
                <a:off x="3942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Кольцо 118"/>
              <p:cNvSpPr/>
              <p:nvPr/>
            </p:nvSpPr>
            <p:spPr>
              <a:xfrm rot="10800000">
                <a:off x="3942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Кольцо 119"/>
              <p:cNvSpPr/>
              <p:nvPr/>
            </p:nvSpPr>
            <p:spPr>
              <a:xfrm rot="10800000">
                <a:off x="3942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Кольцо 120"/>
              <p:cNvSpPr/>
              <p:nvPr/>
            </p:nvSpPr>
            <p:spPr>
              <a:xfrm rot="10800000">
                <a:off x="3942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Кольцо 121"/>
              <p:cNvSpPr/>
              <p:nvPr/>
            </p:nvSpPr>
            <p:spPr>
              <a:xfrm rot="10800000">
                <a:off x="3942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Кольцо 122"/>
              <p:cNvSpPr/>
              <p:nvPr/>
            </p:nvSpPr>
            <p:spPr>
              <a:xfrm rot="10800000">
                <a:off x="3942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7" name="Группа 87"/>
            <p:cNvGrpSpPr/>
            <p:nvPr/>
          </p:nvGrpSpPr>
          <p:grpSpPr>
            <a:xfrm>
              <a:off x="3893760" y="4048920"/>
              <a:ext cx="347040" cy="425880"/>
              <a:chOff x="3893760" y="4048920"/>
              <a:chExt cx="347040" cy="425880"/>
            </a:xfrm>
          </p:grpSpPr>
          <p:sp>
            <p:nvSpPr>
              <p:cNvPr id="1208" name="Трапеция 114"/>
              <p:cNvSpPr/>
              <p:nvPr/>
            </p:nvSpPr>
            <p:spPr>
              <a:xfrm rot="11040000">
                <a:off x="3903480" y="4059360"/>
                <a:ext cx="316440" cy="289080"/>
              </a:xfrm>
              <a:custGeom>
                <a:avLst/>
                <a:gdLst/>
                <a:ahLst/>
                <a:rect l="l" t="t" r="r" b="b"/>
                <a:pathLst>
                  <a:path w="500063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6" y="0"/>
                    </a:lnTo>
                    <a:lnTo>
                      <a:pt x="500063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09" name="Кольцо 115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4024800" y="4236480"/>
                <a:ext cx="2160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Группа 90"/>
            <p:cNvGrpSpPr/>
            <p:nvPr/>
          </p:nvGrpSpPr>
          <p:grpSpPr>
            <a:xfrm>
              <a:off x="4678560" y="4551840"/>
              <a:ext cx="277920" cy="1538280"/>
              <a:chOff x="4678560" y="4551840"/>
              <a:chExt cx="277920" cy="1538280"/>
            </a:xfrm>
          </p:grpSpPr>
          <p:sp>
            <p:nvSpPr>
              <p:cNvPr id="1211" name="Скругленный прямоугольник 107"/>
              <p:cNvSpPr/>
              <p:nvPr/>
            </p:nvSpPr>
            <p:spPr>
              <a:xfrm rot="10800000">
                <a:off x="4678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Кольцо 108"/>
              <p:cNvSpPr/>
              <p:nvPr/>
            </p:nvSpPr>
            <p:spPr>
              <a:xfrm rot="10800000">
                <a:off x="4707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Кольцо 109"/>
              <p:cNvSpPr/>
              <p:nvPr/>
            </p:nvSpPr>
            <p:spPr>
              <a:xfrm rot="10800000">
                <a:off x="4707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Кольцо 110"/>
              <p:cNvSpPr/>
              <p:nvPr/>
            </p:nvSpPr>
            <p:spPr>
              <a:xfrm rot="10800000">
                <a:off x="4707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Кольцо 111"/>
              <p:cNvSpPr/>
              <p:nvPr/>
            </p:nvSpPr>
            <p:spPr>
              <a:xfrm rot="10800000">
                <a:off x="4707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Кольцо 112"/>
              <p:cNvSpPr/>
              <p:nvPr/>
            </p:nvSpPr>
            <p:spPr>
              <a:xfrm rot="10800000">
                <a:off x="4707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Кольцо 113"/>
              <p:cNvSpPr/>
              <p:nvPr/>
            </p:nvSpPr>
            <p:spPr>
              <a:xfrm rot="10800000">
                <a:off x="4707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18" name="Группа 5"/>
          <p:cNvGrpSpPr/>
          <p:nvPr/>
        </p:nvGrpSpPr>
        <p:grpSpPr>
          <a:xfrm>
            <a:off x="4816080" y="3142440"/>
            <a:ext cx="590760" cy="1206720"/>
            <a:chOff x="4816080" y="3142440"/>
            <a:chExt cx="590760" cy="1206720"/>
          </a:xfrm>
        </p:grpSpPr>
        <p:sp>
          <p:nvSpPr>
            <p:cNvPr id="1219" name="Скругленный прямоугольник 78"/>
            <p:cNvSpPr/>
            <p:nvPr/>
          </p:nvSpPr>
          <p:spPr>
            <a:xfrm rot="775800">
              <a:off x="4858920" y="39538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Полилиния 79"/>
            <p:cNvSpPr/>
            <p:nvPr/>
          </p:nvSpPr>
          <p:spPr>
            <a:xfrm rot="775800">
              <a:off x="4957200" y="3171240"/>
              <a:ext cx="35748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Группа 5"/>
          <p:cNvGrpSpPr/>
          <p:nvPr/>
        </p:nvGrpSpPr>
        <p:grpSpPr>
          <a:xfrm>
            <a:off x="3642480" y="3142800"/>
            <a:ext cx="472680" cy="1215720"/>
            <a:chOff x="3642480" y="3142800"/>
            <a:chExt cx="472680" cy="1215720"/>
          </a:xfrm>
        </p:grpSpPr>
        <p:sp>
          <p:nvSpPr>
            <p:cNvPr id="1222" name="Скругленный прямоугольник 126"/>
            <p:cNvSpPr/>
            <p:nvPr/>
          </p:nvSpPr>
          <p:spPr>
            <a:xfrm flipH="1" rot="21259200">
              <a:off x="4024080" y="3970800"/>
              <a:ext cx="71280" cy="384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84840"/>
                <a:gd name="textAreaBottom" fmla="*/ 381600 h 384840"/>
              </a:gdLst>
              <a:ahLst/>
              <a:rect l="textAreaLeft" t="textAreaTop" r="textAreaRight" b="textAreaBottom"/>
              <a:pathLst>
                <a:path w="21600" h="116141">
                  <a:moveTo>
                    <a:pt x="3600" y="0"/>
                  </a:moveTo>
                  <a:arcTo wR="3600" hR="3600" stAng="16200000" swAng="-5400000"/>
                  <a:lnTo>
                    <a:pt x="0" y="112541"/>
                  </a:lnTo>
                  <a:arcTo wR="3600" hR="3600" stAng="10800000" swAng="-5400000"/>
                  <a:lnTo>
                    <a:pt x="18000" y="11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Полилиния 127"/>
            <p:cNvSpPr/>
            <p:nvPr/>
          </p:nvSpPr>
          <p:spPr>
            <a:xfrm flipH="1" rot="21259200">
              <a:off x="3683160" y="3158280"/>
              <a:ext cx="357480" cy="8474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Полилиния 86"/>
          <p:cNvSpPr/>
          <p:nvPr/>
        </p:nvSpPr>
        <p:spPr>
          <a:xfrm>
            <a:off x="5008680" y="949320"/>
            <a:ext cx="4127400" cy="3403440"/>
          </a:xfrm>
          <a:custGeom>
            <a:avLst/>
            <a:gdLst/>
            <a:ahLst/>
            <a:rect l="l" t="t" r="r" b="b"/>
            <a:pathLst>
              <a:path w="4127810" h="3402981">
                <a:moveTo>
                  <a:pt x="120805" y="2194932"/>
                </a:moveTo>
                <a:cubicBezTo>
                  <a:pt x="60402" y="1996998"/>
                  <a:pt x="0" y="1799064"/>
                  <a:pt x="109654" y="1782337"/>
                </a:cubicBezTo>
                <a:cubicBezTo>
                  <a:pt x="219308" y="1765610"/>
                  <a:pt x="581722" y="1891991"/>
                  <a:pt x="778727" y="2094571"/>
                </a:cubicBezTo>
                <a:cubicBezTo>
                  <a:pt x="975732" y="2297151"/>
                  <a:pt x="797312" y="2850996"/>
                  <a:pt x="1291683" y="2997820"/>
                </a:cubicBezTo>
                <a:cubicBezTo>
                  <a:pt x="1786054" y="3144644"/>
                  <a:pt x="3362092" y="3402981"/>
                  <a:pt x="3744951" y="2975517"/>
                </a:cubicBezTo>
                <a:cubicBezTo>
                  <a:pt x="4127810" y="2548053"/>
                  <a:pt x="3705922" y="866078"/>
                  <a:pt x="3588834" y="433039"/>
                </a:cubicBezTo>
                <a:cubicBezTo>
                  <a:pt x="3471746" y="0"/>
                  <a:pt x="3127917" y="295507"/>
                  <a:pt x="3042424" y="377283"/>
                </a:cubicBezTo>
                <a:cubicBezTo>
                  <a:pt x="2956931" y="459059"/>
                  <a:pt x="3016404" y="691376"/>
                  <a:pt x="3075878" y="923693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Полилиния 129"/>
          <p:cNvSpPr/>
          <p:nvPr/>
        </p:nvSpPr>
        <p:spPr>
          <a:xfrm flipH="1" flipV="1" rot="20953800">
            <a:off x="2928240" y="5357520"/>
            <a:ext cx="3071880" cy="135720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Группа 5"/>
          <p:cNvGrpSpPr/>
          <p:nvPr/>
        </p:nvGrpSpPr>
        <p:grpSpPr>
          <a:xfrm>
            <a:off x="4728240" y="5518800"/>
            <a:ext cx="1219320" cy="403560"/>
            <a:chOff x="4728240" y="5518800"/>
            <a:chExt cx="1219320" cy="403560"/>
          </a:xfrm>
        </p:grpSpPr>
        <p:sp>
          <p:nvSpPr>
            <p:cNvPr id="1228" name="Скругленный прямоугольник 106"/>
            <p:cNvSpPr/>
            <p:nvPr/>
          </p:nvSpPr>
          <p:spPr>
            <a:xfrm rot="5585400">
              <a:off x="4890960" y="5402520"/>
              <a:ext cx="71280" cy="393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3840"/>
                <a:gd name="textAreaBottom" fmla="*/ 390600 h 393840"/>
              </a:gdLst>
              <a:ahLst/>
              <a:rect l="textAreaLeft" t="textAreaTop" r="textAreaRight" b="textAreaBottom"/>
              <a:pathLst>
                <a:path w="21600" h="118854">
                  <a:moveTo>
                    <a:pt x="3600" y="0"/>
                  </a:moveTo>
                  <a:arcTo wR="3600" hR="3600" stAng="16200000" swAng="-5400000"/>
                  <a:lnTo>
                    <a:pt x="0" y="115254"/>
                  </a:lnTo>
                  <a:arcTo wR="3600" hR="3600" stAng="10800000" swAng="-5400000"/>
                  <a:lnTo>
                    <a:pt x="18000" y="11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Полилиния 125"/>
            <p:cNvSpPr/>
            <p:nvPr/>
          </p:nvSpPr>
          <p:spPr>
            <a:xfrm rot="5585400">
              <a:off x="5326920" y="5287320"/>
              <a:ext cx="357120" cy="86616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0" name="Группа 5"/>
          <p:cNvGrpSpPr/>
          <p:nvPr/>
        </p:nvGrpSpPr>
        <p:grpSpPr>
          <a:xfrm>
            <a:off x="2929320" y="5428800"/>
            <a:ext cx="1227960" cy="396000"/>
            <a:chOff x="2929320" y="5428800"/>
            <a:chExt cx="1227960" cy="396000"/>
          </a:xfrm>
        </p:grpSpPr>
        <p:sp>
          <p:nvSpPr>
            <p:cNvPr id="1231" name="Скругленный прямоугольник 103"/>
            <p:cNvSpPr/>
            <p:nvPr/>
          </p:nvSpPr>
          <p:spPr>
            <a:xfrm flipH="1" rot="16356600">
              <a:off x="3924000" y="5349240"/>
              <a:ext cx="71280" cy="3924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400"/>
                <a:gd name="textAreaBottom" fmla="*/ 389160 h 392400"/>
              </a:gdLst>
              <a:ahLst/>
              <a:rect l="textAreaLeft" t="textAreaTop" r="textAreaRight" b="textAreaBottom"/>
              <a:pathLst>
                <a:path w="21600" h="118420">
                  <a:moveTo>
                    <a:pt x="3600" y="0"/>
                  </a:moveTo>
                  <a:arcTo wR="3600" hR="3600" stAng="16200000" swAng="-5400000"/>
                  <a:lnTo>
                    <a:pt x="0" y="114820"/>
                  </a:lnTo>
                  <a:arcTo wR="3600" hR="3600" stAng="10800000" swAng="-5400000"/>
                  <a:lnTo>
                    <a:pt x="18000" y="11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Полилиния 104"/>
            <p:cNvSpPr/>
            <p:nvPr/>
          </p:nvSpPr>
          <p:spPr>
            <a:xfrm flipH="1" rot="16356600">
              <a:off x="3189240" y="5195160"/>
              <a:ext cx="357120" cy="86256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Блок-схема: знак завершения 182"/>
          <p:cNvSpPr/>
          <p:nvPr/>
        </p:nvSpPr>
        <p:spPr>
          <a:xfrm>
            <a:off x="785880" y="3571920"/>
            <a:ext cx="2143080" cy="142920"/>
          </a:xfrm>
          <a:prstGeom prst="flowChartTerminator">
            <a:avLst/>
          </a:prstGeom>
          <a:solidFill>
            <a:srgbClr val="00b0f0"/>
          </a:solidFill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Группа 8" descr=""/>
          <p:cNvPicPr/>
          <p:nvPr/>
        </p:nvPicPr>
        <p:blipFill>
          <a:blip r:embed="rId1"/>
          <a:stretch/>
        </p:blipFill>
        <p:spPr>
          <a:xfrm>
            <a:off x="-19080" y="3292560"/>
            <a:ext cx="2781360" cy="809640"/>
          </a:xfrm>
          <a:prstGeom prst="rect">
            <a:avLst/>
          </a:prstGeom>
          <a:ln w="0">
            <a:noFill/>
          </a:ln>
        </p:spPr>
      </p:pic>
      <p:sp>
        <p:nvSpPr>
          <p:cNvPr id="1235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Прямоугольник 97" descr=""/>
          <p:cNvPicPr/>
          <p:nvPr/>
        </p:nvPicPr>
        <p:blipFill>
          <a:blip r:embed="rId2"/>
          <a:stretch/>
        </p:blipFill>
        <p:spPr>
          <a:xfrm>
            <a:off x="1494000" y="2682720"/>
            <a:ext cx="14619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237" name="Цилиндр 131"/>
          <p:cNvGrpSpPr/>
          <p:nvPr/>
        </p:nvGrpSpPr>
        <p:grpSpPr>
          <a:xfrm>
            <a:off x="1311120" y="3382920"/>
            <a:ext cx="2213280" cy="330120"/>
            <a:chOff x="1311120" y="3382920"/>
            <a:chExt cx="2213280" cy="330120"/>
          </a:xfrm>
        </p:grpSpPr>
        <p:pic>
          <p:nvPicPr>
            <p:cNvPr id="1238" name="Цилиндр 131" descr=""/>
            <p:cNvPicPr/>
            <p:nvPr/>
          </p:nvPicPr>
          <p:blipFill>
            <a:blip r:embed="rId3"/>
            <a:stretch/>
          </p:blipFill>
          <p:spPr>
            <a:xfrm>
              <a:off x="1311120" y="3382920"/>
              <a:ext cx="22132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 rot="16200000">
              <a:off x="2376360" y="2576160"/>
              <a:ext cx="9540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0" name="Цилиндр 132"/>
          <p:cNvGrpSpPr/>
          <p:nvPr/>
        </p:nvGrpSpPr>
        <p:grpSpPr>
          <a:xfrm>
            <a:off x="1384200" y="3316320"/>
            <a:ext cx="2266920" cy="274680"/>
            <a:chOff x="1384200" y="3316320"/>
            <a:chExt cx="2266920" cy="274680"/>
          </a:xfrm>
        </p:grpSpPr>
        <p:pic>
          <p:nvPicPr>
            <p:cNvPr id="1241" name="Цилиндр 132" descr=""/>
            <p:cNvPicPr/>
            <p:nvPr/>
          </p:nvPicPr>
          <p:blipFill>
            <a:blip r:embed="rId4"/>
            <a:stretch/>
          </p:blipFill>
          <p:spPr>
            <a:xfrm>
              <a:off x="1384200" y="3316320"/>
              <a:ext cx="22669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 rot="16200000">
              <a:off x="2495520" y="2444760"/>
              <a:ext cx="475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Цилиндр 133"/>
          <p:cNvGrpSpPr/>
          <p:nvPr/>
        </p:nvGrpSpPr>
        <p:grpSpPr>
          <a:xfrm>
            <a:off x="1809720" y="2955960"/>
            <a:ext cx="2268720" cy="280800"/>
            <a:chOff x="1809720" y="2955960"/>
            <a:chExt cx="2268720" cy="280800"/>
          </a:xfrm>
        </p:grpSpPr>
        <p:pic>
          <p:nvPicPr>
            <p:cNvPr id="1244" name="Цилиндр 133" descr=""/>
            <p:cNvPicPr/>
            <p:nvPr/>
          </p:nvPicPr>
          <p:blipFill>
            <a:blip r:embed="rId5"/>
            <a:stretch/>
          </p:blipFill>
          <p:spPr>
            <a:xfrm>
              <a:off x="1809720" y="2955960"/>
              <a:ext cx="226872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5" name=""/>
            <p:cNvSpPr/>
            <p:nvPr/>
          </p:nvSpPr>
          <p:spPr>
            <a:xfrm rot="16200000">
              <a:off x="2924280" y="2087640"/>
              <a:ext cx="475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6" name="Скругленный прямоугольник 134"/>
          <p:cNvSpPr/>
          <p:nvPr/>
        </p:nvSpPr>
        <p:spPr>
          <a:xfrm>
            <a:off x="1357200" y="3143160"/>
            <a:ext cx="2143080" cy="2858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Скругленный прямоугольник 135"/>
          <p:cNvSpPr/>
          <p:nvPr/>
        </p:nvSpPr>
        <p:spPr>
          <a:xfrm>
            <a:off x="928800" y="3357720"/>
            <a:ext cx="1868400" cy="2854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8" name="Группа 138"/>
          <p:cNvGrpSpPr/>
          <p:nvPr/>
        </p:nvGrpSpPr>
        <p:grpSpPr>
          <a:xfrm>
            <a:off x="1357200" y="3499920"/>
            <a:ext cx="1812960" cy="95760"/>
            <a:chOff x="1357200" y="3499920"/>
            <a:chExt cx="1812960" cy="95760"/>
          </a:xfrm>
        </p:grpSpPr>
        <p:grpSp>
          <p:nvGrpSpPr>
            <p:cNvPr id="1249" name="Цилиндр 137"/>
            <p:cNvGrpSpPr/>
            <p:nvPr/>
          </p:nvGrpSpPr>
          <p:grpSpPr>
            <a:xfrm>
              <a:off x="1357200" y="3499920"/>
              <a:ext cx="1812960" cy="81360"/>
              <a:chOff x="1357200" y="3499920"/>
              <a:chExt cx="1812960" cy="81360"/>
            </a:xfrm>
          </p:grpSpPr>
          <p:pic>
            <p:nvPicPr>
              <p:cNvPr id="1250" name="Цилиндр 137" descr=""/>
              <p:cNvPicPr/>
              <p:nvPr/>
            </p:nvPicPr>
            <p:blipFill>
              <a:blip r:embed="rId8"/>
              <a:stretch/>
            </p:blipFill>
            <p:spPr>
              <a:xfrm>
                <a:off x="1357200" y="3499920"/>
                <a:ext cx="1812960" cy="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 rot="16200000">
                <a:off x="2258280" y="2743560"/>
                <a:ext cx="1368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2" name="Цилиндр 136"/>
            <p:cNvGrpSpPr/>
            <p:nvPr/>
          </p:nvGrpSpPr>
          <p:grpSpPr>
            <a:xfrm>
              <a:off x="1438200" y="3500280"/>
              <a:ext cx="1688760" cy="95400"/>
              <a:chOff x="1438200" y="3500280"/>
              <a:chExt cx="1688760" cy="95400"/>
            </a:xfrm>
          </p:grpSpPr>
          <p:pic>
            <p:nvPicPr>
              <p:cNvPr id="1253" name="Цилиндр 136" descr=""/>
              <p:cNvPicPr/>
              <p:nvPr/>
            </p:nvPicPr>
            <p:blipFill>
              <a:blip r:embed="rId9"/>
              <a:stretch/>
            </p:blipFill>
            <p:spPr>
              <a:xfrm>
                <a:off x="1438200" y="3500280"/>
                <a:ext cx="1688760" cy="9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4" name=""/>
              <p:cNvSpPr/>
              <p:nvPr/>
            </p:nvSpPr>
            <p:spPr>
              <a:xfrm rot="16200000">
                <a:off x="2275200" y="2820600"/>
                <a:ext cx="27360" cy="14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5" name="Скругленный прямоугольник 139"/>
          <p:cNvGrpSpPr/>
          <p:nvPr/>
        </p:nvGrpSpPr>
        <p:grpSpPr>
          <a:xfrm>
            <a:off x="1584360" y="3303720"/>
            <a:ext cx="2073240" cy="493560"/>
            <a:chOff x="1584360" y="3303720"/>
            <a:chExt cx="2073240" cy="493560"/>
          </a:xfrm>
        </p:grpSpPr>
        <p:pic>
          <p:nvPicPr>
            <p:cNvPr id="1256" name="Скругленный прямоугольник 139" descr=""/>
            <p:cNvPicPr/>
            <p:nvPr/>
          </p:nvPicPr>
          <p:blipFill>
            <a:blip r:embed="rId10"/>
            <a:stretch/>
          </p:blipFill>
          <p:spPr>
            <a:xfrm>
              <a:off x="1584360" y="3303720"/>
              <a:ext cx="20732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1717560" y="3432240"/>
              <a:ext cx="1806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8" name="Группа 145" descr=""/>
          <p:cNvPicPr/>
          <p:nvPr/>
        </p:nvPicPr>
        <p:blipFill>
          <a:blip r:embed="rId11"/>
          <a:stretch/>
        </p:blipFill>
        <p:spPr>
          <a:xfrm>
            <a:off x="1847880" y="3060720"/>
            <a:ext cx="13953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259" name="Группа 154"/>
          <p:cNvGrpSpPr/>
          <p:nvPr/>
        </p:nvGrpSpPr>
        <p:grpSpPr>
          <a:xfrm>
            <a:off x="1857240" y="3286080"/>
            <a:ext cx="1833840" cy="324000"/>
            <a:chOff x="1857240" y="3286080"/>
            <a:chExt cx="1833840" cy="324000"/>
          </a:xfrm>
        </p:grpSpPr>
        <p:sp>
          <p:nvSpPr>
            <p:cNvPr id="1260" name="Скругленный прямоугольник 146"/>
            <p:cNvSpPr/>
            <p:nvPr/>
          </p:nvSpPr>
          <p:spPr>
            <a:xfrm rot="5400000">
              <a:off x="2612160" y="2531160"/>
              <a:ext cx="324000" cy="1833840"/>
            </a:xfrm>
            <a:custGeom>
              <a:avLst/>
              <a:gdLst>
                <a:gd name="textAreaLeft" fmla="*/ 27000 w 324000"/>
                <a:gd name="textAreaRight" fmla="*/ 297000 w 324000"/>
                <a:gd name="textAreaTop" fmla="*/ 27000 h 1833840"/>
                <a:gd name="textAreaBottom" fmla="*/ 1806840 h 1833840"/>
              </a:gdLst>
              <a:ahLst/>
              <a:rect l="textAreaLeft" t="textAreaTop" r="textAreaRight" b="textAreaBottom"/>
              <a:pathLst>
                <a:path w="21600" h="122144">
                  <a:moveTo>
                    <a:pt x="6160" y="0"/>
                  </a:moveTo>
                  <a:arcTo wR="6160" hR="6160" stAng="16200000" swAng="-5400000"/>
                  <a:lnTo>
                    <a:pt x="0" y="115984"/>
                  </a:lnTo>
                  <a:arcTo wR="6160" hR="6160" stAng="10800000" swAng="-5400000"/>
                  <a:lnTo>
                    <a:pt x="15440" y="122144"/>
                  </a:lnTo>
                  <a:arcTo wR="6160" hR="6160" stAng="5400000" swAng="-5400000"/>
                  <a:lnTo>
                    <a:pt x="21600" y="6160"/>
                  </a:lnTo>
                  <a:arcTo wR="6160" hR="616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Овал 148"/>
            <p:cNvSpPr/>
            <p:nvPr/>
          </p:nvSpPr>
          <p:spPr>
            <a:xfrm rot="5400000">
              <a:off x="33861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Овал 149"/>
            <p:cNvSpPr/>
            <p:nvPr/>
          </p:nvSpPr>
          <p:spPr>
            <a:xfrm rot="5400000">
              <a:off x="306252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Овал 150"/>
            <p:cNvSpPr/>
            <p:nvPr/>
          </p:nvSpPr>
          <p:spPr>
            <a:xfrm rot="5400000">
              <a:off x="279252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Овал 151"/>
            <p:cNvSpPr/>
            <p:nvPr/>
          </p:nvSpPr>
          <p:spPr>
            <a:xfrm rot="5400000">
              <a:off x="252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Овал 152"/>
            <p:cNvSpPr/>
            <p:nvPr/>
          </p:nvSpPr>
          <p:spPr>
            <a:xfrm rot="5400000">
              <a:off x="225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Овал 153"/>
            <p:cNvSpPr/>
            <p:nvPr/>
          </p:nvSpPr>
          <p:spPr>
            <a:xfrm rot="5400000">
              <a:off x="198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7" name="Куб 156"/>
          <p:cNvSpPr/>
          <p:nvPr/>
        </p:nvSpPr>
        <p:spPr>
          <a:xfrm rot="16200000">
            <a:off x="2321640" y="2392560"/>
            <a:ext cx="214200" cy="2000160"/>
          </a:xfrm>
          <a:prstGeom prst="cube">
            <a:avLst>
              <a:gd name="adj" fmla="val 25000"/>
            </a:avLst>
          </a:prstGeom>
          <a:solidFill>
            <a:srgbClr val="7f7f7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Группа 36" descr=""/>
          <p:cNvPicPr/>
          <p:nvPr/>
        </p:nvPicPr>
        <p:blipFill>
          <a:blip r:embed="rId12"/>
          <a:stretch/>
        </p:blipFill>
        <p:spPr>
          <a:xfrm>
            <a:off x="1262160" y="3438360"/>
            <a:ext cx="2487600" cy="19548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" descr=""/>
          <p:cNvPicPr/>
          <p:nvPr/>
        </p:nvPicPr>
        <p:blipFill>
          <a:blip r:embed="rId13">
            <a:lum contrast="40000"/>
          </a:blip>
          <a:stretch/>
        </p:blipFill>
        <p:spPr>
          <a:xfrm rot="10611000">
            <a:off x="1652040" y="3273480"/>
            <a:ext cx="2143080" cy="42840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9" descr="j0233729"/>
          <p:cNvPicPr/>
          <p:nvPr/>
        </p:nvPicPr>
        <p:blipFill>
          <a:blip r:embed="rId14"/>
          <a:stretch/>
        </p:blipFill>
        <p:spPr>
          <a:xfrm rot="391200">
            <a:off x="1595520" y="3279600"/>
            <a:ext cx="2430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1271" name="Группа 9"/>
          <p:cNvGrpSpPr/>
          <p:nvPr/>
        </p:nvGrpSpPr>
        <p:grpSpPr>
          <a:xfrm>
            <a:off x="1857240" y="3429000"/>
            <a:ext cx="2063880" cy="163440"/>
            <a:chOff x="1857240" y="3429000"/>
            <a:chExt cx="2063880" cy="163440"/>
          </a:xfrm>
        </p:grpSpPr>
        <p:sp>
          <p:nvSpPr>
            <p:cNvPr id="1272" name="Полилиния 170"/>
            <p:cNvSpPr/>
            <p:nvPr/>
          </p:nvSpPr>
          <p:spPr>
            <a:xfrm rot="16200000">
              <a:off x="2490480" y="2795400"/>
              <a:ext cx="158760" cy="1425600"/>
            </a:xfrm>
            <a:custGeom>
              <a:avLst/>
              <a:gdLst/>
              <a:ahLst/>
              <a:rect l="l" t="t" r="r" b="b"/>
              <a:pathLst>
                <a:path w="544010" h="2870522">
                  <a:moveTo>
                    <a:pt x="0" y="2847372"/>
                  </a:moveTo>
                  <a:lnTo>
                    <a:pt x="196769" y="2604304"/>
                  </a:lnTo>
                  <a:lnTo>
                    <a:pt x="243068" y="2870522"/>
                  </a:lnTo>
                  <a:lnTo>
                    <a:pt x="416688" y="2615879"/>
                  </a:lnTo>
                  <a:lnTo>
                    <a:pt x="509286" y="2858947"/>
                  </a:lnTo>
                  <a:lnTo>
                    <a:pt x="544010" y="0"/>
                  </a:lnTo>
                  <a:lnTo>
                    <a:pt x="138896" y="0"/>
                  </a:lnTo>
                  <a:lnTo>
                    <a:pt x="0" y="284737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Полилиния 171"/>
            <p:cNvSpPr/>
            <p:nvPr/>
          </p:nvSpPr>
          <p:spPr>
            <a:xfrm rot="16200000">
              <a:off x="3455640" y="3149640"/>
              <a:ext cx="152640" cy="730080"/>
            </a:xfrm>
            <a:custGeom>
              <a:avLst/>
              <a:gdLst/>
              <a:ahLst/>
              <a:rect l="l" t="t" r="r" b="b"/>
              <a:pathLst>
                <a:path w="520861" h="1469985">
                  <a:moveTo>
                    <a:pt x="0" y="208344"/>
                  </a:moveTo>
                  <a:lnTo>
                    <a:pt x="92597" y="1469985"/>
                  </a:lnTo>
                  <a:lnTo>
                    <a:pt x="520861" y="185195"/>
                  </a:lnTo>
                  <a:lnTo>
                    <a:pt x="405114" y="0"/>
                  </a:lnTo>
                  <a:lnTo>
                    <a:pt x="254643" y="243068"/>
                  </a:lnTo>
                  <a:lnTo>
                    <a:pt x="185195" y="11575"/>
                  </a:lnTo>
                  <a:lnTo>
                    <a:pt x="0" y="208344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Полилиния 172"/>
            <p:cNvSpPr/>
            <p:nvPr/>
          </p:nvSpPr>
          <p:spPr>
            <a:xfrm rot="16200000">
              <a:off x="3736440" y="3407760"/>
              <a:ext cx="59760" cy="309600"/>
            </a:xfrm>
            <a:custGeom>
              <a:avLst/>
              <a:gdLst/>
              <a:ahLst/>
              <a:rect l="l" t="t" r="r" b="b"/>
              <a:pathLst>
                <a:path w="208345" h="625033">
                  <a:moveTo>
                    <a:pt x="0" y="57873"/>
                  </a:moveTo>
                  <a:lnTo>
                    <a:pt x="34724" y="625033"/>
                  </a:lnTo>
                  <a:lnTo>
                    <a:pt x="208345" y="46298"/>
                  </a:lnTo>
                  <a:lnTo>
                    <a:pt x="150471" y="34724"/>
                  </a:lnTo>
                  <a:lnTo>
                    <a:pt x="81023" y="0"/>
                  </a:lnTo>
                  <a:lnTo>
                    <a:pt x="0" y="5787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5" name="Прямая соединительная линия 101"/>
          <p:cNvSpPr/>
          <p:nvPr/>
        </p:nvSpPr>
        <p:spPr>
          <a:xfrm>
            <a:off x="928800" y="2428920"/>
            <a:ext cx="0" cy="6429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6" name="Группа 178"/>
          <p:cNvGrpSpPr/>
          <p:nvPr/>
        </p:nvGrpSpPr>
        <p:grpSpPr>
          <a:xfrm>
            <a:off x="285840" y="2428920"/>
            <a:ext cx="4000320" cy="1495440"/>
            <a:chOff x="285840" y="2428920"/>
            <a:chExt cx="4000320" cy="1495440"/>
          </a:xfrm>
        </p:grpSpPr>
        <p:grpSp>
          <p:nvGrpSpPr>
            <p:cNvPr id="1277" name="Куб 91"/>
            <p:cNvGrpSpPr/>
            <p:nvPr/>
          </p:nvGrpSpPr>
          <p:grpSpPr>
            <a:xfrm>
              <a:off x="285840" y="2428920"/>
              <a:ext cx="4000320" cy="1112400"/>
              <a:chOff x="285840" y="2428920"/>
              <a:chExt cx="4000320" cy="1112400"/>
            </a:xfrm>
          </p:grpSpPr>
          <p:pic>
            <p:nvPicPr>
              <p:cNvPr id="1278" name="Куб 91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5840" y="2428920"/>
                <a:ext cx="40003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"/>
              <p:cNvSpPr/>
              <p:nvPr/>
            </p:nvSpPr>
            <p:spPr>
              <a:xfrm>
                <a:off x="308880" y="2935080"/>
                <a:ext cx="330696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80" name="Прямоугольник 177" descr=""/>
            <p:cNvPicPr/>
            <p:nvPr/>
          </p:nvPicPr>
          <p:blipFill>
            <a:blip r:embed="rId16"/>
            <a:stretch/>
          </p:blipFill>
          <p:spPr>
            <a:xfrm>
              <a:off x="1392480" y="2725200"/>
              <a:ext cx="1359360" cy="119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Прямая соединительная линия 180"/>
          <p:cNvSpPr/>
          <p:nvPr/>
        </p:nvSpPr>
        <p:spPr>
          <a:xfrm>
            <a:off x="928800" y="2428920"/>
            <a:ext cx="0" cy="6429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2" name="Группа 105"/>
          <p:cNvGrpSpPr/>
          <p:nvPr/>
        </p:nvGrpSpPr>
        <p:grpSpPr>
          <a:xfrm>
            <a:off x="214200" y="2286000"/>
            <a:ext cx="4143600" cy="857160"/>
            <a:chOff x="214200" y="2286000"/>
            <a:chExt cx="4143600" cy="857160"/>
          </a:xfrm>
        </p:grpSpPr>
        <p:sp>
          <p:nvSpPr>
            <p:cNvPr id="1283" name="Куб 92"/>
            <p:cNvSpPr/>
            <p:nvPr/>
          </p:nvSpPr>
          <p:spPr>
            <a:xfrm>
              <a:off x="214200" y="2520720"/>
              <a:ext cx="4143600" cy="446400"/>
            </a:xfrm>
            <a:prstGeom prst="cube">
              <a:avLst>
                <a:gd name="adj" fmla="val 81805"/>
              </a:avLst>
            </a:prstGeom>
            <a:solidFill>
              <a:srgbClr val="9c9cdf"/>
            </a:solidFill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4" name="Прямоугольник 95" descr=""/>
            <p:cNvPicPr/>
            <p:nvPr/>
          </p:nvPicPr>
          <p:blipFill>
            <a:blip r:embed="rId17"/>
            <a:stretch/>
          </p:blipFill>
          <p:spPr>
            <a:xfrm>
              <a:off x="2163960" y="2286000"/>
              <a:ext cx="184716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5" name="Прямоугольник 183" descr=""/>
          <p:cNvPicPr/>
          <p:nvPr/>
        </p:nvPicPr>
        <p:blipFill>
          <a:blip r:embed="rId18"/>
          <a:stretch/>
        </p:blipFill>
        <p:spPr>
          <a:xfrm>
            <a:off x="-60480" y="-165240"/>
            <a:ext cx="4272120" cy="1920960"/>
          </a:xfrm>
          <a:prstGeom prst="rect">
            <a:avLst/>
          </a:prstGeom>
          <a:ln w="0">
            <a:noFill/>
          </a:ln>
        </p:spPr>
      </p:pic>
      <p:sp>
        <p:nvSpPr>
          <p:cNvPr id="1286" name="TextBox 184"/>
          <p:cNvSpPr/>
          <p:nvPr/>
        </p:nvSpPr>
        <p:spPr>
          <a:xfrm>
            <a:off x="0" y="428616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ь коробку и достать образцы для проверки электропров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C 0.03143 -0.03796 0.06302 -0.07593 0.05834 -0.10741 C 0.05365 -0.13889 0.01285 -0.16389 -0.02778 -0.18889 E">
                                      <p:cBhvr>
                                        <p:cTn id="92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7222 C -0.01181 -0.15254 -0.000350000000000003 -0.23148 0.04635 -0.28148 C 0.09306 -0.33101 0.16319 -0.33495 0.25747 -0.37013 C 0.35174 -0.40578 0.54219 -0.48148 0.61163 -0.49421 C 0.6809 -0.50694 0.67674 -0.47685 0.67274 -0.44606 E">
                                      <p:cBhvr>
                                        <p:cTn id="96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2.22222E-006 C 0.00434 -0.09908 0.00886 -0.19815 0.05834 -0.25556 C 0.10782 -0.31297 0.21875 -0.31134 0.29723 -0.34445 C 0.3757 -0.37755 0.48108 -0.44838 0.52917 -0.45371 C 0.57726 -0.45903 0.5816 -0.41759 0.58612 -0.37593 E">
                                      <p:cBhvr>
                                        <p:cTn id="99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34 -0.00324 C 0.04548 -0.08241 0.0368 -0.16158 0.08351 -0.2088 C 0.13021 -0.25602 0.27239 -0.28681 0.33489 -0.28658 C 0.39739 -0.28634 0.43785 -0.22014 0.45851 -0.20695 E">
                                      <p:cBhvr>
                                        <p:cTn id="102" dur="2000" fill="hold"/>
                                        <p:tgtEl>
                                          <p:spTgt spid="1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C 0.10903 -0.15602 0.21823 -0.31158 0.29862 -0.33449 C 0.379 -0.35718 0.43039 -0.24699 0.48178 -0.13611 E">
                                      <p:cBhvr>
                                        <p:cTn id="105" dur="2000" fill="hold"/>
                                        <p:tgtEl>
                                          <p:spTgt spid="1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56 -0.0132 C -0.06493 -0.09561 -0.05312 -0.17778 -0.01267 -0.22431 C 0.02778 -0.27084 0.09896 -0.28912 0.16649 -0.29283 C 0.23403 -0.29653 0.34514 -0.27987 0.39288 -0.24653 C 0.44063 -0.2132 0.44653 -0.15301 0.45261 -0.09283 E">
                                      <p:cBhvr>
                                        <p:cTn id="108" dur="2000" fill="hold"/>
                                        <p:tgtEl>
                                          <p:spTgt spid="1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35 -0.00625 C -0.03906 -0.08796 -0.0316 -0.16944 0.00226 -0.21736 C 0.03611 -0.26528 0.09653 -0.28958 0.15642 -0.29329 C 0.21632 -0.29699 0.31146 -0.2794 0.36198 -0.23958 C 0.4125 -0.19977 0.44306 -0.08518 0.4592 -0.0544 E">
                                      <p:cBhvr>
                                        <p:cTn id="111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0023 C 0.02275 -0.06412 0.02205 -0.12824 0.04566 -0.17569 C 0.06927 -0.22315 0.1125 -0.29051 0.16511 -0.28495 C 0.21771 -0.2794 0.31302 -0.19051 0.36094 -0.14236 C 0.40886 -0.09421 0.43733 -0.02037 0.45261 0.00394 E">
                                      <p:cBhvr>
                                        <p:cTn id="114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4 -0.02709 C -0.03768 -0.10741 -0.03282 -0.1875 0.03941 -0.22523 C 0.11163 -0.26297 0.31145 -0.29746 0.39079 -0.25301 C 0.47013 -0.20857 0.49288 -0.08357 0.51579 0.04143 E">
                                      <p:cBhvr>
                                        <p:cTn id="11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2662 C 0.05017 -0.11042 0.0651 -0.19421 0.10885 -0.23032 C 0.1526 -0.26644 0.23507 -0.29514 0.29774 -0.24329 C 0.36041 -0.19144 0.42274 -0.05532 0.48524 0.08079 E">
                                      <p:cBhvr>
                                        <p:cTn id="120" dur="2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-0.00104 -0.07731 -0.00208 -0.1544 0.05001 -0.19259 C 0.10209 -0.23078 0.24566 -0.25347 0.31251 -0.22963 C 0.37935 -0.20578 0.42014 -0.11319 0.45139 -0.05 C 0.48264 0.0132 0.49185 0.11667 0.50001 0.15 E">
                                      <p:cBhvr>
                                        <p:cTn id="123" dur="20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C 0.01667 -0.09467 0.03351 -0.18912 0.08334 -0.22592 C 0.13316 -0.26273 0.23108 -0.29051 0.29861 -0.22037 C 0.36615 -0.15023 0.42743 0.02199 0.48889 0.19445 E">
                                      <p:cBhvr>
                                        <p:cTn id="126" dur="20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-0.00747 -0.0743 -0.01476 -0.14838 0.04097 -0.17824 C 0.09687 -0.20787 0.26146 -0.25648 0.33576 -0.17824 C 0.41007 -0.09954 0.46111 0.21389 0.48663 0.29282 E">
                                      <p:cBhvr>
                                        <p:cTn id="129" dur="2000" fill="hold"/>
                                        <p:tgtEl>
                                          <p:spTgt spid="1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1 0.01527 C 0.03316 -0.0676 0.05712 -0.15047 0.11754 -0.17917 C 0.17796 -0.20787 0.29532 -0.2257 0.37171 -0.15695 C 0.4481 -0.0882 0.54879 0.14236 0.57587 0.23379 C 0.60296 0.32523 0.56858 0.3581 0.53421 0.3912 E">
                                      <p:cBhvr>
                                        <p:cTn id="132" dur="2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0.0257 C -0.01857 -0.09676 -0.03177 -0.16783 -0.0026 -0.19838 C 0.02656 -0.22871 0.13941 -0.26945 0.16997 -0.20834 C 0.20052 -0.14722 0.19045 0.01088 0.18056 0.16898 E">
                                      <p:cBhvr>
                                        <p:cTn id="135" dur="2000" fill="hold"/>
                                        <p:tgtEl>
                                          <p:spTgt spid="1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1111 C -0.08993 -0.09629 -0.10504 -0.18148 -0.05521 -0.21273 C -0.00539 -0.24375 0.17847 -0.28148 0.22396 -0.19745 C 0.26944 -0.11342 0.24375 0.08913 0.21823 0.29213 E">
                                      <p:cBhvr>
                                        <p:cTn id="138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73 -0.02825 C -0.11007 -0.12709 -0.08924 -0.2257 -0.04045 -0.26158 C 0.00833 -0.29746 0.12621 -0.34769 0.16233 -0.24306 C 0.19844 -0.13843 0.18733 0.11388 0.17621 0.3662 E">
                                      <p:cBhvr>
                                        <p:cTn id="141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7" name=""/>
          <p:cNvGraphicFramePr/>
          <p:nvPr/>
        </p:nvGraphicFramePr>
        <p:xfrm>
          <a:off x="1214280" y="571680"/>
          <a:ext cx="6405840" cy="5843520"/>
        </p:xfrm>
        <a:graphic>
          <a:graphicData uri="http://schemas.openxmlformats.org/drawingml/2006/table">
            <a:tbl>
              <a:tblPr/>
              <a:tblGrid>
                <a:gridCol w="3275280"/>
                <a:gridCol w="313056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ля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1177920" y="582480"/>
          <a:ext cx="6458040" cy="61776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9" name="Прямоугольник 3"/>
          <p:cNvSpPr/>
          <p:nvPr/>
        </p:nvSpPr>
        <p:spPr>
          <a:xfrm>
            <a:off x="6410160" y="6357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Полилиния 128"/>
          <p:cNvSpPr/>
          <p:nvPr/>
        </p:nvSpPr>
        <p:spPr>
          <a:xfrm>
            <a:off x="2571840" y="1285920"/>
            <a:ext cx="1357200" cy="2071800"/>
          </a:xfrm>
          <a:custGeom>
            <a:avLst/>
            <a:gdLst/>
            <a:ahLst/>
            <a:rect l="l" t="t" r="r" b="b"/>
            <a:pathLst>
              <a:path w="1583474" h="1051932">
                <a:moveTo>
                  <a:pt x="178420" y="598449"/>
                </a:moveTo>
                <a:cubicBezTo>
                  <a:pt x="89210" y="391222"/>
                  <a:pt x="0" y="183995"/>
                  <a:pt x="44605" y="107795"/>
                </a:cubicBezTo>
                <a:cubicBezTo>
                  <a:pt x="89210" y="31595"/>
                  <a:pt x="312234" y="0"/>
                  <a:pt x="446049" y="141249"/>
                </a:cubicBezTo>
                <a:cubicBezTo>
                  <a:pt x="579864" y="282498"/>
                  <a:pt x="691376" y="858644"/>
                  <a:pt x="847493" y="955288"/>
                </a:cubicBezTo>
                <a:cubicBezTo>
                  <a:pt x="1003610" y="1051932"/>
                  <a:pt x="1260089" y="721112"/>
                  <a:pt x="1382752" y="721112"/>
                </a:cubicBezTo>
                <a:cubicBezTo>
                  <a:pt x="1505415" y="721112"/>
                  <a:pt x="1583474" y="955288"/>
                  <a:pt x="1583474" y="955288"/>
                </a:cubicBezTo>
                <a:lnTo>
                  <a:pt x="1583474" y="955288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Полилиния 94"/>
          <p:cNvSpPr/>
          <p:nvPr/>
        </p:nvSpPr>
        <p:spPr>
          <a:xfrm>
            <a:off x="4500720" y="0"/>
            <a:ext cx="2079360" cy="177156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Полилиния 90"/>
          <p:cNvSpPr/>
          <p:nvPr/>
        </p:nvSpPr>
        <p:spPr>
          <a:xfrm>
            <a:off x="500040" y="214200"/>
            <a:ext cx="3571920" cy="2000520"/>
          </a:xfrm>
          <a:custGeom>
            <a:avLst/>
            <a:gdLst/>
            <a:ahLst/>
            <a:rect l="l" t="t" r="r" b="b"/>
            <a:pathLst>
              <a:path w="2926465" h="4060785">
                <a:moveTo>
                  <a:pt x="2766349" y="530506"/>
                </a:moveTo>
                <a:cubicBezTo>
                  <a:pt x="2846407" y="286473"/>
                  <a:pt x="2926465" y="42440"/>
                  <a:pt x="2812647" y="21220"/>
                </a:cubicBezTo>
                <a:cubicBezTo>
                  <a:pt x="2698829" y="0"/>
                  <a:pt x="2380526" y="50157"/>
                  <a:pt x="2083442" y="403185"/>
                </a:cubicBezTo>
                <a:cubicBezTo>
                  <a:pt x="1786359" y="756213"/>
                  <a:pt x="1354237" y="1726557"/>
                  <a:pt x="1030146" y="2139387"/>
                </a:cubicBezTo>
                <a:cubicBezTo>
                  <a:pt x="706055" y="2552217"/>
                  <a:pt x="277792" y="2559934"/>
                  <a:pt x="138896" y="2880167"/>
                </a:cubicBezTo>
                <a:cubicBezTo>
                  <a:pt x="0" y="3200400"/>
                  <a:pt x="98384" y="3630592"/>
                  <a:pt x="196769" y="406078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Багетная рамка 2"/>
          <p:cNvGrpSpPr/>
          <p:nvPr/>
        </p:nvGrpSpPr>
        <p:grpSpPr>
          <a:xfrm>
            <a:off x="365040" y="2657520"/>
            <a:ext cx="2408400" cy="1073160"/>
            <a:chOff x="365040" y="2657520"/>
            <a:chExt cx="2408400" cy="1073160"/>
          </a:xfrm>
        </p:grpSpPr>
        <p:pic>
          <p:nvPicPr>
            <p:cNvPr id="1294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365040" y="2657520"/>
              <a:ext cx="24084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547560" y="2806560"/>
              <a:ext cx="2048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6" name="Picture 12" descr="j0404041"/>
          <p:cNvPicPr/>
          <p:nvPr/>
        </p:nvPicPr>
        <p:blipFill>
          <a:blip r:embed="rId2"/>
          <a:stretch/>
        </p:blipFill>
        <p:spPr>
          <a:xfrm rot="19284000">
            <a:off x="1277640" y="2142720"/>
            <a:ext cx="595080" cy="711360"/>
          </a:xfrm>
          <a:prstGeom prst="rect">
            <a:avLst/>
          </a:prstGeom>
          <a:ln w="0">
            <a:noFill/>
          </a:ln>
        </p:spPr>
      </p:pic>
      <p:pic>
        <p:nvPicPr>
          <p:cNvPr id="1297" name="Группа 37" descr=""/>
          <p:cNvPicPr/>
          <p:nvPr/>
        </p:nvPicPr>
        <p:blipFill>
          <a:blip r:embed="rId3"/>
          <a:stretch/>
        </p:blipFill>
        <p:spPr>
          <a:xfrm>
            <a:off x="517680" y="2762280"/>
            <a:ext cx="2109600" cy="596880"/>
          </a:xfrm>
          <a:prstGeom prst="rect">
            <a:avLst/>
          </a:prstGeom>
          <a:ln w="0">
            <a:noFill/>
          </a:ln>
        </p:spPr>
      </p:pic>
      <p:sp>
        <p:nvSpPr>
          <p:cNvPr id="1298" name="Плюс 5"/>
          <p:cNvSpPr/>
          <p:nvPr/>
        </p:nvSpPr>
        <p:spPr>
          <a:xfrm>
            <a:off x="2000160" y="2786040"/>
            <a:ext cx="347760" cy="301680"/>
          </a:xfrm>
          <a:custGeom>
            <a:avLst/>
            <a:gdLst/>
            <a:ahLst/>
            <a:rect l="l" t="t" r="r" b="b"/>
            <a:pathLst>
              <a:path w="347663" h="301625">
                <a:moveTo>
                  <a:pt x="46083" y="115341"/>
                </a:moveTo>
                <a:lnTo>
                  <a:pt x="138360" y="115341"/>
                </a:lnTo>
                <a:lnTo>
                  <a:pt x="138360" y="39980"/>
                </a:lnTo>
                <a:lnTo>
                  <a:pt x="209303" y="39980"/>
                </a:lnTo>
                <a:lnTo>
                  <a:pt x="209303" y="115341"/>
                </a:lnTo>
                <a:lnTo>
                  <a:pt x="301580" y="115341"/>
                </a:lnTo>
                <a:lnTo>
                  <a:pt x="301580" y="186284"/>
                </a:lnTo>
                <a:lnTo>
                  <a:pt x="209303" y="186284"/>
                </a:lnTo>
                <a:lnTo>
                  <a:pt x="209303" y="261645"/>
                </a:lnTo>
                <a:lnTo>
                  <a:pt x="138360" y="261645"/>
                </a:lnTo>
                <a:lnTo>
                  <a:pt x="138360" y="186284"/>
                </a:lnTo>
                <a:lnTo>
                  <a:pt x="46083" y="186284"/>
                </a:lnTo>
                <a:lnTo>
                  <a:pt x="46083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Минус 6"/>
          <p:cNvSpPr/>
          <p:nvPr/>
        </p:nvSpPr>
        <p:spPr>
          <a:xfrm>
            <a:off x="857160" y="2786040"/>
            <a:ext cx="297000" cy="301680"/>
          </a:xfrm>
          <a:custGeom>
            <a:avLst/>
            <a:gdLst/>
            <a:ahLst/>
            <a:rect l="l" t="t" r="r" b="b"/>
            <a:pathLst>
              <a:path w="296863" h="301625">
                <a:moveTo>
                  <a:pt x="39349" y="115341"/>
                </a:moveTo>
                <a:lnTo>
                  <a:pt x="257514" y="115341"/>
                </a:lnTo>
                <a:lnTo>
                  <a:pt x="257514" y="186284"/>
                </a:lnTo>
                <a:lnTo>
                  <a:pt x="39349" y="186284"/>
                </a:lnTo>
                <a:lnTo>
                  <a:pt x="39349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Группа 54"/>
          <p:cNvGrpSpPr/>
          <p:nvPr/>
        </p:nvGrpSpPr>
        <p:grpSpPr>
          <a:xfrm>
            <a:off x="4049280" y="360"/>
            <a:ext cx="2117880" cy="2213640"/>
            <a:chOff x="4049280" y="360"/>
            <a:chExt cx="2117880" cy="2213640"/>
          </a:xfrm>
        </p:grpSpPr>
        <p:sp>
          <p:nvSpPr>
            <p:cNvPr id="1301" name="Полилиния 39"/>
            <p:cNvSpPr/>
            <p:nvPr/>
          </p:nvSpPr>
          <p:spPr>
            <a:xfrm rot="5247000">
              <a:off x="4083120" y="124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Полилиния 40"/>
            <p:cNvSpPr/>
            <p:nvPr/>
          </p:nvSpPr>
          <p:spPr>
            <a:xfrm rot="5247000">
              <a:off x="4013280" y="133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3" name="Куб 42"/>
          <p:cNvGrpSpPr/>
          <p:nvPr/>
        </p:nvGrpSpPr>
        <p:grpSpPr>
          <a:xfrm>
            <a:off x="3133800" y="1060560"/>
            <a:ext cx="2309760" cy="1238040"/>
            <a:chOff x="3133800" y="1060560"/>
            <a:chExt cx="2309760" cy="1238040"/>
          </a:xfrm>
        </p:grpSpPr>
        <p:pic>
          <p:nvPicPr>
            <p:cNvPr id="1304" name="Куб 42" descr=""/>
            <p:cNvPicPr/>
            <p:nvPr/>
          </p:nvPicPr>
          <p:blipFill>
            <a:blip r:embed="rId4"/>
            <a:stretch/>
          </p:blipFill>
          <p:spPr>
            <a:xfrm>
              <a:off x="3133800" y="1060560"/>
              <a:ext cx="230976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"/>
            <p:cNvSpPr/>
            <p:nvPr/>
          </p:nvSpPr>
          <p:spPr>
            <a:xfrm>
              <a:off x="3143160" y="1630440"/>
              <a:ext cx="1727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6" name="Кольцо 43" descr=""/>
          <p:cNvPicPr/>
          <p:nvPr/>
        </p:nvPicPr>
        <p:blipFill>
          <a:blip r:embed="rId5"/>
          <a:stretch/>
        </p:blipFill>
        <p:spPr>
          <a:xfrm>
            <a:off x="3517920" y="1047600"/>
            <a:ext cx="1492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07" name="Кольцо 44"/>
          <p:cNvGrpSpPr/>
          <p:nvPr/>
        </p:nvGrpSpPr>
        <p:grpSpPr>
          <a:xfrm>
            <a:off x="4211640" y="1127160"/>
            <a:ext cx="585720" cy="525600"/>
            <a:chOff x="4211640" y="1127160"/>
            <a:chExt cx="585720" cy="525600"/>
          </a:xfrm>
        </p:grpSpPr>
        <p:pic>
          <p:nvPicPr>
            <p:cNvPr id="1308" name="Кольцо 44" descr=""/>
            <p:cNvPicPr/>
            <p:nvPr/>
          </p:nvPicPr>
          <p:blipFill>
            <a:blip r:embed="rId6"/>
            <a:stretch/>
          </p:blipFill>
          <p:spPr>
            <a:xfrm>
              <a:off x="4211640" y="1127160"/>
              <a:ext cx="5857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4414680" y="1281240"/>
              <a:ext cx="174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Кольцо 45"/>
          <p:cNvGrpSpPr/>
          <p:nvPr/>
        </p:nvGrpSpPr>
        <p:grpSpPr>
          <a:xfrm>
            <a:off x="3718080" y="1189080"/>
            <a:ext cx="585720" cy="523800"/>
            <a:chOff x="3718080" y="1189080"/>
            <a:chExt cx="585720" cy="523800"/>
          </a:xfrm>
        </p:grpSpPr>
        <p:pic>
          <p:nvPicPr>
            <p:cNvPr id="1311" name="Кольцо 45" descr=""/>
            <p:cNvPicPr/>
            <p:nvPr/>
          </p:nvPicPr>
          <p:blipFill>
            <a:blip r:embed="rId7"/>
            <a:stretch/>
          </p:blipFill>
          <p:spPr>
            <a:xfrm>
              <a:off x="3718080" y="1189080"/>
              <a:ext cx="5857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3921120" y="1341360"/>
              <a:ext cx="1746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Плюс 46"/>
          <p:cNvSpPr/>
          <p:nvPr/>
        </p:nvSpPr>
        <p:spPr>
          <a:xfrm>
            <a:off x="3357720" y="1357200"/>
            <a:ext cx="247320" cy="303480"/>
          </a:xfrm>
          <a:custGeom>
            <a:avLst/>
            <a:gdLst/>
            <a:ahLst/>
            <a:rect l="l" t="t" r="r" b="b"/>
            <a:pathLst>
              <a:path w="247650" h="303212">
                <a:moveTo>
                  <a:pt x="32826" y="122482"/>
                </a:moveTo>
                <a:lnTo>
                  <a:pt x="94701" y="122482"/>
                </a:lnTo>
                <a:lnTo>
                  <a:pt x="94701" y="40191"/>
                </a:lnTo>
                <a:lnTo>
                  <a:pt x="152949" y="40191"/>
                </a:lnTo>
                <a:lnTo>
                  <a:pt x="152949" y="122482"/>
                </a:lnTo>
                <a:lnTo>
                  <a:pt x="214824" y="122482"/>
                </a:lnTo>
                <a:lnTo>
                  <a:pt x="214824" y="180730"/>
                </a:lnTo>
                <a:lnTo>
                  <a:pt x="152949" y="180730"/>
                </a:lnTo>
                <a:lnTo>
                  <a:pt x="152949" y="263021"/>
                </a:lnTo>
                <a:lnTo>
                  <a:pt x="94701" y="263021"/>
                </a:lnTo>
                <a:lnTo>
                  <a:pt x="94701" y="180730"/>
                </a:lnTo>
                <a:lnTo>
                  <a:pt x="32826" y="180730"/>
                </a:lnTo>
                <a:lnTo>
                  <a:pt x="32826" y="12248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Минус 47"/>
          <p:cNvSpPr/>
          <p:nvPr/>
        </p:nvSpPr>
        <p:spPr>
          <a:xfrm>
            <a:off x="4929120" y="1071720"/>
            <a:ext cx="309600" cy="242640"/>
          </a:xfrm>
          <a:custGeom>
            <a:avLst/>
            <a:gdLst/>
            <a:ahLst/>
            <a:rect l="l" t="t" r="r" b="b"/>
            <a:pathLst>
              <a:path w="309562" h="242887">
                <a:moveTo>
                  <a:pt x="41032" y="92880"/>
                </a:moveTo>
                <a:lnTo>
                  <a:pt x="268530" y="92880"/>
                </a:lnTo>
                <a:lnTo>
                  <a:pt x="268530" y="150007"/>
                </a:lnTo>
                <a:lnTo>
                  <a:pt x="41032" y="150007"/>
                </a:lnTo>
                <a:lnTo>
                  <a:pt x="41032" y="928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5" name="Группа 14"/>
          <p:cNvGrpSpPr/>
          <p:nvPr/>
        </p:nvGrpSpPr>
        <p:grpSpPr>
          <a:xfrm>
            <a:off x="6215040" y="2176920"/>
            <a:ext cx="2286000" cy="1285560"/>
            <a:chOff x="6215040" y="2176920"/>
            <a:chExt cx="2286000" cy="1285560"/>
          </a:xfrm>
        </p:grpSpPr>
        <p:grpSp>
          <p:nvGrpSpPr>
            <p:cNvPr id="1316" name="Багетная рамка 52"/>
            <p:cNvGrpSpPr/>
            <p:nvPr/>
          </p:nvGrpSpPr>
          <p:grpSpPr>
            <a:xfrm>
              <a:off x="6215040" y="2458440"/>
              <a:ext cx="2286000" cy="1004040"/>
              <a:chOff x="6215040" y="2458440"/>
              <a:chExt cx="2286000" cy="1004040"/>
            </a:xfrm>
          </p:grpSpPr>
          <p:pic>
            <p:nvPicPr>
              <p:cNvPr id="1317" name="Багетная рамка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5040" y="2458440"/>
                <a:ext cx="22860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>
                <a:off x="6383520" y="2599560"/>
                <a:ext cx="19436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9" name="Кольцо 2"/>
            <p:cNvSpPr/>
            <p:nvPr/>
          </p:nvSpPr>
          <p:spPr>
            <a:xfrm>
              <a:off x="7898040" y="2822400"/>
              <a:ext cx="271080" cy="267480"/>
            </a:xfrm>
            <a:custGeom>
              <a:avLst/>
              <a:gdLst/>
              <a:ahLst/>
              <a:rect l="l" t="t" r="r" b="b"/>
              <a:pathLst>
                <a:path w="285752" h="285901">
                  <a:moveTo>
                    <a:pt x="0" y="142951"/>
                  </a:moveTo>
                  <a:cubicBezTo>
                    <a:pt x="0" y="64001"/>
                    <a:pt x="63968" y="0"/>
                    <a:pt x="142876" y="0"/>
                  </a:cubicBezTo>
                  <a:cubicBezTo>
                    <a:pt x="221784" y="0"/>
                    <a:pt x="285752" y="64001"/>
                    <a:pt x="285752" y="142951"/>
                  </a:cubicBezTo>
                  <a:cubicBezTo>
                    <a:pt x="285752" y="221901"/>
                    <a:pt x="221784" y="285902"/>
                    <a:pt x="142876" y="285902"/>
                  </a:cubicBezTo>
                  <a:cubicBezTo>
                    <a:pt x="63968" y="285902"/>
                    <a:pt x="0" y="221901"/>
                    <a:pt x="0" y="142951"/>
                  </a:cubicBezTo>
                  <a:close/>
                  <a:moveTo>
                    <a:pt x="71438" y="142951"/>
                  </a:moveTo>
                  <a:cubicBezTo>
                    <a:pt x="71438" y="182447"/>
                    <a:pt x="103422" y="214464"/>
                    <a:pt x="142876" y="214464"/>
                  </a:cubicBezTo>
                  <a:cubicBezTo>
                    <a:pt x="182330" y="214464"/>
                    <a:pt x="214314" y="182447"/>
                    <a:pt x="214314" y="142951"/>
                  </a:cubicBezTo>
                  <a:cubicBezTo>
                    <a:pt x="214314" y="103455"/>
                    <a:pt x="182330" y="71438"/>
                    <a:pt x="142876" y="71438"/>
                  </a:cubicBezTo>
                  <a:cubicBezTo>
                    <a:pt x="103422" y="71438"/>
                    <a:pt x="71438" y="103455"/>
                    <a:pt x="71438" y="142951"/>
                  </a:cubicBez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Фигура, имеющая форму буквы L 3"/>
            <p:cNvSpPr/>
            <p:nvPr/>
          </p:nvSpPr>
          <p:spPr>
            <a:xfrm rot="857400">
              <a:off x="6752520" y="2613960"/>
              <a:ext cx="1257120" cy="218160"/>
            </a:xfrm>
            <a:custGeom>
              <a:avLst/>
              <a:gdLst/>
              <a:ahLst/>
              <a:rect l="l" t="t" r="r" b="b"/>
              <a:pathLst>
                <a:path w="1323984" h="233486">
                  <a:moveTo>
                    <a:pt x="0" y="0"/>
                  </a:moveTo>
                  <a:lnTo>
                    <a:pt x="123047" y="0"/>
                  </a:lnTo>
                  <a:lnTo>
                    <a:pt x="123047" y="129354"/>
                  </a:lnTo>
                  <a:lnTo>
                    <a:pt x="1323984" y="129354"/>
                  </a:lnTo>
                  <a:lnTo>
                    <a:pt x="1323984" y="233486"/>
                  </a:lnTo>
                  <a:lnTo>
                    <a:pt x="0" y="233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Трапеция 4"/>
            <p:cNvSpPr/>
            <p:nvPr/>
          </p:nvSpPr>
          <p:spPr>
            <a:xfrm rot="11657400">
              <a:off x="6730920" y="2215800"/>
              <a:ext cx="351000" cy="271800"/>
            </a:xfrm>
            <a:custGeom>
              <a:avLst/>
              <a:gdLst/>
              <a:ahLst/>
              <a:rect l="l" t="t" r="r" b="b"/>
              <a:pathLst>
                <a:path w="369890" h="290666">
                  <a:moveTo>
                    <a:pt x="0" y="290666"/>
                  </a:moveTo>
                  <a:lnTo>
                    <a:pt x="72667" y="0"/>
                  </a:lnTo>
                  <a:lnTo>
                    <a:pt x="297224" y="0"/>
                  </a:lnTo>
                  <a:lnTo>
                    <a:pt x="369890" y="290666"/>
                  </a:lnTo>
                  <a:lnTo>
                    <a:pt x="0" y="290666"/>
                  </a:lnTo>
                  <a:close/>
                </a:path>
              </a:pathLst>
            </a:cu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2" name="Группа 13" descr=""/>
            <p:cNvPicPr/>
            <p:nvPr/>
          </p:nvPicPr>
          <p:blipFill>
            <a:blip r:embed="rId9"/>
            <a:stretch/>
          </p:blipFill>
          <p:spPr>
            <a:xfrm>
              <a:off x="6394320" y="2811960"/>
              <a:ext cx="56700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3" name="Плюс 50"/>
          <p:cNvSpPr/>
          <p:nvPr/>
        </p:nvSpPr>
        <p:spPr>
          <a:xfrm>
            <a:off x="6357960" y="307188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144989" y="109271"/>
                </a:lnTo>
                <a:lnTo>
                  <a:pt x="144989" y="37876"/>
                </a:lnTo>
                <a:lnTo>
                  <a:pt x="212198" y="37876"/>
                </a:lnTo>
                <a:lnTo>
                  <a:pt x="212198" y="109271"/>
                </a:lnTo>
                <a:lnTo>
                  <a:pt x="309842" y="109271"/>
                </a:lnTo>
                <a:lnTo>
                  <a:pt x="309842" y="176479"/>
                </a:lnTo>
                <a:lnTo>
                  <a:pt x="212198" y="176479"/>
                </a:lnTo>
                <a:lnTo>
                  <a:pt x="212198" y="247874"/>
                </a:lnTo>
                <a:lnTo>
                  <a:pt x="144989" y="247874"/>
                </a:lnTo>
                <a:lnTo>
                  <a:pt x="144989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Минус 51"/>
          <p:cNvSpPr/>
          <p:nvPr/>
        </p:nvSpPr>
        <p:spPr>
          <a:xfrm>
            <a:off x="8072280" y="257184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309842" y="109271"/>
                </a:lnTo>
                <a:lnTo>
                  <a:pt x="309842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5" name="Группа 5"/>
          <p:cNvGrpSpPr/>
          <p:nvPr/>
        </p:nvGrpSpPr>
        <p:grpSpPr>
          <a:xfrm>
            <a:off x="6215040" y="1785960"/>
            <a:ext cx="357120" cy="1214280"/>
            <a:chOff x="6215040" y="1785960"/>
            <a:chExt cx="357120" cy="1214280"/>
          </a:xfrm>
        </p:grpSpPr>
        <p:sp>
          <p:nvSpPr>
            <p:cNvPr id="1326" name="Скругленный прямоугольник 60"/>
            <p:cNvSpPr/>
            <p:nvPr/>
          </p:nvSpPr>
          <p:spPr>
            <a:xfrm flipH="1">
              <a:off x="6465960" y="260820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Полилиния 61"/>
            <p:cNvSpPr/>
            <p:nvPr/>
          </p:nvSpPr>
          <p:spPr>
            <a:xfrm flipH="1">
              <a:off x="6215040" y="178596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8" name="Группа 5"/>
          <p:cNvGrpSpPr/>
          <p:nvPr/>
        </p:nvGrpSpPr>
        <p:grpSpPr>
          <a:xfrm>
            <a:off x="4429080" y="285840"/>
            <a:ext cx="357120" cy="1214280"/>
            <a:chOff x="4429080" y="285840"/>
            <a:chExt cx="357120" cy="1214280"/>
          </a:xfrm>
        </p:grpSpPr>
        <p:sp>
          <p:nvSpPr>
            <p:cNvPr id="1329" name="Скругленный прямоугольник 63"/>
            <p:cNvSpPr/>
            <p:nvPr/>
          </p:nvSpPr>
          <p:spPr>
            <a:xfrm>
              <a:off x="4464000" y="11080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Полилиния 64"/>
            <p:cNvSpPr/>
            <p:nvPr/>
          </p:nvSpPr>
          <p:spPr>
            <a:xfrm>
              <a:off x="4429080" y="28584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Группа 5"/>
          <p:cNvGrpSpPr/>
          <p:nvPr/>
        </p:nvGrpSpPr>
        <p:grpSpPr>
          <a:xfrm>
            <a:off x="642960" y="2071800"/>
            <a:ext cx="357120" cy="1214280"/>
            <a:chOff x="642960" y="2071800"/>
            <a:chExt cx="357120" cy="1214280"/>
          </a:xfrm>
        </p:grpSpPr>
        <p:sp>
          <p:nvSpPr>
            <p:cNvPr id="1332" name="Скругленный прямоугольник 72"/>
            <p:cNvSpPr/>
            <p:nvPr/>
          </p:nvSpPr>
          <p:spPr>
            <a:xfrm>
              <a:off x="677880" y="28940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Полилиния 73"/>
            <p:cNvSpPr/>
            <p:nvPr/>
          </p:nvSpPr>
          <p:spPr>
            <a:xfrm>
              <a:off x="642960" y="207180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4" name="Группа 5"/>
          <p:cNvGrpSpPr/>
          <p:nvPr/>
        </p:nvGrpSpPr>
        <p:grpSpPr>
          <a:xfrm>
            <a:off x="8001000" y="1857240"/>
            <a:ext cx="357120" cy="1214640"/>
            <a:chOff x="8001000" y="1857240"/>
            <a:chExt cx="357120" cy="1214640"/>
          </a:xfrm>
        </p:grpSpPr>
        <p:sp>
          <p:nvSpPr>
            <p:cNvPr id="1335" name="Скругленный прямоугольник 75"/>
            <p:cNvSpPr/>
            <p:nvPr/>
          </p:nvSpPr>
          <p:spPr>
            <a:xfrm>
              <a:off x="8035920" y="26798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Полилиния 76"/>
            <p:cNvSpPr/>
            <p:nvPr/>
          </p:nvSpPr>
          <p:spPr>
            <a:xfrm>
              <a:off x="8001000" y="1857240"/>
              <a:ext cx="35712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Группа 5"/>
          <p:cNvGrpSpPr/>
          <p:nvPr/>
        </p:nvGrpSpPr>
        <p:grpSpPr>
          <a:xfrm>
            <a:off x="2458440" y="1928520"/>
            <a:ext cx="479880" cy="1217160"/>
            <a:chOff x="2458440" y="1928520"/>
            <a:chExt cx="479880" cy="1217160"/>
          </a:xfrm>
        </p:grpSpPr>
        <p:sp>
          <p:nvSpPr>
            <p:cNvPr id="1338" name="Скругленный прямоугольник 84"/>
            <p:cNvSpPr/>
            <p:nvPr/>
          </p:nvSpPr>
          <p:spPr>
            <a:xfrm rot="439200">
              <a:off x="2482920" y="2751120"/>
              <a:ext cx="71280" cy="3916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1680"/>
                <a:gd name="textAreaBottom" fmla="*/ 388440 h 391680"/>
              </a:gdLst>
              <a:ahLst/>
              <a:rect l="textAreaLeft" t="textAreaTop" r="textAreaRight" b="textAreaBottom"/>
              <a:pathLst>
                <a:path w="21600" h="118203">
                  <a:moveTo>
                    <a:pt x="3600" y="0"/>
                  </a:moveTo>
                  <a:arcTo wR="3600" hR="3600" stAng="16200000" swAng="-5400000"/>
                  <a:lnTo>
                    <a:pt x="0" y="114603"/>
                  </a:lnTo>
                  <a:arcTo wR="3600" hR="3600" stAng="10800000" swAng="-5400000"/>
                  <a:lnTo>
                    <a:pt x="18000" y="118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Полилиния 85"/>
            <p:cNvSpPr/>
            <p:nvPr/>
          </p:nvSpPr>
          <p:spPr>
            <a:xfrm rot="439200">
              <a:off x="2527560" y="1947600"/>
              <a:ext cx="357120" cy="86112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0" name="Группа 5"/>
          <p:cNvGrpSpPr/>
          <p:nvPr/>
        </p:nvGrpSpPr>
        <p:grpSpPr>
          <a:xfrm>
            <a:off x="3642840" y="357120"/>
            <a:ext cx="357480" cy="1214640"/>
            <a:chOff x="3642840" y="357120"/>
            <a:chExt cx="357480" cy="1214640"/>
          </a:xfrm>
        </p:grpSpPr>
        <p:sp>
          <p:nvSpPr>
            <p:cNvPr id="1341" name="Скругленный прямоугольник 87"/>
            <p:cNvSpPr/>
            <p:nvPr/>
          </p:nvSpPr>
          <p:spPr>
            <a:xfrm flipH="1">
              <a:off x="3894120" y="117972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Полилиния 88"/>
            <p:cNvSpPr/>
            <p:nvPr/>
          </p:nvSpPr>
          <p:spPr>
            <a:xfrm flipH="1">
              <a:off x="3642480" y="357120"/>
              <a:ext cx="35748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3" name="Picture 34" descr="j0234717"/>
          <p:cNvPicPr/>
          <p:nvPr/>
        </p:nvPicPr>
        <p:blipFill>
          <a:blip r:embed="rId10"/>
          <a:stretch/>
        </p:blipFill>
        <p:spPr>
          <a:xfrm>
            <a:off x="1143000" y="1928880"/>
            <a:ext cx="811080" cy="1069920"/>
          </a:xfrm>
          <a:prstGeom prst="rect">
            <a:avLst/>
          </a:prstGeom>
          <a:ln w="0">
            <a:noFill/>
          </a:ln>
        </p:spPr>
      </p:pic>
      <p:pic>
        <p:nvPicPr>
          <p:cNvPr id="1344" name="Прямоугольник 100" descr=""/>
          <p:cNvPicPr/>
          <p:nvPr/>
        </p:nvPicPr>
        <p:blipFill>
          <a:blip r:embed="rId11"/>
          <a:stretch/>
        </p:blipFill>
        <p:spPr>
          <a:xfrm>
            <a:off x="1378080" y="2352600"/>
            <a:ext cx="104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45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346" name="Багетная рамка 102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347" name="Багетная рамка 10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8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9" name="Группа 71"/>
            <p:cNvGrpSpPr/>
            <p:nvPr/>
          </p:nvGrpSpPr>
          <p:grpSpPr>
            <a:xfrm>
              <a:off x="4659120" y="4048920"/>
              <a:ext cx="347400" cy="426240"/>
              <a:chOff x="4659120" y="4048920"/>
              <a:chExt cx="347400" cy="426240"/>
            </a:xfrm>
          </p:grpSpPr>
          <p:sp>
            <p:nvSpPr>
              <p:cNvPr id="1350" name="Трапеция 123"/>
              <p:cNvSpPr/>
              <p:nvPr/>
            </p:nvSpPr>
            <p:spPr>
              <a:xfrm rot="11040000">
                <a:off x="4668840" y="4059360"/>
                <a:ext cx="320760" cy="289080"/>
              </a:xfrm>
              <a:custGeom>
                <a:avLst/>
                <a:gdLst/>
                <a:ahLst/>
                <a:rect l="l" t="t" r="r" b="b"/>
                <a:pathLst>
                  <a:path w="500062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5" y="0"/>
                    </a:lnTo>
                    <a:lnTo>
                      <a:pt x="500062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51" name="Кольцо 124" descr=""/>
              <p:cNvPicPr/>
              <p:nvPr/>
            </p:nvPicPr>
            <p:blipFill>
              <a:blip r:embed="rId13"/>
              <a:stretch/>
            </p:blipFill>
            <p:spPr>
              <a:xfrm rot="21599400">
                <a:off x="4793040" y="4236840"/>
                <a:ext cx="2134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2" name="Группа 85"/>
            <p:cNvGrpSpPr/>
            <p:nvPr/>
          </p:nvGrpSpPr>
          <p:grpSpPr>
            <a:xfrm>
              <a:off x="3913560" y="4551840"/>
              <a:ext cx="277920" cy="1538280"/>
              <a:chOff x="3913560" y="4551840"/>
              <a:chExt cx="277920" cy="1538280"/>
            </a:xfrm>
          </p:grpSpPr>
          <p:sp>
            <p:nvSpPr>
              <p:cNvPr id="1353" name="Скругленный прямоугольник 116"/>
              <p:cNvSpPr/>
              <p:nvPr/>
            </p:nvSpPr>
            <p:spPr>
              <a:xfrm rot="10800000">
                <a:off x="3913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Кольцо 117"/>
              <p:cNvSpPr/>
              <p:nvPr/>
            </p:nvSpPr>
            <p:spPr>
              <a:xfrm rot="10800000">
                <a:off x="3942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Кольцо 118"/>
              <p:cNvSpPr/>
              <p:nvPr/>
            </p:nvSpPr>
            <p:spPr>
              <a:xfrm rot="10800000">
                <a:off x="3942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Кольцо 119"/>
              <p:cNvSpPr/>
              <p:nvPr/>
            </p:nvSpPr>
            <p:spPr>
              <a:xfrm rot="10800000">
                <a:off x="3942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Кольцо 120"/>
              <p:cNvSpPr/>
              <p:nvPr/>
            </p:nvSpPr>
            <p:spPr>
              <a:xfrm rot="10800000">
                <a:off x="3942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Кольцо 121"/>
              <p:cNvSpPr/>
              <p:nvPr/>
            </p:nvSpPr>
            <p:spPr>
              <a:xfrm rot="10800000">
                <a:off x="3942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Кольцо 122"/>
              <p:cNvSpPr/>
              <p:nvPr/>
            </p:nvSpPr>
            <p:spPr>
              <a:xfrm rot="10800000">
                <a:off x="3942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0" name="Группа 87"/>
            <p:cNvGrpSpPr/>
            <p:nvPr/>
          </p:nvGrpSpPr>
          <p:grpSpPr>
            <a:xfrm>
              <a:off x="3893760" y="4048920"/>
              <a:ext cx="347040" cy="425880"/>
              <a:chOff x="3893760" y="4048920"/>
              <a:chExt cx="347040" cy="425880"/>
            </a:xfrm>
          </p:grpSpPr>
          <p:sp>
            <p:nvSpPr>
              <p:cNvPr id="1361" name="Трапеция 114"/>
              <p:cNvSpPr/>
              <p:nvPr/>
            </p:nvSpPr>
            <p:spPr>
              <a:xfrm rot="11040000">
                <a:off x="3903480" y="4059360"/>
                <a:ext cx="316440" cy="289080"/>
              </a:xfrm>
              <a:custGeom>
                <a:avLst/>
                <a:gdLst/>
                <a:ahLst/>
                <a:rect l="l" t="t" r="r" b="b"/>
                <a:pathLst>
                  <a:path w="500063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6" y="0"/>
                    </a:lnTo>
                    <a:lnTo>
                      <a:pt x="500063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62" name="Кольцо 115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4024800" y="4236480"/>
                <a:ext cx="2160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3" name="Группа 90"/>
            <p:cNvGrpSpPr/>
            <p:nvPr/>
          </p:nvGrpSpPr>
          <p:grpSpPr>
            <a:xfrm>
              <a:off x="4678560" y="4551840"/>
              <a:ext cx="277920" cy="1538280"/>
              <a:chOff x="4678560" y="4551840"/>
              <a:chExt cx="277920" cy="1538280"/>
            </a:xfrm>
          </p:grpSpPr>
          <p:sp>
            <p:nvSpPr>
              <p:cNvPr id="1364" name="Скругленный прямоугольник 107"/>
              <p:cNvSpPr/>
              <p:nvPr/>
            </p:nvSpPr>
            <p:spPr>
              <a:xfrm rot="10800000">
                <a:off x="4678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Кольцо 108"/>
              <p:cNvSpPr/>
              <p:nvPr/>
            </p:nvSpPr>
            <p:spPr>
              <a:xfrm rot="10800000">
                <a:off x="4707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Кольцо 109"/>
              <p:cNvSpPr/>
              <p:nvPr/>
            </p:nvSpPr>
            <p:spPr>
              <a:xfrm rot="10800000">
                <a:off x="4707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Кольцо 110"/>
              <p:cNvSpPr/>
              <p:nvPr/>
            </p:nvSpPr>
            <p:spPr>
              <a:xfrm rot="10800000">
                <a:off x="4707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Кольцо 111"/>
              <p:cNvSpPr/>
              <p:nvPr/>
            </p:nvSpPr>
            <p:spPr>
              <a:xfrm rot="10800000">
                <a:off x="4707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Кольцо 112"/>
              <p:cNvSpPr/>
              <p:nvPr/>
            </p:nvSpPr>
            <p:spPr>
              <a:xfrm rot="10800000">
                <a:off x="4707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Кольцо 113"/>
              <p:cNvSpPr/>
              <p:nvPr/>
            </p:nvSpPr>
            <p:spPr>
              <a:xfrm rot="10800000">
                <a:off x="4707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1" name="Группа 5"/>
          <p:cNvGrpSpPr/>
          <p:nvPr/>
        </p:nvGrpSpPr>
        <p:grpSpPr>
          <a:xfrm>
            <a:off x="4816080" y="3142440"/>
            <a:ext cx="590760" cy="1206720"/>
            <a:chOff x="4816080" y="3142440"/>
            <a:chExt cx="590760" cy="1206720"/>
          </a:xfrm>
        </p:grpSpPr>
        <p:sp>
          <p:nvSpPr>
            <p:cNvPr id="1372" name="Скругленный прямоугольник 78"/>
            <p:cNvSpPr/>
            <p:nvPr/>
          </p:nvSpPr>
          <p:spPr>
            <a:xfrm rot="775800">
              <a:off x="4858920" y="39538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Полилиния 79"/>
            <p:cNvSpPr/>
            <p:nvPr/>
          </p:nvSpPr>
          <p:spPr>
            <a:xfrm rot="775800">
              <a:off x="4957200" y="3171240"/>
              <a:ext cx="35748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4" name="Группа 5"/>
          <p:cNvGrpSpPr/>
          <p:nvPr/>
        </p:nvGrpSpPr>
        <p:grpSpPr>
          <a:xfrm>
            <a:off x="3642480" y="3142800"/>
            <a:ext cx="472680" cy="1215720"/>
            <a:chOff x="3642480" y="3142800"/>
            <a:chExt cx="472680" cy="1215720"/>
          </a:xfrm>
        </p:grpSpPr>
        <p:sp>
          <p:nvSpPr>
            <p:cNvPr id="1375" name="Скругленный прямоугольник 126"/>
            <p:cNvSpPr/>
            <p:nvPr/>
          </p:nvSpPr>
          <p:spPr>
            <a:xfrm flipH="1" rot="21259200">
              <a:off x="4024080" y="3970800"/>
              <a:ext cx="71280" cy="384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84840"/>
                <a:gd name="textAreaBottom" fmla="*/ 381600 h 384840"/>
              </a:gdLst>
              <a:ahLst/>
              <a:rect l="textAreaLeft" t="textAreaTop" r="textAreaRight" b="textAreaBottom"/>
              <a:pathLst>
                <a:path w="21600" h="116141">
                  <a:moveTo>
                    <a:pt x="3600" y="0"/>
                  </a:moveTo>
                  <a:arcTo wR="3600" hR="3600" stAng="16200000" swAng="-5400000"/>
                  <a:lnTo>
                    <a:pt x="0" y="112541"/>
                  </a:lnTo>
                  <a:arcTo wR="3600" hR="3600" stAng="10800000" swAng="-5400000"/>
                  <a:lnTo>
                    <a:pt x="18000" y="11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Полилиния 127"/>
            <p:cNvSpPr/>
            <p:nvPr/>
          </p:nvSpPr>
          <p:spPr>
            <a:xfrm flipH="1" rot="21259200">
              <a:off x="3683160" y="3158280"/>
              <a:ext cx="357480" cy="8474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7" name="Полилиния 86"/>
          <p:cNvSpPr/>
          <p:nvPr/>
        </p:nvSpPr>
        <p:spPr>
          <a:xfrm>
            <a:off x="5008680" y="949320"/>
            <a:ext cx="4127400" cy="3403440"/>
          </a:xfrm>
          <a:custGeom>
            <a:avLst/>
            <a:gdLst/>
            <a:ahLst/>
            <a:rect l="l" t="t" r="r" b="b"/>
            <a:pathLst>
              <a:path w="4127810" h="3402981">
                <a:moveTo>
                  <a:pt x="120805" y="2194932"/>
                </a:moveTo>
                <a:cubicBezTo>
                  <a:pt x="60402" y="1996998"/>
                  <a:pt x="0" y="1799064"/>
                  <a:pt x="109654" y="1782337"/>
                </a:cubicBezTo>
                <a:cubicBezTo>
                  <a:pt x="219308" y="1765610"/>
                  <a:pt x="581722" y="1891991"/>
                  <a:pt x="778727" y="2094571"/>
                </a:cubicBezTo>
                <a:cubicBezTo>
                  <a:pt x="975732" y="2297151"/>
                  <a:pt x="797312" y="2850996"/>
                  <a:pt x="1291683" y="2997820"/>
                </a:cubicBezTo>
                <a:cubicBezTo>
                  <a:pt x="1786054" y="3144644"/>
                  <a:pt x="3362092" y="3402981"/>
                  <a:pt x="3744951" y="2975517"/>
                </a:cubicBezTo>
                <a:cubicBezTo>
                  <a:pt x="4127810" y="2548053"/>
                  <a:pt x="3705922" y="866078"/>
                  <a:pt x="3588834" y="433039"/>
                </a:cubicBezTo>
                <a:cubicBezTo>
                  <a:pt x="3471746" y="0"/>
                  <a:pt x="3127917" y="295507"/>
                  <a:pt x="3042424" y="377283"/>
                </a:cubicBezTo>
                <a:cubicBezTo>
                  <a:pt x="2956931" y="459059"/>
                  <a:pt x="3016404" y="691376"/>
                  <a:pt x="3075878" y="923693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8" name="Группа 89" descr=""/>
          <p:cNvPicPr/>
          <p:nvPr/>
        </p:nvPicPr>
        <p:blipFill>
          <a:blip r:embed="rId15"/>
          <a:stretch/>
        </p:blipFill>
        <p:spPr>
          <a:xfrm>
            <a:off x="3181320" y="4595760"/>
            <a:ext cx="3232080" cy="512640"/>
          </a:xfrm>
          <a:prstGeom prst="rect">
            <a:avLst/>
          </a:prstGeom>
          <a:ln w="0">
            <a:noFill/>
          </a:ln>
        </p:spPr>
      </p:pic>
      <p:pic>
        <p:nvPicPr>
          <p:cNvPr id="1379" name="Скругленный прямоугольник 95" descr=""/>
          <p:cNvPicPr/>
          <p:nvPr/>
        </p:nvPicPr>
        <p:blipFill>
          <a:blip r:embed="rId16"/>
          <a:stretch/>
        </p:blipFill>
        <p:spPr>
          <a:xfrm>
            <a:off x="3114720" y="5346720"/>
            <a:ext cx="2547720" cy="304920"/>
          </a:xfrm>
          <a:prstGeom prst="rect">
            <a:avLst/>
          </a:prstGeom>
          <a:ln w="0">
            <a:noFill/>
          </a:ln>
        </p:spPr>
      </p:pic>
      <p:sp>
        <p:nvSpPr>
          <p:cNvPr id="1380" name="Блок-схема: знак завершения 97"/>
          <p:cNvSpPr/>
          <p:nvPr/>
        </p:nvSpPr>
        <p:spPr>
          <a:xfrm>
            <a:off x="3071880" y="5715000"/>
            <a:ext cx="2786040" cy="142920"/>
          </a:xfrm>
          <a:prstGeom prst="flowChartTerminator">
            <a:avLst/>
          </a:prstGeom>
          <a:solidFill>
            <a:srgbClr val="00b0f0"/>
          </a:solidFill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Куб 98"/>
          <p:cNvSpPr/>
          <p:nvPr/>
        </p:nvSpPr>
        <p:spPr>
          <a:xfrm>
            <a:off x="3143160" y="5072040"/>
            <a:ext cx="2428920" cy="285840"/>
          </a:xfrm>
          <a:prstGeom prst="cube">
            <a:avLst>
              <a:gd name="adj" fmla="val 59666"/>
            </a:avLst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3" name="Picture 47" descr="j0251066"/>
          <p:cNvPicPr/>
          <p:nvPr/>
        </p:nvPicPr>
        <p:blipFill>
          <a:blip r:embed="rId18"/>
          <a:stretch/>
        </p:blipFill>
        <p:spPr>
          <a:xfrm flipH="1" rot="17500200">
            <a:off x="6669360" y="973800"/>
            <a:ext cx="15793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4" name=""/>
          <p:cNvGraphicFramePr/>
          <p:nvPr/>
        </p:nvGraphicFramePr>
        <p:xfrm>
          <a:off x="1214280" y="571680"/>
          <a:ext cx="6405840" cy="5843520"/>
        </p:xfrm>
        <a:graphic>
          <a:graphicData uri="http://schemas.openxmlformats.org/drawingml/2006/table">
            <a:tbl>
              <a:tblPr/>
              <a:tblGrid>
                <a:gridCol w="3275280"/>
                <a:gridCol w="313056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ля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воз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е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стм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5" name=""/>
          <p:cNvGraphicFramePr/>
          <p:nvPr/>
        </p:nvGraphicFramePr>
        <p:xfrm>
          <a:off x="1177920" y="582480"/>
          <a:ext cx="6458040" cy="61776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6" name="Прямоугольник 3"/>
          <p:cNvSpPr/>
          <p:nvPr/>
        </p:nvSpPr>
        <p:spPr>
          <a:xfrm>
            <a:off x="6410160" y="6357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28:29Z</dcterms:created>
  <dc:creator>Asus</dc:creator>
  <dc:description/>
  <dc:language>en-US</dc:language>
  <cp:lastModifiedBy>pavel-57</cp:lastModifiedBy>
  <dcterms:modified xsi:type="dcterms:W3CDTF">2012-04-02T20:16:56Z</dcterms:modified>
  <cp:revision>19</cp:revision>
  <dc:subject/>
  <dc:title>Слайд 1</dc:title>
</cp:coreProperties>
</file>