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54A-EE4A-431F-A401-9C32693D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925-73C3-4D39-82B4-F2D02921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E01-B2EC-4CA4-94B5-A3362354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60F-182B-445D-A2AE-8AB94CD3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A8A0-C03D-4DEE-AEFA-B52158F8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73A1-2918-417D-8D3D-C035839A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57A3-2E33-49A7-8725-BF61C4CD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0354-4847-4128-A715-CA7972AD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2121-DE60-4A53-A59E-FDA2C6E1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D031-98DB-4E35-8FA8-3DA2DF70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00FA-77BC-4DD1-A4E4-6158FBA1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7EF-9F5B-4662-B4CA-EBB836DA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19DF-0103-4B04-8BE4-41A07505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C3E0-36A4-48DD-883B-84D2BB87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3023-A6B0-45BD-89D3-84FE6E72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ECE1-4621-416F-BB9C-3F865AEB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BFE6-A376-4EB5-B5FC-295F8A4D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E0B-C703-4385-9F29-F8DCB67D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038-27D1-4F9E-AE8B-964EC331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798-E804-4314-9845-0E644C45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45E-B12A-400B-80B5-D725D56C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BEE-8F8F-429F-8E34-CC3EA2E7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A26-185B-4687-A509-BE17F61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847-DD18-414E-BF4C-5673C2D3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E944-A6E0-4E8C-BA7E-4096F77F74CD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CF6B-2565-4905-AE3A-2F6E35165222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Применение решения задач на проценты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66880" y="3581280"/>
            <a:ext cx="45831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9.</a:t>
            </a: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Банковский процен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«Сбербанке» вам предлож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% годовых – за 3 месяц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0% годовых – за 6 месяце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% годовых – за 1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9520" y="3733920"/>
            <a:ext cx="77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банке «Триумф» вам предложат 200% за год, то за 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%, т.е. 100000 рублей к своим10000 руб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09920" y="3981600"/>
            <a:ext cx="9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3366"/>
                </a:solidFill>
                <a:uFillTx/>
                <a:latin typeface="Times New Roman"/>
              </a:rPr>
              <a:t>Нет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32800" y="4537080"/>
            <a:ext cx="73418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1 год – 30000 рублей,        За 2 года – 90000 руб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а 3 года – 270000 рублей,    за 4 года – 810000 рубл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5 лет – 2 430000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10920" y="5756400"/>
            <a:ext cx="659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банке «Мечта» вам предложат 1000% годовы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5 лет – 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1 610 510 000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1828800"/>
            <a:ext cx="2516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10.Банковский процен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«Сбербанке» вам предлож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% годовых – за 3 месяц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0% годовых – за 6 месяце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% годовых – за 1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7240" y="3699000"/>
            <a:ext cx="74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0% годовых – 65% дохода, т.е. увеличится в 1,6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32080" y="4232160"/>
            <a:ext cx="76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ще на 6 месяцев –172,25%, т.е. 1,65 * 1,65 = 2, 72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3733920"/>
            <a:ext cx="762012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6400" y="5029200"/>
            <a:ext cx="74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% годовых – 30% дохода, т.е. увеличится  в 1,3 р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908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ледующие 3 месяца – 69%, т.е. Увеличится в 1,69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791320"/>
            <a:ext cx="75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ледующие 3 месяца- 119,7%, увеличение в 2,197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год –185,61% дохода, увеличение в 2,8561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1752480"/>
            <a:ext cx="198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11.Банковский процен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ть форма вклада под 100% годовых, с правом взять вклад в любое время с получением доли прибы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2767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1 день вклад увеличится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30960" y="396252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1 год вклад увеличитс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943600" y="3124080"/>
                <a:ext cx="9144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019920" y="3933720"/>
                <a:ext cx="12189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28800" y="4343400"/>
                <a:ext cx="19810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о</m:t>
                    </m:r>
                    <m:r>
                      <m:t xml:space="preserve">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600200" y="5638680"/>
            <a:ext cx="53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величивается , но не может бы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е числа е = 2,71- числа Эйл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781680" y="4267080"/>
            <a:ext cx="19843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Конец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1.Определение процентов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960" y="2022480"/>
            <a:ext cx="64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цен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это одно из математических понят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88320" y="2479680"/>
            <a:ext cx="72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во процент происходит от латинског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 centu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значает «от сотни» или «на 100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7960" y="3394080"/>
            <a:ext cx="63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имер. Из каждых 100 участников лотере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участников получили приз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4640" y="6019920"/>
            <a:ext cx="59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% - Это 7 из 100, 7 человек из 100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29000" y="4191120"/>
            <a:ext cx="20574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2.Для чего нужны проценты?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6880" y="194616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го ли соли в морской вод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00200" y="1905120"/>
          <a:ext cx="497376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05120"/>
                    <a:ext cx="49737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589400" y="423216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центы были известны индусам в 5 ве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7000" y="4724280"/>
            <a:ext cx="776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Европе десятичные дроби появились на 1000 лет поз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х ввёл Бельгийский учены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имон Стевин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 ж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584 году впервые опубликовал таблицу проц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3.Проценты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стейших задачах на проценты некоторые величи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нимается за 100%, а ее ча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ражае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4038480"/>
            <a:ext cx="4038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733920"/>
            <a:ext cx="4038480" cy="30456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7040" y="324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%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038480"/>
            <a:ext cx="1295280" cy="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038480"/>
            <a:ext cx="1295280" cy="22860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400356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3200400"/>
            <a:ext cx="1600200" cy="1066680"/>
          </a:xfrm>
          <a:prstGeom prst="borderCallout1">
            <a:avLst>
              <a:gd name="adj1" fmla="val 18750"/>
              <a:gd name="adj2" fmla="val -8333"/>
              <a:gd name="adj3" fmla="val 70685"/>
              <a:gd name="adj4" fmla="val -65675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%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606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8120" y="4419720"/>
            <a:ext cx="2923920" cy="21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4</a:t>
            </a: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. Нахождение процента от числа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бы найти процент от числа, надо это число умножить на соответствующую дроб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038480"/>
            <a:ext cx="43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имер. 20% от 45кг сах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ны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2=9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24080" y="2722680"/>
                <a:ext cx="16002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4911840" y="3754440"/>
          <a:ext cx="4197240" cy="305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11840" y="3754440"/>
                    <a:ext cx="419724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5. Нахождение числа по его проценту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бы найти число по его проценту, надо часть, соответствующую этому проценту, разделить на дроб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4120" y="3124080"/>
          <a:ext cx="380988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124080"/>
                    <a:ext cx="38098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582920" y="4076640"/>
            <a:ext cx="38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пример. Если 8% от длины бру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авляют 2,4см, то длина вс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руска равна 2,4:0,08=30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648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352680" y="2741760"/>
                <a:ext cx="15685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6. Нахождение процентного отношения двух чисел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бы узнать, сколько процентов одно число составляет от второго, надо первое число  разделить на второе и результат умножить на 100%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1800" y="4156200"/>
            <a:ext cx="40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имер. 9г соли в раств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сой 180г составля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180·100%=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873760" y="4684680"/>
          <a:ext cx="3112920" cy="198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3760" y="4684680"/>
                    <a:ext cx="311292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1178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71800" y="3232080"/>
                <a:ext cx="2070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7.Простой процентный рос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месячная квартплат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25146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я составляе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вартплаты за каждый день просроч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2895480"/>
            <a:ext cx="73692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у, которую должен заплатить человек пос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н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рочки обозначи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1840" y="3657600"/>
            <a:ext cx="57481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 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ней просрочки пеня состави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n%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всего придётся заплатить         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952880" y="39625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26088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828800" y="4367160"/>
                <a:ext cx="32767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172200" y="4572000"/>
            <a:ext cx="21337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07" y="4457"/>
                </a:moveTo>
                <a:lnTo>
                  <a:pt x="-771" y="1543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ула простого процентного ро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8.Сложный процентный рос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банк начисля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%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довых, внесенная сумма рав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лей, а сумма, которая будет чере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ет на счете, рав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352680" y="2984400"/>
                <a:ext cx="2590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629400" y="2743200"/>
            <a:ext cx="220968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91" y="14130"/>
                </a:moveTo>
                <a:lnTo>
                  <a:pt x="-745" y="2160"/>
                </a:lnTo>
              </a:path>
              <a:path w="21600" h="21600">
                <a:moveTo>
                  <a:pt x="-745" y="0"/>
                </a:moveTo>
                <a:lnTo>
                  <a:pt x="-745" y="21600"/>
                </a:lnTo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ула сложного проц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5320" y="3886200"/>
            <a:ext cx="728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акая сумма будет на срочном вкладе чере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года, если банк начисляет 10 % годовых и внес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мма равна 2000 руб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840" y="50292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 rot="10800000">
                <a:off x="1635120" y="5466600"/>
                <a:ext cx="69404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,1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28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ру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1546200" y="6248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: Через 4 года на счете будет сумма 2928,2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8:57:28Z</dcterms:created>
  <dc:creator>Новикова</dc:creator>
  <dc:description/>
  <dc:language>en-US</dc:language>
  <cp:lastModifiedBy>Observer</cp:lastModifiedBy>
  <dcterms:modified xsi:type="dcterms:W3CDTF">2003-03-19T06:32:07Z</dcterms:modified>
  <cp:revision>21</cp:revision>
  <dc:subject/>
  <dc:title>Применение решения задач на проценты.</dc:title>
</cp:coreProperties>
</file>