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8A0-D2E8-40E9-A847-96C42666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4EA-3AC7-467E-8D56-4858807B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E7E-9A50-490E-9991-9BAE05F5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3B8-BDAC-47B3-9226-D9229B89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C9DD-F3BB-43EB-987D-F90C7772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414-EAF8-4EBB-9304-3BBDF05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088-A8E3-4DBA-9283-986330D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8C67-0F2B-4C0A-8FB1-3AD46BB4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2269-56D1-4A7E-91F3-0E204C4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EC5A-E5F1-4784-A091-CBFDE3EF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CD67-D080-449F-A077-68964BF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68A-134F-4B53-B867-4E7F18E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707-40AD-44DE-8E82-73AE672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1F6-05CF-4B46-BAF5-EFBBDB3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1D0A-63ED-4314-A103-BD820DC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9CE1-34E3-4C8B-A700-A3A176C8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EDB4-061D-410A-BAC3-5566E028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337-4A0C-45B7-BCA7-3378B69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320-8C72-4FAD-97D9-66787BA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130-E68B-4443-AF0D-710D3BD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A79-CFF8-48E7-B03C-AF701A3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B70-90DD-4C79-B2F3-9D32EE8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711-7BBF-4807-9441-DB3A971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858-07A4-4C5C-BD43-0948E4C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8F8-F47F-419B-B888-8F2268CC2FC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CBC7-A7A2-4C9D-9EF3-D3C2D7EBEF7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Применение решения задач на 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4583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9.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9520" y="373392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Триумф» вам предложат 200% за год, то за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%, т.е. 100000 рублей к своим1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09920" y="39816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66"/>
                </a:solidFill>
                <a:uFillTx/>
                <a:latin typeface="Times New Roman"/>
              </a:rPr>
              <a:t>Нет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32800" y="4537080"/>
            <a:ext cx="73418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– 30000 рублей,        За 2 года – 9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а 3 года – 270000 рублей,    за 4 года – 810000 руб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2 430000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10920" y="5756400"/>
            <a:ext cx="65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Мечта» вам предложат 1000% годов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1 610 510 000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1828800"/>
            <a:ext cx="2516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0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240" y="369900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65% дохода, т.е. увеличится в 1,6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2080" y="423216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ще на 6 месяцев –172,25%, т.е. 1,65 * 1,65 = 2, 72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33920"/>
            <a:ext cx="76201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6400" y="502920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30% дохода, т.е. увеличится  в 1,3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908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 – 69%, т.е. Увеличится в 1,69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79132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- 119,7%, увеличение в 2,19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год –185,61% дохода, увеличение в 2,8561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1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ть форма вклада под 100% годовых, с правом взять вклад в любое время с получением доли прибы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день вклад увеличится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0960" y="39625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вклад увеличи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3124080"/>
                <a:ext cx="9144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19920" y="3933720"/>
                <a:ext cx="1218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4343400"/>
                <a:ext cx="1981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о</m:t>
                    </m:r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600200" y="5638680"/>
            <a:ext cx="53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величивается , но не может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числа е = 2,71- числа Эйл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84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онец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.Определение процентов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960" y="20224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это одно из математических по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8320" y="247968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о процент происходит от латинск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 centu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«от сотни» или «на 100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960" y="33940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Из каждых 100 участников лотере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участников получили приз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4640" y="601992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% - Это 7 из 100, 7 человек из 100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2057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.Для чего нужны проценты?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6880" y="1946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о ли соли в морской в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1905120"/>
          <a:ext cx="497376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05120"/>
                    <a:ext cx="49737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89400" y="42321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нты были известны индусам в 5 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7000" y="4724280"/>
            <a:ext cx="77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вропе десятичные дроби появились на 1000 лет поз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ввёл Бельгийский уч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мон Стеви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ж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584 году впервые опубликовал таблицу проц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3.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стейших задачах на проценты некоторые величи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нимается за 100%, а ее ч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а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0384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733920"/>
            <a:ext cx="4038480" cy="3045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7040" y="324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038480"/>
            <a:ext cx="12952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038480"/>
            <a:ext cx="1295280" cy="2286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00356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200400"/>
            <a:ext cx="1600200" cy="1066680"/>
          </a:xfrm>
          <a:prstGeom prst="borderCallout1">
            <a:avLst>
              <a:gd name="adj1" fmla="val 18750"/>
              <a:gd name="adj2" fmla="val -8333"/>
              <a:gd name="adj3" fmla="val 70685"/>
              <a:gd name="adj4" fmla="val -6567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0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92392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. Нахождение процента от числа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надо это число умножить на соответствующую дроб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038480"/>
            <a:ext cx="43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20% от 45кг сах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ы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=9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2722680"/>
                <a:ext cx="16002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4911840" y="3754440"/>
          <a:ext cx="4197240" cy="305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1840" y="3754440"/>
                    <a:ext cx="41972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5. Нахождение числа по его проценту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найти число по его проценту, надо часть, соответствующую этому проценту, разделить на дроб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4120" y="3124080"/>
          <a:ext cx="38098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124080"/>
                    <a:ext cx="3809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82920" y="4076640"/>
            <a:ext cx="38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ример. Если 8% от длины бру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ляют 2,4см, то длина 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уска равна 2,4:0,08=3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6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352680" y="2741760"/>
                <a:ext cx="1568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6. Нахождение процентного отношения двух чисел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второго, надо первое число  разделить на второе и результат умножить на 100%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1800" y="415620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9г соли в раств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сой 180г состав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180·100%=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873760" y="4684680"/>
          <a:ext cx="311292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3760" y="4684680"/>
                    <a:ext cx="31129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1178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3232080"/>
                <a:ext cx="2070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7.Просто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квартпла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514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я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вартплаты за каждый день просроч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895480"/>
            <a:ext cx="7369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у, которую должен заплатить человек пос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рочки обознач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1840" y="3657600"/>
            <a:ext cx="5748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просрочки пеня состав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n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сего придётся заплатить      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952880" y="39625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2608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28800" y="4367160"/>
                <a:ext cx="3276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172200" y="4572000"/>
            <a:ext cx="21337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07" y="4457"/>
                </a:moveTo>
                <a:lnTo>
                  <a:pt x="-771" y="1543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простого процентного ро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8.Сложны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банк начис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%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овых, внесенная сумма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, а сумма, которая будет че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т на счете,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352680" y="2984400"/>
                <a:ext cx="259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629400" y="2743200"/>
            <a:ext cx="22096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91" y="14130"/>
                </a:moveTo>
                <a:lnTo>
                  <a:pt x="-745" y="2160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сложного проц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5320" y="3886200"/>
            <a:ext cx="728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кая сумма будет на срочном вкладе чер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года, если банк начисляет 10 % годовых и внес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мма равна 2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84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 rot="10800000">
                <a:off x="1635120" y="5466600"/>
                <a:ext cx="6940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,1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28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ру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546200" y="6248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 Через 4 года на счете будет сумма 2928,2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8:57:28Z</dcterms:created>
  <dc:creator>Новикова</dc:creator>
  <dc:description/>
  <dc:language>en-US</dc:language>
  <cp:lastModifiedBy>Observer</cp:lastModifiedBy>
  <dcterms:modified xsi:type="dcterms:W3CDTF">2003-03-19T06:32:07Z</dcterms:modified>
  <cp:revision>21</cp:revision>
  <dc:subject/>
  <dc:title>Применение решения задач на проценты.</dc:title>
</cp:coreProperties>
</file>