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4304-AF8B-4A93-9D1A-275FB353C3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5847-C6E6-4B50-B979-CEAF75FE62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4D11-2745-4CB9-9295-244EFA9B01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F874-2FEE-485E-8ED2-AC110C8E2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1FFA-38BB-4A97-92AC-F57EB984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B033-EEB0-4253-A20F-BEDAFC4B6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5C0B-37CA-4D95-9625-B5401CE51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BBFE-660A-42A9-9F23-44AD1B9EF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1FAB-6F91-46AF-B076-A0921C2D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9493-A9F2-4448-ACF6-8B4B8399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0D66-BF7D-4B80-8C65-AB91A658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86D1-9403-464E-8152-FD4F6A8F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7F5D-E684-43D0-B818-7D60A781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C5F2-9ABD-4514-8B5F-5E7339CD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8676-1F5A-4B97-91DC-E3CEADAC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F82C-6C42-46EF-B6F8-6BC9AE14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8AF8-DD63-4A51-A4F9-3DEE401A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DB71-EE94-4C5A-870F-D8D7197F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A1FC-DF8D-4F19-A1E4-07D60EAA4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A201-7468-484C-B31F-E9D875725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E9945-A826-4010-A36D-5E1022A28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4123E-5AED-4FAA-8104-15D9DD8A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EA008-3C36-4125-86E4-ECB28681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A6D64-CA22-4FF1-A8AF-6FE3B99B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80302-4919-4C10-88F2-FC593A4E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8026-1A4F-4D2D-AE84-952DC437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27B79-BA6B-467C-94E4-F249EFC7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6CE52-3262-495B-995C-2B699182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4D63F-E23B-498D-AF78-E8A88090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60008-3783-4D10-ABFD-E03A6239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6A718-0F0E-4866-B601-51163149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9F465-DF26-437B-9130-4B88651E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3E8EB-E45D-4229-9190-5ADA88143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66438-A8CF-4024-B33D-EB8F1B6A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71275-4CF6-42C3-BBDC-7FB7F62D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B59FC-15A5-4FFE-A132-A6496AF9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5DF2-0F58-4232-9AE6-24444ED2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8D312-CC2C-4671-B342-88AF85CF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1C074-E527-4D04-93D2-3ABD5C2A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DC235-3864-4894-97CC-FFEC4FBC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A7B07-3412-4ED4-8E43-2ED8654F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1C610-1AB9-416B-A21E-9F3E1834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3C182-4A90-4B49-8153-71DFE1D1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96C46-8FC4-4821-A773-7152B029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56B21-C63C-401D-812A-2529B5502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4E10F-D3C8-4E8F-B8D3-926A16334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CCC7A-5FE4-422A-BDAD-D23674D9D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7957-D320-4D52-B72B-EA061CAB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585A1-4206-421F-92B3-AD7174FE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CFC60-59B2-4E59-85CD-027E75BE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635CD-0B7E-4C33-8CAC-4BE2D8C4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0A820-859A-4861-BD8B-1A4A4C0F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58539-44D6-41D5-BBD1-3C8507BD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7072E-A8CC-4E32-9868-D43781F8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013D0-8390-4064-B38C-8E888C75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638BD-79A2-44DE-B22A-C2023C93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8FFDE-3295-460F-8DEE-1D8B37B4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C8226-20E2-4CC5-8340-38F505619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B23C-6956-41EF-B487-70292404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4C403-008F-4C02-BA83-285FFA0D5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2BBD-679B-4E1D-96F8-B3F7B1B1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76A6-697B-4A20-B563-4A6984DB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8E88-32C6-4B4A-85D0-053D077C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EC57-D6A8-428E-B954-359CCF237C5C}" type="slidenum">
              <a:rPr b="0" lang="ru-RU" sz="11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761D-DD5D-483E-A9B3-D3A72214F802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4E62-D036-4B70-A71F-BB12B38B21B7}" type="slidenum">
              <a:rPr b="0" lang="ru-RU" sz="11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2d2d2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2d2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D38E-7672-447A-B01D-FD5FFCD2B9E6}" type="slidenum">
              <a:rPr b="0" lang="ru-RU" sz="1100" spc="-1" strike="noStrike">
                <a:solidFill>
                  <a:srgbClr val="d2d2d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0104-DA5A-478C-BAB3-71BE836CAD0D}" type="slidenum">
              <a:rPr b="0" lang="ru-RU" sz="11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7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1640" y="4786200"/>
            <a:ext cx="4321080" cy="128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Учитель начальных классов МБУ СОШ №63 г                     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70c0"/>
                </a:solidFill>
                <a:latin typeface="Times New Roman"/>
              </a:rPr>
              <a:t>                                 </a:t>
            </a:r>
            <a:r>
              <a:rPr b="1" i="1" lang="ru-RU" sz="1900" spc="-1" strike="noStrike">
                <a:solidFill>
                  <a:srgbClr val="0070c0"/>
                </a:solidFill>
                <a:latin typeface="Times New Roman"/>
              </a:rPr>
              <a:t>Булгаков И.В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70c0"/>
                </a:solidFill>
                <a:latin typeface="Times New Roman"/>
              </a:rPr>
              <a:t>                                 </a:t>
            </a:r>
            <a:r>
              <a:rPr b="1" i="1" lang="ru-RU" sz="1900" spc="-1" strike="noStrike">
                <a:solidFill>
                  <a:srgbClr val="0070c0"/>
                </a:solidFill>
                <a:latin typeface="Times New Roman"/>
              </a:rPr>
              <a:t>Петухов В.Н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ила Викторовна Февраль 2014 год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WordArt 4"/>
          <p:cNvSpPr txBox="1"/>
          <p:nvPr/>
        </p:nvSpPr>
        <p:spPr>
          <a:xfrm>
            <a:off x="468360" y="2205000"/>
            <a:ext cx="8424720" cy="19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иемы активизации деятельности воспитанников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и формировании УУД  на уроках технологии 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1332000" y="1413000"/>
            <a:ext cx="64008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0" descr="Рисунок1"/>
          <p:cNvPicPr/>
          <p:nvPr/>
        </p:nvPicPr>
        <p:blipFill>
          <a:blip r:embed="rId1"/>
          <a:stretch/>
        </p:blipFill>
        <p:spPr>
          <a:xfrm>
            <a:off x="2232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2"/>
          <p:cNvSpPr/>
          <p:nvPr/>
        </p:nvSpPr>
        <p:spPr>
          <a:xfrm>
            <a:off x="5214960" y="3119760"/>
            <a:ext cx="36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5-конечная звезда 2"/>
          <p:cNvSpPr/>
          <p:nvPr/>
        </p:nvSpPr>
        <p:spPr>
          <a:xfrm>
            <a:off x="3641760" y="1746360"/>
            <a:ext cx="1152360" cy="1224000"/>
          </a:xfrm>
          <a:custGeom>
            <a:avLst/>
            <a:gdLst/>
            <a:ahLst/>
            <a:rect l="l" t="t" r="r" b="b"/>
            <a:pathLst>
              <a:path w="1152525" h="1223963">
                <a:moveTo>
                  <a:pt x="1" y="467511"/>
                </a:moveTo>
                <a:lnTo>
                  <a:pt x="440228" y="467514"/>
                </a:lnTo>
                <a:lnTo>
                  <a:pt x="576263" y="0"/>
                </a:lnTo>
                <a:lnTo>
                  <a:pt x="712297" y="467514"/>
                </a:lnTo>
                <a:lnTo>
                  <a:pt x="1152524" y="467511"/>
                </a:lnTo>
                <a:lnTo>
                  <a:pt x="796371" y="756448"/>
                </a:lnTo>
                <a:lnTo>
                  <a:pt x="932412" y="1223960"/>
                </a:lnTo>
                <a:lnTo>
                  <a:pt x="576263" y="935018"/>
                </a:lnTo>
                <a:lnTo>
                  <a:pt x="220113" y="1223960"/>
                </a:lnTo>
                <a:lnTo>
                  <a:pt x="356154" y="756448"/>
                </a:lnTo>
                <a:lnTo>
                  <a:pt x="1" y="467511"/>
                </a:lnTo>
                <a:close/>
              </a:path>
            </a:pathLst>
          </a:custGeom>
          <a:solidFill>
            <a:srgbClr val="ff388c"/>
          </a:solidFill>
          <a:ln w="399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5-конечная звезда 7"/>
          <p:cNvSpPr/>
          <p:nvPr/>
        </p:nvSpPr>
        <p:spPr>
          <a:xfrm>
            <a:off x="6372360" y="1731960"/>
            <a:ext cx="1152360" cy="1224000"/>
          </a:xfrm>
          <a:custGeom>
            <a:avLst/>
            <a:gdLst/>
            <a:ahLst/>
            <a:rect l="l" t="t" r="r" b="b"/>
            <a:pathLst>
              <a:path w="1152525" h="1223962">
                <a:moveTo>
                  <a:pt x="1" y="467511"/>
                </a:moveTo>
                <a:lnTo>
                  <a:pt x="440228" y="467514"/>
                </a:lnTo>
                <a:lnTo>
                  <a:pt x="576263" y="0"/>
                </a:lnTo>
                <a:lnTo>
                  <a:pt x="712297" y="467514"/>
                </a:lnTo>
                <a:lnTo>
                  <a:pt x="1152524" y="467511"/>
                </a:lnTo>
                <a:lnTo>
                  <a:pt x="796371" y="756447"/>
                </a:lnTo>
                <a:lnTo>
                  <a:pt x="932412" y="1223959"/>
                </a:lnTo>
                <a:lnTo>
                  <a:pt x="576263" y="935017"/>
                </a:lnTo>
                <a:lnTo>
                  <a:pt x="220113" y="1223959"/>
                </a:lnTo>
                <a:lnTo>
                  <a:pt x="356154" y="756447"/>
                </a:lnTo>
                <a:lnTo>
                  <a:pt x="1" y="467511"/>
                </a:lnTo>
                <a:close/>
              </a:path>
            </a:pathLst>
          </a:custGeom>
          <a:solidFill>
            <a:srgbClr val="ff388c"/>
          </a:solidFill>
          <a:ln w="399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5-конечная звезда 8"/>
          <p:cNvSpPr/>
          <p:nvPr/>
        </p:nvSpPr>
        <p:spPr>
          <a:xfrm>
            <a:off x="1009800" y="1812960"/>
            <a:ext cx="1152360" cy="1224000"/>
          </a:xfrm>
          <a:custGeom>
            <a:avLst/>
            <a:gdLst/>
            <a:ahLst/>
            <a:rect l="l" t="t" r="r" b="b"/>
            <a:pathLst>
              <a:path w="1152525" h="1223963">
                <a:moveTo>
                  <a:pt x="1" y="467511"/>
                </a:moveTo>
                <a:lnTo>
                  <a:pt x="440228" y="467514"/>
                </a:lnTo>
                <a:lnTo>
                  <a:pt x="576263" y="0"/>
                </a:lnTo>
                <a:lnTo>
                  <a:pt x="712297" y="467514"/>
                </a:lnTo>
                <a:lnTo>
                  <a:pt x="1152524" y="467511"/>
                </a:lnTo>
                <a:lnTo>
                  <a:pt x="796371" y="756448"/>
                </a:lnTo>
                <a:lnTo>
                  <a:pt x="932412" y="1223960"/>
                </a:lnTo>
                <a:lnTo>
                  <a:pt x="576263" y="935018"/>
                </a:lnTo>
                <a:lnTo>
                  <a:pt x="220113" y="1223960"/>
                </a:lnTo>
                <a:lnTo>
                  <a:pt x="356154" y="756448"/>
                </a:lnTo>
                <a:lnTo>
                  <a:pt x="1" y="467511"/>
                </a:lnTo>
                <a:close/>
              </a:path>
            </a:pathLst>
          </a:custGeom>
          <a:solidFill>
            <a:srgbClr val="ff388c"/>
          </a:solidFill>
          <a:ln w="399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684360" y="324468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«За качество продукц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4"/>
          <p:cNvSpPr/>
          <p:nvPr/>
        </p:nvSpPr>
        <p:spPr>
          <a:xfrm>
            <a:off x="2973240" y="3244680"/>
            <a:ext cx="253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49e"/>
                </a:solidFill>
                <a:latin typeface="Arial"/>
              </a:rPr>
              <a:t>«За настойчивость в труд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5"/>
          <p:cNvSpPr/>
          <p:nvPr/>
        </p:nvSpPr>
        <p:spPr>
          <a:xfrm>
            <a:off x="6156360" y="3244680"/>
            <a:ext cx="23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00"/>
                </a:solidFill>
                <a:latin typeface="Arial"/>
              </a:rPr>
              <a:t>«За лучшую организацию тру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0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252000" cy="6861240"/>
          </a:xfrm>
          <a:prstGeom prst="rect">
            <a:avLst/>
          </a:prstGeom>
          <a:ln w="0">
            <a:noFill/>
          </a:ln>
        </p:spPr>
      </p:pic>
      <p:pic>
        <p:nvPicPr>
          <p:cNvPr id="268" name="Прямоугольник 1" descr=""/>
          <p:cNvPicPr/>
          <p:nvPr/>
        </p:nvPicPr>
        <p:blipFill>
          <a:blip r:embed="rId2"/>
          <a:stretch/>
        </p:blipFill>
        <p:spPr>
          <a:xfrm>
            <a:off x="969840" y="1225440"/>
            <a:ext cx="6985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0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1"/>
          <p:cNvSpPr/>
          <p:nvPr/>
        </p:nvSpPr>
        <p:spPr>
          <a:xfrm>
            <a:off x="1692360" y="1413000"/>
            <a:ext cx="6335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Arial"/>
              </a:rPr>
              <a:t>Проблема – отходы при производстве изделий из древесины и после обрезки деревь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0" descr="Рисунок1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18"/>
          <p:cNvSpPr/>
          <p:nvPr/>
        </p:nvSpPr>
        <p:spPr>
          <a:xfrm>
            <a:off x="2843280" y="33336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ыбор иде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9" descr="dqxhuxlktxhbdpoh"/>
          <p:cNvPicPr/>
          <p:nvPr/>
        </p:nvPicPr>
        <p:blipFill>
          <a:blip r:embed="rId2"/>
          <a:stretch/>
        </p:blipFill>
        <p:spPr>
          <a:xfrm>
            <a:off x="3276720" y="3429000"/>
            <a:ext cx="2665440" cy="2444760"/>
          </a:xfrm>
          <a:prstGeom prst="rect">
            <a:avLst/>
          </a:prstGeom>
          <a:ln w="0">
            <a:noFill/>
          </a:ln>
        </p:spPr>
      </p:pic>
      <p:sp>
        <p:nvSpPr>
          <p:cNvPr id="274" name="AutoShape 22"/>
          <p:cNvSpPr/>
          <p:nvPr/>
        </p:nvSpPr>
        <p:spPr>
          <a:xfrm>
            <a:off x="826920" y="1773360"/>
            <a:ext cx="1944720" cy="1143000"/>
          </a:xfrm>
          <a:prstGeom prst="cloudCallout">
            <a:avLst>
              <a:gd name="adj1" fmla="val 120120"/>
              <a:gd name="adj2" fmla="val 98888"/>
            </a:avLst>
          </a:prstGeom>
          <a:solidFill>
            <a:srgbClr val="66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чег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3"/>
          <p:cNvSpPr/>
          <p:nvPr/>
        </p:nvSpPr>
        <p:spPr>
          <a:xfrm>
            <a:off x="3419640" y="1197000"/>
            <a:ext cx="1600200" cy="914400"/>
          </a:xfrm>
          <a:prstGeom prst="cloudCallout">
            <a:avLst>
              <a:gd name="adj1" fmla="val 11902"/>
              <a:gd name="adj2" fmla="val 198958"/>
            </a:avLst>
          </a:prstGeom>
          <a:solidFill>
            <a:srgbClr val="66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24"/>
          <p:cNvSpPr/>
          <p:nvPr/>
        </p:nvSpPr>
        <p:spPr>
          <a:xfrm>
            <a:off x="5508720" y="1557360"/>
            <a:ext cx="1584360" cy="1143000"/>
          </a:xfrm>
          <a:prstGeom prst="cloudCallout">
            <a:avLst>
              <a:gd name="adj1" fmla="val -92384"/>
              <a:gd name="adj2" fmla="val 125000"/>
            </a:avLst>
          </a:prstGeom>
          <a:solidFill>
            <a:srgbClr val="66ffcc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25"/>
          <p:cNvSpPr/>
          <p:nvPr/>
        </p:nvSpPr>
        <p:spPr>
          <a:xfrm>
            <a:off x="6156360" y="3213000"/>
            <a:ext cx="1871640" cy="1295640"/>
          </a:xfrm>
          <a:prstGeom prst="cloudCallout">
            <a:avLst>
              <a:gd name="adj1" fmla="val -103689"/>
              <a:gd name="adj2" fmla="val 10050"/>
            </a:avLst>
          </a:prstGeom>
          <a:solidFill>
            <a:srgbClr val="66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че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26"/>
          <p:cNvSpPr/>
          <p:nvPr/>
        </p:nvSpPr>
        <p:spPr>
          <a:xfrm>
            <a:off x="900000" y="3500280"/>
            <a:ext cx="2016360" cy="1071720"/>
          </a:xfrm>
          <a:prstGeom prst="cloudCallout">
            <a:avLst>
              <a:gd name="adj1" fmla="val 101810"/>
              <a:gd name="adj2" fmla="val -32962"/>
            </a:avLst>
          </a:prstGeom>
          <a:solidFill>
            <a:srgbClr val="66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сдел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16" descr="Рисунок1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2"/>
          <p:cNvSpPr/>
          <p:nvPr/>
        </p:nvSpPr>
        <p:spPr>
          <a:xfrm>
            <a:off x="2286000" y="2884320"/>
            <a:ext cx="45720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готовление поделок, настольных иг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вени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украшений интерье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4"/>
          <p:cNvSpPr/>
          <p:nvPr/>
        </p:nvSpPr>
        <p:spPr>
          <a:xfrm>
            <a:off x="2000160" y="2000160"/>
            <a:ext cx="514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Задача проекта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16"/>
          <p:cNvSpPr/>
          <p:nvPr/>
        </p:nvSpPr>
        <p:spPr>
          <a:xfrm>
            <a:off x="611280" y="69156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Требования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Cloud"/>
          <p:cNvSpPr/>
          <p:nvPr/>
        </p:nvSpPr>
        <p:spPr>
          <a:xfrm>
            <a:off x="3492360" y="1628640"/>
            <a:ext cx="2743200" cy="136872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езное-(утилитарно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Cloud"/>
          <p:cNvSpPr/>
          <p:nvPr/>
        </p:nvSpPr>
        <p:spPr>
          <a:xfrm>
            <a:off x="6084720" y="2276640"/>
            <a:ext cx="2845080" cy="1987560"/>
          </a:xfrm>
          <a:prstGeom prst="pi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опасное для человека и окружающей среды (экологичное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Cloud"/>
          <p:cNvSpPr/>
          <p:nvPr/>
        </p:nvSpPr>
        <p:spPr>
          <a:xfrm>
            <a:off x="5076720" y="4508640"/>
            <a:ext cx="3382920" cy="1711080"/>
          </a:xfrm>
          <a:prstGeom prst="pi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гкое в обработке (технологично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Cloud"/>
          <p:cNvSpPr/>
          <p:nvPr/>
        </p:nvSpPr>
        <p:spPr>
          <a:xfrm>
            <a:off x="179280" y="3573360"/>
            <a:ext cx="2880000" cy="183852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дорогое (экономически выгодно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Cloud"/>
          <p:cNvSpPr/>
          <p:nvPr/>
        </p:nvSpPr>
        <p:spPr>
          <a:xfrm>
            <a:off x="2987640" y="3068640"/>
            <a:ext cx="3095640" cy="158436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минимальными затратами по времен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Cloud"/>
          <p:cNvSpPr/>
          <p:nvPr/>
        </p:nvSpPr>
        <p:spPr>
          <a:xfrm>
            <a:off x="2340000" y="4797360"/>
            <a:ext cx="2808360" cy="15256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хника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Cloud"/>
          <p:cNvSpPr/>
          <p:nvPr/>
        </p:nvSpPr>
        <p:spPr>
          <a:xfrm>
            <a:off x="395280" y="1844640"/>
            <a:ext cx="3097080" cy="158436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и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декоративно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52"/>
          <p:cNvSpPr/>
          <p:nvPr/>
        </p:nvSpPr>
        <p:spPr>
          <a:xfrm>
            <a:off x="6804000" y="189000"/>
            <a:ext cx="1728720" cy="165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ИЗДЕЛ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53"/>
          <p:cNvSpPr/>
          <p:nvPr/>
        </p:nvSpPr>
        <p:spPr>
          <a:xfrm flipH="1">
            <a:off x="2771280" y="1197000"/>
            <a:ext cx="403236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54"/>
          <p:cNvSpPr/>
          <p:nvPr/>
        </p:nvSpPr>
        <p:spPr>
          <a:xfrm flipH="1">
            <a:off x="2340000" y="1413000"/>
            <a:ext cx="4680000" cy="24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55"/>
          <p:cNvSpPr/>
          <p:nvPr/>
        </p:nvSpPr>
        <p:spPr>
          <a:xfrm flipH="1">
            <a:off x="5003280" y="1628640"/>
            <a:ext cx="2232360" cy="3529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56"/>
          <p:cNvSpPr/>
          <p:nvPr/>
        </p:nvSpPr>
        <p:spPr>
          <a:xfrm flipH="1">
            <a:off x="5508360" y="1341360"/>
            <a:ext cx="1368360" cy="57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57"/>
          <p:cNvSpPr/>
          <p:nvPr/>
        </p:nvSpPr>
        <p:spPr>
          <a:xfrm>
            <a:off x="7885080" y="1773360"/>
            <a:ext cx="142920" cy="57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59"/>
          <p:cNvSpPr/>
          <p:nvPr/>
        </p:nvSpPr>
        <p:spPr>
          <a:xfrm flipH="1">
            <a:off x="6516720" y="1773360"/>
            <a:ext cx="1008000" cy="273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58"/>
          <p:cNvSpPr/>
          <p:nvPr/>
        </p:nvSpPr>
        <p:spPr>
          <a:xfrm flipH="1">
            <a:off x="5579640" y="1557360"/>
            <a:ext cx="158436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0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01" name="Рисунок 1" descr=""/>
          <p:cNvPicPr/>
          <p:nvPr/>
        </p:nvPicPr>
        <p:blipFill>
          <a:blip r:embed="rId2"/>
          <a:stretch/>
        </p:blipFill>
        <p:spPr>
          <a:xfrm>
            <a:off x="270000" y="203040"/>
            <a:ext cx="860400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0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C:\Users\игорь\Desktop\20151214_101012.jpg"/>
          <p:cNvPicPr/>
          <p:nvPr/>
        </p:nvPicPr>
        <p:blipFill>
          <a:blip r:embed="rId2"/>
          <a:stretch/>
        </p:blipFill>
        <p:spPr>
          <a:xfrm>
            <a:off x="2195640" y="324000"/>
            <a:ext cx="4248000" cy="59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Users\игорь\Desktop\20151217_113850.jpg"/>
          <p:cNvPicPr/>
          <p:nvPr/>
        </p:nvPicPr>
        <p:blipFill>
          <a:blip r:embed="rId2"/>
          <a:stretch/>
        </p:blipFill>
        <p:spPr>
          <a:xfrm>
            <a:off x="2000160" y="549360"/>
            <a:ext cx="480384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4" descr="Рисунок1"/>
          <p:cNvPicPr/>
          <p:nvPr/>
        </p:nvPicPr>
        <p:blipFill>
          <a:blip r:embed="rId1"/>
          <a:stretch/>
        </p:blipFill>
        <p:spPr>
          <a:xfrm>
            <a:off x="1260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07" name="Прямоугольник 2"/>
          <p:cNvSpPr/>
          <p:nvPr/>
        </p:nvSpPr>
        <p:spPr>
          <a:xfrm>
            <a:off x="1000080" y="1928880"/>
            <a:ext cx="5857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арок, игрушка, нужная вещ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а, выполненная своими ру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нансовые затраты минималь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зволяет проявить своё творче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вает аккуратность, усидчивост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3"/>
          <p:cNvSpPr/>
          <p:nvPr/>
        </p:nvSpPr>
        <p:spPr>
          <a:xfrm>
            <a:off x="2071800" y="928800"/>
            <a:ext cx="42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Анализ результато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0" descr="Рисунок1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3"/>
          <p:cNvSpPr/>
          <p:nvPr/>
        </p:nvSpPr>
        <p:spPr>
          <a:xfrm>
            <a:off x="214200" y="285840"/>
            <a:ext cx="4643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Урок – это зеркало общей и педагогической культуры учителя, мерило его интеллектуального богатства, показатель его кругозора, эрудиц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.А.Сухомлин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C:\Users\игорь\Desktop\20151214_100910.jpg"/>
          <p:cNvPicPr/>
          <p:nvPr/>
        </p:nvPicPr>
        <p:blipFill>
          <a:blip r:embed="rId2"/>
          <a:stretch/>
        </p:blipFill>
        <p:spPr>
          <a:xfrm>
            <a:off x="2771640" y="1557360"/>
            <a:ext cx="601848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0" descr="Рисунок1"/>
          <p:cNvPicPr/>
          <p:nvPr/>
        </p:nvPicPr>
        <p:blipFill>
          <a:blip r:embed="rId1"/>
          <a:stretch/>
        </p:blipFill>
        <p:spPr>
          <a:xfrm>
            <a:off x="0" y="-3571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2"/>
          <p:cNvSpPr/>
          <p:nvPr/>
        </p:nvSpPr>
        <p:spPr>
          <a:xfrm>
            <a:off x="714240" y="571680"/>
            <a:ext cx="80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временный урок технологии в условиях введения ФГО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785880" y="1643040"/>
            <a:ext cx="1928880" cy="200016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d3c"/>
                </a:solidFill>
                <a:latin typeface="Times New Roman"/>
              </a:rPr>
              <a:t>1.Мобил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3357720" y="1428840"/>
            <a:ext cx="2214360" cy="221436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cd3c"/>
                </a:solidFill>
                <a:latin typeface="Times New Roman"/>
              </a:rPr>
              <a:t>2. Целеполагани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6286680" y="1214280"/>
            <a:ext cx="2571480" cy="385776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d3c"/>
                </a:solidFill>
                <a:latin typeface="Times New Roman"/>
              </a:rPr>
              <a:t>3.Осознание недостаточности имеющихся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857160" y="4071960"/>
            <a:ext cx="2357640" cy="250020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d3c"/>
                </a:solidFill>
                <a:latin typeface="Times New Roman"/>
              </a:rPr>
              <a:t>6. Рефлек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3571920" y="4572000"/>
            <a:ext cx="2286000" cy="150012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d3c"/>
                </a:solidFill>
                <a:latin typeface="Times New Roman"/>
              </a:rPr>
              <a:t>5.Взаимопроверка, взаимоконтрол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6357960" y="5357880"/>
            <a:ext cx="2500200" cy="121428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d3c"/>
                </a:solidFill>
                <a:latin typeface="Times New Roman"/>
              </a:rPr>
              <a:t>4.Коммуник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0" descr="Рисунок1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2"/>
          <p:cNvSpPr/>
          <p:nvPr/>
        </p:nvSpPr>
        <p:spPr>
          <a:xfrm>
            <a:off x="214200" y="285840"/>
            <a:ext cx="2071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3"/>
          <p:cNvSpPr/>
          <p:nvPr/>
        </p:nvSpPr>
        <p:spPr>
          <a:xfrm>
            <a:off x="5929200" y="357120"/>
            <a:ext cx="2928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Диаграмма 6" descr=""/>
          <p:cNvPicPr/>
          <p:nvPr/>
        </p:nvPicPr>
        <p:blipFill>
          <a:blip r:embed="rId2"/>
          <a:stretch/>
        </p:blipFill>
        <p:spPr>
          <a:xfrm>
            <a:off x="992160" y="920880"/>
            <a:ext cx="7446960" cy="50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0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"/>
          <p:cNvSpPr/>
          <p:nvPr/>
        </p:nvSpPr>
        <p:spPr>
          <a:xfrm>
            <a:off x="714240" y="451440"/>
            <a:ext cx="75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т так проходит урок технологии в 5 класс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Рисунок 1" descr=""/>
          <p:cNvPicPr/>
          <p:nvPr/>
        </p:nvPicPr>
        <p:blipFill>
          <a:blip r:embed="rId2"/>
          <a:stretch/>
        </p:blipFill>
        <p:spPr>
          <a:xfrm>
            <a:off x="2000160" y="981000"/>
            <a:ext cx="51436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0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1" descr=""/>
          <p:cNvPicPr/>
          <p:nvPr/>
        </p:nvPicPr>
        <p:blipFill>
          <a:blip r:embed="rId2"/>
          <a:stretch/>
        </p:blipFill>
        <p:spPr>
          <a:xfrm>
            <a:off x="1835280" y="388800"/>
            <a:ext cx="5689440" cy="61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0" descr="Рисунок1"/>
          <p:cNvPicPr/>
          <p:nvPr/>
        </p:nvPicPr>
        <p:blipFill>
          <a:blip r:embed="rId1"/>
          <a:stretch/>
        </p:blipFill>
        <p:spPr>
          <a:xfrm>
            <a:off x="-7920" y="-17316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52" name="Диаграмма 4" descr=""/>
          <p:cNvPicPr/>
          <p:nvPr/>
        </p:nvPicPr>
        <p:blipFill>
          <a:blip r:embed="rId2"/>
          <a:stretch/>
        </p:blipFill>
        <p:spPr>
          <a:xfrm>
            <a:off x="3164040" y="569880"/>
            <a:ext cx="5587920" cy="478152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1" descr=""/>
          <p:cNvPicPr/>
          <p:nvPr/>
        </p:nvPicPr>
        <p:blipFill>
          <a:blip r:embed="rId3"/>
          <a:stretch/>
        </p:blipFill>
        <p:spPr>
          <a:xfrm>
            <a:off x="1547640" y="189000"/>
            <a:ext cx="55962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0" descr="Рисунок1"/>
          <p:cNvPicPr/>
          <p:nvPr/>
        </p:nvPicPr>
        <p:blipFill>
          <a:blip r:embed="rId1"/>
          <a:stretch/>
        </p:blipFill>
        <p:spPr>
          <a:xfrm>
            <a:off x="0" y="6516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55" name="Заголовок 4" descr=""/>
          <p:cNvPicPr/>
          <p:nvPr/>
        </p:nvPicPr>
        <p:blipFill>
          <a:blip r:embed="rId2"/>
          <a:stretch/>
        </p:blipFill>
        <p:spPr>
          <a:xfrm>
            <a:off x="457200" y="231840"/>
            <a:ext cx="8290080" cy="1170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игорь\Desktop\20151214_100953.jpg"/>
          <p:cNvPicPr/>
          <p:nvPr/>
        </p:nvPicPr>
        <p:blipFill>
          <a:blip r:embed="rId3"/>
          <a:stretch/>
        </p:blipFill>
        <p:spPr>
          <a:xfrm>
            <a:off x="900000" y="1515960"/>
            <a:ext cx="691200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0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1" descr=""/>
          <p:cNvPicPr/>
          <p:nvPr/>
        </p:nvPicPr>
        <p:blipFill>
          <a:blip r:embed="rId2"/>
          <a:stretch/>
        </p:blipFill>
        <p:spPr>
          <a:xfrm>
            <a:off x="2000160" y="168120"/>
            <a:ext cx="51436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04:43:18Z</dcterms:created>
  <dc:creator>Булгаков Игорь Васильевич</dc:creator>
  <dc:description/>
  <dc:language>en-US</dc:language>
  <cp:lastModifiedBy>юлия булгакова</cp:lastModifiedBy>
  <dcterms:modified xsi:type="dcterms:W3CDTF">2016-01-17T09:25:50Z</dcterms:modified>
  <cp:revision>98</cp:revision>
  <dc:subject/>
  <dc:title>Марафон 14</dc:title>
</cp:coreProperties>
</file>