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F629-69B3-41C5-999F-B146B8F087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264B-A645-4C94-8AB0-6212735DA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5BF-033F-4294-89CD-3974AD574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C3E-0F3E-4D03-9717-E84DBA25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D6F-F628-490C-A79A-2A061021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2EE-81E5-4734-B88C-2BD27C9B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FDD-C7BD-4212-A2A3-C1B5BBB0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134-EAEE-4795-A38E-9717E5BC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09A-B814-4E54-9B28-DD381B4E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022D-8A73-4EA5-AB1B-D98875EF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DDDF-CCC2-43E9-993C-3AA8E6E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47EA-ADDD-4DDF-B563-D4C17A15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7D9F-966A-4F19-BA69-4B6E926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F73B-CFF7-4C57-B27C-05B6A02F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F5C-E47B-412C-901E-DC6ECED6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AD84-C13F-46D0-AA5E-FB7F3C9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4DE-E569-4969-996A-4EBDDEA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BF79-7D65-4208-B9AE-6F044FD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F48A-A8B6-4952-87DC-3A396297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5328-FD98-4CE5-9BFE-C1A79C26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5122-E8BD-403A-A466-6469AC7F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2BC0-AF57-44E9-A4FE-398572A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3F39-75A9-4495-AB4C-CB01E625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96F7-F37C-4F5F-807C-B9C3CC7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EEDF-FA8D-4929-8B6C-51281708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61E-D468-4A14-8AE3-AA19E35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3835-248A-470A-AF9E-4904AF06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20DF-AF55-4F20-8A28-645FF8D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F81E-B455-497F-B3A5-FE92B58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1305-4CE0-465B-8053-213B369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62BC-A50D-4D62-A673-5378B27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BD48-AAC8-468B-A77C-BE2E616F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76C8-B98A-4765-9C65-6552B672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C86E4-BA55-4717-AFBF-93509457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5D8F-98E7-4D05-9197-101B1C9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908B-322C-411B-8F66-0E6F272A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BDA-2FC0-483B-9C8C-5D3A59B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AA8A-DB34-4071-91DD-F09342B0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6139-E8BC-4212-8653-4C5D7DAC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CBA2-81CE-489E-B819-766AD58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EBC63-39D7-46FA-AAB9-21E4858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9FE3-4095-40C3-A475-9A4F988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8958-C8A7-4545-95C2-196DF56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18A1-D501-4937-93C0-F73911C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8A00-C2EC-4627-AA5D-FBD726AA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BA79-0343-44CE-A551-897481F1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FDA2-B6A4-42C7-A232-CA69B3B4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065-7C53-449F-9334-F449FA6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BB05-2D2C-441B-A99E-CD59EE0C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873D-AC5E-4DE4-9D65-C10BFDC2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0AD4-1485-423B-AC5F-9F9D0F2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FE4B-426A-481D-8066-E901DAC0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C245-7FDD-4C27-A9C4-8EA62F3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61EF-EBDF-4529-8565-C44ADCA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04CE-BBD2-477E-A988-F5D1D2E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0685-1C60-4B71-9F28-DA7D8D4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06ED-7C87-406F-955E-1A3E0716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2E42-7596-4A3A-9C5F-3CAFC70B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3B6-13E7-4145-993C-649A9FE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0D38-A255-4F97-9814-9420EE0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F9B-8AF0-4571-9EFD-F717ED0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B66-806E-442F-BC31-092D6A5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33E-246C-4A08-8CEE-51E36A3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B74-1916-47E3-935E-931D93C83148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566-FB98-404E-BC76-A6B1822A6C3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7A9-013B-4740-8CAD-43B3F47AD4FD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96D-84BF-4921-A245-B1484EDD725B}" type="slidenum">
              <a:rPr b="0" lang="ru-RU" sz="11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7F4-8827-4EA0-984A-A2619DFCF0BC}" type="slidenum">
              <a:rPr b="0" lang="ru-RU" sz="11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1640" y="4786200"/>
            <a:ext cx="43210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Учитель начальных классов МБУ СОШ №63 г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Булгаков И.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                                 </a:t>
            </a:r>
            <a:r>
              <a:rPr b="1" i="1" lang="ru-RU" sz="1900" spc="-1" strike="noStrike">
                <a:solidFill>
                  <a:srgbClr val="0070c0"/>
                </a:solidFill>
                <a:latin typeface="Times New Roman"/>
              </a:rPr>
              <a:t>Петухов В.Н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ила Викторовна Февраль 2014 го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468360" y="2205000"/>
            <a:ext cx="842472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емы активизации деятельности воспитанников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формировании УУД  на уроках технологии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32000" y="1413000"/>
            <a:ext cx="6400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" descr="Рисунок1"/>
          <p:cNvPicPr/>
          <p:nvPr/>
        </p:nvPicPr>
        <p:blipFill>
          <a:blip r:embed="rId1"/>
          <a:stretch/>
        </p:blipFill>
        <p:spPr>
          <a:xfrm>
            <a:off x="2232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5214960" y="311976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5-конечная звезда 2"/>
          <p:cNvSpPr/>
          <p:nvPr/>
        </p:nvSpPr>
        <p:spPr>
          <a:xfrm>
            <a:off x="3641760" y="17463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5-конечная звезда 7"/>
          <p:cNvSpPr/>
          <p:nvPr/>
        </p:nvSpPr>
        <p:spPr>
          <a:xfrm>
            <a:off x="6372360" y="1731960"/>
            <a:ext cx="1152360" cy="1224000"/>
          </a:xfrm>
          <a:custGeom>
            <a:avLst/>
            <a:gdLst/>
            <a:ahLst/>
            <a:rect l="l" t="t" r="r" b="b"/>
            <a:pathLst>
              <a:path w="1152525" h="1223962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7"/>
                </a:lnTo>
                <a:lnTo>
                  <a:pt x="932412" y="1223959"/>
                </a:lnTo>
                <a:lnTo>
                  <a:pt x="576263" y="935017"/>
                </a:lnTo>
                <a:lnTo>
                  <a:pt x="220113" y="1223959"/>
                </a:lnTo>
                <a:lnTo>
                  <a:pt x="356154" y="756447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5-конечная звезда 8"/>
          <p:cNvSpPr/>
          <p:nvPr/>
        </p:nvSpPr>
        <p:spPr>
          <a:xfrm>
            <a:off x="1009800" y="1812960"/>
            <a:ext cx="1152360" cy="1224000"/>
          </a:xfrm>
          <a:custGeom>
            <a:avLst/>
            <a:gdLst/>
            <a:ahLst/>
            <a:rect l="l" t="t" r="r" b="b"/>
            <a:pathLst>
              <a:path w="1152525" h="1223963">
                <a:moveTo>
                  <a:pt x="1" y="467511"/>
                </a:moveTo>
                <a:lnTo>
                  <a:pt x="440228" y="467514"/>
                </a:lnTo>
                <a:lnTo>
                  <a:pt x="576263" y="0"/>
                </a:lnTo>
                <a:lnTo>
                  <a:pt x="712297" y="467514"/>
                </a:lnTo>
                <a:lnTo>
                  <a:pt x="1152524" y="467511"/>
                </a:lnTo>
                <a:lnTo>
                  <a:pt x="796371" y="756448"/>
                </a:lnTo>
                <a:lnTo>
                  <a:pt x="932412" y="1223960"/>
                </a:lnTo>
                <a:lnTo>
                  <a:pt x="576263" y="935018"/>
                </a:lnTo>
                <a:lnTo>
                  <a:pt x="220113" y="1223960"/>
                </a:lnTo>
                <a:lnTo>
                  <a:pt x="356154" y="756448"/>
                </a:lnTo>
                <a:lnTo>
                  <a:pt x="1" y="467511"/>
                </a:lnTo>
                <a:close/>
              </a:path>
            </a:pathLst>
          </a:custGeom>
          <a:solidFill>
            <a:srgbClr val="ff388c"/>
          </a:solidFill>
          <a:ln w="399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684360" y="32446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За качество продук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2973240" y="3244680"/>
            <a:ext cx="25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49e"/>
                </a:solidFill>
                <a:latin typeface="Arial"/>
              </a:rPr>
              <a:t>«За настойчивость в тру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6156360" y="324468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«За лучшую организацию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252000" cy="6861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1" descr=""/>
          <p:cNvPicPr/>
          <p:nvPr/>
        </p:nvPicPr>
        <p:blipFill>
          <a:blip r:embed="rId2"/>
          <a:stretch/>
        </p:blipFill>
        <p:spPr>
          <a:xfrm>
            <a:off x="969840" y="1225440"/>
            <a:ext cx="698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1692360" y="1413000"/>
            <a:ext cx="633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Проблема – отходы при производстве изделий из древесины и после обрезки дерев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8"/>
          <p:cNvSpPr/>
          <p:nvPr/>
        </p:nvSpPr>
        <p:spPr>
          <a:xfrm>
            <a:off x="2843280" y="33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бор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9" descr="dqxhuxlktxhbdpoh"/>
          <p:cNvPicPr/>
          <p:nvPr/>
        </p:nvPicPr>
        <p:blipFill>
          <a:blip r:embed="rId2"/>
          <a:stretch/>
        </p:blipFill>
        <p:spPr>
          <a:xfrm>
            <a:off x="3276720" y="3429000"/>
            <a:ext cx="2665440" cy="24447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22"/>
          <p:cNvSpPr/>
          <p:nvPr/>
        </p:nvSpPr>
        <p:spPr>
          <a:xfrm>
            <a:off x="826920" y="1773360"/>
            <a:ext cx="1944720" cy="1143000"/>
          </a:xfrm>
          <a:prstGeom prst="cloudCallout">
            <a:avLst>
              <a:gd name="adj1" fmla="val 120120"/>
              <a:gd name="adj2" fmla="val 9888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че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3"/>
          <p:cNvSpPr/>
          <p:nvPr/>
        </p:nvSpPr>
        <p:spPr>
          <a:xfrm>
            <a:off x="3419640" y="1197000"/>
            <a:ext cx="1600200" cy="914400"/>
          </a:xfrm>
          <a:prstGeom prst="cloudCallout">
            <a:avLst>
              <a:gd name="adj1" fmla="val 11902"/>
              <a:gd name="adj2" fmla="val 198958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4"/>
          <p:cNvSpPr/>
          <p:nvPr/>
        </p:nvSpPr>
        <p:spPr>
          <a:xfrm>
            <a:off x="5508720" y="1557360"/>
            <a:ext cx="1584360" cy="1143000"/>
          </a:xfrm>
          <a:prstGeom prst="cloudCallout">
            <a:avLst>
              <a:gd name="adj1" fmla="val -92384"/>
              <a:gd name="adj2" fmla="val 125000"/>
            </a:avLst>
          </a:prstGeom>
          <a:solidFill>
            <a:srgbClr val="66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5"/>
          <p:cNvSpPr/>
          <p:nvPr/>
        </p:nvSpPr>
        <p:spPr>
          <a:xfrm>
            <a:off x="6156360" y="3213000"/>
            <a:ext cx="1871640" cy="1295640"/>
          </a:xfrm>
          <a:prstGeom prst="cloudCallout">
            <a:avLst>
              <a:gd name="adj1" fmla="val -103689"/>
              <a:gd name="adj2" fmla="val 10050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900000" y="3500280"/>
            <a:ext cx="2016360" cy="1071720"/>
          </a:xfrm>
          <a:prstGeom prst="cloudCallout">
            <a:avLst>
              <a:gd name="adj1" fmla="val 101810"/>
              <a:gd name="adj2" fmla="val -32962"/>
            </a:avLst>
          </a:prstGeom>
          <a:solidFill>
            <a:srgbClr val="66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6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2286000" y="2884320"/>
            <a:ext cx="4572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ие поделок, настольных иг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вени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крашений интерь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"/>
          <p:cNvSpPr/>
          <p:nvPr/>
        </p:nvSpPr>
        <p:spPr>
          <a:xfrm>
            <a:off x="2000160" y="200016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Задача проект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11280" y="69156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Требов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3492360" y="1628640"/>
            <a:ext cx="2743200" cy="1368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езное-(утилитар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6084720" y="2276640"/>
            <a:ext cx="2845080" cy="198756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е для человека и окружающей среды (экологичное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5076720" y="4508640"/>
            <a:ext cx="3382920" cy="17110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ое в обработке (технологич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loud"/>
          <p:cNvSpPr/>
          <p:nvPr/>
        </p:nvSpPr>
        <p:spPr>
          <a:xfrm>
            <a:off x="179280" y="3573360"/>
            <a:ext cx="2880000" cy="18385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рогое (экономически выгод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2987640" y="3068640"/>
            <a:ext cx="3095640" cy="158436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нимальными затратами по време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2340000" y="4797360"/>
            <a:ext cx="2808360" cy="1525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395280" y="1844640"/>
            <a:ext cx="3097080" cy="158436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екоратив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2"/>
          <p:cNvSpPr/>
          <p:nvPr/>
        </p:nvSpPr>
        <p:spPr>
          <a:xfrm>
            <a:off x="6804000" y="189000"/>
            <a:ext cx="172872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H="1">
            <a:off x="2771280" y="1197000"/>
            <a:ext cx="4032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4"/>
          <p:cNvSpPr/>
          <p:nvPr/>
        </p:nvSpPr>
        <p:spPr>
          <a:xfrm flipH="1">
            <a:off x="2340000" y="1413000"/>
            <a:ext cx="4680000" cy="24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 flipH="1">
            <a:off x="5003280" y="1628640"/>
            <a:ext cx="2232360" cy="35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6"/>
          <p:cNvSpPr/>
          <p:nvPr/>
        </p:nvSpPr>
        <p:spPr>
          <a:xfrm flipH="1">
            <a:off x="5508360" y="1341360"/>
            <a:ext cx="1368360" cy="5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7885080" y="1773360"/>
            <a:ext cx="14292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9"/>
          <p:cNvSpPr/>
          <p:nvPr/>
        </p:nvSpPr>
        <p:spPr>
          <a:xfrm flipH="1">
            <a:off x="6516720" y="1773360"/>
            <a:ext cx="1008000" cy="27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8"/>
          <p:cNvSpPr/>
          <p:nvPr/>
        </p:nvSpPr>
        <p:spPr>
          <a:xfrm flipH="1">
            <a:off x="5579640" y="155736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" descr=""/>
          <p:cNvPicPr/>
          <p:nvPr/>
        </p:nvPicPr>
        <p:blipFill>
          <a:blip r:embed="rId2"/>
          <a:stretch/>
        </p:blipFill>
        <p:spPr>
          <a:xfrm>
            <a:off x="270000" y="203040"/>
            <a:ext cx="860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C:\Users\игорь\Desktop\20151214_101012.jpg"/>
          <p:cNvPicPr/>
          <p:nvPr/>
        </p:nvPicPr>
        <p:blipFill>
          <a:blip r:embed="rId2"/>
          <a:stretch/>
        </p:blipFill>
        <p:spPr>
          <a:xfrm>
            <a:off x="2195640" y="324000"/>
            <a:ext cx="424800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игорь\Desktop\20151217_113850.jpg"/>
          <p:cNvPicPr/>
          <p:nvPr/>
        </p:nvPicPr>
        <p:blipFill>
          <a:blip r:embed="rId2"/>
          <a:stretch/>
        </p:blipFill>
        <p:spPr>
          <a:xfrm>
            <a:off x="2000160" y="549360"/>
            <a:ext cx="48038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Рисунок1"/>
          <p:cNvPicPr/>
          <p:nvPr/>
        </p:nvPicPr>
        <p:blipFill>
          <a:blip r:embed="rId1"/>
          <a:stretch/>
        </p:blipFill>
        <p:spPr>
          <a:xfrm>
            <a:off x="1260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2"/>
          <p:cNvSpPr/>
          <p:nvPr/>
        </p:nvSpPr>
        <p:spPr>
          <a:xfrm>
            <a:off x="1000080" y="1928880"/>
            <a:ext cx="585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рок, игрушка, нужная ве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та, выполненная свои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овые затраты минима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воляет проявить своё твор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ет аккуратность, усидчивос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071800" y="928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ализ результато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0" descr="Рисунок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214200" y="285840"/>
            <a:ext cx="4643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рок – это зеркало общей и педагогической культуры учителя, мерило его интеллектуального богатства, показатель его кругозора, эруди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C:\Users\игорь\Desktop\20151214_100910.jpg"/>
          <p:cNvPicPr/>
          <p:nvPr/>
        </p:nvPicPr>
        <p:blipFill>
          <a:blip r:embed="rId2"/>
          <a:stretch/>
        </p:blipFill>
        <p:spPr>
          <a:xfrm>
            <a:off x="2771640" y="1557360"/>
            <a:ext cx="6018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0" descr="Рисунок1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714240" y="57168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ременный урок технологии в условиях введения ФГ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785880" y="1643040"/>
            <a:ext cx="1928880" cy="20001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1.Моби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357720" y="1428840"/>
            <a:ext cx="2214360" cy="22143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d3c"/>
                </a:solidFill>
                <a:latin typeface="Times New Roman"/>
              </a:rPr>
              <a:t>2. Целеполаг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286680" y="1214280"/>
            <a:ext cx="2571480" cy="385776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3.Осознание недостаточности имеющихс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857160" y="4071960"/>
            <a:ext cx="2357640" cy="250020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6. 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571920" y="4572000"/>
            <a:ext cx="2286000" cy="150012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5.Взаимопроверка, взаимоконтр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357960" y="5357880"/>
            <a:ext cx="2500200" cy="1214280"/>
          </a:xfrm>
          <a:prstGeom prst="rect">
            <a:avLst/>
          </a:prstGeom>
          <a:solidFill>
            <a:srgbClr val="4f917e"/>
          </a:solidFill>
          <a:ln w="25560">
            <a:solidFill>
              <a:srgbClr val="386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d3c"/>
                </a:solidFill>
                <a:latin typeface="Times New Roman"/>
              </a:rPr>
              <a:t>4.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0" descr="Рисунок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214200" y="28584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929200" y="357120"/>
            <a:ext cx="2928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6" descr=""/>
          <p:cNvPicPr/>
          <p:nvPr/>
        </p:nvPicPr>
        <p:blipFill>
          <a:blip r:embed="rId2"/>
          <a:stretch/>
        </p:blipFill>
        <p:spPr>
          <a:xfrm>
            <a:off x="992160" y="920880"/>
            <a:ext cx="74469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714240" y="45144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так проходит урок технологии в 5 клас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2"/>
          <a:stretch/>
        </p:blipFill>
        <p:spPr>
          <a:xfrm>
            <a:off x="2000160" y="981000"/>
            <a:ext cx="5143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" descr=""/>
          <p:cNvPicPr/>
          <p:nvPr/>
        </p:nvPicPr>
        <p:blipFill>
          <a:blip r:embed="rId2"/>
          <a:stretch/>
        </p:blipFill>
        <p:spPr>
          <a:xfrm>
            <a:off x="1835280" y="388800"/>
            <a:ext cx="568944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" descr="Рисунок1"/>
          <p:cNvPicPr/>
          <p:nvPr/>
        </p:nvPicPr>
        <p:blipFill>
          <a:blip r:embed="rId1"/>
          <a:stretch/>
        </p:blipFill>
        <p:spPr>
          <a:xfrm>
            <a:off x="-7920" y="-173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2" name="Диаграмма 4" descr=""/>
          <p:cNvPicPr/>
          <p:nvPr/>
        </p:nvPicPr>
        <p:blipFill>
          <a:blip r:embed="rId2"/>
          <a:stretch/>
        </p:blipFill>
        <p:spPr>
          <a:xfrm>
            <a:off x="3164040" y="569880"/>
            <a:ext cx="5587920" cy="47815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1" descr=""/>
          <p:cNvPicPr/>
          <p:nvPr/>
        </p:nvPicPr>
        <p:blipFill>
          <a:blip r:embed="rId3"/>
          <a:stretch/>
        </p:blipFill>
        <p:spPr>
          <a:xfrm>
            <a:off x="1547640" y="189000"/>
            <a:ext cx="5596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0" descr="Рисунок1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4" descr=""/>
          <p:cNvPicPr/>
          <p:nvPr/>
        </p:nvPicPr>
        <p:blipFill>
          <a:blip r:embed="rId2"/>
          <a:stretch/>
        </p:blipFill>
        <p:spPr>
          <a:xfrm>
            <a:off x="457200" y="231840"/>
            <a:ext cx="8290080" cy="117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игорь\Desktop\20151214_100953.jpg"/>
          <p:cNvPicPr/>
          <p:nvPr/>
        </p:nvPicPr>
        <p:blipFill>
          <a:blip r:embed="rId3"/>
          <a:stretch/>
        </p:blipFill>
        <p:spPr>
          <a:xfrm>
            <a:off x="900000" y="1515960"/>
            <a:ext cx="691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2000160" y="168120"/>
            <a:ext cx="5143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04:43:18Z</dcterms:created>
  <dc:creator>Булгаков Игорь Васильевич</dc:creator>
  <dc:description/>
  <dc:language>en-US</dc:language>
  <cp:lastModifiedBy>юлия булгакова</cp:lastModifiedBy>
  <dcterms:modified xsi:type="dcterms:W3CDTF">2016-01-17T09:25:50Z</dcterms:modified>
  <cp:revision>98</cp:revision>
  <dc:subject/>
  <dc:title>Марафон 14</dc:title>
</cp:coreProperties>
</file>