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A5B-B4AA-474D-95DF-ADF6CE923D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52E-A128-4D2F-88EA-1FAD5E0F9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3CB-A7C9-4DB7-B6B7-2BDF70AA4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2FE-AD75-415B-AB40-D0B768E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707-569F-4C74-9295-5D8A570A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A95-E4D1-45D5-856E-6B6A9DAF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31C-C346-4DE0-B360-ADCAE21D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6787-9465-4AB6-BE29-3B805AEB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7E9-93C5-4FDF-9D85-CEB3E31D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22C1-AF8F-4051-B76C-B177E27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59B-525B-4356-892A-ECD4DED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7D1-8EBE-49DE-AE1C-BF077793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73EA-28D1-4563-BD08-2D0986B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8CAF-440E-49DF-B9E1-5D10BA5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A18-821B-4049-B487-247C63E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6EDB-A31C-4C78-AA9C-2D3589A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DC2C-4006-43F7-BC4C-64FD0DD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F4EA-D660-40E4-8304-323F7C3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C84-5E48-4877-B6A1-8A2E265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8DD4-380A-4D9B-95E5-2B10A48E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D8B4-607C-4073-AE39-CF1C9019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A2FD-582C-4044-A246-EC05546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071B-B9AD-4B16-B876-1FB87FEB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CD09-0893-4661-9AD0-BEFD566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7948-8C7A-4CF0-81AA-C989CC9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EC0-70EE-49C9-BE0E-E76C816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6AFC-5EA5-446B-8EBB-18221E7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414E-1341-4CDD-A4ED-585C17D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2A6A-4913-4BAF-B37F-8D6F65E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4591-DA5D-4B4E-8E2F-EF0199F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9712-0C69-4DAE-B4D4-8B0442A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80FE-6A06-4259-BA8E-C0F2456E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B055-4A93-4663-B771-6593FF83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A8A0-014D-47E8-A1DB-75310033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D197-6925-480E-B1F9-3B0E040A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05E0-0963-4F21-BD15-4D701E7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B87-3353-4701-AF61-5DF919C1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8B57-20C1-4F6C-93E1-05D6A344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DB3B-C7D7-4582-9731-0BF90F86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CAD6-835C-43E4-8445-5D3C039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182E-D1B9-40AD-AA8A-E4D1674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2EE0-80B4-4D44-A7D0-48F1ABC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5338-3A18-46F0-BFB4-F6F9F37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7CBD-0325-44D8-B57F-BEC92CC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B2D3-E480-4E22-8D5E-05377E35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1A7C-35C2-4EBF-8A30-6DF80296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BF41-B592-4391-9338-8E4B0769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810-CA39-4753-BF90-3B20AE0D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E22A-3250-4345-9F84-155B397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89E4-4F4E-427E-823E-B4F2AD9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930B-A80F-48F5-83AA-6426AE7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DED2-CCA0-4B97-B2A4-8BE85797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A0B6-5197-402E-9D75-71E9A7D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53FE-049A-40F7-85BB-470AD27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0D87-3FB6-4436-83C3-018329D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F2F8-60CA-4B01-BE56-0848495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FD13-4351-4E4E-A4AE-618FD680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CB05-96D8-4BCE-912C-680654A5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A99-F935-40A1-BFC5-F40C0B3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DC4D3-E7E7-4073-B5D6-94AB210E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997-3DEC-4911-BC55-567189B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F6E-C5C1-4947-8A67-D902F733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9C8-2FA9-4306-9A32-ACABBAA8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E607-11F4-4737-8714-53F57B8F3A21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63DB-1CAB-4E97-ADF1-D87C217F50B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7385-52EA-4D6F-9A26-B57A41E720BB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D23-6BD9-469F-8CC2-6EA78803AECA}" type="slidenum">
              <a:rPr b="0" lang="ru-RU" sz="11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6FB-3924-45A1-9F7C-1CA90C2B3CEC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3210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Учитель начальных классов МБУ СОШ №63 г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Булгаков И.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Петухов В.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ила Викторовна Февраль 2014 г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468360" y="2205000"/>
            <a:ext cx="842472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емы активизации деятельности воспитаннико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формировании УУД  на уроках технологии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32000" y="1413000"/>
            <a:ext cx="6400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" descr="Рисунок1"/>
          <p:cNvPicPr/>
          <p:nvPr/>
        </p:nvPicPr>
        <p:blipFill>
          <a:blip r:embed="rId1"/>
          <a:stretch/>
        </p:blipFill>
        <p:spPr>
          <a:xfrm>
            <a:off x="2232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5214960" y="311976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5-конечная звезда 2"/>
          <p:cNvSpPr/>
          <p:nvPr/>
        </p:nvSpPr>
        <p:spPr>
          <a:xfrm>
            <a:off x="3641760" y="17463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5-конечная звезда 7"/>
          <p:cNvSpPr/>
          <p:nvPr/>
        </p:nvSpPr>
        <p:spPr>
          <a:xfrm>
            <a:off x="6372360" y="1731960"/>
            <a:ext cx="1152360" cy="1224000"/>
          </a:xfrm>
          <a:custGeom>
            <a:avLst/>
            <a:gdLst/>
            <a:ahLst/>
            <a:rect l="l" t="t" r="r" b="b"/>
            <a:pathLst>
              <a:path w="1152525" h="1223962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7"/>
                </a:lnTo>
                <a:lnTo>
                  <a:pt x="932412" y="1223959"/>
                </a:lnTo>
                <a:lnTo>
                  <a:pt x="576263" y="935017"/>
                </a:lnTo>
                <a:lnTo>
                  <a:pt x="220113" y="1223959"/>
                </a:lnTo>
                <a:lnTo>
                  <a:pt x="356154" y="756447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-конечная звезда 8"/>
          <p:cNvSpPr/>
          <p:nvPr/>
        </p:nvSpPr>
        <p:spPr>
          <a:xfrm>
            <a:off x="1009800" y="18129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684360" y="32446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За качество проду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2973240" y="3244680"/>
            <a:ext cx="25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49e"/>
                </a:solidFill>
                <a:latin typeface="Arial"/>
              </a:rPr>
              <a:t>«За настойчивость в тру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6156360" y="32446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«За лучшую организацию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861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" descr=""/>
          <p:cNvPicPr/>
          <p:nvPr/>
        </p:nvPicPr>
        <p:blipFill>
          <a:blip r:embed="rId2"/>
          <a:stretch/>
        </p:blipFill>
        <p:spPr>
          <a:xfrm>
            <a:off x="969840" y="1225440"/>
            <a:ext cx="698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1692360" y="1413000"/>
            <a:ext cx="63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Проблема – отходы при производстве изделий из древесины и после обрезки дерев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8"/>
          <p:cNvSpPr/>
          <p:nvPr/>
        </p:nvSpPr>
        <p:spPr>
          <a:xfrm>
            <a:off x="2843280" y="33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бор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dqxhuxlktxhbdpoh"/>
          <p:cNvPicPr/>
          <p:nvPr/>
        </p:nvPicPr>
        <p:blipFill>
          <a:blip r:embed="rId2"/>
          <a:stretch/>
        </p:blipFill>
        <p:spPr>
          <a:xfrm>
            <a:off x="3276720" y="3429000"/>
            <a:ext cx="2665440" cy="24447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22"/>
          <p:cNvSpPr/>
          <p:nvPr/>
        </p:nvSpPr>
        <p:spPr>
          <a:xfrm>
            <a:off x="826920" y="1773360"/>
            <a:ext cx="1944720" cy="1143000"/>
          </a:xfrm>
          <a:prstGeom prst="cloudCallout">
            <a:avLst>
              <a:gd name="adj1" fmla="val 120120"/>
              <a:gd name="adj2" fmla="val 9888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ч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19640" y="1197000"/>
            <a:ext cx="1600200" cy="914400"/>
          </a:xfrm>
          <a:prstGeom prst="cloudCallout">
            <a:avLst>
              <a:gd name="adj1" fmla="val 11902"/>
              <a:gd name="adj2" fmla="val 19895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>
            <a:off x="5508720" y="1557360"/>
            <a:ext cx="1584360" cy="1143000"/>
          </a:xfrm>
          <a:prstGeom prst="cloudCallout">
            <a:avLst>
              <a:gd name="adj1" fmla="val -92384"/>
              <a:gd name="adj2" fmla="val 125000"/>
            </a:avLst>
          </a:prstGeom>
          <a:solidFill>
            <a:srgbClr val="66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6156360" y="3213000"/>
            <a:ext cx="1871640" cy="1295640"/>
          </a:xfrm>
          <a:prstGeom prst="cloudCallout">
            <a:avLst>
              <a:gd name="adj1" fmla="val -103689"/>
              <a:gd name="adj2" fmla="val 10050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900000" y="3500280"/>
            <a:ext cx="2016360" cy="1071720"/>
          </a:xfrm>
          <a:prstGeom prst="cloudCallout">
            <a:avLst>
              <a:gd name="adj1" fmla="val 101810"/>
              <a:gd name="adj2" fmla="val -32962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2286000" y="2884320"/>
            <a:ext cx="4572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поделок, настольных иг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вени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крашений интерь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2000160" y="200016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Задача проект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11280" y="691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Треб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3492360" y="1628640"/>
            <a:ext cx="2743200" cy="1368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ое-(утилит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6084720" y="2276640"/>
            <a:ext cx="2845080" cy="19875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е для человека и окружающей среды (экологичное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5076720" y="4508640"/>
            <a:ext cx="3382920" cy="17110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е в обработке (технологич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loud"/>
          <p:cNvSpPr/>
          <p:nvPr/>
        </p:nvSpPr>
        <p:spPr>
          <a:xfrm>
            <a:off x="179280" y="3573360"/>
            <a:ext cx="2880000" cy="18385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рогое (экономически выгод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2987640" y="3068640"/>
            <a:ext cx="3095640" cy="158436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нимальными затратами по време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2340000" y="4797360"/>
            <a:ext cx="2808360" cy="1525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395280" y="1844640"/>
            <a:ext cx="3097080" cy="1584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екоратив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2"/>
          <p:cNvSpPr/>
          <p:nvPr/>
        </p:nvSpPr>
        <p:spPr>
          <a:xfrm>
            <a:off x="6804000" y="189000"/>
            <a:ext cx="172872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H="1">
            <a:off x="2771280" y="1197000"/>
            <a:ext cx="4032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4"/>
          <p:cNvSpPr/>
          <p:nvPr/>
        </p:nvSpPr>
        <p:spPr>
          <a:xfrm flipH="1">
            <a:off x="2340000" y="1413000"/>
            <a:ext cx="4680000" cy="24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 flipH="1">
            <a:off x="5003280" y="1628640"/>
            <a:ext cx="2232360" cy="35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6"/>
          <p:cNvSpPr/>
          <p:nvPr/>
        </p:nvSpPr>
        <p:spPr>
          <a:xfrm flipH="1">
            <a:off x="5508360" y="1341360"/>
            <a:ext cx="1368360" cy="5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7885080" y="1773360"/>
            <a:ext cx="14292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9"/>
          <p:cNvSpPr/>
          <p:nvPr/>
        </p:nvSpPr>
        <p:spPr>
          <a:xfrm flipH="1">
            <a:off x="6516720" y="1773360"/>
            <a:ext cx="1008000" cy="27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8"/>
          <p:cNvSpPr/>
          <p:nvPr/>
        </p:nvSpPr>
        <p:spPr>
          <a:xfrm flipH="1">
            <a:off x="5579640" y="155736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" descr=""/>
          <p:cNvPicPr/>
          <p:nvPr/>
        </p:nvPicPr>
        <p:blipFill>
          <a:blip r:embed="rId2"/>
          <a:stretch/>
        </p:blipFill>
        <p:spPr>
          <a:xfrm>
            <a:off x="270000" y="203040"/>
            <a:ext cx="860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C:\Users\игорь\Desktop\20151214_101012.jpg"/>
          <p:cNvPicPr/>
          <p:nvPr/>
        </p:nvPicPr>
        <p:blipFill>
          <a:blip r:embed="rId2"/>
          <a:stretch/>
        </p:blipFill>
        <p:spPr>
          <a:xfrm>
            <a:off x="2195640" y="324000"/>
            <a:ext cx="424800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игорь\Desktop\20151217_113850.jpg"/>
          <p:cNvPicPr/>
          <p:nvPr/>
        </p:nvPicPr>
        <p:blipFill>
          <a:blip r:embed="rId2"/>
          <a:stretch/>
        </p:blipFill>
        <p:spPr>
          <a:xfrm>
            <a:off x="2000160" y="54936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Рисунок1"/>
          <p:cNvPicPr/>
          <p:nvPr/>
        </p:nvPicPr>
        <p:blipFill>
          <a:blip r:embed="rId1"/>
          <a:stretch/>
        </p:blipFill>
        <p:spPr>
          <a:xfrm>
            <a:off x="1260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2"/>
          <p:cNvSpPr/>
          <p:nvPr/>
        </p:nvSpPr>
        <p:spPr>
          <a:xfrm>
            <a:off x="1000080" y="1928880"/>
            <a:ext cx="585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рок, игрушка, нужная ве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, выполненная свои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овые затраты миним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проявить своё твор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ет аккуратность, усидчивос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071800" y="928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ализ результато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14200" y="285840"/>
            <a:ext cx="46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C:\Users\игорь\Desktop\20151214_100910.jpg"/>
          <p:cNvPicPr/>
          <p:nvPr/>
        </p:nvPicPr>
        <p:blipFill>
          <a:blip r:embed="rId2"/>
          <a:stretch/>
        </p:blipFill>
        <p:spPr>
          <a:xfrm>
            <a:off x="2771640" y="1557360"/>
            <a:ext cx="6018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0" descr="Рисунок1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714240" y="571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ременный урок технологии в условиях введения ФГ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785880" y="1643040"/>
            <a:ext cx="192888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1.Моби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357720" y="1428840"/>
            <a:ext cx="2214360" cy="22143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d3c"/>
                </a:solidFill>
                <a:latin typeface="Times New Roman"/>
              </a:rPr>
              <a:t>2. Целеполаг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286680" y="1214280"/>
            <a:ext cx="2571480" cy="38577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3.Осознание недостаточности имеющихс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857160" y="4071960"/>
            <a:ext cx="2357640" cy="25002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6. 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571920" y="4572000"/>
            <a:ext cx="2286000" cy="1500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5.Взаимопроверка, взаимоконт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357960" y="5357880"/>
            <a:ext cx="2500200" cy="12142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4.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0" descr="Рисунок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214200" y="28584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929200" y="357120"/>
            <a:ext cx="2928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6" descr=""/>
          <p:cNvPicPr/>
          <p:nvPr/>
        </p:nvPicPr>
        <p:blipFill>
          <a:blip r:embed="rId2"/>
          <a:stretch/>
        </p:blipFill>
        <p:spPr>
          <a:xfrm>
            <a:off x="992160" y="920880"/>
            <a:ext cx="74469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714240" y="4514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так проходит урок технологии в 5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2000160" y="981000"/>
            <a:ext cx="5143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"/>
          <p:cNvPicPr/>
          <p:nvPr/>
        </p:nvPicPr>
        <p:blipFill>
          <a:blip r:embed="rId2"/>
          <a:stretch/>
        </p:blipFill>
        <p:spPr>
          <a:xfrm>
            <a:off x="1835280" y="388800"/>
            <a:ext cx="568944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" descr="Рисунок1"/>
          <p:cNvPicPr/>
          <p:nvPr/>
        </p:nvPicPr>
        <p:blipFill>
          <a:blip r:embed="rId1"/>
          <a:stretch/>
        </p:blipFill>
        <p:spPr>
          <a:xfrm>
            <a:off x="-7920" y="-173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2" name="Диаграмма 4" descr=""/>
          <p:cNvPicPr/>
          <p:nvPr/>
        </p:nvPicPr>
        <p:blipFill>
          <a:blip r:embed="rId2"/>
          <a:stretch/>
        </p:blipFill>
        <p:spPr>
          <a:xfrm>
            <a:off x="3164040" y="569880"/>
            <a:ext cx="5587920" cy="4781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" descr=""/>
          <p:cNvPicPr/>
          <p:nvPr/>
        </p:nvPicPr>
        <p:blipFill>
          <a:blip r:embed="rId3"/>
          <a:stretch/>
        </p:blipFill>
        <p:spPr>
          <a:xfrm>
            <a:off x="1547640" y="189000"/>
            <a:ext cx="5596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0" descr="Рисунок1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4" descr=""/>
          <p:cNvPicPr/>
          <p:nvPr/>
        </p:nvPicPr>
        <p:blipFill>
          <a:blip r:embed="rId2"/>
          <a:stretch/>
        </p:blipFill>
        <p:spPr>
          <a:xfrm>
            <a:off x="457200" y="231840"/>
            <a:ext cx="8290080" cy="117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игорь\Desktop\20151214_100953.jpg"/>
          <p:cNvPicPr/>
          <p:nvPr/>
        </p:nvPicPr>
        <p:blipFill>
          <a:blip r:embed="rId3"/>
          <a:stretch/>
        </p:blipFill>
        <p:spPr>
          <a:xfrm>
            <a:off x="900000" y="1515960"/>
            <a:ext cx="691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2000160" y="168120"/>
            <a:ext cx="5143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4:43:18Z</dcterms:created>
  <dc:creator>Булгаков Игорь Васильевич</dc:creator>
  <dc:description/>
  <dc:language>en-US</dc:language>
  <cp:lastModifiedBy>юлия булгакова</cp:lastModifiedBy>
  <dcterms:modified xsi:type="dcterms:W3CDTF">2016-01-17T09:25:50Z</dcterms:modified>
  <cp:revision>98</cp:revision>
  <dc:subject/>
  <dc:title>Марафон 14</dc:title>
</cp:coreProperties>
</file>