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6C8-64D2-4290-9B8D-97BB2486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352-743A-4B42-8EAD-5B5E9DC7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C42-45E9-43C9-8D33-2A153E07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07C-6FAD-425D-BEC0-B075D29A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2EEF-E0B8-4009-9984-079D4EB7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C5BE-49F6-40EA-A7E1-B90498BA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EB3D-B3BE-465D-9E30-8A2FC1C7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0838-41BA-4972-AD48-44D58313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AB13-206B-4AF8-9FE7-EBF8C450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0ED6-0C7A-4C63-B4B7-EBA4A6CC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408A-DC19-473A-B96C-80656516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E64-F734-42D9-BE97-9BDD78DA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A192-191A-4E0A-9A34-B031B1C3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0918-2EB9-4067-B779-5DA0A91E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3EFF-F5A7-47BF-8708-8BEC926F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7A31-8DCD-4B69-B222-57E6B180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D256-93E7-4444-92A8-25519700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392-D770-429E-B1BB-9882B1AA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583-6C40-42E7-BEE2-6E895420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E38-4AA2-40E1-9985-993BAD39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F54-8E64-427E-80DC-76077496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969F-142E-402E-8011-096A50DC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B5C-338E-49B9-AC6C-18973DF4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DC3-3A26-402D-B878-5E1D7855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41DF-CA88-4BF1-A84C-C3FEFDD538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D0BE-A668-4D05-ADDA-189AE9026E3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badb"/>
                </a:solidFill>
                <a:latin typeface="Arial"/>
              </a:rPr>
              <a:t>Причины возникновения конфликтов между учениками и учителя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Копия Scan10003"/>
          <p:cNvPicPr/>
          <p:nvPr/>
        </p:nvPicPr>
        <p:blipFill>
          <a:blip r:embed="rId1"/>
          <a:stretch/>
        </p:blipFill>
        <p:spPr>
          <a:xfrm>
            <a:off x="1403280" y="-2116080"/>
            <a:ext cx="6699240" cy="102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Scan10001"/>
          <p:cNvPicPr/>
          <p:nvPr/>
        </p:nvPicPr>
        <p:blipFill>
          <a:blip r:embed="rId1"/>
          <a:stretch/>
        </p:blipFill>
        <p:spPr>
          <a:xfrm>
            <a:off x="1476360" y="620640"/>
            <a:ext cx="5867280" cy="80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Фрустрированые потребности </a:t>
            </a:r>
            <a:r>
              <a:rPr b="0" lang="ru-RU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онфликт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Scan10004"/>
          <p:cNvPicPr/>
          <p:nvPr/>
        </p:nvPicPr>
        <p:blipFill>
          <a:blip r:embed="rId1"/>
          <a:stretch/>
        </p:blipFill>
        <p:spPr>
          <a:xfrm>
            <a:off x="2340000" y="260280"/>
            <a:ext cx="467532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5" descr="DSC00266.JPG"/>
          <p:cNvPicPr/>
          <p:nvPr/>
        </p:nvPicPr>
        <p:blipFill>
          <a:blip r:embed="rId1"/>
          <a:stretch/>
        </p:blipFill>
        <p:spPr>
          <a:xfrm>
            <a:off x="214200" y="214200"/>
            <a:ext cx="8572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021107_1758_0081_lsls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meeting-angry"/>
          <p:cNvPicPr/>
          <p:nvPr/>
        </p:nvPicPr>
        <p:blipFill>
          <a:blip r:embed="rId1"/>
          <a:stretch/>
        </p:blipFill>
        <p:spPr>
          <a:xfrm>
            <a:off x="468360" y="1654200"/>
            <a:ext cx="6696000" cy="4462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6187621_b1670325"/>
          <p:cNvPicPr/>
          <p:nvPr/>
        </p:nvPicPr>
        <p:blipFill>
          <a:blip r:embed="rId2"/>
          <a:stretch/>
        </p:blipFill>
        <p:spPr>
          <a:xfrm>
            <a:off x="4211640" y="148428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i?id=135437494-20-72"/>
          <p:cNvPicPr/>
          <p:nvPr/>
        </p:nvPicPr>
        <p:blipFill>
          <a:blip r:embed="rId1"/>
          <a:stretch/>
        </p:blipFill>
        <p:spPr>
          <a:xfrm>
            <a:off x="3995640" y="1197000"/>
            <a:ext cx="4626000" cy="5100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badb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Установить причины, провоцирующие конфли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ровести анализ уровня удовлетворенности потребностей у учеников и учителей лице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badb"/>
                </a:solidFill>
                <a:latin typeface="Arial"/>
              </a:rPr>
              <a:t>Причины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нешние барьеры (если нечто мешает человеку покинуть зону психологической напряженност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еличина пространства свободного движения личности (слишком ограниченное пространство приводит к повышенному напряжению отношен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?id=265095281-57-72"/>
          <p:cNvPicPr/>
          <p:nvPr/>
        </p:nvPicPr>
        <p:blipFill>
          <a:blip r:embed="rId1"/>
          <a:stretch/>
        </p:blipFill>
        <p:spPr>
          <a:xfrm>
            <a:off x="4643280" y="2637000"/>
            <a:ext cx="4319640" cy="3916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тепень удовлетворенности потребностей личности (неудовлетворенные потребности приводят к напряженности, конфликтности человека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Scan10002"/>
          <p:cNvPicPr/>
          <p:nvPr/>
        </p:nvPicPr>
        <p:blipFill>
          <a:blip r:embed="rId1"/>
          <a:stretch/>
        </p:blipFill>
        <p:spPr>
          <a:xfrm>
            <a:off x="971640" y="404640"/>
            <a:ext cx="767088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Scan10005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badb"/>
                </a:solidFill>
                <a:latin typeface="Arial"/>
              </a:rPr>
              <a:t>Предрасположенность к конфликтным ситуация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1525680" y="183348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34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58:04Z</dcterms:created>
  <dc:creator>Владелец</dc:creator>
  <dc:description/>
  <dc:language>en-US</dc:language>
  <cp:lastModifiedBy>user-48</cp:lastModifiedBy>
  <dcterms:modified xsi:type="dcterms:W3CDTF">2011-11-15T10:18:13Z</dcterms:modified>
  <cp:revision>7</cp:revision>
  <dc:subject/>
  <dc:title>Слайд 1</dc:title>
</cp:coreProperties>
</file>