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678-2287-4B4D-BF97-6149AFB6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DA2-1AA2-451B-9DF7-9ACCF807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F5F-5614-41DA-91C9-725D0A31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D03-C561-43D5-88DC-1A4EC70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E74-BB92-432D-9C6D-37B9AA5D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ADF-0B57-43DB-A125-5FAADF1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2E7-095F-42B1-A0FB-ED9012D8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87B-7C0F-45C0-A27A-A44124A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96A6-B50D-4DDE-B7B8-EE4A1A3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EA72-F1E4-41B2-8B30-2FEC78A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FCF-DCF7-4212-A48C-0ABFFE7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8D2-AA7C-4CAF-B10F-78CD356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068-5A09-4BF9-92CF-6401A60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A5D0-6BD5-4D9B-83B5-3386610E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E58-6A93-4A70-B94C-FA57DEC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4908-E446-4A8A-9321-87CCC78C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A2D-83D7-47C9-8573-6B47BED2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1A6-2609-41D0-BD15-D9B7469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0A5-8757-4BC9-A5EC-C4980E0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585-4220-4765-87A2-20DA07A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21D-958A-479B-9A18-7AB16FF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63B-6901-4009-9CA6-3F91D11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D78-81A6-4E76-B25A-FCC60A8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481-827C-4FAE-AA3F-2296FFF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B27-A293-447C-9F40-B10229D99F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37E-1E46-4E6D-A9F1-3EF4C2B9DF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 возникновения конфликтов между учениками и учител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Копия Scan10003"/>
          <p:cNvPicPr/>
          <p:nvPr/>
        </p:nvPicPr>
        <p:blipFill>
          <a:blip r:embed="rId1"/>
          <a:stretch/>
        </p:blipFill>
        <p:spPr>
          <a:xfrm>
            <a:off x="1403280" y="-2116080"/>
            <a:ext cx="6699240" cy="10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Scan10001"/>
          <p:cNvPicPr/>
          <p:nvPr/>
        </p:nvPicPr>
        <p:blipFill>
          <a:blip r:embed="rId1"/>
          <a:stretch/>
        </p:blipFill>
        <p:spPr>
          <a:xfrm>
            <a:off x="1476360" y="620640"/>
            <a:ext cx="586728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рустрированые потребности </a:t>
            </a:r>
            <a:r>
              <a:rPr b="0" lang="ru-RU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нфлик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Scan10004"/>
          <p:cNvPicPr/>
          <p:nvPr/>
        </p:nvPicPr>
        <p:blipFill>
          <a:blip r:embed="rId1"/>
          <a:stretch/>
        </p:blipFill>
        <p:spPr>
          <a:xfrm>
            <a:off x="2340000" y="260280"/>
            <a:ext cx="467532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DSC00266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021107_1758_0081_lsls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eeting-angry"/>
          <p:cNvPicPr/>
          <p:nvPr/>
        </p:nvPicPr>
        <p:blipFill>
          <a:blip r:embed="rId1"/>
          <a:stretch/>
        </p:blipFill>
        <p:spPr>
          <a:xfrm>
            <a:off x="468360" y="1654200"/>
            <a:ext cx="6696000" cy="446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6187621_b1670325"/>
          <p:cNvPicPr/>
          <p:nvPr/>
        </p:nvPicPr>
        <p:blipFill>
          <a:blip r:embed="rId2"/>
          <a:stretch/>
        </p:blipFill>
        <p:spPr>
          <a:xfrm>
            <a:off x="4211640" y="1484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?id=135437494-20-72"/>
          <p:cNvPicPr/>
          <p:nvPr/>
        </p:nvPicPr>
        <p:blipFill>
          <a:blip r:embed="rId1"/>
          <a:stretch/>
        </p:blipFill>
        <p:spPr>
          <a:xfrm>
            <a:off x="3995640" y="1197000"/>
            <a:ext cx="4626000" cy="5100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badb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Установить причины, провоцирующие конфли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овести анализ уровня удовлетворенности потребностей у учеников и учителей лиц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нешние барьеры (если нечто мешает человеку покинуть зону психологической напряженн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еличина пространства свободного движения личности (слишком ограниченное пространство приводит к повышенному напряжению отноше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?id=265095281-57-72"/>
          <p:cNvPicPr/>
          <p:nvPr/>
        </p:nvPicPr>
        <p:blipFill>
          <a:blip r:embed="rId1"/>
          <a:stretch/>
        </p:blipFill>
        <p:spPr>
          <a:xfrm>
            <a:off x="4643280" y="2637000"/>
            <a:ext cx="4319640" cy="3916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тепень удовлетворенности потребностей личности (неудовлетворенные потребности приводят к напряженности, конфликтности человек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Scan10002"/>
          <p:cNvPicPr/>
          <p:nvPr/>
        </p:nvPicPr>
        <p:blipFill>
          <a:blip r:embed="rId1"/>
          <a:stretch/>
        </p:blipFill>
        <p:spPr>
          <a:xfrm>
            <a:off x="971640" y="404640"/>
            <a:ext cx="76708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Scan10005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едрасположенность к конфликтным ситуация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525680" y="1833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3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58:04Z</dcterms:created>
  <dc:creator>Владелец</dc:creator>
  <dc:description/>
  <dc:language>en-US</dc:language>
  <cp:lastModifiedBy>user-48</cp:lastModifiedBy>
  <dcterms:modified xsi:type="dcterms:W3CDTF">2011-11-15T10:18:13Z</dcterms:modified>
  <cp:revision>7</cp:revision>
  <dc:subject/>
  <dc:title>Слайд 1</dc:title>
</cp:coreProperties>
</file>