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463-FDFD-4310-B004-EF11BCF9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C26-EAB1-4ABB-B2F1-CE128359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0E6-CB6E-4081-AA74-003A9299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53E-8BAD-4C6F-A133-4C13920C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299-0096-4BBF-9CEC-7513D8EB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5D8D-2673-450A-9CEC-59B7949C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061D-E52D-4021-95E1-FBD7D793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D8EF-A0CA-47B1-BBF3-152168F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6BDE-394A-4A89-8725-9264052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5672-B601-4A46-A8D7-522EB249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40B-2BC6-473E-942E-B4C2DEF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F28-7CDD-4AC7-BC03-F367DFBC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174-E2FF-424B-B1DA-03EDA30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C5ED-6F75-42FE-ADE2-5ECDD5C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FBCF-AABD-4AC4-BC1C-3F5F075E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53E-28E7-4993-BAA8-B942F62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5C06-3B7C-4F99-A1E3-0CBD3E9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9A0-C23E-4DC7-AA73-4F722183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BB0-71BF-4B25-9B28-FFC461B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A99-5591-427F-A9FB-1F17EC2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C34-3DFC-420E-9C69-A2636944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E66-E611-484B-AFB0-6829621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2A7-3B79-425F-A0B3-8AA84651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7E4-CF47-443F-906C-88E3B4B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CC4-3B2E-466E-91AB-F212F83680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648-4C9D-4C7C-BABD-5549BA9BD47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 возникновения конфликтов между учениками и учител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Копия Scan10003"/>
          <p:cNvPicPr/>
          <p:nvPr/>
        </p:nvPicPr>
        <p:blipFill>
          <a:blip r:embed="rId1"/>
          <a:stretch/>
        </p:blipFill>
        <p:spPr>
          <a:xfrm>
            <a:off x="1403280" y="-2116080"/>
            <a:ext cx="6699240" cy="10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Scan10001"/>
          <p:cNvPicPr/>
          <p:nvPr/>
        </p:nvPicPr>
        <p:blipFill>
          <a:blip r:embed="rId1"/>
          <a:stretch/>
        </p:blipFill>
        <p:spPr>
          <a:xfrm>
            <a:off x="1476360" y="620640"/>
            <a:ext cx="586728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рустрированые потребности </a:t>
            </a:r>
            <a:r>
              <a:rPr b="0" lang="ru-RU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нфлик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Scan10004"/>
          <p:cNvPicPr/>
          <p:nvPr/>
        </p:nvPicPr>
        <p:blipFill>
          <a:blip r:embed="rId1"/>
          <a:stretch/>
        </p:blipFill>
        <p:spPr>
          <a:xfrm>
            <a:off x="2340000" y="260280"/>
            <a:ext cx="467532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DSC00266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021107_1758_0081_lsls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eeting-angry"/>
          <p:cNvPicPr/>
          <p:nvPr/>
        </p:nvPicPr>
        <p:blipFill>
          <a:blip r:embed="rId1"/>
          <a:stretch/>
        </p:blipFill>
        <p:spPr>
          <a:xfrm>
            <a:off x="468360" y="1654200"/>
            <a:ext cx="6696000" cy="446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6187621_b1670325"/>
          <p:cNvPicPr/>
          <p:nvPr/>
        </p:nvPicPr>
        <p:blipFill>
          <a:blip r:embed="rId2"/>
          <a:stretch/>
        </p:blipFill>
        <p:spPr>
          <a:xfrm>
            <a:off x="4211640" y="1484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?id=135437494-20-72"/>
          <p:cNvPicPr/>
          <p:nvPr/>
        </p:nvPicPr>
        <p:blipFill>
          <a:blip r:embed="rId1"/>
          <a:stretch/>
        </p:blipFill>
        <p:spPr>
          <a:xfrm>
            <a:off x="3995640" y="1197000"/>
            <a:ext cx="4626000" cy="5100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badb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Установить причины, провоцирующие конфли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овести анализ уровня удовлетворенности потребностей у учеников и учителей лиц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нешние барьеры (если нечто мешает человеку покинуть зону психологической напряженн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еличина пространства свободного движения личности (слишком ограниченное пространство приводит к повышенному напряжению отноше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?id=265095281-57-72"/>
          <p:cNvPicPr/>
          <p:nvPr/>
        </p:nvPicPr>
        <p:blipFill>
          <a:blip r:embed="rId1"/>
          <a:stretch/>
        </p:blipFill>
        <p:spPr>
          <a:xfrm>
            <a:off x="4643280" y="2637000"/>
            <a:ext cx="4319640" cy="3916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тепень удовлетворенности потребностей личности (неудовлетворенные потребности приводят к напряженности, конфликтности человек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Scan10002"/>
          <p:cNvPicPr/>
          <p:nvPr/>
        </p:nvPicPr>
        <p:blipFill>
          <a:blip r:embed="rId1"/>
          <a:stretch/>
        </p:blipFill>
        <p:spPr>
          <a:xfrm>
            <a:off x="971640" y="404640"/>
            <a:ext cx="76708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Scan10005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едрасположенность к конфликтным ситуация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525680" y="1833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3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58:04Z</dcterms:created>
  <dc:creator>Владелец</dc:creator>
  <dc:description/>
  <dc:language>en-US</dc:language>
  <cp:lastModifiedBy>user-48</cp:lastModifiedBy>
  <dcterms:modified xsi:type="dcterms:W3CDTF">2011-11-15T10:18:13Z</dcterms:modified>
  <cp:revision>7</cp:revision>
  <dc:subject/>
  <dc:title>Слайд 1</dc:title>
</cp:coreProperties>
</file>