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875A-1611-4501-95F3-FF0CBAE6E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50D6-CE0F-4AD3-AFB3-BE28F1D7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A4EA-1EDB-4364-B548-987E9FC25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5415-3AE8-4865-9BCF-D8DEDE05C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CDF1-8866-45E7-93A7-78D15D5F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0273-9527-47D6-BE63-5BCDE4D1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4DF0-8953-45F1-B49D-D0892522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6A85-16D8-4FAB-B6E6-B95BE7F7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9AAB-5A0C-4382-8962-38C6FE81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7AE8-CF36-49D3-B2C6-D679F865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25D4-20C2-40B0-B126-7061A32F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886F-EB64-46B1-9825-13A8CD78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2F54-4E29-45CD-9013-0E957D23B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197000"/>
            <a:ext cx="784692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е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нколистовой металл и проволока. Правка тонколистового металла и проволок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1880" y="458640"/>
            <a:ext cx="78724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таллы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железо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алюминий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медь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олово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свинец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цин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47400" y="3886200"/>
            <a:ext cx="8351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ла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Сталь(железо с углерод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Чугун (железо с углерод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Дюралюминий (медь с алюмини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Бронза(медь со свинцом, олов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Латунь (медь с цинк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м отличаются металлы от древесины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войства мет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44600" y="251136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водят электрический 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таллы прочнее и тверж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ладают магнитными свой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лавя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ладают хорошей теплопроводн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390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стовой металл: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толстолистовая сталь(толще 2 мм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- тонколистовая сталь(тоньш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мм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а) жесть (от 0,2 до 0,5 мм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б) кровельная сталь (от 0,5 до 0,8 мм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16000" y="3429000"/>
            <a:ext cx="7273800" cy="3214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98480" y="2060640"/>
            <a:ext cx="526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учение листового метал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схема прокатного стана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9280" y="2967120"/>
            <a:ext cx="8496360" cy="3319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258200" y="549360"/>
            <a:ext cx="7105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хема получения проволо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 прокаткой (толщина проволоки более 5 м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 волочением (толщина проволоки менее 5 м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6920" y="1951200"/>
            <a:ext cx="7417080" cy="3998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63640" y="549360"/>
            <a:ext cx="58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ка заготовок из             тонколистового мет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6985080" cy="4952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627280" y="333360"/>
            <a:ext cx="506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ка проволо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07:40:40Z</dcterms:created>
  <dc:creator>Ольга</dc:creator>
  <dc:description/>
  <dc:language>en-US</dc:language>
  <cp:lastModifiedBy>Ольга</cp:lastModifiedBy>
  <dcterms:modified xsi:type="dcterms:W3CDTF">2012-02-07T13:12:37Z</dcterms:modified>
  <cp:revision>3</cp:revision>
  <dc:subject/>
  <dc:title>Тема: Тонколистовой металл и проволока. Правка тонколистового металла и проволоки </dc:title>
</cp:coreProperties>
</file>