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5E4-EE6F-4F2F-BCBD-2C023B1B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BA84-4F84-4E46-A72F-27878A93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2DEF-C0FC-4A58-A67E-FDC839C5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982-2BD3-4D4D-8878-19A622DF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DEE6-0D8E-4354-BF93-AB89F847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E43C-147A-4B78-ABBF-5F58BAE2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F2FB-E00A-4A27-A575-50D0DE86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0DBE-F752-442F-BB79-ED95BAC1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A070-39B4-4EC4-AB2D-7080CADE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FC49-CE86-4E68-B552-897D1B2E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0364-D04E-492A-A1A9-50978975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6C3-3E9F-419D-871A-0C9DB03B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C27B-9904-4B92-912A-0941FB8DA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197000"/>
            <a:ext cx="78469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нколистовой металл и проволока. Правка тонколистового металла и проволо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1880" y="458640"/>
            <a:ext cx="7872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аллы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железо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алюмини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медь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олово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свинец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ци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7400" y="3886200"/>
            <a:ext cx="8351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ла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Сталь(железо с углерод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Чугун (железо с углерод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Дюралюминий (медь с алюмин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Бронза(медь со свинцом, олов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Латунь (медь с цинк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 отличаются металлы от древесины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ойства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2511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одят электрический 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аллы прочнее и твер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дают магнитными свой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вя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дают хорошей теплопровод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390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стовой металл: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толстолистовая сталь(толще 2 мм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- тонколистовая сталь(тоньш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мм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а) жесть (от 0,2 до 0,5 мм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б) кровельная сталь (от 0,5 до 0,8 мм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3429000"/>
            <a:ext cx="7273800" cy="3214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98480" y="2060640"/>
            <a:ext cx="526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ение листового мет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схема прокатного стана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2967120"/>
            <a:ext cx="8496360" cy="3319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58200" y="549360"/>
            <a:ext cx="710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хема получения провол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прокаткой (толщина проволоки более 5 м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волочением (толщина проволоки менее 5 м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1951200"/>
            <a:ext cx="7417080" cy="3998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63640" y="549360"/>
            <a:ext cx="58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ка заготовок из             тонколистового мет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985080" cy="4952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627280" y="333360"/>
            <a:ext cx="506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ка провол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07:40:40Z</dcterms:created>
  <dc:creator>Ольга</dc:creator>
  <dc:description/>
  <dc:language>en-US</dc:language>
  <cp:lastModifiedBy>Ольга</cp:lastModifiedBy>
  <dcterms:modified xsi:type="dcterms:W3CDTF">2012-02-07T13:12:37Z</dcterms:modified>
  <cp:revision>3</cp:revision>
  <dc:subject/>
  <dc:title>Тема: Тонколистовой металл и проволока. Правка тонколистового металла и проволоки </dc:title>
</cp:coreProperties>
</file>