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F38-7457-4D6C-BAC8-F367BB2D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B95-5037-4F9B-A8F3-66A17167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620-B283-4A75-B7C3-D1D1711B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C27B-3D60-4F00-B943-23E5E52E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BF14-96F5-4F4F-91FA-AE99B6E5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9008-3CC5-4B3B-ACF9-08021631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058F-D661-4B41-8587-555E8E2B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85C-A0A2-44F3-A501-F5C11B01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3D9-9260-4E62-8E5D-BFAE322D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B3C5-4057-4506-9D38-2EF5143D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B07-0173-4C83-9839-0BFA82A1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5C5-90CA-44CA-84D0-19DFE86C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7149-98AD-4BA0-84BB-D1F04D4AF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197000"/>
            <a:ext cx="78469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нколистовой металл и проволока. Правка тонколистового металла и проволо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1880" y="458640"/>
            <a:ext cx="7872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аллы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железо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алюмини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медь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олово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свинец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ци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7400" y="3886200"/>
            <a:ext cx="8351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л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Сталь(железо с углерод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Чугун (железо с углерод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Дюралюминий (медь с алюмин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Бронза(медь со свинцом, олов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Латунь (медь с цинк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 отличаются металлы от древесины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ойства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2511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одят электрический 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аллы прочнее и твер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дают магнитными свой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вя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дают хорошей теплопровод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39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товой металл: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толстолистовая сталь(толще 2 мм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- тонколистовая сталь(тоньш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мм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а) жесть (от 0,2 до 0,5 мм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б) кровельная сталь (от 0,5 до 0,8 мм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3429000"/>
            <a:ext cx="7273800" cy="3214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98480" y="2060640"/>
            <a:ext cx="52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ение листового мет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схема прокатного стана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2967120"/>
            <a:ext cx="8496360" cy="3319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58200" y="549360"/>
            <a:ext cx="710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хема получения провол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прокаткой (толщина проволоки более 5 м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волочением (толщина проволоки менее 5 м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1951200"/>
            <a:ext cx="7417080" cy="3998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63640" y="549360"/>
            <a:ext cx="58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ка заготовок из             тонколистового мет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985080" cy="4952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627280" y="333360"/>
            <a:ext cx="50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ка провол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07:40:40Z</dcterms:created>
  <dc:creator>Ольга</dc:creator>
  <dc:description/>
  <dc:language>en-US</dc:language>
  <cp:lastModifiedBy>Ольга</cp:lastModifiedBy>
  <dcterms:modified xsi:type="dcterms:W3CDTF">2012-02-07T13:12:37Z</dcterms:modified>
  <cp:revision>3</cp:revision>
  <dc:subject/>
  <dc:title>Тема: Тонколистовой металл и проволока. Правка тонколистового металла и проволоки </dc:title>
</cp:coreProperties>
</file>