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1.gif" ContentType="image/gif"/>
  <Override PartName="/ppt/media/image28.jpeg" ContentType="image/jpeg"/>
  <Override PartName="/ppt/media/image7.jpeg" ContentType="image/jpeg"/>
  <Override PartName="/ppt/media/image9.png" ContentType="image/png"/>
  <Override PartName="/ppt/media/image6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0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528B-3930-461B-A181-87341D6859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A0F6-C988-48FB-BC34-07DFDD7AC43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AD39-932C-46BE-AAF5-76057EEF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151-6BBD-4A11-B1BF-6DD44212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64A2-A576-4CF6-A3BE-8BB4CEBA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9395-D230-4426-87DB-BB4D7EC7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1C0C-E22C-470F-BA94-2159A90C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0101-08E1-44F0-BA97-03FA0DB5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DFD2-DC21-47A1-8030-B4F0CFB2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600A-C083-4D5E-ABED-72387756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3424-E662-494C-98E8-CD32C72B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F1FE-650A-4748-91CA-07D5E3A2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891B-80FC-463D-A4C3-7AE98FF2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7A7-8DA7-442A-95C2-5DC67720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9243-FF10-4657-B2BA-8764129B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F376-76CF-44CF-8AD2-5094395E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DBD5-9362-47D1-9580-D8EB7DFB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3493-9AA3-4A73-AC97-CE04B4C0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5BB6-0317-42D3-96BC-B1C6333B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C288A-5806-4E8D-9B02-9E24F1DA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D7312-D763-41CA-9631-68B93542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290C8-40AA-46D2-9E9E-B85142EF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72719-B423-4B87-8714-5F92A448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F5145-1840-4BAC-9761-E6A36452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EA6E-1816-48DE-9EF4-ABCD466D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6B05-7CC7-4F14-93D3-BCFC5F4C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D5C61-F31A-42CA-8376-FA35E7DB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DC1B9-69EF-42B7-AC9A-95A374AD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74448-EA21-4219-A165-ED4E0102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CCD47-3414-4459-848D-176B21A4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2D645-9CDC-4536-A02E-F70FB3A3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904E6-562E-47D9-B021-191D1BD7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60CEC-016A-47E4-8313-9668C88E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80BEB-E91A-4BAE-ADF5-2CFC7361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9869B-5BE1-4A26-BB8C-054F5ED0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C91-F1C1-42DE-969A-DA2F3B23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635E1-1967-48C6-870A-73EAD5D9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2876D-321E-4F08-8476-CAB77584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C67DE-7DD3-46FC-AA94-F978B44E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18C21-645B-4E4E-A3CA-832B6A04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12DCB-95E8-4503-9E47-ECE3F4EA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6B29A-1F15-4EE1-978D-99785BEB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6ACCA-2B1B-4ED5-9B5F-987D20D6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D8377-0A40-42A3-8387-AB6B19E0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C6A8E-FFF4-4E77-8E7B-BFEF3703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1FC-5624-437D-B596-99317ED4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84E-5913-4694-AFFB-026BF581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C0AC-F707-48FE-A1DE-91E4AD97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2CB-9317-444F-AC05-C146E050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EB7-A40A-4B70-99C7-4C9E9864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C5EE-7047-442B-B0F9-65CE328901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E20E-C64F-4B42-89D8-5A334C43465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0420-DF98-4EB6-B020-42ED6FC95C9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6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6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CA6A-7699-45F2-BFBA-F5DC3A74021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6"/>
          <p:cNvSpPr txBox="1"/>
          <p:nvPr/>
        </p:nvSpPr>
        <p:spPr>
          <a:xfrm>
            <a:off x="285840" y="428760"/>
            <a:ext cx="8572320" cy="37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езный разговор о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редных привычках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326880" y="4540320"/>
            <a:ext cx="828216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Если мы не победим вредные привычки, то они победят нас» (Эриан Шульц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втор: социальный педагог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ГБОУ ЦО №1456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улешова Екатерина Валерьев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252720" y="907920"/>
            <a:ext cx="521964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 Sans MS"/>
              </a:rPr>
              <a:t>Алкоголизм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3141360"/>
            <a:ext cx="78120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лкоголь действует на клетки головного мозга, человек становится злым, агрессивным, теряет над собой контроль, становится психически неуравновешенны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30% всех преступлений совершаются в состоянии опьянени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77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770" fill="hold"/>
                                        <p:tgtEl>
                                          <p:spTgt spid="3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5483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 Sans MS"/>
              </a:rPr>
              <a:t>Алкоголизм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853272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ьяница в семье – это горе, особенно детям. Дети алкоголиков в 4 раза чаще других людей заболевают алкоголизмом и наркомани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коголь особенно вреден для растущего организма и “взрослые” дозы для детей могут стать смертельными или привести к инвалидности при поражении головного мозг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2" name="Picture 7" descr="действие алкоголя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3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5" descr="{98FD7FE8-D60D-423A-9DA8-38886AD4623F}"/>
          <p:cNvPicPr/>
          <p:nvPr/>
        </p:nvPicPr>
        <p:blipFill>
          <a:blip r:embed="rId1"/>
          <a:stretch/>
        </p:blipFill>
        <p:spPr>
          <a:xfrm>
            <a:off x="324000" y="291960"/>
            <a:ext cx="842472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5" descr="наромания"/>
          <p:cNvPicPr/>
          <p:nvPr/>
        </p:nvPicPr>
        <p:blipFill>
          <a:blip r:embed="rId1"/>
          <a:stretch/>
        </p:blipFill>
        <p:spPr>
          <a:xfrm>
            <a:off x="250920" y="2421000"/>
            <a:ext cx="2884320" cy="27129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9"/>
          <p:cNvSpPr/>
          <p:nvPr/>
        </p:nvSpPr>
        <p:spPr>
          <a:xfrm>
            <a:off x="1619280" y="333360"/>
            <a:ext cx="604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Наркомания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10" descr="4"/>
          <p:cNvPicPr/>
          <p:nvPr/>
        </p:nvPicPr>
        <p:blipFill>
          <a:blip r:embed="rId2"/>
          <a:stretch/>
        </p:blipFill>
        <p:spPr>
          <a:xfrm>
            <a:off x="6804000" y="0"/>
            <a:ext cx="2027160" cy="172872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10"/>
          <p:cNvSpPr/>
          <p:nvPr/>
        </p:nvSpPr>
        <p:spPr>
          <a:xfrm>
            <a:off x="3203640" y="1413000"/>
            <a:ext cx="59403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Наркотики - отрава еще более серьезная, она рассчитана на простаков, которые, привыкнув к ним, не смогут без них  жить и станут платить большие деньги, чтобы поскорее умереть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Наркотики нюхают, курят, вкалывают, принимают в виде таблеток. Они моментально попадают в кровь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Наркомания действует своими ядами сильно и быстро -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буквально с первого раза человек может стать наркоманом!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У человека появляются галлюцинации, кошмары.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77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77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285480" y="-360"/>
            <a:ext cx="86072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Нарком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ркоманы становятся угрюмыми, злыми, так как все время думают о том, где достать очередную порцию наркотика. Наркоман ради наркотиков готов пойти на любое преступл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ркоманы – плохие работники, их трудоспособность низкая, они приносят семье большой материальный ущерб, являются причиной несчастных случа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 наркоманов три пути: тюрьма, психбольница, смер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ркотики убивают ум, здоровье, силы человека. Наркоманы распространяют чаще других СПИ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0" y="4848120"/>
            <a:ext cx="360036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77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77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ffcc00"/>
                </a:solidFill>
                <a:latin typeface="Times New Roman"/>
              </a:rPr>
              <a:t>Фотографии людей до и после того как они начали принимать наркотики</a:t>
            </a:r>
            <a:endParaRPr b="0" lang="en-US" sz="3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Picture 4" descr="newface1"/>
          <p:cNvPicPr/>
          <p:nvPr/>
        </p:nvPicPr>
        <p:blipFill>
          <a:blip r:embed="rId1"/>
          <a:stretch/>
        </p:blipFill>
        <p:spPr>
          <a:xfrm>
            <a:off x="2916360" y="2835360"/>
            <a:ext cx="3073320" cy="230508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93" name="Picture 5" descr="faces1"/>
          <p:cNvPicPr/>
          <p:nvPr/>
        </p:nvPicPr>
        <p:blipFill>
          <a:blip r:embed="rId2"/>
          <a:stretch/>
        </p:blipFill>
        <p:spPr>
          <a:xfrm>
            <a:off x="468360" y="4581360"/>
            <a:ext cx="2952720" cy="1860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94" name="Picture 6" descr="faces6"/>
          <p:cNvPicPr/>
          <p:nvPr/>
        </p:nvPicPr>
        <p:blipFill>
          <a:blip r:embed="rId3"/>
          <a:stretch/>
        </p:blipFill>
        <p:spPr>
          <a:xfrm>
            <a:off x="250920" y="1773360"/>
            <a:ext cx="2879640" cy="181440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395" name="Picture 7" descr="faces5"/>
          <p:cNvPicPr/>
          <p:nvPr/>
        </p:nvPicPr>
        <p:blipFill>
          <a:blip r:embed="rId4"/>
          <a:stretch/>
        </p:blipFill>
        <p:spPr>
          <a:xfrm>
            <a:off x="5651640" y="4581360"/>
            <a:ext cx="2952720" cy="18608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396" name="Picture 8" descr="faces8"/>
          <p:cNvPicPr/>
          <p:nvPr/>
        </p:nvPicPr>
        <p:blipFill>
          <a:blip r:embed="rId5"/>
          <a:stretch/>
        </p:blipFill>
        <p:spPr>
          <a:xfrm>
            <a:off x="5867280" y="1628640"/>
            <a:ext cx="2880000" cy="1814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8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25686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5689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Токсикомания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0560" y="2637000"/>
            <a:ext cx="8281800" cy="39607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Это не просто вредные, но и очень опасные привычки. «Мания» - это психическая болезнь, когда человек постоянно думает о чем-то одн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Токсикоман постоянно думает о яде. «Токсикомания» с латыни так и переводится как «мания к яду» (токсин -значит яд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7" descr="4"/>
          <p:cNvPicPr/>
          <p:nvPr/>
        </p:nvPicPr>
        <p:blipFill>
          <a:blip r:embed="rId2"/>
          <a:stretch/>
        </p:blipFill>
        <p:spPr>
          <a:xfrm>
            <a:off x="1835280" y="836640"/>
            <a:ext cx="20271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77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770" fill="hold"/>
                                        <p:tgtEl>
                                          <p:spTgt spid="3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Токсикомания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Эти яды попадают в организм человека при вдыхании ядовитых паров и вызывают сильные отрав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Очень быстро появляется привыкание, наступают изменения в психике, но главное - разрушается здоровье человека, так как яды постепенно накапливаются в организ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250920" y="4192560"/>
            <a:ext cx="2952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77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770" fill="hold"/>
                                        <p:tgtEl>
                                          <p:spTgt spid="4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5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20606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 Sans MS"/>
              </a:rPr>
              <a:t>Табакокурение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8820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Курение - это зависимость от наркотика, имя которому никотин. По своей ядовитости никотин равен синильной кислоте – смертельному я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Ученые подсчитали, что курильщик сокращает свою жизнь на 6 лет. Все органы человеческого тела страдают от таба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Научно доказано, что курение вызывает 25 заболеваний. У курильщиков плохая память, плохое физическое здоровье, неустойчивая психика, они медленно думают, плохо слыша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Даже внешне курильщики отличаются от некурящих: у них быстрее вянет кожа, сипнет голос, желтеют зуб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77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770" fill="hold"/>
                                        <p:tgtEl>
                                          <p:spTgt spid="4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8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1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5" descr="{60948C64-3001-4DCF-9C4C-9B1925FD6C4A}"/>
          <p:cNvPicPr/>
          <p:nvPr/>
        </p:nvPicPr>
        <p:blipFill>
          <a:blip r:embed="rId1"/>
          <a:stretch/>
        </p:blipFill>
        <p:spPr>
          <a:xfrm>
            <a:off x="0" y="1754280"/>
            <a:ext cx="5292720" cy="397008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При пассивном курении некурящий человек страдает больше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10552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т курения страдают некурящие. Половина вредных веществ, которые есть в сигарете, курильщик выдыхает, отравляя воздух. Этим воздухом вынуждены дышать окружающие, которые становятся пассивными курильщи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4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785960" y="428760"/>
            <a:ext cx="6786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cc00"/>
                </a:solidFill>
                <a:uFillTx/>
                <a:latin typeface="Comic Sans MS"/>
              </a:rPr>
              <a:t>Цель</a:t>
            </a:r>
            <a:r>
              <a:rPr b="1" lang="ru-RU" sz="3600" spc="-1" strike="noStrike" u="sng">
                <a:solidFill>
                  <a:srgbClr val="ffcc00"/>
                </a:solidFill>
                <a:uFillTx/>
                <a:latin typeface="Comic Sans MS"/>
              </a:rPr>
              <a:t>: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- Ознакомить с интернет-ресурсами,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связанными с профилактикой вредных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ривычек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- Дать представление о вредных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ривычках и их влиянии на здоровье,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развитие  личности и поведени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человек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9" name="Picture 6" descr=""/>
          <p:cNvPicPr/>
          <p:nvPr/>
        </p:nvPicPr>
        <p:blipFill>
          <a:blip r:embed="rId1"/>
          <a:stretch/>
        </p:blipFill>
        <p:spPr>
          <a:xfrm>
            <a:off x="214200" y="3714840"/>
            <a:ext cx="2016360" cy="28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Курение</a:t>
            </a:r>
            <a:br>
              <a:rPr sz="36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dbbd71"/>
                </a:solidFill>
                <a:latin typeface="Arial"/>
              </a:rPr>
              <a:t>В табаке содержится 1200 ядовитых веществ:</a:t>
            </a:r>
            <a:r>
              <a:rPr b="0" i="1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411" name="Picture 7" descr="{4CCEB5F7-E7D0-44A2-B1F4-2F4898BBE422}"/>
          <p:cNvPicPr/>
          <p:nvPr/>
        </p:nvPicPr>
        <p:blipFill>
          <a:blip r:embed="rId1"/>
          <a:stretch/>
        </p:blipFill>
        <p:spPr>
          <a:xfrm>
            <a:off x="826920" y="1413000"/>
            <a:ext cx="756144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db3c0276-6e20-4c86-9bcf-39a6921ef004"/>
          <p:cNvPicPr/>
          <p:nvPr/>
        </p:nvPicPr>
        <p:blipFill>
          <a:blip r:embed="rId1"/>
          <a:stretch/>
        </p:blipFill>
        <p:spPr>
          <a:xfrm>
            <a:off x="6227640" y="1413000"/>
            <a:ext cx="2340000" cy="185580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413" name="Picture 3" descr="i[16]"/>
          <p:cNvPicPr/>
          <p:nvPr/>
        </p:nvPicPr>
        <p:blipFill>
          <a:blip r:embed="rId2"/>
          <a:stretch/>
        </p:blipFill>
        <p:spPr>
          <a:xfrm>
            <a:off x="6300720" y="4076640"/>
            <a:ext cx="2521080" cy="199728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0000"/>
                </a:solidFill>
                <a:uFillTx/>
                <a:latin typeface="Comic Sans MS"/>
              </a:rPr>
              <a:t>Это надо знать!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14200" y="-143280"/>
            <a:ext cx="61214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Курение поражает органы дыхания, сердечно-сосудистую систему, желудочно-кишечный трак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Курильщики болеют раком лёгких в несколько раз чаще, чем некурящие и составляют 96-100% всех больных раком лёгки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Курение увеличивает вероятность других видов злокачественных опухолей (полости рта, пищевода, гортани, поджелудочной железы, желудка, толстой кишки, почки, печен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30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30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3000" fill="hold"/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3000" fill="hold"/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3000" fill="hold"/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3000" fill="hold"/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post-19-1143712483[1]"/>
          <p:cNvPicPr/>
          <p:nvPr/>
        </p:nvPicPr>
        <p:blipFill>
          <a:blip r:embed="rId1"/>
          <a:stretch/>
        </p:blipFill>
        <p:spPr>
          <a:xfrm>
            <a:off x="826920" y="2276640"/>
            <a:ext cx="7488360" cy="426384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0256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О вреде кур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70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аглядный пример различия между легкими курильщика и легкими человека, который не кури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1704960" y="2773440"/>
            <a:ext cx="100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1704960" y="2773440"/>
            <a:ext cx="100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5448240" y="3324240"/>
          <a:ext cx="1657440" cy="76212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Rectangle 13"/>
          <p:cNvSpPr/>
          <p:nvPr/>
        </p:nvSpPr>
        <p:spPr>
          <a:xfrm>
            <a:off x="4163760" y="1095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По мнению медиков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74872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сигарета сокращает жизнь – на 15 мину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пачка сигарет - на 5 час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т, кто курит 1 год, теряет 3 месяца жизн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то курит 4 года, теряет 1 год жизн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то курит 20 лет, 5 ле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то курит 40 лет, теряет 10 лет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икотин убива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,00001 гр. – воробь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,004  – 0,005 гр. -  лошад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,000001 гр. – лягуш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,01 – 0,08 гр. - 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5" name="Picture 4" descr="325784_3"/>
          <p:cNvPicPr/>
          <p:nvPr/>
        </p:nvPicPr>
        <p:blipFill>
          <a:blip r:embed="rId1"/>
          <a:stretch/>
        </p:blipFill>
        <p:spPr>
          <a:xfrm>
            <a:off x="5796000" y="3789360"/>
            <a:ext cx="3132000" cy="27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Object 5"/>
          <p:cNvGraphicFramePr/>
          <p:nvPr/>
        </p:nvGraphicFramePr>
        <p:xfrm>
          <a:off x="250920" y="3789360"/>
          <a:ext cx="2232000" cy="266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3789360"/>
                    <a:ext cx="223200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8" name="Picture 4" descr="nikotin600"/>
          <p:cNvPicPr/>
          <p:nvPr/>
        </p:nvPicPr>
        <p:blipFill>
          <a:blip r:embed="rId4"/>
          <a:stretch/>
        </p:blipFill>
        <p:spPr>
          <a:xfrm>
            <a:off x="6227640" y="981000"/>
            <a:ext cx="2700360" cy="225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77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770" fill="hold"/>
                                        <p:tgtEl>
                                          <p:spTgt spid="4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1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4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Comic Sans MS"/>
              </a:rPr>
              <a:t>Игроман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громания - это вредная привычка начинается безобидно - игровые автоматы, компьютерные игры, карты, рулетка. А может закончиться разрушением психики, преступлением, даже самоубийством. Игромания не щадит ни детей, ни взрослых. Даже благоразумные старушки становятся игроманками и заканчивают свою жизнь в голоде и нище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32763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77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77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9" dur="77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Содержимое 3" descr="13_защита от угрозы.JPG"/>
          <p:cNvPicPr/>
          <p:nvPr/>
        </p:nvPicPr>
        <p:blipFill>
          <a:blip r:embed="rId1"/>
          <a:stretch/>
        </p:blipFill>
        <p:spPr>
          <a:xfrm>
            <a:off x="468360" y="981000"/>
            <a:ext cx="8375760" cy="55692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Защита от угроз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77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770" fill="hold"/>
                                        <p:tgtEl>
                                          <p:spTgt spid="4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6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417080" cy="1484280"/>
          </a:xfrm>
          <a:prstGeom prst="rect">
            <a:avLst/>
          </a:prstGeom>
          <a:solidFill>
            <a:srgbClr val="dbbd71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Чтобы не стать рабом вредных привычек, нужно выполнять три правила:</a:t>
            </a:r>
            <a:br>
              <a:rPr sz="40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скучать, найти себе занятие по душ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знавать мир и интересных люд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и в коем случае не пробовать спиртное и наркоти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у, а если вы все же попали в плен какой-то вредной привычке, старайтесь избавиться от нее изо всех сил. И если вам это удастся, вы - настоящий герой. Как сказал древний китайский мудрец Лао-То: «Тот, кто может победить другого, - силен, тот, кто побеждает самого себя, - воистину могуществен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Содержимое 3" descr="12_мотивы.JPG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7578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Мотив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77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5" dur="770" fill="hold"/>
                                        <p:tgtEl>
                                          <p:spTgt spid="4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7" dur="77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9" dur="77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Содержимое 3" descr="4_ЗОЖ.JPG"/>
          <p:cNvPicPr/>
          <p:nvPr/>
        </p:nvPicPr>
        <p:blipFill>
          <a:blip r:embed="rId1"/>
          <a:stretch/>
        </p:blipFill>
        <p:spPr>
          <a:xfrm>
            <a:off x="250920" y="861840"/>
            <a:ext cx="8642160" cy="577692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Полезные привыч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77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8" dur="770" fill="hold"/>
                                        <p:tgtEl>
                                          <p:spTgt spid="4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0" dur="77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2" dur="77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151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АНКЕТА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214560" y="285840"/>
            <a:ext cx="4857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потребляете ли вы алкоголь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да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б) нет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. С какой целью вы употребляете спиртные напитки?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возможны несколько вариантов ответов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чтобы снять напряжение (стресс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чтобы повысить своё настроение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) чтобы поддержать компанию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г) ваш вариант ответа __________________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. Как часто Вы употребляете спиртные напитки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ежедневно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не более трех раз в неделю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) не более двух раз в месяц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г) другое ____________________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. Пробовали ли вы когда-нибудь  курить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да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н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5. Курите ли Вы сейчас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да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нет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6. Количество выкуриваемых Вами сигарет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1-10 сигарет в день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10-20 сигарет в день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) более пачки в день</a:t>
            </a:r>
            <a:br>
              <a:rPr sz="28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643280" y="499680"/>
            <a:ext cx="45007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. Вследствие чего Вы начали курить?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(возможны несколько вариантов ответов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желание повзрослеть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влияние компании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) хотел попробовать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г) свой ответ ____________________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. С какого возраста Вы начали курить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с 8-12 лет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с 12-16 лет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) с 16 –18 л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9. Употребляли ли Вы когда-нибудь пусть даже слабый наркотик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да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н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0. Если да, то с какой целью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желание новых ощущений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под воздействием других людей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)ваш вариант ответа _____________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1. Сколько времени в день вы можете провести за компьютерными играми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1-2 часа      б) 2-3 часа    в) 3 и боле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2. Ваш пол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  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мужской       б) жен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Спасибо за сотрудничество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 Sans MS"/>
              </a:rPr>
              <a:t>Эпиграф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- «Если мы не победим вредные привычки, то они победят нас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ahoma"/>
              </a:rPr>
              <a:t>«Слабость характера – это единственный недостаток, который невозможно исправить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ahoma"/>
              </a:rPr>
              <a:t>«Попасть в рабскую зависимость, пройти все круги ада и умереть в расцвете лет дряхлым стариком –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600" spc="-1" strike="noStrike">
                <a:solidFill>
                  <a:srgbClr val="ffffff"/>
                </a:solidFill>
                <a:latin typeface="Tahoma"/>
              </a:rPr>
              <a:t>вот цена излишнего любопытства и ложной романтики…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WordArt 4"/>
          <p:cNvSpPr txBox="1"/>
          <p:nvPr/>
        </p:nvSpPr>
        <p:spPr>
          <a:xfrm>
            <a:off x="395280" y="1197000"/>
            <a:ext cx="835344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59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Comic Sans MS"/>
              </a:rPr>
              <a:t>Интернет-ресурсы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Comic Sans MS"/>
              </a:rPr>
              <a:t>направленные на борьбу 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Comic Sans MS"/>
              </a:rPr>
              <a:t>с вредными привычками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www.fskn.ru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официальный интернет-сайт ФСКН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narkotiki.ru/ - проект «Нет наркотикам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beztabaka.ru/ - проект «У нас не курят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ne-kurim.ru/ - сайт по борьбе с курени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trezvpol.ru/ - «Трезвая политик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alcoholizm.ru/ - профилактика алкоголи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http://co1456.mosuzedu.ru/ - сайт Центра образования №145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ладка «Полезные ссылки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Городские служб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tretch/>
        </p:blipFill>
        <p:spPr>
          <a:xfrm>
            <a:off x="357120" y="4643280"/>
            <a:ext cx="8388360" cy="1924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Comic Sans MS"/>
              </a:rPr>
              <a:t>Интернет-ресурсы</a:t>
            </a:r>
            <a:br>
              <a:rPr sz="4000"/>
            </a:br>
            <a:r>
              <a:rPr b="1" lang="ru-RU" sz="3200" spc="-1" strike="noStrike">
                <a:solidFill>
                  <a:srgbClr val="ffcc00"/>
                </a:solidFill>
                <a:latin typeface="Comic Sans MS"/>
              </a:rPr>
              <a:t>Куда можно обратиться?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7" name="Line 4"/>
          <p:cNvSpPr/>
          <p:nvPr/>
        </p:nvSpPr>
        <p:spPr>
          <a:xfrm>
            <a:off x="6443640" y="299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Line 5"/>
          <p:cNvSpPr/>
          <p:nvPr/>
        </p:nvSpPr>
        <p:spPr>
          <a:xfrm>
            <a:off x="6443640" y="242100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3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87280" y="476280"/>
            <a:ext cx="7058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ffcc00"/>
                </a:solidFill>
                <a:latin typeface="Comic Sans MS"/>
              </a:rPr>
              <a:t>Привычки: полезные и вредные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14200" y="1857240"/>
            <a:ext cx="867888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ривычки, способствующие сохранению здоровья, считаются полезным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апример: чистить зубы, питаться в одно и тоже время, спать при открытой форточк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ривычки, наносящие вред здоровью, называются вредным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Например: есть  много сладостей, долго сидеть у телевизора, читать лежа, разговаривать во  время е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Наиболее опасное влияние на здоровье оказывает употребление алкоголя, наркотиков, табак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29242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Comic Sans MS"/>
              </a:rPr>
              <a:t>Как привычки влияют на здоровье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редными эти привычки называю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тому, что от них бывает трудно отказать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 как они постепенно становятся необходимыми человеку. От таких привычек трудно  избавиться самому. Человек вынужден обращаться за помощью к психологу или врач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связано с тем, что попадая в организм, они становятся неотъемлемой частью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обменных процесс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и он начинает требовать тех компонентов, которые вредны для здоров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3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omic Sans MS"/>
              </a:rPr>
              <a:t>А вот и портреты чудовищ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3933360"/>
            <a:ext cx="5796000" cy="23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аркомания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лкого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1055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Игром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619280" y="1267920"/>
            <a:ext cx="6012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Токсикомания 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Кур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2736720" cy="2160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2855880" cy="2143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"/>
          <p:cNvPicPr/>
          <p:nvPr/>
        </p:nvPicPr>
        <p:blipFill>
          <a:blip r:embed="rId3"/>
          <a:stretch/>
        </p:blipFill>
        <p:spPr>
          <a:xfrm>
            <a:off x="179280" y="4437000"/>
            <a:ext cx="2857680" cy="2239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"/>
          <p:cNvPicPr/>
          <p:nvPr/>
        </p:nvPicPr>
        <p:blipFill>
          <a:blip r:embed="rId4"/>
          <a:stretch/>
        </p:blipFill>
        <p:spPr>
          <a:xfrm>
            <a:off x="3357720" y="4357800"/>
            <a:ext cx="2428560" cy="2595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"/>
          <p:cNvPicPr/>
          <p:nvPr/>
        </p:nvPicPr>
        <p:blipFill>
          <a:blip r:embed="rId5"/>
          <a:stretch/>
        </p:blipFill>
        <p:spPr>
          <a:xfrm>
            <a:off x="6000840" y="4429080"/>
            <a:ext cx="3381120" cy="2214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-360" y="3284640"/>
            <a:ext cx="788508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Алкоголь называют “похитителем рассудка”. Слово “алкоголь” означает “одурманивающий”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Алкоголь – это внутриклеточный яд, который разрушает жизненно важные органы человека – печень, сердце, мозг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0" y="1341360"/>
            <a:ext cx="56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 Sans MS"/>
              </a:rPr>
              <a:t>Алкоголизм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5" name="Picture 10" descr=""/>
          <p:cNvPicPr/>
          <p:nvPr/>
        </p:nvPicPr>
        <p:blipFill>
          <a:blip r:embed="rId1"/>
          <a:stretch/>
        </p:blipFill>
        <p:spPr>
          <a:xfrm>
            <a:off x="5364000" y="260280"/>
            <a:ext cx="3419640" cy="2700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4"/>
          <p:cNvPicPr/>
          <p:nvPr/>
        </p:nvPicPr>
        <p:blipFill>
          <a:blip r:embed="rId2"/>
          <a:stretch/>
        </p:blipFill>
        <p:spPr>
          <a:xfrm>
            <a:off x="7116840" y="0"/>
            <a:ext cx="202716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04:51:51Z</dcterms:created>
  <dc:creator>Uchitel</dc:creator>
  <dc:description/>
  <dc:language>en-US</dc:language>
  <cp:lastModifiedBy>КарМаН</cp:lastModifiedBy>
  <dcterms:modified xsi:type="dcterms:W3CDTF">2012-06-19T11:09:45Z</dcterms:modified>
  <cp:revision>154</cp:revision>
  <dc:subject/>
  <dc:title>Слайд 1</dc:title>
</cp:coreProperties>
</file>