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412A-33D7-4CD5-9735-AE9DC0294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5B8-1098-4F0E-8C14-D668274650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CF0-1003-4CD3-9AA5-66199F53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E5D-781A-4C48-9242-243E1F8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7B4-BD37-43B4-8E7F-283A92E5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572-1B75-4B86-B21B-0458AE7F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9B8-AE67-4307-829E-F2ADC00E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A75D-F0C2-459A-832F-01CF32E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AE3-F5EF-4970-975B-5E2C6E8F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1F83-A9C8-4574-87C9-748DB32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8EC7-0C8E-4E16-BE6A-2DCD991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8930-718A-487D-8399-DC96689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30C-E082-477F-8175-E2B942F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7DE-D762-4A10-903A-64304D61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5C6-AF79-49CF-9898-6B07ADA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606-7A5F-4306-916D-BA24FF0F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3E5-5823-4642-8BC0-C1DE6033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A41D-9876-494D-B58C-7B26EBE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7FC6-5C89-42AF-AC69-2FD1640F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88EC-185B-4F75-BF8F-3BB29AA1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94EE-33D6-486B-BC66-89D3FE3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7E7A-88E1-4F31-9DD4-15A6AD8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F825-0787-480F-9911-4151972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B3F1-B0E7-491B-A30A-864F7BF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3D6-644E-4A49-B029-4F9C920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7746-A423-4F08-8423-991E551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76AE-F134-4BB5-AE30-E3314CE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FB42-5133-48F9-8183-0A86189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E99E-B978-4FCF-B9EA-0822DF5A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57D8-C351-4EE5-88E6-3F597092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CB94-E4FE-4186-B0FA-568AEB4D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C263-2AB3-44F4-B189-9BCAF811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141D-ECF6-4AA9-A41C-242592E5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72B4-4ACC-46FA-B6E3-80350B89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2FD3-4FC3-4F0F-BA4E-8483388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D45-D3A1-4EE2-B6D7-AABA878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A82A-2CFA-4816-9832-7DFD4DC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1CEC-4973-4425-BFDF-B616D532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0128-451B-4738-83FD-D9BB131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7CE4-776B-430D-B457-4DD5511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5BAA-4C1E-4E0B-A374-FBA07BB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E582-2C20-4BF4-9CA1-CF848D7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DFE4-D280-4C92-B8E8-51158706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5558-509D-4D67-A7F1-2D31FCC1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9641-3431-478F-BD89-47D28FAD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7D1-7529-4BF8-8FAE-A7C794A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04-A759-4316-BBA7-FA5E097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E1C-4033-4231-BE80-38669F7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809-330B-4ABA-B002-C7EB0AD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02F-BDF3-443C-9F46-4748C6F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8DC-8010-4EF9-8B61-3E15EE504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10F1-77C3-4A25-B434-C5ABA7BED0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515-58E4-4C76-B8CC-354772E023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56B-C4E7-4C31-8597-3E164CAF0E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6"/>
          <p:cNvSpPr txBox="1"/>
          <p:nvPr/>
        </p:nvSpPr>
        <p:spPr>
          <a:xfrm>
            <a:off x="285840" y="428760"/>
            <a:ext cx="857232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езный разговор о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едных привычках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6880" y="4540320"/>
            <a:ext cx="82821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Если мы не победим вредные привычки, то они победят нас» (Эриан Шульц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втор: социальный педагог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БОУ ЦО №145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улешова Екатерина Валер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5219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7812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коголь действует на клетки головного мозга, человек становится злым, агрессивным, теряет над собой контроль, становится психически неуравновешен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0% всех преступлений совершаются в состоянии опьян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5483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53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ьяница в семье – это горе, особенно детям. Дети алкоголиков в 4 раза чаще других людей заболевают алкоголизмом и наркомани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коголь особенно вреден для растущего организма и “взрослые” дозы для детей могут стать смертельными или привести к инвалидности при поражении головного мозг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Picture 7" descr="действие алкоголя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324000" y="291960"/>
            <a:ext cx="8424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наромания"/>
          <p:cNvPicPr/>
          <p:nvPr/>
        </p:nvPicPr>
        <p:blipFill>
          <a:blip r:embed="rId1"/>
          <a:stretch/>
        </p:blipFill>
        <p:spPr>
          <a:xfrm>
            <a:off x="250920" y="2421000"/>
            <a:ext cx="2884320" cy="27129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9"/>
          <p:cNvSpPr/>
          <p:nvPr/>
        </p:nvSpPr>
        <p:spPr>
          <a:xfrm>
            <a:off x="1619280" y="333360"/>
            <a:ext cx="60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аркома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10" descr="4"/>
          <p:cNvPicPr/>
          <p:nvPr/>
        </p:nvPicPr>
        <p:blipFill>
          <a:blip r:embed="rId2"/>
          <a:stretch/>
        </p:blipFill>
        <p:spPr>
          <a:xfrm>
            <a:off x="6804000" y="0"/>
            <a:ext cx="2027160" cy="1728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0"/>
          <p:cNvSpPr/>
          <p:nvPr/>
        </p:nvSpPr>
        <p:spPr>
          <a:xfrm>
            <a:off x="3203640" y="1413000"/>
            <a:ext cx="59403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- отрава еще более серьезная, она рассчитана на простаков, которые, привыкнув к ним, не смогут без них  жить и станут платить большие деньги, чтобы поскорее умерет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тики нюхают, курят, вкалывают, принимают в виде таблеток. Они моментально попадают в кровь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Наркомания действует своими ядами сильно и быстро -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буквально с первого раза человек может стать наркоманом!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У человека появляются галлюцинации, кошмары.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480" y="-360"/>
            <a:ext cx="8607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становятся угрюмыми, злыми, так как все время думают о том, где достать очередную порцию наркотика. Наркоман ради наркотиков готов пойти на любое пре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маны – плохие работники, их трудоспособность низкая, они приносят семье большой материальный ущерб, являются причиной несчастных случа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наркоманов три пути: тюрьма, психбольница, смер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ркотики убивают ум, здоровье, силы человека. Наркоманы распространяют чаще других СПИ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4848120"/>
            <a:ext cx="3600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ffcc00"/>
                </a:solidFill>
                <a:latin typeface="Times New Roman"/>
              </a:rPr>
              <a:t>Фотографии людей до и после того как они начали принимать наркотики</a:t>
            </a:r>
            <a:endParaRPr b="0" lang="en-US" sz="3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newface1"/>
          <p:cNvPicPr/>
          <p:nvPr/>
        </p:nvPicPr>
        <p:blipFill>
          <a:blip r:embed="rId1"/>
          <a:stretch/>
        </p:blipFill>
        <p:spPr>
          <a:xfrm>
            <a:off x="2916360" y="2835360"/>
            <a:ext cx="3073320" cy="2305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93" name="Picture 5" descr="faces1"/>
          <p:cNvPicPr/>
          <p:nvPr/>
        </p:nvPicPr>
        <p:blipFill>
          <a:blip r:embed="rId2"/>
          <a:stretch/>
        </p:blipFill>
        <p:spPr>
          <a:xfrm>
            <a:off x="46836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94" name="Picture 6" descr="faces6"/>
          <p:cNvPicPr/>
          <p:nvPr/>
        </p:nvPicPr>
        <p:blipFill>
          <a:blip r:embed="rId3"/>
          <a:stretch/>
        </p:blipFill>
        <p:spPr>
          <a:xfrm>
            <a:off x="250920" y="1773360"/>
            <a:ext cx="2879640" cy="18144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5" name="Picture 7" descr="faces5"/>
          <p:cNvPicPr/>
          <p:nvPr/>
        </p:nvPicPr>
        <p:blipFill>
          <a:blip r:embed="rId4"/>
          <a:stretch/>
        </p:blipFill>
        <p:spPr>
          <a:xfrm>
            <a:off x="5651640" y="4581360"/>
            <a:ext cx="2952720" cy="1860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396" name="Picture 8" descr="faces8"/>
          <p:cNvPicPr/>
          <p:nvPr/>
        </p:nvPicPr>
        <p:blipFill>
          <a:blip r:embed="rId5"/>
          <a:stretch/>
        </p:blipFill>
        <p:spPr>
          <a:xfrm>
            <a:off x="5867280" y="1628640"/>
            <a:ext cx="2880000" cy="181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568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68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281800" cy="39607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Это не просто вредные, но и очень опасные привычки. «Мания» - это психическая болезнь, когда человек постоянно думает о чем-то од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оксикоман постоянно думает о яде. «Токсикомания» с латыни так и переводится как «мания к яду» (токсин -значит яд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4"/>
          <p:cNvPicPr/>
          <p:nvPr/>
        </p:nvPicPr>
        <p:blipFill>
          <a:blip r:embed="rId2"/>
          <a:stretch/>
        </p:blipFill>
        <p:spPr>
          <a:xfrm>
            <a:off x="1835280" y="83664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Токсикомания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Эти яды попадают в организм человека при вдыхании ядовитых паров и вызывают сильные отр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чень быстро появляется привыка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419256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Табакокурение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урение - это зависимость от наркотика, имя которому никотин. По своей ядовитости никотин равен синильной кислоте – смертельному я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ченые подсчитали, что курильщик сокращает свою жизнь на 6 лет. Все органы человеческого тела страдают от таб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аже внешне курильщики отличаются от некурящих: у них быстрее вянет кожа, сипнет голос, желтеют зуб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{60948C64-3001-4DCF-9C4C-9B1925FD6C4A}"/>
          <p:cNvPicPr/>
          <p:nvPr/>
        </p:nvPicPr>
        <p:blipFill>
          <a:blip r:embed="rId1"/>
          <a:stretch/>
        </p:blipFill>
        <p:spPr>
          <a:xfrm>
            <a:off x="0" y="1754280"/>
            <a:ext cx="5292720" cy="397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При пассивном курении некурящий человек страдает больш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055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5960" y="428760"/>
            <a:ext cx="678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Цель</a:t>
            </a:r>
            <a:r>
              <a:rPr b="1" lang="ru-RU" sz="3600" spc="-1" strike="noStrike" u="sng">
                <a:solidFill>
                  <a:srgbClr val="ffcc00"/>
                </a:solidFill>
                <a:uFillTx/>
                <a:latin typeface="Comic Sans MS"/>
              </a:rPr>
              <a:t>: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Ознакомить с интернет-ресурсами,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вязанными с профилактикой вредных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ек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- Дать представление о вредных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вычках и их влиянии на здоровье,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витие  личности и поведени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челове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1"/>
          <a:stretch/>
        </p:blipFill>
        <p:spPr>
          <a:xfrm>
            <a:off x="214200" y="3714840"/>
            <a:ext cx="201636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Курение</a:t>
            </a:r>
            <a:br>
              <a:rPr sz="36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dbbd71"/>
                </a:solidFill>
                <a:latin typeface="Arial"/>
              </a:rPr>
              <a:t>В табаке содержится 1200 ядовитых веществ: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11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227640" y="1413000"/>
            <a:ext cx="2340000" cy="1855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413" name="Picture 3" descr="i[16]"/>
          <p:cNvPicPr/>
          <p:nvPr/>
        </p:nvPicPr>
        <p:blipFill>
          <a:blip r:embed="rId2"/>
          <a:stretch/>
        </p:blipFill>
        <p:spPr>
          <a:xfrm>
            <a:off x="6300720" y="4076640"/>
            <a:ext cx="2521080" cy="19972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Это надо знать!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14200" y="-143280"/>
            <a:ext cx="612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post-19-1143712483[1]"/>
          <p:cNvPicPr/>
          <p:nvPr/>
        </p:nvPicPr>
        <p:blipFill>
          <a:blip r:embed="rId1"/>
          <a:stretch/>
        </p:blipFill>
        <p:spPr>
          <a:xfrm>
            <a:off x="826920" y="2276640"/>
            <a:ext cx="7488360" cy="42638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02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О вреде кур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По мнению медиков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игарета сокращает жизнь – на 15 мину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пачка сигарет - на 5 ча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т, кто курит 1 год, теряет 3 месяца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 года, теряет 1 год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20 лет, 5 л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то курит 40 лет, теряет 10 лет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котин убив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1 гр. – вороб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4  – 0,005 гр. -  лоша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00001 гр. – лягуш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,01 – 0,08 гр. -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4" descr="325784_3"/>
          <p:cNvPicPr/>
          <p:nvPr/>
        </p:nvPicPr>
        <p:blipFill>
          <a:blip r:embed="rId1"/>
          <a:stretch/>
        </p:blipFill>
        <p:spPr>
          <a:xfrm>
            <a:off x="5796000" y="3789360"/>
            <a:ext cx="3132000" cy="27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5"/>
          <p:cNvGraphicFramePr/>
          <p:nvPr/>
        </p:nvGraphicFramePr>
        <p:xfrm>
          <a:off x="250920" y="3789360"/>
          <a:ext cx="223200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789360"/>
                    <a:ext cx="2232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Picture 4" descr="nikotin600"/>
          <p:cNvPicPr/>
          <p:nvPr/>
        </p:nvPicPr>
        <p:blipFill>
          <a:blip r:embed="rId4"/>
          <a:stretch/>
        </p:blipFill>
        <p:spPr>
          <a:xfrm>
            <a:off x="6227640" y="981000"/>
            <a:ext cx="2700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Comic Sans MS"/>
              </a:rPr>
              <a:t>Игром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громания - это вредная привычка начинается безобидно - игровые автоматы, компьютерные игры, карты, рулетка. А 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276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468360" y="981000"/>
            <a:ext cx="8375760" cy="55692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Защита от угроз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dbbd71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57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Мотив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4_ЗОЖ.JPG"/>
          <p:cNvPicPr/>
          <p:nvPr/>
        </p:nvPicPr>
        <p:blipFill>
          <a:blip r:embed="rId1"/>
          <a:stretch/>
        </p:blipFill>
        <p:spPr>
          <a:xfrm>
            <a:off x="250920" y="861840"/>
            <a:ext cx="8642160" cy="57769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Полезные привыч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АНКЕТ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214560" y="285840"/>
            <a:ext cx="4857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потребляете ли вы алкогол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. С какой целью вы употребляете спиртные напитки?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чтобы снять напряжение (стресс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чтобы повысить своё настроение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чтобы поддержать компани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ваш вариант ответа 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. Как часто Вы употребляете спиртные напитки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ежедневно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 более трех раз в неделю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не более двух раз в меся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другое ___________________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. Пробовали ли вы когда-нибудь  курить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. Курите ли Вы сейчас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. Количество выкуриваемых Вами сигарет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1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10-20 сигарет в ден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более пачки в день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43280" y="499680"/>
            <a:ext cx="4500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. Вследствие чего Вы начали курить?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возможны несколько вариантов ответов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повзросле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влияние компании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хотел попробовать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свой ответ 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. С какого возраста Вы начали курить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с 8-12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с 12-16 ле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с 16 –18 л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. Употребляли ли Вы когда-нибудь пусть даже слабый наркотик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д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. Если да, то с какой целью?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желание новых ощущени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под воздействием других люд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ваш вариант ответа 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1. Сколько времени в день вы можете провести за компьютерными играм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1-2 часа      б) 2-3 часа    в) 3 и боле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. Ваш пол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мужской       б) же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пасибо за сотрудничество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Эпиграф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- «Если мы не победим вредные привычки, то они победят нас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Слабость характера – это единственный недостаток, который невозможно исправить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«Попасть в рабскую зависимость, пройти все круги ада и умереть в расцвете лет дряхлым стариком –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Tahoma"/>
              </a:rPr>
              <a:t>вот цена излишнего любопытства и ложной романтики…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395280" y="1197000"/>
            <a:ext cx="8353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59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направленные на борьбу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с вредными привычкам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www.fskn.r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официальный интернет-сайт ФСКН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narkotiki.ru/ - проект «Нет наркотика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eztabaka.ru/ - проект «У нас не кур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ne-kurim.ru/ - сайт по борьбе с кур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trezvpol.ru/ - «Трезвая полити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lcoholizm.ru/ - профилактика алкого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ttp://co1456.mosuzedu.ru/ - сайт Центра образования №14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адка «Полезные ссылк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ские служб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357120" y="4643280"/>
            <a:ext cx="8388360" cy="1924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Интернет-ресурсы</a:t>
            </a:r>
            <a:br>
              <a:rPr sz="4000"/>
            </a:b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уда можно обратиться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644364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6443640" y="24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05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Привычки: полезные и вредны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67888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способствующие сохранению здоровья, считаются полезны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пример: чистить зубы, питаться в одно и тоже время, спать при открытой форточ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ивычки, наносящие вред здоровью, называются вредны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Например: есть  много сладостей, долго сидеть у телевизора, читать лежа, разговаривать во  время 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аиболее опасное влияние на здоровье оказывает употребление алкоголя, наркотиков, табак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924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Comic Sans MS"/>
              </a:rPr>
              <a:t>Как привычки влияют на здоровь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дными эти привычки называю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у, что от них бывает трудно отказа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они постепенно становятся необходимыми человеку. От таких привычек трудно  избавиться самому. Человек вынужден обращаться за помощью к психологу или врач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вязано с тем, что попадая в организм, они становятся неотъемлемой частью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менных процес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 он начинает требовать тех компонентов, которые вредны для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Comic Sans MS"/>
              </a:rPr>
              <a:t>А вот и портреты чудовищ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3933360"/>
            <a:ext cx="57960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комания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лког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60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2736720" cy="216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857680" cy="2239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3357720" y="4357800"/>
            <a:ext cx="2428560" cy="2595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6000840" y="4429080"/>
            <a:ext cx="338112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331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78850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называют “похитителем рассудка”. Слово “алкоголь” означает “одурманивающий”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лкоголь – это внутриклеточный яд, который разрушает жизненно важные органы человека – печень, сердце, мозг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13413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Алкоголиз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10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19640" cy="27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4"/>
          <p:cNvPicPr/>
          <p:nvPr/>
        </p:nvPicPr>
        <p:blipFill>
          <a:blip r:embed="rId2"/>
          <a:stretch/>
        </p:blipFill>
        <p:spPr>
          <a:xfrm>
            <a:off x="7116840" y="0"/>
            <a:ext cx="20271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4:51:51Z</dcterms:created>
  <dc:creator>Uchitel</dc:creator>
  <dc:description/>
  <dc:language>en-US</dc:language>
  <cp:lastModifiedBy>КарМаН</cp:lastModifiedBy>
  <dcterms:modified xsi:type="dcterms:W3CDTF">2012-06-19T11:09:45Z</dcterms:modified>
  <cp:revision>154</cp:revision>
  <dc:subject/>
  <dc:title>Слайд 1</dc:title>
</cp:coreProperties>
</file>