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42C-DED1-46DE-9F04-B55412B62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9AB6-9055-4E7D-8B69-C390E0A796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2E9-1F16-4073-B63F-A5595AA3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272-8A8A-4E57-BFB2-21700F2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51B-D868-496D-B7A9-6E2B1122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E6B-B8CE-4F2E-AA19-833CDA8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F27-BCB2-41A6-9888-8782EC2F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80C-41FA-4509-8155-01AEF44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2F7-9A94-4ECC-8D2F-655E5369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02B8-697C-416F-82EE-2C24E71C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907-E049-4505-B3A0-F87CB3C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82CE-54B5-49BE-A0EC-22B58B17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69EF-F023-4F8E-8267-F09B829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BBB-5E5B-4D0F-9A6F-8356D22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216-0523-4454-A07D-FD2B60F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E00-03B8-41E0-B891-6088267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6249-3805-4E9C-98BE-B083F90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0535-497E-4306-BA62-7EC13A43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3A5D-4CA6-4A20-91B0-D7B9B3F3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6107-908F-4042-8D8B-75C0B894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0805-517B-45AD-A594-64574542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91A4-2D6E-424C-8C3E-29158B8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7494-939E-4A1D-84F9-C7330B3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7D82-06B9-4611-907F-CDCBC3F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D29-9875-4BD5-88AD-67878EBC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7889-F4BB-4CF8-B636-23ECB495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8BF8-131B-47A0-9DCC-AC8AD2E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9CA6-9AEA-4E3D-BD9F-FF4853E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1798-0DA0-4D5A-939A-5EA8F72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B11E-8202-42AC-874F-8132279C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1D4D-679F-44DF-8E0D-274038EC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19F1-2C3B-4287-BEA3-37D4BC3E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4146-E60D-4216-A6F3-5B1F769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1D7C-7F37-4830-8F4A-F1ACFBE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3F1A-E089-4001-B0C4-8CBDEBF8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1F1-CCD9-4331-8CAF-A93A37DF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55E8-982C-41E8-915C-50BE5A6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FB6A-7263-46AE-8832-1349FD75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FF01-A0DB-4ED2-9137-20F2398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4E44-1A13-496D-A7A3-D31D55F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3B17-CD10-4FF1-8AEA-7843C580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9B9A-D6BF-4B0E-B939-C9469A2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7C70-C665-4385-B618-54748B0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8AD2-A5B5-477F-A143-58636210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B977-5DDF-474A-B190-552530BF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E3A-45BE-4F56-A882-FCE52264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3A3-6DD9-4D4D-857B-686B401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64B-7038-4133-875D-E2544EA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538-4A31-40AE-81FF-890B18C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454-1189-441D-8AB7-0127B3C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8DA-58A4-4413-93A7-4F723351A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7BA2-C89C-4F07-96D7-531060298C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2795-CAC0-402C-8E5D-E4FA01CAF1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4C7-EDCD-4594-9C8D-4752037AE9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6"/>
          <p:cNvSpPr txBox="1"/>
          <p:nvPr/>
        </p:nvSpPr>
        <p:spPr>
          <a:xfrm>
            <a:off x="285840" y="428760"/>
            <a:ext cx="857232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езный разговор о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едных привычках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6880" y="4540320"/>
            <a:ext cx="82821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Если мы не победим вредные привычки, то они победят нас» (Эриан Шульц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втор: социальный педагог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БОУ ЦО №145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улешова Екатерина Валер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5219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7812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коголь действует на клетки головного мозга, человек становится злым, агрессивным, теряет над собой контроль, становится психически неуравновешен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0% всех преступлений совершаются в состоянии опьян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5483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53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ьяница в семье – это горе, особенно детям. Дети алкоголиков в 4 раза чаще других людей заболевают алкоголизмом и наркомани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 особенно вреден для растущего организма и “взрослые” дозы для детей могут стать смертельными или привести к инвалидности при поражении головного мозг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Picture 7" descr="действие алкоголя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324000" y="291960"/>
            <a:ext cx="8424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наромания"/>
          <p:cNvPicPr/>
          <p:nvPr/>
        </p:nvPicPr>
        <p:blipFill>
          <a:blip r:embed="rId1"/>
          <a:stretch/>
        </p:blipFill>
        <p:spPr>
          <a:xfrm>
            <a:off x="250920" y="2421000"/>
            <a:ext cx="2884320" cy="27129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9"/>
          <p:cNvSpPr/>
          <p:nvPr/>
        </p:nvSpPr>
        <p:spPr>
          <a:xfrm>
            <a:off x="1619280" y="333360"/>
            <a:ext cx="60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аркома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10" descr="4"/>
          <p:cNvPicPr/>
          <p:nvPr/>
        </p:nvPicPr>
        <p:blipFill>
          <a:blip r:embed="rId2"/>
          <a:stretch/>
        </p:blipFill>
        <p:spPr>
          <a:xfrm>
            <a:off x="6804000" y="0"/>
            <a:ext cx="2027160" cy="1728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0"/>
          <p:cNvSpPr/>
          <p:nvPr/>
        </p:nvSpPr>
        <p:spPr>
          <a:xfrm>
            <a:off x="3203640" y="1413000"/>
            <a:ext cx="59403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- отрава еще более серьезная, она рассчитана на простаков, которые, привыкнув к ним, не смогут без них  жить и станут платить большие деньги, чтобы поскорее умерет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нюхают, курят, вкалывают, принимают в виде таблеток. Они моментально попадают в кров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мания действует своими ядами сильно и быстро -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буквально с первого раза человек может стать наркоманом!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У человека появляются галлюцинации, кошмары.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480" y="-360"/>
            <a:ext cx="8607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становятся угрюмыми, злыми, так как все время думают о том, где достать очередную порцию наркотика. Наркоман ради наркотиков готов пойти на любое пре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– плохие работники, их трудоспособность низкая, они приносят семье большой материальный ущерб, являются причиной несчастных случа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наркоманов три пути: тюрьма, психбольница, смер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тики убивают ум, здоровье, силы человека. Наркоманы распространяют чаще других СПИ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4848120"/>
            <a:ext cx="3600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cc00"/>
                </a:solidFill>
                <a:latin typeface="Times New Roman"/>
              </a:rPr>
              <a:t>Фотографии людей до и после того как они начали принимать наркотики</a:t>
            </a:r>
            <a:endParaRPr b="0" lang="en-US" sz="3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newface1"/>
          <p:cNvPicPr/>
          <p:nvPr/>
        </p:nvPicPr>
        <p:blipFill>
          <a:blip r:embed="rId1"/>
          <a:stretch/>
        </p:blipFill>
        <p:spPr>
          <a:xfrm>
            <a:off x="2916360" y="2835360"/>
            <a:ext cx="3073320" cy="2305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93" name="Picture 5" descr="faces1"/>
          <p:cNvPicPr/>
          <p:nvPr/>
        </p:nvPicPr>
        <p:blipFill>
          <a:blip r:embed="rId2"/>
          <a:stretch/>
        </p:blipFill>
        <p:spPr>
          <a:xfrm>
            <a:off x="46836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94" name="Picture 6" descr="faces6"/>
          <p:cNvPicPr/>
          <p:nvPr/>
        </p:nvPicPr>
        <p:blipFill>
          <a:blip r:embed="rId3"/>
          <a:stretch/>
        </p:blipFill>
        <p:spPr>
          <a:xfrm>
            <a:off x="250920" y="1773360"/>
            <a:ext cx="2879640" cy="18144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5" name="Picture 7" descr="faces5"/>
          <p:cNvPicPr/>
          <p:nvPr/>
        </p:nvPicPr>
        <p:blipFill>
          <a:blip r:embed="rId4"/>
          <a:stretch/>
        </p:blipFill>
        <p:spPr>
          <a:xfrm>
            <a:off x="5651640" y="4581360"/>
            <a:ext cx="2952720" cy="1860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6" name="Picture 8" descr="faces8"/>
          <p:cNvPicPr/>
          <p:nvPr/>
        </p:nvPicPr>
        <p:blipFill>
          <a:blip r:embed="rId5"/>
          <a:stretch/>
        </p:blipFill>
        <p:spPr>
          <a:xfrm>
            <a:off x="5867280" y="1628640"/>
            <a:ext cx="2880000" cy="181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568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68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281800" cy="39607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Это не просто вредные, но и очень опасные привычки. «Мания» - это психическая болезнь, когда человек постоянно думает о чем-то од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оксикоман постоянно думает о яде. «Токсикомания» с латыни так и переводится как «мания к яду» (токсин -значит яд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4"/>
          <p:cNvPicPr/>
          <p:nvPr/>
        </p:nvPicPr>
        <p:blipFill>
          <a:blip r:embed="rId2"/>
          <a:stretch/>
        </p:blipFill>
        <p:spPr>
          <a:xfrm>
            <a:off x="1835280" y="83664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Эти яды попадают в организм человека при вдыхании ядовитых паров и вызывают сильные отр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чень быстро появляется привыка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419256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Табакокурение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урение - это зависимость от наркотика, имя которому никотин. По своей ядовитости никотин равен синильной кислоте – смертельному я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ченые подсчитали, что курильщик сокращает свою жизнь на 6 лет. Все органы человеческого тела страдают от таб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аже внешне курильщики отличаются от некурящих: у них быстрее вянет кожа, сипнет голос, желтеют зуб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{60948C64-3001-4DCF-9C4C-9B1925FD6C4A}"/>
          <p:cNvPicPr/>
          <p:nvPr/>
        </p:nvPicPr>
        <p:blipFill>
          <a:blip r:embed="rId1"/>
          <a:stretch/>
        </p:blipFill>
        <p:spPr>
          <a:xfrm>
            <a:off x="0" y="1754280"/>
            <a:ext cx="5292720" cy="397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При пассивном курении некурящий человек страдает больш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055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5960" y="428760"/>
            <a:ext cx="678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Цель</a:t>
            </a:r>
            <a:r>
              <a:rPr b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: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Ознакомить с интернет-ресурсами,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вязанными с профилактикой вредных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ек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Дать представление о вредных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ках и их влиянии на здоровье,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витие  личности и поведени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челове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1"/>
          <a:stretch/>
        </p:blipFill>
        <p:spPr>
          <a:xfrm>
            <a:off x="214200" y="3714840"/>
            <a:ext cx="201636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Курение</a:t>
            </a:r>
            <a:br>
              <a:rPr sz="36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dbbd71"/>
                </a:solidFill>
                <a:latin typeface="Arial"/>
              </a:rPr>
              <a:t>В табаке содержится 1200 ядовитых веществ: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11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227640" y="1413000"/>
            <a:ext cx="2340000" cy="1855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413" name="Picture 3" descr="i[16]"/>
          <p:cNvPicPr/>
          <p:nvPr/>
        </p:nvPicPr>
        <p:blipFill>
          <a:blip r:embed="rId2"/>
          <a:stretch/>
        </p:blipFill>
        <p:spPr>
          <a:xfrm>
            <a:off x="6300720" y="4076640"/>
            <a:ext cx="2521080" cy="19972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Это надо знать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14200" y="-143280"/>
            <a:ext cx="612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post-19-1143712483[1]"/>
          <p:cNvPicPr/>
          <p:nvPr/>
        </p:nvPicPr>
        <p:blipFill>
          <a:blip r:embed="rId1"/>
          <a:stretch/>
        </p:blipFill>
        <p:spPr>
          <a:xfrm>
            <a:off x="826920" y="2276640"/>
            <a:ext cx="7488360" cy="42638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02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О вреде кур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По мнению медиков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игарета сокращает жизнь – на 15 мину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пачка сигарет - на 5 ча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т, кто курит 1 год, теряет 3 месяца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 года, теряет 1 год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20 лет, 5 л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0 лет, теряет 10 лет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котин убив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1 гр. – вороб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4  – 0,005 гр. -  лоша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01 гр. – лягуш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1 – 0,08 гр. -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4" descr="325784_3"/>
          <p:cNvPicPr/>
          <p:nvPr/>
        </p:nvPicPr>
        <p:blipFill>
          <a:blip r:embed="rId1"/>
          <a:stretch/>
        </p:blipFill>
        <p:spPr>
          <a:xfrm>
            <a:off x="5796000" y="3789360"/>
            <a:ext cx="3132000" cy="27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5"/>
          <p:cNvGraphicFramePr/>
          <p:nvPr/>
        </p:nvGraphicFramePr>
        <p:xfrm>
          <a:off x="250920" y="3789360"/>
          <a:ext cx="223200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789360"/>
                    <a:ext cx="2232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Picture 4" descr="nikotin600"/>
          <p:cNvPicPr/>
          <p:nvPr/>
        </p:nvPicPr>
        <p:blipFill>
          <a:blip r:embed="rId4"/>
          <a:stretch/>
        </p:blipFill>
        <p:spPr>
          <a:xfrm>
            <a:off x="6227640" y="981000"/>
            <a:ext cx="2700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Comic Sans MS"/>
              </a:rPr>
              <a:t>Игром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громания - это вредная привычка начинается безобидно - игровые автоматы, компьютерные игры, карты, рулетка. А 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276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468360" y="981000"/>
            <a:ext cx="8375760" cy="55692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Защита от угроз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dbbd71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57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Мотив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4_ЗОЖ.JPG"/>
          <p:cNvPicPr/>
          <p:nvPr/>
        </p:nvPicPr>
        <p:blipFill>
          <a:blip r:embed="rId1"/>
          <a:stretch/>
        </p:blipFill>
        <p:spPr>
          <a:xfrm>
            <a:off x="250920" y="861840"/>
            <a:ext cx="8642160" cy="57769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Полезные привыч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АНКЕТ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214560" y="285840"/>
            <a:ext cx="4857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потребляете ли вы алкогол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. С какой целью вы употребляете спиртные напитки?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чтобы снять напряжение (стресс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чтобы повысить своё настроение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чтобы поддержать компани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ваш вариант ответа 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. Как часто Вы употребляете спиртные напитки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ежедневно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 более трех раз в недел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не более двух раз в меся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другое __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. Пробовали ли вы когда-нибудь  курить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. Курите ли Вы сейчас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. Количество выкуриваемых Вами сигарет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1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10-2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более пачки в день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43280" y="499680"/>
            <a:ext cx="4500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. Вследствие чего Вы начали курить?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повзросле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влияние компани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хотел попробова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свой ответ 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. С какого возраста Вы начали курит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с 8-12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с 12-16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с 16 –18 л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. Употребляли ли Вы когда-нибудь пусть даже слабый наркотик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. Если да, то с какой целью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новых ощущени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под воздействием других люд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ваш вариант ответа 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1. Сколько времени в день вы можете провести за компьютерными играм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2 часа      б) 2-3 часа    в) 3 и боле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. Ваш пол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мужской       б) же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пасибо за сотрудничество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Эпиграф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- «Если мы не победим вредные привычки, то они победят нас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Слабость характера – это единственный недостаток, который невозможно исправить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Попасть в рабскую зависимость, пройти все круги ада и умереть в расцвете лет дряхлым стариком –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вот цена излишнего любопытства и ложной романтики…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395280" y="1197000"/>
            <a:ext cx="8353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59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направленные на борьбу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с вредными привычкам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www.fskn.r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официальный интернет-сайт ФСКН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narkotiki.ru/ - проект «Нет наркотика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eztabaka.ru/ - проект «У нас не ку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ne-kurim.ru/ - сайт по борьбе с кур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trezvpol.ru/ - «Трезвая полити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lcoholizm.ru/ - профилактика алкого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ttp://co1456.mosuzedu.ru/ - сайт Центра образования №14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адка «Полезные ссылк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ские служб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357120" y="4643280"/>
            <a:ext cx="8388360" cy="1924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40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уда можно обратиться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644364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6443640" y="24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05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Привычки: полезные и вредны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67888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способствующие сохранению здоровья, считаются полезны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пример: чистить зубы, питаться в одно и тоже время, спать при открытой форточ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наносящие вред здоровью, называются вредны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Например: есть  много сладостей, долго сидеть у телевизора, читать лежа, разговаривать во  время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аиболее опасное влияние на здоровье оказывает употребление алкоголя, наркотиков, табак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924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ак привычки влияют на здоровь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дными эти привычки называю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у, что от них бывает трудно отказа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они постепенно становятся необходимыми человеку. От таких привычек трудно  избавиться самому. Человек вынужден обращаться за помощью к психологу или врач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вязано с тем, что попадая в организм, они становятся неотъемлемой частью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менных процес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 он начинает требовать тех компонентов, которые вредны для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omic Sans MS"/>
              </a:rPr>
              <a:t>А вот и портреты чудовищ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3933360"/>
            <a:ext cx="57960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комания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лког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60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2736720" cy="216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857680" cy="2239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3357720" y="4357800"/>
            <a:ext cx="2428560" cy="2595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6000840" y="4429080"/>
            <a:ext cx="338112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78850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называют “похитителем рассудка”. Слово “алкоголь” означает “одурманивающий”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– это внутриклеточный яд, который разрушает жизненно важные органы человека – печень, сердце, мозг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13413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10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19640" cy="27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4"/>
          <p:cNvPicPr/>
          <p:nvPr/>
        </p:nvPicPr>
        <p:blipFill>
          <a:blip r:embed="rId2"/>
          <a:stretch/>
        </p:blipFill>
        <p:spPr>
          <a:xfrm>
            <a:off x="7116840" y="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4:51:51Z</dcterms:created>
  <dc:creator>Uchitel</dc:creator>
  <dc:description/>
  <dc:language>en-US</dc:language>
  <cp:lastModifiedBy>КарМаН</cp:lastModifiedBy>
  <dcterms:modified xsi:type="dcterms:W3CDTF">2012-06-19T11:09:45Z</dcterms:modified>
  <cp:revision>154</cp:revision>
  <dc:subject/>
  <dc:title>Слайд 1</dc:title>
</cp:coreProperties>
</file>