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ABC-A5CF-4C8D-A90E-C0278CD2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16B-D959-40F9-B3BD-0E60729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9A2-39C8-496C-B486-8B266A77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AC5-A5AE-4F5A-8F8B-6E994100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55248-A6CD-48EF-AFA0-A7BB7FF2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7D78-B154-4CA4-9631-5897030E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4E20A-1677-4324-AF0B-26ACE97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D7B5-B52A-4744-9AB6-FF658EFD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2BB9-5318-4072-B903-F9291F2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04918-2F9A-43F1-BBEA-722DA29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2FC94-9407-46F1-AC80-0BD313B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304-72E4-4FCC-AFFB-45A1A88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6AEE-9C70-4F8D-B8E8-3813310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E5693-D7C1-4DFC-91DE-DD37ED8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44567-68F6-465D-9601-1B6876D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AD0DA-63BC-4C11-B3A9-013B07FD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527DD-9EE4-4A75-9D55-61F2800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6D0-2D76-4726-98D7-9137CDD6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2B1-4376-42B6-8616-2E19F49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02F-CCF9-49B7-960B-7CE2F8D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F06-56AF-40DF-BB24-06D17AED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A91-BDE3-4B0B-8DC3-E6E855D7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4DF-40AE-4561-A025-EE6DC78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7C9-B524-4DEC-8C61-326E8F8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5C87-2E89-49E5-9602-0423485609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A34-A9B9-4581-8261-0C77B5201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ychkovaTS/student_samples/student_presentation/&#1048;&#1089;&#1089;&#1083;&#1077;&#1076;&#1086;&#1074;&#1072;&#1085;&#1080;&#1077;%201%20&#1075;&#1088;&#1091;&#1087;&#1087;&#1099;.ppt" TargetMode="External"/><Relationship Id="rId2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3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4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5" Type="http://schemas.openxmlformats.org/officeDocument/2006/relationships/hyperlink" Target="file:///BychkovaTS/student_samples/student_presentation/&#1048;&#1089;&#1089;&#1083;&#1077;&#1076;&#1086;&#1074;&#1072;&#1085;&#1080;&#1077;%203%20&#1075;&#1088;&#1091;&#1087;&#1087;&#1099;.ppt" TargetMode="External"/><Relationship Id="rId6" Type="http://schemas.openxmlformats.org/officeDocument/2006/relationships/hyperlink" Target="file:///BychkovaTS/student_samples/student_publication/&#1055;&#1091;&#1073;&#1083;&#1080;&#1082;&#1072;&#1094;&#1080;&#1103;%20&#1047;&#1045;&#1052;&#1051;&#1071;-&#1052;&#1040;&#1058;&#1059;&#1064;&#1050;&#1040;.pub" TargetMode="External"/><Relationship Id="rId7" Type="http://schemas.openxmlformats.org/officeDocument/2006/relationships/hyperlink" Target="file:///BychkovaTS/project_support/teacher_support/&#1042;&#1045;&#1041;-&#1057;&#1040;&#1049;&#1058;%20&#1055;&#1056;&#1054;&#1045;&#1050;&#1058;&#1040;.htm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96000" y="476280"/>
            <a:ext cx="3527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«Давайте будем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Дружить друг с др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тица - с неб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оле - с пл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ветер - с море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Трава - с дождями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дружит солнце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Со всеми нами.»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                И. Мазнина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7280" y="378936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нце, воздух и вода -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лучшие друзь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824360" cy="29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58920" y="11592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проек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12536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1. Презент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Свет мой, Солнышко, скажи»…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2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«…Без воды - И ни туды, и ни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сюды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!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3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«Голубая простыня весь свет покрывает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4. Буклет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«Земля-матушка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5. Веб-сайт проек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Солнце, воздух и вода – наши лучшие друзья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260280"/>
            <a:ext cx="4824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онные ресур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 3кл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. Методика обучения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Учимся познавать мир» тетрадь №1 М., «Вентана - Граф» 2004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.В.Кульневич. Т.П.Лаконценина «Нетрадиционные уроки в начальной школе»Т.Ц. «Учитель».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Томилин «Как люди изучали свою Землю». М., «Детская литература» 198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Сказка о волне и художнике. Айвазовский». М., «Белый город» 200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бо всем на свете». Детская энциклопедия . АСТ «Астрель» 200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37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ученики 3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2781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кружающий мир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229360"/>
            <a:ext cx="835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ffcc"/>
                </a:solidFill>
                <a:latin typeface="Arial"/>
              </a:rPr>
              <a:t>Бычкова Т.С.,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МОУ СОШ №8 г. Рассказ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640" y="836640"/>
            <a:ext cx="597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на Земле есть жизн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0"/>
            <a:ext cx="440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ая тема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1. Сформировать компетентности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в сфере самостоятельной познавательной деятельности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2. Сформировать навыки работы в команд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3. Развить умение анализировать и делать выводы на основе своих наблюд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11280" y="40464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цел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1. Познакомить детей с основными условиями существования жизни на Земле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2. Выяснить зависимость объектов живой природы от состояния неживой природы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3. Выявить факторы, негативно влияющие на состояние воды, почвы, воздуха</a:t>
            </a:r>
            <a:br>
              <a:rPr sz="2600"/>
            </a:br>
            <a:endParaRPr b="0" lang="en-US" sz="2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задач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6341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Отправной точкой для организации данного проекта послужил вопрос учеников : «Почему на Земле (в отличие от других известных планет) есть жизнь, какие условия нужны для существования живой природы?»</a:t>
            </a: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Чтобы решить эту проблему, была организована исследовательская работа детей в группах. Изучив специальную литературу и самостоятельно проведя ряд опытов, ученики узнали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Что было бы, если на Земле все время была ночь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Могут ли живые существа обходиться без воды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Дышат ли растения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Есть ли почва на Луне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В результате дети пришли к выводу, что свет, тепло, воздух, вода и почва - необходимые условия существования жизни на Земле. Поэтому необходимо бережно использовать эти природные ресурсы.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нотац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413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2781360"/>
            <a:ext cx="777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Цветут ли сады на Луне?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32360" y="-1755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Есть одна планета-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В этом космосе холод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Только здесь леса шум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Птиц скликая перелетных..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1.  Что было бы, если на Земле все время была но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2.  Без воды - и ни туды, и ни сю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3.  Дышат ли раст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4.  Есть ли почва на Лу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476280"/>
            <a:ext cx="53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ные вопро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1. «Свет мой, Солнышко, скажи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2. «…Без воды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И ни туды, и ни сюды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3. Голубая простыня весь свет покр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4. Земля не уродит- никто не награ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19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ы самостоятельных исследований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03280" y="42840"/>
            <a:ext cx="619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апы и сроки проведен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Document"/>
          <p:cNvSpPr/>
          <p:nvPr/>
        </p:nvSpPr>
        <p:spPr>
          <a:xfrm>
            <a:off x="0" y="907920"/>
            <a:ext cx="3924360" cy="302436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тивационный эта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 10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Мозговой штурм»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Формулирование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ем исследований)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бор творческого наз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формирование груп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4356000" y="907920"/>
            <a:ext cx="453564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суждение плана работы в группах, поиск источников информации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  в группах    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0" y="4194000"/>
            <a:ext cx="4067280" cy="1899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презентаций и буклета для отчета о проделанной работе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4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4572000" y="3789360"/>
            <a:ext cx="435456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щита полученных результатов и выводов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щий вывод по проекту, формулирование возможных тем будущих проек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1:36:44Z</dcterms:created>
  <dc:creator>Сергей</dc:creator>
  <dc:description/>
  <dc:language>en-US</dc:language>
  <cp:lastModifiedBy>VIENNA XP</cp:lastModifiedBy>
  <dcterms:modified xsi:type="dcterms:W3CDTF">2011-10-11T05:01:46Z</dcterms:modified>
  <cp:revision>25</cp:revision>
  <dc:subject/>
  <dc:title>Тема:  </dc:title>
</cp:coreProperties>
</file>