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083-157F-4437-977C-0525D4B2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E6B-07F6-444D-B456-D6240922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BB2-AA26-4AFC-B78D-A4CDDF75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B23-1017-4840-B26D-886C7BC9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32216-65E1-4B5A-824F-93F8D93B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02784-5591-4DDD-8D44-BF50B440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C2D1D-8C89-4882-90A6-D12B66F8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B8F2D-A313-4787-A80C-E796761A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452A6-F66B-468A-907D-772174DA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EE000-CA50-40CE-9F29-FEC31EF3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83386-C9F1-4F3F-B48D-3550227F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A81-B24F-4316-B6FF-8B438190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B2D54-BCC6-4B96-A88C-1AACD165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1EE3D-C673-452E-8242-CF9D468C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B5FF3-816D-4A2D-87BF-86E8023D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DE648-A866-4B99-A5CA-1AE11067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0EBA8-4C92-488C-9CC5-C0EE953A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4B1-973F-4769-B1AA-5185687C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0C3-16F7-43C5-9886-94B06446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E0D-E8E2-4582-87EE-EFDADE22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E99-63E8-49D7-8935-0B30EB68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88D-61BE-40DF-AAA0-2998612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A68-68F8-4BFF-B460-5204B64E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5B3-F456-4C2B-9B08-2DC72DD5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CA3-9928-4BFE-ACC4-407BA95E6D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B5A3-E04D-4473-A7FE-D7519CFA16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BychkovaTS/student_samples/student_presentation/&#1048;&#1089;&#1089;&#1083;&#1077;&#1076;&#1086;&#1074;&#1072;&#1085;&#1080;&#1077;%201%20&#1075;&#1088;&#1091;&#1087;&#1087;&#1099;.ppt" TargetMode="External"/><Relationship Id="rId2" Type="http://schemas.openxmlformats.org/officeDocument/2006/relationships/hyperlink" Target="file:///BychkovaTS/student_samples/student_presentation/&#1048;&#1089;&#1089;&#1083;&#1077;&#1076;&#1086;&#1074;&#1072;&#1085;&#1080;&#1077;%202%20&#1075;&#1088;&#1091;&#1087;&#1087;&#1099;.ppt" TargetMode="External"/><Relationship Id="rId3" Type="http://schemas.openxmlformats.org/officeDocument/2006/relationships/hyperlink" Target="file:///BychkovaTS/student_samples/student_presentation/&#1048;&#1089;&#1089;&#1083;&#1077;&#1076;&#1086;&#1074;&#1072;&#1085;&#1080;&#1077;%202%20&#1075;&#1088;&#1091;&#1087;&#1087;&#1099;.ppt" TargetMode="External"/><Relationship Id="rId4" Type="http://schemas.openxmlformats.org/officeDocument/2006/relationships/hyperlink" Target="file:///BychkovaTS/student_samples/student_presentation/&#1048;&#1089;&#1089;&#1083;&#1077;&#1076;&#1086;&#1074;&#1072;&#1085;&#1080;&#1077;%202%20&#1075;&#1088;&#1091;&#1087;&#1087;&#1099;.ppt" TargetMode="External"/><Relationship Id="rId5" Type="http://schemas.openxmlformats.org/officeDocument/2006/relationships/hyperlink" Target="file:///BychkovaTS/student_samples/student_presentation/&#1048;&#1089;&#1089;&#1083;&#1077;&#1076;&#1086;&#1074;&#1072;&#1085;&#1080;&#1077;%203%20&#1075;&#1088;&#1091;&#1087;&#1087;&#1099;.ppt" TargetMode="External"/><Relationship Id="rId6" Type="http://schemas.openxmlformats.org/officeDocument/2006/relationships/hyperlink" Target="file:///BychkovaTS/student_samples/student_publication/&#1055;&#1091;&#1073;&#1083;&#1080;&#1082;&#1072;&#1094;&#1080;&#1103;%20&#1047;&#1045;&#1052;&#1051;&#1071;-&#1052;&#1040;&#1058;&#1059;&#1064;&#1050;&#1040;.pub" TargetMode="External"/><Relationship Id="rId7" Type="http://schemas.openxmlformats.org/officeDocument/2006/relationships/hyperlink" Target="file:///BychkovaTS/project_support/teacher_support/&#1042;&#1045;&#1041;-&#1057;&#1040;&#1049;&#1058;%20&#1055;&#1056;&#1054;&#1045;&#1050;&#1058;&#1040;.htm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96000" y="476280"/>
            <a:ext cx="3527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«Давайте будем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Дружить друг с друго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птица - с небо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поле - с плуго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ветер - с морем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Трава - с дождями,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Как дружит солнце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Со всеми нами.»</a:t>
            </a:r>
            <a:br>
              <a:rPr sz="2000"/>
            </a:b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                И. Мазнина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7280" y="3789360"/>
            <a:ext cx="6840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нце, воздух и вода -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ши лучшие друзья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824360" cy="29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58920" y="11592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зультаты проек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125360"/>
            <a:ext cx="7416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1. Презент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«Свет мой, Солнышко, скажи»…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2. Презентация</a:t>
            </a: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«…Без воды - И ни туды, и ни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сюды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!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3. Презентация</a:t>
            </a: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«Голубая простыня весь свет покрывает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4. Буклет</a:t>
            </a: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«Земля-матушка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5. Веб-сайт проек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0" lang="ru-RU" sz="21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«Солнце, воздух и вода – наши лучшие друзья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195640" y="260280"/>
            <a:ext cx="4824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формационные ресурсы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оградова Н.Ф.и др. «Окружающий мир 3кл» М., «Вентана - Граф» 200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оградова Н.Ф.и др. «Окружающий мир. Методика обучения» М., «Вентана - Граф» 200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оградова Н.Ф.и др. «Учимся познавать мир» тетрадь №1 М., «Вентана - Граф» 2004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.В.Кульневич. Т.П.Лаконценина «Нетрадиционные уроки в начальной школе»Т.Ц. «Учитель».200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.Томилин «Как люди изучали свою Землю». М., «Детская литература» 198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Сказка о волне и художнике. Айвазовский». М., «Белый город» 2005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Обо всем на свете». Детская энциклопедия . АСТ «Астрель» 2000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1916280"/>
            <a:ext cx="374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ый предмет: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ученики 3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6360" y="2781360"/>
            <a:ext cx="66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Окружающий мир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229360"/>
            <a:ext cx="8351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</a:t>
            </a: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ffcc"/>
                </a:solidFill>
                <a:latin typeface="Arial"/>
              </a:rPr>
              <a:t>Бычкова Т.С.,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МОУ СОШ №8 г. Рассказ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47640" y="836640"/>
            <a:ext cx="597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чему на Земле есть жизн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0"/>
            <a:ext cx="4402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ая тема: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7489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1. Сформировать компетентности</a:t>
            </a: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в сфере самостоятельной познавательной деятельности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2. Сформировать навыки работы в команд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3. Развить умение анализировать и делать выводы на основе своих наблюд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11280" y="404640"/>
            <a:ext cx="4537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дактические цели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1699920"/>
            <a:ext cx="7489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cc"/>
                </a:solidFill>
                <a:latin typeface="Arial"/>
              </a:rPr>
              <a:t>1. Познакомить детей с основными условиями существования жизни на Земле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cccc"/>
                </a:solidFill>
                <a:latin typeface="Arial"/>
              </a:rPr>
              <a:t>2. Выяснить зависимость объектов живой природы от состояния неживой природы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cccc"/>
                </a:solidFill>
                <a:latin typeface="Arial"/>
              </a:rPr>
              <a:t>3. Выявить факторы, негативно влияющие на состояние воды, почвы, воздуха</a:t>
            </a:r>
            <a:br>
              <a:rPr sz="2600"/>
            </a:br>
            <a:endParaRPr b="0" lang="en-US" sz="2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24000" y="404640"/>
            <a:ext cx="453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дактические задачи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6341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Отправной точкой для организации данного проекта послужил вопрос учеников : «Почему на Земле (в отличие от других известных планет) есть жизнь, какие условия нужны для существования живой природы?»</a:t>
            </a:r>
            <a:br>
              <a:rPr sz="1600"/>
            </a:b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Чтобы решить эту проблему, была организована исследовательская работа детей в группах. Изучив специальную литературу и самостоятельно проведя ряд опытов, ученики узнали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Что было бы, если на Земле все время была ночь?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Могут ли живые существа обходиться без воды?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Дышат ли растения?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Есть ли почва на Луне?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В результате дети пришли к выводу, что свет, тепло, воздух, вода и почва - необходимые условия существования жизни на Земле. Поэтому необходимо бережно использовать эти природные ресурсы.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24000" y="404640"/>
            <a:ext cx="453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нотация проект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413000"/>
            <a:ext cx="41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ополагающий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00000" y="2781360"/>
            <a:ext cx="7777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Цветут ли сады на Луне?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32360" y="-17557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26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Есть одна планета-с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В этом космосе холод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Только здесь леса шум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Птиц скликая перелетных..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1.  Что было бы, если на Земле все время была ноч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2.  Без воды - и ни туды, и ни сюд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3.  Дышат ли раст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4.  Есть ли почва на Лу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08000" y="476280"/>
            <a:ext cx="53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ные вопросы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064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1. «Свет мой, Солнышко, скажи»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2. «…Без воды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И ни туды, и ни сюды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3. Голубая простыня весь свет покры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4. Земля не уродит- никто не награ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619280" y="333360"/>
            <a:ext cx="61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ы самостоятельных исследований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403280" y="42840"/>
            <a:ext cx="619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апы и сроки проведения проект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Document"/>
          <p:cNvSpPr/>
          <p:nvPr/>
        </p:nvSpPr>
        <p:spPr>
          <a:xfrm>
            <a:off x="0" y="907920"/>
            <a:ext cx="3924360" cy="302436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тивационный этап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- 10м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«Мозговой штурм»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Формулирование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ем исследований)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-15м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ыбор творческого наз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формирование групп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-15м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4356000" y="907920"/>
            <a:ext cx="4535640" cy="26640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суждение плана работы в группах, поиск источников информации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остоятельная работа учащихся  в группах    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0" y="4194000"/>
            <a:ext cx="4067280" cy="18990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здание презентаций и буклета для отчета о проделанной работе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4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Document"/>
          <p:cNvSpPr/>
          <p:nvPr/>
        </p:nvSpPr>
        <p:spPr>
          <a:xfrm>
            <a:off x="4572000" y="3789360"/>
            <a:ext cx="4354560" cy="26640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Урок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щита полученных результатов и выводов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щий вывод по проекту, формулирование возможных тем будущих проектов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- 20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есурсный центр моу сош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1:36:44Z</dcterms:created>
  <dc:creator>Сергей</dc:creator>
  <dc:description/>
  <dc:language>en-US</dc:language>
  <cp:lastModifiedBy>VIENNA XP</cp:lastModifiedBy>
  <dcterms:modified xsi:type="dcterms:W3CDTF">2011-10-11T05:01:46Z</dcterms:modified>
  <cp:revision>25</cp:revision>
  <dc:subject/>
  <dc:title>Тема:  </dc:title>
</cp:coreProperties>
</file>