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AD4-349D-457D-B95B-036EB6DD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51E-D5F9-4AC7-9D5B-51CC22B4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AE8-4136-4647-A5C9-9A4A2A8F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230-456C-4099-9407-B3FC2091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40AF7-51FE-4D11-9CBB-DE8D7819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1EAB3-6D7D-4E55-828D-2F2F82ED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BA646-61AB-436A-A27F-98204E6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75583-D00E-4C9A-89CA-DC0E4873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F9FB8-21B6-41DA-9E7C-52818223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D1948-E15B-492F-BDA7-E712670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26976-67D3-4BD9-A42E-D9229A1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DAF-9CE8-41DD-B4E8-00984A6C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9BCAA-B568-4003-B027-D7C9CFF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8E66A-886F-4723-9FC7-16DF2DC5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6BF28-7AC8-476B-BD54-23A984A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99BDB-B81E-4427-ABDF-F3C02E9F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112AA-6B0D-4C7A-8A86-C6E5E859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D9B-B192-44FC-AF48-03621D7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078-E75C-49D0-B521-7CE51850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FB6-63BF-4B69-9CF8-7506E0D4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A32-D873-41F3-9991-9A25DF0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004-F3B7-4D42-BAA1-8DC8D08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AE2-64AA-4541-9F38-1101418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9FA-C99D-4456-BE3A-0119A89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6287-6ED2-465F-8005-974CD1EB51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419F-5941-4820-8DD9-F6361ECAD2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BychkovaTS/student_samples/student_presentation/&#1048;&#1089;&#1089;&#1083;&#1077;&#1076;&#1086;&#1074;&#1072;&#1085;&#1080;&#1077;%201%20&#1075;&#1088;&#1091;&#1087;&#1087;&#1099;.ppt" TargetMode="External"/><Relationship Id="rId2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3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4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5" Type="http://schemas.openxmlformats.org/officeDocument/2006/relationships/hyperlink" Target="file:///BychkovaTS/student_samples/student_presentation/&#1048;&#1089;&#1089;&#1083;&#1077;&#1076;&#1086;&#1074;&#1072;&#1085;&#1080;&#1077;%203%20&#1075;&#1088;&#1091;&#1087;&#1087;&#1099;.ppt" TargetMode="External"/><Relationship Id="rId6" Type="http://schemas.openxmlformats.org/officeDocument/2006/relationships/hyperlink" Target="file:///BychkovaTS/student_samples/student_publication/&#1055;&#1091;&#1073;&#1083;&#1080;&#1082;&#1072;&#1094;&#1080;&#1103;%20&#1047;&#1045;&#1052;&#1051;&#1071;-&#1052;&#1040;&#1058;&#1059;&#1064;&#1050;&#1040;.pub" TargetMode="External"/><Relationship Id="rId7" Type="http://schemas.openxmlformats.org/officeDocument/2006/relationships/hyperlink" Target="file:///BychkovaTS/project_support/teacher_support/&#1042;&#1045;&#1041;-&#1057;&#1040;&#1049;&#1058;%20&#1055;&#1056;&#1054;&#1045;&#1050;&#1058;&#1040;.htm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96000" y="476280"/>
            <a:ext cx="3527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«Давайте будем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Дружить друг с друг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птица - с неб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поле - с плуг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ветер - с море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Трава - с дождями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дружит солнце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Со всеми нами.»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                И. Мазнина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7280" y="3789360"/>
            <a:ext cx="684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нце, воздух и вода -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и лучшие друзь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824360" cy="29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58920" y="11592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ы проек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125360"/>
            <a:ext cx="7416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1. Презент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«Свет мой, Солнышко, скажи»…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2. Презентация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«…Без воды - И ни туды, и ни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сюды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!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3. Презентация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«Голубая простыня весь свет покрывает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4. Буклет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«Земля-матушка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5. Веб-сайт проек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«Солнце, воздух и вода – наши лучшие друзья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95640" y="260280"/>
            <a:ext cx="4824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ормационные ресурс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Окружающий мир 3кл» М., «Вентана - Граф» 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Окружающий мир. Методика обучения» М., «Вентана - Граф» 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Учимся познавать мир» тетрадь №1 М., «Вентана - Граф» 2004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.В.Кульневич. Т.П.Лаконценина «Нетрадиционные уроки в начальной школе»Т.Ц. «Учитель».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.Томилин «Как люди изучали свою Землю». М., «Детская литература» 198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Сказка о волне и художнике. Айвазовский». М., «Белый город» 200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Обо всем на свете». Детская энциклопедия . АСТ «Астрель» 2000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916280"/>
            <a:ext cx="37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ученики 3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6360" y="278136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кружающий мир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229360"/>
            <a:ext cx="835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</a:t>
            </a: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ffcc"/>
                </a:solidFill>
                <a:latin typeface="Arial"/>
              </a:rPr>
              <a:t>Бычкова Т.С.,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МОУ СОШ №8 г. Рассказ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640" y="836640"/>
            <a:ext cx="597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на Земле есть жизн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0"/>
            <a:ext cx="440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ая тема: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7489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1. Сформировать компетентности</a:t>
            </a: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в сфере самостоятельной познавательной деятельности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2. Сформировать навыки работы в команд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3. Развить умение анализировать и делать выводы на основе своих наблюд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11280" y="404640"/>
            <a:ext cx="45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дактические цели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7489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1. Познакомить детей с основными условиями существования жизни на Земле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2. Выяснить зависимость объектов живой природы от состояния неживой природы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3. Выявить факторы, негативно влияющие на состояние воды, почвы, воздуха</a:t>
            </a:r>
            <a:br>
              <a:rPr sz="2600"/>
            </a:br>
            <a:endParaRPr b="0" lang="en-US" sz="2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404640"/>
            <a:ext cx="453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дактические задачи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6341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Отправной точкой для организации данного проекта послужил вопрос учеников : «Почему на Земле (в отличие от других известных планет) есть жизнь, какие условия нужны для существования живой природы?»</a:t>
            </a:r>
            <a:br>
              <a:rPr sz="1600"/>
            </a:b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Чтобы решить эту проблему, была организована исследовательская работа детей в группах. Изучив специальную литературу и самостоятельно проведя ряд опытов, ученики узнали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Что было бы, если на Земле все время была ночь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Могут ли живые существа обходиться без воды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Дышат ли растения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Есть ли почва на Луне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В результате дети пришли к выводу, что свет, тепло, воздух, вода и почва - необходимые условия существования жизни на Земле. Поэтому необходимо бережно использовать эти природные ресурсы.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24000" y="404640"/>
            <a:ext cx="453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нотация проект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41300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полагающий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2781360"/>
            <a:ext cx="777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Цветут ли сады на Луне?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32360" y="-1755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6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Есть одна планета-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В этом космосе холод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Только здесь леса шум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Птиц скликая перелетных..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1.  Что было бы, если на Земле все время была но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2.  Без воды - и ни туды, и ни сю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3.  Дышат ли раст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4.  Есть ли почва на Лу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08000" y="476280"/>
            <a:ext cx="53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ные вопрос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06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1. «Свет мой, Солнышко, скажи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2. «…Без воды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И ни туды, и ни сюды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3. Голубая простыня весь свет покры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4. Земля не уродит- никто не награ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19280" y="3333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ы самостоятельных исследований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403280" y="42840"/>
            <a:ext cx="619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апы и сроки проведения проект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Document"/>
          <p:cNvSpPr/>
          <p:nvPr/>
        </p:nvSpPr>
        <p:spPr>
          <a:xfrm>
            <a:off x="0" y="907920"/>
            <a:ext cx="3924360" cy="302436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тивационный этап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 10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«Мозговой штурм»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Формулирование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ем исследований)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15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бор творческого наз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формирование групп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15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4356000" y="907920"/>
            <a:ext cx="4535640" cy="2664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суждение плана работы в группах, поиск источников информации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остоятельная работа учащихся  в группах    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0" y="4194000"/>
            <a:ext cx="4067280" cy="1899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ние презентаций и буклета для отчета о проделанной работе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4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Document"/>
          <p:cNvSpPr/>
          <p:nvPr/>
        </p:nvSpPr>
        <p:spPr>
          <a:xfrm>
            <a:off x="4572000" y="3789360"/>
            <a:ext cx="4354560" cy="2664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щита полученных результатов и выводов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щий вывод по проекту, формулирование возможных тем будущих проектов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1:36:44Z</dcterms:created>
  <dc:creator>Сергей</dc:creator>
  <dc:description/>
  <dc:language>en-US</dc:language>
  <cp:lastModifiedBy>VIENNA XP</cp:lastModifiedBy>
  <dcterms:modified xsi:type="dcterms:W3CDTF">2011-10-11T05:01:46Z</dcterms:modified>
  <cp:revision>25</cp:revision>
  <dc:subject/>
  <dc:title>Тема:  </dc:title>
</cp:coreProperties>
</file>