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7B2-3AF5-4AE9-AE51-C84252DF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A77-CB1A-4FBD-AC80-D303E4E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D95-3D65-4460-A913-F85AE037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43C-DDEA-42F7-8189-31688AED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4B69-3CC2-4599-9A76-82FBE851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5F9B-E3B8-458F-9B15-1145EA1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3648-6A04-47B8-9831-374477D3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8EF6-853E-4641-BA83-A9A7E6F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C50C-4A6B-4530-BBDD-DA1EFBA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847-BFB6-49AB-8766-6BC15B9D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D1C-A30D-41A6-A950-084B350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57C-D871-48F8-9E75-5140B0C5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3BF-001C-416A-92D2-444247C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03CD-DED9-46A6-9987-B9B9112E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6374-C3F7-4533-8EBE-8E19399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2FB-9603-4BBF-B36D-E570C3E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FFE0-C0BE-4A01-92DC-03E1C87A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2D6-E156-407D-B2E7-95ABC614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1F3-C6E3-4010-B5B1-0C230DBD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C79-B114-45F4-901B-1BB5FC9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11D-B69E-48DE-9D4E-A452251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764-2046-481C-A4E8-634723C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E28-073D-49CC-A7F3-162B546D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8FE-3FCC-4059-A77F-F831F31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9AD2-537C-4DB5-BD74-C6A46DCDE2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C38-E431-4842-97EC-818C58EE8B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ПИВНОЙ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АЛКОГОЛИЗ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От пива делаются ленивыми, глупыми и бессильным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исмар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онический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лкоголизм развивается в 3-4 раза быстре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от употребления пива, чем от крепких алкогольных издел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ибель клеток головного мозга (которые, отмирая, попадают в кровь, отфильтровываются почками и выходят с мочой), нарушение функций спинного мозга, миокардиодистрофия, цирроз печени, гепатит, панкреатит, гастрит, невропатии, поражение зрительного и слухового анализаторов. Связаны с наличием в пив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Вредное воздействие пива на сердце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быстро переполняет кровеносные сосуды. Это приводит к варикозному расширению вен и расширению границ сердца. Так возника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индром "пивного сердца" или синдром "капронового чулка"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когда сердце провисает, становится дряблым и плохо качает кров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вредно влияет на гормоны челове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пьющих пиво мужчин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зрастаются грудные железы, становится шире таз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женщин возрастает вероятность заболеть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ком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а если это кормящая мать, то у ребенка возможны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пилептические судорог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Также у женщин становится грубее голос и появляются так называемые "пивные усы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- наркотик, вызывающий агрессию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гласно современным исследованиям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иво - это первый легальный наркоти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окладывающий путь другим, более сильным нелегальным наркотическим средства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грессию рождает алкоголь и безделье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ост потребления пива в Росс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з четырех тысяч опрошенных человек в возрасте от 7 до 20 лет, в числ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воклассников оказалось 48% употреблявших алкогольные напитк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что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2 р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превосходит показатели 10-12-летней да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еклама пива умалчивает о вреде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032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 вредности для организма пиво может сравняться только с самогоном, т. к. в процессе спиртового брожения и в пиве, и в самогоне в полном объёме сохраняются сопутствующие алкоголю гораздо более ядовитые соединения (побочные продукты брожения – это альдегиды, сивушные масла, эфиры, метанол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язаны с наличием в пив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емного истор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речь заходит о пиве, главный аргумент пропагандистов хмельного напитка - его древние корни. Все правильно, в ежедневный рацион строителей египетских пирамид, действительно, входили три жбана пива. Только пиво там было другое. Это был пищевой продукт, а не хмельной напиток. И пили его не для того, чтобы отдохнуть и повеселиться, а для того, чтобы активно работа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вот, пиво - древняя форма обработки злаковых. И содержание алкоголя там было минимально. А кроме него присутствовала масса витаминов и других полезных веществ, которые в сочетании с низким содержанием алкоголя делали напиток весьма питательным. Было и чему "гореть", и чему поддерживать горение. Кстати, и сто лет назад варили пиво, в котором содержание алкоголя не превышало 4%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годня в подавляющем большинстве сортов пива содержание алкоголя выше 5%. А в крепких сортах все 8-9%. И назвать "правильным" пивом этот напиток язык уже не поворачив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Пивной алкоголизм ведет к деградации поколени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агодаря рекламе на глазах родителей трезвые дети превращаются в пьющую молодёжь, а пьющая молодёжь в родителей-пьяниц.</a:t>
            </a:r>
            <a:r>
              <a:rPr b="1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66ff"/>
                </a:solidFill>
                <a:uFillTx/>
                <a:latin typeface="Tahoma"/>
              </a:rPr>
              <a:t>Пивная субкультура - это начало культуры наркотизм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ведущей к деградации поколений, а в конце концов - к гибели всего народ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267920"/>
            <a:ext cx="31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настоящее время в РФ существует 296 пивоваренных заводов. Абсолютное их число принадлежи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иностранному капиталу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19280" y="1267920"/>
            <a:ext cx="532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оходы от пива "Невского" уходя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Д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пива "Холст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Герм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Милл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Аме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Старый мельни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урц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Толстя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Бельг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Бочкарев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Исп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Золотая Бочка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Южную Аф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. Прибыль от пива концерна "Балтика", а также от пива ОА "Пикра" - уходи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Скандинавию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ледовательно, поклонники пива поддерживают не отечественного, а иностранного производителя, что не идентично понятию "патриотизм"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35680" y="1628640"/>
            <a:ext cx="37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во и активный образ жизни – вещи несовместимые. «Тренированный» мочевой пузырь и лёгкое отупение отнюдь не единственные пивные подарочки. У мужчин подавляется выработка основного полового гормона – метилтестостерона. Именно поэтому пивные люди приобретают округлые женские формы, даже грудь растёт. Про пивной живот всё пон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ной алкоголик ежедневно потребляет минимум 2 – 3 бутылки за раз. А «продвинутые» пивные люди потребляют до 7 – 10 литров (!) в день. У них появляется синдром пивного сердца, цирроз печени. Среди букета веществ, воздействующих на клетки мозга, в пиве в микродозах содержится кадаверин – аналог трупного яда. </a:t>
            </a: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В подростковом возрасте, пока организм растёт, все эти изменения происходят на порядок быстр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Губит людей не пи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 э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ействительно так. Алкогольную зависимость вызывает не вид напитка, а содержащийся в нём этиловый спирт. Бутылка пива с пятью объёмными процентами спирта эквивалентна 60 граммам водки. Бутылка крепкого пива, соответственно , - это сто граммов, или полстакана водки. Кстати, пиво быстрее всасывается в кровь и вызывает более выраженное опьянение.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Стоит задумать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Без секрета всему свету…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73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268280"/>
            <a:ext cx="511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во не является безвредным слабоалкогольным напи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От пива делаются ленивыми, глупыми и бессиль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Самое разрушительное и вредное последствие неумер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ребления пива – больное серд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вредно влияет на гормоны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– наркотик вызывающий агресс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разрушает печень быстрее чем другие спиртные нап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19160" cy="253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2210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пасно пьянству снисхожд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2682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относиться к пивному алкоголизму не серьезно, и не придавать зависимости большого значения, то это может привести к печальным послед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2971800" cy="213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29527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70-80 годы пиво пользовалось большим спросом в связи с тем, что в переводе на 1 г алкоголя это было самое дешевое спиртное: за 1 копейку можно было приобрести 1,2 - 1,4 г "пивного" алкоголя и только около 0,5 г водочного. Чрезвычайно характерной болезнью того времени был алкогольный цирроз печени. Как правило, он развивался у потребителей пива и "бормотухи"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90-х ситуация изменилась. Пиво стало дорогим напитком. По стоимости 1 г алкоголя пиво стало невыгодным для того, чтобы напиваться. На какое-то время потребление пива упало. Но прошло несколько лет, и оказалось, что пиво опять пьют, но пьют уже "все и везде". Пивной бум вынуждает ожидать через некоторое время вспышки пивного алкоголиз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Знаменитые люди о пьянст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55800" y="1413000"/>
            <a:ext cx="54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ьянство есть упражнение в безум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63840" y="2781360"/>
            <a:ext cx="6680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ы находим в жизни только то, что сами вкладываем в н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вы вложите в свою жизн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льф Уолдо Эмир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едность и преступления, нервные и психические боле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ырождение потомков – вот что делает алког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М. Бехтеров (ученый психиатр-невропатоло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3772080"/>
            <a:ext cx="2120760" cy="15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32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во - это алкоголь. В пиве содержится этиловый спирт. И именно этиловый спирт вызывает зависимость. Пивной алкоголизм - это то же, что и водочный, коньячный. Его отличия - только в худшую сторону. Общее в том, что в любом случае - водка, пиво или коньяк - человек пьёт этиловый спирт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ое отличие - психологическое. Пиво для человека стало частью быта. Его воспринимают как газировку. Если для вина, водки нужно создавать повод, соблюдать ритуал, то пиво "можно выпить просто так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ое отличие - химическое. В состав пива входят очень вредные вещества. Это, прежде всего моноамины - продукты распада хмеля, которые и дают основной элемент пивного опьянения - состояние пришибленности, тупости. Кстати среди моноаминов - ес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давер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рупный яд. Кроме того, в пиве много женских половых гормонов. Тот, кто пьёт много пива, приобретает женские черты - широкие бёдра, большую грудь, жив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Почему возникает алкоголизм?</a:t>
            </a:r>
            <a:br>
              <a:rPr sz="3600"/>
            </a:b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 В чем его сущность?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зличных видах алкоголя есть дополнительные, питательные, балластные вещества, вредные примеси. И это обуславливает разницу и в непосредственном эффекте, и в отдаленных результат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точки зрения фармакологии действие пива таково, что оно действительно очень способствует релаксации и успокоению. В 20-е годы прошлого века его рекомендовали как седативное средство. Проходит определённое время, и без пива уже не возможно расслабиться, успокоиться и отдыхать. Со временем начинают нарастать дозы пива появляются алкогольные эксцессы, начинает ухудшаться память. Формируется пивной алкоголизм, пиво входит не только в привычку, но и в биохимию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Особенности пивного алкоголизм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коголизация пивом создает впечатление благополучия, ложное впечатление благополучия. Потребность выпить пива не вызывает такую тревогу у человека, как потребность в водке. Пивной алкоголизм развивается медленнее, более вкрадчиво, чем вод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уж когда развивается, то это уже очень тяжелый алкоголизм. Бороться с влечением к пиву сложнее, чем с влечением к водке. Это влечение бывает очень назойливым и с трудом отпускает. В итоге пивной алкоголизм - это тяжелый, трудно поддающийся лечению вариант алкоголизм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льших количествах пиво оказывается клеточным ядом, поэтому при злоупотреблении им тяжело выражены соматические последствия: миокардиодистрофия, цирроз печени, гепатит. При пивной алкоголизации тяжелее, чем при водочной, поражаются клетки головного мозга, поэтому быстрее нарушается интеллект, обнаруживаются тяжелые психопатоподобные измен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А ТЕПЕРЬ ПОДРОБНЕЕ О ВРЕДЕ ПИВА И ПИВНОГО АЛКОГОЛИЗМ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ПИД, не туберкулез погубят Россию, а "пивной алкоголизм" среди юного поко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Главный санитарный врач РФ Геннадий Онищ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82428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Пиво не является безвредным слабоалкогольным напитком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держание алкоголя в пиве достигает в некоторых сортах 14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ЫТНОСТЬ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епость пива в зависимости от сорта колебалась в пределах 1,5-6%, а чаще - от 2,8% в Жигулевском до 3,5% в Московс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7:55:15Z</dcterms:created>
  <dc:creator>ДОВАТОРОВКА</dc:creator>
  <dc:description/>
  <dc:language>en-US</dc:language>
  <cp:lastModifiedBy>Админ</cp:lastModifiedBy>
  <dcterms:modified xsi:type="dcterms:W3CDTF">2010-11-25T14:13:19Z</dcterms:modified>
  <cp:revision>14</cp:revision>
  <dc:subject/>
  <dc:title>ПИВНОЙ  АЛКОГОЛИЗМ</dc:title>
</cp:coreProperties>
</file>