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59F-2862-495B-921A-B74FB02C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396-C7AD-4B6C-B1FA-889E5655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321-742D-4350-8CE5-89368832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271-D05B-4850-96E5-1E7253DC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7504-F700-4410-ADC6-1BE30D0F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669F-5AC0-4E71-83EE-17C04A06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7B1B-60C0-4213-A783-E9298E50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B750-76B8-42AE-B3F5-AF2D5606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B20D-DF67-479F-BAF0-F74BC8CD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1EB8-0D7E-425E-8B6E-EACE0B9E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BAB4-DC1E-4F5F-B6C1-92703FE0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EF06-9E6F-4E7C-BB67-6CA87A00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AE49-8DF9-4788-B04F-EA84D155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469D-C18F-4602-9CDB-AC3FBC83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0BBE-71F1-4FD3-BF9F-7C1B5642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9B63-6580-4CF0-B01F-F11CA155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A833-EFA8-41AE-9BAA-FF14F58D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E6A-0419-4E55-B7DB-E0CAC36B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5BD-14E0-4DEB-8525-F854699F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7762-DEB4-4534-A5F9-DF8E427D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6DE-A0A5-4697-AE80-2E685A5A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DE3-B033-4F9E-8AEE-4B3AAF6D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22E-870A-4E46-AC9D-1EFA8730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3EA-5612-4890-9F71-22C247D2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943A-C6A1-47CB-93ED-B149C64B07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1700-887C-407B-9EE4-EDDF83C13A5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ПИВНОЙ 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АЛКОГОЛИЗМ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03280" y="2421000"/>
            <a:ext cx="386712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ПИВНОЙ АЛКОГОЛИЗ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«От пива делаются ленивыми, глупыми и бессильным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исмар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Тяжелые последствия и вред пивного алкоголизм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хронический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алкоголизм развивается в 3-4 раза быстре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от употребления пива, чем от крепких алкогольных издел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Тяжелые последствия и вред пивного алкоголизм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ибель клеток головного мозга (которые, отмирая, попадают в кровь, отфильтровываются почками и выходят с мочой), нарушение функций спинного мозга, миокардиодистрофия, цирроз печени, гепатит, панкреатит, гастрит, невропатии, поражение зрительного и слухового анализаторов. Связаны с наличием в пиве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кобальт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применяемого в качестве стабилизатора пивной пе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Вредное воздействие пива на сердце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иво быстро переполняет кровеносные сосуды. Это приводит к варикозному расширению вен и расширению границ сердца. Так возникает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синдром "пивного сердца" или синдром "капронового чулка",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когда сердце провисает, становится дряблым и плохо качает кровь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Пиво вредно влияет на гормоны человек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иво содержит ряд токсических веществ, в том числе соли тяжелых металлов, вызывающих изменения в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эндокринной системе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 пьющих пиво мужчин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разрастаются грудные железы, становится шире таз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 женщин возрастает вероятность заболеть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раком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а если это кормящая мать, то у ребенка возможны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эпилептические судороги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 Также у женщин становится грубее голос и появляются так называемые "пивные усы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Пиво - наркотик, вызывающий агрессию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огласно современным исследованиям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иво - это первый легальный наркотик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прокладывающий путь другим, более сильным нелегальным наркотическим средствам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грессию рождает алкоголь и безделье!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Рост потребления пива в Росс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з четырех тысяч опрошенных человек в возрасте от 7 до 20 лет, в числе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ервоклассников оказалось 48% употреблявших алкогольные напитки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что в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2 раз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превосходит показатели 10-12-летней да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Реклама пива умалчивает о вреде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403236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О ядовитых соединениях и </a:t>
            </a:r>
            <a:br>
              <a:rPr sz="4000"/>
            </a:b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вреде пи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 вредности для организма пиво может сравняться только с самогоном, т. к. в процессе спиртового брожения и в пиве, и в самогоне в полном объёме сохраняются сопутствующие алкоголю гораздо более ядовитые соединения (побочные продукты брожения – это альдегиды, сивушные масла, эфиры, метанол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О ядовитых соединениях и </a:t>
            </a:r>
            <a:br>
              <a:rPr sz="4000"/>
            </a:b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вреде пи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вязаны с наличием в пиве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обальт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применяемого в качестве стабилизатора пивной пены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иво содержит ряд токсических веществ, в том числе соли тяжелых металлов, вызывающих изменения в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эндокринной систем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Немного истори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гда речь заходит о пиве, главный аргумент пропагандистов хмельного напитка - его древние корни. Все правильно, в ежедневный рацион строителей египетских пирамид, действительно, входили три жбана пива. Только пиво там было другое. Это был пищевой продукт, а не хмельной напиток. И пили его не для того, чтобы отдохнуть и повеселиться, а для того, чтобы активно работать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 вот, пиво - древняя форма обработки злаковых. И содержание алкоголя там было минимально. А кроме него присутствовала масса витаминов и других полезных веществ, которые в сочетании с низким содержанием алкоголя делали напиток весьма питательным. Было и чему "гореть", и чему поддерживать горение. Кстати, и сто лет назад варили пиво, в котором содержание алкоголя не превышало 4%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годня в подавляющем большинстве сортов пива содержание алкоголя выше 5%. А в крепких сортах все 8-9%. И назвать "правильным" пивом этот напиток язык уже не поворачивает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Пивной алкоголизм ведет к деградации поколений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лагодаря рекламе на глазах родителей трезвые дети превращаются в пьющую молодёжь, а пьющая молодёжь в родителей-пьяниц.</a:t>
            </a:r>
            <a:r>
              <a:rPr b="1" lang="ru-RU" sz="28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ru-RU" sz="2800" spc="-1" strike="noStrike" u="sng">
                <a:solidFill>
                  <a:srgbClr val="ff66ff"/>
                </a:solidFill>
                <a:uFillTx/>
                <a:latin typeface="Tahoma"/>
              </a:rPr>
              <a:t>Пивная субкультура - это начало культуры наркотизм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 ведущей к деградации поколений, а в конце концов - к гибели всего народ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Миф об отечественном производителе пив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9280" y="1267920"/>
            <a:ext cx="316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настоящее время в РФ существует 296 пивоваренных заводов. Абсолютное их число принадлежит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иностранному капиталу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419280" y="1267920"/>
            <a:ext cx="5329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Доходы от пива "Невского" уходят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Данию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пива "Холстер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Германию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"Миллер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Америку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"Старый мельник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Турцию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"Толстяк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Бельгию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"Бочкарев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Испанию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"Золотая Бочка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Южную Африку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. Прибыль от пива концерна "Балтика", а также от пива ОА "Пикра" - уходит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Скандинавию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Миф об отечественном производителе пив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ледовательно, поклонники пива поддерживают не отечественного, а иностранного производителя, что не идентично понятию "патриотизм"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35680" y="1628640"/>
            <a:ext cx="3781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Пивные</a:t>
            </a:r>
            <a:r>
              <a:rPr b="0" i="1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люд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иво и активный образ жизни – вещи несовместимые. «Тренированный» мочевой пузырь и лёгкое отупение отнюдь не единственные пивные подарочки. У мужчин подавляется выработка основного полового гормона – метилтестостерона. Именно поэтому пивные люди приобретают округлые женские формы, даже грудь растёт. Про пивной живот всё понят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Пивные</a:t>
            </a:r>
            <a:r>
              <a:rPr b="0" i="1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люд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ивной алкоголик ежедневно потребляет минимум 2 – 3 бутылки за раз. А «продвинутые» пивные люди потребляют до 7 – 10 литров (!) в день. У них появляется синдром пивного сердца, цирроз печени. Среди букета веществ, воздействующих на клетки мозга, в пиве в микродозах содержится кадаверин – аналог трупного яда. </a:t>
            </a:r>
            <a:r>
              <a:rPr b="1" lang="en-US" sz="2800" spc="-1" strike="noStrike">
                <a:solidFill>
                  <a:srgbClr val="d60093"/>
                </a:solidFill>
                <a:latin typeface="Tahoma"/>
              </a:rPr>
              <a:t>В подростковом возрасте, пока организм растёт, все эти изменения происходят на порядок быстр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Губит людей не пи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 эт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действительно так. Алкогольную зависимость вызывает не вид напитка, а содержащийся в нём этиловый спирт. Бутылка пива с пятью объёмными процентами спирта эквивалентна 60 граммам водки. Бутылка крепкого пива, соответственно , - это сто граммов, или полстакана водки. Кстати, пиво быстрее всасывается в кровь и вызывает более выраженное опьянение. 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Стоит задумать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Без секрета всему свету…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3573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Пивной алкоголиз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1268280"/>
            <a:ext cx="5113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во не является безвредным слабоалкогольным напитк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От пива делаются ленивыми, глупыми и бессильны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Самое разрушительное и вредное последствие неумере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требления пива – больное сердц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Пиво вредно влияет на гормоны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Пиво – наркотик вызывающий агресс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Пиво разрушает печень быстрее чем другие спиртные напи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2819160" cy="2536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867280" y="4191120"/>
            <a:ext cx="22100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Опасно пьянству снисхожден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12682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относиться к пивному алкоголизму не серьезно, и не придавать зависимости большого значения, то это может привести к печальным последств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9640" y="1268280"/>
            <a:ext cx="2971800" cy="2130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55640" y="3933720"/>
            <a:ext cx="295272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70-80 годы пиво пользовалось большим спросом в связи с тем, что в переводе на 1 г алкоголя это было самое дешевое спиртное: за 1 копейку можно было приобрести 1,2 - 1,4 г "пивного" алкоголя и только около 0,5 г водочного. Чрезвычайно характерной болезнью того времени был алкогольный цирроз печени. Как правило, он развивался у потребителей пива и "бормотухи"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начале 90-х ситуация изменилась. Пиво стало дорогим напитком. По стоимости 1 г алкоголя пиво стало невыгодным для того, чтобы напиваться. На какое-то время потребление пива упало. Но прошло несколько лет, и оказалось, что пиво опять пьют, но пьют уже "все и везде". Пивной бум вынуждает ожидать через некоторое время вспышки пивного алкоголизм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Знаменитые люди о пьянств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3655800" y="1413000"/>
            <a:ext cx="548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Пьянство есть упражнение в безуми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Пифаг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63840" y="2781360"/>
            <a:ext cx="6680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Мы находим в жизни только то, что сами вкладываем в неё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вы вложите в свою жизнь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альф Уолдо Эмирс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53737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едность и преступления, нервные и психические болез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ырождение потомков – вот что делает алког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. М. Бехтеров (ученый психиатр-невропатоло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8360" y="3772080"/>
            <a:ext cx="2120760" cy="1590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2325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ивной алкоголизм не выдумк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иво - это алкоголь. В пиве содержится этиловый спирт. И именно этиловый спирт вызывает зависимость. Пивной алкоголизм - это то же, что и водочный, коньячный. Его отличия - только в худшую сторону. Общее в том, что в любом случае - водка, пиво или коньяк - человек пьёт этиловый спирт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вое отличие - психологическое. Пиво для человека стало частью быта. Его воспринимают как газировку. Если для вина, водки нужно создавать повод, соблюдать ритуал, то пиво "можно выпить просто так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ивной алкоголизм не выдум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торое отличие - химическое. В состав пива входят очень вредные вещества. Это, прежде всего моноамины - продукты распада хмеля, которые и дают основной элемент пивного опьянения - состояние пришибленности, тупости. Кстати среди моноаминов - есть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давери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трупный яд. Кроме того, в пиве много женских половых гормонов. Тот, кто пьёт много пива, приобретает женские черты - широкие бёдра, большую грудь, жив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</a:rPr>
              <a:t>Почему возникает алкоголизм?</a:t>
            </a:r>
            <a:br>
              <a:rPr sz="3600"/>
            </a:b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</a:rPr>
              <a:t> В чем его сущность?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различных видах алкоголя есть дополнительные, питательные, балластные вещества, вредные примеси. И это обуславливает разницу и в непосредственном эффекте, и в отдаленных результат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точки зрения фармакологии действие пива таково, что оно действительно очень способствует релаксации и успокоению. В 20-е годы прошлого века его рекомендовали как седативное средство. Проходит определённое время, и без пива уже не возможно расслабиться, успокоиться и отдыхать. Со временем начинают нарастать дозы пива появляются алкогольные эксцессы, начинает ухудшаться память. Формируется пивной алкоголизм, пиво входит не только в привычку, но и в биохимию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</a:rPr>
              <a:t>Особенности пивного алкоголизм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лкоголизация пивом создает впечатление благополучия, ложное впечатление благополучия. Потребность выпить пива не вызывает такую тревогу у человека, как потребность в водке. Пивной алкоголизм развивается медленнее, более вкрадчиво, чем водочн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уж когда развивается, то это уже очень тяжелый алкоголизм. Бороться с влечением к пиву сложнее, чем с влечением к водке. Это влечение бывает очень назойливым и с трудом отпускает. В итоге пивной алкоголизм - это тяжелый, трудно поддающийся лечению вариант алкоголизма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больших количествах пиво оказывается клеточным ядом, поэтому при злоупотреблении им тяжело выражены соматические последствия: миокардиодистрофия, цирроз печени, гепатит. При пивной алкоголизации тяжелее, чем при водочной, поражаются клетки головного мозга, поэтому быстрее нарушается интеллект, обнаруживаются тяжелые психопатоподобные измен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А ТЕПЕРЬ ПОДРОБНЕЕ О ВРЕДЕ ПИВА И ПИВНОГО АЛКОГОЛИЗМА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СПИД, не туберкулез погубят Россию, а "пивной алкоголизм" среди юного поко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Главный санитарный врач РФ Геннадий Онищен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82428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Пиво не является безвредным слабоалкогольным напитком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НАШЕ ВРЕ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держание алкоголя в пиве достигает в некоторых сортах 14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БЫТНОСТЬ ССС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репость пива в зависимости от сорта колебалась в пределах 1,5-6%, а чаще - от 2,8% в Жигулевском до 3,5% в Московск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07:55:15Z</dcterms:created>
  <dc:creator>ДОВАТОРОВКА</dc:creator>
  <dc:description/>
  <dc:language>en-US</dc:language>
  <cp:lastModifiedBy>Админ</cp:lastModifiedBy>
  <dcterms:modified xsi:type="dcterms:W3CDTF">2010-11-25T14:13:19Z</dcterms:modified>
  <cp:revision>14</cp:revision>
  <dc:subject/>
  <dc:title>ПИВНОЙ  АЛКОГОЛИЗМ</dc:title>
</cp:coreProperties>
</file>