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1EF-8696-4FB1-8C82-B873E72D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386-8D97-467A-A133-7FD7CE1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618-DBDB-406B-9809-DD4E2167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3EE-CE11-4E00-946F-03F8A1AD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24A-D322-43E2-82F1-6E3A2BE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DDC-018C-4CA4-9F8E-322E4267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D26-EA6C-4337-8986-E7E7B06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9BB-42E3-471A-A646-2632FF0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D25-14AC-41F1-8AEF-BE8E11C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04E-AB49-4CDE-90B9-18E885F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F3F-1DBB-4AF1-A741-4E4B1C8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F6C-A2A4-4C01-B1F7-B3648D6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7d"/>
            </a:gs>
            <a:gs pos="50000">
              <a:srgbClr val="dbff75"/>
            </a:gs>
            <a:gs pos="100000">
              <a:srgbClr val="ffa8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A3A-5ABB-4B34-9BAA-ADB645E2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094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рок математик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4800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шукова В.А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71800" y="2286000"/>
            <a:ext cx="5791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Периметр многоуголь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371600" y="358128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913800">
            <a:off x="216000" y="2414160"/>
            <a:ext cx="1523880" cy="131616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495360" y="4990680"/>
            <a:ext cx="1523880" cy="129564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270000 h 1295640"/>
              <a:gd name="textAreaBottom" fmla="*/ 102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04920" y="304920"/>
            <a:ext cx="1523880" cy="1447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1371600" y="1371600"/>
            <a:ext cx="1523880" cy="1600200"/>
          </a:xfrm>
          <a:prstGeom prst="diamond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актическ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 циркул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7008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21024" t="2938" r="6983" b="8889"/>
          <a:stretch/>
        </p:blipFill>
        <p:spPr>
          <a:xfrm>
            <a:off x="2438280" y="1523880"/>
            <a:ext cx="4035600" cy="4876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1" name="Rectangle 5"/>
          <p:cNvSpPr/>
          <p:nvPr/>
        </p:nvSpPr>
        <p:spPr>
          <a:xfrm>
            <a:off x="5715000" y="1828800"/>
            <a:ext cx="21337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95280" y="1752480"/>
            <a:ext cx="213372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ЦЕНИВАНИЕ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216240" cy="3886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5" name="Rectangle 5"/>
          <p:cNvSpPr/>
          <p:nvPr/>
        </p:nvSpPr>
        <p:spPr>
          <a:xfrm>
            <a:off x="4648320" y="3124080"/>
            <a:ext cx="37335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№ 6, 8, с. 3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86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slovari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-mam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457200" y="1752480"/>
            <a:ext cx="8381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СПАСИБО ЗА РАБОТУ!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85840"/>
            <a:ext cx="86104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венел долгожданн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йка с нетерпением встречи с вами 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интересные приготовил для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ружно работал весь второй кла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334120" cy="3255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ы согласны - отвечаете «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резок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огласны - отвечаете «нет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уга в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66688" t="18555" r="23859" b="28700"/>
          <a:stretch/>
        </p:blipFill>
        <p:spPr>
          <a:xfrm>
            <a:off x="3505320" y="51814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2"/>
          <a:srcRect l="18706" t="32801" r="71841" b="14524"/>
          <a:stretch/>
        </p:blipFill>
        <p:spPr>
          <a:xfrm>
            <a:off x="3505320" y="33526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rcRect l="7974" t="22238" r="4313" b="11119"/>
          <a:stretch/>
        </p:blipFill>
        <p:spPr>
          <a:xfrm>
            <a:off x="304920" y="2438280"/>
            <a:ext cx="853416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838080" y="1600200"/>
            <a:ext cx="7315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191120" y="4419720"/>
            <a:ext cx="373356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1846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еометрическо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1219320" y="2062080"/>
            <a:ext cx="144756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666880" y="2062080"/>
            <a:ext cx="76212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1219320" y="3357720"/>
            <a:ext cx="22096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181480" y="2062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43800" y="2062080"/>
            <a:ext cx="45720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6019920" y="2900160"/>
            <a:ext cx="19810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5181480" y="2062080"/>
            <a:ext cx="83844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1219320" y="2671920"/>
            <a:ext cx="22096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838080" y="4433760"/>
            <a:ext cx="7620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найти длину ломаной надо измерить звенья и сложить полученные вел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адача на смекал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6553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е гуляли куры и собаки. Мальчик посчитал их лапы. Получилось десять. Сколько могло быть кур и сколько соб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5867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обаки и 1 кур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обака и 3 ку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0" t="8746" r="0" b="37513"/>
          <a:stretch/>
        </p:blipFill>
        <p:spPr>
          <a:xfrm>
            <a:off x="2590920" y="4038480"/>
            <a:ext cx="1218960" cy="9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19556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0" t="0" r="0" b="4896"/>
          <a:stretch/>
        </p:blipFill>
        <p:spPr>
          <a:xfrm>
            <a:off x="2133720" y="4800600"/>
            <a:ext cx="73800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rcRect l="0" t="8746" r="0" b="37513"/>
          <a:stretch/>
        </p:blipFill>
        <p:spPr>
          <a:xfrm>
            <a:off x="6172200" y="3886200"/>
            <a:ext cx="1219320" cy="91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5"/>
          <a:srcRect l="0" t="0" r="0" b="4896"/>
          <a:stretch/>
        </p:blipFill>
        <p:spPr>
          <a:xfrm>
            <a:off x="54864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6"/>
          <a:srcRect l="0" t="0" r="0" b="4896"/>
          <a:stretch/>
        </p:blipFill>
        <p:spPr>
          <a:xfrm>
            <a:off x="6400800" y="480060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7"/>
          <a:stretch/>
        </p:blipFill>
        <p:spPr>
          <a:xfrm>
            <a:off x="73152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8"/>
          <a:stretch/>
        </p:blipFill>
        <p:spPr>
          <a:xfrm>
            <a:off x="6629400" y="45720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 flipV="1">
            <a:off x="2057400" y="380520"/>
            <a:ext cx="32004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57800" y="380880"/>
            <a:ext cx="83808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3048120" y="2895120"/>
            <a:ext cx="30477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057400" y="2514600"/>
            <a:ext cx="40384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 rot="19440000">
            <a:off x="2666520" y="10666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327672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WordArt 10"/>
          <p:cNvSpPr txBox="1"/>
          <p:nvPr/>
        </p:nvSpPr>
        <p:spPr>
          <a:xfrm rot="4115400">
            <a:off x="5371920" y="11808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990720" y="3581280"/>
            <a:ext cx="6780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 + 6 см + 6 см = 17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15"/>
          <p:cNvSpPr txBox="1"/>
          <p:nvPr/>
        </p:nvSpPr>
        <p:spPr>
          <a:xfrm>
            <a:off x="1066680" y="4495680"/>
            <a:ext cx="67802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мма длин сторон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2819520" y="50292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 - периметр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1600200" y="5791320"/>
            <a:ext cx="586728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= 5 см + 6 см + 6 см = 17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изкуль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6019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считали и уст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ружно все мы тихо в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учками похлоп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ли, встали, сели, вст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друг друга не заде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немножко отдохнё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опять считать начнём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2038320" cy="3276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 3 + 4+1+4=12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2 = 3 + 3 + 4= 10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3 = 5 + 5 + 3 + 2 = 15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24280" y="4419720"/>
            <a:ext cx="990720" cy="175248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3048120" y="617220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048120" y="4419720"/>
            <a:ext cx="1676160" cy="1752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85800" y="6172200"/>
            <a:ext cx="23623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5715000" y="6172200"/>
            <a:ext cx="274320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12193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а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6629400" y="55627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d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39625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иметр фиг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17T09:44:3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