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180-1CD6-458D-A45C-DDF76837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377-9EC4-4948-BC5B-BA8513D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5FB-884A-46B8-99D5-C43A2765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BA1-14A2-479A-BDDA-07851C1C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438-D9BF-4928-8653-FFB40E8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956-3703-4DDE-ADA0-CBDBDB56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E65-D696-4571-9B48-278B825F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6C3-8380-4BCF-8B88-FF0353BB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2BE-5DA3-4C76-8B1E-F602CC9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45E-87FB-40E8-A785-4455F05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C57-B334-4FB4-9068-5F47732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552-9BEF-4BCD-A6DC-7B50430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7d"/>
            </a:gs>
            <a:gs pos="50000">
              <a:srgbClr val="dbff75"/>
            </a:gs>
            <a:gs pos="100000">
              <a:srgbClr val="ffa8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DE1-A945-4289-85D9-7625ED7F7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094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рок математики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4800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шукова В.А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СОШ № 8 г.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71800" y="2286000"/>
            <a:ext cx="5791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Периметр многоуголь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371600" y="358128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913800">
            <a:off x="216000" y="2414160"/>
            <a:ext cx="1523880" cy="1316160"/>
          </a:xfrm>
          <a:prstGeom prst="pentagon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16200000">
            <a:off x="495360" y="4990680"/>
            <a:ext cx="1523880" cy="1295640"/>
          </a:xfrm>
          <a:custGeom>
            <a:avLst/>
            <a:gdLst>
              <a:gd name="textAreaLeft" fmla="*/ 317520 w 1523880"/>
              <a:gd name="textAreaRight" fmla="*/ 1206360 w 1523880"/>
              <a:gd name="textAreaTop" fmla="*/ 270000 h 1295640"/>
              <a:gd name="textAreaBottom" fmla="*/ 102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04920" y="304920"/>
            <a:ext cx="1523880" cy="1447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1371600" y="1371600"/>
            <a:ext cx="1523880" cy="1600200"/>
          </a:xfrm>
          <a:prstGeom prst="diamond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рактическ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 циркул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7008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 вариан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21024" t="2938" r="6983" b="8889"/>
          <a:stretch/>
        </p:blipFill>
        <p:spPr>
          <a:xfrm>
            <a:off x="2438280" y="1523880"/>
            <a:ext cx="4035600" cy="48769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11" name="Rectangle 5"/>
          <p:cNvSpPr/>
          <p:nvPr/>
        </p:nvSpPr>
        <p:spPr>
          <a:xfrm>
            <a:off x="5715000" y="1828800"/>
            <a:ext cx="21337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II </a:t>
            </a:r>
            <a:r>
              <a:rPr b="0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95280" y="1752480"/>
            <a:ext cx="213372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I </a:t>
            </a:r>
            <a:r>
              <a:rPr b="0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ЦЕНИВАНИЕ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о вариан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216240" cy="38862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15" name="Rectangle 5"/>
          <p:cNvSpPr/>
          <p:nvPr/>
        </p:nvSpPr>
        <p:spPr>
          <a:xfrm>
            <a:off x="4648320" y="3124080"/>
            <a:ext cx="37335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5» – без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4» –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3» - 2-3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№ 6, 8, с. 3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86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slovari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-mam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457200" y="1752480"/>
            <a:ext cx="8381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СПАСИБО ЗА РАБОТУ!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85840"/>
            <a:ext cx="86104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венел долгожданный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йка с нетерпением встречи с вами 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интересные приготовил для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ружно работал весь второй кла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334120" cy="32558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афический арифме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строчка от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ы согласны - отвечаете «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резок 2 клет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огласны - отвечаете «нет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уга в 2 клет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66688" t="18555" r="23859" b="28700"/>
          <a:stretch/>
        </p:blipFill>
        <p:spPr>
          <a:xfrm>
            <a:off x="3505320" y="5181480"/>
            <a:ext cx="11430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6" descr=""/>
          <p:cNvPicPr/>
          <p:nvPr/>
        </p:nvPicPr>
        <p:blipFill>
          <a:blip r:embed="rId2"/>
          <a:srcRect l="18706" t="32801" r="71841" b="14524"/>
          <a:stretch/>
        </p:blipFill>
        <p:spPr>
          <a:xfrm>
            <a:off x="3505320" y="3352680"/>
            <a:ext cx="11430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rcRect l="7974" t="22238" r="4313" b="11119"/>
          <a:stretch/>
        </p:blipFill>
        <p:spPr>
          <a:xfrm>
            <a:off x="304920" y="2438280"/>
            <a:ext cx="853416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838080" y="1600200"/>
            <a:ext cx="7315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строчка отв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афический арифме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191120" y="4419720"/>
            <a:ext cx="373356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5» – без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4» –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3» - 2-3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1846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Геометрическо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1219320" y="2062080"/>
            <a:ext cx="144756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666880" y="2062080"/>
            <a:ext cx="76212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1219320" y="3357720"/>
            <a:ext cx="22096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181480" y="20620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43800" y="2062080"/>
            <a:ext cx="45720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6019920" y="2900160"/>
            <a:ext cx="19810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5181480" y="2062080"/>
            <a:ext cx="83844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1219320" y="2671920"/>
            <a:ext cx="22096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838080" y="4433760"/>
            <a:ext cx="7620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найти длину ломаной надо измерить звенья и сложить полученные вел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Задача на смекал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65530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воре гуляли куры и собаки. Мальчик посчитал их лапы. Получилось десять. Сколько могло быть кур и сколько соб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5867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обаки и 1 кур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обака и 3 ку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0" t="8746" r="0" b="37513"/>
          <a:stretch/>
        </p:blipFill>
        <p:spPr>
          <a:xfrm>
            <a:off x="2590920" y="4038480"/>
            <a:ext cx="1218960" cy="9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19556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0" t="0" r="0" b="4896"/>
          <a:stretch/>
        </p:blipFill>
        <p:spPr>
          <a:xfrm>
            <a:off x="2133720" y="4800600"/>
            <a:ext cx="73800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4"/>
          <a:srcRect l="0" t="8746" r="0" b="37513"/>
          <a:stretch/>
        </p:blipFill>
        <p:spPr>
          <a:xfrm>
            <a:off x="6172200" y="3886200"/>
            <a:ext cx="1219320" cy="91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5"/>
          <a:srcRect l="0" t="0" r="0" b="4896"/>
          <a:stretch/>
        </p:blipFill>
        <p:spPr>
          <a:xfrm>
            <a:off x="5486400" y="426708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6"/>
          <a:srcRect l="0" t="0" r="0" b="4896"/>
          <a:stretch/>
        </p:blipFill>
        <p:spPr>
          <a:xfrm>
            <a:off x="6400800" y="480060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7"/>
          <a:stretch/>
        </p:blipFill>
        <p:spPr>
          <a:xfrm>
            <a:off x="7315200" y="426708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8"/>
          <a:stretch/>
        </p:blipFill>
        <p:spPr>
          <a:xfrm>
            <a:off x="6629400" y="45720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 flipV="1">
            <a:off x="2057400" y="380520"/>
            <a:ext cx="320040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57800" y="380880"/>
            <a:ext cx="83808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3048120" y="2895120"/>
            <a:ext cx="30477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057400" y="2514600"/>
            <a:ext cx="40384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 rot="19440000">
            <a:off x="2666520" y="106668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6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327672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6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WordArt 10"/>
          <p:cNvSpPr txBox="1"/>
          <p:nvPr/>
        </p:nvSpPr>
        <p:spPr>
          <a:xfrm rot="4115400">
            <a:off x="5371920" y="11808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990720" y="3581280"/>
            <a:ext cx="6780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5см + 6 см + 6 см = 17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15"/>
          <p:cNvSpPr txBox="1"/>
          <p:nvPr/>
        </p:nvSpPr>
        <p:spPr>
          <a:xfrm>
            <a:off x="1066680" y="4495680"/>
            <a:ext cx="67802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мма длин сторон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2819520" y="50292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 - периметр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1600200" y="5791320"/>
            <a:ext cx="586728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= 5 см + 6 см + 6 см = 17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Физкуль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6019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ы считали и устал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ружно все мы тихо вст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учками похлопал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, два, тр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ожками потопали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, два, тр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ли, встали, сели, встал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друг друга не задел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ы немножко отдохнё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 опять считать начнём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2038320" cy="3276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1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 3 + 4+1+4=12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2 = 3 + 3 + 4= 10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3 = 5 + 5 + 3 + 2 = 15 (с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24280" y="4419720"/>
            <a:ext cx="990720" cy="175248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>
            <a:off x="3048120" y="617220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3048120" y="4419720"/>
            <a:ext cx="1676160" cy="17524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685800" y="6172200"/>
            <a:ext cx="23623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5715000" y="6172200"/>
            <a:ext cx="274320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12193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а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6629400" y="556272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d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3962520" y="5715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с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228600" y="1523880"/>
            <a:ext cx="85345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иметр фиг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17T09:44:3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