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4C3-D572-495E-B7FB-2D5C9A5F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480-2397-4E8A-83D4-AC59E2F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7CC-52CE-4BB2-BA47-B0AE79B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8FF-B75E-4B4F-9044-964D49A4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7F4-57C6-45BC-B2DC-DB05AD88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42B0-5C5B-4B2C-9FDD-A5B32B0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D1F1-02FC-4A83-9AD5-E1B7483C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66F9-276B-4A2E-B095-3598C912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0205-25BF-410E-AB13-7D15ACD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7F1C-F848-44F0-8900-EC281D73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842-6076-404E-BA61-FC52876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F35-C662-4CEC-9377-0AA64BC9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1821-CD5D-4F08-8FEC-621ED51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4A86-3393-432F-BF45-317A6F2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FAC-0AFF-444D-BDA3-FBAC6C7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2403-87A6-4B0A-983A-D04885E9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053-035B-4389-B340-5D67AE57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1C5-BF48-4D56-A2F2-1843B26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E0E-5CC2-48BF-8170-80CCF4DE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7E-CB58-46E7-B507-47D555E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4AB-3EA3-40B4-B223-800496BB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ADB-2A0B-49B4-8394-886BA09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9FE-3096-4B05-931B-B8BF15E2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2DD-569A-419E-98CC-4137B92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2CF-930F-49EA-81A3-62768C97067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5EC-878E-475B-9942-794C15965C0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ма урока: Облик Земли постоянно меняетс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Цель:        создание условий для развития 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чащихся умения самостоятельно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станавливать причинно -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ледственные связи как основ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знавательной деятельности.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икроцель этапа: закрепить полученные зн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ид работы: индивидуальный со взаимопроверкой в пар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орудование: изображение частей    Панге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057400" y="3922560"/>
            <a:ext cx="51055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тог урока. 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200400" cy="2171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116240" y="3922560"/>
            <a:ext cx="3449880" cy="2173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42800" y="3922560"/>
            <a:ext cx="325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8720" y="1598760"/>
            <a:ext cx="6254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метные задач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формировать понимания того, что изменчивость – основное свойство неживой и живой природ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ть представления о постоянно меняющемся облике Зем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4864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тапредметные задачи урок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ть условия для формирования представлений о причинах успеха в учёб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Формировать ум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нимать данные учителем ориентиры в учебном материале(регулятивные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равнивать изучаемые объекты по заданным критериям (познавательные)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декватно использовать речевые средства для взаимодействия на уроке (коммуникативные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4648320"/>
            <a:ext cx="6248520" cy="19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орудование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 учебн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карта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лушар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отограф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оссвор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рганизационный момен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икроцель этапа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настроить на положительное восприятие урока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подготовить к получению новых знан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3970440"/>
            <a:ext cx="52578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ктуализация опорных знан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повторение изученн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подведение учащихся к определению темы и задач уро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ид работы: группов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орудование: кроссвор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697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россворд: «Пангея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Крайние точки оси Земл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Огромные участки суши, окружённые водами океанов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Самый тёплый океан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Модель Земл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Самый большой матери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Планета солнечной системы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990720" y="16002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618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остановка пробл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ать толчок к началу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тивной мыслительной деятельност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4100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бота над новым материало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кроцель этап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утём наблюдения, рассуждения, анализа решить поставленную проблем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ид работы: фронта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орудование: учебник, наглядный материал на доск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5029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9:57:56Z</dcterms:created>
  <dc:creator>uri</dc:creator>
  <dc:description/>
  <dc:language>en-US</dc:language>
  <cp:lastModifiedBy>Учитель</cp:lastModifiedBy>
  <dcterms:modified xsi:type="dcterms:W3CDTF">2012-12-13T03:49:5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