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526-E262-498D-B17C-D661CE96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F82-AA29-4278-AE2C-C39812D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B31-67E3-4D17-9641-610BB699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26-F0B0-4AA1-8B54-D5D3E8C0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C35F-55CE-4654-ADA4-6538F953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0FCA-B16F-47ED-BEDE-B86DA28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61FA-E48C-494A-96F3-577104DF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E537-5694-416A-8B3A-690237E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BE0-8015-4154-98DC-908B18BB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318-115C-404F-8C5F-04CE0864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408B-319A-4BBC-9EB6-B9366597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023-5B80-43D6-A2EE-D1C67A14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9E2-0977-4A37-9BAB-6281ADD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5C5E-5816-4967-A845-458AAE4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109E-F104-41B5-869B-82DE3A4A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28A-4458-484D-9AF7-DF339835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0E71-1D26-42AF-BBE6-E553E3FA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E05-FF12-493C-A2B1-918EAE46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67F-FEDD-4C58-ADE6-4784008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596-BD23-4808-A7AE-AEAFDA0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DA5-B6FD-47B1-8C20-9B43C30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9CE-4DB5-45E0-A329-0530F97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2D0-019E-4A07-B9D2-29B7679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390-BCBE-4574-AF76-FCAC21C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994-EEDD-4DE9-9D6F-69F7A49FF9D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724-7967-47FA-8A19-93FDD4BAC79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ма урока: Облик Земли постоянно меняетс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Цель:        создание условий для развития 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ащихся умения самостоятельно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авливать причинно -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ледственные связи как основ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знавательной деятельности.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закрепить полученные зн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ид работы: индивидуальный со взаимопроверкой в пар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орудование: изображение частей    Панге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057400" y="3922560"/>
            <a:ext cx="51055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тог урока. 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200400" cy="2171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116240" y="3922560"/>
            <a:ext cx="3449880" cy="2173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42800" y="3922560"/>
            <a:ext cx="325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8720" y="1598760"/>
            <a:ext cx="6254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метные задач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формировать понимания того, что изменчивость – основное свойство неживой и живой природ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ть представления о постоянно меняющемся облике Зем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4864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тапредметные задачи урок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ть условия для формирования представлений о причинах успеха в учёб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ормировать ум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нимать данные учителем ориентиры в учебном материале(регулятив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равнивать изучаемые объекты по заданным критериям (познаватель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декватно использовать речевые средства для взаимодействия на уроке (коммуникативные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624852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орудование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 учеб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кар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ушар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тограф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оссвор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рганизационный момен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настроить на положительное восприятие урока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дготовить к получению новых знан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3970440"/>
            <a:ext cx="52578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ктуализация опорных знан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вторение изученн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дведение учащихся к определению темы и задач уро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группов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кроссвор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697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россворд: «Пангея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Крайние точки оси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Огромные участки суши, окружённые водами океанов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Самый тёплый океан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Модель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Самый большой матери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Планета солнечной системы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990720" y="16002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618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остановка пробл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ать толчок к началу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тивной мыслительной деятельн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4100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бота над новым материало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утём наблюдения, рассуждения, анализа решить поставленную проблем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фронта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учебник, наглядный материал на доск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5029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9:57:56Z</dcterms:created>
  <dc:creator>uri</dc:creator>
  <dc:description/>
  <dc:language>en-US</dc:language>
  <cp:lastModifiedBy>Учитель</cp:lastModifiedBy>
  <dcterms:modified xsi:type="dcterms:W3CDTF">2012-12-13T03:49:5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