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F78-441A-4131-9E79-057B05CE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EC6-788F-4468-A761-052464C0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D5F-CD2C-43E9-ADB5-C135531D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FA6-1758-4B85-AF85-E8E9B7BE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BF44-4FE5-4270-8676-10B75545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8C6B-FB33-43D7-8340-C86BC856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3B02-D528-4543-9A93-0ADED89B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E481-58B2-4801-B22F-DE3DFC97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5A12-6B97-49BE-8BC0-E0641C1B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2F60-2CB2-4DEA-9EC4-04D93047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9477-7A3C-4581-B7F7-B1FF599E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FDD-8220-4DB2-98D5-5B22650F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19F0-981B-4FE1-A96A-78D95ED3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64C0-BC98-4A4D-9B6A-7FB4CD5B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F72B-793F-430A-B667-960A33F8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6EEA-7B8E-4CA3-9F76-9CA3F7C5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1196-B4AD-49AE-A2FD-976A621E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BF4-1030-4477-A08C-72E251DD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5A6-1168-461F-866E-759474E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794-A2A9-4173-AFEF-ECB4D603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3FB-D489-4006-BE49-A7877F5A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C89-25F1-4D08-8B32-207F95B1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114-3962-4CBA-AA71-46E108CD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85F-E2F2-4896-BFD8-C38E39B2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4F40-B1A8-4EDA-8A71-51987AE5029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8630-6950-4D18-8E44-DCC5E33F761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ема урока: Облик Земли постоянно меняетс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Цель:        создание условий для развития 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чащихся умения самостоятельно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станавливать причинно -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ледственные связи как основы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знавательной деятельности.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икроцель этапа: закрепить полученные зн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ид работы: индивидуальный со взаимопроверкой в пар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орудование: изображение частей    Панге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057400" y="3922560"/>
            <a:ext cx="510552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тог урока. 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200400" cy="2171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116240" y="3922560"/>
            <a:ext cx="3449880" cy="2173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42800" y="3922560"/>
            <a:ext cx="3256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28720" y="1598760"/>
            <a:ext cx="6254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дметные задачи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формировать понимания того, что изменчивость – основное свойство неживой и живой природ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вивать представления о постоянно меняющемся облике Земл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1080" y="3962520"/>
            <a:ext cx="548640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тапредметные задачи урока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оздать условия для формирования представлений о причинах успеха в учёб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Формировать умени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нимать данные учителем ориентиры в учебном материале(регулятивные)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равнивать изучаемые объекты по заданным критериям (познавательные)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декватно использовать речевые средства для взаимодействия на уроке (коммуникативные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38080" y="4648320"/>
            <a:ext cx="6248520" cy="19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борудование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 учебник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карт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лушари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отограф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оссвор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рганизационный момент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икроцель этапа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настроить на положительное восприятие урока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подготовить к получению новых знани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3970440"/>
            <a:ext cx="525780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ктуализация опорных знан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икроцель этапа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повторение изученного материал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подведение учащихся к определению темы и задач уро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ид работы: группово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орудование: кроссворд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6971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россворд: «Пангея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Крайние точки оси Земл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Огромные участки суши, окружённые водами океанов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Самый тёплый океан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Модель Земл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.Самый большой матери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.Планета солнечной системы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990720" y="16002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36180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остановка пробле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икроцель этап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ать толчок к началу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ктивной мыслительной деятельност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54100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абота над новым материало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икроцель этап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утём наблюдения, рассуждения, анализа решить поставленную проблем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ид работы: фронта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орудование: учебник, наглядный материал на доск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5029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09:57:56Z</dcterms:created>
  <dc:creator>uri</dc:creator>
  <dc:description/>
  <dc:language>en-US</dc:language>
  <cp:lastModifiedBy>Учитель</cp:lastModifiedBy>
  <dcterms:modified xsi:type="dcterms:W3CDTF">2012-12-13T03:49:5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