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415-8DBC-42BA-BC51-D05D6630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51E-404F-45DC-8B83-F588DE6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DD1-B91D-4ACD-908D-2305CD24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5C4-06C7-4F05-BE29-32CBDDCC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FDE-4114-453C-8EF9-18D43049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0DF5-842E-47C4-B8AE-264B3DCD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E371-780C-4232-8912-E6FF897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790-0AF8-4734-A12F-EEB49BB4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2C4-3003-4CC3-8BA7-8C799A1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EABE-58F7-4B67-A27C-DF2E8FA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F20-AE08-4CEE-9A1D-9C7D382C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260-473D-4B1E-8CDC-CD37FB39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CC6-DD4D-4966-B8F0-1DF7343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B764-E73B-446F-A5B3-225B7AC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C477-7D36-4A5B-BD89-3E31395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6006-DF5A-4FAC-B596-48BE8E42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090B-F204-417A-A179-2C6055B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0950-3542-4FE4-B66C-49D5CEA4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CD97-4AB1-420A-BF2C-4CE344D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55A5-36B0-4D89-8402-97D8E76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82EB-93F8-4ADD-8383-114DE45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ABD9-FF0B-4E91-831A-FC6D0A2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185-B721-459C-A786-752F75C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5C89-70E9-4C69-9CD2-3AF7A0F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5AFA-628B-42B3-977B-456676D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B1FD-2FA3-4C3D-84B1-3B4DDAF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36C4-D5A9-4768-B042-F4879B1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4283-B113-45B1-8FA7-BD75914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9AC3-A33F-439D-970D-3780AAA0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8A05-9539-4730-A982-1A6F18A2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725D-22EB-42DA-9916-6F677B14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B3D5-31FB-4F24-A397-71EA4C7C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3EEF-7FCA-498A-9C11-4002D91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DD2-D996-4AD8-8B09-63E1A3F5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701A-5AFD-439E-B8FD-8E7A8464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67268-10FF-48E4-8556-B6BAF011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CDEE-6F41-4188-A6A1-CD922A71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51BB-8A9E-48A3-A146-92CAA4F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99B7-972C-4BB8-99C5-C9D32181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46AD-44CB-48FF-9F5F-E8B8570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62FE-9740-42C4-BBFB-C9293E5E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BD90-C050-4A1A-99E9-0014E158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1066-1E0D-4F24-933A-F76BF1E9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80CF-BAD8-44DC-AD13-07352D9F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E80-27E7-4AD9-9712-B4E4539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EF5C-2BE1-429C-AD99-B709682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002C-F599-456E-B915-A09E3DB5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E082-2BB4-447A-81FC-2E9B04B2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B317-812F-4BA5-806E-71D1E9E0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ABF4-78E4-412D-A582-37C41F4B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C7E9-93F6-4C1E-8AF5-84FE581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B16F-7599-4CA9-815B-A662D50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0426-DE9F-44E4-9AC7-CEED7891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5BA5-60C4-44C3-B67D-0325D100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0F50-F86D-49E7-84B4-724F8144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EA2-8321-4FD2-AF26-B033670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4394-9B1E-43A0-8D1E-962D4C4D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2E8B-10CB-4AE2-90A9-FD46C957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EDCE-A76E-4321-B227-633CC7D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FF4F-94AA-4C98-91EE-F277905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79B6-BAB3-463D-878B-24854AA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BE67-0590-49E7-B444-77DD4F05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1D87-E41A-4EA4-BAA1-A575041A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A1728-8BE9-424C-87A2-2F4D78DD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3C9D-D922-47FD-BA2E-F4EF7E2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0D1B-B94C-41C8-819F-55F3ADD0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AA0-B8B6-4298-9640-1024E42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3E43-EECE-49DC-BD41-885B093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23B9-1167-4C19-AFAB-766FDF5D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3207-4767-4333-B2EB-83B53E92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7E80-F42B-49AB-9443-3DBE1CA8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3C7B-E862-4742-8E57-8B2D5235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77E24-75FF-41C7-8EBC-325E273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4641-B7A6-47C8-B91B-388FF7B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054A-4DA5-4A55-82CB-B9254D8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B345-433F-474E-A87C-03B90E4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F5A8-6F37-4BEF-86B1-AC2FD59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007-C2BB-4809-9792-320F491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29E1-F5A7-4E7F-91A5-C2A2C3B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28C2-0BE0-4454-8E29-B2D9E44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3711-7C56-4F57-AA62-A896170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EDF8-50AA-4997-B3BB-D01C6B6E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E265-36FD-48BF-AFD3-4EFFDF9D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207-F559-427C-9812-7E007C9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1B43-D383-4E8B-A08D-C09BCA44469B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1E49-5892-4562-B6A1-81A5C654DE67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E3B7-7416-4E41-B03A-1BDA1FD01CEA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D48-77FD-42BF-8474-99D01D383CDD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BBF-C66A-4BBB-B2BC-554640306A18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10AE-BACD-495F-B433-EFD718C976D9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86E7-22A1-4E50-AF9A-1A280215F0E1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dalin.mospsy.ru/ny/eligr03.shtml" TargetMode="External"/><Relationship Id="rId2" Type="http://schemas.openxmlformats.org/officeDocument/2006/relationships/hyperlink" Target="http://www.prazdnik.lifemammy.ru/ukrashenie-dlya-prazdnika-girlyanda-iz-bumag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4285800"/>
            <a:ext cx="7786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Consolas"/>
              </a:rPr>
              <a:t>Новогодняя гирлянда</a:t>
            </a:r>
            <a:endParaRPr b="0" lang="en-US" sz="5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00040" y="28573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чень простая в изготовлении, но в тоже время эффектно выглядящая гирлянда из бумаги своими руками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714760" y="785880"/>
            <a:ext cx="4214520" cy="42148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85840" y="50720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делайте несколько таких вееров разного цвета и расположив бумажные веера вверх ногами по отношению друг к другу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71720" y="28584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м больше вееров вы сделаете, тем длиннее получится гирлян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rcRect l="0" t="8335" r="0" b="12502"/>
          <a:stretch/>
        </p:blipFill>
        <p:spPr>
          <a:xfrm>
            <a:off x="1214280" y="1857240"/>
            <a:ext cx="1986120" cy="1571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rcRect l="0" t="8335" r="0" b="12502"/>
          <a:stretch/>
        </p:blipFill>
        <p:spPr>
          <a:xfrm>
            <a:off x="3214800" y="2571840"/>
            <a:ext cx="1985760" cy="1571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3"/>
          <a:srcRect l="0" t="8335" r="0" b="12502"/>
          <a:stretch/>
        </p:blipFill>
        <p:spPr>
          <a:xfrm>
            <a:off x="5214960" y="3286080"/>
            <a:ext cx="1986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428760" y="5000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еера  боковыми сторонами, так чтобы получилась гирлянда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Красиво смотрится гирлянда сделанная как из маленьких,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ак и больших вееров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5214960" y="292896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Источники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1"/>
              </a:rPr>
              <a:t>http://adalin.mospsy.ru/ny/eligr03.s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2"/>
              </a:rPr>
              <a:t>http://www.prazdnik.lifemammy.ru/ukrashenie-dlya-prazdnika-girlyanda-iz-bumagi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59533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7400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428840" y="242892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357120" y="214200"/>
            <a:ext cx="857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дельные заготовки надо скрепить между собой клее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осле чего подвесить получившиеся бумажные гирлянды под потоло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429600" cy="385740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"/>
          <p:cNvSpPr/>
          <p:nvPr/>
        </p:nvSpPr>
        <p:spPr>
          <a:xfrm>
            <a:off x="571680" y="357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 сложенного пополам листа бумаги по такому же принципу можно сделать вот такую красивую ажурную гирлянду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5716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Бумажная гирлянда – самое простое украшение для праздника своими руками. 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500040" y="50004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арежьте цветную  бумагу на одинаковые прямоугольники. Сложите каждый из них гармошкой, чтобы получилась бумажная полоска шириной 1,5–2 с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286000" y="264312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57120" y="285840"/>
            <a:ext cx="31431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Согните сложенную 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армошкой полоску пополам, чтобы гармошка стала похожа на крылья бабочки.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86120" y="571680"/>
            <a:ext cx="4834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785880" y="428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нутренние части «крыльев» так, чтобы получился веер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2:01Z</dcterms:created>
  <dc:creator>Александр</dc:creator>
  <dc:description/>
  <dc:language>en-US</dc:language>
  <cp:lastModifiedBy>Александр</cp:lastModifiedBy>
  <dcterms:modified xsi:type="dcterms:W3CDTF">2011-12-11T08:56:35Z</dcterms:modified>
  <cp:revision>6</cp:revision>
  <dc:subject/>
  <dc:title>Новогодняя гирлянда</dc:title>
</cp:coreProperties>
</file>