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234-66CE-471A-9E1A-08379469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6EE-E23B-4FFD-9F3A-757BE1A8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9DB-B54F-45DF-8148-7BF84EFC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E59-7D46-4089-A674-9B303E31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5AF9-87FF-462A-A240-1AD4633D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E936-E3EB-4095-8754-37A76ECE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3935-D9EC-4229-B62A-119A5E27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F591-F0E4-4CAF-99A6-64EB036C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2B8A-61EC-432E-9BAB-6DFF2D9B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DEFC-0992-4BAC-B309-A0506058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BE2E-4106-41B2-B98D-A5C4863A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676-FFA0-4BC4-87CA-4AB0D81B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15BB-8DF7-45D0-82BF-A5565A12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C024-88AF-4524-9039-2C7F3683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58B0-991A-4C8D-8451-311F4C7D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0ED3-B5AC-4A3A-93F6-3893DADA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3847-B15D-4F71-B980-0D7EC33D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1581F-847D-49E7-84F0-3FF86A9C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C0217-FBE7-4A7D-918D-3AD1D1A2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1056-40F1-4F37-B8C7-824323A5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F82B-2317-4FD5-AB64-D8D80B8E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FA3A9-4CF5-4209-BEC2-3C63F0EA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F98-684F-4564-B5D7-7318DAE8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206D4-675E-4A0E-A71B-F611051E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AB27E-BC25-4DAA-A869-E5337A56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F5662-6772-475C-A64E-6F287127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E107F-1236-45A0-9B70-D1183D96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8685D-2EBC-46D4-9F56-52F53661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F267F-6C10-4616-82C5-534651FB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A26C0-E375-4D7A-9FBE-7C0D4D05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85F36-9CA1-4397-AB7C-CE28A6F8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F9D96-5865-432F-B86C-582D462B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83C07-B2FD-4FAB-A720-1877B30E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769-4C56-486D-ABE6-C0A4BFD7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14285-10AE-4BCC-90E3-2B30A164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BF104-7593-4E13-9C01-1B42D3C2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A2C63-CF73-4311-AC75-C6739957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B487C-B6E2-471D-8153-5613BC11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6DF61-37A7-4445-A5E1-5D064EDE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F14A2-7E47-4096-A772-C8FF9067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D93AE-C455-4FCF-AC97-E395852F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B5081-F103-4995-8D65-6B44DFE7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A19D2-6839-4DA7-8484-32C848A8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21915-8C99-4569-BD55-4EA86EDB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EEC-CEE1-483F-9635-CD13983E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AFCE7-5984-4D9E-A326-B3E3F790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C403B-1D06-4F66-9DB7-39F13F0F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0349E-F606-4BF6-896F-E74870E6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73495-96FE-4D46-979C-B755202B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7151F-7A4E-4F91-9F26-2920044F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A24D8-03E1-4553-814D-59E0CE2D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84F54-BB68-4FD1-A56B-2515D987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C9522-CAAF-4BF5-AF2A-6F29032B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538E3-BD45-4693-B450-805369B2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0FCA7-7E91-4970-82BE-6FECACA8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1EB-439B-4C97-AAB8-C73BC1BE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B0498-FECA-419D-B1A2-2EAFD10F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54E1B-CF79-4D45-85E2-B1F34319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5B41F-99D7-466B-8339-D6EC30EF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E5886-FEFD-4D09-8F9F-830D9640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A1AF3-F3BF-4362-B521-C7C3B1D7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14C10-377E-47A7-9F71-F8A35F15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B2C07-9D21-4B99-A49D-55FE1045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E9F65-015D-4262-B834-13C29C01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C833E-B982-403B-8DBE-6B311CF0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43B61-D039-4B4A-8398-D08F9503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577-F5CC-4318-A94A-F8B82D74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E5041-1B81-4FBA-B09E-8C670D4E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2F60E-D772-4B49-8BE9-49ACD1BA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77726-DB99-46BF-8D85-90610780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94CC3-74DA-4C1C-969F-37CE41FA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E7432-F7C8-4929-B98E-D8B27F5C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D84D0-DE66-4E87-BB28-CE7D792C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9BFB5-2238-456C-B9D4-EAA6071D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AC0CF-32A0-4520-A9AE-1468EE0E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80D6C-1569-498B-B4C3-AA16F32E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D638B-F022-4921-A903-288A4455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DE9-6C01-40E1-B149-23CEA63D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1E086-C772-4965-9CA3-267B51E7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0D701-7A5B-4128-BBD4-19BF2378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DA55E-9E7E-4B0D-ADDF-30BEC129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12237-5AED-4B1A-8ABE-211DDEFE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61111-9E97-4A37-80C6-90FDD020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D79-E8A4-4E5F-B624-02E27E8C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8678-9D87-4E8C-B217-B501E15AC09D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CB3A-29B4-43AF-8B62-377F77EF0E0C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47b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47b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47b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8AE2-E304-4F73-9B40-5639E3181808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C41B-F503-4200-A409-998765B93BD7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47b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D85A-51C1-416B-843F-6A833AFF95EE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C222-361A-44C4-9413-44C95955816B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415D-4E6E-4679-B8A9-4BA077EB610F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dalin.mospsy.ru/ny/eligr03.shtml" TargetMode="External"/><Relationship Id="rId2" Type="http://schemas.openxmlformats.org/officeDocument/2006/relationships/hyperlink" Target="http://www.prazdnik.lifemammy.ru/ukrashenie-dlya-prazdnika-girlyanda-iz-bumag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320" y="4285800"/>
            <a:ext cx="77864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Consolas"/>
              </a:rPr>
              <a:t>Новогодняя гирлянда</a:t>
            </a:r>
            <a:endParaRPr b="0" lang="en-US" sz="5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00040" y="285732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Очень простая в изготовлении, но в тоже время эффектно выглядящая гирлянда из бумаги своими руками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714760" y="785880"/>
            <a:ext cx="4214520" cy="42148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285840" y="507204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Сделайте несколько таких вееров разного цвета и расположив бумажные веера вверх ногами по отношению друг к другу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1071720" y="28584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Чем больше вееров вы сделаете, тем длиннее получится гирлян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rcRect l="0" t="8335" r="0" b="12502"/>
          <a:stretch/>
        </p:blipFill>
        <p:spPr>
          <a:xfrm>
            <a:off x="1214280" y="1857240"/>
            <a:ext cx="1986120" cy="1571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rcRect l="0" t="8335" r="0" b="12502"/>
          <a:stretch/>
        </p:blipFill>
        <p:spPr>
          <a:xfrm>
            <a:off x="3214800" y="2571840"/>
            <a:ext cx="1985760" cy="1571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3"/>
          <a:srcRect l="0" t="8335" r="0" b="12502"/>
          <a:stretch/>
        </p:blipFill>
        <p:spPr>
          <a:xfrm>
            <a:off x="5214960" y="3286080"/>
            <a:ext cx="19861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1"/>
          <p:cNvSpPr/>
          <p:nvPr/>
        </p:nvSpPr>
        <p:spPr>
          <a:xfrm>
            <a:off x="428760" y="50004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риклейте веера  боковыми сторонами, так чтобы получилась гирлянда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Красиво смотрится гирлянда сделанная как из маленьких,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так и больших вееров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5214960" y="292896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Consolas"/>
              </a:rPr>
              <a:t>Источники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2d700"/>
                </a:solidFill>
                <a:uFillTx/>
                <a:latin typeface="Corbel"/>
                <a:hlinkClick r:id="rId1"/>
              </a:rPr>
              <a:t>http://adalin.mospsy.ru/ny/eligr03.shtm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2d700"/>
                </a:solidFill>
                <a:uFillTx/>
                <a:latin typeface="Corbel"/>
                <a:hlinkClick r:id="rId2"/>
              </a:rPr>
              <a:t>http://www.prazdnik.lifemammy.ru/ukrashenie-dlya-prazdnika-girlyanda-iz-bumagi/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643040" y="428760"/>
            <a:ext cx="59533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7400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428840" y="2428920"/>
            <a:ext cx="5792760" cy="385776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2"/>
          <p:cNvSpPr/>
          <p:nvPr/>
        </p:nvSpPr>
        <p:spPr>
          <a:xfrm>
            <a:off x="357120" y="214200"/>
            <a:ext cx="857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Отдельные заготовки надо скрепить между собой клеем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осле чего подвесить получившиеся бумажные гирлянды под потолок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357200" y="1928880"/>
            <a:ext cx="6429600" cy="385740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2"/>
          <p:cNvSpPr/>
          <p:nvPr/>
        </p:nvSpPr>
        <p:spPr>
          <a:xfrm>
            <a:off x="571680" y="357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 сложенного пополам листа бумаги по такому же принципу можно сделать вот такую красивую ажурную гирлянду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57168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Бумажная гирлянда – самое простое украшение для праздника своими руками. 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857240" y="1928880"/>
            <a:ext cx="45007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500040" y="50004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Нарежьте цветную  бумагу на одинаковые прямоугольники. Сложите каждый из них гармошкой, чтобы получилась бумажная полоска шириной 1,5–2 см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2286000" y="264312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357120" y="285840"/>
            <a:ext cx="314316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Согните сложенную 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гармошкой полоску пополам, чтобы гармошка стала похожа на крылья бабочки.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3786120" y="571680"/>
            <a:ext cx="483408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"/>
          <p:cNvSpPr/>
          <p:nvPr/>
        </p:nvSpPr>
        <p:spPr>
          <a:xfrm>
            <a:off x="785880" y="42876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риклейте внутренние части «крыльев» так, чтобы получился веер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928880" y="1428840"/>
            <a:ext cx="5143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08:02:01Z</dcterms:created>
  <dc:creator>Александр</dc:creator>
  <dc:description/>
  <dc:language>en-US</dc:language>
  <cp:lastModifiedBy>Александр</cp:lastModifiedBy>
  <dcterms:modified xsi:type="dcterms:W3CDTF">2011-12-11T08:56:35Z</dcterms:modified>
  <cp:revision>6</cp:revision>
  <dc:subject/>
  <dc:title>Новогодняя гирлянда</dc:title>
</cp:coreProperties>
</file>