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EAC-503A-4BB2-8031-6B10E268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7BD-6BA2-4AF0-A02E-94B9C19E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B0B-4C86-4122-855D-3B4ED14D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216C-7199-4B40-BF6E-46A3597D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8BAC-8E40-4205-8704-97E6A7AF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9605-0D92-4279-B9DC-0B0FBCFE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BD3E-78B7-4EA9-AB5A-0C00CA5A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306B-FE50-4B70-83A9-81455097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1C8E-F614-4E6A-9944-EEB97947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465A-71E6-4540-A5B8-AD44D3EB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F857-758C-4F29-AB4C-6C7A87B0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D56-CA17-4163-89E7-29B8D00D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1394-2027-4A2E-8050-982A6D31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C9E4-5BC8-43B7-B055-9311401F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A55B-6894-4691-ACC3-9DD9A771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07F5-1DA9-4A66-8FE1-403F0468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4286-103A-4248-88F4-40226817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06A4C-12F6-4191-A338-64629F56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8FB5E-5935-4440-B754-8BE12713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22F3F-A027-4565-84E7-C0C2245B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D99C5-22A0-451A-BD79-43671C5A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01FFB-E747-48B8-A3AC-51A2EFD7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90F9-BD34-400C-B1AB-5E54353C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15CE7-5F49-4413-BBC2-8F94B865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89FA8-D30D-4DF7-AE43-4C66C206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29452-9D14-4011-98CB-9573756E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6D4D8-8F7B-498D-B3D3-B87CDC85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A5C1E-D7D0-4E1A-BF48-4FC19E53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2C9CB-4B62-444F-A3F4-3850F154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384E7-AF32-45F0-AC69-4D3F01DB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06018-4769-447A-AC05-A4B6139B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E2467-7674-47B6-B059-CE9DD3F2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4B917-CADE-43FD-AE13-FF6FD15C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0E2-F74D-4386-9064-95B509FA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2C617-C120-4B02-B1D6-AE8370A9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57242-E265-432A-896A-5594AAB0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EA57D-8036-450B-ABA8-B8AE1528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2F2D1-6A02-494E-A2AD-2C797AFF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815E0-F57A-4AF1-8E78-943E0F9A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C3CD9-0835-41FC-B4AC-E3050AEF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0AFF6-6E5B-4E40-8053-A763F1CE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BEBCC-2503-4826-85A3-1948B7B5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CFE99-FF6A-4264-98E8-10C3597F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350AB-1575-42A9-A9CE-17083B7D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0A73-C2BB-4147-9356-F0FB8933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006F3-285C-458F-9671-F288B32B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FBC5E-F99B-460C-AE53-834E159B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6B435-5A48-418B-A60C-A2323E67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4CAB4-2C35-4D0F-A57B-A876D79D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D5880-D38D-4617-8C7A-57A948F1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A5EF8-03E8-481D-B105-7B9FF8BC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23B73-C6C7-450B-AE2F-AC1C316C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73104-0BAB-4DDF-9898-BEA1331A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F76F1-2790-4CC2-9065-1FF91013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E28B2-5CBB-4EC8-B4AB-9603C58C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C9BC-E54B-424B-A3E6-7D835063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4F67D-7087-419D-9F97-05C5470D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75C79-3087-45FB-B0C0-537E1613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C8130-82B3-4837-912B-77120015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B097B-4627-448D-BFE8-8410A9AE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64030-6701-4E26-AE97-196FDDFC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6A81C-D5B6-44F8-A50F-BB5FCFDF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F6D2B-714B-40F0-84A2-C7666324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45AE0-ECD2-4819-B9B9-4C8FC543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15A9F-CA8B-4289-AC5C-773C164F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44EA3-A2A3-428E-9CB6-6F076640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8DB-AAD5-4414-BA75-EEF9E2BF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8AD68-795A-41A3-8F5B-D569D501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DCF39-8CCA-43B7-B834-4CD3BB12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0B673-888E-464D-A63F-513559D5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054EE-7534-4198-B3B1-65F86DB0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C9EAF-800B-4568-9258-FFD3410D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275D4-005B-4409-9A20-89483036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2D273-E316-459D-9A5F-C0AE3FD0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7CEB3-8E11-4E7A-BE90-FE429EFE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1F358-886F-4D8F-8FDC-8A5C375B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A3500-F889-453E-AE2B-6AFEE741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E44B-62B1-4A3B-AFEE-C4A8FC60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F8BF7-6C96-4EE0-B677-9EEAA3AD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07C59-D82E-4135-A2F3-F2508B8C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E82F3-2FE8-4E6C-80A0-94D3A8C3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D70A0-BD62-49FB-8330-BDC3E250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B243C-E32A-47BC-B056-5C17017C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3B54-FC9E-48EC-A372-EBE13A89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A24D-2A4A-4E05-A3AB-04E931B62876}" type="slidenum"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421C-B5B7-4629-A7B5-EA3C59128486}" type="slidenum"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47b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1d7ea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247b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47b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2350-6EED-4156-9C06-0B09EB4004C4}" type="slidenum"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B07A-D5D8-4BB1-919C-B4FDD2430C7B}" type="slidenum"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47b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5E41-B576-4C92-8887-84323EEC788B}" type="slidenum"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2DCF-46ED-415C-88A2-F03F2C281E56}" type="slidenum"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79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0bd0d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516C-4F3E-42F0-9FCE-336B7889B997}" type="slidenum"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dalin.mospsy.ru/ny/eligr03.shtml" TargetMode="External"/><Relationship Id="rId2" Type="http://schemas.openxmlformats.org/officeDocument/2006/relationships/hyperlink" Target="http://www.prazdnik.lifemammy.ru/ukrashenie-dlya-prazdnika-girlyanda-iz-bumagi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1320" y="4285800"/>
            <a:ext cx="778644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ff"/>
                </a:solidFill>
                <a:latin typeface="Consolas"/>
              </a:rPr>
              <a:t>Новогодняя гирлянда</a:t>
            </a:r>
            <a:endParaRPr b="0" lang="en-US" sz="54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00040" y="285732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Очень простая в изготовлении, но в тоже время эффектно выглядящая гирлянда из бумаги своими руками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714760" y="785880"/>
            <a:ext cx="4214520" cy="42148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4"/>
          <p:cNvSpPr/>
          <p:nvPr/>
        </p:nvSpPr>
        <p:spPr>
          <a:xfrm>
            <a:off x="285840" y="507204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Сделайте несколько таких вееров разного цвета и расположив бумажные веера вверх ногами по отношению друг к другу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1071720" y="285840"/>
            <a:ext cx="77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Чем больше вееров вы сделаете, тем длиннее получится гирлянд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rcRect l="0" t="8335" r="0" b="12502"/>
          <a:stretch/>
        </p:blipFill>
        <p:spPr>
          <a:xfrm>
            <a:off x="1214280" y="1857240"/>
            <a:ext cx="1986120" cy="15717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rcRect l="0" t="8335" r="0" b="12502"/>
          <a:stretch/>
        </p:blipFill>
        <p:spPr>
          <a:xfrm>
            <a:off x="3214800" y="2571840"/>
            <a:ext cx="1985760" cy="1571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3"/>
          <a:srcRect l="0" t="8335" r="0" b="12502"/>
          <a:stretch/>
        </p:blipFill>
        <p:spPr>
          <a:xfrm>
            <a:off x="5214960" y="3286080"/>
            <a:ext cx="19861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оугольник 1"/>
          <p:cNvSpPr/>
          <p:nvPr/>
        </p:nvSpPr>
        <p:spPr>
          <a:xfrm>
            <a:off x="428760" y="50004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Приклейте веера  боковыми сторонами, так чтобы получилась гирлянда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Красиво смотрится гирлянда сделанная как из маленьких,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так и больших вееров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5214960" y="292896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Consolas"/>
              </a:rPr>
              <a:t>Источники</a:t>
            </a:r>
            <a:endParaRPr b="0" lang="en-US" sz="4000" spc="-1" strike="noStrike">
              <a:solidFill>
                <a:srgbClr val="ccff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2d700"/>
                </a:solidFill>
                <a:uFillTx/>
                <a:latin typeface="Corbel"/>
                <a:hlinkClick r:id="rId1"/>
              </a:rPr>
              <a:t>http://adalin.mospsy.ru/ny/eligr03.shtm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2d700"/>
                </a:solidFill>
                <a:uFillTx/>
                <a:latin typeface="Corbel"/>
                <a:hlinkClick r:id="rId2"/>
              </a:rPr>
              <a:t>http://www.prazdnik.lifemammy.ru/ukrashenie-dlya-prazdnika-girlyanda-iz-bumagi/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bf5f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643040" y="428760"/>
            <a:ext cx="59533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143000" y="928800"/>
            <a:ext cx="74008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428840" y="2428920"/>
            <a:ext cx="5792760" cy="385776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2"/>
          <p:cNvSpPr/>
          <p:nvPr/>
        </p:nvSpPr>
        <p:spPr>
          <a:xfrm>
            <a:off x="357120" y="214200"/>
            <a:ext cx="857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Отдельные заготовки надо скрепить между собой клеем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После чего подвесить получившиеся бумажные гирлянды под потолок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357200" y="1928880"/>
            <a:ext cx="6429600" cy="385740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2"/>
          <p:cNvSpPr/>
          <p:nvPr/>
        </p:nvSpPr>
        <p:spPr>
          <a:xfrm>
            <a:off x="571680" y="357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з сложенного пополам листа бумаги по такому же принципу можно сделать вот такую красивую ажурную гирлянду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57168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Бумажная гирлянда – самое простое украшение для праздника своими руками. 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857240" y="1928880"/>
            <a:ext cx="45007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1"/>
          <p:cNvSpPr/>
          <p:nvPr/>
        </p:nvSpPr>
        <p:spPr>
          <a:xfrm>
            <a:off x="500040" y="50004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Нарежьте цветную  бумагу на одинаковые прямоугольники. Сложите каждый из них гармошкой, чтобы получилась бумажная полоска шириной 1,5–2 см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2286000" y="264312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357120" y="285840"/>
            <a:ext cx="314316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Согните сложенную 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гармошкой полоску пополам, чтобы гармошка стала похожа на крылья бабочки.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3786120" y="571680"/>
            <a:ext cx="483408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"/>
          <p:cNvSpPr/>
          <p:nvPr/>
        </p:nvSpPr>
        <p:spPr>
          <a:xfrm>
            <a:off x="785880" y="42876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Приклейте внутренние части «крыльев» так, чтобы получился веер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928880" y="1428840"/>
            <a:ext cx="5143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08:02:01Z</dcterms:created>
  <dc:creator>Александр</dc:creator>
  <dc:description/>
  <dc:language>en-US</dc:language>
  <cp:lastModifiedBy>Александр</cp:lastModifiedBy>
  <dcterms:modified xsi:type="dcterms:W3CDTF">2011-12-11T08:56:35Z</dcterms:modified>
  <cp:revision>6</cp:revision>
  <dc:subject/>
  <dc:title>Новогодняя гирлянда</dc:title>
</cp:coreProperties>
</file>