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D80-A4F3-46B8-AD46-8B0A1539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3C3-E3D7-4059-9D2C-32955145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B7F-1C2C-490E-8AF4-8006847D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1E8-9A9B-4FAE-97E6-3DA51568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29BC-9074-482C-B9DE-F56ECCBF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8208-C37A-4027-A887-A69A639D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49DC-90C8-4FB6-BABF-4B1CFA6A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D9E1-7595-4F17-89E2-12914F0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F226-35DE-40CB-8119-D3A7FDFE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15FA-554F-4FEF-BF49-C4583CA2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6E40-51E4-4209-BD9B-477260F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0CA-4A8F-4E77-B49B-3539749F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C9E5-3980-4949-8DAC-29EB77D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2D3B-59D7-4EB4-A009-668F7AF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1DD7-1F2A-4180-87FD-CD2F0A4A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07A-AACE-41F4-B64E-C1E1F315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04E1-7A4C-4AEA-99B4-CE02124B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194-F2BE-47FE-942D-DAD02D0F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C75-FAE8-431E-82EE-E0F5B13E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853-AB31-4B3A-9D67-CE328A55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2EE-1B0D-4BE8-82BD-AE7A8A8D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45B-2CAB-4D8C-B5B5-59A060D1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0C4-A371-4A1B-B069-05193CAD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4A7-241C-4651-96DB-237AA17E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129E-825F-44DC-B694-EB48966CF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4C52-E232-4E4F-AB5A-CF7A238F8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User</cp:lastModifiedBy>
  <dcterms:modified xsi:type="dcterms:W3CDTF">2007-02-20T15:06:45Z</dcterms:modified>
  <cp:revision>24</cp:revision>
  <dc:subject/>
  <dc:title>ПЕ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3620</vt:lpwstr>
  </property>
</Properties>
</file>