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7D2-6060-489A-8AFF-3C2F139B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E21-010C-4D4C-BD8C-F2238FC0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19F-9163-40DB-8389-9263F4F8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95B-F7C2-424A-B134-4DF1152B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A8B8-A681-4D1C-9CDF-D3D4462F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83E8-3686-412D-88D5-DBAE917F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969D-2083-403E-BA37-9ACE5A0B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34BD-B2C3-44BE-B12A-5250A5A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2560-189C-455C-B9AB-8D00A6EA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4143-A50F-4510-9237-9B91DE65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59D1-D506-4683-A69D-66D010FC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62A-BBC6-46E7-B7F7-CA81CB65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AA82-6CEC-4041-A325-7B7B6FB4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60A2-54A4-4EDE-BB7E-4D0BBBFD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450E-15F5-42B3-825C-0709BFEC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30C3-9DEE-478D-B41D-CC68F679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D0A-0C3C-4AFD-9381-201D9C5E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B72-5BD5-475A-9A5C-29D6D04E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AEA-A0E4-4843-81EA-BDA1DA78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1A9-7562-4ADC-8CBF-BCC0476C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856-DC6C-4F0D-98A0-0C3363B6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188-3BCC-49A6-8009-77E6D660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B5D-707C-47BE-83D9-15254FC6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FB9-C760-4D06-9AFC-115178F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05BD-5B5D-4E0F-A703-33F5BD672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C166-C14D-48AC-A974-F67BBD417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User</cp:lastModifiedBy>
  <dcterms:modified xsi:type="dcterms:W3CDTF">2007-02-20T15:06:45Z</dcterms:modified>
  <cp:revision>24</cp:revision>
  <dc:subject/>
  <dc:title>ПЕ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3620</vt:lpwstr>
  </property>
</Properties>
</file>