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A8E-D16F-440E-BF45-666A5B15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236-5EE8-4021-AC42-6B72102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B51-5772-4D5A-8686-AE2E17B0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5DF-EDA6-4841-9B32-7F13BBAD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68E9-3981-4795-BD29-32B57DA8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6C2-B121-4ED3-BC5A-4A3646E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0C25-3478-43F9-A283-C855485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AADF-26C9-4EB2-A0A6-E2EC94D1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0C3-A965-4806-A182-DDE3AF0A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B5E-3DD8-4838-ADD7-B965E98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C2D-B760-4969-8DAB-65FD98A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FFC-6E50-4450-A1F9-5A14318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850F-4D8B-49D8-9BD5-1A09D24F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E27-B4E1-49DA-9D86-C1C7A5DD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25BE-DC70-4EDE-B6A1-2611A26A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FE97-15C3-42FC-B41B-E409A805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87C-99E6-46A2-9BC9-AB043C5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BDA-7C9D-4E89-8ED6-A9DF6A5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C8D-6937-4F00-9ED6-389F3AC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CF2-EFB5-403B-AA02-B159D0D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614-902A-457F-BAF2-6E7B8C5D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611-014B-42EA-B45E-4A2BDCC0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07C-1386-4DCA-B06D-05792B9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113-79D1-44B6-AD16-A5B14CC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8EB-B9D0-4BDB-919D-BBED9DCCB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F42-57B2-4586-BBCC-6063E8DBB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User</cp:lastModifiedBy>
  <dcterms:modified xsi:type="dcterms:W3CDTF">2007-02-20T15:06:45Z</dcterms:modified>
  <cp:revision>24</cp:revision>
  <dc:subject/>
  <dc:title>П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3620</vt:lpwstr>
  </property>
</Properties>
</file>