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25.gif" ContentType="image/gif"/>
  <Override PartName="/ppt/media/image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92B-7D0A-43DE-A801-DBCBB8D3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64E-D07A-429C-91BC-C76C40BD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3E7-88E4-4842-8F9C-957B71A7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13F-ADF3-4BC3-A530-B4A9B11F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0E5-8AF3-4224-ABE9-CC016168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493-15B1-42E0-A0FA-0DA16FDB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8E0-37B8-40B5-BDF8-A91B2E6D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17D-0125-42FF-91C0-B91EF5C7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00B-ACDB-4F0A-9705-5958C2B4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130-F5B0-4D8F-A782-DD5C05BD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248-89F6-424F-A916-A5FCE9CC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786-E731-41EA-A459-5AD87803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6010-1DB5-4CBB-A823-E44A7DDE3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Gill Sans Ultra Bold"/>
              </a:rPr>
              <a:t>Нарко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55736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703"/>
                </a:solidFill>
                <a:latin typeface="Gill Sans Ultra Bold"/>
              </a:rPr>
              <a:t>  </a:t>
            </a:r>
            <a:r>
              <a:rPr b="1" lang="ru-RU" sz="2800" spc="-1" strike="noStrike" u="sng">
                <a:solidFill>
                  <a:srgbClr val="a20000"/>
                </a:solidFill>
                <a:uFillTx/>
                <a:latin typeface="Gill Sans Ultra Bold"/>
              </a:rPr>
              <a:t>БЫСТРЫЙ КАЙФ – БЫСТРАЯ СМЕРТЬ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ost023"/>
          <p:cNvPicPr/>
          <p:nvPr/>
        </p:nvPicPr>
        <p:blipFill>
          <a:blip r:embed="rId1"/>
          <a:stretch/>
        </p:blipFill>
        <p:spPr>
          <a:xfrm>
            <a:off x="1547640" y="2276640"/>
            <a:ext cx="5904000" cy="4170240"/>
          </a:xfrm>
          <a:prstGeom prst="rect">
            <a:avLst/>
          </a:prstGeom>
          <a:ln w="0">
            <a:noFill/>
          </a:ln>
        </p:spPr>
      </p:pic>
      <p:pic>
        <p:nvPicPr>
          <p:cNvPr id="44" name="clint mansel-Summer Overture.wav" descr=""/>
          <p:cNvPicPr/>
          <p:nvPr/>
        </p:nvPicPr>
        <p:blipFill>
          <a:blip r:embed="rId2"/>
          <a:stretch/>
        </p:blipFill>
        <p:spPr>
          <a:xfrm>
            <a:off x="428760" y="4287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Багетная рамка 5"/>
          <p:cNvSpPr/>
          <p:nvPr/>
        </p:nvSpPr>
        <p:spPr>
          <a:xfrm>
            <a:off x="3643200" y="6286680"/>
            <a:ext cx="3071880" cy="5713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Ultra Bold"/>
              </a:rPr>
              <a:t>[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ill Sans Ultra Bold"/>
              </a:rPr>
              <a:t>Наркомания - угроза существованию нации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Ultra Bold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Наркоманию</a:t>
            </a:r>
            <a:r>
              <a:rPr b="1" lang="en-US" sz="19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можно сравнить с геноцидом, причем, из всех способов истребления народа самым эффективным является распространение наркотиков. Они, как средство геноцида, имеют 3 великих достоинств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95280" y="2492280"/>
            <a:ext cx="8353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ВО-ПЕРВЫХ</a:t>
            </a:r>
            <a:r>
              <a:rPr b="0" lang="ru-RU" sz="1700" spc="-1" strike="noStrike">
                <a:solidFill>
                  <a:srgbClr val="000000"/>
                </a:solidFill>
                <a:latin typeface="Gill Sans Ultra Bold"/>
              </a:rPr>
              <a:t>: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они устраняют сразу 3 поколения людей, потому что люди от 15 до 25 лет, став наркоманами, умирают через 4-5 лет. Они заражаются гепатитом, ВИЧ и другими болезнями; не оставляют потомства, во всяком случае полноценного, потому что у наркоманов угнетаются сексуальные желания и возможности.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ВО-ВТОРЫХ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: уничтожение населения происходит без убийств, без крови и насилия. Не нужно трат времени, средств и трудов на нейтронную бомбу и военные действия. Все сделают наркоманы своими собственными руками.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В-ТРЕТЬИХ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: наркоманы очень щедро платят наркомафии за свое собственное самоубийство. Отдадут все свои деньги, продадут ценные вещи и даже квартиры для того чтобы покупать наркотики. 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Наркотизация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 - это дьявольский способ отобрать у человека деньги и всё, что он имеет.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-100080"/>
            <a:ext cx="8135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20000"/>
                </a:solidFill>
                <a:uFillTx/>
                <a:latin typeface="Gill Sans Ultra Bold"/>
              </a:rPr>
              <a:t>Как действуют нарко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3672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Наркотики</a:t>
            </a:r>
            <a:r>
              <a:rPr b="1" lang="ru-RU" sz="2000" spc="-1" strike="noStrike">
                <a:solidFill>
                  <a:srgbClr val="a20000"/>
                </a:solidFill>
                <a:latin typeface="Gill Sans Ultra Bold"/>
              </a:rPr>
              <a:t> - это, по сути своей, яды. Их действие зависит от величины дозы. Небольшое количество действует возбуждающе, большее количество действует успокаивающе, еще большее действует как яд и УБИВАЕ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24360" y="907920"/>
            <a:ext cx="201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Ultra Bold"/>
              </a:rPr>
              <a:t>Это справедливо для любого наркотика. Просто у каждого своя доза, будь то кофе, мышьяк или метамфетамин.</a:t>
            </a: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300720" y="836640"/>
            <a:ext cx="284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00"/>
                </a:solidFill>
                <a:latin typeface="Gill Sans Ultra Bold"/>
              </a:rPr>
              <a:t>Наркотики блокируют все ощущения, как приятные, так и нежелательные.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Gill Sans Ultra Bold"/>
              </a:rPr>
              <a:t>У каждого человека есть выбор: быть мертвым с наркотиками или остаться в живых без них…</a:t>
            </a: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x_7e7bcb4f"/>
          <p:cNvPicPr/>
          <p:nvPr/>
        </p:nvPicPr>
        <p:blipFill>
          <a:blip r:embed="rId1"/>
          <a:stretch/>
        </p:blipFill>
        <p:spPr>
          <a:xfrm>
            <a:off x="324000" y="2924280"/>
            <a:ext cx="3240000" cy="2066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2184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Gill Sans Ultra Bold"/>
              </a:rPr>
              <a:t>Наркотики – не выход</a:t>
            </a:r>
            <a:r>
              <a:rPr b="1" lang="ru-RU" sz="3200" spc="-1" strike="noStrike">
                <a:solidFill>
                  <a:srgbClr val="ffffff"/>
                </a:solidFill>
                <a:latin typeface="Gill Sans Ultra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x_31673ee4"/>
          <p:cNvPicPr/>
          <p:nvPr/>
        </p:nvPicPr>
        <p:blipFill>
          <a:blip r:embed="rId2"/>
          <a:stretch/>
        </p:blipFill>
        <p:spPr>
          <a:xfrm>
            <a:off x="5975280" y="2924280"/>
            <a:ext cx="3168720" cy="198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x_de52f008"/>
          <p:cNvPicPr/>
          <p:nvPr/>
        </p:nvPicPr>
        <p:blipFill>
          <a:blip r:embed="rId3"/>
          <a:stretch/>
        </p:blipFill>
        <p:spPr>
          <a:xfrm>
            <a:off x="3419640" y="4653000"/>
            <a:ext cx="309708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пальчики"/>
          <p:cNvPicPr/>
          <p:nvPr/>
        </p:nvPicPr>
        <p:blipFill>
          <a:blip r:embed="rId4"/>
          <a:stretch/>
        </p:blipFill>
        <p:spPr>
          <a:xfrm>
            <a:off x="3203640" y="155736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Эмо 111"/>
          <p:cNvPicPr/>
          <p:nvPr/>
        </p:nvPicPr>
        <p:blipFill>
          <a:blip r:embed="rId5"/>
          <a:stretch/>
        </p:blipFill>
        <p:spPr>
          <a:xfrm>
            <a:off x="6767640" y="549360"/>
            <a:ext cx="2376360" cy="236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Жесть 12"/>
          <p:cNvPicPr/>
          <p:nvPr/>
        </p:nvPicPr>
        <p:blipFill>
          <a:blip r:embed="rId6"/>
          <a:stretch/>
        </p:blipFill>
        <p:spPr>
          <a:xfrm>
            <a:off x="6948360" y="4941720"/>
            <a:ext cx="1370160" cy="172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Эмо 94"/>
          <p:cNvPicPr/>
          <p:nvPr/>
        </p:nvPicPr>
        <p:blipFill>
          <a:blip r:embed="rId7"/>
          <a:stretch/>
        </p:blipFill>
        <p:spPr>
          <a:xfrm>
            <a:off x="395280" y="4803840"/>
            <a:ext cx="2665440" cy="2054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Эмо 89"/>
          <p:cNvPicPr/>
          <p:nvPr/>
        </p:nvPicPr>
        <p:blipFill>
          <a:blip r:embed="rId8"/>
          <a:stretch/>
        </p:blipFill>
        <p:spPr>
          <a:xfrm>
            <a:off x="324000" y="260280"/>
            <a:ext cx="2157120" cy="270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Gill Sans Ultra Bold"/>
              </a:rPr>
              <a:t>Галлюцинации - Кайф - Смер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Dead (407)"/>
          <p:cNvPicPr/>
          <p:nvPr/>
        </p:nvPicPr>
        <p:blipFill>
          <a:blip r:embed="rId1"/>
          <a:stretch/>
        </p:blipFill>
        <p:spPr>
          <a:xfrm>
            <a:off x="6799320" y="981000"/>
            <a:ext cx="2344680" cy="338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Quiet im sorry"/>
          <p:cNvPicPr/>
          <p:nvPr/>
        </p:nvPicPr>
        <p:blipFill>
          <a:blip r:embed="rId2"/>
          <a:stretch/>
        </p:blipFill>
        <p:spPr>
          <a:xfrm>
            <a:off x="1332000" y="328464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Эмо 164"/>
          <p:cNvPicPr/>
          <p:nvPr/>
        </p:nvPicPr>
        <p:blipFill>
          <a:blip r:embed="rId3"/>
          <a:stretch/>
        </p:blipFill>
        <p:spPr>
          <a:xfrm>
            <a:off x="6076800" y="3546360"/>
            <a:ext cx="3067200" cy="331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Вода и слёзы"/>
          <p:cNvPicPr/>
          <p:nvPr/>
        </p:nvPicPr>
        <p:blipFill>
          <a:blip r:embed="rId4"/>
          <a:stretch/>
        </p:blipFill>
        <p:spPr>
          <a:xfrm>
            <a:off x="3564000" y="1125360"/>
            <a:ext cx="3313080" cy="2643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полет"/>
          <p:cNvPicPr/>
          <p:nvPr/>
        </p:nvPicPr>
        <p:blipFill>
          <a:blip r:embed="rId5"/>
          <a:stretch/>
        </p:blipFill>
        <p:spPr>
          <a:xfrm>
            <a:off x="0" y="419400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Полный набор счастья"/>
          <p:cNvPicPr/>
          <p:nvPr/>
        </p:nvPicPr>
        <p:blipFill>
          <a:blip r:embed="rId6"/>
          <a:stretch/>
        </p:blipFill>
        <p:spPr>
          <a:xfrm>
            <a:off x="250920" y="981000"/>
            <a:ext cx="3457440" cy="165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Кровавая река"/>
          <p:cNvPicPr/>
          <p:nvPr/>
        </p:nvPicPr>
        <p:blipFill>
          <a:blip r:embed="rId7"/>
          <a:stretch/>
        </p:blipFill>
        <p:spPr>
          <a:xfrm>
            <a:off x="108000" y="2637000"/>
            <a:ext cx="2449440" cy="156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Страх"/>
          <p:cNvPicPr/>
          <p:nvPr/>
        </p:nvPicPr>
        <p:blipFill>
          <a:blip r:embed="rId8"/>
          <a:stretch/>
        </p:blipFill>
        <p:spPr>
          <a:xfrm>
            <a:off x="2556000" y="2637000"/>
            <a:ext cx="1066680" cy="85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837396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создании презентации были задействов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ill Sans Ultra Bold"/>
              </a:rPr>
              <a:t>Сайты: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findm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narkotiki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pme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narcom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netnarkotik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ill Sans Ultra Bold"/>
              </a:rPr>
              <a:t>С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-Журнал «БРА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70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35d0e"/>
                </a:solidFill>
                <a:uFillTx/>
                <a:latin typeface="Arial Black"/>
              </a:rPr>
              <a:t>*</a:t>
            </a:r>
            <a:r>
              <a:rPr b="0" lang="ru-RU" sz="4000" spc="-1" strike="noStrike" u="sng">
                <a:solidFill>
                  <a:srgbClr val="035d0e"/>
                </a:solidFill>
                <a:uFillTx/>
                <a:latin typeface="Arial Black"/>
              </a:rPr>
              <a:t>Марихуана</a:t>
            </a:r>
            <a:r>
              <a:rPr b="0" lang="en-US" sz="4000" spc="-1" strike="noStrike" u="sng">
                <a:solidFill>
                  <a:srgbClr val="035d0e"/>
                </a:solidFill>
                <a:uFillTx/>
                <a:latin typeface="Arial Black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87280" y="691920"/>
            <a:ext cx="5977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76"/>
              </a:spcBef>
              <a:buClr>
                <a:srgbClr val="52bd3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52bd39"/>
                </a:solidFill>
                <a:uFillTx/>
                <a:latin typeface="Bodoni MT Black"/>
              </a:rPr>
              <a:t>Происхождение: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 «Травка» или «дурь» пришла из Древней Индии и Ближнего Востока, где поначалу имела широкое применение в медицинских целях. Кроме марихуаны из конопли добывают гашиш и анашу. </a:t>
            </a:r>
            <a:r>
              <a:rPr b="1" i="1" lang="en-US" sz="1900" spc="-1" strike="noStrike" u="sng">
                <a:solidFill>
                  <a:srgbClr val="5bfe00"/>
                </a:solidFill>
                <a:uFillTx/>
                <a:latin typeface="Bodoni MT Black"/>
              </a:rPr>
              <a:t>Mariguando</a:t>
            </a:r>
            <a:r>
              <a:rPr b="1" lang="en-US" sz="1900" spc="-1" strike="noStrike">
                <a:solidFill>
                  <a:srgbClr val="cc0000"/>
                </a:solidFill>
                <a:latin typeface="Bodoni MT Black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Bodoni MT Black"/>
              </a:rPr>
              <a:t>(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от порт. «пьянящий»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76"/>
              </a:spcBef>
              <a:buClr>
                <a:srgbClr val="52bd3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52bd39"/>
                </a:solidFill>
                <a:uFillTx/>
                <a:latin typeface="Bodoni MT Black"/>
              </a:rPr>
              <a:t>Действие: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 Марихуану курят как сигареты, либо с помощью подручных средств. Эффект появляется почти сразу после курения, достигает своего пика в течении 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30 минут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 и продолжается </a:t>
            </a:r>
            <a:r>
              <a:rPr b="1" i="1" lang="ru-RU" sz="1900" spc="-1" strike="noStrike">
                <a:solidFill>
                  <a:srgbClr val="000000"/>
                </a:solidFill>
                <a:latin typeface="Bodoni MT Black"/>
              </a:rPr>
              <a:t>2-4 часа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. Повышается чувствительность к окружающим предметам, возникает чувство эйфории, радости, спокойствия, иногда тревог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76"/>
              </a:spcBef>
              <a:buClr>
                <a:srgbClr val="52bd3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2bd39"/>
                </a:solidFill>
                <a:latin typeface="Bodoni MT Black"/>
              </a:rPr>
              <a:t>Вред:</a:t>
            </a:r>
            <a:r>
              <a:rPr b="1" lang="ru-RU" sz="1900" spc="-1" strike="noStrike">
                <a:solidFill>
                  <a:srgbClr val="990033"/>
                </a:solidFill>
                <a:latin typeface="Bodoni MT Black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Человек становится заторможенным, теряется в мыслях, иногда не может вспомнить какие-то событ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2556000" cy="28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icture1"/>
          <p:cNvPicPr/>
          <p:nvPr/>
        </p:nvPicPr>
        <p:blipFill>
          <a:blip r:embed="rId2"/>
          <a:stretch/>
        </p:blipFill>
        <p:spPr>
          <a:xfrm>
            <a:off x="468360" y="4149720"/>
            <a:ext cx="25909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 Black"/>
              </a:rPr>
              <a:t>кокаин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1640" y="981000"/>
            <a:ext cx="60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18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наркотик, производимый из листьев коки, активно растущей на северо-западе Латинской Америки. Встречается в виде белого порошка, который нюхают небольшими порциями. В России получил большее распространение после введения сухого закона в </a:t>
            </a:r>
            <a:r>
              <a:rPr b="1" lang="ru-RU" sz="1700" spc="-1" strike="noStrike" u="sng">
                <a:solidFill>
                  <a:srgbClr val="5bfe00"/>
                </a:solidFill>
                <a:uFillTx/>
                <a:latin typeface="Gill Sans Ultra Bold"/>
              </a:rPr>
              <a:t>1914 году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0033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990033"/>
                </a:solidFill>
                <a:uFillTx/>
                <a:latin typeface="Gill Sans Ultra Bold"/>
              </a:rPr>
              <a:t>Действие: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 Сразу после того, как порошок попадает на слизистую носа, наступает «приход». Резко повышается активность, происходит прилив энергии - но продолжается это недолго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0033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990033"/>
                </a:solidFill>
                <a:uFillTx/>
                <a:latin typeface="Gill Sans Ultra Bold"/>
              </a:rPr>
              <a:t>Вред: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 Полный набор проблем - повреждается слизистая носа, начинается хронический насморк, из носа идет кровь; появляется паранойя, мания преследования, зрительные и слуховые галлюцинации, нарушение сна, потеря аппети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088"/>
          <p:cNvPicPr/>
          <p:nvPr/>
        </p:nvPicPr>
        <p:blipFill>
          <a:blip r:embed="rId1"/>
          <a:stretch/>
        </p:blipFill>
        <p:spPr>
          <a:xfrm>
            <a:off x="395280" y="134136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1949400" cy="25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8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9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2bd39"/>
                </a:solidFill>
                <a:uFillTx/>
                <a:latin typeface="Arial Black"/>
              </a:rPr>
              <a:t>*</a:t>
            </a:r>
            <a:r>
              <a:rPr b="0" lang="ru-RU" sz="4400" spc="-1" strike="noStrike" u="sng">
                <a:solidFill>
                  <a:srgbClr val="52bd39"/>
                </a:solidFill>
                <a:uFillTx/>
                <a:latin typeface="Arial Black"/>
              </a:rPr>
              <a:t>Спиды</a:t>
            </a:r>
            <a:r>
              <a:rPr b="0" lang="en-US" sz="4400" spc="-1" strike="noStrike" u="sng">
                <a:solidFill>
                  <a:srgbClr val="52bd39"/>
                </a:solidFill>
                <a:uFillTx/>
                <a:latin typeface="Arial Black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3280" y="1267920"/>
            <a:ext cx="5483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52bd39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2bd39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18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Спиды были изобретены в 1932 году как средство, подавляющее аппетит. В США широкое распространение амфетамины получили в 70-е го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5bfe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5bfe00"/>
                </a:solidFill>
                <a:uFillTx/>
                <a:latin typeface="Gill Sans Ultra Bold"/>
              </a:rPr>
              <a:t>Действие:</a:t>
            </a:r>
            <a:r>
              <a:rPr b="1" lang="ru-RU" sz="1700" spc="-1" strike="noStrike">
                <a:solidFill>
                  <a:srgbClr val="990033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Эффект заключается в повышении активности и бодрости, снижение утомляемости, способности концентрировать свое внимание и память, снижать потребность в сне. Спиды растирают в порошок и нюхают через любое подручное сред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52bd39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52bd39"/>
                </a:solidFill>
                <a:uFillTx/>
                <a:latin typeface="Gill Sans Ultra Bold"/>
              </a:rPr>
              <a:t>Вред:</a:t>
            </a:r>
            <a:r>
              <a:rPr b="1" lang="ru-RU" sz="1700" spc="-1" strike="noStrike">
                <a:solidFill>
                  <a:srgbClr val="52bd39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Высокие дозы могут вызвать судороги и психозы. Стабильное употребление приводит к физическому и психическому истощению. Нарушается работа почек, печени, ухудшаются иммунная система и зр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448000" cy="179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rags"/>
          <p:cNvPicPr/>
          <p:nvPr/>
        </p:nvPicPr>
        <p:blipFill>
          <a:blip r:embed="rId2"/>
          <a:stretch/>
        </p:blipFill>
        <p:spPr>
          <a:xfrm>
            <a:off x="755640" y="3213000"/>
            <a:ext cx="2232000" cy="195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360" y="287280"/>
            <a:ext cx="7705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20000"/>
                </a:solidFill>
                <a:uFillTx/>
                <a:latin typeface="Arial Black"/>
              </a:rPr>
              <a:t>*</a:t>
            </a:r>
            <a:r>
              <a:rPr b="1" lang="ru-RU" sz="4000" spc="-1" strike="noStrike" u="sng">
                <a:solidFill>
                  <a:srgbClr val="a20000"/>
                </a:solidFill>
                <a:uFillTx/>
                <a:latin typeface="Arial Black"/>
              </a:rPr>
              <a:t>Экстази</a:t>
            </a:r>
            <a:r>
              <a:rPr b="1" lang="en-US" sz="4000" spc="-1" strike="noStrike" u="sng">
                <a:solidFill>
                  <a:srgbClr val="a20000"/>
                </a:solidFill>
                <a:uFillTx/>
                <a:latin typeface="Arial Black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3212640"/>
            <a:ext cx="79214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Gill Sans Ultra Bold"/>
              </a:rPr>
              <a:t>Происхождение:</a:t>
            </a:r>
            <a:r>
              <a:rPr b="1" lang="en-US" sz="2000" spc="-1" strike="noStrike">
                <a:solidFill>
                  <a:srgbClr val="52bd39"/>
                </a:solidFill>
                <a:latin typeface="Gill Sans Ultra Bol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Широкое использование наркотик получил в 90-е годы прошлого века вместе с популяризацией культуры рей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Действие:</a:t>
            </a:r>
            <a:r>
              <a:rPr b="1" lang="ru-RU" sz="1900" spc="-1" strike="noStrike">
                <a:solidFill>
                  <a:srgbClr val="990033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Съев таблетку экстази, человек уже через 15-20 минут начинает чувствовать ее эффект – восторг, любовь, искреннюю радость. Обостряется восприятие, мир играет новыми краск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Вред:</a:t>
            </a:r>
            <a:r>
              <a:rPr b="1" lang="ru-RU" sz="1900" spc="-1" strike="noStrike">
                <a:solidFill>
                  <a:srgbClr val="009999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Экстази вызывает психическое истощение, повреждает нервные клетки и участки мозга, в рез-те чего нарушается нормальное функционирование организма.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39805_20071008125935"/>
          <p:cNvPicPr/>
          <p:nvPr/>
        </p:nvPicPr>
        <p:blipFill>
          <a:blip r:embed="rId1"/>
          <a:stretch/>
        </p:blipFill>
        <p:spPr>
          <a:xfrm>
            <a:off x="684360" y="1197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747101_1113475786"/>
          <p:cNvPicPr/>
          <p:nvPr/>
        </p:nvPicPr>
        <p:blipFill>
          <a:blip r:embed="rId2"/>
          <a:stretch/>
        </p:blipFill>
        <p:spPr>
          <a:xfrm>
            <a:off x="6156360" y="1197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3276720" y="907920"/>
            <a:ext cx="2447640" cy="233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705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5d0e"/>
                </a:solidFill>
                <a:latin typeface="Impact"/>
              </a:rPr>
              <a:t>‘</a:t>
            </a:r>
            <a:r>
              <a:rPr b="0" lang="ru-RU" sz="4000" spc="-1" strike="noStrike">
                <a:solidFill>
                  <a:srgbClr val="035d0e"/>
                </a:solidFill>
                <a:latin typeface="Impact"/>
              </a:rPr>
              <a:t>Г Р И Б Ы</a:t>
            </a:r>
            <a:r>
              <a:rPr b="0" lang="en-US" sz="4000" spc="-1" strike="noStrike">
                <a:solidFill>
                  <a:srgbClr val="035d0e"/>
                </a:solidFill>
                <a:latin typeface="Impact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2000" spc="-1" strike="noStrike">
                <a:solidFill>
                  <a:srgbClr val="ffffff"/>
                </a:solidFill>
                <a:latin typeface="Gill Sans Ultra Bold"/>
              </a:rPr>
              <a:t> Некоторые древние племена употребляли их в пищу для того, чтобы общаться с духами и Богами, считая, что эти грибы волшебные. </a:t>
            </a:r>
            <a:r>
              <a:rPr b="1" i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Теоретически галлюциногенные грибы могут расти в любом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Действие:</a:t>
            </a:r>
            <a:r>
              <a:rPr b="1" lang="ru-RU" sz="19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Употребление в пищу таких грибов может вызвать сильные галлюцинации. Человек теряет ощущение реальности и как будто попадает в другой ми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Вред:</a:t>
            </a:r>
            <a:r>
              <a:rPr b="1" lang="ru-RU" sz="19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Грибы можно перепутать с ядовитыми, так как они очень похожи. В случае передозировки грибов запросто может слететь с катушек – и больше в себя уже не прийти. Случались летальные исходы, когда люди употребляли грибы, «выходили» в окна, не осознавая, что они делают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2411280" y="4941720"/>
            <a:ext cx="410400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1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9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urier New"/>
              </a:rPr>
              <a:t>…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L S D</a:t>
            </a:r>
            <a:r>
              <a:rPr b="1" lang="ru-RU" sz="4000" spc="-1" strike="noStrike">
                <a:solidFill>
                  <a:srgbClr val="ffffff"/>
                </a:solidFill>
                <a:latin typeface="Courier New"/>
              </a:rPr>
              <a:t>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16000" y="907920"/>
            <a:ext cx="604836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a2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2000" spc="-1" strike="noStrike">
                <a:solidFill>
                  <a:srgbClr val="ffffff"/>
                </a:solidFill>
                <a:latin typeface="Engravers MT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ЛСД(«кислота», «бумага», «марка») был изобретен швейцарским химиком Альбертом Хофманном в 1938 году. В 60-х годах наркотик получил распространение в движении «ХИППИ», а затем по всему миру. </a:t>
            </a:r>
            <a:r>
              <a:rPr b="1" lang="ru-RU" sz="1900" spc="-1" strike="noStrike" u="sng">
                <a:solidFill>
                  <a:srgbClr val="ffffff"/>
                </a:solidFill>
                <a:uFillTx/>
                <a:latin typeface="Gill Sans Ultra Bold"/>
              </a:rPr>
              <a:t>ЛСД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 представляет собой кусочек бумаги, пропитанной наркотическим веществом без определенного запаха и вкус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a2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a20000"/>
                </a:solidFill>
                <a:uFillTx/>
                <a:latin typeface="Gill Sans Ultra Bold"/>
              </a:rPr>
              <a:t>Действие:</a:t>
            </a:r>
            <a:r>
              <a:rPr b="1" lang="ru-RU" sz="1900" spc="-1" strike="noStrike">
                <a:solidFill>
                  <a:srgbClr val="a2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Употребление ЛСД вызывает потоотделение,  бессонницу, слабость, тошнота. А также сильнейшие галлюцинации: меняются цвета и расползаются стены, возникают сильные душевные пережива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a2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20000"/>
                </a:solidFill>
                <a:latin typeface="Gill Sans Ultra Bold"/>
              </a:rPr>
              <a:t>Вред: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ЛСД вызывает временное серьезное изменение психики, и человек под его воздействием не отдает себе отчета в происходящих вокруг него событ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735280" cy="243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Ultra Bold"/>
              </a:rPr>
              <a:t>Героин – самый страшный из наркотик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5843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Происхождение:</a:t>
            </a:r>
            <a:r>
              <a:rPr b="0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Впервые был выпущен в 1898 году компанией </a:t>
            </a:r>
            <a:r>
              <a:rPr b="1" lang="en-US" sz="1900" spc="-1" strike="noStrike">
                <a:solidFill>
                  <a:srgbClr val="000000"/>
                </a:solidFill>
                <a:latin typeface="Gill Sans Ultra Bold"/>
              </a:rPr>
              <a:t>BAYER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 как средство от кашля. В немецких аптеках героин можно было купить до 1971 года, в остальных странах наркотик был запрещен еще раньш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Действие: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Наиболее распространенный способ употребления – внутривенные инъекции. Порошок растворяют с помощью огня, заправляют в иглу и колят в вену. Героин вызывает сильнейшее чувство эйфории, при котором полностью стирается связь с реальност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Вред: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9933ff"/>
                </a:solidFill>
                <a:latin typeface="Gill Sans Ultra Bold"/>
              </a:rPr>
              <a:t>Быстро вызывает привыкание, уже после 3-5 доз. Через месяц после приема начинается вторая стадия привыкания, когда собственными силами от наркотиков уйти невозможно, а ломки ужасающие: всё видится как в тумане, сводит живот, сильнейшие головные бол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9038aa56b3ac2872bb005518f741f5b"/>
          <p:cNvPicPr/>
          <p:nvPr/>
        </p:nvPicPr>
        <p:blipFill>
          <a:blip r:embed="rId1"/>
          <a:stretch/>
        </p:blipFill>
        <p:spPr>
          <a:xfrm>
            <a:off x="6300720" y="981000"/>
            <a:ext cx="2087640" cy="1379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bimg288214"/>
          <p:cNvPicPr/>
          <p:nvPr/>
        </p:nvPicPr>
        <p:blipFill>
          <a:blip r:embed="rId2"/>
          <a:stretch/>
        </p:blipFill>
        <p:spPr>
          <a:xfrm>
            <a:off x="6300720" y="234936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narkotiki"/>
          <p:cNvPicPr/>
          <p:nvPr/>
        </p:nvPicPr>
        <p:blipFill>
          <a:blip r:embed="rId3"/>
          <a:stretch/>
        </p:blipFill>
        <p:spPr>
          <a:xfrm>
            <a:off x="6300720" y="386064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x_5683f040c6"/>
          <p:cNvPicPr/>
          <p:nvPr/>
        </p:nvPicPr>
        <p:blipFill>
          <a:blip r:embed="rId4"/>
          <a:stretch/>
        </p:blipFill>
        <p:spPr>
          <a:xfrm>
            <a:off x="6300720" y="5229360"/>
            <a:ext cx="2305080" cy="132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46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Исследование в Европе среди 15-летних подростков, показывает, что такой наркотик, как конопля употребляют от 10 до 30% опрошенных. Самый высокий уровень употребления конопли зафиксирован среди юношей Соединенного Королевства (42,5%). В Европе растет уровень употребления кокаина. В Испании и Соединенном Королевстве уровень употребления кокаина сравним с аналогичным показателем в США (2%). Молодежь стала больше употреблять кокаин в Австрии, Дании, Германии, Греции, Ирландии, Италии, Испании и Нидерландах. И для многих это не наркотики, а так бало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В наши дни подростки больше всего подвержены влиянию наркотиков. Согласно опросам, около 45% учеников средних школ в России к 13 годам уже пробовали наркотики или алкоголь или же употребляют их постоя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age004"/>
          <p:cNvPicPr/>
          <p:nvPr/>
        </p:nvPicPr>
        <p:blipFill>
          <a:blip r:embed="rId1"/>
          <a:stretch/>
        </p:blipFill>
        <p:spPr>
          <a:xfrm>
            <a:off x="4788000" y="260280"/>
            <a:ext cx="4024080" cy="57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22:12Z</dcterms:created>
  <dc:creator>Пельмешка</dc:creator>
  <dc:description/>
  <dc:language>en-US</dc:language>
  <cp:lastModifiedBy>Admin</cp:lastModifiedBy>
  <dcterms:modified xsi:type="dcterms:W3CDTF">2012-05-01T14:51:27Z</dcterms:modified>
  <cp:revision>70</cp:revision>
  <dc:subject/>
  <dc:title>DRUGS</dc:title>
</cp:coreProperties>
</file>