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886-370D-45B9-B726-062276AD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C04-5D6E-4ADC-B4DC-080BB796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A98-F699-42B3-A823-AB09A78D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F34-62A2-4EBE-9196-B08F16D5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2795-03B1-4D5D-B00A-7B170201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EC04-40A1-435F-88F9-CD99829C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931F-5A0E-41A2-AB67-D36A15DC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BA92-6BB5-4B90-B435-DCC1B1FE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D91A-84F9-48BC-9E68-BD9CC2CB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C450-BA71-454E-8A80-91F91EDD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2E72-440A-49BE-B241-C3CE2661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347-D00F-41FF-89EA-458094A9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0B8A-5D85-4FB6-9D65-6E6118DB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9A14-1DA6-4032-B90A-E03D241C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D007-DF4D-4441-AE93-25B4F9E0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E0F4-EF5E-4EEB-B32E-69078F54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D899-D1B4-462C-B9B3-32FA8F33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A61A-1DC1-4CD0-BC2D-AD4C12A7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C64-90BA-4B8F-A7AA-027C451C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7ED-4A30-45E0-B417-811F045E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4FC-A234-4077-8960-F92471B9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60E-CD57-4E0D-AFD0-23C1C4F5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169-BBF5-4F8D-8023-932F127A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85D-C33D-4403-A452-FAAE644A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3B21-3E9D-456B-9342-08A56B77475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5DF1-D416-454F-9436-F1DF8CAB433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928800" y="1285920"/>
            <a:ext cx="785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Мой прадед был на войне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1214280" y="4071960"/>
            <a:ext cx="7286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у выполн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ца 3 А класс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ыванской средней общеобразовательной школы № 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енова Ал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1773360"/>
            <a:ext cx="3958920" cy="25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алкин Иван Устинович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1915 - 198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Picture 4" descr="img172"/>
          <p:cNvPicPr/>
          <p:nvPr/>
        </p:nvPicPr>
        <p:blipFill>
          <a:blip r:embed="rId1"/>
          <a:stretch/>
        </p:blipFill>
        <p:spPr>
          <a:xfrm>
            <a:off x="5435640" y="1484280"/>
            <a:ext cx="309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лкин Иван Устинович родился в 1915 году в д. Мосты Легостаевского района Новосибирской области. В 1934 году окончил Ачинский сельскохозяйственный технику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img175"/>
          <p:cNvPicPr/>
          <p:nvPr/>
        </p:nvPicPr>
        <p:blipFill>
          <a:blip r:embed="rId1"/>
          <a:stretch/>
        </p:blipFill>
        <p:spPr>
          <a:xfrm>
            <a:off x="5867280" y="2133720"/>
            <a:ext cx="2754360" cy="3544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755640" y="1916280"/>
            <a:ext cx="496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окончания техникума (1934 – 1940) обучался в танковом военном училище в г. Омс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гостаевским райвоенкоматом в 1940 году призван в ряды Красной Армии, откуда был направлен на Ленинградский фронт. Он служил в артиллерии и в пехоте. Против наших бойцов на этом фронте воевали немцы и финны. Но Ленинград оборонял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ван Устинович служил на 4 Украинском фронте. В совершенстве владел немецким языком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нь Победы встретил в Германии. После чего с 1945 по 1947 год был комендантом одного из городов в ГДР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47 году в составе группы советских офицеров находился на территории Чехословакии. Советские войска, преодолев Карпаты, поспешили на помощь братскому наро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мобилизовался в 1947 году в звании капитана запаса КГБ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1280" y="981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4" descr="img173"/>
          <p:cNvPicPr/>
          <p:nvPr/>
        </p:nvPicPr>
        <p:blipFill>
          <a:blip r:embed="rId1"/>
          <a:stretch/>
        </p:blipFill>
        <p:spPr>
          <a:xfrm>
            <a:off x="324000" y="3429000"/>
            <a:ext cx="4022640" cy="2835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img171"/>
          <p:cNvPicPr/>
          <p:nvPr/>
        </p:nvPicPr>
        <p:blipFill>
          <a:blip r:embed="rId2"/>
          <a:stretch/>
        </p:blipFill>
        <p:spPr>
          <a:xfrm>
            <a:off x="4716360" y="2565360"/>
            <a:ext cx="41403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наград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ден Красной Звез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ден Отечественной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аль «За отваг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аль «За боевые заслуг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аль «За оборону Ленинград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аль «За победу над Германией в ВОВ 1941-1945гг.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л в Колыванском районе директором школ в следующих селах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еди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о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а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img169"/>
          <p:cNvPicPr/>
          <p:nvPr/>
        </p:nvPicPr>
        <p:blipFill>
          <a:blip r:embed="rId1"/>
          <a:stretch/>
        </p:blipFill>
        <p:spPr>
          <a:xfrm>
            <a:off x="5796000" y="1052640"/>
            <a:ext cx="2944800" cy="4627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468360" y="443700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50920" y="2924280"/>
            <a:ext cx="547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. Кандаурово работал преподавателем истории и географ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л в Колыванском райкоме парт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СПАСИБО З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ВНИМАНИ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0:20:58Z</dcterms:created>
  <dc:creator>1</dc:creator>
  <dc:description/>
  <dc:language>en-US</dc:language>
  <cp:lastModifiedBy>user</cp:lastModifiedBy>
  <dcterms:modified xsi:type="dcterms:W3CDTF">2016-07-10T10:46:28Z</dcterms:modified>
  <cp:revision>8</cp:revision>
  <dc:subject/>
  <dc:title>Палкин Иван Устинович 1915 - 1982</dc:title>
</cp:coreProperties>
</file>