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1E8-B3FC-45C6-9EE7-FF51AFC1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752-34A6-48A5-ADC6-82AD6968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C82-DB5C-485A-9015-E1F552E8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524-A31A-4074-B062-A738A8E8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F0D7-E37A-4479-8B4B-EE2E122E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FFBB-5598-43EA-9B0A-8373F386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2D1B-D6F0-4BEF-92FA-CC73246C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ED5B-F76F-4494-9892-584690C5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9477-CF2C-4A3F-A093-A24AF46C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C78C-5CDB-41E9-91D9-E7A129B3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8BCE-3B78-4E6F-A9D2-DF2BC1AD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969-BE22-477C-964E-89D872CB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76EB-C3FF-4431-B86D-55DE55FD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80BF-5050-46BB-A1F7-EB22DB25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F319-EC05-41FE-9891-26AC12EE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C5E6-6308-4EB3-AF9A-BA63126C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71F1-2774-469E-AC6A-5680D35B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B54-2F55-4819-B209-7419C45D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ECF-C6AF-4BAF-B3E6-818C277E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2AE-ED9C-4197-8074-EB0E4623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6AE-EC79-40A6-93D1-775DE831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74D-FE8F-4F16-8D91-04F0661E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265-0694-4753-9F4E-79A5E1E8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4D5-ABA0-4043-89AB-964D3F74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7579-9D2A-495B-9C1F-68F38D3EC84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D17B-A6A6-4F8F-B4FD-3B78CC80A67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928800" y="1285920"/>
            <a:ext cx="785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Мой прадед был на войне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1214280" y="4071960"/>
            <a:ext cx="7286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у выполн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ца 3 А класс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ыванской средней общеобразовательной школы № 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енова Ал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1773360"/>
            <a:ext cx="3958920" cy="25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алкин Иван Устинович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1915 - 198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Picture 4" descr="img172"/>
          <p:cNvPicPr/>
          <p:nvPr/>
        </p:nvPicPr>
        <p:blipFill>
          <a:blip r:embed="rId1"/>
          <a:stretch/>
        </p:blipFill>
        <p:spPr>
          <a:xfrm>
            <a:off x="5435640" y="1484280"/>
            <a:ext cx="309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лкин Иван Устинович родился в 1915 году в д. Мосты Легостаевского района Новосибирской области. В 1934 году окончил Ачинский сельскохозяйственный технику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img175"/>
          <p:cNvPicPr/>
          <p:nvPr/>
        </p:nvPicPr>
        <p:blipFill>
          <a:blip r:embed="rId1"/>
          <a:stretch/>
        </p:blipFill>
        <p:spPr>
          <a:xfrm>
            <a:off x="5867280" y="2133720"/>
            <a:ext cx="2754360" cy="3544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755640" y="1916280"/>
            <a:ext cx="496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окончания техникума (1934 – 1940) обучался в танковом военном училище в г. Омс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гостаевским райвоенкоматом в 1940 году призван в ряды Красной Армии, откуда был направлен на Ленинградский фронт. Он служил в артиллерии и в пехоте. Против наших бойцов на этом фронте воевали немцы и финны. Но Ленинград оборонял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ван Устинович служил на 4 Украинском фронте. В совершенстве владел немецким языком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нь Победы встретил в Германии. После чего с 1945 по 1947 год был комендантом одного из городов в ГДР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47 году в составе группы советских офицеров находился на территории Чехословакии. Советские войска, преодолев Карпаты, поспешили на помощь братскому наро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мобилизовался в 1947 году в звании капитана запаса КГБ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1280" y="981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4" descr="img173"/>
          <p:cNvPicPr/>
          <p:nvPr/>
        </p:nvPicPr>
        <p:blipFill>
          <a:blip r:embed="rId1"/>
          <a:stretch/>
        </p:blipFill>
        <p:spPr>
          <a:xfrm>
            <a:off x="324000" y="3429000"/>
            <a:ext cx="4022640" cy="2835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img171"/>
          <p:cNvPicPr/>
          <p:nvPr/>
        </p:nvPicPr>
        <p:blipFill>
          <a:blip r:embed="rId2"/>
          <a:stretch/>
        </p:blipFill>
        <p:spPr>
          <a:xfrm>
            <a:off x="4716360" y="2565360"/>
            <a:ext cx="41403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наград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ден Красной Звез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ден Отечественной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аль «За отваг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аль «За боевые заслуг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аль «За оборону Ленинград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аль «За победу над Германией в ВОВ 1941-1945гг.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л в Колыванском районе директором школ в следующих селах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еди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о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а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img169"/>
          <p:cNvPicPr/>
          <p:nvPr/>
        </p:nvPicPr>
        <p:blipFill>
          <a:blip r:embed="rId1"/>
          <a:stretch/>
        </p:blipFill>
        <p:spPr>
          <a:xfrm>
            <a:off x="5796000" y="1052640"/>
            <a:ext cx="2944800" cy="4627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468360" y="443700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50920" y="2924280"/>
            <a:ext cx="547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. Кандаурово работал преподавателем истории и географ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л в Колыванском райкоме парт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СПАСИБО З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ВНИМАНИ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0:20:58Z</dcterms:created>
  <dc:creator>1</dc:creator>
  <dc:description/>
  <dc:language>en-US</dc:language>
  <cp:lastModifiedBy>user</cp:lastModifiedBy>
  <dcterms:modified xsi:type="dcterms:W3CDTF">2016-07-10T10:46:28Z</dcterms:modified>
  <cp:revision>8</cp:revision>
  <dc:subject/>
  <dc:title>Палкин Иван Устинович 1915 - 1982</dc:title>
</cp:coreProperties>
</file>