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1B8-7D16-48EE-8C21-6AE9036F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679-4F91-449D-9180-6C9D3290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95A-CF03-4367-9BFC-8847C801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479-489D-4605-B4BA-37FEB5C1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022A-F9CA-45DF-9229-E262CCF6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DE33-EE4E-4F38-99B5-590B43E4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6F6-703F-4515-AFAA-8033BC23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BD7B-25F6-4C3D-AB25-C81E454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A30D-FDEE-4FAE-9370-0402832A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18A5-AD28-4B1B-BE83-E05E646A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76CA-0B47-4E2E-9AC3-C45F9B24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A19-8089-4752-97BD-C81A9B81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3B4B-C30D-4FBB-8E80-FEDCF3BF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6044-3F8C-4C56-83EB-CB2FFCB4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5EE6-5302-4CA5-B7CE-8406C43E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3FCD-146C-4A10-97AE-BFCE96BD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B1FF-B974-43EB-A0C1-5F8820C0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EDF-21A5-40C3-AE02-33B1F89F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385-FA0A-46D2-B92C-63D0F17A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E65-B097-47BE-998D-F8D80F6F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3C0-55DA-49AA-8154-04A4B290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B29-4626-443B-B0B6-0A2EEC69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89E-9838-4CC7-97B7-AB2872E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39B-9BFD-42C3-903F-549FD502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C714-0741-467D-B8A0-769AD75E1BA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2EC1-4243-49C0-813E-B295B693BC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928800" y="128592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Мой прадед был на войн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214280" y="4071960"/>
            <a:ext cx="728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у выполн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а 3 А клас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ыванской средней общеобразовательной школы № 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ова Ал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3958920" cy="25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алкин Иван Устинович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1915 - 198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4" descr="img172"/>
          <p:cNvPicPr/>
          <p:nvPr/>
        </p:nvPicPr>
        <p:blipFill>
          <a:blip r:embed="rId1"/>
          <a:stretch/>
        </p:blipFill>
        <p:spPr>
          <a:xfrm>
            <a:off x="5435640" y="1484280"/>
            <a:ext cx="309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кин Иван Устинович родился в 1915 году в д. Мосты Легостаевского района Новосибирской области. В 1934 году окончил Ачинский сельскохозяйственный технику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img175"/>
          <p:cNvPicPr/>
          <p:nvPr/>
        </p:nvPicPr>
        <p:blipFill>
          <a:blip r:embed="rId1"/>
          <a:stretch/>
        </p:blipFill>
        <p:spPr>
          <a:xfrm>
            <a:off x="5867280" y="2133720"/>
            <a:ext cx="2754360" cy="3544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755640" y="1916280"/>
            <a:ext cx="49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окончания техникума (1934 – 1940) обучался в танковом военном училище в г. Омс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гостаевским райвоенкоматом в 1940 году призван в ряды Красной Армии, откуда был направлен на Ленинградский фронт. Он служил в артиллерии и в пехоте. Против наших бойцов на этом фронте воевали немцы и финны. Но Ленинград обороня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ван Устинович служил на 4 Украинском фронте. В совершенстве владел немецким языко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нь Победы встретил в Германии. После чего с 1945 по 1947 год был комендантом одного из городов в ГД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47 году в составе группы советских офицеров находился на территории Чехословакии. Советские войска, преодолев Карпаты, поспешили на помощь братскому нар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мобилизовался в 1947 году в звании капитана запаса КГ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4" descr="img173"/>
          <p:cNvPicPr/>
          <p:nvPr/>
        </p:nvPicPr>
        <p:blipFill>
          <a:blip r:embed="rId1"/>
          <a:stretch/>
        </p:blipFill>
        <p:spPr>
          <a:xfrm>
            <a:off x="324000" y="3429000"/>
            <a:ext cx="4022640" cy="283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g171"/>
          <p:cNvPicPr/>
          <p:nvPr/>
        </p:nvPicPr>
        <p:blipFill>
          <a:blip r:embed="rId2"/>
          <a:stretch/>
        </p:blipFill>
        <p:spPr>
          <a:xfrm>
            <a:off x="4716360" y="2565360"/>
            <a:ext cx="41403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наград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ден Красной Звез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ден Отечественной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отваг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оборону Ленингра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победу над Германией в ВОВ 1941-1945гг.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л в Колыванском районе директором школ в следующих селах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еди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img169"/>
          <p:cNvPicPr/>
          <p:nvPr/>
        </p:nvPicPr>
        <p:blipFill>
          <a:blip r:embed="rId1"/>
          <a:stretch/>
        </p:blipFill>
        <p:spPr>
          <a:xfrm>
            <a:off x="5796000" y="1052640"/>
            <a:ext cx="2944800" cy="4627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68360" y="4437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50920" y="2924280"/>
            <a:ext cx="547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. Кандаурово работал преподавателем истории и географ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л в Колыванском райкоме парт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ПАСИБО З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0:20:58Z</dcterms:created>
  <dc:creator>1</dc:creator>
  <dc:description/>
  <dc:language>en-US</dc:language>
  <cp:lastModifiedBy>user</cp:lastModifiedBy>
  <dcterms:modified xsi:type="dcterms:W3CDTF">2016-07-10T10:46:28Z</dcterms:modified>
  <cp:revision>8</cp:revision>
  <dc:subject/>
  <dc:title>Палкин Иван Устинович 1915 - 1982</dc:title>
</cp:coreProperties>
</file>