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57A-44B0-4C43-8F2D-D866E679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A01-A3F9-444A-A9E6-A9A9DFD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E0F-A9A5-442D-B5F8-07685BE5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1BD-8A2B-4B2D-95B8-0C6461B6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1E3C-7C9D-4798-A91C-EE89E012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7788-0B5C-4ECA-9483-34B8DEC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1E27-40EB-4D2F-957B-080338E9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18C-F9A4-4FE9-9100-052DFEE2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7429-3832-4D6B-8C8B-E2FFDC35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01B2-D574-4CE0-A041-2E25CA55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E010-AF86-412B-A7C3-3F4F5E9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23D-4FCE-4FD3-AFF7-EDB1B109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7D96-1CB3-4FE0-9EB3-96B416C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BBDA-1426-45D9-B11A-B77C6DB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197-82FB-4722-88C2-CC4EBE8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9D9E-4AA3-45DD-A376-E861CBDC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6040-E758-4583-AA11-E52DD0CA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FCB-A2DF-4D98-B48F-1CB9582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A0C-98B3-4690-92C9-79450DEB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FE6-6E80-4237-9B5B-EBF0E026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BE2-EACA-46BC-8604-9AA12285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246-D48C-4FEC-A596-9794136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FA9-AB3A-416A-8420-B50C1EE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334-73E4-4265-85FC-10925D4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5647-D4C6-4CC2-BEA8-A1F80A8FBA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25C-EAC7-42AE-80D6-D8700B07F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959280" cy="6192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рирода – это единственная книга, каждая страница которой полна глубокого содержания»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Гё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48360" y="404280"/>
            <a:ext cx="3527280" cy="2737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тоды изучения прир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Задачи урока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основными методами изуч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самостоятельно изучать природу при помощи различных мет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ивать любовь к природе и интерес к её из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228240"/>
            <a:ext cx="577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26920" y="1600200"/>
            <a:ext cx="6211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н чёрной тучей был сначала, он белым пухом лёг на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крыл всю землю одеялом, а по весне совсем исч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видимкой, осторожно он является ко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рисует, как художник, он узоры на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– клён, а это – ива, вот и пальма предо м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рисует он красиво белой краскою одн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 нас под крышей белый гвоздь вис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лнце взойдёт – гвоздь упа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тихую погоду нет нас ниг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ветер подует – бежим по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360" y="259920"/>
            <a:ext cx="439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Жан Анри Фабр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3779" b="0"/>
          <a:stretch/>
        </p:blipFill>
        <p:spPr>
          <a:xfrm>
            <a:off x="3564000" y="1628640"/>
            <a:ext cx="39607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61387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Помогут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блюдению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08360" y="1600200"/>
            <a:ext cx="3330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крос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2320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59280" y="4724280"/>
            <a:ext cx="129672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8240"/>
            <a:ext cx="599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Помогут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змерению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1254240" cy="225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320920" cy="232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700360" y="4419720"/>
            <a:ext cx="2149560" cy="214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8920" y="228240"/>
            <a:ext cx="577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2. Измерение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28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чью на небе один золотистый апель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овали две недели, апельсина мы не 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 осталась в небе только апельсиновая дол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странице букваря 33 богаты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есть ног, две головы, один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жек четыре, шляпок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ужен, коль станет обедать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0" y="189000"/>
            <a:ext cx="611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3. Опыт (эксперимент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5640" y="1483920"/>
            <a:ext cx="628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 снегу покатите, – я под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костре согреете, – я проп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инешь в речку – не тонет. Бьёшь о стенку – не сто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удешь оземь кидать, – станет кверху ле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ежит на земле: ни закрас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и соскоблить, ни зав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зрачное стекл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воде не тонет, в огне н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228240"/>
            <a:ext cx="6067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Задание на дом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2205000"/>
            <a:ext cx="6400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стр.15-17 в учеб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рассказ об одном из методов изучения природы ( из доп. литератур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7:23:20Z</dcterms:created>
  <dc:creator>Admin</dc:creator>
  <dc:description/>
  <dc:language>en-US</dc:language>
  <cp:lastModifiedBy>Admin</cp:lastModifiedBy>
  <dcterms:modified xsi:type="dcterms:W3CDTF">2012-03-23T18:15:05Z</dcterms:modified>
  <cp:revision>1</cp:revision>
  <dc:subject/>
  <dc:title>«Природа – это единственная книга, каждая страница которой полна глубокого содержания».                  Гёте</dc:title>
</cp:coreProperties>
</file>