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2BD-CC14-4D09-9124-09F88015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1BC-0755-4A59-B94C-62A2C2C4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84A-AB22-4353-8995-054A225F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3EF-3C19-4198-AF41-2F4870E0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21BC-A2E8-4633-A60E-127C342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8B0-80B5-4CE7-AEA6-10F26223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BFE-FC09-4B4C-9A51-F683106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AEAD-0618-4EFA-86E9-C99C73B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0B3-43D3-421C-A4B9-12CEAA25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414C-F03C-49CC-83FA-E438639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C809-C212-4C29-9504-29AA712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7F7-FA4F-435D-ADDA-2846E2F3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70F3-383E-49B4-AFD6-5072254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C94C-8725-4B15-A0BC-431C4DB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1630-FB09-4522-851F-7D18B4F8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59A-04D7-47F8-B524-2FEDA959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6443-A286-4519-8071-906CE418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3E8-E634-4AD6-844E-2DD0388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92A-6A35-485D-84D6-40A804A1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415-42B7-41B5-8A94-E094738D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311-074D-42E7-9671-2FFFEECC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B36-8605-4E41-92CF-E6B8965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708-6E3B-4211-9FA9-192EAEF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E76-77E7-41E2-97A9-28C8B9B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1FC0-CD45-4D03-A3BF-EC425DF84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EE26-E7FA-4C89-8322-4EF2160F1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959280" cy="619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рирода – это единственная книга, каждая страница которой полна глубокого содержания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ё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404280"/>
            <a:ext cx="3527280" cy="2737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тоды изучения прир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методами изуч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самостоятельно изучать природу при помощи различных мет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ивать любовь к природе и интерес к её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26920" y="1600200"/>
            <a:ext cx="6211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н чёрной тучей был сначала, он белым пухом лёг на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крыл всю землю одеялом, а по весне совсем исч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видимкой, осторожно он является к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рисует, как художник, он узоры на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– клён, а это – ива, вот и пальма предо м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рисует он красиво белой краскою од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нас под крышей белый гвоздь вис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лнце взойдёт – гвоздь у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тихую погоду нет нас ниг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ветер подует – бежим по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439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Жан Анри Фабр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3779" b="0"/>
          <a:stretch/>
        </p:blipFill>
        <p:spPr>
          <a:xfrm>
            <a:off x="3564000" y="1628640"/>
            <a:ext cx="39607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61387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08360" y="1600200"/>
            <a:ext cx="3330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2320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59280" y="4724280"/>
            <a:ext cx="129672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8240"/>
            <a:ext cx="599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змер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1254240" cy="225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32092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700360" y="4419720"/>
            <a:ext cx="2149560" cy="214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2. Измер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чью на небе один золотистый апель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овали две недели, апельсина мы не 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 осталась в небе только апельсиновая дол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странице букваря 33 богат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есть ног, две головы, один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жек четыре, шляпок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ужен, коль станет обедать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0" y="189000"/>
            <a:ext cx="611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3. Опыт (эксперимент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5640" y="1483920"/>
            <a:ext cx="628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 снегу покатите, – я под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костре согреете, – я проп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инешь в речку – не тонет. Бьёшь о стенку – не сто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дешь оземь кидать, – станет кверху ле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ежит на земле: ни закрас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и соскоблить, ни за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зрачное стекл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воде не тонет, в огне н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228240"/>
            <a:ext cx="606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Задание на дом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стр.15-17 в учеб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б одном из методов изучения природы ( из доп. литератур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7:23:20Z</dcterms:created>
  <dc:creator>Admin</dc:creator>
  <dc:description/>
  <dc:language>en-US</dc:language>
  <cp:lastModifiedBy>Admin</cp:lastModifiedBy>
  <dcterms:modified xsi:type="dcterms:W3CDTF">2012-03-23T18:15:05Z</dcterms:modified>
  <cp:revision>1</cp:revision>
  <dc:subject/>
  <dc:title>«Природа – это единственная книга, каждая страница которой полна глубокого содержания».                  Гёте</dc:title>
</cp:coreProperties>
</file>