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92A-800B-4F16-A885-4F5B9D6B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D2F-9274-46D7-B59A-631784F6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47A1-8EF9-4916-99E3-3DB8DBF0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982-2A14-4448-8ADE-0ADBE235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5BDF-8DE9-4443-AACD-5CC5C860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199A-19A9-42B1-A5EA-5D62A368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B241-18B5-4BF2-A930-74E09A22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9CBA-3340-4C33-B51D-5D91469C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5752-071E-4119-B6B8-18B5575E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20CD-5EE5-469D-9079-810F99D7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80ED-35AC-4467-A664-DDFED9C2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4727-3A36-4E55-A42C-71DC455C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7C79-D144-4AB3-9D0F-19432C33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C6EE-53EF-4122-B25D-FDC2C9D6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7740-517F-43DF-814C-0E5ED768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56D7-EEDB-4D48-B46E-0C71BD15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C61B-6EDC-4093-BE13-8762FC66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1A82-A0EE-43E7-B910-6C33E42D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154-0884-4882-84EC-8E72EC1B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0D18-E5FC-4324-9E9E-3DEB7C4F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12ED-BAE7-49B8-B5CA-9A4FC37E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8463-8269-4178-864B-37BA930D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66A-92C1-4411-9BB8-6FA928FB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0EAD-4C39-4807-BFE4-020F2A6D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823E-C37B-4310-A66A-4F04D5085E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D98D-79EE-4C25-845B-06BC7EBF77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959280" cy="61927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Природа – это единственная книга, каждая страница которой полна глубокого содержания»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Гё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48360" y="404280"/>
            <a:ext cx="3527280" cy="27370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етоды изучения прир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Задачи урока: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ся с основными методами изучения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умение самостоятельно изучать природу при помощи различных мет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вивать любовь к природе и интерес к её изу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228240"/>
            <a:ext cx="5779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Наблюдение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26920" y="1600200"/>
            <a:ext cx="6211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н чёрной тучей был сначала, он белым пухом лёг на л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крыл всю землю одеялом, а по весне совсем исче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евидимкой, осторожно он является ко м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 рисует, как художник, он узоры на ок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Это – клён, а это – ива, вот и пальма предо м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ак рисует он красиво белой краскою одн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 нас под крышей белый гвоздь вис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олнце взойдёт – гвоздь упад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 тихую погоду нет нас нигд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 ветер подует – бежим по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360" y="259920"/>
            <a:ext cx="439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Жан Анри Фабр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3779" b="0"/>
          <a:stretch/>
        </p:blipFill>
        <p:spPr>
          <a:xfrm>
            <a:off x="3564000" y="1628640"/>
            <a:ext cx="396072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0360" y="228600"/>
            <a:ext cx="61387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Помогут</a:t>
            </a: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наблюдению</a:t>
            </a: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508360" y="1600200"/>
            <a:ext cx="3330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леск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кроск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03640" y="1268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59280" y="3357720"/>
            <a:ext cx="2232000" cy="1406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059280" y="4724280"/>
            <a:ext cx="129672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42920" y="228240"/>
            <a:ext cx="5995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Помогут</a:t>
            </a: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измерению</a:t>
            </a: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1254240" cy="2255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372360" y="1844640"/>
            <a:ext cx="2320920" cy="2320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700360" y="4419720"/>
            <a:ext cx="2149560" cy="2149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5867280" y="443700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58920" y="228240"/>
            <a:ext cx="5779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2. Измерение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55640" y="1600200"/>
            <a:ext cx="628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очью на небе один золотистый апельс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иновали две недели, апельсина мы не е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о осталась в небе только апельсиновая доль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 странице букваря 33 богаты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Шесть ног, две головы, один хв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ожек четыре, шляпок од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ужен, коль станет обедать сем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0000" y="189000"/>
            <a:ext cx="6111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3. Опыт (эксперимент)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55640" y="1483920"/>
            <a:ext cx="628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 снегу покатите, – я подра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 костре согреете, – я проп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инешь в речку – не тонет. Бьёшь о стенку – не сто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удешь оземь кидать, – станет кверху ле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Лежит на земле: ни закрас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и соскоблить, ни завал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озрачное стекло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воде не тонет, в огне не го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71640" y="228240"/>
            <a:ext cx="6067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Задание на дом: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2205000"/>
            <a:ext cx="64008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ить стр.15-17 в учебн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ить рассказ об одном из методов изучения природы ( из доп. литературы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7:23:20Z</dcterms:created>
  <dc:creator>Admin</dc:creator>
  <dc:description/>
  <dc:language>en-US</dc:language>
  <cp:lastModifiedBy>Admin</cp:lastModifiedBy>
  <dcterms:modified xsi:type="dcterms:W3CDTF">2012-03-23T18:15:05Z</dcterms:modified>
  <cp:revision>1</cp:revision>
  <dc:subject/>
  <dc:title>«Природа – это единственная книга, каждая страница которой полна глубокого содержания».                  Гёте</dc:title>
</cp:coreProperties>
</file>