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arrow.wav" ContentType="audio/x-wav"/>
  <Override PartName="/ppt/media/image2.png" ContentType="image/png"/>
  <Override PartName="/ppt/media/hammer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190-D4A4-4DA0-829D-AFD6465E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23F-3FC3-46DC-97D0-F89327D7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AC4-DACB-469D-ABFB-D1168067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220-2B56-41E0-8118-8743DA09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418E-4BE3-4785-88D2-079628CF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F926-A5FF-4E1F-98A4-0DFC33D6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C99E-820B-4548-A3A2-87BAC9D8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5FC4-9625-4F98-B0C3-241C3A7F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9877-B389-4A95-967A-44BFE59D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C299-E5F5-4CCC-94D0-508448EE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7E8D-90A7-4F7D-A1C7-552322A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A63-B65D-4C62-BEE7-56186FC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27AF-E23A-42EB-B2BD-9A100044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49F5-BC14-4473-B8A0-D13FAAA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0FA-C905-46DF-93C9-5C3D0532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BACB-DC5D-48F1-AEBF-06D16DB7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3177-A6FC-4C68-9C3F-2EC41A1E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1C2D7-D9F7-4AFB-98C4-82903336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FABAD-263B-48CB-B190-5F08332E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A0185-C819-4F84-9EE2-A749E081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604DB-BD8E-4F46-AC12-EE8F83E0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9F586-0418-4AAB-BE91-75F36893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513-9384-4709-80AB-24E49739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FF8F8-2590-42A3-AE5A-B9042B4D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772EF-9707-4C4B-9C65-25B60489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33BF1-CFEF-4EE3-B875-9F63B663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FFB7A-AB75-4ED3-9DDD-9D23B5AF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54349-C38C-447D-B56A-05A295F9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63222-FDDC-4BF1-81D1-F29C21A9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37840-850C-442C-8363-C5531D1C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58F0-D361-4B70-836B-1D239E79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06A1C-6DF2-46D7-B1DA-78C10B8B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7802-71B7-4E79-BB1B-B954A4B1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186-50C7-472D-8B22-1289F0CB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B26D-18CB-4554-81B9-5D96991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53BF-D415-4F89-8ED9-40EAF1F8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AC1F-BCB8-4E45-B9BD-566BB783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0A3A-0348-46C0-8F84-4B48DDE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40DE-C655-488B-8699-A019321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5E59-CED8-40FF-BE6F-8F8C625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D0D67-E4C0-450B-95A3-8D4205F8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B0B6-48D4-4D58-B3DA-74C94BE1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11B1-F0D1-4619-B55D-551AE5CB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857-D160-4617-ACD8-8769F908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F25-E853-4EA6-B631-98B44FDA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8E4-84E5-4C29-8019-F29A11F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407-9A68-4472-AE6B-85E1C85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AE3-8637-4201-BFBB-DD07631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DCEE-3904-4977-BA0A-F87B05F40243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C38A-DF9F-4595-9721-55C6C83AAA6F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DF85-247D-41DD-A164-D589EFF78742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C62C-3535-43FC-A640-F375F5DAE4C7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тематика. Единицы площади.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87640" y="3900600"/>
            <a:ext cx="381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d26"/>
                </a:solidFill>
                <a:latin typeface="Cambria"/>
              </a:rPr>
              <a:t>                             </a:t>
            </a:r>
            <a:r>
              <a:rPr b="0" lang="ru-RU" sz="2400" spc="-1" strike="noStrike">
                <a:solidFill>
                  <a:srgbClr val="444d26"/>
                </a:solidFill>
                <a:latin typeface="Cambria"/>
              </a:rPr>
              <a:t>Презентацию создала учитель начальных классов МОУ ООШ № 26 Курманкаева Н.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6" name="Picture 2" descr="C:\Documents and Settings\Дом\My Documents\Документы для АРМа\Картинки\Анимашки\Ещё анимашки\Анимашки\457.gif"/>
          <p:cNvPicPr/>
          <p:nvPr/>
        </p:nvPicPr>
        <p:blipFill>
          <a:blip r:embed="rId1"/>
          <a:stretch/>
        </p:blipFill>
        <p:spPr>
          <a:xfrm>
            <a:off x="250920" y="5157720"/>
            <a:ext cx="14284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23"/>
          <p:cNvSpPr/>
          <p:nvPr/>
        </p:nvSpPr>
        <p:spPr>
          <a:xfrm>
            <a:off x="3929040" y="3214800"/>
            <a:ext cx="1357200" cy="45972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2 кор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Прямоугольник 10"/>
          <p:cNvGrpSpPr/>
          <p:nvPr/>
        </p:nvGrpSpPr>
        <p:grpSpPr>
          <a:xfrm>
            <a:off x="3876840" y="3114720"/>
            <a:ext cx="1122120" cy="622080"/>
            <a:chOff x="3876840" y="3114720"/>
            <a:chExt cx="1122120" cy="622080"/>
          </a:xfrm>
        </p:grpSpPr>
        <p:pic>
          <p:nvPicPr>
            <p:cNvPr id="268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3876840" y="3114720"/>
              <a:ext cx="1122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938760" y="315288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с. 44  № 204 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99680" y="2285640"/>
            <a:ext cx="6000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214280" y="30002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1366920" y="31528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1519200" y="330516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1671480" y="34574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1824120" y="36100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Прямоугольник 11"/>
          <p:cNvGrpSpPr/>
          <p:nvPr/>
        </p:nvGrpSpPr>
        <p:grpSpPr>
          <a:xfrm>
            <a:off x="4029120" y="3267000"/>
            <a:ext cx="1122480" cy="622440"/>
            <a:chOff x="4029120" y="3267000"/>
            <a:chExt cx="1122480" cy="622440"/>
          </a:xfrm>
        </p:grpSpPr>
        <p:pic>
          <p:nvPicPr>
            <p:cNvPr id="278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029120" y="3267000"/>
              <a:ext cx="1122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091040" y="330516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Прямоугольник 12"/>
          <p:cNvGrpSpPr/>
          <p:nvPr/>
        </p:nvGrpSpPr>
        <p:grpSpPr>
          <a:xfrm>
            <a:off x="4181400" y="3419640"/>
            <a:ext cx="1122480" cy="622080"/>
            <a:chOff x="4181400" y="3419640"/>
            <a:chExt cx="1122480" cy="622080"/>
          </a:xfrm>
        </p:grpSpPr>
        <p:pic>
          <p:nvPicPr>
            <p:cNvPr id="28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181400" y="3419640"/>
              <a:ext cx="11224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243320" y="345744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Прямоугольник 14"/>
          <p:cNvGrpSpPr/>
          <p:nvPr/>
        </p:nvGrpSpPr>
        <p:grpSpPr>
          <a:xfrm>
            <a:off x="4438800" y="3749760"/>
            <a:ext cx="1120680" cy="620640"/>
            <a:chOff x="4438800" y="3749760"/>
            <a:chExt cx="1120680" cy="620640"/>
          </a:xfrm>
        </p:grpSpPr>
        <p:pic>
          <p:nvPicPr>
            <p:cNvPr id="284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4438800" y="3749760"/>
              <a:ext cx="1120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500720" y="378612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равая фигурная скобка 15"/>
          <p:cNvSpPr/>
          <p:nvPr/>
        </p:nvSpPr>
        <p:spPr>
          <a:xfrm rot="5400000">
            <a:off x="3500280" y="2643120"/>
            <a:ext cx="571320" cy="528624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5286240"/>
              <a:gd name="textAreaBottom" fmla="*/ 52714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3286080" y="5715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8 кор.   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?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200016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9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4643280" y="3929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8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авая фигурная скобка 19"/>
          <p:cNvSpPr/>
          <p:nvPr/>
        </p:nvSpPr>
        <p:spPr>
          <a:xfrm rot="9001800">
            <a:off x="856440" y="2928960"/>
            <a:ext cx="500040" cy="1928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928880"/>
              <a:gd name="textAreaBottom" fmla="*/ 19159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428760" y="41432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6 к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авая фигурная скобка 21"/>
          <p:cNvSpPr/>
          <p:nvPr/>
        </p:nvSpPr>
        <p:spPr>
          <a:xfrm rot="19669800">
            <a:off x="5525640" y="2707920"/>
            <a:ext cx="490680" cy="1822320"/>
          </a:xfrm>
          <a:custGeom>
            <a:avLst/>
            <a:gdLst>
              <a:gd name="textAreaLeft" fmla="*/ 0 w 490680"/>
              <a:gd name="textAreaRight" fmla="*/ 177120 w 490680"/>
              <a:gd name="textAreaTop" fmla="*/ 12600 h 1822320"/>
              <a:gd name="textAreaBottom" fmla="*/ 18097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6072120" y="3071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6643800" y="221472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48-16=32 (ко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0.15834 -0.02084 E">
                                      <p:cBhvr>
                                        <p:cTn id="183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3"/>
          <p:cNvSpPr/>
          <p:nvPr/>
        </p:nvSpPr>
        <p:spPr>
          <a:xfrm>
            <a:off x="3929040" y="3214800"/>
            <a:ext cx="1357200" cy="459720"/>
          </a:xfrm>
          <a:prstGeom prst="rect">
            <a:avLst/>
          </a:prstGeom>
          <a:solidFill>
            <a:srgbClr val="edf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2 кор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Прямоугольник 10"/>
          <p:cNvGrpSpPr/>
          <p:nvPr/>
        </p:nvGrpSpPr>
        <p:grpSpPr>
          <a:xfrm>
            <a:off x="3876840" y="3114720"/>
            <a:ext cx="1122120" cy="622080"/>
            <a:chOff x="3876840" y="3114720"/>
            <a:chExt cx="1122120" cy="622080"/>
          </a:xfrm>
        </p:grpSpPr>
        <p:pic>
          <p:nvPicPr>
            <p:cNvPr id="297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3876840" y="3114720"/>
              <a:ext cx="1122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938760" y="315288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129560" y="2485800"/>
            <a:ext cx="2385360" cy="2457000"/>
          </a:xfrm>
          <a:prstGeom prst="rect">
            <a:avLst/>
          </a:prstGeom>
          <a:solidFill>
            <a:srgbClr val="a5b592">
              <a:alpha val="34000"/>
            </a:srgbClr>
          </a:solidFill>
          <a:ln w="19080">
            <a:solidFill>
              <a:srgbClr val="78846a"/>
            </a:solidFill>
            <a:miter/>
          </a:ln>
        </p:spPr>
        <p:txBody>
          <a:bodyPr anchor="ctr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1214280" y="30002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5"/>
          <p:cNvSpPr/>
          <p:nvPr/>
        </p:nvSpPr>
        <p:spPr>
          <a:xfrm>
            <a:off x="1366920" y="31528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6"/>
          <p:cNvSpPr/>
          <p:nvPr/>
        </p:nvSpPr>
        <p:spPr>
          <a:xfrm>
            <a:off x="1519200" y="330516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7"/>
          <p:cNvSpPr/>
          <p:nvPr/>
        </p:nvSpPr>
        <p:spPr>
          <a:xfrm>
            <a:off x="1671480" y="3457440"/>
            <a:ext cx="100044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8"/>
          <p:cNvSpPr/>
          <p:nvPr/>
        </p:nvSpPr>
        <p:spPr>
          <a:xfrm>
            <a:off x="1824120" y="3610080"/>
            <a:ext cx="1000080" cy="5000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Прямоугольник 11"/>
          <p:cNvGrpSpPr/>
          <p:nvPr/>
        </p:nvGrpSpPr>
        <p:grpSpPr>
          <a:xfrm>
            <a:off x="4029120" y="3267000"/>
            <a:ext cx="1122480" cy="622440"/>
            <a:chOff x="4029120" y="3267000"/>
            <a:chExt cx="1122480" cy="622440"/>
          </a:xfrm>
        </p:grpSpPr>
        <p:pic>
          <p:nvPicPr>
            <p:cNvPr id="30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029120" y="3267000"/>
              <a:ext cx="1122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091040" y="330516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Прямоугольник 12"/>
          <p:cNvGrpSpPr/>
          <p:nvPr/>
        </p:nvGrpSpPr>
        <p:grpSpPr>
          <a:xfrm>
            <a:off x="4181400" y="3419640"/>
            <a:ext cx="1122480" cy="622080"/>
            <a:chOff x="4181400" y="3419640"/>
            <a:chExt cx="1122480" cy="622080"/>
          </a:xfrm>
        </p:grpSpPr>
        <p:pic>
          <p:nvPicPr>
            <p:cNvPr id="31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181400" y="3419640"/>
              <a:ext cx="11224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243320" y="345744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Прямоугольник 14"/>
          <p:cNvGrpSpPr/>
          <p:nvPr/>
        </p:nvGrpSpPr>
        <p:grpSpPr>
          <a:xfrm>
            <a:off x="4438800" y="3749760"/>
            <a:ext cx="1120680" cy="620640"/>
            <a:chOff x="4438800" y="3749760"/>
            <a:chExt cx="1120680" cy="620640"/>
          </a:xfrm>
        </p:grpSpPr>
        <p:pic>
          <p:nvPicPr>
            <p:cNvPr id="313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4438800" y="3749760"/>
              <a:ext cx="1120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00720" y="3786120"/>
              <a:ext cx="1000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Правая фигурная скобка 15"/>
          <p:cNvSpPr/>
          <p:nvPr/>
        </p:nvSpPr>
        <p:spPr>
          <a:xfrm rot="5400000">
            <a:off x="3500280" y="2643120"/>
            <a:ext cx="571320" cy="528624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5286240"/>
              <a:gd name="textAreaBottom" fmla="*/ 52714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6"/>
          <p:cNvSpPr/>
          <p:nvPr/>
        </p:nvSpPr>
        <p:spPr>
          <a:xfrm>
            <a:off x="3286080" y="571500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200016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9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8"/>
          <p:cNvSpPr/>
          <p:nvPr/>
        </p:nvSpPr>
        <p:spPr>
          <a:xfrm>
            <a:off x="4643280" y="3929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8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авая фигурная скобка 19"/>
          <p:cNvSpPr/>
          <p:nvPr/>
        </p:nvSpPr>
        <p:spPr>
          <a:xfrm rot="9001800">
            <a:off x="856440" y="2928960"/>
            <a:ext cx="500040" cy="19288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928880"/>
              <a:gd name="textAreaBottom" fmla="*/ 19159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428760" y="41432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6 к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авая фигурная скобка 21"/>
          <p:cNvSpPr/>
          <p:nvPr/>
        </p:nvSpPr>
        <p:spPr>
          <a:xfrm rot="19669800">
            <a:off x="5525640" y="2707920"/>
            <a:ext cx="490680" cy="1822320"/>
          </a:xfrm>
          <a:custGeom>
            <a:avLst/>
            <a:gdLst>
              <a:gd name="textAreaLeft" fmla="*/ 0 w 490680"/>
              <a:gd name="textAreaRight" fmla="*/ 177120 w 490680"/>
              <a:gd name="textAreaTop" fmla="*/ 12600 h 1822320"/>
              <a:gd name="textAreaBottom" fmla="*/ 18097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2"/>
          <p:cNvSpPr/>
          <p:nvPr/>
        </p:nvSpPr>
        <p:spPr>
          <a:xfrm>
            <a:off x="578628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2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6643800" y="228600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)48-16=32 (ко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)9*16=144(к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)8*32 = 256 (к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)144+256=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4357800" y="55720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?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26"/>
          <p:cNvSpPr/>
          <p:nvPr/>
        </p:nvSpPr>
        <p:spPr>
          <a:xfrm>
            <a:off x="500040" y="2357280"/>
            <a:ext cx="2571840" cy="2714760"/>
          </a:xfrm>
          <a:custGeom>
            <a:avLst/>
            <a:gdLst>
              <a:gd name="textAreaLeft" fmla="*/ 125280 w 2571840"/>
              <a:gd name="textAreaRight" fmla="*/ 2446560 w 2571840"/>
              <a:gd name="textAreaTop" fmla="*/ 125280 h 2714760"/>
              <a:gd name="textAreaBottom" fmla="*/ 2589480 h 2714760"/>
            </a:gdLst>
            <a:ahLst/>
            <a:rect l="textAreaLeft" t="textAreaTop" r="textAreaRight" b="textAreaBottom"/>
            <a:pathLst>
              <a:path w="21600" h="22800">
                <a:moveTo>
                  <a:pt x="3600" y="0"/>
                </a:moveTo>
                <a:arcTo wR="3600" hR="3600" stAng="16200000" swAng="-5400000"/>
                <a:lnTo>
                  <a:pt x="0" y="19200"/>
                </a:lnTo>
                <a:arcTo wR="3600" hR="3600" stAng="10800000" swAng="-5400000"/>
                <a:lnTo>
                  <a:pt x="18000" y="22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5b592">
              <a:alpha val="34000"/>
            </a:srgbClr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28"/>
          <p:cNvSpPr/>
          <p:nvPr/>
        </p:nvSpPr>
        <p:spPr>
          <a:xfrm>
            <a:off x="285840" y="2000160"/>
            <a:ext cx="6500880" cy="3357720"/>
          </a:xfrm>
          <a:prstGeom prst="roundRect">
            <a:avLst>
              <a:gd name="adj" fmla="val 16667"/>
            </a:avLst>
          </a:prstGeom>
          <a:solidFill>
            <a:srgbClr val="a5b592">
              <a:alpha val="21000"/>
            </a:srgbClr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1"/>
          <p:cNvSpPr/>
          <p:nvPr/>
        </p:nvSpPr>
        <p:spPr>
          <a:xfrm>
            <a:off x="7929720" y="307188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400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38351 0.3382 E">
                                      <p:cBhvr>
                                        <p:cTn id="247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Инструктаж  домашней работы.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280"/>
            <a:ext cx="632952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900  600  130  4 10=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1)130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 4=520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2)600-520=80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3)80:10=8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4)900-8=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214760" y="2286000"/>
            <a:ext cx="1328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4214880" y="250020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2857680" y="2214720"/>
            <a:ext cx="10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1571760" y="22860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4929120" y="235728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1714680" y="2000160"/>
            <a:ext cx="3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(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2"/>
          <p:cNvSpPr/>
          <p:nvPr/>
        </p:nvSpPr>
        <p:spPr>
          <a:xfrm>
            <a:off x="4643280" y="2000160"/>
            <a:ext cx="14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)     </a:t>
            </a:r>
            <a:r>
              <a:rPr b="0" lang="ru-RU" sz="6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5"/>
          <p:cNvSpPr/>
          <p:nvPr/>
        </p:nvSpPr>
        <p:spPr>
          <a:xfrm>
            <a:off x="3214800" y="51436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1 0.00185 L 0.30122 -0.40764 E">
                                      <p:cBhvr>
                                        <p:cTn id="313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Дома: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. 44 № 205-20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Что помогло усвоить материал?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е моменты помогли усвоить материал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чём затруднялис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на уроке было главным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было интересным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новое сегодня узнали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ему научилис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Математический диктант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оверка.</a:t>
            </a:r>
            <a:endParaRPr b="0" lang="en-US" sz="36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7 075 400 000 кв.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46 900 000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0 382 754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4 603 000 че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5 622 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400 к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1714680" y="2500200"/>
            <a:ext cx="1571400" cy="30718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3286080" y="4000680"/>
            <a:ext cx="2857680" cy="157140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14292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571920" y="6215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3500280" y="228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5"/>
          <p:cNvSpPr/>
          <p:nvPr/>
        </p:nvSpPr>
        <p:spPr>
          <a:xfrm>
            <a:off x="6296040" y="30718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1000080" y="121428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 найти площадь данной фигу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S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=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+ 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+ 1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10=500 </a:t>
            </a: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(кв.м)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43040" y="2249640"/>
            <a:ext cx="45007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1714680" y="2500200"/>
            <a:ext cx="1571400" cy="30718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286080" y="4000680"/>
            <a:ext cx="2857680" cy="157140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14292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3571920" y="6215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500280" y="228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6296040" y="30718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500040" y="7858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a1d"/>
                </a:solidFill>
                <a:latin typeface="Cambria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444d26"/>
                </a:solidFill>
                <a:latin typeface="Calibri"/>
              </a:rPr>
              <a:t>S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=20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30-10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10=500 (кв.м.)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43040" y="2249640"/>
            <a:ext cx="450072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714680" y="2500200"/>
            <a:ext cx="1571400" cy="357192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3286080" y="4000680"/>
            <a:ext cx="2857680" cy="207144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471492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85840" y="37861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571920" y="62150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500280" y="2000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3571920" y="3000240"/>
            <a:ext cx="107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3286080" y="2500200"/>
            <a:ext cx="1428840" cy="15004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0 0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461160" y="8571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a1d"/>
                </a:solidFill>
                <a:latin typeface="Cambria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7e0e"/>
                </a:solidFill>
                <a:latin typeface="Calibri"/>
              </a:rPr>
              <a:t>Найди единицы площади.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кв. 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дм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г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с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Calibri"/>
              </a:rPr>
              <a:t>Чему равна площадь квадрата?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2071800" y="2000160"/>
            <a:ext cx="2928960" cy="271476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786040" y="300024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1 м</a:t>
            </a:r>
            <a:r>
              <a:rPr b="0" lang="ru-RU" sz="4400" spc="-1" strike="noStrike" baseline="30000">
                <a:solidFill>
                  <a:srgbClr val="ffffff"/>
                </a:solidFill>
                <a:latin typeface="Cambri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642960" y="2428920"/>
            <a:ext cx="12859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786040" y="4857840"/>
            <a:ext cx="12146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00см 1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5143680" y="1928880"/>
            <a:ext cx="3714480" cy="271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S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= а</a:t>
            </a: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dd7e0e"/>
                </a:solidFill>
                <a:latin typeface="Cambr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=100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=10000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000=1000000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0"/>
          <p:cNvSpPr/>
          <p:nvPr/>
        </p:nvSpPr>
        <p:spPr>
          <a:xfrm>
            <a:off x="5214960" y="1857240"/>
            <a:ext cx="3643200" cy="1800"/>
          </a:xfrm>
          <a:prstGeom prst="line">
            <a:avLst/>
          </a:prstGeom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49444 -0.01435 E">
                                      <p:cBhvr>
                                        <p:cTn id="99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0.33507 -0.35972 E">
                                      <p:cBhvr>
                                        <p:cTn id="103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Установи соотношение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 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д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г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а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00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00 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 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100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= 1000000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-0.28212 0.00393 E">
                                      <p:cBhvr>
                                        <p:cTn id="115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30052 -0.29259 E">
                                      <p:cBhvr>
                                        <p:cTn id="119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1041 L -0.28803 -0.22222 E">
                                      <p:cBhvr>
                                        <p:cTn id="123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3473 0.07708 E">
                                      <p:cBhvr>
                                        <p:cTn id="127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6 L -0.2967 0.09144 E">
                                      <p:cBhvr>
                                        <p:cTn id="131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7407E-006 L -0.31857 0.08843 E">
                                      <p:cBhvr>
                                        <p:cTn id="135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-0.10851 -0.0625 E">
                                      <p:cBhvr>
                                        <p:cTn id="139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ffa81c">
              <a:alpha val="25000"/>
            </a:srgbClr>
          </a:solidFill>
          <a:ln w="12600">
            <a:solidFill>
              <a:srgbClr val="f3a447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№</a:t>
            </a: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202 с. 44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ffa81c">
              <a:alpha val="25000"/>
            </a:srgbClr>
          </a:solidFill>
          <a:ln w="12600">
            <a:solidFill>
              <a:srgbClr val="f3a447"/>
            </a:solidFill>
            <a:miter/>
          </a:ln>
        </p:spPr>
        <p:txBody>
          <a:bodyPr anchor="ctr">
            <a:normAutofit fontScale="79000"/>
          </a:bodyPr>
          <a:p>
            <a:pPr marL="34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Кто уверен решает самостоятельно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5" name="Содержимое 6" descr="457.gif"/>
          <p:cNvPicPr/>
          <p:nvPr/>
        </p:nvPicPr>
        <p:blipFill>
          <a:blip r:embed="rId1"/>
          <a:stretch/>
        </p:blipFill>
        <p:spPr>
          <a:xfrm>
            <a:off x="6262560" y="41752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11-02-02T17:21:23Z</dcterms:modified>
  <cp:revision>65</cp:revision>
  <dc:subject/>
  <dc:title>Слайд 1</dc:title>
</cp:coreProperties>
</file>