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arrow.wav" ContentType="audio/x-wav"/>
  <Override PartName="/ppt/media/image2.png" ContentType="image/png"/>
  <Override PartName="/ppt/media/hammer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E772-283B-4CAE-B19A-290D4DB4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E4FD-6B9D-4AFF-9CB6-DEBA53B2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D8A1-392B-424D-9AE5-A1EE50CE4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26AF-3B4E-4465-B5CD-C0B8E7EB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BBAE-3FCB-49B5-A39C-727F6AB4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9E34-98CF-4B9A-9729-13B9BDC6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B28D-76E5-480B-8590-C1C52DB9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0772-E6BD-4BCC-9E9F-5C5496CB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A83A-C3D3-41BF-A913-44C845F1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020A-27BF-4606-BA1D-E1D952EA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BA1B-A806-43A9-BC50-09569EF9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8120-2416-4F7E-AC8D-456A5429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61D2-9E6E-48D0-B80D-3431BA5B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20B3-5055-49C9-BD43-9C044BF4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D2CE-17CA-433F-A45C-C7E658FF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6F71-FF87-425A-8831-85C10DBA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6886-9CF0-4A19-B352-F65B9F25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408EE4-801F-459F-ADCB-2F4E1D1C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1420FE-83D9-4234-ADB9-07D3E17D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44A4DD-1167-47D1-8EF2-E58DA8CE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CC1252-8400-40C1-A23C-FAF13C95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DE5077-CAEE-46B4-9E4A-58B39F6C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3742-4327-4B6A-9FC8-7CB24042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C25EEA-2B1A-4346-BC9B-C4FEE9BA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7D54CB-BF52-4AD1-B0DB-976881EA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498CBA-8B16-4B92-8758-F09ADBD7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3A88BB-E4EA-4D2C-A8E0-1AA4D0C5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4AB7ED-E3A1-4922-8E4D-DE5EF569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AC339E-784B-4EC4-8D84-83AD9FE7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55AAEB-F811-4268-85FB-D3814F099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6B32D-F2C1-4444-8633-CF64F18FB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09F7E-AAA0-44E3-868E-C567CF57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206CB-8F59-4E82-B73D-033C335B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E53D-5A0B-4DA1-8C57-7F3F4C7C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DD4BD-23F5-4084-99F0-B9800B79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CD69D-2BEE-4A9A-AA72-D5315730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29688-EC6D-4315-A261-39BA4EA0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36640-5ED8-478E-BD0D-6F44ED05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A0F5F-149E-47C1-8A42-CCA25BA4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FCE9F-9440-405A-A7D0-EAED10DA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4FCC0-A8F3-48DA-8EA9-435CA540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D0E4A-B35C-4939-B6B4-F17D3ECE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17725-39CC-4970-B31A-04EE7124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C6AF-8DFF-4AE7-BC25-CD6178B6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42C3-8667-4778-A54D-16E965F4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1C82-C3F9-45D8-BDEE-06F2FFB4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86DD-A6F1-4531-AF20-B2E32980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3271-E98F-41B2-BD48-D84A24F5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Cambr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EC6A-EEBD-475D-B26E-952B0D041B73}" type="slidenum">
              <a:rPr b="0" lang="ru-RU" sz="2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f3a447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f3a44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f3a447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Cambr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2240-5965-4961-93C2-B97455352430}" type="slidenum">
              <a:rPr b="0" lang="ru-RU" sz="2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Cambr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1BA4-0E35-47D1-8E72-BC7677125414}" type="slidenum">
              <a:rPr b="0" lang="ru-RU" sz="2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Cambr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DBF3-CAF9-4725-BE2D-5F20C605E716}" type="slidenum">
              <a:rPr b="0" lang="ru-RU" sz="2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Математика. Единицы площади.</a:t>
            </a:r>
            <a:endParaRPr b="0" lang="en-US" sz="44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787640" y="3900600"/>
            <a:ext cx="3816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d26"/>
                </a:solidFill>
                <a:latin typeface="Cambria"/>
              </a:rPr>
              <a:t>                             </a:t>
            </a:r>
            <a:r>
              <a:rPr b="0" lang="ru-RU" sz="2400" spc="-1" strike="noStrike">
                <a:solidFill>
                  <a:srgbClr val="444d26"/>
                </a:solidFill>
                <a:latin typeface="Cambria"/>
              </a:rPr>
              <a:t>Презентацию создала учитель начальных классов МОУ ООШ № 26 Курманкаева Н.Г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16" name="Picture 2" descr="C:\Documents and Settings\Дом\My Documents\Документы для АРМа\Картинки\Анимашки\Ещё анимашки\Анимашки\457.gif"/>
          <p:cNvPicPr/>
          <p:nvPr/>
        </p:nvPicPr>
        <p:blipFill>
          <a:blip r:embed="rId1"/>
          <a:stretch/>
        </p:blipFill>
        <p:spPr>
          <a:xfrm>
            <a:off x="250920" y="5157720"/>
            <a:ext cx="142848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23"/>
          <p:cNvSpPr/>
          <p:nvPr/>
        </p:nvSpPr>
        <p:spPr>
          <a:xfrm>
            <a:off x="3929040" y="3214800"/>
            <a:ext cx="1357200" cy="459720"/>
          </a:xfrm>
          <a:prstGeom prst="rect">
            <a:avLst/>
          </a:prstGeom>
          <a:solidFill>
            <a:srgbClr val="edf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32 кор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Прямоугольник 10"/>
          <p:cNvGrpSpPr/>
          <p:nvPr/>
        </p:nvGrpSpPr>
        <p:grpSpPr>
          <a:xfrm>
            <a:off x="3876840" y="3114720"/>
            <a:ext cx="1122120" cy="622080"/>
            <a:chOff x="3876840" y="3114720"/>
            <a:chExt cx="1122120" cy="622080"/>
          </a:xfrm>
        </p:grpSpPr>
        <p:pic>
          <p:nvPicPr>
            <p:cNvPr id="268" name="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3876840" y="3114720"/>
              <a:ext cx="112212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3938760" y="3152880"/>
              <a:ext cx="10000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44d26"/>
                </a:solidFill>
                <a:latin typeface="Calibri"/>
              </a:rPr>
              <a:t>с. 44  № 204 </a:t>
            </a:r>
            <a:endParaRPr b="0" lang="en-US" sz="28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99680" y="2285640"/>
            <a:ext cx="60008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Прямоугольник 3"/>
          <p:cNvSpPr/>
          <p:nvPr/>
        </p:nvSpPr>
        <p:spPr>
          <a:xfrm>
            <a:off x="1214280" y="3000240"/>
            <a:ext cx="1000440" cy="50004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5"/>
          <p:cNvSpPr/>
          <p:nvPr/>
        </p:nvSpPr>
        <p:spPr>
          <a:xfrm>
            <a:off x="1366920" y="3152880"/>
            <a:ext cx="1000080" cy="50004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6"/>
          <p:cNvSpPr/>
          <p:nvPr/>
        </p:nvSpPr>
        <p:spPr>
          <a:xfrm>
            <a:off x="1519200" y="3305160"/>
            <a:ext cx="1000080" cy="50004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7"/>
          <p:cNvSpPr/>
          <p:nvPr/>
        </p:nvSpPr>
        <p:spPr>
          <a:xfrm>
            <a:off x="1671480" y="3457440"/>
            <a:ext cx="1000440" cy="50004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8"/>
          <p:cNvSpPr/>
          <p:nvPr/>
        </p:nvSpPr>
        <p:spPr>
          <a:xfrm>
            <a:off x="1824120" y="3610080"/>
            <a:ext cx="1000080" cy="50004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Прямоугольник 11"/>
          <p:cNvGrpSpPr/>
          <p:nvPr/>
        </p:nvGrpSpPr>
        <p:grpSpPr>
          <a:xfrm>
            <a:off x="4029120" y="3267000"/>
            <a:ext cx="1122480" cy="622440"/>
            <a:chOff x="4029120" y="3267000"/>
            <a:chExt cx="1122480" cy="622440"/>
          </a:xfrm>
        </p:grpSpPr>
        <p:pic>
          <p:nvPicPr>
            <p:cNvPr id="278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4029120" y="3267000"/>
              <a:ext cx="112248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4091040" y="3305160"/>
              <a:ext cx="10000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Прямоугольник 12"/>
          <p:cNvGrpSpPr/>
          <p:nvPr/>
        </p:nvGrpSpPr>
        <p:grpSpPr>
          <a:xfrm>
            <a:off x="4181400" y="3419640"/>
            <a:ext cx="1122480" cy="622080"/>
            <a:chOff x="4181400" y="3419640"/>
            <a:chExt cx="1122480" cy="622080"/>
          </a:xfrm>
        </p:grpSpPr>
        <p:pic>
          <p:nvPicPr>
            <p:cNvPr id="281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4181400" y="3419640"/>
              <a:ext cx="112248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4243320" y="3457440"/>
              <a:ext cx="10000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Прямоугольник 14"/>
          <p:cNvGrpSpPr/>
          <p:nvPr/>
        </p:nvGrpSpPr>
        <p:grpSpPr>
          <a:xfrm>
            <a:off x="4438800" y="3749760"/>
            <a:ext cx="1120680" cy="620640"/>
            <a:chOff x="4438800" y="3749760"/>
            <a:chExt cx="1120680" cy="620640"/>
          </a:xfrm>
        </p:grpSpPr>
        <p:pic>
          <p:nvPicPr>
            <p:cNvPr id="284" name="Прямоугольник 14" descr=""/>
            <p:cNvPicPr/>
            <p:nvPr/>
          </p:nvPicPr>
          <p:blipFill>
            <a:blip r:embed="rId4"/>
            <a:stretch/>
          </p:blipFill>
          <p:spPr>
            <a:xfrm>
              <a:off x="4438800" y="3749760"/>
              <a:ext cx="11206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4500720" y="3786120"/>
              <a:ext cx="10000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Правая фигурная скобка 15"/>
          <p:cNvSpPr/>
          <p:nvPr/>
        </p:nvSpPr>
        <p:spPr>
          <a:xfrm rot="5400000">
            <a:off x="3500280" y="2643120"/>
            <a:ext cx="571320" cy="5286240"/>
          </a:xfrm>
          <a:custGeom>
            <a:avLst/>
            <a:gdLst>
              <a:gd name="textAreaLeft" fmla="*/ 0 w 571320"/>
              <a:gd name="textAreaRight" fmla="*/ 206280 w 571320"/>
              <a:gd name="textAreaTop" fmla="*/ 14760 h 5286240"/>
              <a:gd name="textAreaBottom" fmla="*/ 5271480 h 528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8"/>
                  <a:pt x="10800" y="195"/>
                </a:cubicBezTo>
                <a:lnTo>
                  <a:pt x="10800" y="10605"/>
                </a:lnTo>
                <a:cubicBezTo>
                  <a:pt x="10800" y="10703"/>
                  <a:pt x="16200" y="10800"/>
                  <a:pt x="21600" y="10800"/>
                </a:cubicBezTo>
                <a:cubicBezTo>
                  <a:pt x="16200" y="10800"/>
                  <a:pt x="10800" y="10898"/>
                  <a:pt x="10800" y="10995"/>
                </a:cubicBezTo>
                <a:lnTo>
                  <a:pt x="10800" y="21405"/>
                </a:lnTo>
                <a:cubicBezTo>
                  <a:pt x="10800" y="2150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6"/>
          <p:cNvSpPr/>
          <p:nvPr/>
        </p:nvSpPr>
        <p:spPr>
          <a:xfrm>
            <a:off x="3286080" y="57150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48 кор.   </a:t>
            </a: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? 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7"/>
          <p:cNvSpPr/>
          <p:nvPr/>
        </p:nvSpPr>
        <p:spPr>
          <a:xfrm>
            <a:off x="2000160" y="378612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9 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8"/>
          <p:cNvSpPr/>
          <p:nvPr/>
        </p:nvSpPr>
        <p:spPr>
          <a:xfrm>
            <a:off x="4643280" y="39290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8 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авая фигурная скобка 19"/>
          <p:cNvSpPr/>
          <p:nvPr/>
        </p:nvSpPr>
        <p:spPr>
          <a:xfrm rot="9001800">
            <a:off x="856440" y="2928960"/>
            <a:ext cx="500040" cy="192888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1928880"/>
              <a:gd name="textAreaBottom" fmla="*/ 1915920 h 19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34"/>
                  <a:pt x="10800" y="467"/>
                </a:cubicBezTo>
                <a:lnTo>
                  <a:pt x="10800" y="10333"/>
                </a:lnTo>
                <a:cubicBezTo>
                  <a:pt x="10800" y="10567"/>
                  <a:pt x="16200" y="10800"/>
                  <a:pt x="21600" y="10800"/>
                </a:cubicBezTo>
                <a:cubicBezTo>
                  <a:pt x="16200" y="10800"/>
                  <a:pt x="10800" y="11034"/>
                  <a:pt x="10800" y="11267"/>
                </a:cubicBezTo>
                <a:lnTo>
                  <a:pt x="10800" y="21133"/>
                </a:lnTo>
                <a:cubicBezTo>
                  <a:pt x="10800" y="21367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20"/>
          <p:cNvSpPr/>
          <p:nvPr/>
        </p:nvSpPr>
        <p:spPr>
          <a:xfrm>
            <a:off x="428760" y="4143240"/>
            <a:ext cx="78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6 к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авая фигурная скобка 21"/>
          <p:cNvSpPr/>
          <p:nvPr/>
        </p:nvSpPr>
        <p:spPr>
          <a:xfrm rot="19669800">
            <a:off x="5525640" y="2707920"/>
            <a:ext cx="490680" cy="1822320"/>
          </a:xfrm>
          <a:custGeom>
            <a:avLst/>
            <a:gdLst>
              <a:gd name="textAreaLeft" fmla="*/ 0 w 490680"/>
              <a:gd name="textAreaRight" fmla="*/ 177120 w 490680"/>
              <a:gd name="textAreaTop" fmla="*/ 12600 h 1822320"/>
              <a:gd name="textAreaBottom" fmla="*/ 1809720 h 182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2"/>
                  <a:pt x="10800" y="484"/>
                </a:cubicBezTo>
                <a:lnTo>
                  <a:pt x="10800" y="10316"/>
                </a:lnTo>
                <a:cubicBezTo>
                  <a:pt x="10800" y="10558"/>
                  <a:pt x="16200" y="10800"/>
                  <a:pt x="21600" y="10800"/>
                </a:cubicBezTo>
                <a:cubicBezTo>
                  <a:pt x="16200" y="10800"/>
                  <a:pt x="10800" y="11042"/>
                  <a:pt x="10800" y="11284"/>
                </a:cubicBezTo>
                <a:lnTo>
                  <a:pt x="10800" y="21116"/>
                </a:lnTo>
                <a:cubicBezTo>
                  <a:pt x="10800" y="21358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2"/>
          <p:cNvSpPr/>
          <p:nvPr/>
        </p:nvSpPr>
        <p:spPr>
          <a:xfrm>
            <a:off x="6072120" y="3071880"/>
            <a:ext cx="5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5"/>
          <p:cNvSpPr/>
          <p:nvPr/>
        </p:nvSpPr>
        <p:spPr>
          <a:xfrm>
            <a:off x="6643800" y="2214720"/>
            <a:ext cx="22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)48-16=32 (кор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33333E-006 L 0.15834 -0.02084 E">
                                      <p:cBhvr>
                                        <p:cTn id="183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23"/>
          <p:cNvSpPr/>
          <p:nvPr/>
        </p:nvSpPr>
        <p:spPr>
          <a:xfrm>
            <a:off x="3929040" y="3214800"/>
            <a:ext cx="1357200" cy="459720"/>
          </a:xfrm>
          <a:prstGeom prst="rect">
            <a:avLst/>
          </a:prstGeom>
          <a:solidFill>
            <a:srgbClr val="edf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32 кор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Прямоугольник 10"/>
          <p:cNvGrpSpPr/>
          <p:nvPr/>
        </p:nvGrpSpPr>
        <p:grpSpPr>
          <a:xfrm>
            <a:off x="3876840" y="3114720"/>
            <a:ext cx="1122120" cy="622080"/>
            <a:chOff x="3876840" y="3114720"/>
            <a:chExt cx="1122120" cy="622080"/>
          </a:xfrm>
        </p:grpSpPr>
        <p:pic>
          <p:nvPicPr>
            <p:cNvPr id="297" name="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3876840" y="3114720"/>
              <a:ext cx="112212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3938760" y="3152880"/>
              <a:ext cx="10000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129560" y="2485800"/>
            <a:ext cx="2385360" cy="2457000"/>
          </a:xfrm>
          <a:prstGeom prst="rect">
            <a:avLst/>
          </a:prstGeom>
          <a:solidFill>
            <a:srgbClr val="a5b592">
              <a:alpha val="34000"/>
            </a:srgbClr>
          </a:solidFill>
          <a:ln w="19080">
            <a:solidFill>
              <a:srgbClr val="78846a"/>
            </a:solidFill>
            <a:miter/>
          </a:ln>
        </p:spPr>
        <p:txBody>
          <a:bodyPr anchor="ctr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Прямоугольник 3"/>
          <p:cNvSpPr/>
          <p:nvPr/>
        </p:nvSpPr>
        <p:spPr>
          <a:xfrm>
            <a:off x="1214280" y="3000240"/>
            <a:ext cx="1000440" cy="50004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5"/>
          <p:cNvSpPr/>
          <p:nvPr/>
        </p:nvSpPr>
        <p:spPr>
          <a:xfrm>
            <a:off x="1366920" y="3152880"/>
            <a:ext cx="1000080" cy="50004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6"/>
          <p:cNvSpPr/>
          <p:nvPr/>
        </p:nvSpPr>
        <p:spPr>
          <a:xfrm>
            <a:off x="1519200" y="3305160"/>
            <a:ext cx="1000080" cy="50004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7"/>
          <p:cNvSpPr/>
          <p:nvPr/>
        </p:nvSpPr>
        <p:spPr>
          <a:xfrm>
            <a:off x="1671480" y="3457440"/>
            <a:ext cx="1000440" cy="50004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8"/>
          <p:cNvSpPr/>
          <p:nvPr/>
        </p:nvSpPr>
        <p:spPr>
          <a:xfrm>
            <a:off x="1824120" y="3610080"/>
            <a:ext cx="1000080" cy="50004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Прямоугольник 11"/>
          <p:cNvGrpSpPr/>
          <p:nvPr/>
        </p:nvGrpSpPr>
        <p:grpSpPr>
          <a:xfrm>
            <a:off x="4029120" y="3267000"/>
            <a:ext cx="1122480" cy="622440"/>
            <a:chOff x="4029120" y="3267000"/>
            <a:chExt cx="1122480" cy="622440"/>
          </a:xfrm>
        </p:grpSpPr>
        <p:pic>
          <p:nvPicPr>
            <p:cNvPr id="307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4029120" y="3267000"/>
              <a:ext cx="112248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4091040" y="3305160"/>
              <a:ext cx="10000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Прямоугольник 12"/>
          <p:cNvGrpSpPr/>
          <p:nvPr/>
        </p:nvGrpSpPr>
        <p:grpSpPr>
          <a:xfrm>
            <a:off x="4181400" y="3419640"/>
            <a:ext cx="1122480" cy="622080"/>
            <a:chOff x="4181400" y="3419640"/>
            <a:chExt cx="1122480" cy="622080"/>
          </a:xfrm>
        </p:grpSpPr>
        <p:pic>
          <p:nvPicPr>
            <p:cNvPr id="310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4181400" y="3419640"/>
              <a:ext cx="112248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4243320" y="3457440"/>
              <a:ext cx="10000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Прямоугольник 14"/>
          <p:cNvGrpSpPr/>
          <p:nvPr/>
        </p:nvGrpSpPr>
        <p:grpSpPr>
          <a:xfrm>
            <a:off x="4438800" y="3749760"/>
            <a:ext cx="1120680" cy="620640"/>
            <a:chOff x="4438800" y="3749760"/>
            <a:chExt cx="1120680" cy="620640"/>
          </a:xfrm>
        </p:grpSpPr>
        <p:pic>
          <p:nvPicPr>
            <p:cNvPr id="313" name="Прямоугольник 14" descr=""/>
            <p:cNvPicPr/>
            <p:nvPr/>
          </p:nvPicPr>
          <p:blipFill>
            <a:blip r:embed="rId4"/>
            <a:stretch/>
          </p:blipFill>
          <p:spPr>
            <a:xfrm>
              <a:off x="4438800" y="3749760"/>
              <a:ext cx="11206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4500720" y="3786120"/>
              <a:ext cx="10000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Правая фигурная скобка 15"/>
          <p:cNvSpPr/>
          <p:nvPr/>
        </p:nvSpPr>
        <p:spPr>
          <a:xfrm rot="5400000">
            <a:off x="3500280" y="2643120"/>
            <a:ext cx="571320" cy="5286240"/>
          </a:xfrm>
          <a:custGeom>
            <a:avLst/>
            <a:gdLst>
              <a:gd name="textAreaLeft" fmla="*/ 0 w 571320"/>
              <a:gd name="textAreaRight" fmla="*/ 206280 w 571320"/>
              <a:gd name="textAreaTop" fmla="*/ 14760 h 5286240"/>
              <a:gd name="textAreaBottom" fmla="*/ 5271480 h 528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8"/>
                  <a:pt x="10800" y="195"/>
                </a:cubicBezTo>
                <a:lnTo>
                  <a:pt x="10800" y="10605"/>
                </a:lnTo>
                <a:cubicBezTo>
                  <a:pt x="10800" y="10703"/>
                  <a:pt x="16200" y="10800"/>
                  <a:pt x="21600" y="10800"/>
                </a:cubicBezTo>
                <a:cubicBezTo>
                  <a:pt x="16200" y="10800"/>
                  <a:pt x="10800" y="10898"/>
                  <a:pt x="10800" y="10995"/>
                </a:cubicBezTo>
                <a:lnTo>
                  <a:pt x="10800" y="21405"/>
                </a:lnTo>
                <a:cubicBezTo>
                  <a:pt x="10800" y="2150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6"/>
          <p:cNvSpPr/>
          <p:nvPr/>
        </p:nvSpPr>
        <p:spPr>
          <a:xfrm>
            <a:off x="3286080" y="5715000"/>
            <a:ext cx="13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7"/>
          <p:cNvSpPr/>
          <p:nvPr/>
        </p:nvSpPr>
        <p:spPr>
          <a:xfrm>
            <a:off x="2000160" y="378612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9 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8"/>
          <p:cNvSpPr/>
          <p:nvPr/>
        </p:nvSpPr>
        <p:spPr>
          <a:xfrm>
            <a:off x="4643280" y="39290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8 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авая фигурная скобка 19"/>
          <p:cNvSpPr/>
          <p:nvPr/>
        </p:nvSpPr>
        <p:spPr>
          <a:xfrm rot="9001800">
            <a:off x="856440" y="2928960"/>
            <a:ext cx="500040" cy="192888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1928880"/>
              <a:gd name="textAreaBottom" fmla="*/ 1915920 h 19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34"/>
                  <a:pt x="10800" y="467"/>
                </a:cubicBezTo>
                <a:lnTo>
                  <a:pt x="10800" y="10333"/>
                </a:lnTo>
                <a:cubicBezTo>
                  <a:pt x="10800" y="10567"/>
                  <a:pt x="16200" y="10800"/>
                  <a:pt x="21600" y="10800"/>
                </a:cubicBezTo>
                <a:cubicBezTo>
                  <a:pt x="16200" y="10800"/>
                  <a:pt x="10800" y="11034"/>
                  <a:pt x="10800" y="11267"/>
                </a:cubicBezTo>
                <a:lnTo>
                  <a:pt x="10800" y="21133"/>
                </a:lnTo>
                <a:cubicBezTo>
                  <a:pt x="10800" y="21367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0"/>
          <p:cNvSpPr/>
          <p:nvPr/>
        </p:nvSpPr>
        <p:spPr>
          <a:xfrm>
            <a:off x="428760" y="4143240"/>
            <a:ext cx="78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6 к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авая фигурная скобка 21"/>
          <p:cNvSpPr/>
          <p:nvPr/>
        </p:nvSpPr>
        <p:spPr>
          <a:xfrm rot="19669800">
            <a:off x="5525640" y="2707920"/>
            <a:ext cx="490680" cy="1822320"/>
          </a:xfrm>
          <a:custGeom>
            <a:avLst/>
            <a:gdLst>
              <a:gd name="textAreaLeft" fmla="*/ 0 w 490680"/>
              <a:gd name="textAreaRight" fmla="*/ 177120 w 490680"/>
              <a:gd name="textAreaTop" fmla="*/ 12600 h 1822320"/>
              <a:gd name="textAreaBottom" fmla="*/ 1809720 h 182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2"/>
                  <a:pt x="10800" y="484"/>
                </a:cubicBezTo>
                <a:lnTo>
                  <a:pt x="10800" y="10316"/>
                </a:lnTo>
                <a:cubicBezTo>
                  <a:pt x="10800" y="10558"/>
                  <a:pt x="16200" y="10800"/>
                  <a:pt x="21600" y="10800"/>
                </a:cubicBezTo>
                <a:cubicBezTo>
                  <a:pt x="16200" y="10800"/>
                  <a:pt x="10800" y="11042"/>
                  <a:pt x="10800" y="11284"/>
                </a:cubicBezTo>
                <a:lnTo>
                  <a:pt x="10800" y="21116"/>
                </a:lnTo>
                <a:cubicBezTo>
                  <a:pt x="10800" y="21358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2"/>
          <p:cNvSpPr/>
          <p:nvPr/>
        </p:nvSpPr>
        <p:spPr>
          <a:xfrm>
            <a:off x="5786280" y="30718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32к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5"/>
          <p:cNvSpPr/>
          <p:nvPr/>
        </p:nvSpPr>
        <p:spPr>
          <a:xfrm>
            <a:off x="6643800" y="2286000"/>
            <a:ext cx="250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)48-16=32 (кор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2)9*16=144(к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3)8*32 = 256 (к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4)144+256=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24"/>
          <p:cNvSpPr/>
          <p:nvPr/>
        </p:nvSpPr>
        <p:spPr>
          <a:xfrm>
            <a:off x="4357800" y="557208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?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Скругленный прямоугольник 26"/>
          <p:cNvSpPr/>
          <p:nvPr/>
        </p:nvSpPr>
        <p:spPr>
          <a:xfrm>
            <a:off x="500040" y="2357280"/>
            <a:ext cx="2571840" cy="2714760"/>
          </a:xfrm>
          <a:custGeom>
            <a:avLst/>
            <a:gdLst>
              <a:gd name="textAreaLeft" fmla="*/ 125280 w 2571840"/>
              <a:gd name="textAreaRight" fmla="*/ 2446560 w 2571840"/>
              <a:gd name="textAreaTop" fmla="*/ 125280 h 2714760"/>
              <a:gd name="textAreaBottom" fmla="*/ 2589480 h 2714760"/>
            </a:gdLst>
            <a:ahLst/>
            <a:rect l="textAreaLeft" t="textAreaTop" r="textAreaRight" b="textAreaBottom"/>
            <a:pathLst>
              <a:path w="21600" h="22800">
                <a:moveTo>
                  <a:pt x="3600" y="0"/>
                </a:moveTo>
                <a:arcTo wR="3600" hR="3600" stAng="16200000" swAng="-5400000"/>
                <a:lnTo>
                  <a:pt x="0" y="19200"/>
                </a:lnTo>
                <a:arcTo wR="3600" hR="3600" stAng="10800000" swAng="-5400000"/>
                <a:lnTo>
                  <a:pt x="18000" y="22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5b592">
              <a:alpha val="34000"/>
            </a:srgbClr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Скругленный прямоугольник 28"/>
          <p:cNvSpPr/>
          <p:nvPr/>
        </p:nvSpPr>
        <p:spPr>
          <a:xfrm>
            <a:off x="285840" y="2000160"/>
            <a:ext cx="6500880" cy="3357720"/>
          </a:xfrm>
          <a:prstGeom prst="roundRect">
            <a:avLst>
              <a:gd name="adj" fmla="val 16667"/>
            </a:avLst>
          </a:prstGeom>
          <a:solidFill>
            <a:srgbClr val="a5b592">
              <a:alpha val="21000"/>
            </a:srgbClr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31"/>
          <p:cNvSpPr/>
          <p:nvPr/>
        </p:nvSpPr>
        <p:spPr>
          <a:xfrm>
            <a:off x="7929720" y="3071880"/>
            <a:ext cx="121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400 к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L -0.38351 0.3382 E">
                                      <p:cBhvr>
                                        <p:cTn id="247" dur="2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d7e0e"/>
                </a:solidFill>
                <a:latin typeface="Calibri"/>
              </a:rPr>
              <a:t>Инструктаж  домашней работы.</a:t>
            </a: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2249280"/>
            <a:ext cx="6329520" cy="36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"/>
              </a:rPr>
              <a:t>900  600  130  4 10=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"/>
              </a:rPr>
              <a:t>1)130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•</a:t>
            </a:r>
            <a:r>
              <a:rPr b="0" lang="ru-RU" sz="4800" spc="-1" strike="noStrike">
                <a:solidFill>
                  <a:srgbClr val="000000"/>
                </a:solidFill>
                <a:latin typeface="Cambria"/>
              </a:rPr>
              <a:t> 4=520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"/>
              </a:rPr>
              <a:t>2)600-520=80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"/>
              </a:rPr>
              <a:t>3)80:10=8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"/>
              </a:rPr>
              <a:t>4)900-8=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214760" y="2286000"/>
            <a:ext cx="1328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TextBox 5"/>
          <p:cNvSpPr/>
          <p:nvPr/>
        </p:nvSpPr>
        <p:spPr>
          <a:xfrm>
            <a:off x="4214880" y="2500200"/>
            <a:ext cx="42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•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6"/>
          <p:cNvSpPr/>
          <p:nvPr/>
        </p:nvSpPr>
        <p:spPr>
          <a:xfrm>
            <a:off x="2857680" y="2214720"/>
            <a:ext cx="107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7"/>
          <p:cNvSpPr/>
          <p:nvPr/>
        </p:nvSpPr>
        <p:spPr>
          <a:xfrm>
            <a:off x="1571760" y="2286000"/>
            <a:ext cx="8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8"/>
          <p:cNvSpPr/>
          <p:nvPr/>
        </p:nvSpPr>
        <p:spPr>
          <a:xfrm>
            <a:off x="4929120" y="235728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: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9"/>
          <p:cNvSpPr/>
          <p:nvPr/>
        </p:nvSpPr>
        <p:spPr>
          <a:xfrm>
            <a:off x="1714680" y="2000160"/>
            <a:ext cx="35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(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2"/>
          <p:cNvSpPr/>
          <p:nvPr/>
        </p:nvSpPr>
        <p:spPr>
          <a:xfrm>
            <a:off x="4643280" y="2000160"/>
            <a:ext cx="142920" cy="75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)     </a:t>
            </a:r>
            <a:r>
              <a:rPr b="0" lang="ru-RU" sz="66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5"/>
          <p:cNvSpPr/>
          <p:nvPr/>
        </p:nvSpPr>
        <p:spPr>
          <a:xfrm>
            <a:off x="3214800" y="514368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8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2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7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5" dur="2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9" dur="2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3" dur="2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931 0.00185 L 0.30122 -0.40764 E">
                                      <p:cBhvr>
                                        <p:cTn id="313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Дома:</a:t>
            </a: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. 44 № 205-207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d7e0e"/>
                </a:solidFill>
                <a:latin typeface="Calibri"/>
              </a:rPr>
              <a:t>Что помогло усвоить материал?</a:t>
            </a: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Какие моменты помогли усвоить материал?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чём затруднялись?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Что на уроке было главным?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Что было интересным?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Что новое сегодня узнали?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Чему научились?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d26"/>
                </a:solidFill>
                <a:latin typeface="Calibri"/>
              </a:rPr>
              <a:t>Математический диктант.</a:t>
            </a:r>
            <a:br>
              <a:rPr sz="3600"/>
            </a:br>
            <a:r>
              <a:rPr b="0" lang="ru-RU" sz="3600" spc="-1" strike="noStrike">
                <a:solidFill>
                  <a:srgbClr val="444d26"/>
                </a:solidFill>
                <a:latin typeface="Calibri"/>
              </a:rPr>
              <a:t>Проверка.</a:t>
            </a:r>
            <a:endParaRPr b="0" lang="en-US" sz="36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17 075 400 000 кв.м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146 900 000 чел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10 382 754 чел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4 603 000 чел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5 622 м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2400 км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3"/>
          <p:cNvSpPr/>
          <p:nvPr/>
        </p:nvSpPr>
        <p:spPr>
          <a:xfrm>
            <a:off x="1714680" y="2500200"/>
            <a:ext cx="1571400" cy="307188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4"/>
          <p:cNvSpPr/>
          <p:nvPr/>
        </p:nvSpPr>
        <p:spPr>
          <a:xfrm>
            <a:off x="3286080" y="4000680"/>
            <a:ext cx="2857680" cy="157140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5"/>
          <p:cNvSpPr/>
          <p:nvPr/>
        </p:nvSpPr>
        <p:spPr>
          <a:xfrm>
            <a:off x="4714920" y="2500200"/>
            <a:ext cx="1428840" cy="150048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6"/>
          <p:cNvSpPr/>
          <p:nvPr/>
        </p:nvSpPr>
        <p:spPr>
          <a:xfrm>
            <a:off x="142920" y="3786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2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3571920" y="62150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3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8"/>
          <p:cNvSpPr/>
          <p:nvPr/>
        </p:nvSpPr>
        <p:spPr>
          <a:xfrm>
            <a:off x="3500280" y="22860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1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15"/>
          <p:cNvSpPr/>
          <p:nvPr/>
        </p:nvSpPr>
        <p:spPr>
          <a:xfrm>
            <a:off x="6296040" y="30718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1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0"/>
          <p:cNvSpPr/>
          <p:nvPr/>
        </p:nvSpPr>
        <p:spPr>
          <a:xfrm>
            <a:off x="1000080" y="1214280"/>
            <a:ext cx="657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Как найти площадь данной фигур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Calibri"/>
              </a:rPr>
              <a:t>S</a:t>
            </a: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=20</a:t>
            </a:r>
            <a:r>
              <a:rPr b="0" lang="ru-RU" sz="40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•</a:t>
            </a: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 10+ 20</a:t>
            </a:r>
            <a:r>
              <a:rPr b="0" lang="ru-RU" sz="40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•</a:t>
            </a: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 10+ 10</a:t>
            </a:r>
            <a:r>
              <a:rPr b="0" lang="ru-RU" sz="40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•</a:t>
            </a: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 10=500 </a:t>
            </a: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(кв.м)</a:t>
            </a:r>
            <a:endParaRPr b="0" lang="en-US" sz="44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643040" y="2249640"/>
            <a:ext cx="45007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Прямоугольник 3"/>
          <p:cNvSpPr/>
          <p:nvPr/>
        </p:nvSpPr>
        <p:spPr>
          <a:xfrm>
            <a:off x="1714680" y="2500200"/>
            <a:ext cx="1571400" cy="307188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4"/>
          <p:cNvSpPr/>
          <p:nvPr/>
        </p:nvSpPr>
        <p:spPr>
          <a:xfrm>
            <a:off x="3286080" y="4000680"/>
            <a:ext cx="2857680" cy="157140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5"/>
          <p:cNvSpPr/>
          <p:nvPr/>
        </p:nvSpPr>
        <p:spPr>
          <a:xfrm>
            <a:off x="4714920" y="2500200"/>
            <a:ext cx="1428840" cy="150048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6"/>
          <p:cNvSpPr/>
          <p:nvPr/>
        </p:nvSpPr>
        <p:spPr>
          <a:xfrm>
            <a:off x="142920" y="3786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2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7"/>
          <p:cNvSpPr/>
          <p:nvPr/>
        </p:nvSpPr>
        <p:spPr>
          <a:xfrm>
            <a:off x="3571920" y="62150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3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8"/>
          <p:cNvSpPr/>
          <p:nvPr/>
        </p:nvSpPr>
        <p:spPr>
          <a:xfrm>
            <a:off x="3500280" y="22860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1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15"/>
          <p:cNvSpPr/>
          <p:nvPr/>
        </p:nvSpPr>
        <p:spPr>
          <a:xfrm>
            <a:off x="6296040" y="30718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1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0"/>
          <p:cNvSpPr/>
          <p:nvPr/>
        </p:nvSpPr>
        <p:spPr>
          <a:xfrm>
            <a:off x="500040" y="78588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a1d"/>
                </a:solidFill>
                <a:latin typeface="Cambria"/>
              </a:rPr>
              <a:t>1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5712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           </a:t>
            </a:r>
            <a:r>
              <a:rPr b="0" lang="en-US" sz="4000" spc="-1" strike="noStrike">
                <a:solidFill>
                  <a:srgbClr val="444d26"/>
                </a:solidFill>
                <a:latin typeface="Calibri"/>
              </a:rPr>
              <a:t>S</a:t>
            </a: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=20</a:t>
            </a:r>
            <a:r>
              <a:rPr b="0" lang="ru-RU" sz="40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•</a:t>
            </a: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30-10 </a:t>
            </a:r>
            <a:r>
              <a:rPr b="0" lang="ru-RU" sz="40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•</a:t>
            </a: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10=500 (кв.м.)</a:t>
            </a: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643040" y="2249640"/>
            <a:ext cx="4500720" cy="38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Прямоугольник 3"/>
          <p:cNvSpPr/>
          <p:nvPr/>
        </p:nvSpPr>
        <p:spPr>
          <a:xfrm>
            <a:off x="1714680" y="2500200"/>
            <a:ext cx="1571400" cy="357192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3286080" y="4000680"/>
            <a:ext cx="2857680" cy="207144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5"/>
          <p:cNvSpPr/>
          <p:nvPr/>
        </p:nvSpPr>
        <p:spPr>
          <a:xfrm>
            <a:off x="4714920" y="2500200"/>
            <a:ext cx="1428840" cy="150048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6"/>
          <p:cNvSpPr/>
          <p:nvPr/>
        </p:nvSpPr>
        <p:spPr>
          <a:xfrm>
            <a:off x="285840" y="37861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2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3571920" y="621504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3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8"/>
          <p:cNvSpPr/>
          <p:nvPr/>
        </p:nvSpPr>
        <p:spPr>
          <a:xfrm>
            <a:off x="3500280" y="20001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1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2"/>
          <p:cNvSpPr/>
          <p:nvPr/>
        </p:nvSpPr>
        <p:spPr>
          <a:xfrm>
            <a:off x="3571920" y="3000240"/>
            <a:ext cx="1071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13"/>
          <p:cNvSpPr/>
          <p:nvPr/>
        </p:nvSpPr>
        <p:spPr>
          <a:xfrm>
            <a:off x="3286080" y="2500200"/>
            <a:ext cx="1428840" cy="150048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10 0м</a:t>
            </a:r>
            <a:r>
              <a:rPr b="0" lang="ru-RU" sz="2800" spc="-1" strike="noStrike" baseline="30000">
                <a:solidFill>
                  <a:srgbClr val="ffffff"/>
                </a:solidFill>
                <a:latin typeface="Cambri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14"/>
          <p:cNvSpPr/>
          <p:nvPr/>
        </p:nvSpPr>
        <p:spPr>
          <a:xfrm>
            <a:off x="461160" y="85716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a1d"/>
                </a:solidFill>
                <a:latin typeface="Cambria"/>
              </a:rPr>
              <a:t>2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d7e0e"/>
                </a:solidFill>
                <a:latin typeface="Calibri"/>
              </a:rPr>
              <a:t>Найди единицы площади.</a:t>
            </a: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кв. м</a:t>
            </a:r>
            <a:r>
              <a:rPr b="1" lang="ru-RU" sz="40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дм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сек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км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га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мм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см</a:t>
            </a:r>
            <a:r>
              <a:rPr b="1" lang="ru-RU" sz="40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2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Calibri"/>
              </a:rPr>
              <a:t>Чему равна площадь квадрата?</a:t>
            </a:r>
            <a:endParaRPr b="0" lang="en-US" sz="28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2071800" y="2000160"/>
            <a:ext cx="2928960" cy="271476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4"/>
          <p:cNvSpPr/>
          <p:nvPr/>
        </p:nvSpPr>
        <p:spPr>
          <a:xfrm>
            <a:off x="2786040" y="3000240"/>
            <a:ext cx="150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Cambria"/>
              </a:rPr>
              <a:t>1 м</a:t>
            </a:r>
            <a:r>
              <a:rPr b="0" lang="ru-RU" sz="4400" spc="-1" strike="noStrike" baseline="30000">
                <a:solidFill>
                  <a:srgbClr val="ffffff"/>
                </a:solidFill>
                <a:latin typeface="Cambria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642960" y="2428920"/>
            <a:ext cx="12859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0 д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00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00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2786040" y="4857840"/>
            <a:ext cx="121464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 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0д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00см 100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7"/>
          <p:cNvSpPr/>
          <p:nvPr/>
        </p:nvSpPr>
        <p:spPr>
          <a:xfrm>
            <a:off x="5143680" y="1928880"/>
            <a:ext cx="3714480" cy="271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S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= а</a:t>
            </a:r>
            <a:r>
              <a:rPr b="0" lang="ru-RU" sz="2400" spc="-1" strike="noStrike">
                <a:solidFill>
                  <a:srgbClr val="dd7e0e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d7e0e"/>
                </a:solidFill>
                <a:latin typeface="Cambri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dd7e0e"/>
                </a:solidFill>
                <a:latin typeface="Cambria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1 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•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0=100 д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mbria"/>
              </a:rPr>
              <a:t>2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•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00=10000 с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•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000=1000000 м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0"/>
          <p:cNvSpPr/>
          <p:nvPr/>
        </p:nvSpPr>
        <p:spPr>
          <a:xfrm>
            <a:off x="5214960" y="1857240"/>
            <a:ext cx="3643200" cy="1800"/>
          </a:xfrm>
          <a:prstGeom prst="line">
            <a:avLst/>
          </a:prstGeom>
          <a:ln w="936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7.40741E-007 L 0.49444 -0.01435 E">
                                      <p:cBhvr>
                                        <p:cTn id="99" dur="2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11111E-006 L 0.33507 -0.35972 E">
                                      <p:cBhvr>
                                        <p:cTn id="103" dur="2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          </a:t>
            </a: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Установи соотношение</a:t>
            </a: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1 с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1дм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1м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1к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1г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1а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=100м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=10000с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=10000 м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=100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=100 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=100с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= 1000000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11111E-006 L -0.28212 0.00393 E">
                                      <p:cBhvr>
                                        <p:cTn id="115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44444E-006 L -0.30052 -0.29259 E">
                                      <p:cBhvr>
                                        <p:cTn id="119" dur="2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 -0.01041 L -0.28803 -0.22222 E">
                                      <p:cBhvr>
                                        <p:cTn id="123" dur="20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48148E-006 L -0.33473 0.07708 E">
                                      <p:cBhvr>
                                        <p:cTn id="127" dur="2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7037E-006 L -0.2967 0.09144 E">
                                      <p:cBhvr>
                                        <p:cTn id="131" dur="2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07407E-006 L -0.31857 0.08843 E">
                                      <p:cBhvr>
                                        <p:cTn id="135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85185E-006 L -0.10851 -0.0625 E">
                                      <p:cBhvr>
                                        <p:cTn id="139" dur="2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2244600"/>
            <a:ext cx="4041720" cy="457200"/>
          </a:xfrm>
          <a:prstGeom prst="rect">
            <a:avLst/>
          </a:prstGeom>
          <a:solidFill>
            <a:srgbClr val="ffa81c">
              <a:alpha val="25000"/>
            </a:srgbClr>
          </a:solidFill>
          <a:ln w="12600">
            <a:solidFill>
              <a:srgbClr val="f3a447"/>
            </a:solidFill>
            <a:miter/>
          </a:ln>
        </p:spPr>
        <p:txBody>
          <a:bodyPr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f3f3f"/>
                </a:solidFill>
                <a:latin typeface="Cambria"/>
              </a:rPr>
              <a:t>№</a:t>
            </a:r>
            <a:r>
              <a:rPr b="1" lang="ru-RU" sz="1900" spc="-1" strike="noStrike">
                <a:solidFill>
                  <a:srgbClr val="3f3f3f"/>
                </a:solidFill>
                <a:latin typeface="Cambria"/>
              </a:rPr>
              <a:t>202 с. 44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21040" y="2244600"/>
            <a:ext cx="4041720" cy="457200"/>
          </a:xfrm>
          <a:prstGeom prst="rect">
            <a:avLst/>
          </a:prstGeom>
          <a:solidFill>
            <a:srgbClr val="ffa81c">
              <a:alpha val="25000"/>
            </a:srgbClr>
          </a:solidFill>
          <a:ln w="12600">
            <a:solidFill>
              <a:srgbClr val="f3a447"/>
            </a:solidFill>
            <a:miter/>
          </a:ln>
        </p:spPr>
        <p:txBody>
          <a:bodyPr anchor="ctr">
            <a:normAutofit fontScale="79000"/>
          </a:bodyPr>
          <a:p>
            <a:pPr marL="34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f3f3f"/>
                </a:solidFill>
                <a:latin typeface="Cambria"/>
              </a:rPr>
              <a:t>Кто уверен решает самостоятельно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0520" y="2707920"/>
            <a:ext cx="4041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65" name="Содержимое 6" descr="457.gif"/>
          <p:cNvPicPr/>
          <p:nvPr/>
        </p:nvPicPr>
        <p:blipFill>
          <a:blip r:embed="rId1"/>
          <a:stretch/>
        </p:blipFill>
        <p:spPr>
          <a:xfrm>
            <a:off x="6262560" y="4175280"/>
            <a:ext cx="95256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ладимир</cp:lastModifiedBy>
  <dcterms:modified xsi:type="dcterms:W3CDTF">2011-02-02T17:21:23Z</dcterms:modified>
  <cp:revision>65</cp:revision>
  <dc:subject/>
  <dc:title>Слайд 1</dc:title>
</cp:coreProperties>
</file>