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arrow.wav" ContentType="audio/x-wav"/>
  <Override PartName="/ppt/media/image2.png" ContentType="image/png"/>
  <Override PartName="/ppt/media/hammer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0E7-E722-4C70-BE2D-DEAF728D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FC9-6150-4A3E-B4F1-850FF12A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369-9255-4D1F-A333-49D607B0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32C-D2C0-485B-A98C-92AFD733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1C1A-0344-4ABC-BFA1-C5A70F6E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84B4-CAE5-4829-80DA-904944DB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0706-F764-4FAF-8769-3C69E303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38F8-5089-4A87-AD01-1683F9E6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0408-3D94-452D-A062-7130C546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B230-B963-4530-B904-109B5CBB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FA2A-0584-4A35-8B56-D28D1D2E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2EC0-5682-455C-BE37-B6371199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0DCB-9436-43BB-90D7-8F8BF952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1CF8-A7D5-4F3E-AAA9-6928E9AE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EEBB-1948-48F2-8408-D194E3EE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89F9-936D-4D7F-A6DB-94ADE41D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8BD9-165B-4EB1-9733-ADD0AD09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6F963-9A26-4481-97CE-084BA52A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B122DE-BB83-4C61-AF67-8AD15B07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1CEFE-BE16-4068-8DBE-073FD553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71189-3639-4D70-93D5-EA1DBB9E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FC74E-3A66-4DE5-AA91-64BF330B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CFE3-1D0F-40A7-8B5F-918D9486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3F1CA-7B8E-4D7A-941B-3AF762AB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79730-9832-4734-AC87-D8C396EE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A3283-529E-43C0-A821-66209CD3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7ED39-1608-4DA8-839B-F98B67A6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C5DBB-E1B1-4AEB-A909-DBDA3C71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C0870-E748-48DA-8A90-AA10314C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5CAE4-0D08-49EF-ADE4-1FA7F87D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B99BD-9A44-4517-B31A-BBE0DFEF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22A4F-9C5D-49A7-83F1-F6B0E82B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DB571-4A22-4105-BBB8-A74F183B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1CD5-46CC-40A2-8A53-8A762D49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C13B1-FB59-4382-B2DC-2600277F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AAEB6-9B51-4AF2-BFE9-EF8C7BC3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B5040-8E13-4A25-958B-A12C786E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31E26-CC15-4B75-965B-F84FFE56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EC63E-C135-4579-BF3B-F1BB94C1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77FE7-93FD-4AD1-A541-5C331DF4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724B5-214A-4EF6-9BB9-6054616D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A5C1E-A4F4-4614-A59D-4BFA11EC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0D57A-96AA-4E7C-9492-E33B26B0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9B1-5121-4AB8-B019-55880F27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D8F-2066-4772-A74B-60D5476A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BD5-1BFA-444F-9AEC-C99E5E18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FAF-30B6-40DB-9611-940F5F9A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F57-0D81-4327-A0CB-412798B0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Cambr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2EAA-6AE0-40E3-B758-D455F66ECBC5}" type="slidenum">
              <a:rPr b="0" lang="ru-RU" sz="2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3a44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Cambr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8AFF-C48F-4A70-BD86-4C8DD77212CF}" type="slidenum">
              <a:rPr b="0" lang="ru-RU" sz="2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Cambr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77F5-77ED-424F-9AE0-9D46C0C4C99E}" type="slidenum">
              <a:rPr b="0" lang="ru-RU" sz="2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Cambr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0031-8B1B-4BD6-8F64-4F88BE6B85C0}" type="slidenum">
              <a:rPr b="0" lang="ru-RU" sz="2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Математика. Единицы площади.</a:t>
            </a:r>
            <a:endParaRPr b="0" lang="en-US" sz="44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87640" y="3900600"/>
            <a:ext cx="3816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d26"/>
                </a:solidFill>
                <a:latin typeface="Cambria"/>
              </a:rPr>
              <a:t>                             </a:t>
            </a:r>
            <a:r>
              <a:rPr b="0" lang="ru-RU" sz="2400" spc="-1" strike="noStrike">
                <a:solidFill>
                  <a:srgbClr val="444d26"/>
                </a:solidFill>
                <a:latin typeface="Cambria"/>
              </a:rPr>
              <a:t>Презентацию создала учитель начальных классов МОУ ООШ № 26 Курманкаева Н.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16" name="Picture 2" descr="C:\Documents and Settings\Дом\My Documents\Документы для АРМа\Картинки\Анимашки\Ещё анимашки\Анимашки\457.gif"/>
          <p:cNvPicPr/>
          <p:nvPr/>
        </p:nvPicPr>
        <p:blipFill>
          <a:blip r:embed="rId1"/>
          <a:stretch/>
        </p:blipFill>
        <p:spPr>
          <a:xfrm>
            <a:off x="250920" y="5157720"/>
            <a:ext cx="142848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23"/>
          <p:cNvSpPr/>
          <p:nvPr/>
        </p:nvSpPr>
        <p:spPr>
          <a:xfrm>
            <a:off x="3929040" y="3214800"/>
            <a:ext cx="1357200" cy="459720"/>
          </a:xfrm>
          <a:prstGeom prst="rect">
            <a:avLst/>
          </a:prstGeom>
          <a:solidFill>
            <a:srgbClr val="ed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32 кор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Прямоугольник 10"/>
          <p:cNvGrpSpPr/>
          <p:nvPr/>
        </p:nvGrpSpPr>
        <p:grpSpPr>
          <a:xfrm>
            <a:off x="3876840" y="3114720"/>
            <a:ext cx="1122120" cy="622080"/>
            <a:chOff x="3876840" y="3114720"/>
            <a:chExt cx="1122120" cy="622080"/>
          </a:xfrm>
        </p:grpSpPr>
        <p:pic>
          <p:nvPicPr>
            <p:cNvPr id="268" name="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3876840" y="3114720"/>
              <a:ext cx="112212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938760" y="315288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44d26"/>
                </a:solidFill>
                <a:latin typeface="Calibri"/>
              </a:rPr>
              <a:t>с. 44  № 204 </a:t>
            </a:r>
            <a:endParaRPr b="0" lang="en-US" sz="28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99680" y="2285640"/>
            <a:ext cx="6000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1214280" y="3000240"/>
            <a:ext cx="100044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5"/>
          <p:cNvSpPr/>
          <p:nvPr/>
        </p:nvSpPr>
        <p:spPr>
          <a:xfrm>
            <a:off x="1366920" y="3152880"/>
            <a:ext cx="100008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6"/>
          <p:cNvSpPr/>
          <p:nvPr/>
        </p:nvSpPr>
        <p:spPr>
          <a:xfrm>
            <a:off x="1519200" y="3305160"/>
            <a:ext cx="100008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7"/>
          <p:cNvSpPr/>
          <p:nvPr/>
        </p:nvSpPr>
        <p:spPr>
          <a:xfrm>
            <a:off x="1671480" y="3457440"/>
            <a:ext cx="100044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8"/>
          <p:cNvSpPr/>
          <p:nvPr/>
        </p:nvSpPr>
        <p:spPr>
          <a:xfrm>
            <a:off x="1824120" y="3610080"/>
            <a:ext cx="100008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Прямоугольник 11"/>
          <p:cNvGrpSpPr/>
          <p:nvPr/>
        </p:nvGrpSpPr>
        <p:grpSpPr>
          <a:xfrm>
            <a:off x="4029120" y="3267000"/>
            <a:ext cx="1122480" cy="622440"/>
            <a:chOff x="4029120" y="3267000"/>
            <a:chExt cx="1122480" cy="622440"/>
          </a:xfrm>
        </p:grpSpPr>
        <p:pic>
          <p:nvPicPr>
            <p:cNvPr id="278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4029120" y="3267000"/>
              <a:ext cx="11224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4091040" y="330516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Прямоугольник 12"/>
          <p:cNvGrpSpPr/>
          <p:nvPr/>
        </p:nvGrpSpPr>
        <p:grpSpPr>
          <a:xfrm>
            <a:off x="4181400" y="3419640"/>
            <a:ext cx="1122480" cy="622080"/>
            <a:chOff x="4181400" y="3419640"/>
            <a:chExt cx="1122480" cy="622080"/>
          </a:xfrm>
        </p:grpSpPr>
        <p:pic>
          <p:nvPicPr>
            <p:cNvPr id="28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4181400" y="3419640"/>
              <a:ext cx="112248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243320" y="345744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Прямоугольник 14"/>
          <p:cNvGrpSpPr/>
          <p:nvPr/>
        </p:nvGrpSpPr>
        <p:grpSpPr>
          <a:xfrm>
            <a:off x="4438800" y="3749760"/>
            <a:ext cx="1120680" cy="620640"/>
            <a:chOff x="4438800" y="3749760"/>
            <a:chExt cx="1120680" cy="620640"/>
          </a:xfrm>
        </p:grpSpPr>
        <p:pic>
          <p:nvPicPr>
            <p:cNvPr id="284" name="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4438800" y="3749760"/>
              <a:ext cx="11206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500720" y="378612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Правая фигурная скобка 15"/>
          <p:cNvSpPr/>
          <p:nvPr/>
        </p:nvSpPr>
        <p:spPr>
          <a:xfrm rot="5400000">
            <a:off x="3500280" y="2643120"/>
            <a:ext cx="571320" cy="5286240"/>
          </a:xfrm>
          <a:custGeom>
            <a:avLst/>
            <a:gdLst>
              <a:gd name="textAreaLeft" fmla="*/ 0 w 571320"/>
              <a:gd name="textAreaRight" fmla="*/ 206280 w 571320"/>
              <a:gd name="textAreaTop" fmla="*/ 14760 h 5286240"/>
              <a:gd name="textAreaBottom" fmla="*/ 5271480 h 528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16200" y="10800"/>
                  <a:pt x="21600" y="10800"/>
                </a:cubicBezTo>
                <a:cubicBezTo>
                  <a:pt x="162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3286080" y="57150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48 кор.   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?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7"/>
          <p:cNvSpPr/>
          <p:nvPr/>
        </p:nvSpPr>
        <p:spPr>
          <a:xfrm>
            <a:off x="2000160" y="37861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9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4643280" y="39290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8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авая фигурная скобка 19"/>
          <p:cNvSpPr/>
          <p:nvPr/>
        </p:nvSpPr>
        <p:spPr>
          <a:xfrm rot="9001800">
            <a:off x="856440" y="2928960"/>
            <a:ext cx="500040" cy="19288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928880"/>
              <a:gd name="textAreaBottom" fmla="*/ 191592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4"/>
                  <a:pt x="10800" y="467"/>
                </a:cubicBezTo>
                <a:lnTo>
                  <a:pt x="10800" y="10333"/>
                </a:lnTo>
                <a:cubicBezTo>
                  <a:pt x="10800" y="10567"/>
                  <a:pt x="16200" y="10800"/>
                  <a:pt x="21600" y="10800"/>
                </a:cubicBezTo>
                <a:cubicBezTo>
                  <a:pt x="16200" y="10800"/>
                  <a:pt x="10800" y="11034"/>
                  <a:pt x="10800" y="11267"/>
                </a:cubicBezTo>
                <a:lnTo>
                  <a:pt x="10800" y="21133"/>
                </a:lnTo>
                <a:cubicBezTo>
                  <a:pt x="10800" y="2136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0"/>
          <p:cNvSpPr/>
          <p:nvPr/>
        </p:nvSpPr>
        <p:spPr>
          <a:xfrm>
            <a:off x="428760" y="414324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6 к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авая фигурная скобка 21"/>
          <p:cNvSpPr/>
          <p:nvPr/>
        </p:nvSpPr>
        <p:spPr>
          <a:xfrm rot="19669800">
            <a:off x="5525640" y="2707920"/>
            <a:ext cx="490680" cy="1822320"/>
          </a:xfrm>
          <a:custGeom>
            <a:avLst/>
            <a:gdLst>
              <a:gd name="textAreaLeft" fmla="*/ 0 w 490680"/>
              <a:gd name="textAreaRight" fmla="*/ 177120 w 490680"/>
              <a:gd name="textAreaTop" fmla="*/ 12600 h 1822320"/>
              <a:gd name="textAreaBottom" fmla="*/ 1809720 h 182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2"/>
                  <a:pt x="10800" y="484"/>
                </a:cubicBezTo>
                <a:lnTo>
                  <a:pt x="10800" y="10316"/>
                </a:lnTo>
                <a:cubicBezTo>
                  <a:pt x="10800" y="10558"/>
                  <a:pt x="16200" y="10800"/>
                  <a:pt x="21600" y="10800"/>
                </a:cubicBezTo>
                <a:cubicBezTo>
                  <a:pt x="16200" y="10800"/>
                  <a:pt x="10800" y="11042"/>
                  <a:pt x="10800" y="11284"/>
                </a:cubicBezTo>
                <a:lnTo>
                  <a:pt x="10800" y="21116"/>
                </a:lnTo>
                <a:cubicBezTo>
                  <a:pt x="10800" y="21358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2"/>
          <p:cNvSpPr/>
          <p:nvPr/>
        </p:nvSpPr>
        <p:spPr>
          <a:xfrm>
            <a:off x="6072120" y="307188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6643800" y="221472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)48-16=32 (ко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33333E-006 L 0.15834 -0.02084 E">
                                      <p:cBhvr>
                                        <p:cTn id="183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23"/>
          <p:cNvSpPr/>
          <p:nvPr/>
        </p:nvSpPr>
        <p:spPr>
          <a:xfrm>
            <a:off x="3929040" y="3214800"/>
            <a:ext cx="1357200" cy="459720"/>
          </a:xfrm>
          <a:prstGeom prst="rect">
            <a:avLst/>
          </a:prstGeom>
          <a:solidFill>
            <a:srgbClr val="ed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32 кор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Прямоугольник 10"/>
          <p:cNvGrpSpPr/>
          <p:nvPr/>
        </p:nvGrpSpPr>
        <p:grpSpPr>
          <a:xfrm>
            <a:off x="3876840" y="3114720"/>
            <a:ext cx="1122120" cy="622080"/>
            <a:chOff x="3876840" y="3114720"/>
            <a:chExt cx="1122120" cy="622080"/>
          </a:xfrm>
        </p:grpSpPr>
        <p:pic>
          <p:nvPicPr>
            <p:cNvPr id="297" name="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3876840" y="3114720"/>
              <a:ext cx="112212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3938760" y="315288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129560" y="2485800"/>
            <a:ext cx="2385360" cy="2457000"/>
          </a:xfrm>
          <a:prstGeom prst="rect">
            <a:avLst/>
          </a:prstGeom>
          <a:solidFill>
            <a:srgbClr val="a5b592">
              <a:alpha val="34000"/>
            </a:srgbClr>
          </a:solidFill>
          <a:ln w="19080">
            <a:solidFill>
              <a:srgbClr val="78846a"/>
            </a:solidFill>
            <a:miter/>
          </a:ln>
        </p:spPr>
        <p:txBody>
          <a:bodyPr anchor="ctr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1214280" y="3000240"/>
            <a:ext cx="100044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5"/>
          <p:cNvSpPr/>
          <p:nvPr/>
        </p:nvSpPr>
        <p:spPr>
          <a:xfrm>
            <a:off x="1366920" y="3152880"/>
            <a:ext cx="100008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6"/>
          <p:cNvSpPr/>
          <p:nvPr/>
        </p:nvSpPr>
        <p:spPr>
          <a:xfrm>
            <a:off x="1519200" y="3305160"/>
            <a:ext cx="100008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7"/>
          <p:cNvSpPr/>
          <p:nvPr/>
        </p:nvSpPr>
        <p:spPr>
          <a:xfrm>
            <a:off x="1671480" y="3457440"/>
            <a:ext cx="100044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8"/>
          <p:cNvSpPr/>
          <p:nvPr/>
        </p:nvSpPr>
        <p:spPr>
          <a:xfrm>
            <a:off x="1824120" y="3610080"/>
            <a:ext cx="100008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Прямоугольник 11"/>
          <p:cNvGrpSpPr/>
          <p:nvPr/>
        </p:nvGrpSpPr>
        <p:grpSpPr>
          <a:xfrm>
            <a:off x="4029120" y="3267000"/>
            <a:ext cx="1122480" cy="622440"/>
            <a:chOff x="4029120" y="3267000"/>
            <a:chExt cx="1122480" cy="622440"/>
          </a:xfrm>
        </p:grpSpPr>
        <p:pic>
          <p:nvPicPr>
            <p:cNvPr id="307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4029120" y="3267000"/>
              <a:ext cx="11224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4091040" y="330516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Прямоугольник 12"/>
          <p:cNvGrpSpPr/>
          <p:nvPr/>
        </p:nvGrpSpPr>
        <p:grpSpPr>
          <a:xfrm>
            <a:off x="4181400" y="3419640"/>
            <a:ext cx="1122480" cy="622080"/>
            <a:chOff x="4181400" y="3419640"/>
            <a:chExt cx="1122480" cy="622080"/>
          </a:xfrm>
        </p:grpSpPr>
        <p:pic>
          <p:nvPicPr>
            <p:cNvPr id="310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4181400" y="3419640"/>
              <a:ext cx="112248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4243320" y="345744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Прямоугольник 14"/>
          <p:cNvGrpSpPr/>
          <p:nvPr/>
        </p:nvGrpSpPr>
        <p:grpSpPr>
          <a:xfrm>
            <a:off x="4438800" y="3749760"/>
            <a:ext cx="1120680" cy="620640"/>
            <a:chOff x="4438800" y="3749760"/>
            <a:chExt cx="1120680" cy="620640"/>
          </a:xfrm>
        </p:grpSpPr>
        <p:pic>
          <p:nvPicPr>
            <p:cNvPr id="313" name="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4438800" y="3749760"/>
              <a:ext cx="11206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500720" y="378612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Правая фигурная скобка 15"/>
          <p:cNvSpPr/>
          <p:nvPr/>
        </p:nvSpPr>
        <p:spPr>
          <a:xfrm rot="5400000">
            <a:off x="3500280" y="2643120"/>
            <a:ext cx="571320" cy="5286240"/>
          </a:xfrm>
          <a:custGeom>
            <a:avLst/>
            <a:gdLst>
              <a:gd name="textAreaLeft" fmla="*/ 0 w 571320"/>
              <a:gd name="textAreaRight" fmla="*/ 206280 w 571320"/>
              <a:gd name="textAreaTop" fmla="*/ 14760 h 5286240"/>
              <a:gd name="textAreaBottom" fmla="*/ 5271480 h 528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16200" y="10800"/>
                  <a:pt x="21600" y="10800"/>
                </a:cubicBezTo>
                <a:cubicBezTo>
                  <a:pt x="162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6"/>
          <p:cNvSpPr/>
          <p:nvPr/>
        </p:nvSpPr>
        <p:spPr>
          <a:xfrm>
            <a:off x="3286080" y="5715000"/>
            <a:ext cx="13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7"/>
          <p:cNvSpPr/>
          <p:nvPr/>
        </p:nvSpPr>
        <p:spPr>
          <a:xfrm>
            <a:off x="2000160" y="37861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9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8"/>
          <p:cNvSpPr/>
          <p:nvPr/>
        </p:nvSpPr>
        <p:spPr>
          <a:xfrm>
            <a:off x="4643280" y="39290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8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авая фигурная скобка 19"/>
          <p:cNvSpPr/>
          <p:nvPr/>
        </p:nvSpPr>
        <p:spPr>
          <a:xfrm rot="9001800">
            <a:off x="856440" y="2928960"/>
            <a:ext cx="500040" cy="19288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928880"/>
              <a:gd name="textAreaBottom" fmla="*/ 191592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4"/>
                  <a:pt x="10800" y="467"/>
                </a:cubicBezTo>
                <a:lnTo>
                  <a:pt x="10800" y="10333"/>
                </a:lnTo>
                <a:cubicBezTo>
                  <a:pt x="10800" y="10567"/>
                  <a:pt x="16200" y="10800"/>
                  <a:pt x="21600" y="10800"/>
                </a:cubicBezTo>
                <a:cubicBezTo>
                  <a:pt x="16200" y="10800"/>
                  <a:pt x="10800" y="11034"/>
                  <a:pt x="10800" y="11267"/>
                </a:cubicBezTo>
                <a:lnTo>
                  <a:pt x="10800" y="21133"/>
                </a:lnTo>
                <a:cubicBezTo>
                  <a:pt x="10800" y="2136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428760" y="414324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6 к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авая фигурная скобка 21"/>
          <p:cNvSpPr/>
          <p:nvPr/>
        </p:nvSpPr>
        <p:spPr>
          <a:xfrm rot="19669800">
            <a:off x="5525640" y="2707920"/>
            <a:ext cx="490680" cy="1822320"/>
          </a:xfrm>
          <a:custGeom>
            <a:avLst/>
            <a:gdLst>
              <a:gd name="textAreaLeft" fmla="*/ 0 w 490680"/>
              <a:gd name="textAreaRight" fmla="*/ 177120 w 490680"/>
              <a:gd name="textAreaTop" fmla="*/ 12600 h 1822320"/>
              <a:gd name="textAreaBottom" fmla="*/ 1809720 h 182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2"/>
                  <a:pt x="10800" y="484"/>
                </a:cubicBezTo>
                <a:lnTo>
                  <a:pt x="10800" y="10316"/>
                </a:lnTo>
                <a:cubicBezTo>
                  <a:pt x="10800" y="10558"/>
                  <a:pt x="16200" y="10800"/>
                  <a:pt x="21600" y="10800"/>
                </a:cubicBezTo>
                <a:cubicBezTo>
                  <a:pt x="16200" y="10800"/>
                  <a:pt x="10800" y="11042"/>
                  <a:pt x="10800" y="11284"/>
                </a:cubicBezTo>
                <a:lnTo>
                  <a:pt x="10800" y="21116"/>
                </a:lnTo>
                <a:cubicBezTo>
                  <a:pt x="10800" y="21358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2"/>
          <p:cNvSpPr/>
          <p:nvPr/>
        </p:nvSpPr>
        <p:spPr>
          <a:xfrm>
            <a:off x="5786280" y="3071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32к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5"/>
          <p:cNvSpPr/>
          <p:nvPr/>
        </p:nvSpPr>
        <p:spPr>
          <a:xfrm>
            <a:off x="6643800" y="2286000"/>
            <a:ext cx="25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)48-16=32 (ко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)9*16=144(к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3)8*32 = 256 (к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4)144+256=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4"/>
          <p:cNvSpPr/>
          <p:nvPr/>
        </p:nvSpPr>
        <p:spPr>
          <a:xfrm>
            <a:off x="4357800" y="557208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?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26"/>
          <p:cNvSpPr/>
          <p:nvPr/>
        </p:nvSpPr>
        <p:spPr>
          <a:xfrm>
            <a:off x="500040" y="2357280"/>
            <a:ext cx="2571840" cy="2714760"/>
          </a:xfrm>
          <a:custGeom>
            <a:avLst/>
            <a:gdLst>
              <a:gd name="textAreaLeft" fmla="*/ 125280 w 2571840"/>
              <a:gd name="textAreaRight" fmla="*/ 2446560 w 2571840"/>
              <a:gd name="textAreaTop" fmla="*/ 125280 h 2714760"/>
              <a:gd name="textAreaBottom" fmla="*/ 2589480 h 2714760"/>
            </a:gdLst>
            <a:ahLst/>
            <a:rect l="textAreaLeft" t="textAreaTop" r="textAreaRight" b="textAreaBottom"/>
            <a:pathLst>
              <a:path w="21600" h="22800">
                <a:moveTo>
                  <a:pt x="3600" y="0"/>
                </a:moveTo>
                <a:arcTo wR="3600" hR="3600" stAng="16200000" swAng="-5400000"/>
                <a:lnTo>
                  <a:pt x="0" y="19200"/>
                </a:lnTo>
                <a:arcTo wR="3600" hR="3600" stAng="10800000" swAng="-5400000"/>
                <a:lnTo>
                  <a:pt x="18000" y="22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5b592">
              <a:alpha val="34000"/>
            </a:srgbClr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кругленный прямоугольник 28"/>
          <p:cNvSpPr/>
          <p:nvPr/>
        </p:nvSpPr>
        <p:spPr>
          <a:xfrm>
            <a:off x="285840" y="2000160"/>
            <a:ext cx="6500880" cy="3357720"/>
          </a:xfrm>
          <a:prstGeom prst="roundRect">
            <a:avLst>
              <a:gd name="adj" fmla="val 16667"/>
            </a:avLst>
          </a:prstGeom>
          <a:solidFill>
            <a:srgbClr val="a5b592">
              <a:alpha val="21000"/>
            </a:srgbClr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31"/>
          <p:cNvSpPr/>
          <p:nvPr/>
        </p:nvSpPr>
        <p:spPr>
          <a:xfrm>
            <a:off x="7929720" y="3071880"/>
            <a:ext cx="121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400 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-0.38351 0.3382 E">
                                      <p:cBhvr>
                                        <p:cTn id="247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d7e0e"/>
                </a:solidFill>
                <a:latin typeface="Calibri"/>
              </a:rPr>
              <a:t>Инструктаж  домашней работы.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2249280"/>
            <a:ext cx="6329520" cy="36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900  600  130  4 10=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1)130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•</a:t>
            </a: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 4=520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2)600-520=80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3)80:10=8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4)900-8=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214760" y="2286000"/>
            <a:ext cx="1328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4214880" y="250020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•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6"/>
          <p:cNvSpPr/>
          <p:nvPr/>
        </p:nvSpPr>
        <p:spPr>
          <a:xfrm>
            <a:off x="2857680" y="2214720"/>
            <a:ext cx="107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7"/>
          <p:cNvSpPr/>
          <p:nvPr/>
        </p:nvSpPr>
        <p:spPr>
          <a:xfrm>
            <a:off x="1571760" y="228600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8"/>
          <p:cNvSpPr/>
          <p:nvPr/>
        </p:nvSpPr>
        <p:spPr>
          <a:xfrm>
            <a:off x="4929120" y="235728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: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9"/>
          <p:cNvSpPr/>
          <p:nvPr/>
        </p:nvSpPr>
        <p:spPr>
          <a:xfrm>
            <a:off x="1714680" y="2000160"/>
            <a:ext cx="35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(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2"/>
          <p:cNvSpPr/>
          <p:nvPr/>
        </p:nvSpPr>
        <p:spPr>
          <a:xfrm>
            <a:off x="4643280" y="2000160"/>
            <a:ext cx="1429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)     </a:t>
            </a:r>
            <a:r>
              <a:rPr b="0" lang="ru-RU" sz="66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5"/>
          <p:cNvSpPr/>
          <p:nvPr/>
        </p:nvSpPr>
        <p:spPr>
          <a:xfrm>
            <a:off x="3214800" y="514368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5" dur="2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9" dur="2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3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31 0.00185 L 0.30122 -0.40764 E">
                                      <p:cBhvr>
                                        <p:cTn id="313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Дома: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. 44 № 205-207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d7e0e"/>
                </a:solidFill>
                <a:latin typeface="Calibri"/>
              </a:rPr>
              <a:t>Что помогло усвоить материал?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акие моменты помогли усвоить материал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чём затруднялись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то на уроке было главным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то было интересным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то новое сегодня узнали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ему научились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Математический диктант.</a:t>
            </a:r>
            <a:br>
              <a:rPr sz="3600"/>
            </a:b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Проверка.</a:t>
            </a:r>
            <a:endParaRPr b="0" lang="en-US" sz="36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7 075 400 000 кв.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46 900 000 чел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0 382 754 чел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4 603 000 чел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5 622 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400 к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1714680" y="2500200"/>
            <a:ext cx="1571400" cy="307188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3286080" y="4000680"/>
            <a:ext cx="2857680" cy="157140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5"/>
          <p:cNvSpPr/>
          <p:nvPr/>
        </p:nvSpPr>
        <p:spPr>
          <a:xfrm>
            <a:off x="4714920" y="2500200"/>
            <a:ext cx="1428840" cy="150048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142920" y="3786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2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3571920" y="6215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3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3500280" y="2286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5"/>
          <p:cNvSpPr/>
          <p:nvPr/>
        </p:nvSpPr>
        <p:spPr>
          <a:xfrm>
            <a:off x="6296040" y="30718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0"/>
          <p:cNvSpPr/>
          <p:nvPr/>
        </p:nvSpPr>
        <p:spPr>
          <a:xfrm>
            <a:off x="1000080" y="1214280"/>
            <a:ext cx="657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ак найти площадь данной фигу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Calibri"/>
              </a:rPr>
              <a:t>S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=20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 10+ 20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 10+ 10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 10=500 </a:t>
            </a: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(кв.м)</a:t>
            </a:r>
            <a:endParaRPr b="0" lang="en-US" sz="44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643040" y="2249640"/>
            <a:ext cx="45007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1714680" y="2500200"/>
            <a:ext cx="1571400" cy="307188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3286080" y="4000680"/>
            <a:ext cx="2857680" cy="157140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4714920" y="2500200"/>
            <a:ext cx="1428840" cy="150048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142920" y="3786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2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3571920" y="6215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3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3500280" y="2286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5"/>
          <p:cNvSpPr/>
          <p:nvPr/>
        </p:nvSpPr>
        <p:spPr>
          <a:xfrm>
            <a:off x="6296040" y="30718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0"/>
          <p:cNvSpPr/>
          <p:nvPr/>
        </p:nvSpPr>
        <p:spPr>
          <a:xfrm>
            <a:off x="500040" y="7858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a1d"/>
                </a:solidFill>
                <a:latin typeface="Cambria"/>
              </a:rPr>
              <a:t>1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444d26"/>
                </a:solidFill>
                <a:latin typeface="Calibri"/>
              </a:rPr>
              <a:t>S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=20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30-10 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10=500 (кв.м.)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643040" y="2249640"/>
            <a:ext cx="4500720" cy="38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714680" y="2500200"/>
            <a:ext cx="1571400" cy="357192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3286080" y="4000680"/>
            <a:ext cx="2857680" cy="20714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5"/>
          <p:cNvSpPr/>
          <p:nvPr/>
        </p:nvSpPr>
        <p:spPr>
          <a:xfrm>
            <a:off x="4714920" y="2500200"/>
            <a:ext cx="1428840" cy="150048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285840" y="37861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2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3571920" y="621504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3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3500280" y="2000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3571920" y="3000240"/>
            <a:ext cx="1071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3"/>
          <p:cNvSpPr/>
          <p:nvPr/>
        </p:nvSpPr>
        <p:spPr>
          <a:xfrm>
            <a:off x="3286080" y="2500200"/>
            <a:ext cx="1428840" cy="150048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10 0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Cambr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461160" y="8571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a1d"/>
                </a:solidFill>
                <a:latin typeface="Cambria"/>
              </a:rPr>
              <a:t>2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d7e0e"/>
                </a:solidFill>
                <a:latin typeface="Calibri"/>
              </a:rPr>
              <a:t>Найди единицы площади.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кв. м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дм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сек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г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мм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см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Calibri"/>
              </a:rPr>
              <a:t>Чему равна площадь квадрата?</a:t>
            </a:r>
            <a:endParaRPr b="0" lang="en-US" sz="28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2071800" y="2000160"/>
            <a:ext cx="2928960" cy="271476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2786040" y="300024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1 м</a:t>
            </a:r>
            <a:r>
              <a:rPr b="0" lang="ru-RU" sz="4400" spc="-1" strike="noStrike" baseline="30000">
                <a:solidFill>
                  <a:srgbClr val="ffffff"/>
                </a:solidFill>
                <a:latin typeface="Cambria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642960" y="2428920"/>
            <a:ext cx="12859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0 д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0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00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2786040" y="4857840"/>
            <a:ext cx="121464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 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0д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00см 100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5143680" y="1928880"/>
            <a:ext cx="3714480" cy="271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S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= а</a:t>
            </a:r>
            <a:r>
              <a:rPr b="0" lang="ru-RU" sz="2400" spc="-1" strike="noStrike">
                <a:solidFill>
                  <a:srgbClr val="dd7e0e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d7e0e"/>
                </a:solidFill>
                <a:latin typeface="Cambr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dd7e0e"/>
                </a:solidFill>
                <a:latin typeface="Cambri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=100 д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2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0=10000 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00=1000000 м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0"/>
          <p:cNvSpPr/>
          <p:nvPr/>
        </p:nvSpPr>
        <p:spPr>
          <a:xfrm>
            <a:off x="5214960" y="1857240"/>
            <a:ext cx="3643200" cy="1800"/>
          </a:xfrm>
          <a:prstGeom prst="line">
            <a:avLst/>
          </a:prstGeom>
          <a:ln w="93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L 0.49444 -0.01435 E">
                                      <p:cBhvr>
                                        <p:cTn id="99" dur="2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0.33507 -0.35972 E">
                                      <p:cBhvr>
                                        <p:cTn id="103" dur="2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          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Установи соотношение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 с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дм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м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к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г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а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100м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10000с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10000 м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100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100 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100с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 1000000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11111E-006 L -0.28212 0.00393 E">
                                      <p:cBhvr>
                                        <p:cTn id="115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-0.30052 -0.29259 E">
                                      <p:cBhvr>
                                        <p:cTn id="119" dur="2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-0.01041 L -0.28803 -0.22222 E">
                                      <p:cBhvr>
                                        <p:cTn id="123" dur="2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8148E-006 L -0.33473 0.07708 E">
                                      <p:cBhvr>
                                        <p:cTn id="127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6 L -0.2967 0.09144 E">
                                      <p:cBhvr>
                                        <p:cTn id="131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07407E-006 L -0.31857 0.08843 E">
                                      <p:cBhvr>
                                        <p:cTn id="135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5185E-006 L -0.10851 -0.0625 E">
                                      <p:cBhvr>
                                        <p:cTn id="139" dur="2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2244600"/>
            <a:ext cx="4041720" cy="457200"/>
          </a:xfrm>
          <a:prstGeom prst="rect">
            <a:avLst/>
          </a:prstGeom>
          <a:solidFill>
            <a:srgbClr val="ffa81c">
              <a:alpha val="25000"/>
            </a:srgbClr>
          </a:solidFill>
          <a:ln w="12600">
            <a:solidFill>
              <a:srgbClr val="f3a447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Cambria"/>
              </a:rPr>
              <a:t>№</a:t>
            </a:r>
            <a:r>
              <a:rPr b="1" lang="ru-RU" sz="1900" spc="-1" strike="noStrike">
                <a:solidFill>
                  <a:srgbClr val="3f3f3f"/>
                </a:solidFill>
                <a:latin typeface="Cambria"/>
              </a:rPr>
              <a:t>202 с. 44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21040" y="2244600"/>
            <a:ext cx="4041720" cy="457200"/>
          </a:xfrm>
          <a:prstGeom prst="rect">
            <a:avLst/>
          </a:prstGeom>
          <a:solidFill>
            <a:srgbClr val="ffa81c">
              <a:alpha val="25000"/>
            </a:srgbClr>
          </a:solidFill>
          <a:ln w="12600">
            <a:solidFill>
              <a:srgbClr val="f3a447"/>
            </a:solidFill>
            <a:miter/>
          </a:ln>
        </p:spPr>
        <p:txBody>
          <a:bodyPr anchor="ctr">
            <a:normAutofit fontScale="79000"/>
          </a:bodyPr>
          <a:p>
            <a:pPr marL="34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Cambria"/>
              </a:rPr>
              <a:t>Кто уверен решает самостоятельно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52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5" name="Содержимое 6" descr="457.gif"/>
          <p:cNvPicPr/>
          <p:nvPr/>
        </p:nvPicPr>
        <p:blipFill>
          <a:blip r:embed="rId1"/>
          <a:stretch/>
        </p:blipFill>
        <p:spPr>
          <a:xfrm>
            <a:off x="6262560" y="417528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имир</cp:lastModifiedBy>
  <dcterms:modified xsi:type="dcterms:W3CDTF">2011-02-02T17:21:23Z</dcterms:modified>
  <cp:revision>65</cp:revision>
  <dc:subject/>
  <dc:title>Слайд 1</dc:title>
</cp:coreProperties>
</file>