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980-B8B4-4207-9BF6-F89358C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661-6599-44E3-8608-25DB97AF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E3A-FEB1-44B9-9D16-2536222F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9A6-9A2F-46C6-A121-9767F837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34CC-7E65-415D-9E49-8E5CBC96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8108-D4B2-4FA7-A787-3FC9BD20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B461-29C2-4191-BFC2-77817F8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04A1-6132-409E-918D-B709873B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B97-12DB-407A-9E47-4009D48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A129-C4A2-459A-83E2-A7D812DC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638-3871-4F2C-80E2-A18AA41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333-8921-465D-81A0-C56D338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91C-DE31-4E83-BE4A-3212D53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8F26-010A-4BB7-9F93-E2A38FC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196D-82EE-4EE1-ABE2-C8F497D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1BF-DC89-4AEB-B22B-0D9B2CC4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805B-D15C-4E5D-8878-53890492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ECA-FE61-41AF-8A2C-457C6E28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93C-FA44-43F5-8D40-0552540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97B-CCA7-4D00-B0F2-F5AC1F1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C1E-1383-4FCE-A4D9-7C4ED6D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539-C28D-4E64-98DD-CB2B13A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C76-8C6D-414F-BB9A-60F5FCF6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B69-A475-4A38-B907-5B345F4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827-A555-4669-B72F-32B1E185FE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32C-F3A0-496B-9499-29132B6DCB8B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../project_support/student_support/glaza.doc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project_support/student_support/lobachevsk.doc" TargetMode="External"/><Relationship Id="rId2" Type="http://schemas.openxmlformats.org/officeDocument/2006/relationships/hyperlink" Target="file:///../../project_support/student_support/lobachevsk_geom.doc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project_support/student_support/evklid.doc" TargetMode="External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file:///../../project_support/student_support/aksioma_postulat.doc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428760" y="100008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4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15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Picture 18" descr="кольца"/>
          <p:cNvPicPr/>
          <p:nvPr/>
        </p:nvPicPr>
        <p:blipFill>
          <a:blip r:embed="rId1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Рамка 8"/>
          <p:cNvSpPr/>
          <p:nvPr/>
        </p:nvSpPr>
        <p:spPr>
          <a:xfrm>
            <a:off x="3143160" y="0"/>
            <a:ext cx="3000600" cy="785880"/>
          </a:xfrm>
          <a:prstGeom prst="pi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round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7" name="Picture 11" descr="pulsar"/>
          <p:cNvPicPr/>
          <p:nvPr/>
        </p:nvPicPr>
        <p:blipFill>
          <a:blip r:embed="rId1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0" name="Picture 14" descr="Mailme"/>
          <p:cNvPicPr/>
          <p:nvPr/>
        </p:nvPicPr>
        <p:blipFill>
          <a:blip r:embed="rId1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Mailme"/>
          <p:cNvPicPr/>
          <p:nvPr/>
        </p:nvPicPr>
        <p:blipFill>
          <a:blip r:embed="rId2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www.hrono.ru/biograf/lobachevski.html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ns.math.rsu.ru/mexmat/polesno/evklid.ru.html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Picture 7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9" name="Picture 6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Picture 4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8" name="Picture 4" descr="demon1125488776i32451gq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4" descr="Отсканировано 21"/>
          <p:cNvPicPr/>
          <p:nvPr/>
        </p:nvPicPr>
        <p:blipFill>
          <a:blip r:embed="rId1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4" name="Picture 7" descr="Отсканировано 21"/>
          <p:cNvPicPr/>
          <p:nvPr/>
        </p:nvPicPr>
        <p:blipFill>
          <a:blip r:embed="rId2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5" name="Line 64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Line 67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Line 68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Line 69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Line 70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Line 71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Line 72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Line 73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Line 74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Line 75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Line 76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Line 77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Line 78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Rectangle 79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80" descr="Mailme"/>
          <p:cNvPicPr/>
          <p:nvPr/>
        </p:nvPicPr>
        <p:blipFill>
          <a:blip r:embed="rId4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Picture 6" descr="Лобачёвский Николай Иванович"/>
          <p:cNvPicPr/>
          <p:nvPr/>
        </p:nvPicPr>
        <p:blipFill>
          <a:blip r:embed="rId3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4" name="Picture 11" descr="Mailme"/>
          <p:cNvPicPr/>
          <p:nvPr/>
        </p:nvPicPr>
        <p:blipFill>
          <a:blip r:embed="rId4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сиом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7" name="Picture 9" descr="180px-Euklid2"/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rf22d_na[1]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7" name="Picture 11" descr="umnik"/>
          <p:cNvPicPr/>
          <p:nvPr/>
        </p:nvPicPr>
        <p:blipFill>
          <a:blip r:embed="rId1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umnik"/>
          <p:cNvPicPr/>
          <p:nvPr/>
        </p:nvPicPr>
        <p:blipFill>
          <a:blip r:embed="rId2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Mailme"/>
          <p:cNvPicPr/>
          <p:nvPr/>
        </p:nvPicPr>
        <p:blipFill>
          <a:blip r:embed="rId3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Admin</cp:lastModifiedBy>
  <dcterms:modified xsi:type="dcterms:W3CDTF">2012-04-20T15:35:22Z</dcterms:modified>
  <cp:revision>3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