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4DB-1034-45FA-9F8C-FE67BE59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6F4-4B2D-4BE3-866D-AE3EEDA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7F4-BCBF-4B76-9264-7BD8F05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B85-3302-495B-B677-C00BA6B3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191A-C616-4CF0-8C10-F3E81253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7AE2-5869-4736-AF6A-C74E661F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F395-52A4-408F-9653-66167CB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0BA3-C765-477E-BBD9-C1D4334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C576-B6EA-4F1E-87C4-2DA47897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0DDE-1AC0-4024-81BA-779579BA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C6DE-C6FC-43E5-9116-E4E9CFC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007-D603-4D6C-8906-A059D58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564-F6AB-4D5A-8B6F-961A574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2701-03CA-45E0-86F0-CC578CA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9A37-8C7A-49D7-9D99-68BC4A7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5981-52C5-4868-B3AC-FBB2A576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A9A0-95D0-409A-A8F7-63F8150F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F1A-87C4-462A-B13E-62A6143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73B-8B36-4278-A2EE-F13552D6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144-31A4-44AD-8290-BC3B0CA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CEF-D49B-4A96-A8B0-718469B8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C82-9FA9-4237-B5D1-1B510F5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AA7-B699-4E71-9667-1EFBFF8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843-07FA-4876-AF80-FAD70B2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B731-4581-4804-8A31-A9F8010EC4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4D3-FFF0-477E-B9E1-7510E2913959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../project_support/student_support/glaza.doc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project_support/student_support/lobachevsk.doc" TargetMode="External"/><Relationship Id="rId2" Type="http://schemas.openxmlformats.org/officeDocument/2006/relationships/hyperlink" Target="file:///../../project_support/student_support/lobachevsk_geom.doc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project_support/student_support/evklid.doc" TargetMode="External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file:///../../project_support/student_support/aksioma_postulat.doc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428760" y="100008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4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15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Picture 18" descr="кольца"/>
          <p:cNvPicPr/>
          <p:nvPr/>
        </p:nvPicPr>
        <p:blipFill>
          <a:blip r:embed="rId1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Рамка 8"/>
          <p:cNvSpPr/>
          <p:nvPr/>
        </p:nvSpPr>
        <p:spPr>
          <a:xfrm>
            <a:off x="3143160" y="0"/>
            <a:ext cx="3000600" cy="785880"/>
          </a:xfrm>
          <a:prstGeom prst="pi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round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7" name="Picture 11" descr="pulsar"/>
          <p:cNvPicPr/>
          <p:nvPr/>
        </p:nvPicPr>
        <p:blipFill>
          <a:blip r:embed="rId1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0" name="Picture 14" descr="Mailme"/>
          <p:cNvPicPr/>
          <p:nvPr/>
        </p:nvPicPr>
        <p:blipFill>
          <a:blip r:embed="rId1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Mailme"/>
          <p:cNvPicPr/>
          <p:nvPr/>
        </p:nvPicPr>
        <p:blipFill>
          <a:blip r:embed="rId2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www.hrono.ru/biograf/lobachevski.html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ns.math.rsu.ru/mexmat/polesno/evklid.ru.html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Picture 7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9" name="Picture 6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Picture 4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8" name="Picture 4" descr="demon1125488776i32451gq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4" descr="Отсканировано 21"/>
          <p:cNvPicPr/>
          <p:nvPr/>
        </p:nvPicPr>
        <p:blipFill>
          <a:blip r:embed="rId1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4" name="Picture 7" descr="Отсканировано 21"/>
          <p:cNvPicPr/>
          <p:nvPr/>
        </p:nvPicPr>
        <p:blipFill>
          <a:blip r:embed="rId2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5" name="Line 64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Line 67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Line 68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Line 69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Line 70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Line 71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Line 72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Line 73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Line 74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Line 75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Line 76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Line 77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Line 78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Rectangle 79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80" descr="Mailme"/>
          <p:cNvPicPr/>
          <p:nvPr/>
        </p:nvPicPr>
        <p:blipFill>
          <a:blip r:embed="rId4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Picture 6" descr="Лобачёвский Николай Иванович"/>
          <p:cNvPicPr/>
          <p:nvPr/>
        </p:nvPicPr>
        <p:blipFill>
          <a:blip r:embed="rId3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4" name="Picture 11" descr="Mailme"/>
          <p:cNvPicPr/>
          <p:nvPr/>
        </p:nvPicPr>
        <p:blipFill>
          <a:blip r:embed="rId4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сиом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7" name="Picture 9" descr="180px-Euklid2"/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rf22d_na[1]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7" name="Picture 11" descr="umnik"/>
          <p:cNvPicPr/>
          <p:nvPr/>
        </p:nvPicPr>
        <p:blipFill>
          <a:blip r:embed="rId1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umnik"/>
          <p:cNvPicPr/>
          <p:nvPr/>
        </p:nvPicPr>
        <p:blipFill>
          <a:blip r:embed="rId2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Mailme"/>
          <p:cNvPicPr/>
          <p:nvPr/>
        </p:nvPicPr>
        <p:blipFill>
          <a:blip r:embed="rId3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Admin</cp:lastModifiedBy>
  <dcterms:modified xsi:type="dcterms:W3CDTF">2012-04-20T15:35:22Z</dcterms:modified>
  <cp:revision>3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