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0B6-26C9-41C2-9E13-2DFEBF95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A3B-A8E0-4A82-BAF2-70BAD66B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FAA-9883-414A-B875-A13A94E5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FFD-9E7E-40A0-B512-D69AA598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81EC-3F61-4F21-8C15-31233DAF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B703-AE0E-4857-87D3-074ED233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91A6-DC5D-4448-BDCB-562C44D7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0996-F755-4BA4-BBC5-3CF98CC3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F05C-B3F3-47F9-9D79-EC7229FB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30D0-05D2-4DB6-B84C-5760CAC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5B89-7511-4F46-B9A3-9736BF8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F5C-020F-438E-86B3-DDB6B4F5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B28A-7A6B-48F5-8915-A02391E6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6F38-D76E-45A6-814A-AE484281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252D-A9EA-4C46-A023-EE055AE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E442-5004-4460-9119-3D55AC63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ED78-EF61-4A85-BEE6-BC4DDA68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9BB-1C1B-4B51-A71F-A7C82D40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22A-1885-405A-BFA9-725C6D70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9B9-3D6B-44D3-885C-D5CD0D5A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61A-1002-48C7-B54B-EB2AE3C3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5AD-B4FF-4505-B539-8516AB1A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C52-D146-4F34-BF30-D55FAE29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085-6079-4199-ADA1-FCDBF6E2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58FE-023B-4078-8B0E-AB609900B8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4210-4718-4021-BD41-2771C15E34E8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../project_support/student_support/glaza.doc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project_support/student_support/lobachevsk.doc" TargetMode="External"/><Relationship Id="rId2" Type="http://schemas.openxmlformats.org/officeDocument/2006/relationships/hyperlink" Target="file:///../../project_support/student_support/lobachevsk_geom.doc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project_support/student_support/evklid.doc" TargetMode="External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file:///../../project_support/student_support/aksioma_postulat.doc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0"/>
          <p:cNvSpPr txBox="1"/>
          <p:nvPr/>
        </p:nvSpPr>
        <p:spPr>
          <a:xfrm>
            <a:off x="428760" y="100008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14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15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Picture 18" descr="кольца"/>
          <p:cNvPicPr/>
          <p:nvPr/>
        </p:nvPicPr>
        <p:blipFill>
          <a:blip r:embed="rId1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Рамка 8"/>
          <p:cNvSpPr/>
          <p:nvPr/>
        </p:nvSpPr>
        <p:spPr>
          <a:xfrm>
            <a:off x="3143160" y="0"/>
            <a:ext cx="3000600" cy="785880"/>
          </a:xfrm>
          <a:prstGeom prst="pi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99"/>
            </a:solidFill>
            <a:round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7" name="Picture 11" descr="pulsar"/>
          <p:cNvPicPr/>
          <p:nvPr/>
        </p:nvPicPr>
        <p:blipFill>
          <a:blip r:embed="rId1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0" name="Picture 14" descr="Mailme"/>
          <p:cNvPicPr/>
          <p:nvPr/>
        </p:nvPicPr>
        <p:blipFill>
          <a:blip r:embed="rId1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Mailme"/>
          <p:cNvPicPr/>
          <p:nvPr/>
        </p:nvPicPr>
        <p:blipFill>
          <a:blip r:embed="rId2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http://www.hrono.ru/biograf/lobachevski.html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http://ns.math.rsu.ru/mexmat/polesno/evklid.ru.html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6" name="Picture 7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9" name="Picture 6" descr="13766_prev_98"/>
          <p:cNvPicPr/>
          <p:nvPr/>
        </p:nvPicPr>
        <p:blipFill>
          <a:blip r:embed="rId1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6" name="Picture 4" descr="13766_prev_98"/>
          <p:cNvPicPr/>
          <p:nvPr/>
        </p:nvPicPr>
        <p:blipFill>
          <a:blip r:embed="rId1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8" name="Picture 4" descr="demon1125488776i32451gq"/>
          <p:cNvPicPr/>
          <p:nvPr/>
        </p:nvPicPr>
        <p:blipFill>
          <a:blip r:embed="rId1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1" name="Picture 4" descr="Отсканировано 21"/>
          <p:cNvPicPr/>
          <p:nvPr/>
        </p:nvPicPr>
        <p:blipFill>
          <a:blip r:embed="rId1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4" name="Picture 7" descr="Отсканировано 21"/>
          <p:cNvPicPr/>
          <p:nvPr/>
        </p:nvPicPr>
        <p:blipFill>
          <a:blip r:embed="rId2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5" name="Line 64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Line 67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Line 68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Line 69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Line 70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Line 71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Line 72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Line 73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Line 74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Line 75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Line 76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Line 77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Line 78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Rectangle 79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Picture 80" descr="Mailme"/>
          <p:cNvPicPr/>
          <p:nvPr/>
        </p:nvPicPr>
        <p:blipFill>
          <a:blip r:embed="rId4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3" name="Picture 6" descr="Лобачёвский Николай Иванович"/>
          <p:cNvPicPr/>
          <p:nvPr/>
        </p:nvPicPr>
        <p:blipFill>
          <a:blip r:embed="rId3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4" name="Picture 11" descr="Mailme"/>
          <p:cNvPicPr/>
          <p:nvPr/>
        </p:nvPicPr>
        <p:blipFill>
          <a:blip r:embed="rId4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ксиом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7" name="Picture 9" descr="180px-Euklid2"/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rf22d_na[1]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7" name="Picture 11" descr="umnik"/>
          <p:cNvPicPr/>
          <p:nvPr/>
        </p:nvPicPr>
        <p:blipFill>
          <a:blip r:embed="rId1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umnik"/>
          <p:cNvPicPr/>
          <p:nvPr/>
        </p:nvPicPr>
        <p:blipFill>
          <a:blip r:embed="rId2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Mailme"/>
          <p:cNvPicPr/>
          <p:nvPr/>
        </p:nvPicPr>
        <p:blipFill>
          <a:blip r:embed="rId3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Admin</cp:lastModifiedBy>
  <dcterms:modified xsi:type="dcterms:W3CDTF">2012-04-20T15:35:22Z</dcterms:modified>
  <cp:revision>36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