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3.png" ContentType="image/png"/>
  <Override PartName="/ppt/media/image10.gif" ContentType="image/gif"/>
  <Override PartName="/ppt/media/image12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5.gif" ContentType="image/gif"/>
  <Override PartName="/ppt/media/image17.wmf" ContentType="image/x-wm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8E7-100B-4DD1-802C-D73D8CB1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420-AAF2-43D8-89C2-68054014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093-5E76-4A49-BCE2-4457AFDD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937-4524-4133-8CBC-E8D139EE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E6C8-24D3-43E5-986D-659D46A5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5A43-FE78-430D-99C6-E4C0F838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51D2-66A3-467A-B6DF-614B7A51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8FCD-9810-45DB-B8AD-1599EF77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255A-5A59-4525-8D0A-9EFA12D7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1CB0-6EF9-4CDB-A5B1-AA1BD9F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BD54-FD98-43F7-BD9E-77171678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D6C-A971-49F5-9326-FF17F61D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B1F9-2C68-433C-90E6-296B86A0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6928-B68A-44B3-8871-CA5DF56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F478-B768-4F91-AA21-D59FB46A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63D-D9E7-4B33-BE07-534751DF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DD84-51F8-4303-BD62-1D50B73C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617-EB8E-47C8-8683-48A313EF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D91-8667-4B90-A8A5-FB8C2A4B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FFA-26CA-41BA-B420-24F5A057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E93-B75E-440B-ABCA-535B8CEF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346-1A83-4AC5-B8EA-02926431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C49-CF31-4917-B3EC-13CF46F7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F3E-AF43-4C37-A4CE-56F49FD8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36D8-0BFF-48E0-9893-54C8D57FB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A5B7-FC81-4313-97D6-3042F8D289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est.doc" TargetMode="External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9"/>
          <p:cNvSpPr txBox="1"/>
          <p:nvPr/>
        </p:nvSpPr>
        <p:spPr>
          <a:xfrm>
            <a:off x="539640" y="333360"/>
            <a:ext cx="777744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ристаллические  решет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10" descr="nacl"/>
          <p:cNvPicPr/>
          <p:nvPr/>
        </p:nvPicPr>
        <p:blipFill>
          <a:blip r:embed="rId1"/>
          <a:stretch/>
        </p:blipFill>
        <p:spPr>
          <a:xfrm>
            <a:off x="3071880" y="2708280"/>
            <a:ext cx="2711520" cy="230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Металлическ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79640" y="2997360"/>
            <a:ext cx="32036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узл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ётки находятся атомы и ионы мета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4"/>
          <p:cNvPicPr/>
          <p:nvPr/>
        </p:nvPicPr>
        <p:blipFill>
          <a:blip r:embed="rId1"/>
          <a:stretch/>
        </p:blipFill>
        <p:spPr>
          <a:xfrm>
            <a:off x="971640" y="2708280"/>
            <a:ext cx="4857840" cy="3062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77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82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Подумай и ответь !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483048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акие свойства имеют вещества с металлической решет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акие виды связи существуют в кристаллических решет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К какой кристаллической решетки относятся соли, основания, оксид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J0076161"/>
          <p:cNvPicPr/>
          <p:nvPr/>
        </p:nvPicPr>
        <p:blipFill>
          <a:blip r:embed="rId2"/>
          <a:stretch/>
        </p:blipFill>
        <p:spPr>
          <a:xfrm>
            <a:off x="0" y="0"/>
            <a:ext cx="2819520" cy="19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TN027"/>
          <p:cNvPicPr/>
          <p:nvPr/>
        </p:nvPicPr>
        <p:blipFill>
          <a:blip r:embed="rId3"/>
          <a:stretch/>
        </p:blipFill>
        <p:spPr>
          <a:xfrm>
            <a:off x="324000" y="2276640"/>
            <a:ext cx="3429000" cy="2860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) Учебник химии для 8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втор О.С.Габриел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2)»НОВЕЙШИЙ СПРАВОЧНИК ШКОЛЬНИКА»\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оставитель Г. П. Шала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3)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08000" y="0"/>
            <a:ext cx="889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исок использованной литера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indefinite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indefinite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indefinite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8" dur="indefinite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2" dur="indefinite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9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Твёрдые веществ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8160" y="2034720"/>
            <a:ext cx="527868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Аморфные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ристалли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0" descr="J0076135"/>
          <p:cNvPicPr/>
          <p:nvPr/>
        </p:nvPicPr>
        <p:blipFill>
          <a:blip r:embed="rId1"/>
          <a:stretch/>
        </p:blipFill>
        <p:spPr>
          <a:xfrm>
            <a:off x="727200" y="3657600"/>
            <a:ext cx="3387600" cy="24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9d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Аморфные веществ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имеют определённой температуры плав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гревании размягчаются и  переходят в текучее состоя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шоколад1"/>
          <p:cNvPicPr/>
          <p:nvPr/>
        </p:nvPicPr>
        <p:blipFill>
          <a:blip r:embed="rId1"/>
          <a:stretch/>
        </p:blipFill>
        <p:spPr>
          <a:xfrm>
            <a:off x="5715000" y="1219320"/>
            <a:ext cx="2514600" cy="205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жевачка"/>
          <p:cNvPicPr/>
          <p:nvPr/>
        </p:nvPicPr>
        <p:blipFill>
          <a:blip r:embed="rId2"/>
          <a:stretch/>
        </p:blipFill>
        <p:spPr>
          <a:xfrm>
            <a:off x="5562720" y="3657600"/>
            <a:ext cx="3276360" cy="79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J0076130"/>
          <p:cNvPicPr/>
          <p:nvPr/>
        </p:nvPicPr>
        <p:blipFill>
          <a:blip r:embed="rId3"/>
          <a:stretch/>
        </p:blipFill>
        <p:spPr>
          <a:xfrm>
            <a:off x="6705720" y="4724280"/>
            <a:ext cx="320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Arial"/>
              </a:rPr>
              <a:t>Кристаллические веществ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Имеют строго опреде-лённую температуру пл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Характеризуются правильным расположением частиц, из которых они состоят (атомы, ионы, молекул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6" descr="алмаз1"/>
          <p:cNvPicPr/>
          <p:nvPr/>
        </p:nvPicPr>
        <p:blipFill>
          <a:blip r:embed="rId1"/>
          <a:stretch/>
        </p:blipFill>
        <p:spPr>
          <a:xfrm>
            <a:off x="7183440" y="19810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металлы"/>
          <p:cNvPicPr/>
          <p:nvPr/>
        </p:nvPicPr>
        <p:blipFill>
          <a:blip r:embed="rId2"/>
          <a:stretch/>
        </p:blipFill>
        <p:spPr>
          <a:xfrm>
            <a:off x="6400800" y="3886200"/>
            <a:ext cx="2133720" cy="99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G00221_"/>
          <p:cNvPicPr/>
          <p:nvPr/>
        </p:nvPicPr>
        <p:blipFill>
          <a:blip r:embed="rId3"/>
          <a:stretch/>
        </p:blipFill>
        <p:spPr>
          <a:xfrm>
            <a:off x="6705720" y="5105520"/>
            <a:ext cx="14396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77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кристаллическая решетка иодида калия"/>
          <p:cNvPicPr/>
          <p:nvPr/>
        </p:nvPicPr>
        <p:blipFill>
          <a:blip r:embed="rId1"/>
          <a:stretch/>
        </p:blipFill>
        <p:spPr>
          <a:xfrm>
            <a:off x="1143000" y="2819520"/>
            <a:ext cx="3505320" cy="3246480"/>
          </a:xfrm>
          <a:prstGeom prst="rect">
            <a:avLst/>
          </a:prstGeom>
          <a:ln w="0">
            <a:noFill/>
          </a:ln>
        </p:spPr>
      </p:pic>
      <p:sp>
        <p:nvSpPr>
          <p:cNvPr id="103" name="Line 5"/>
          <p:cNvSpPr/>
          <p:nvPr/>
        </p:nvSpPr>
        <p:spPr>
          <a:xfrm flipV="1">
            <a:off x="4572000" y="3276360"/>
            <a:ext cx="1295280" cy="609480"/>
          </a:xfrm>
          <a:prstGeom prst="line">
            <a:avLst/>
          </a:prstGeom>
          <a:ln w="9360">
            <a:solidFill>
              <a:srgbClr val="080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 flipV="1">
            <a:off x="4495680" y="3200400"/>
            <a:ext cx="1447920" cy="1752480"/>
          </a:xfrm>
          <a:prstGeom prst="line">
            <a:avLst/>
          </a:prstGeom>
          <a:ln w="9360">
            <a:solidFill>
              <a:srgbClr val="080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4114800" y="3200400"/>
            <a:ext cx="1828800" cy="0"/>
          </a:xfrm>
          <a:prstGeom prst="line">
            <a:avLst/>
          </a:prstGeom>
          <a:ln w="9360">
            <a:solidFill>
              <a:srgbClr val="0809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927760" y="2782800"/>
            <a:ext cx="253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791320" y="28954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66"/>
                </a:solidFill>
                <a:latin typeface="Arial"/>
              </a:rPr>
              <a:t>Узлы кристаллических решё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Типы кристаллических решёток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Ион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Атом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Молеку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Металлическ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AG00004_"/>
          <p:cNvPicPr/>
          <p:nvPr/>
        </p:nvPicPr>
        <p:blipFill>
          <a:blip r:embed="rId1"/>
          <a:stretch/>
        </p:blipFill>
        <p:spPr>
          <a:xfrm>
            <a:off x="5940360" y="2205000"/>
            <a:ext cx="1828800" cy="17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olekula"/>
          <p:cNvPicPr/>
          <p:nvPr/>
        </p:nvPicPr>
        <p:blipFill>
          <a:blip r:embed="rId2"/>
          <a:stretch/>
        </p:blipFill>
        <p:spPr>
          <a:xfrm>
            <a:off x="5292720" y="4238640"/>
            <a:ext cx="3024360" cy="235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ff"/>
                </a:solidFill>
                <a:latin typeface="Arial"/>
              </a:rPr>
              <a:t>Ионн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3" name="Picture 12" descr="1"/>
          <p:cNvPicPr/>
          <p:nvPr/>
        </p:nvPicPr>
        <p:blipFill>
          <a:blip r:embed="rId1"/>
          <a:stretch/>
        </p:blipFill>
        <p:spPr>
          <a:xfrm>
            <a:off x="1371600" y="2430360"/>
            <a:ext cx="5864400" cy="4238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 flipH="1" flipV="1">
            <a:off x="5219640" y="616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Атомн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6" name="Picture 6" descr="к"/>
          <p:cNvPicPr/>
          <p:nvPr/>
        </p:nvPicPr>
        <p:blipFill>
          <a:blip r:embed="rId1"/>
          <a:stretch/>
        </p:blipFill>
        <p:spPr>
          <a:xfrm>
            <a:off x="1692360" y="2421000"/>
            <a:ext cx="547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936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кристаллическая решетка иода"/>
          <p:cNvPicPr/>
          <p:nvPr/>
        </p:nvPicPr>
        <p:blipFill>
          <a:blip r:embed="rId1"/>
          <a:stretch/>
        </p:blipFill>
        <p:spPr>
          <a:xfrm>
            <a:off x="2627280" y="2581200"/>
            <a:ext cx="4035600" cy="3008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Молекулярная кристаллическая решётк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3776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763640" y="5516640"/>
            <a:ext cx="502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исталлическ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ётка й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7:26:21Z</dcterms:created>
  <dc:creator>st1-1</dc:creator>
  <dc:description/>
  <dc:language>en-US</dc:language>
  <cp:lastModifiedBy>alex</cp:lastModifiedBy>
  <dcterms:modified xsi:type="dcterms:W3CDTF">2005-01-01T06:44:53Z</dcterms:modified>
  <cp:revision>42</cp:revision>
  <dc:subject/>
  <dc:title>Типы кристаллических решёток</dc:title>
</cp:coreProperties>
</file>