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7.png" ContentType="image/png"/>
  <Override PartName="/ppt/media/image13.png" ContentType="image/png"/>
  <Override PartName="/ppt/media/image10.gif" ContentType="image/gif"/>
  <Override PartName="/ppt/media/image12.jpeg" ContentType="image/jpeg"/>
  <Override PartName="/ppt/media/image16.gif" ContentType="image/gif"/>
  <Override PartName="/ppt/media/image15.jpeg" ContentType="image/jpeg"/>
  <Override PartName="/ppt/media/image14.png" ContentType="image/png"/>
  <Override PartName="/ppt/media/image5.gif" ContentType="image/gif"/>
  <Override PartName="/ppt/media/image17.wmf" ContentType="image/x-wmf"/>
  <Override PartName="/ppt/media/image9.png" ContentType="image/png"/>
  <Override PartName="/ppt/media/image1.png" ContentType="image/png"/>
  <Override PartName="/ppt/media/image2.gif" ContentType="image/gif"/>
  <Override PartName="/ppt/media/image11.png" ContentType="image/png"/>
  <Override PartName="/ppt/media/image3.png" ContentType="image/png"/>
  <Override PartName="/ppt/media/image4.jpeg" ContentType="image/jpeg"/>
  <Override PartName="/ppt/media/image8.gif" ContentType="image/gif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DD52-BDFA-4E9D-B445-CB5B6B552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8B2A-08A0-43DD-9D57-723EB2405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8229-C910-4726-9DF4-115F7681E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69BB-2B68-4B01-9787-EDFBEB817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09417-0ECA-4F8A-ABD9-913841176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9BB98-275F-449D-AD70-868C47EF6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6FE48-D349-49A8-A168-3C8A4FB11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474C7-3B1A-4FEF-9F8E-FB151AE03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FACB2-0844-4812-9D85-0091E6A1E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59FA0-40B5-413A-B62D-FC4A387E5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AE36B-C013-4B18-A85D-B4C94232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B19F-3121-47A3-8159-D84C7ED16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B57C4-6C06-461F-B5EB-F1A33AF2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65E7B-FA54-4E4E-B60C-C6FA99B7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15C1C-4D42-4501-B9B9-33EA87C95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80832-EB14-474C-833F-2AEBB4E27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B26AE-0874-4173-8A7A-49FBCFDE2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49C9-C61E-42F4-A63B-F1ED5C0D7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887A-C7DF-4E8C-8914-ACF3770DB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4B70-AAA9-4961-A0A4-ED24C65FC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B81E-6896-4DFB-9C43-6C4537971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5FF7-5A14-4F80-8F63-0B4BD006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CB77-76E2-4559-8971-10F76997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DDF3-5C66-4966-9A30-00A79846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E94C1-F1C8-42B0-A463-F255FB9492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0787D-D639-4C8A-B773-7E965242204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est.doc" TargetMode="External"/><Relationship Id="rId2" Type="http://schemas.openxmlformats.org/officeDocument/2006/relationships/image" Target="../media/image16.gi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9"/>
          <p:cNvSpPr txBox="1"/>
          <p:nvPr/>
        </p:nvSpPr>
        <p:spPr>
          <a:xfrm>
            <a:off x="539640" y="333360"/>
            <a:ext cx="7777440" cy="191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ристаллические  решетки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6" name="Picture 10" descr="nacl"/>
          <p:cNvPicPr/>
          <p:nvPr/>
        </p:nvPicPr>
        <p:blipFill>
          <a:blip r:embed="rId1"/>
          <a:stretch/>
        </p:blipFill>
        <p:spPr>
          <a:xfrm>
            <a:off x="3071880" y="2708280"/>
            <a:ext cx="2711520" cy="2305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cc"/>
                </a:solidFill>
                <a:latin typeface="Arial"/>
              </a:rPr>
              <a:t>Металлическая кристаллическая решётка</a:t>
            </a:r>
            <a:endParaRPr b="1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579640" y="2997360"/>
            <a:ext cx="32036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узлах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шётки находятся атомы и ионы метал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6" descr="4"/>
          <p:cNvPicPr/>
          <p:nvPr/>
        </p:nvPicPr>
        <p:blipFill>
          <a:blip r:embed="rId1"/>
          <a:stretch/>
        </p:blipFill>
        <p:spPr>
          <a:xfrm>
            <a:off x="971640" y="2708280"/>
            <a:ext cx="4857840" cy="30621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2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7777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771640" y="333000"/>
            <a:ext cx="582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800000"/>
                </a:solidFill>
                <a:uFillTx/>
                <a:latin typeface="Arial"/>
                <a:hlinkClick r:id="rId1"/>
              </a:rPr>
              <a:t>Подумай и ответь !</a:t>
            </a:r>
            <a:endParaRPr b="1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780000" y="1483920"/>
            <a:ext cx="4830480" cy="537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Какие свойства имеют вещества с металлической решеткой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Какие виды связи существуют в кристаллических решетках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К какой кристаллической решетки относятся соли, основания, оксиды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8" descr="J0076161"/>
          <p:cNvPicPr/>
          <p:nvPr/>
        </p:nvPicPr>
        <p:blipFill>
          <a:blip r:embed="rId2"/>
          <a:stretch/>
        </p:blipFill>
        <p:spPr>
          <a:xfrm>
            <a:off x="0" y="0"/>
            <a:ext cx="2819520" cy="1916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2" descr="ANTN027"/>
          <p:cNvPicPr/>
          <p:nvPr/>
        </p:nvPicPr>
        <p:blipFill>
          <a:blip r:embed="rId3"/>
          <a:stretch/>
        </p:blipFill>
        <p:spPr>
          <a:xfrm>
            <a:off x="324000" y="2276640"/>
            <a:ext cx="3429000" cy="28605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-36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1) Учебник химии для 8 класс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Автор О.С.Габриеля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2)»НОВЕЙШИЙ СПРАВОЧНИК ШКОЛЬНИКА»\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Составитель Г. П. Шалае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3) Интерн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WordArt 4"/>
          <p:cNvSpPr txBox="1"/>
          <p:nvPr/>
        </p:nvSpPr>
        <p:spPr>
          <a:xfrm>
            <a:off x="108000" y="0"/>
            <a:ext cx="889308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исок использованной литератур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indefinite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indefinite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indefinite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indefinite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76" dur="indefinite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84" dur="indefinite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88" dur="indefinite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92" dur="indefinite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f9ff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6096240" cy="11430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00"/>
                </a:solidFill>
                <a:latin typeface="Arial"/>
              </a:rPr>
              <a:t>Твёрдые вещества</a:t>
            </a:r>
            <a:endParaRPr b="1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368160" y="2034720"/>
            <a:ext cx="5278680" cy="27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Аморфные</a:t>
            </a: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Кристаллическ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10" descr="J0076135"/>
          <p:cNvPicPr/>
          <p:nvPr/>
        </p:nvPicPr>
        <p:blipFill>
          <a:blip r:embed="rId1"/>
          <a:stretch/>
        </p:blipFill>
        <p:spPr>
          <a:xfrm>
            <a:off x="727200" y="3657600"/>
            <a:ext cx="3387600" cy="245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c9df"/>
            </a:gs>
            <a:gs pos="100000">
              <a:srgbClr val="66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Arial"/>
              </a:rPr>
              <a:t>Аморфные вещества</a:t>
            </a:r>
            <a:endParaRPr b="1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е имеют определённой температуры плавл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и нагревании размягчаются и  переходят в текучее состоя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6" descr="шоколад1"/>
          <p:cNvPicPr/>
          <p:nvPr/>
        </p:nvPicPr>
        <p:blipFill>
          <a:blip r:embed="rId1"/>
          <a:stretch/>
        </p:blipFill>
        <p:spPr>
          <a:xfrm>
            <a:off x="5715000" y="1219320"/>
            <a:ext cx="2514600" cy="2054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жевачка"/>
          <p:cNvPicPr/>
          <p:nvPr/>
        </p:nvPicPr>
        <p:blipFill>
          <a:blip r:embed="rId2"/>
          <a:stretch/>
        </p:blipFill>
        <p:spPr>
          <a:xfrm>
            <a:off x="5562720" y="3657600"/>
            <a:ext cx="3276360" cy="792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J0076130"/>
          <p:cNvPicPr/>
          <p:nvPr/>
        </p:nvPicPr>
        <p:blipFill>
          <a:blip r:embed="rId3"/>
          <a:stretch/>
        </p:blipFill>
        <p:spPr>
          <a:xfrm>
            <a:off x="6705720" y="4724280"/>
            <a:ext cx="32040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250" autoRev="1" fill="hold"/>
                                        <p:tgtEl>
                                          <p:spTgt spid="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ff33"/>
                </a:solidFill>
                <a:latin typeface="Arial"/>
              </a:rPr>
              <a:t>Кристаллические вещества</a:t>
            </a:r>
            <a:endParaRPr b="1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51818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7c80"/>
                </a:solidFill>
                <a:latin typeface="Arial"/>
              </a:rPr>
              <a:t>Имеют строго опреде-лённую температуру пла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7c80"/>
                </a:solidFill>
                <a:latin typeface="Arial"/>
              </a:rPr>
              <a:t>Характеризуются правильным расположением частиц, из которых они состоят (атомы, ионы, молекулы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6" descr="алмаз1"/>
          <p:cNvPicPr/>
          <p:nvPr/>
        </p:nvPicPr>
        <p:blipFill>
          <a:blip r:embed="rId1"/>
          <a:stretch/>
        </p:blipFill>
        <p:spPr>
          <a:xfrm>
            <a:off x="7183440" y="1981080"/>
            <a:ext cx="1433520" cy="1828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металлы"/>
          <p:cNvPicPr/>
          <p:nvPr/>
        </p:nvPicPr>
        <p:blipFill>
          <a:blip r:embed="rId2"/>
          <a:stretch/>
        </p:blipFill>
        <p:spPr>
          <a:xfrm>
            <a:off x="6400800" y="3886200"/>
            <a:ext cx="2133720" cy="995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AG00221_"/>
          <p:cNvPicPr/>
          <p:nvPr/>
        </p:nvPicPr>
        <p:blipFill>
          <a:blip r:embed="rId3"/>
          <a:stretch/>
        </p:blipFill>
        <p:spPr>
          <a:xfrm>
            <a:off x="6705720" y="5105520"/>
            <a:ext cx="143964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7777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3300"/>
                </a:solidFill>
                <a:latin typeface="Arial"/>
              </a:rPr>
              <a:t>Кристаллическая решётка</a:t>
            </a:r>
            <a:endParaRPr b="1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396252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3" descr="кристаллическая решетка иодида калия"/>
          <p:cNvPicPr/>
          <p:nvPr/>
        </p:nvPicPr>
        <p:blipFill>
          <a:blip r:embed="rId1"/>
          <a:stretch/>
        </p:blipFill>
        <p:spPr>
          <a:xfrm>
            <a:off x="1143000" y="2819520"/>
            <a:ext cx="3505320" cy="3246480"/>
          </a:xfrm>
          <a:prstGeom prst="rect">
            <a:avLst/>
          </a:prstGeom>
          <a:ln w="0">
            <a:noFill/>
          </a:ln>
        </p:spPr>
      </p:pic>
      <p:sp>
        <p:nvSpPr>
          <p:cNvPr id="103" name="Line 5"/>
          <p:cNvSpPr/>
          <p:nvPr/>
        </p:nvSpPr>
        <p:spPr>
          <a:xfrm flipV="1">
            <a:off x="4572000" y="3276360"/>
            <a:ext cx="1295280" cy="609480"/>
          </a:xfrm>
          <a:prstGeom prst="line">
            <a:avLst/>
          </a:prstGeom>
          <a:ln w="9360">
            <a:solidFill>
              <a:srgbClr val="0809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Line 7"/>
          <p:cNvSpPr/>
          <p:nvPr/>
        </p:nvSpPr>
        <p:spPr>
          <a:xfrm flipV="1">
            <a:off x="4495680" y="3200400"/>
            <a:ext cx="1447920" cy="1752480"/>
          </a:xfrm>
          <a:prstGeom prst="line">
            <a:avLst/>
          </a:prstGeom>
          <a:ln w="9360">
            <a:solidFill>
              <a:srgbClr val="0809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Line 8"/>
          <p:cNvSpPr/>
          <p:nvPr/>
        </p:nvSpPr>
        <p:spPr>
          <a:xfrm>
            <a:off x="4114800" y="3200400"/>
            <a:ext cx="1828800" cy="0"/>
          </a:xfrm>
          <a:prstGeom prst="line">
            <a:avLst/>
          </a:prstGeom>
          <a:ln w="9360">
            <a:solidFill>
              <a:srgbClr val="0809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5927760" y="2782800"/>
            <a:ext cx="253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5791320" y="2895480"/>
            <a:ext cx="365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66"/>
                </a:solidFill>
                <a:latin typeface="Arial"/>
              </a:rPr>
              <a:t>Узлы кристаллических решёто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98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3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cc"/>
                </a:solidFill>
                <a:latin typeface="Arial"/>
              </a:rPr>
              <a:t>Типы кристаллических решёток</a:t>
            </a:r>
            <a:endParaRPr b="1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5280" y="1905120"/>
            <a:ext cx="4253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Ионна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Атомна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Молекулярна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Металлическа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4" descr="AG00004_"/>
          <p:cNvPicPr/>
          <p:nvPr/>
        </p:nvPicPr>
        <p:blipFill>
          <a:blip r:embed="rId1"/>
          <a:stretch/>
        </p:blipFill>
        <p:spPr>
          <a:xfrm>
            <a:off x="5940360" y="2205000"/>
            <a:ext cx="1828800" cy="1763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molekula"/>
          <p:cNvPicPr/>
          <p:nvPr/>
        </p:nvPicPr>
        <p:blipFill>
          <a:blip r:embed="rId2"/>
          <a:stretch/>
        </p:blipFill>
        <p:spPr>
          <a:xfrm>
            <a:off x="5292720" y="4238640"/>
            <a:ext cx="3024360" cy="2359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76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99ff"/>
                </a:solidFill>
                <a:latin typeface="Arial"/>
              </a:rPr>
              <a:t>Ионная кристаллическая решётка</a:t>
            </a:r>
            <a:endParaRPr b="1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13" name="Picture 12" descr="1"/>
          <p:cNvPicPr/>
          <p:nvPr/>
        </p:nvPicPr>
        <p:blipFill>
          <a:blip r:embed="rId1"/>
          <a:stretch/>
        </p:blipFill>
        <p:spPr>
          <a:xfrm>
            <a:off x="1371600" y="2430360"/>
            <a:ext cx="5864400" cy="42386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3"/>
          <p:cNvSpPr/>
          <p:nvPr/>
        </p:nvSpPr>
        <p:spPr>
          <a:xfrm flipH="1" flipV="1">
            <a:off x="5219640" y="616500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768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" dur="768" fill="hold"/>
                                        <p:tgtEl>
                                          <p:spTgt spid="1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1" dur="768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3" dur="768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998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3498"/>
                            </p:stCondLst>
                            <p:childTnLst>
                              <p:par>
                                <p:cTn id="1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cc"/>
                </a:solidFill>
                <a:latin typeface="Arial"/>
              </a:rPr>
              <a:t>Атомная кристаллическая решётка</a:t>
            </a:r>
            <a:endParaRPr b="1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16" name="Picture 6" descr="к"/>
          <p:cNvPicPr/>
          <p:nvPr/>
        </p:nvPicPr>
        <p:blipFill>
          <a:blip r:embed="rId1"/>
          <a:stretch/>
        </p:blipFill>
        <p:spPr>
          <a:xfrm>
            <a:off x="1692360" y="2421000"/>
            <a:ext cx="54720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5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4936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1" descr="кристаллическая решетка иода"/>
          <p:cNvPicPr/>
          <p:nvPr/>
        </p:nvPicPr>
        <p:blipFill>
          <a:blip r:embed="rId1"/>
          <a:stretch/>
        </p:blipFill>
        <p:spPr>
          <a:xfrm>
            <a:off x="2627280" y="2581200"/>
            <a:ext cx="4035600" cy="30085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cc"/>
                </a:solidFill>
                <a:latin typeface="Arial"/>
              </a:rPr>
              <a:t>Молекулярная кристаллическая решётка</a:t>
            </a:r>
            <a:endParaRPr b="1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377676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1763640" y="5516640"/>
            <a:ext cx="50292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ристаллическа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шётка йод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9T07:26:21Z</dcterms:created>
  <dc:creator>st1-1</dc:creator>
  <dc:description/>
  <dc:language>en-US</dc:language>
  <cp:lastModifiedBy>alex</cp:lastModifiedBy>
  <dcterms:modified xsi:type="dcterms:W3CDTF">2005-01-01T06:44:53Z</dcterms:modified>
  <cp:revision>42</cp:revision>
  <dc:subject/>
  <dc:title>Типы кристаллических решёток</dc:title>
</cp:coreProperties>
</file>