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F19-BA3E-41CD-AEDA-F224DA83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746-9028-4F97-9C24-ECEE228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F25-C8F6-4248-8BD6-1CE76472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3E8-A95F-4DBC-9AD1-CE19EBE3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60F-56C2-4F61-874C-7393DAE0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931-A536-469B-AA90-06BBE17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12C-690B-4D04-A7F4-FBCED342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90B-CB23-4AF7-8404-F7BB777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29B-EF53-4F6E-B9C2-EF4151B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8F6-7077-4FE3-9901-41DA8F9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19D-7678-4AD4-B401-06550AB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BF3-31AB-4045-B625-D606CC2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2BC7-A11B-46DA-BF6B-61C3877B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ные числ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и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5760" y="4365720"/>
            <a:ext cx="2747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ЦО №1619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И. Цветаевой г. 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ркова Е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274680"/>
          <a:ext cx="8228880" cy="921960"/>
        </p:xfrm>
        <a:graphic>
          <a:graphicData uri="http://schemas.openxmlformats.org/drawingml/2006/table">
            <a:tbl>
              <a:tblPr/>
              <a:tblGrid>
                <a:gridCol w="8228880"/>
              </a:tblGrid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де на плоскости располагаются точки, изображающи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86160" y="19303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080" y="414972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51640" y="1483920"/>
            <a:ext cx="1657080" cy="1800360"/>
            <a:chOff x="5651640" y="1483920"/>
            <a:chExt cx="1657080" cy="1800360"/>
          </a:xfrm>
        </p:grpSpPr>
        <p:sp>
          <p:nvSpPr>
            <p:cNvPr id="99" name=""/>
            <p:cNvSpPr/>
            <p:nvPr/>
          </p:nvSpPr>
          <p:spPr>
            <a:xfrm flipV="1">
              <a:off x="6372360" y="148392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51640" y="249228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94000" y="152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2492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4000" y="1628640"/>
              <a:ext cx="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2000" y="2467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6372360" y="3573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36920" y="347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652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508720" y="3933720"/>
            <a:ext cx="2232000" cy="1056600"/>
            <a:chOff x="5508720" y="3933720"/>
            <a:chExt cx="2232000" cy="1056600"/>
          </a:xfrm>
        </p:grpSpPr>
        <p:sp>
          <p:nvSpPr>
            <p:cNvPr id="109" name=""/>
            <p:cNvSpPr/>
            <p:nvPr/>
          </p:nvSpPr>
          <p:spPr>
            <a:xfrm>
              <a:off x="5508720" y="465300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1800" y="45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6520" y="465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0000" y="3933720"/>
              <a:ext cx="1944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7800" y="3933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274680"/>
          <a:ext cx="4186080" cy="5851440"/>
        </p:xfrm>
        <a:graphic>
          <a:graphicData uri="http://schemas.openxmlformats.org/drawingml/2006/table">
            <a:tbl>
              <a:tblPr/>
              <a:tblGrid>
                <a:gridCol w="41860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) чему равен аргумент любого положи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чему равен аргумент любого отрицательн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) чему равен аргумент любого чисто мнимого числ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чему равен аргумент числа 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40120" y="4762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40840" y="1989000"/>
            <a:ext cx="12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8640" y="3645000"/>
            <a:ext cx="27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7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28520" y="4876920"/>
            <a:ext cx="23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пределё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157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365720"/>
            <a:ext cx="2627640" cy="334800"/>
          </a:xfrm>
          <a:custGeom>
            <a:avLst/>
            <a:gdLst/>
            <a:ahLst/>
            <a:rect l="l" t="t" r="r" b="b"/>
            <a:pathLst>
              <a:path w="1655" h="211">
                <a:moveTo>
                  <a:pt x="0" y="211"/>
                </a:moveTo>
                <a:cubicBezTo>
                  <a:pt x="578" y="135"/>
                  <a:pt x="1157" y="60"/>
                  <a:pt x="1406" y="30"/>
                </a:cubicBezTo>
                <a:cubicBezTo>
                  <a:pt x="1655" y="0"/>
                  <a:pt x="1482" y="30"/>
                  <a:pt x="1497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3280" y="306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/>
          <p:nvPr/>
        </p:nvCxnSpPr>
        <p:spPr>
          <a:xfrm flipH="1" flipV="1" rot="5400000">
            <a:off x="1426680" y="4700160"/>
            <a:ext cx="45792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140328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0292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486900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300640"/>
            <a:ext cx="40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96920" y="4495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8920" y="5216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920" y="478476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25280" y="287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852640"/>
            <a:ext cx="4032000" cy="1143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 вида у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с выколотой точ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25;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160360" cy="1460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1835280" y="18442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79736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5640" y="1647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3728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4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581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5086440"/>
            <a:ext cx="72720" cy="7308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005360"/>
            <a:ext cx="1871640" cy="1201680"/>
          </a:xfrm>
          <a:prstGeom prst="blockArc">
            <a:avLst>
              <a:gd name="adj1" fmla="val 10800000"/>
              <a:gd name="adj2" fmla="val 0"/>
              <a:gd name="adj3" fmla="val 2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4581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2492280"/>
            <a:ext cx="4643280" cy="1944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кольца, лежащего выше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ffe3"/>
            </a:gs>
            <a:gs pos="100000">
              <a:srgbClr val="fbf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2637000"/>
            <a:ext cx="31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68360" y="836280"/>
            <a:ext cx="0" cy="3166920"/>
          </a:xfrm>
          <a:prstGeom prst="line">
            <a:avLst/>
          </a:prstGeom>
          <a:ln w="93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916280"/>
            <a:ext cx="1584360" cy="151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268360" y="764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2637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6056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60560" y="258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6092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764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3400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933720"/>
            <a:ext cx="38368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.(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1428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b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1258920" y="83628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4724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1773000"/>
            <a:ext cx="2952720" cy="2950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5292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0000" y="474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0920" y="71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3573360"/>
            <a:ext cx="3313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ч-биссектриса 1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143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9040" y="134136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0000" y="2532240"/>
            <a:ext cx="757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 и математический анализ 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Я.Виленкин,О.С.Ивашев-Мус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Шварцбурд – 4-е изд.-М.; Просвещ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213372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71640" y="2708280"/>
                <a:ext cx="30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40000" y="263700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357336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95640" y="3645000"/>
                <a:ext cx="67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51280" y="364500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92720" y="357336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16720" y="3645000"/>
                <a:ext cx="40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357336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" y="4005360"/>
                <a:ext cx="1257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908000" y="4076640"/>
                <a:ext cx="1248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708360" y="414972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076720" y="422100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5964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101080" y="414972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886680" y="-14760"/>
            <a:ext cx="72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4. Самостоятельная работа с программиров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онтро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7-8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67640"/>
            <a:ext cx="209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1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вариан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MS Mincho"/>
              </a:rPr>
              <a:t>23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2 вариант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MS Mincho"/>
              </a:rPr>
              <a:t>12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6920" y="2276640"/>
                <a:ext cx="7527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6680" y="97488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773360"/>
          <a:ext cx="8640720" cy="2801880"/>
        </p:xfrm>
        <a:graphic>
          <a:graphicData uri="http://schemas.openxmlformats.org/drawingml/2006/table">
            <a:tbl>
              <a:tblPr/>
              <a:tblGrid>
                <a:gridCol w="1485720"/>
                <a:gridCol w="1488960"/>
                <a:gridCol w="1486080"/>
                <a:gridCol w="1484280"/>
                <a:gridCol w="1488960"/>
                <a:gridCol w="120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…+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0" lang="en-US" sz="16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i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+…+i</a:t>
                      </a:r>
                      <a:r>
                        <a:rPr b="0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16000" y="3429000"/>
                <a:ext cx="136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907920"/>
                <a:ext cx="585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17680" y="1773360"/>
                <a:ext cx="54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32000" y="2565360"/>
                <a:ext cx="690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4581360"/>
                <a:ext cx="1359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643280" y="134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2060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78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3500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72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6920" y="1557360"/>
                <a:ext cx="10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826920" y="2276640"/>
                <a:ext cx="1295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9640" y="3140280"/>
            <a:ext cx="36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-2+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йт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642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349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24560" y="308916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00" y="331200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-2-5i; -z=2-5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8000" y="4724280"/>
            <a:ext cx="14288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476280"/>
          <a:ext cx="4762440" cy="374436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умма двух комплексных чисел быт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ействительным числом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исто мнимым числ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42456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2276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; z+(-z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50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720" y="955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fc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413000"/>
          <a:ext cx="3790800" cy="3784320"/>
        </p:xfrm>
        <a:graphic>
          <a:graphicData uri="http://schemas.openxmlformats.org/drawingml/2006/table">
            <a:tbl>
              <a:tblPr/>
              <a:tblGrid>
                <a:gridCol w="379080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5-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Какое надо прибавить число к данному, чтобы получить действительное число? Будет ли это число единственны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кое надо прибавить число к данному, чтобы получить мнимое числ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звать два комплексных числа, обладающих свойствами: их сумма и произведение – действительные чис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ожет ли степень комплексного числа быть действительным числ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849640" y="63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7600" y="162864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ечное множеств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7000" y="27082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-5+bi, b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000" y="378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748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03640" y="4554360"/>
                <a:ext cx="209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8360" y="1268280"/>
            <a:ext cx="439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шиб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79280" y="2349360"/>
                <a:ext cx="8670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400920" y="4071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6400" y="4724280"/>
            <a:ext cx="5650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с корнями выполняются только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трицательных подкоренных выражени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ложить на множит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26000" y="215100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х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(х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43700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3827520" cy="4525920"/>
        </p:xfrm>
        <a:graphic>
          <a:graphicData uri="http://schemas.openxmlformats.org/drawingml/2006/table">
            <a:tbl>
              <a:tblPr/>
              <a:tblGrid>
                <a:gridCol w="382752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2158920" cy="452592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+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(1-i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430160" y="171144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82000" y="264492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9440" y="378936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53737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i+8i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765000"/>
          <a:ext cx="8362800" cy="1282680"/>
        </p:xfrm>
        <a:graphic>
          <a:graphicData uri="http://schemas.openxmlformats.org/drawingml/2006/table">
            <a:tbl>
              <a:tblPr/>
              <a:tblGrid>
                <a:gridCol w="836280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но числ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2+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 В какой четверти комплексной плоскости расположены точки, изображающие числ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3040" y="3284640"/>
            <a:ext cx="34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яжён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0720" y="3284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2-3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4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005360"/>
            <a:ext cx="342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z= -2-3i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3 четверт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9:01:12Z</dcterms:created>
  <dc:creator>Наташа</dc:creator>
  <dc:description/>
  <dc:language>en-US</dc:language>
  <cp:lastModifiedBy>Наташа</cp:lastModifiedBy>
  <dcterms:modified xsi:type="dcterms:W3CDTF">2012-09-21T05:29:53Z</dcterms:modified>
  <cp:revision>9</cp:revision>
  <dc:subject/>
  <dc:title>Комплексные числа семинар</dc:title>
</cp:coreProperties>
</file>