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5.wmf" ContentType="image/x-wmf"/>
  <Override PartName="/ppt/media/image7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974-C563-4FD1-87DF-42E5BDE3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933-F58D-4EC8-895B-192C6F1A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3F9-3A6D-40FF-B4EF-DB0047DD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4DC-9941-488F-A216-3BFA3C87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26D-EAFD-420D-BE1D-41DAD0AE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EA7-EC0F-4598-AAD0-DC7024E8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5ED-8FB8-4325-9B24-B0268CF7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459-5E81-4F4F-AB58-2CA9221C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F4D-BF95-4D47-A3C6-05EC8AAC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E72-75F9-485E-9096-45E358B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999-3142-467B-B406-A19E660D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FA5-92A3-4785-B76D-89004DE9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71C4-DA6C-41CC-81C5-8A123E24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ffe3"/>
            </a:gs>
            <a:gs pos="100000">
              <a:srgbClr val="fbfc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плексные числ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мин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65760" y="4365720"/>
            <a:ext cx="2747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БОУ ЦО №1619 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.И. Цветаевой г. 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ркова Е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274680"/>
          <a:ext cx="8228880" cy="921960"/>
        </p:xfrm>
        <a:graphic>
          <a:graphicData uri="http://schemas.openxmlformats.org/drawingml/2006/table">
            <a:tbl>
              <a:tblPr/>
              <a:tblGrid>
                <a:gridCol w="8228880"/>
              </a:tblGrid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де на плоскости располагаются точки, изображающие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686160" y="193032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3080" y="414972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51640" y="1483920"/>
            <a:ext cx="1657080" cy="1800360"/>
            <a:chOff x="5651640" y="1483920"/>
            <a:chExt cx="1657080" cy="1800360"/>
          </a:xfrm>
        </p:grpSpPr>
        <p:sp>
          <p:nvSpPr>
            <p:cNvPr id="99" name=""/>
            <p:cNvSpPr/>
            <p:nvPr/>
          </p:nvSpPr>
          <p:spPr>
            <a:xfrm flipV="1">
              <a:off x="6372360" y="148392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51640" y="249228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94000" y="152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21440" y="2492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04000" y="1628640"/>
              <a:ext cx="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42000" y="24670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6372360" y="3573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36920" y="3471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652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508720" y="3933720"/>
            <a:ext cx="2232000" cy="1056600"/>
            <a:chOff x="5508720" y="3933720"/>
            <a:chExt cx="2232000" cy="1056600"/>
          </a:xfrm>
        </p:grpSpPr>
        <p:sp>
          <p:nvSpPr>
            <p:cNvPr id="109" name=""/>
            <p:cNvSpPr/>
            <p:nvPr/>
          </p:nvSpPr>
          <p:spPr>
            <a:xfrm>
              <a:off x="5508720" y="465300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1800" y="4581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86520" y="465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0000" y="3933720"/>
              <a:ext cx="1944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7800" y="3933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274680"/>
          <a:ext cx="4186080" cy="5851440"/>
        </p:xfrm>
        <a:graphic>
          <a:graphicData uri="http://schemas.openxmlformats.org/drawingml/2006/table">
            <a:tbl>
              <a:tblPr/>
              <a:tblGrid>
                <a:gridCol w="41860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) чему равен аргумент любого положительного числ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) чему равен аргумент любого отрицательного числ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) чему равен аргумент любого чисто мнимого числ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) чему равен аргумент числа 0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540120" y="476280"/>
            <a:ext cx="9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40840" y="1989000"/>
            <a:ext cx="129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8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28640" y="3645000"/>
            <a:ext cx="27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27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28520" y="4876920"/>
            <a:ext cx="23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пределё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5157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4365720"/>
            <a:ext cx="2627640" cy="334800"/>
          </a:xfrm>
          <a:custGeom>
            <a:avLst/>
            <a:gdLst/>
            <a:ahLst/>
            <a:rect l="l" t="t" r="r" b="b"/>
            <a:pathLst>
              <a:path w="1655" h="211">
                <a:moveTo>
                  <a:pt x="0" y="211"/>
                </a:moveTo>
                <a:cubicBezTo>
                  <a:pt x="578" y="135"/>
                  <a:pt x="1157" y="60"/>
                  <a:pt x="1406" y="30"/>
                </a:cubicBezTo>
                <a:cubicBezTo>
                  <a:pt x="1655" y="0"/>
                  <a:pt x="1482" y="30"/>
                  <a:pt x="1497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403280" y="306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/>
          <p:nvPr/>
        </p:nvCxnSpPr>
        <p:spPr>
          <a:xfrm flipH="1" flipV="1" rot="5400000">
            <a:off x="1426680" y="4700160"/>
            <a:ext cx="457920" cy="505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140328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54764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40292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486900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5300640"/>
            <a:ext cx="40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96920" y="4495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88920" y="5216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4920" y="478476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25280" y="287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7280" y="517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2852640"/>
            <a:ext cx="4032000" cy="1143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ик вида у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 с выколотой точ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25;0,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be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160360" cy="1460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1835280" y="18442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479736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85640" y="1647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3728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416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4581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5086440"/>
            <a:ext cx="72720" cy="730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4005360"/>
            <a:ext cx="1871640" cy="1201680"/>
          </a:xfrm>
          <a:prstGeom prst="blockArc">
            <a:avLst>
              <a:gd name="adj1" fmla="val 10800000"/>
              <a:gd name="adj2" fmla="val 0"/>
              <a:gd name="adj3" fmla="val 2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4581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2492280"/>
            <a:ext cx="4643280" cy="1944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кольца, лежащего выше 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ffe3"/>
            </a:gs>
            <a:gs pos="100000">
              <a:srgbClr val="fbf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2637000"/>
            <a:ext cx="31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68360" y="836280"/>
            <a:ext cx="0" cy="3166920"/>
          </a:xfrm>
          <a:prstGeom prst="line">
            <a:avLst/>
          </a:prstGeom>
          <a:ln w="93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916280"/>
            <a:ext cx="1584360" cy="1512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268360" y="764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2637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60560" y="71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60560" y="258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60920" y="265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7640" y="265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34000" y="172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3933720"/>
            <a:ext cx="38368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.(0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14284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b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flipV="1">
            <a:off x="1258920" y="83628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4724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1773000"/>
            <a:ext cx="2952720" cy="29509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5292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0000" y="474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0920" y="71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3573360"/>
            <a:ext cx="3313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уч-биссектриса 1 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51640" y="1197000"/>
            <a:ext cx="143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9040" y="134136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0000" y="2532240"/>
            <a:ext cx="757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 и математический анализ 1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Я.Виленкин,О.С.Ивашев-Муса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И.Шварцбурд – 4-е изд.-М.; Просвещ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5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268360" y="213372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71640" y="2708280"/>
                <a:ext cx="304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340000" y="2637000"/>
                <a:ext cx="304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55640" y="3573360"/>
                <a:ext cx="561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95640" y="3645000"/>
                <a:ext cx="67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51280" y="364500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292720" y="3573360"/>
                <a:ext cx="409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516720" y="3645000"/>
                <a:ext cx="409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101080" y="357336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95280" y="4005360"/>
                <a:ext cx="12574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908000" y="4076640"/>
                <a:ext cx="1248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708360" y="4149720"/>
                <a:ext cx="533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076720" y="4221000"/>
                <a:ext cx="533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659640" y="414972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101080" y="414972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886680" y="-14760"/>
            <a:ext cx="720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4. Самостоятельная работа с программиров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онтро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7-8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967640"/>
            <a:ext cx="209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MS Mincho"/>
              </a:rPr>
              <a:t>1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MS Mincho"/>
              </a:rPr>
              <a:t>вариант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MS Mincho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MS Mincho"/>
              </a:rPr>
              <a:t>23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MS Mincho"/>
              </a:rPr>
              <a:t>2 вариант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MS Mincho"/>
              </a:rPr>
              <a:t>124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6920" y="2276640"/>
                <a:ext cx="7527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24000" y="1773360"/>
          <a:ext cx="8640720" cy="2801880"/>
        </p:xfrm>
        <a:graphic>
          <a:graphicData uri="http://schemas.openxmlformats.org/drawingml/2006/table">
            <a:tbl>
              <a:tblPr/>
              <a:tblGrid>
                <a:gridCol w="1485720"/>
                <a:gridCol w="1488960"/>
                <a:gridCol w="1486080"/>
                <a:gridCol w="1484280"/>
                <a:gridCol w="1488960"/>
                <a:gridCol w="120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1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2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2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i+i</a:t>
                      </a:r>
                      <a:r>
                        <a:rPr b="0" lang="en-US" sz="16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…+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r>
                        <a:rPr b="0" lang="en-US" sz="16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i+i</a:t>
                      </a:r>
                      <a:r>
                        <a:rPr b="0" lang="en-US" sz="1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+…+i</a:t>
                      </a:r>
                      <a:r>
                        <a:rPr b="0" lang="en-US" sz="1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25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116000" y="3429000"/>
                <a:ext cx="1368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907920"/>
                <a:ext cx="585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17680" y="1773360"/>
                <a:ext cx="544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32000" y="2565360"/>
                <a:ext cx="690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16000" y="4581360"/>
                <a:ext cx="13590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643280" y="1341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20606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2781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3500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724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26920" y="1557360"/>
                <a:ext cx="1079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826920" y="2276640"/>
                <a:ext cx="1295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9640" y="3140280"/>
            <a:ext cx="369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2+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йти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6422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17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17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349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24560" y="308916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000" y="331200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-2-5i; -z=2-5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48000" y="4724280"/>
            <a:ext cx="14288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476280"/>
          <a:ext cx="4762440" cy="3744360"/>
        </p:xfrm>
        <a:graphic>
          <a:graphicData uri="http://schemas.openxmlformats.org/drawingml/2006/table">
            <a:tbl>
              <a:tblPr/>
              <a:tblGrid>
                <a:gridCol w="4762440"/>
              </a:tblGrid>
              <a:tr h="126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ожет ли сумма двух комплексных чисел быть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ействительным числом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Чисто мнимым числ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6424560" y="27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22766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; z+(-z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500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z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720" y="9558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fc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413000"/>
          <a:ext cx="3790800" cy="3784320"/>
        </p:xfrm>
        <a:graphic>
          <a:graphicData uri="http://schemas.openxmlformats.org/drawingml/2006/table">
            <a:tbl>
              <a:tblPr/>
              <a:tblGrid>
                <a:gridCol w="379080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ано число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5-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 Какое надо прибавить число к данному, чтобы получить действительное число? Будет ли это число единственны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акое надо прибавить число к данному, чтобы получить мнимое числ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звать два комплексных числа, обладающих свойствами: их сумма и произведение – действительные чис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ожет ли степень комплексного числа быть действительным число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849640" y="63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7600" y="1628640"/>
            <a:ext cx="34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конечное множеств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77000" y="27082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 -5+bi, b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000" y="378936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748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003640" y="4554360"/>
                <a:ext cx="2098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68360" y="1268280"/>
            <a:ext cx="439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шиб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79280" y="2349360"/>
                <a:ext cx="8670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400920" y="40719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6400" y="4724280"/>
            <a:ext cx="5650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с корнями выполняются только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трицательных подкоренных выражений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ложить на множит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26000" y="215100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х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(х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43700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3827520" cy="4525920"/>
        </p:xfrm>
        <a:graphic>
          <a:graphicData uri="http://schemas.openxmlformats.org/drawingml/2006/table">
            <a:tbl>
              <a:tblPr/>
              <a:tblGrid>
                <a:gridCol w="382752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628640"/>
          <a:ext cx="2158920" cy="4525920"/>
        </p:xfrm>
        <a:graphic>
          <a:graphicData uri="http://schemas.openxmlformats.org/drawingml/2006/table">
            <a:tbl>
              <a:tblPr/>
              <a:tblGrid>
                <a:gridCol w="215892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+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-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+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+(1-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430160" y="171144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82000" y="2644920"/>
            <a:ext cx="6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9440" y="3789360"/>
            <a:ext cx="6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537372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i+8i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50920" y="765000"/>
          <a:ext cx="8362800" cy="1282680"/>
        </p:xfrm>
        <a:graphic>
          <a:graphicData uri="http://schemas.openxmlformats.org/drawingml/2006/table">
            <a:tbl>
              <a:tblPr/>
              <a:tblGrid>
                <a:gridCol w="836280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ано числ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2+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 В какой четверти комплексной плоскости расположены точки, изображающие числ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3040" y="3284640"/>
            <a:ext cx="34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яжённое да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пол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0720" y="3284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2-3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4 четв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4005360"/>
            <a:ext cx="342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z= -2-3i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3 четверти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9:01:12Z</dcterms:created>
  <dc:creator>Наташа</dc:creator>
  <dc:description/>
  <dc:language>en-US</dc:language>
  <cp:lastModifiedBy>Наташа</cp:lastModifiedBy>
  <dcterms:modified xsi:type="dcterms:W3CDTF">2012-09-21T05:29:53Z</dcterms:modified>
  <cp:revision>9</cp:revision>
  <dc:subject/>
  <dc:title>Комплексные числа семинар</dc:title>
</cp:coreProperties>
</file>