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34.jpeg" ContentType="image/jpeg"/>
  <Override PartName="/ppt/media/image28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6A6-E05F-4FC6-97D0-835AE520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7BB-0112-4780-B5D7-A137AC9E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FDD-D6FF-4F31-88D6-E1B9F981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5E7-4C80-418D-9E3C-C4F967FF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705-8D93-4EA8-B076-71A1ECDF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635-DEB3-4134-88C7-9C8DE465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663-41F7-41FB-8C1D-671C8ED4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864-E1AA-4C32-B3B9-F17ABE9A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02D-75F5-4E6D-8232-D6E10F92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8CA-2EF1-40A4-A508-2E862B59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64E-212A-4374-BD1D-9DA4388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34C-1EE5-4951-A296-B62A0BAE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745-6984-48C1-82CB-4429088F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ker.com/search/home/1" TargetMode="External"/><Relationship Id="rId3" Type="http://schemas.openxmlformats.org/officeDocument/2006/relationships/hyperlink" Target="http://www.free-lance.ru/users/eMVe/viewproj.php?prjid=162957" TargetMode="External"/><Relationship Id="rId4" Type="http://schemas.openxmlformats.org/officeDocument/2006/relationships/hyperlink" Target="http://www.free-lance.ru/users/eMVe/viewproj.php?prjid=162957" TargetMode="External"/><Relationship Id="rId5" Type="http://schemas.openxmlformats.org/officeDocument/2006/relationships/hyperlink" Target="http://www.free-lance.ru/users/eMVe/viewproj.php?prjid=162957" TargetMode="External"/><Relationship Id="rId6" Type="http://schemas.openxmlformats.org/officeDocument/2006/relationships/hyperlink" Target="http://www.free-lance.ru/users/eMVe/viewproj.php?prjid=162957" TargetMode="External"/><Relationship Id="rId7" Type="http://schemas.openxmlformats.org/officeDocument/2006/relationships/hyperlink" Target="http://www.free-lance.ru/users/eMVe/viewproj.php?prjid=162957" TargetMode="External"/><Relationship Id="rId8" Type="http://schemas.openxmlformats.org/officeDocument/2006/relationships/hyperlink" Target="http://www.free-lance.ru/users/eMVe/viewproj.php?prjid=162957" TargetMode="External"/><Relationship Id="rId9" Type="http://schemas.openxmlformats.org/officeDocument/2006/relationships/hyperlink" Target="http://www.free-lance.ru/users/eMVe/viewproj.php?prjid=162957" TargetMode="External"/><Relationship Id="rId10" Type="http://schemas.openxmlformats.org/officeDocument/2006/relationships/hyperlink" Target="http://www.free-lance.ru/users/eMVe/viewproj.php?prjid=162957" TargetMode="External"/><Relationship Id="rId11" Type="http://schemas.openxmlformats.org/officeDocument/2006/relationships/hyperlink" Target="http://www.sunhome.ru/cards/b96" TargetMode="External"/><Relationship Id="rId12" Type="http://schemas.openxmlformats.org/officeDocument/2006/relationships/hyperlink" Target="http://www.sunhome.ru/cards/b96" TargetMode="External"/><Relationship Id="rId13" Type="http://schemas.openxmlformats.org/officeDocument/2006/relationships/hyperlink" Target="http://www.sunhome.ru/cards/b96" TargetMode="External"/><Relationship Id="rId14" Type="http://schemas.openxmlformats.org/officeDocument/2006/relationships/hyperlink" Target="http://www.sunhome.ru/cards/b96" TargetMode="External"/><Relationship Id="rId15" Type="http://schemas.openxmlformats.org/officeDocument/2006/relationships/hyperlink" Target="http://www.sunhome.ru/cards/b96" TargetMode="External"/><Relationship Id="rId16" Type="http://schemas.openxmlformats.org/officeDocument/2006/relationships/hyperlink" Target="http://www.sunhome.ru/cards/b96" TargetMode="External"/><Relationship Id="rId17" Type="http://schemas.openxmlformats.org/officeDocument/2006/relationships/hyperlink" Target="http://sprazdnikami.ru/den-stroitelya.html" TargetMode="External"/><Relationship Id="rId18" Type="http://schemas.openxmlformats.org/officeDocument/2006/relationships/hyperlink" Target="http://forum.cgm.ru/bezlimitnyi_holdem_mikro_bai-inov/168296-nl25sh-_k_chemu_privodit_float-_bb_vs_sb.html" TargetMode="External"/><Relationship Id="rId19" Type="http://schemas.openxmlformats.org/officeDocument/2006/relationships/hyperlink" Target="http://forum.cgm.ru/bezlimitnyi_holdem_mikro_bai-inov/168296-nl25sh-_k_chemu_privodit_float-_bb_vs_sb.html" TargetMode="External"/><Relationship Id="rId20" Type="http://schemas.openxmlformats.org/officeDocument/2006/relationships/hyperlink" Target="http://forum.cgm.ru/bezlimitnyi_holdem_mikro_bai-inov/168296-nl25sh-_k_chemu_privodit_float-_bb_vs_sb.html" TargetMode="External"/><Relationship Id="rId21" Type="http://schemas.openxmlformats.org/officeDocument/2006/relationships/hyperlink" Target="http://forum.cgm.ru/bezlimitnyi_holdem_mikro_bai-inov/168296-nl25sh-_k_chemu_privodit_float-_bb_vs_sb.html" TargetMode="External"/><Relationship Id="rId22" Type="http://schemas.openxmlformats.org/officeDocument/2006/relationships/hyperlink" Target="http://forum.cgm.ru/bezlimitnyi_holdem_mikro_bai-inov/168296-nl25sh-_k_chemu_privodit_float-_bb_vs_sb.html" TargetMode="External"/><Relationship Id="rId23" Type="http://schemas.openxmlformats.org/officeDocument/2006/relationships/hyperlink" Target="http://forum.cgm.ru/bezlimitnyi_holdem_mikro_bai-inov/168296-nl25sh-_k_chemu_privodit_float-_bb_vs_sb.html" TargetMode="External"/><Relationship Id="rId24" Type="http://schemas.openxmlformats.org/officeDocument/2006/relationships/hyperlink" Target="http://wish.moe-online.ru/calend/2009-8-9.html?module=4&amp;year=2010&amp;month=4" TargetMode="External"/><Relationship Id="rId25" Type="http://schemas.openxmlformats.org/officeDocument/2006/relationships/hyperlink" Target="http://www.design-warez.ru/clipart/vector/page/591/" TargetMode="External"/><Relationship Id="rId26" Type="http://schemas.openxmlformats.org/officeDocument/2006/relationships/hyperlink" Target="http://www.design-warez.ru/clipart/vector/page/591/" TargetMode="External"/><Relationship Id="rId27" Type="http://schemas.openxmlformats.org/officeDocument/2006/relationships/hyperlink" Target="http://www.design-warez.ru/clipart/vector/page/591/" TargetMode="External"/><Relationship Id="rId28" Type="http://schemas.openxmlformats.org/officeDocument/2006/relationships/hyperlink" Target="http://www.design-warez.ru/clipart/vector/page/591/" TargetMode="External"/><Relationship Id="rId29" Type="http://schemas.openxmlformats.org/officeDocument/2006/relationships/hyperlink" Target="http://www.design-warez.ru/clipart/vector/page/591/" TargetMode="External"/><Relationship Id="rId30" Type="http://schemas.openxmlformats.org/officeDocument/2006/relationships/hyperlink" Target="http://www.design-warez.ru/clipart/vector/page/591/" TargetMode="External"/><Relationship Id="rId31" Type="http://schemas.openxmlformats.org/officeDocument/2006/relationships/hyperlink" Target="http://www.design-warez.ru/clipart/vector/page/591/" TargetMode="External"/><Relationship Id="rId32" Type="http://schemas.openxmlformats.org/officeDocument/2006/relationships/hyperlink" Target="http://www.design-warez.ru/clipart/vector/page/591/" TargetMode="External"/><Relationship Id="rId33" Type="http://schemas.openxmlformats.org/officeDocument/2006/relationships/hyperlink" Target="http://www.design-warez.ru/clipart/vector/page/591/" TargetMode="External"/><Relationship Id="rId34" Type="http://schemas.openxmlformats.org/officeDocument/2006/relationships/hyperlink" Target="http://www.design-warez.ru/clipart/vector/page/591/" TargetMode="External"/><Relationship Id="rId35" Type="http://schemas.openxmlformats.org/officeDocument/2006/relationships/hyperlink" Target="http://www.lenagold.ru/fon/clipart/d/dom7.html" TargetMode="External"/><Relationship Id="rId36" Type="http://schemas.openxmlformats.org/officeDocument/2006/relationships/hyperlink" Target="http://www.auetika.ru/all_cat/" TargetMode="External"/><Relationship Id="rId37" Type="http://schemas.openxmlformats.org/officeDocument/2006/relationships/hyperlink" Target="http://www.npp.ptechnology.ru/rubr/rub0.html" TargetMode="External"/><Relationship Id="rId38" Type="http://schemas.openxmlformats.org/officeDocument/2006/relationships/hyperlink" Target="http://www.feechka.ru/dir_technika.htm" TargetMode="External"/><Relationship Id="rId39" Type="http://schemas.openxmlformats.org/officeDocument/2006/relationships/hyperlink" Target="http://www.vectora.ru/portfolio/illustrations/construction" TargetMode="External"/><Relationship Id="rId40" Type="http://schemas.openxmlformats.org/officeDocument/2006/relationships/hyperlink" Target="http://www.vectora.ru/portfolio/illustrations/construction" TargetMode="External"/><Relationship Id="rId41" Type="http://schemas.openxmlformats.org/officeDocument/2006/relationships/hyperlink" Target="http://www.vectora.ru/portfolio/illustrations/construction" TargetMode="External"/><Relationship Id="rId42" Type="http://schemas.openxmlformats.org/officeDocument/2006/relationships/hyperlink" Target="http://www.vectora.ru/portfolio/illustrations/construction" TargetMode="External"/><Relationship Id="rId43" Type="http://schemas.openxmlformats.org/officeDocument/2006/relationships/hyperlink" Target="http://www.vectora.ru/portfolio/illustrations/construction" TargetMode="External"/><Relationship Id="rId44" Type="http://schemas.openxmlformats.org/officeDocument/2006/relationships/hyperlink" Target="http://www.vectora.ru/portfolio/illustrations/construction" TargetMode="External"/><Relationship Id="rId45" Type="http://schemas.openxmlformats.org/officeDocument/2006/relationships/hyperlink" Target="http://www.vectora.ru/portfolio/illustrations/construction" TargetMode="External"/><Relationship Id="rId46" Type="http://schemas.openxmlformats.org/officeDocument/2006/relationships/hyperlink" Target="http://www.vectora.ru/portfolio/illustrations/construction" TargetMode="External"/><Relationship Id="rId47" Type="http://schemas.openxmlformats.org/officeDocument/2006/relationships/hyperlink" Target="http://www.vectora.ru/portfolio/illustrations/construction" TargetMode="External"/><Relationship Id="rId48" Type="http://schemas.openxmlformats.org/officeDocument/2006/relationships/hyperlink" Target="http://www.hermes-gifts.ru/holidays/WinnerDay%20/" TargetMode="External"/><Relationship Id="rId49" Type="http://schemas.openxmlformats.org/officeDocument/2006/relationships/hyperlink" Target="http://www.hermes-gifts.ru/holidays/WinnerDay%20/" TargetMode="External"/><Relationship Id="rId50" Type="http://schemas.openxmlformats.org/officeDocument/2006/relationships/hyperlink" Target="http://www.hermes-gifts.ru/holidays/WinnerDay%20/" TargetMode="External"/><Relationship Id="rId51" Type="http://schemas.openxmlformats.org/officeDocument/2006/relationships/hyperlink" Target="http://www.hermes-gifts.ru/holidays/WinnerDay%20/" TargetMode="External"/><Relationship Id="rId52" Type="http://schemas.openxmlformats.org/officeDocument/2006/relationships/hyperlink" Target="http://www.hermes-gifts.ru/holidays/WinnerDay%20/" TargetMode="External"/><Relationship Id="rId53" Type="http://schemas.openxmlformats.org/officeDocument/2006/relationships/hyperlink" Target="http://www.hermes-gifts.ru/holidays/WinnerDay%20/" TargetMode="External"/><Relationship Id="rId54" Type="http://schemas.openxmlformats.org/officeDocument/2006/relationships/hyperlink" Target="http://www.hermes-gifts.ru/holidays/WinnerDay%20/" TargetMode="External"/><Relationship Id="rId55" Type="http://schemas.openxmlformats.org/officeDocument/2006/relationships/hyperlink" Target="http://www.hermes-gifts.ru/holidays/WinnerDay%20/" TargetMode="External"/><Relationship Id="rId5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krbiznes.com/vizit.php?i=35652" TargetMode="External"/><Relationship Id="rId3" Type="http://schemas.openxmlformats.org/officeDocument/2006/relationships/hyperlink" Target="http://www.ukrbiznes.com/vizit.php?i=35652" TargetMode="External"/><Relationship Id="rId4" Type="http://schemas.openxmlformats.org/officeDocument/2006/relationships/hyperlink" Target="http://www.ukrbiznes.com/vizit.php?i=35652" TargetMode="External"/><Relationship Id="rId5" Type="http://schemas.openxmlformats.org/officeDocument/2006/relationships/hyperlink" Target="http://www.ukrbiznes.com/vizit.php?i=35652" TargetMode="External"/><Relationship Id="rId6" Type="http://schemas.openxmlformats.org/officeDocument/2006/relationships/hyperlink" Target="http://snab-td.ru/index.php?categoryID=193" TargetMode="External"/><Relationship Id="rId7" Type="http://schemas.openxmlformats.org/officeDocument/2006/relationships/hyperlink" Target="http://snab-td.ru/index.php?categoryID=193" TargetMode="External"/><Relationship Id="rId8" Type="http://schemas.openxmlformats.org/officeDocument/2006/relationships/hyperlink" Target="http://snab-td.ru/index.php?categoryID=193" TargetMode="External"/><Relationship Id="rId9" Type="http://schemas.openxmlformats.org/officeDocument/2006/relationships/hyperlink" Target="http://snab-td.ru/index.php?categoryID=193" TargetMode="External"/><Relationship Id="rId10" Type="http://schemas.openxmlformats.org/officeDocument/2006/relationships/hyperlink" Target="http://www.zor.uz/offer/12103/" TargetMode="External"/><Relationship Id="rId11" Type="http://schemas.openxmlformats.org/officeDocument/2006/relationships/hyperlink" Target="http://www.zor.uz/offer/12103/" TargetMode="External"/><Relationship Id="rId12" Type="http://schemas.openxmlformats.org/officeDocument/2006/relationships/hyperlink" Target="http://www.zor.uz/offer/12103/" TargetMode="External"/><Relationship Id="rId13" Type="http://schemas.openxmlformats.org/officeDocument/2006/relationships/hyperlink" Target="http://www.zor.uz/offer/12103/" TargetMode="External"/><Relationship Id="rId14" Type="http://schemas.openxmlformats.org/officeDocument/2006/relationships/hyperlink" Target="http://www.zor.uz/offer/12103/" TargetMode="External"/><Relationship Id="rId15" Type="http://schemas.openxmlformats.org/officeDocument/2006/relationships/hyperlink" Target="http://www.zor.uz/offer/12103/" TargetMode="External"/><Relationship Id="rId16" Type="http://schemas.openxmlformats.org/officeDocument/2006/relationships/hyperlink" Target="http://www.sgi-smesi.ru/asbestocementnye-izdeliya.html" TargetMode="External"/><Relationship Id="rId17" Type="http://schemas.openxmlformats.org/officeDocument/2006/relationships/hyperlink" Target="http://www.sgi-smesi.ru/asbestocementnye-izdeliya.html" TargetMode="External"/><Relationship Id="rId18" Type="http://schemas.openxmlformats.org/officeDocument/2006/relationships/hyperlink" Target="http://www.sgi-smesi.ru/asbestocementnye-izdeliya.html" TargetMode="External"/><Relationship Id="rId19" Type="http://schemas.openxmlformats.org/officeDocument/2006/relationships/hyperlink" Target="http://www.sgi-smesi.ru/asbestocementnye-izdeliya.html" TargetMode="External"/><Relationship Id="rId20" Type="http://schemas.openxmlformats.org/officeDocument/2006/relationships/hyperlink" Target="http://www.sgi-smesi.ru/asbestocementnye-izdeliya.html" TargetMode="External"/><Relationship Id="rId21" Type="http://schemas.openxmlformats.org/officeDocument/2006/relationships/hyperlink" Target="http://www.mosautopro.ru/scardo5.html" TargetMode="External"/><Relationship Id="rId22" Type="http://schemas.openxmlformats.org/officeDocument/2006/relationships/hyperlink" Target="http://www.mosautopro.ru/scardo5.html" TargetMode="External"/><Relationship Id="rId23" Type="http://schemas.openxmlformats.org/officeDocument/2006/relationships/hyperlink" Target="http://www.mosautopro.ru/scardo5.html" TargetMode="External"/><Relationship Id="rId24" Type="http://schemas.openxmlformats.org/officeDocument/2006/relationships/hyperlink" Target="http://www.mosautopro.ru/scardo5.html" TargetMode="External"/><Relationship Id="rId25" Type="http://schemas.openxmlformats.org/officeDocument/2006/relationships/hyperlink" Target="http://all.vsemru.ru/nedvizhimost/zagorodnaya_nedvizhimost/prodazha/items/?page=5&amp;dosearch=1&amp;clearform=1" TargetMode="External"/><Relationship Id="rId26" Type="http://schemas.openxmlformats.org/officeDocument/2006/relationships/hyperlink" Target="http://all.vsemru.ru/nedvizhimost/zagorodnaya_nedvizhimost/prodazha/items/?page=5&amp;dosearch=1&amp;clearform=1" TargetMode="External"/><Relationship Id="rId27" Type="http://schemas.openxmlformats.org/officeDocument/2006/relationships/hyperlink" Target="http://all.vsemru.ru/nedvizhimost/zagorodnaya_nedvizhimost/prodazha/items/?page=5&amp;dosearch=1&amp;clearform=1" TargetMode="External"/><Relationship Id="rId28" Type="http://schemas.openxmlformats.org/officeDocument/2006/relationships/hyperlink" Target="http://all.vsemru.ru/nedvizhimost/zagorodnaya_nedvizhimost/prodazha/items/?page=5&amp;dosearch=1&amp;clearform=1" TargetMode="External"/><Relationship Id="rId29" Type="http://schemas.openxmlformats.org/officeDocument/2006/relationships/hyperlink" Target="http://all.vsemru.ru/nedvizhimost/zagorodnaya_nedvizhimost/prodazha/items/?page=5&amp;dosearch=1&amp;clearform=1" TargetMode="External"/><Relationship Id="rId30" Type="http://schemas.openxmlformats.org/officeDocument/2006/relationships/hyperlink" Target="http://all.vsemru.ru/nedvizhimost/zagorodnaya_nedvizhimost/prodazha/items/?page=5&amp;dosearch=1&amp;clearform=1" TargetMode="External"/><Relationship Id="rId31" Type="http://schemas.openxmlformats.org/officeDocument/2006/relationships/hyperlink" Target="http://all.vsemru.ru/nedvizhimost/zagorodnaya_nedvizhimost/prodazha/items/?page=5&amp;dosearch=1&amp;clearform=1" TargetMode="External"/><Relationship Id="rId32" Type="http://schemas.openxmlformats.org/officeDocument/2006/relationships/hyperlink" Target="http://all.vsemru.ru/nedvizhimost/zagorodnaya_nedvizhimost/prodazha/items/?page=5&amp;dosearch=1&amp;clearform=1" TargetMode="External"/><Relationship Id="rId33" Type="http://schemas.openxmlformats.org/officeDocument/2006/relationships/hyperlink" Target="http://all.vsemru.ru/nedvizhimost/zagorodnaya_nedvizhimost/prodazha/items/?page=5&amp;dosearch=1&amp;clearform=1" TargetMode="External"/><Relationship Id="rId34" Type="http://schemas.openxmlformats.org/officeDocument/2006/relationships/hyperlink" Target="http://all.vsemru.ru/nedvizhimost/zagorodnaya_nedvizhimost/prodazha/items/?page=5&amp;dosearch=1&amp;clearform=1" TargetMode="External"/><Relationship Id="rId35" Type="http://schemas.openxmlformats.org/officeDocument/2006/relationships/hyperlink" Target="http://all.vsemru.ru/nedvizhimost/zagorodnaya_nedvizhimost/prodazha/items/?page=5&amp;dosearch=1&amp;clearform=1" TargetMode="External"/><Relationship Id="rId36" Type="http://schemas.openxmlformats.org/officeDocument/2006/relationships/hyperlink" Target="http://all.vsemru.ru/nedvizhimost/zagorodnaya_nedvizhimost/prodazha/items/?page=5&amp;dosearch=1&amp;clearform=1" TargetMode="External"/><Relationship Id="rId37" Type="http://schemas.openxmlformats.org/officeDocument/2006/relationships/hyperlink" Target="http://bashcenter.ru:8080/board/stroitelstvo/30" TargetMode="External"/><Relationship Id="rId38" Type="http://schemas.openxmlformats.org/officeDocument/2006/relationships/hyperlink" Target="http://bashcenter.ru:8080/board/stroitelstvo/30" TargetMode="External"/><Relationship Id="rId39" Type="http://schemas.openxmlformats.org/officeDocument/2006/relationships/hyperlink" Target="http://bashcenter.ru:8080/board/stroitelstvo/30" TargetMode="External"/><Relationship Id="rId40" Type="http://schemas.openxmlformats.org/officeDocument/2006/relationships/hyperlink" Target="http://bashcenter.ru:8080/board/stroitelstvo/30" TargetMode="External"/><Relationship Id="rId41" Type="http://schemas.openxmlformats.org/officeDocument/2006/relationships/hyperlink" Target="http://bashcenter.ru:8080/board/stroitelstvo/30" TargetMode="External"/><Relationship Id="rId42" Type="http://schemas.openxmlformats.org/officeDocument/2006/relationships/hyperlink" Target="http://bashcenter.ru:8080/board/stroitelstvo/30" TargetMode="External"/><Relationship Id="rId43" Type="http://schemas.openxmlformats.org/officeDocument/2006/relationships/hyperlink" Target="http://www.lestehservis.ru/index.php?productID=701" TargetMode="External"/><Relationship Id="rId44" Type="http://schemas.openxmlformats.org/officeDocument/2006/relationships/hyperlink" Target="http://www.sunhome.ru/tags/&#1088;&#1086;&#1089;&#1089;&#1080;&#1080;/0/6" TargetMode="External"/><Relationship Id="rId45" Type="http://schemas.openxmlformats.org/officeDocument/2006/relationships/hyperlink" Target="http://www.sunhome.ru/tags/&#1088;&#1086;&#1089;&#1089;&#1080;&#1080;/0/6" TargetMode="External"/><Relationship Id="rId46" Type="http://schemas.openxmlformats.org/officeDocument/2006/relationships/hyperlink" Target="http://www.sunhome.ru/tags/&#1088;&#1086;&#1089;&#1089;&#1080;&#1080;/0/6" TargetMode="External"/><Relationship Id="rId47" Type="http://schemas.openxmlformats.org/officeDocument/2006/relationships/hyperlink" Target="http://www.sunhome.ru/tags/&#1088;&#1086;&#1089;&#1089;&#1080;&#1080;/0/6" TargetMode="External"/><Relationship Id="rId48" Type="http://schemas.openxmlformats.org/officeDocument/2006/relationships/hyperlink" Target="http://www.sunhome.ru/tags/&#1088;&#1086;&#1089;&#1089;&#1080;&#1080;/0/6" TargetMode="External"/><Relationship Id="rId49" Type="http://schemas.openxmlformats.org/officeDocument/2006/relationships/hyperlink" Target="http://www.sunhome.ru/tags/&#1088;&#1086;&#1089;&#1089;&#1080;&#1080;/0/6" TargetMode="External"/><Relationship Id="rId50" Type="http://schemas.openxmlformats.org/officeDocument/2006/relationships/hyperlink" Target="http://www.sunhome.ru/tags/&#1088;&#1086;&#1089;&#1089;&#1080;&#1080;/0/6" TargetMode="External"/><Relationship Id="rId51" Type="http://schemas.openxmlformats.org/officeDocument/2006/relationships/hyperlink" Target="http://www.sunhome.ru/tags/&#1088;&#1086;&#1089;&#1089;&#1080;&#1080;/0/6" TargetMode="External"/><Relationship Id="rId52" Type="http://schemas.openxmlformats.org/officeDocument/2006/relationships/hyperlink" Target="http://ill-777.narod.ru/777magazine.html" TargetMode="External"/><Relationship Id="rId53" Type="http://schemas.openxmlformats.org/officeDocument/2006/relationships/hyperlink" Target="http://ill-777.narod.ru/777magazine.html" TargetMode="External"/><Relationship Id="rId54" Type="http://schemas.openxmlformats.org/officeDocument/2006/relationships/hyperlink" Target="http://www.goodclipart.ru/index.php?cat=16&amp;page=13" TargetMode="External"/><Relationship Id="rId55" Type="http://schemas.openxmlformats.org/officeDocument/2006/relationships/hyperlink" Target="http://www.goodclipart.ru/index.php?cat=16&amp;page=13" TargetMode="External"/><Relationship Id="rId56" Type="http://schemas.openxmlformats.org/officeDocument/2006/relationships/hyperlink" Target="http://www.goodclipart.ru/index.php?cat=16&amp;page=13" TargetMode="External"/><Relationship Id="rId57" Type="http://schemas.openxmlformats.org/officeDocument/2006/relationships/hyperlink" Target="http://www.goodclipart.ru/index.php?cat=16&amp;page=13" TargetMode="External"/><Relationship Id="rId58" Type="http://schemas.openxmlformats.org/officeDocument/2006/relationships/hyperlink" Target="http://myboard.com.ru/mes/1201112537.php" TargetMode="External"/><Relationship Id="rId59" Type="http://schemas.openxmlformats.org/officeDocument/2006/relationships/hyperlink" Target="http://myboard.com.ru/mes/1201112537.php" TargetMode="External"/><Relationship Id="rId60" Type="http://schemas.openxmlformats.org/officeDocument/2006/relationships/hyperlink" Target="http://myboard.com.ru/mes/1201112537.php" TargetMode="External"/><Relationship Id="rId61" Type="http://schemas.openxmlformats.org/officeDocument/2006/relationships/hyperlink" Target="http://myboard.com.ru/mes/1201112537.php" TargetMode="External"/><Relationship Id="rId62" Type="http://schemas.openxmlformats.org/officeDocument/2006/relationships/hyperlink" Target="http://myboard.com.ru/mes/1201112537.php" TargetMode="External"/><Relationship Id="rId63" Type="http://schemas.openxmlformats.org/officeDocument/2006/relationships/hyperlink" Target="http://myboard.com.ru/mes/1201112537.php" TargetMode="External"/><Relationship Id="rId64" Type="http://schemas.openxmlformats.org/officeDocument/2006/relationships/hyperlink" Target="http://www.ati.com.ua/89431/bb" TargetMode="External"/><Relationship Id="rId65" Type="http://schemas.openxmlformats.org/officeDocument/2006/relationships/hyperlink" Target="http://www.ati.com.ua/89431/bb" TargetMode="External"/><Relationship Id="rId66" Type="http://schemas.openxmlformats.org/officeDocument/2006/relationships/hyperlink" Target="http://www.ati.com.ua/89431/bb" TargetMode="External"/><Relationship Id="rId67" Type="http://schemas.openxmlformats.org/officeDocument/2006/relationships/hyperlink" Target="http://www.ati.com.ua/89431/bb" TargetMode="External"/><Relationship Id="rId68" Type="http://schemas.openxmlformats.org/officeDocument/2006/relationships/hyperlink" Target="http://www.ati.com.ua/89431/bb" TargetMode="External"/><Relationship Id="rId6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image" Target="../media/image17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19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Как построить новый д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20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2563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Кто работает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407880" y="1197000"/>
            <a:ext cx="8104320" cy="5334480"/>
            <a:chOff x="407880" y="1197000"/>
            <a:chExt cx="8104320" cy="533448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630360" y="1197000"/>
              <a:ext cx="215892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7880" y="2921040"/>
              <a:ext cx="229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Каменщ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3578400" y="1197000"/>
              <a:ext cx="158904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632760" y="3357720"/>
              <a:ext cx="148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Маля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221520" y="1341360"/>
              <a:ext cx="205272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014880" y="3357720"/>
              <a:ext cx="24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Крановщ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6"/>
            <a:stretch/>
          </p:blipFill>
          <p:spPr>
            <a:xfrm>
              <a:off x="703440" y="3645000"/>
              <a:ext cx="195876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51880" y="5805360"/>
              <a:ext cx="199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Сварщ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42840" y="5950080"/>
              <a:ext cx="188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Плотн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6462720" y="4005360"/>
              <a:ext cx="16034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076920" y="5877000"/>
              <a:ext cx="278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Comic Sans MS"/>
                </a:rPr>
                <a:t>Монта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8"/>
            <a:stretch/>
          </p:blipFill>
          <p:spPr>
            <a:xfrm>
              <a:off x="3078360" y="3933720"/>
              <a:ext cx="2616120" cy="186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3684600"/>
            <a:ext cx="878544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чень важно, чтобы все строители рабо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аженно и дружно. Только тогда дом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роиться быстро и качественно. Это значи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офёр должен вовремя подвезти кирпич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мент, крановщик сразу всё поднимет наверх,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менщики уложат кирпич за кирпич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195640" y="333360"/>
            <a:ext cx="4922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58920" y="1600200"/>
            <a:ext cx="58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Прочитайте текст в учебнике на стр.112-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О каких машинах вы прочит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Какую работу выполняют разные маш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2073240" cy="2736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025880" cy="2521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450828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временный дом не постро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з помощников – строительных маш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кскаваторы, подъёмные краны, самосвал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тономешалки – все они работают на строй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9640" y="1641600"/>
            <a:ext cx="4267440" cy="2867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39160" y="617400"/>
            <a:ext cx="21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Самосв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5840" y="620640"/>
            <a:ext cx="34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Бетономеш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Землеройные маш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611280" y="1628640"/>
            <a:ext cx="7924680" cy="3122640"/>
            <a:chOff x="611280" y="1628640"/>
            <a:chExt cx="7924680" cy="312264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611280" y="1844640"/>
              <a:ext cx="374976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4643280" y="1628640"/>
              <a:ext cx="3892680" cy="31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771840" y="5157720"/>
            <a:ext cx="22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Бульдоз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22760" y="5157720"/>
            <a:ext cx="24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Экскав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Машины-грузч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69120" y="594504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Авто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360" y="1268280"/>
            <a:ext cx="8135640" cy="5185080"/>
            <a:chOff x="468360" y="1268280"/>
            <a:chExt cx="8135640" cy="51850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 flipH="1">
              <a:off x="5076360" y="1268280"/>
              <a:ext cx="3527640" cy="273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 flipH="1">
              <a:off x="468360" y="1413000"/>
              <a:ext cx="21542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2529000" y="4076640"/>
              <a:ext cx="3914640" cy="22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5538600" y="378936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Автопогруз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54960" y="227664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Башенный 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        </a:t>
            </a: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Строительство – одна из             </a:t>
            </a:r>
            <a:br>
              <a:rPr sz="4000"/>
            </a:b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              частей эконом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оители возводят не только жилые дома, но и мосты, заводы, фермы, больницы. Они же прокладывают и ремонтируют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611280" y="1628640"/>
            <a:ext cx="7872480" cy="2772000"/>
            <a:chOff x="611280" y="1628640"/>
            <a:chExt cx="7872480" cy="277200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611280" y="1628640"/>
              <a:ext cx="3673440" cy="2756160"/>
            </a:xfrm>
            <a:prstGeom prst="rect">
              <a:avLst/>
            </a:prstGeom>
            <a:ln w="57240">
              <a:solidFill>
                <a:srgbClr val="008000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4788000" y="1628640"/>
              <a:ext cx="3695760" cy="2772000"/>
            </a:xfrm>
            <a:prstGeom prst="rect">
              <a:avLst/>
            </a:prstGeom>
            <a:ln w="57240">
              <a:solidFill>
                <a:srgbClr val="3333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lker.com/search/home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-lanc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ser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MV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viewproj.php?prjid=1629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sunhom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ard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b9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prazdnikami.ru/den-stroitel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forum.cg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bezlimitnyi_holdem_mikro_bai-inov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168296-nl25sh-_k_chemu_privodit_float-_bb_vs_sb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ish.moe-online.ru/calend/2009-8-9.html?module=4&amp;year=2010&amp;month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design-warez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lipar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vector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ag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59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www.lenagold.ru/fon/clipart/d/dom7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://www.auetika.ru/all_ca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://www.npp.ptechnology.ru/rubr/rub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://www.feechka.ru/dir_technik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www.vector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portfoli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illustration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www.hermes-gifts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oliday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WinnerDa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 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llday.ru/engine/print.php?newsid=42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dp.ric.ua/index.php?cstart=65&amp;year=2010&amp;month=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ukrbiznes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vizit.php?i=356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nab-td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index.php?categoryID=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zor.u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fe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1210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sgi-smes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asbestocementnye-izdeliy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mosautopro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scardo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all.vsemru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nedvizhimos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zagorodnaya_nedvizhimos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rodazh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item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?page=5&amp;dosearch=1&amp;clearform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bashcenter.ru:8080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boar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stroitelstv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http://www.lestehservis.ru/index.php?productID=7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www.sunhom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tag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россии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0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://ill-777.narod.ru/777magazi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www.goodclipar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index.php?cat=16&amp;page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myboard.co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m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12011125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www.ati.com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89431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apa-vlad.narod.ru/photo/kosmos-gorod-transport/Spetstekhnika-2.files/Dorozhnye-mashi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ulldozer.by/?option=com_content&amp;id=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rendaspetstehniki.ru/blog/2010/09/17/arenda-ekskavatora-ekskavator-jcb-js-160-w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free-lance.ru/users/fotkarik/viewproj.php?prjid=763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.nsp.su/auto/?mark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801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4000" spc="-1" strike="noStrike">
                <a:solidFill>
                  <a:srgbClr val="ff6801"/>
                </a:solidFill>
                <a:latin typeface="Comic Sans MS"/>
              </a:rPr>
              <a:t>Человек всегда строил 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92360" y="1212840"/>
            <a:ext cx="6048360" cy="200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5013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начала люди устраивали жили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ещерах. Потом из шкур зверей дел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-пал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692360" y="3429000"/>
            <a:ext cx="609588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7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8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7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80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3189240" cy="360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4024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 стоили из дерева, камня и кирпи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95280" y="1413000"/>
            <a:ext cx="3024360" cy="26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227640" y="765000"/>
            <a:ext cx="24195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Прочитай старинную послов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1657440" cy="180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94560" y="2492280"/>
            <a:ext cx="347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строить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8800" y="4149720"/>
            <a:ext cx="8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0640" y="4076640"/>
            <a:ext cx="29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 голову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8720" y="558972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де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500280"/>
            <a:ext cx="1728720" cy="172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94240" y="260280"/>
            <a:ext cx="762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Как вы думаете, почему лю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сложили такую пословиц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Что надо для </a:t>
            </a:r>
            <a:br>
              <a:rPr sz="4000"/>
            </a:br>
            <a:r>
              <a:rPr b="0" lang="en-US" sz="4000" spc="-1" strike="noStrike">
                <a:solidFill>
                  <a:srgbClr val="ff6801"/>
                </a:solidFill>
                <a:latin typeface="Comic Sans MS"/>
              </a:rPr>
              <a:t>строительства до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5038920" cy="4602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9640" y="1700280"/>
            <a:ext cx="3225960" cy="194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8760" y="3645000"/>
            <a:ext cx="30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о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52200" y="3645000"/>
            <a:ext cx="30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о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1960" y="595008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34120" y="1484280"/>
            <a:ext cx="3054240" cy="208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522600" y="2421000"/>
            <a:ext cx="1913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0920" y="178272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Рассмотрит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стр. 110-111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Обсудите, какие материалы нужны для строительства городского дома, а какие – для строительства сельского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58720" y="4148280"/>
            <a:ext cx="1636920" cy="21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56360" y="333360"/>
            <a:ext cx="25909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6105600" cy="4559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303280" cy="1727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414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801"/>
                </a:solidFill>
                <a:latin typeface="Comic Sans MS"/>
              </a:rPr>
              <a:t>Какие материалы нужны для строительства сельского до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564000" y="2997360"/>
            <a:ext cx="1936800" cy="14461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492360" y="549360"/>
            <a:ext cx="2168640" cy="1120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11280" y="3867120"/>
            <a:ext cx="1623960" cy="143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6516720" y="1041480"/>
            <a:ext cx="2112840" cy="151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3203640" y="5229360"/>
            <a:ext cx="2544840" cy="102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6659640" y="3716280"/>
            <a:ext cx="1793880" cy="1589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60880" y="27082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рё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07160" y="184464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24960" y="26226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иф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760" y="55022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рпи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79000" y="602136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5760" y="537372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124000" y="2565000"/>
            <a:ext cx="144000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95280" y="3716280"/>
            <a:ext cx="1368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443700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00720" y="2204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508720" y="2421000"/>
            <a:ext cx="136836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716280"/>
            <a:ext cx="115092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801"/>
                </a:solidFill>
                <a:latin typeface="Comic Sans MS"/>
              </a:rPr>
              <a:t>          </a:t>
            </a:r>
            <a:r>
              <a:rPr b="0" lang="en-US" sz="3400" spc="-1" strike="noStrike">
                <a:solidFill>
                  <a:srgbClr val="ff6801"/>
                </a:solidFill>
                <a:latin typeface="Comic Sans MS"/>
              </a:rPr>
              <a:t>Какие материалы нужны для      </a:t>
            </a:r>
            <a:br>
              <a:rPr sz="3400"/>
            </a:br>
            <a:r>
              <a:rPr b="0" lang="en-US" sz="3400" spc="-1" strike="noStrike">
                <a:solidFill>
                  <a:srgbClr val="ff6801"/>
                </a:solidFill>
                <a:latin typeface="Comic Sans MS"/>
              </a:rPr>
              <a:t>       строительства городского  дома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4891320" cy="4890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564000" y="476280"/>
            <a:ext cx="2049480" cy="204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11280" y="3867120"/>
            <a:ext cx="1623960" cy="143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0760" y="55022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рпи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95280" y="2205000"/>
            <a:ext cx="1655640" cy="25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203640" y="5084640"/>
            <a:ext cx="2544840" cy="1022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79000" y="602136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349360"/>
            <a:ext cx="0" cy="273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659640" y="4145040"/>
            <a:ext cx="1793880" cy="158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35760" y="557388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205000"/>
            <a:ext cx="1582920" cy="23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468360" y="1628640"/>
            <a:ext cx="2168640" cy="1121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440" y="292428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7280" y="1413000"/>
            <a:ext cx="11527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6227640" y="1268280"/>
            <a:ext cx="2444760" cy="18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00680" y="3068640"/>
            <a:ext cx="19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т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1413000"/>
            <a:ext cx="93492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68316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6801"/>
                </a:solidFill>
                <a:latin typeface="Comic Sans MS"/>
              </a:rPr>
              <a:t>Кто работает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079640" cy="79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1647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9:20:19Z</dcterms:created>
  <dc:creator>мама</dc:creator>
  <dc:description/>
  <dc:language>en-US</dc:language>
  <cp:lastModifiedBy>мама</cp:lastModifiedBy>
  <dcterms:modified xsi:type="dcterms:W3CDTF">2010-11-22T18:08:30Z</dcterms:modified>
  <cp:revision>10</cp:revision>
  <dc:subject/>
  <dc:title>Как построить новый дом?</dc:title>
</cp:coreProperties>
</file>