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11.jpeg" ContentType="image/jpeg"/>
  <Override PartName="/ppt/media/image34.jpeg" ContentType="image/jpeg"/>
  <Override PartName="/ppt/media/image28.jpeg" ContentType="image/jpeg"/>
  <Override PartName="/ppt/media/image20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5E15-1F7F-43BC-B721-7FD413DE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A1C4-361F-47FC-BB11-7653E4DA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EDF-259B-4E6A-9FDA-3476E485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42D9-385B-4CD7-9B03-87CF4FE9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CDC-E324-4AA1-8F55-0222D2D4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8C4-E26F-402A-B975-0D123B5E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D40-CF23-48F2-9B5D-06B17457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7B53-D672-4319-9C28-0FEA2C7A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7BC-A12C-45F5-9B38-E0F2F8FD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5E64-092B-4E0F-8CD7-4A5E0C11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DACB-939B-42F9-99CF-3715E2F3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67ED-93AB-487D-94F2-C40E5001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A609-542F-4182-9C2A-41F04E6C6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ker.com/search/home/1" TargetMode="External"/><Relationship Id="rId3" Type="http://schemas.openxmlformats.org/officeDocument/2006/relationships/hyperlink" Target="http://www.free-lance.ru/users/eMVe/viewproj.php?prjid=162957" TargetMode="External"/><Relationship Id="rId4" Type="http://schemas.openxmlformats.org/officeDocument/2006/relationships/hyperlink" Target="http://www.free-lance.ru/users/eMVe/viewproj.php?prjid=162957" TargetMode="External"/><Relationship Id="rId5" Type="http://schemas.openxmlformats.org/officeDocument/2006/relationships/hyperlink" Target="http://www.free-lance.ru/users/eMVe/viewproj.php?prjid=162957" TargetMode="External"/><Relationship Id="rId6" Type="http://schemas.openxmlformats.org/officeDocument/2006/relationships/hyperlink" Target="http://www.free-lance.ru/users/eMVe/viewproj.php?prjid=162957" TargetMode="External"/><Relationship Id="rId7" Type="http://schemas.openxmlformats.org/officeDocument/2006/relationships/hyperlink" Target="http://www.free-lance.ru/users/eMVe/viewproj.php?prjid=162957" TargetMode="External"/><Relationship Id="rId8" Type="http://schemas.openxmlformats.org/officeDocument/2006/relationships/hyperlink" Target="http://www.free-lance.ru/users/eMVe/viewproj.php?prjid=162957" TargetMode="External"/><Relationship Id="rId9" Type="http://schemas.openxmlformats.org/officeDocument/2006/relationships/hyperlink" Target="http://www.free-lance.ru/users/eMVe/viewproj.php?prjid=162957" TargetMode="External"/><Relationship Id="rId10" Type="http://schemas.openxmlformats.org/officeDocument/2006/relationships/hyperlink" Target="http://www.free-lance.ru/users/eMVe/viewproj.php?prjid=162957" TargetMode="External"/><Relationship Id="rId11" Type="http://schemas.openxmlformats.org/officeDocument/2006/relationships/hyperlink" Target="http://www.sunhome.ru/cards/b96" TargetMode="External"/><Relationship Id="rId12" Type="http://schemas.openxmlformats.org/officeDocument/2006/relationships/hyperlink" Target="http://www.sunhome.ru/cards/b96" TargetMode="External"/><Relationship Id="rId13" Type="http://schemas.openxmlformats.org/officeDocument/2006/relationships/hyperlink" Target="http://www.sunhome.ru/cards/b96" TargetMode="External"/><Relationship Id="rId14" Type="http://schemas.openxmlformats.org/officeDocument/2006/relationships/hyperlink" Target="http://www.sunhome.ru/cards/b96" TargetMode="External"/><Relationship Id="rId15" Type="http://schemas.openxmlformats.org/officeDocument/2006/relationships/hyperlink" Target="http://www.sunhome.ru/cards/b96" TargetMode="External"/><Relationship Id="rId16" Type="http://schemas.openxmlformats.org/officeDocument/2006/relationships/hyperlink" Target="http://www.sunhome.ru/cards/b96" TargetMode="External"/><Relationship Id="rId17" Type="http://schemas.openxmlformats.org/officeDocument/2006/relationships/hyperlink" Target="http://sprazdnikami.ru/den-stroitelya.html" TargetMode="External"/><Relationship Id="rId18" Type="http://schemas.openxmlformats.org/officeDocument/2006/relationships/hyperlink" Target="http://forum.cgm.ru/bezlimitnyi_holdem_mikro_bai-inov/168296-nl25sh-_k_chemu_privodit_float-_bb_vs_sb.html" TargetMode="External"/><Relationship Id="rId19" Type="http://schemas.openxmlformats.org/officeDocument/2006/relationships/hyperlink" Target="http://forum.cgm.ru/bezlimitnyi_holdem_mikro_bai-inov/168296-nl25sh-_k_chemu_privodit_float-_bb_vs_sb.html" TargetMode="External"/><Relationship Id="rId20" Type="http://schemas.openxmlformats.org/officeDocument/2006/relationships/hyperlink" Target="http://forum.cgm.ru/bezlimitnyi_holdem_mikro_bai-inov/168296-nl25sh-_k_chemu_privodit_float-_bb_vs_sb.html" TargetMode="External"/><Relationship Id="rId21" Type="http://schemas.openxmlformats.org/officeDocument/2006/relationships/hyperlink" Target="http://forum.cgm.ru/bezlimitnyi_holdem_mikro_bai-inov/168296-nl25sh-_k_chemu_privodit_float-_bb_vs_sb.html" TargetMode="External"/><Relationship Id="rId22" Type="http://schemas.openxmlformats.org/officeDocument/2006/relationships/hyperlink" Target="http://forum.cgm.ru/bezlimitnyi_holdem_mikro_bai-inov/168296-nl25sh-_k_chemu_privodit_float-_bb_vs_sb.html" TargetMode="External"/><Relationship Id="rId23" Type="http://schemas.openxmlformats.org/officeDocument/2006/relationships/hyperlink" Target="http://forum.cgm.ru/bezlimitnyi_holdem_mikro_bai-inov/168296-nl25sh-_k_chemu_privodit_float-_bb_vs_sb.html" TargetMode="External"/><Relationship Id="rId24" Type="http://schemas.openxmlformats.org/officeDocument/2006/relationships/hyperlink" Target="http://wish.moe-online.ru/calend/2009-8-9.html?module=4&amp;year=2010&amp;month=4" TargetMode="External"/><Relationship Id="rId25" Type="http://schemas.openxmlformats.org/officeDocument/2006/relationships/hyperlink" Target="http://www.design-warez.ru/clipart/vector/page/591/" TargetMode="External"/><Relationship Id="rId26" Type="http://schemas.openxmlformats.org/officeDocument/2006/relationships/hyperlink" Target="http://www.design-warez.ru/clipart/vector/page/591/" TargetMode="External"/><Relationship Id="rId27" Type="http://schemas.openxmlformats.org/officeDocument/2006/relationships/hyperlink" Target="http://www.design-warez.ru/clipart/vector/page/591/" TargetMode="External"/><Relationship Id="rId28" Type="http://schemas.openxmlformats.org/officeDocument/2006/relationships/hyperlink" Target="http://www.design-warez.ru/clipart/vector/page/591/" TargetMode="External"/><Relationship Id="rId29" Type="http://schemas.openxmlformats.org/officeDocument/2006/relationships/hyperlink" Target="http://www.design-warez.ru/clipart/vector/page/591/" TargetMode="External"/><Relationship Id="rId30" Type="http://schemas.openxmlformats.org/officeDocument/2006/relationships/hyperlink" Target="http://www.design-warez.ru/clipart/vector/page/591/" TargetMode="External"/><Relationship Id="rId31" Type="http://schemas.openxmlformats.org/officeDocument/2006/relationships/hyperlink" Target="http://www.design-warez.ru/clipart/vector/page/591/" TargetMode="External"/><Relationship Id="rId32" Type="http://schemas.openxmlformats.org/officeDocument/2006/relationships/hyperlink" Target="http://www.design-warez.ru/clipart/vector/page/591/" TargetMode="External"/><Relationship Id="rId33" Type="http://schemas.openxmlformats.org/officeDocument/2006/relationships/hyperlink" Target="http://www.design-warez.ru/clipart/vector/page/591/" TargetMode="External"/><Relationship Id="rId34" Type="http://schemas.openxmlformats.org/officeDocument/2006/relationships/hyperlink" Target="http://www.design-warez.ru/clipart/vector/page/591/" TargetMode="External"/><Relationship Id="rId35" Type="http://schemas.openxmlformats.org/officeDocument/2006/relationships/hyperlink" Target="http://www.lenagold.ru/fon/clipart/d/dom7.html" TargetMode="External"/><Relationship Id="rId36" Type="http://schemas.openxmlformats.org/officeDocument/2006/relationships/hyperlink" Target="http://www.auetika.ru/all_cat/" TargetMode="External"/><Relationship Id="rId37" Type="http://schemas.openxmlformats.org/officeDocument/2006/relationships/hyperlink" Target="http://www.npp.ptechnology.ru/rubr/rub0.html" TargetMode="External"/><Relationship Id="rId38" Type="http://schemas.openxmlformats.org/officeDocument/2006/relationships/hyperlink" Target="http://www.feechka.ru/dir_technika.htm" TargetMode="External"/><Relationship Id="rId39" Type="http://schemas.openxmlformats.org/officeDocument/2006/relationships/hyperlink" Target="http://www.vectora.ru/portfolio/illustrations/construction" TargetMode="External"/><Relationship Id="rId40" Type="http://schemas.openxmlformats.org/officeDocument/2006/relationships/hyperlink" Target="http://www.vectora.ru/portfolio/illustrations/construction" TargetMode="External"/><Relationship Id="rId41" Type="http://schemas.openxmlformats.org/officeDocument/2006/relationships/hyperlink" Target="http://www.vectora.ru/portfolio/illustrations/construction" TargetMode="External"/><Relationship Id="rId42" Type="http://schemas.openxmlformats.org/officeDocument/2006/relationships/hyperlink" Target="http://www.vectora.ru/portfolio/illustrations/construction" TargetMode="External"/><Relationship Id="rId43" Type="http://schemas.openxmlformats.org/officeDocument/2006/relationships/hyperlink" Target="http://www.vectora.ru/portfolio/illustrations/construction" TargetMode="External"/><Relationship Id="rId44" Type="http://schemas.openxmlformats.org/officeDocument/2006/relationships/hyperlink" Target="http://www.vectora.ru/portfolio/illustrations/construction" TargetMode="External"/><Relationship Id="rId45" Type="http://schemas.openxmlformats.org/officeDocument/2006/relationships/hyperlink" Target="http://www.vectora.ru/portfolio/illustrations/construction" TargetMode="External"/><Relationship Id="rId46" Type="http://schemas.openxmlformats.org/officeDocument/2006/relationships/hyperlink" Target="http://www.vectora.ru/portfolio/illustrations/construction" TargetMode="External"/><Relationship Id="rId47" Type="http://schemas.openxmlformats.org/officeDocument/2006/relationships/hyperlink" Target="http://www.vectora.ru/portfolio/illustrations/construction" TargetMode="External"/><Relationship Id="rId48" Type="http://schemas.openxmlformats.org/officeDocument/2006/relationships/hyperlink" Target="http://www.hermes-gifts.ru/holidays/WinnerDay%20/" TargetMode="External"/><Relationship Id="rId49" Type="http://schemas.openxmlformats.org/officeDocument/2006/relationships/hyperlink" Target="http://www.hermes-gifts.ru/holidays/WinnerDay%20/" TargetMode="External"/><Relationship Id="rId50" Type="http://schemas.openxmlformats.org/officeDocument/2006/relationships/hyperlink" Target="http://www.hermes-gifts.ru/holidays/WinnerDay%20/" TargetMode="External"/><Relationship Id="rId51" Type="http://schemas.openxmlformats.org/officeDocument/2006/relationships/hyperlink" Target="http://www.hermes-gifts.ru/holidays/WinnerDay%20/" TargetMode="External"/><Relationship Id="rId52" Type="http://schemas.openxmlformats.org/officeDocument/2006/relationships/hyperlink" Target="http://www.hermes-gifts.ru/holidays/WinnerDay%20/" TargetMode="External"/><Relationship Id="rId53" Type="http://schemas.openxmlformats.org/officeDocument/2006/relationships/hyperlink" Target="http://www.hermes-gifts.ru/holidays/WinnerDay%20/" TargetMode="External"/><Relationship Id="rId54" Type="http://schemas.openxmlformats.org/officeDocument/2006/relationships/hyperlink" Target="http://www.hermes-gifts.ru/holidays/WinnerDay%20/" TargetMode="External"/><Relationship Id="rId55" Type="http://schemas.openxmlformats.org/officeDocument/2006/relationships/hyperlink" Target="http://www.hermes-gifts.ru/holidays/WinnerDay%20/" TargetMode="External"/><Relationship Id="rId5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krbiznes.com/vizit.php?i=35652" TargetMode="External"/><Relationship Id="rId3" Type="http://schemas.openxmlformats.org/officeDocument/2006/relationships/hyperlink" Target="http://www.ukrbiznes.com/vizit.php?i=35652" TargetMode="External"/><Relationship Id="rId4" Type="http://schemas.openxmlformats.org/officeDocument/2006/relationships/hyperlink" Target="http://www.ukrbiznes.com/vizit.php?i=35652" TargetMode="External"/><Relationship Id="rId5" Type="http://schemas.openxmlformats.org/officeDocument/2006/relationships/hyperlink" Target="http://www.ukrbiznes.com/vizit.php?i=35652" TargetMode="External"/><Relationship Id="rId6" Type="http://schemas.openxmlformats.org/officeDocument/2006/relationships/hyperlink" Target="http://snab-td.ru/index.php?categoryID=193" TargetMode="External"/><Relationship Id="rId7" Type="http://schemas.openxmlformats.org/officeDocument/2006/relationships/hyperlink" Target="http://snab-td.ru/index.php?categoryID=193" TargetMode="External"/><Relationship Id="rId8" Type="http://schemas.openxmlformats.org/officeDocument/2006/relationships/hyperlink" Target="http://snab-td.ru/index.php?categoryID=193" TargetMode="External"/><Relationship Id="rId9" Type="http://schemas.openxmlformats.org/officeDocument/2006/relationships/hyperlink" Target="http://snab-td.ru/index.php?categoryID=193" TargetMode="External"/><Relationship Id="rId10" Type="http://schemas.openxmlformats.org/officeDocument/2006/relationships/hyperlink" Target="http://www.zor.uz/offer/12103/" TargetMode="External"/><Relationship Id="rId11" Type="http://schemas.openxmlformats.org/officeDocument/2006/relationships/hyperlink" Target="http://www.zor.uz/offer/12103/" TargetMode="External"/><Relationship Id="rId12" Type="http://schemas.openxmlformats.org/officeDocument/2006/relationships/hyperlink" Target="http://www.zor.uz/offer/12103/" TargetMode="External"/><Relationship Id="rId13" Type="http://schemas.openxmlformats.org/officeDocument/2006/relationships/hyperlink" Target="http://www.zor.uz/offer/12103/" TargetMode="External"/><Relationship Id="rId14" Type="http://schemas.openxmlformats.org/officeDocument/2006/relationships/hyperlink" Target="http://www.zor.uz/offer/12103/" TargetMode="External"/><Relationship Id="rId15" Type="http://schemas.openxmlformats.org/officeDocument/2006/relationships/hyperlink" Target="http://www.zor.uz/offer/12103/" TargetMode="External"/><Relationship Id="rId16" Type="http://schemas.openxmlformats.org/officeDocument/2006/relationships/hyperlink" Target="http://www.sgi-smesi.ru/asbestocementnye-izdeliya.html" TargetMode="External"/><Relationship Id="rId17" Type="http://schemas.openxmlformats.org/officeDocument/2006/relationships/hyperlink" Target="http://www.sgi-smesi.ru/asbestocementnye-izdeliya.html" TargetMode="External"/><Relationship Id="rId18" Type="http://schemas.openxmlformats.org/officeDocument/2006/relationships/hyperlink" Target="http://www.sgi-smesi.ru/asbestocementnye-izdeliya.html" TargetMode="External"/><Relationship Id="rId19" Type="http://schemas.openxmlformats.org/officeDocument/2006/relationships/hyperlink" Target="http://www.sgi-smesi.ru/asbestocementnye-izdeliya.html" TargetMode="External"/><Relationship Id="rId20" Type="http://schemas.openxmlformats.org/officeDocument/2006/relationships/hyperlink" Target="http://www.sgi-smesi.ru/asbestocementnye-izdeliya.html" TargetMode="External"/><Relationship Id="rId21" Type="http://schemas.openxmlformats.org/officeDocument/2006/relationships/hyperlink" Target="http://www.mosautopro.ru/scardo5.html" TargetMode="External"/><Relationship Id="rId22" Type="http://schemas.openxmlformats.org/officeDocument/2006/relationships/hyperlink" Target="http://www.mosautopro.ru/scardo5.html" TargetMode="External"/><Relationship Id="rId23" Type="http://schemas.openxmlformats.org/officeDocument/2006/relationships/hyperlink" Target="http://www.mosautopro.ru/scardo5.html" TargetMode="External"/><Relationship Id="rId24" Type="http://schemas.openxmlformats.org/officeDocument/2006/relationships/hyperlink" Target="http://www.mosautopro.ru/scardo5.html" TargetMode="External"/><Relationship Id="rId25" Type="http://schemas.openxmlformats.org/officeDocument/2006/relationships/hyperlink" Target="http://all.vsemru.ru/nedvizhimost/zagorodnaya_nedvizhimost/prodazha/items/?page=5&amp;dosearch=1&amp;clearform=1" TargetMode="External"/><Relationship Id="rId26" Type="http://schemas.openxmlformats.org/officeDocument/2006/relationships/hyperlink" Target="http://all.vsemru.ru/nedvizhimost/zagorodnaya_nedvizhimost/prodazha/items/?page=5&amp;dosearch=1&amp;clearform=1" TargetMode="External"/><Relationship Id="rId27" Type="http://schemas.openxmlformats.org/officeDocument/2006/relationships/hyperlink" Target="http://all.vsemru.ru/nedvizhimost/zagorodnaya_nedvizhimost/prodazha/items/?page=5&amp;dosearch=1&amp;clearform=1" TargetMode="External"/><Relationship Id="rId28" Type="http://schemas.openxmlformats.org/officeDocument/2006/relationships/hyperlink" Target="http://all.vsemru.ru/nedvizhimost/zagorodnaya_nedvizhimost/prodazha/items/?page=5&amp;dosearch=1&amp;clearform=1" TargetMode="External"/><Relationship Id="rId29" Type="http://schemas.openxmlformats.org/officeDocument/2006/relationships/hyperlink" Target="http://all.vsemru.ru/nedvizhimost/zagorodnaya_nedvizhimost/prodazha/items/?page=5&amp;dosearch=1&amp;clearform=1" TargetMode="External"/><Relationship Id="rId30" Type="http://schemas.openxmlformats.org/officeDocument/2006/relationships/hyperlink" Target="http://all.vsemru.ru/nedvizhimost/zagorodnaya_nedvizhimost/prodazha/items/?page=5&amp;dosearch=1&amp;clearform=1" TargetMode="External"/><Relationship Id="rId31" Type="http://schemas.openxmlformats.org/officeDocument/2006/relationships/hyperlink" Target="http://all.vsemru.ru/nedvizhimost/zagorodnaya_nedvizhimost/prodazha/items/?page=5&amp;dosearch=1&amp;clearform=1" TargetMode="External"/><Relationship Id="rId32" Type="http://schemas.openxmlformats.org/officeDocument/2006/relationships/hyperlink" Target="http://all.vsemru.ru/nedvizhimost/zagorodnaya_nedvizhimost/prodazha/items/?page=5&amp;dosearch=1&amp;clearform=1" TargetMode="External"/><Relationship Id="rId33" Type="http://schemas.openxmlformats.org/officeDocument/2006/relationships/hyperlink" Target="http://all.vsemru.ru/nedvizhimost/zagorodnaya_nedvizhimost/prodazha/items/?page=5&amp;dosearch=1&amp;clearform=1" TargetMode="External"/><Relationship Id="rId34" Type="http://schemas.openxmlformats.org/officeDocument/2006/relationships/hyperlink" Target="http://all.vsemru.ru/nedvizhimost/zagorodnaya_nedvizhimost/prodazha/items/?page=5&amp;dosearch=1&amp;clearform=1" TargetMode="External"/><Relationship Id="rId35" Type="http://schemas.openxmlformats.org/officeDocument/2006/relationships/hyperlink" Target="http://all.vsemru.ru/nedvizhimost/zagorodnaya_nedvizhimost/prodazha/items/?page=5&amp;dosearch=1&amp;clearform=1" TargetMode="External"/><Relationship Id="rId36" Type="http://schemas.openxmlformats.org/officeDocument/2006/relationships/hyperlink" Target="http://all.vsemru.ru/nedvizhimost/zagorodnaya_nedvizhimost/prodazha/items/?page=5&amp;dosearch=1&amp;clearform=1" TargetMode="External"/><Relationship Id="rId37" Type="http://schemas.openxmlformats.org/officeDocument/2006/relationships/hyperlink" Target="http://bashcenter.ru:8080/board/stroitelstvo/30" TargetMode="External"/><Relationship Id="rId38" Type="http://schemas.openxmlformats.org/officeDocument/2006/relationships/hyperlink" Target="http://bashcenter.ru:8080/board/stroitelstvo/30" TargetMode="External"/><Relationship Id="rId39" Type="http://schemas.openxmlformats.org/officeDocument/2006/relationships/hyperlink" Target="http://bashcenter.ru:8080/board/stroitelstvo/30" TargetMode="External"/><Relationship Id="rId40" Type="http://schemas.openxmlformats.org/officeDocument/2006/relationships/hyperlink" Target="http://bashcenter.ru:8080/board/stroitelstvo/30" TargetMode="External"/><Relationship Id="rId41" Type="http://schemas.openxmlformats.org/officeDocument/2006/relationships/hyperlink" Target="http://bashcenter.ru:8080/board/stroitelstvo/30" TargetMode="External"/><Relationship Id="rId42" Type="http://schemas.openxmlformats.org/officeDocument/2006/relationships/hyperlink" Target="http://bashcenter.ru:8080/board/stroitelstvo/30" TargetMode="External"/><Relationship Id="rId43" Type="http://schemas.openxmlformats.org/officeDocument/2006/relationships/hyperlink" Target="http://www.lestehservis.ru/index.php?productID=701" TargetMode="External"/><Relationship Id="rId44" Type="http://schemas.openxmlformats.org/officeDocument/2006/relationships/hyperlink" Target="http://www.sunhome.ru/tags/&#1088;&#1086;&#1089;&#1089;&#1080;&#1080;/0/6" TargetMode="External"/><Relationship Id="rId45" Type="http://schemas.openxmlformats.org/officeDocument/2006/relationships/hyperlink" Target="http://www.sunhome.ru/tags/&#1088;&#1086;&#1089;&#1089;&#1080;&#1080;/0/6" TargetMode="External"/><Relationship Id="rId46" Type="http://schemas.openxmlformats.org/officeDocument/2006/relationships/hyperlink" Target="http://www.sunhome.ru/tags/&#1088;&#1086;&#1089;&#1089;&#1080;&#1080;/0/6" TargetMode="External"/><Relationship Id="rId47" Type="http://schemas.openxmlformats.org/officeDocument/2006/relationships/hyperlink" Target="http://www.sunhome.ru/tags/&#1088;&#1086;&#1089;&#1089;&#1080;&#1080;/0/6" TargetMode="External"/><Relationship Id="rId48" Type="http://schemas.openxmlformats.org/officeDocument/2006/relationships/hyperlink" Target="http://www.sunhome.ru/tags/&#1088;&#1086;&#1089;&#1089;&#1080;&#1080;/0/6" TargetMode="External"/><Relationship Id="rId49" Type="http://schemas.openxmlformats.org/officeDocument/2006/relationships/hyperlink" Target="http://www.sunhome.ru/tags/&#1088;&#1086;&#1089;&#1089;&#1080;&#1080;/0/6" TargetMode="External"/><Relationship Id="rId50" Type="http://schemas.openxmlformats.org/officeDocument/2006/relationships/hyperlink" Target="http://www.sunhome.ru/tags/&#1088;&#1086;&#1089;&#1089;&#1080;&#1080;/0/6" TargetMode="External"/><Relationship Id="rId51" Type="http://schemas.openxmlformats.org/officeDocument/2006/relationships/hyperlink" Target="http://www.sunhome.ru/tags/&#1088;&#1086;&#1089;&#1089;&#1080;&#1080;/0/6" TargetMode="External"/><Relationship Id="rId52" Type="http://schemas.openxmlformats.org/officeDocument/2006/relationships/hyperlink" Target="http://ill-777.narod.ru/777magazine.html" TargetMode="External"/><Relationship Id="rId53" Type="http://schemas.openxmlformats.org/officeDocument/2006/relationships/hyperlink" Target="http://ill-777.narod.ru/777magazine.html" TargetMode="External"/><Relationship Id="rId54" Type="http://schemas.openxmlformats.org/officeDocument/2006/relationships/hyperlink" Target="http://www.goodclipart.ru/index.php?cat=16&amp;page=13" TargetMode="External"/><Relationship Id="rId55" Type="http://schemas.openxmlformats.org/officeDocument/2006/relationships/hyperlink" Target="http://www.goodclipart.ru/index.php?cat=16&amp;page=13" TargetMode="External"/><Relationship Id="rId56" Type="http://schemas.openxmlformats.org/officeDocument/2006/relationships/hyperlink" Target="http://www.goodclipart.ru/index.php?cat=16&amp;page=13" TargetMode="External"/><Relationship Id="rId57" Type="http://schemas.openxmlformats.org/officeDocument/2006/relationships/hyperlink" Target="http://www.goodclipart.ru/index.php?cat=16&amp;page=13" TargetMode="External"/><Relationship Id="rId58" Type="http://schemas.openxmlformats.org/officeDocument/2006/relationships/hyperlink" Target="http://myboard.com.ru/mes/1201112537.php" TargetMode="External"/><Relationship Id="rId59" Type="http://schemas.openxmlformats.org/officeDocument/2006/relationships/hyperlink" Target="http://myboard.com.ru/mes/1201112537.php" TargetMode="External"/><Relationship Id="rId60" Type="http://schemas.openxmlformats.org/officeDocument/2006/relationships/hyperlink" Target="http://myboard.com.ru/mes/1201112537.php" TargetMode="External"/><Relationship Id="rId61" Type="http://schemas.openxmlformats.org/officeDocument/2006/relationships/hyperlink" Target="http://myboard.com.ru/mes/1201112537.php" TargetMode="External"/><Relationship Id="rId62" Type="http://schemas.openxmlformats.org/officeDocument/2006/relationships/hyperlink" Target="http://myboard.com.ru/mes/1201112537.php" TargetMode="External"/><Relationship Id="rId63" Type="http://schemas.openxmlformats.org/officeDocument/2006/relationships/hyperlink" Target="http://myboard.com.ru/mes/1201112537.php" TargetMode="External"/><Relationship Id="rId64" Type="http://schemas.openxmlformats.org/officeDocument/2006/relationships/hyperlink" Target="http://www.ati.com.ua/89431/bb" TargetMode="External"/><Relationship Id="rId65" Type="http://schemas.openxmlformats.org/officeDocument/2006/relationships/hyperlink" Target="http://www.ati.com.ua/89431/bb" TargetMode="External"/><Relationship Id="rId66" Type="http://schemas.openxmlformats.org/officeDocument/2006/relationships/hyperlink" Target="http://www.ati.com.ua/89431/bb" TargetMode="External"/><Relationship Id="rId67" Type="http://schemas.openxmlformats.org/officeDocument/2006/relationships/hyperlink" Target="http://www.ati.com.ua/89431/bb" TargetMode="External"/><Relationship Id="rId68" Type="http://schemas.openxmlformats.org/officeDocument/2006/relationships/hyperlink" Target="http://www.ati.com.ua/89431/bb" TargetMode="External"/><Relationship Id="rId6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3.jpeg"/><Relationship Id="rId5" Type="http://schemas.openxmlformats.org/officeDocument/2006/relationships/image" Target="../media/image17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0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19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3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Как построить новый д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20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525636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Кто работает на строй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407880" y="1197000"/>
            <a:ext cx="8104320" cy="5334480"/>
            <a:chOff x="407880" y="1197000"/>
            <a:chExt cx="8104320" cy="5334480"/>
          </a:xfrm>
        </p:grpSpPr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630360" y="1197000"/>
              <a:ext cx="2158920" cy="18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07880" y="2921040"/>
              <a:ext cx="229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Comic Sans MS"/>
                </a:rPr>
                <a:t>Каменщи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3578400" y="1197000"/>
              <a:ext cx="158904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632760" y="3357720"/>
              <a:ext cx="148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Comic Sans MS"/>
                </a:rPr>
                <a:t>Маля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>
              <a:off x="6221520" y="1341360"/>
              <a:ext cx="205272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014880" y="3357720"/>
              <a:ext cx="249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Comic Sans MS"/>
                </a:rPr>
                <a:t>Крановщи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6"/>
            <a:stretch/>
          </p:blipFill>
          <p:spPr>
            <a:xfrm>
              <a:off x="703440" y="3645000"/>
              <a:ext cx="195876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51880" y="5805360"/>
              <a:ext cx="199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Comic Sans MS"/>
                </a:rPr>
                <a:t>Сварщи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42840" y="5950080"/>
              <a:ext cx="188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Comic Sans MS"/>
                </a:rPr>
                <a:t>Плотни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7"/>
            <a:stretch/>
          </p:blipFill>
          <p:spPr>
            <a:xfrm>
              <a:off x="6462720" y="4005360"/>
              <a:ext cx="160344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076920" y="5877000"/>
              <a:ext cx="278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Comic Sans MS"/>
                </a:rPr>
                <a:t>Монтажни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8"/>
            <a:stretch/>
          </p:blipFill>
          <p:spPr>
            <a:xfrm>
              <a:off x="3078360" y="3933720"/>
              <a:ext cx="2616120" cy="186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3684600"/>
            <a:ext cx="878544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чень важно, чтобы все строители работ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лаженно и дружно. Только тогда дом бу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роиться быстро и качественно. Это значит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шофёр должен вовремя подвезти кирпич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емент, крановщик сразу всё поднимет наверх,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менщики уложат кирпич за кирпич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195640" y="333360"/>
            <a:ext cx="49226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58920" y="1600200"/>
            <a:ext cx="58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Прочитайте текст в учебнике на стр.112-1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О каких машинах вы прочит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Какую работу выполняют разные маш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2073240" cy="27367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4025880" cy="2521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450828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временный дом не постро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ез помощников – строительных маш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кскаваторы, подъёмные краны, самосвал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етономешалки – все они работают на строй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39640" y="1641600"/>
            <a:ext cx="4267440" cy="28670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39160" y="617400"/>
            <a:ext cx="21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Самосв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45840" y="620640"/>
            <a:ext cx="341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Бетономеша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Землеройные маши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611280" y="1628640"/>
            <a:ext cx="7924680" cy="3122640"/>
            <a:chOff x="611280" y="1628640"/>
            <a:chExt cx="7924680" cy="3122640"/>
          </a:xfrm>
        </p:grpSpPr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611280" y="1844640"/>
              <a:ext cx="3749760" cy="28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4643280" y="1628640"/>
              <a:ext cx="3892680" cy="31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771840" y="5157720"/>
            <a:ext cx="22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Бульдоз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22760" y="5157720"/>
            <a:ext cx="244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Экскав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Машины-грузч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369120" y="5945040"/>
            <a:ext cx="20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Авток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68360" y="1268280"/>
            <a:ext cx="8135640" cy="5185080"/>
            <a:chOff x="468360" y="1268280"/>
            <a:chExt cx="8135640" cy="5185080"/>
          </a:xfrm>
        </p:grpSpPr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 flipH="1">
              <a:off x="5076360" y="1268280"/>
              <a:ext cx="3527640" cy="273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 flipH="1">
              <a:off x="468360" y="1413000"/>
              <a:ext cx="21542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5"/>
            <a:stretch/>
          </p:blipFill>
          <p:spPr>
            <a:xfrm>
              <a:off x="2529000" y="4076640"/>
              <a:ext cx="3914640" cy="228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"/>
          <p:cNvSpPr/>
          <p:nvPr/>
        </p:nvSpPr>
        <p:spPr>
          <a:xfrm>
            <a:off x="5538600" y="3789360"/>
            <a:ext cx="31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Автопогруз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54960" y="227664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Башенный к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801"/>
                </a:solidFill>
                <a:latin typeface="Comic Sans MS"/>
              </a:rPr>
              <a:t>        </a:t>
            </a:r>
            <a:r>
              <a:rPr b="0" lang="en-US" sz="4000" spc="-1" strike="noStrike">
                <a:solidFill>
                  <a:srgbClr val="ff6801"/>
                </a:solidFill>
                <a:latin typeface="Comic Sans MS"/>
              </a:rPr>
              <a:t>Строительство – одна из             </a:t>
            </a:r>
            <a:br>
              <a:rPr sz="4000"/>
            </a:br>
            <a:r>
              <a:rPr b="0" lang="en-US" sz="4000" spc="-1" strike="noStrike">
                <a:solidFill>
                  <a:srgbClr val="ff6801"/>
                </a:solidFill>
                <a:latin typeface="Comic Sans MS"/>
              </a:rPr>
              <a:t>              частей эконом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троители возводят не только жилые дома, но и мосты, заводы, фермы, больницы. Они же прокладывают и ремонтируют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611280" y="1628640"/>
            <a:ext cx="7872480" cy="2772000"/>
            <a:chOff x="611280" y="1628640"/>
            <a:chExt cx="7872480" cy="2772000"/>
          </a:xfrm>
        </p:grpSpPr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611280" y="1628640"/>
              <a:ext cx="3673440" cy="2756160"/>
            </a:xfrm>
            <a:prstGeom prst="rect">
              <a:avLst/>
            </a:prstGeom>
            <a:ln w="57240">
              <a:solidFill>
                <a:srgbClr val="008000"/>
              </a:solidFill>
              <a:miter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4788000" y="1628640"/>
              <a:ext cx="3695760" cy="2772000"/>
            </a:xfrm>
            <a:prstGeom prst="rect">
              <a:avLst/>
            </a:prstGeom>
            <a:ln w="57240">
              <a:solidFill>
                <a:srgbClr val="333399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lker.com/search/home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free-lance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user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MVe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viewproj.php?prjid=1629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sunhome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card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b9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sprazdnikami.ru/den-stroitely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forum.cgm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bezlimitnyi_holdem_mikro_bai-inov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/168296-nl25sh-_k_chemu_privodit_float-_bb_vs_sb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ish.moe-online.ru/calend/2009-8-9.html?module=4&amp;year=2010&amp;month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www.design-warez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clipar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vector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page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/59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http://www.lenagold.ru/fon/clipart/d/dom7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http://www.auetika.ru/all_ca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http://www.npp.ptechnology.ru/rubr/rub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http://www.feechka.ru/dir_technika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www.vectora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portfolio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illustration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www.hermes-gifts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holiday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WinnerDay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 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allday.ru/engine/print.php?newsid=420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dp.ric.ua/index.php?cstart=65&amp;year=2010&amp;month=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ukrbiznes.co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vizit.php?i=356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snab-td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index.php?categoryID=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zor.uz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offer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12103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sgi-smesi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asbestocementnye-izdeliy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ww.mosautopro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scardo5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all.vsemru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nedvizhimos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zagorodnaya_nedvizhimos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prodazh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item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/?page=5&amp;dosearch=1&amp;clearform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://bashcenter.ru:8080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board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stroitelstvo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/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http://www.lestehservis.ru/index.php?productID=7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www.sunhome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tag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россии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/0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://ill-777.narod.ru/777magazin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www.goodclipart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/index.php?cat=16&amp;page=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myboard.com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me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/1201112537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www.ati.com.u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/89431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apa-vlad.narod.ru/photo/kosmos-gorod-transport/Spetstekhnika-2.files/Dorozhnye-mashin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ulldozer.by/?option=com_content&amp;id=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arendaspetstehniki.ru/blog/2010/09/17/arenda-ekskavatora-ekskavator-jcb-js-160-w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free-lance.ru/users/fotkarik/viewproj.php?prjid=763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.nsp.su/auto/?mark=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801"/>
                </a:solidFill>
                <a:latin typeface="Monotype Corsiva"/>
              </a:rPr>
              <a:t>Панова Оксана Владими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801"/>
                </a:solidFill>
                <a:latin typeface="Monotype Corsiva"/>
              </a:rPr>
              <a:t>учитель начальных класс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801"/>
                </a:solidFill>
                <a:latin typeface="Monotype Corsiva"/>
              </a:rPr>
              <a:t>МАОУ «Гимназия №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801"/>
                </a:solidFill>
                <a:latin typeface="Monotype Corsiva"/>
              </a:rPr>
              <a:t>г. Великого Новг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резентация опубликована на сайте - viki.rdf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4000" spc="-1" strike="noStrike">
                <a:solidFill>
                  <a:srgbClr val="ff6801"/>
                </a:solidFill>
                <a:latin typeface="Comic Sans MS"/>
              </a:rPr>
              <a:t>Человек всегда строил 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692360" y="1212840"/>
            <a:ext cx="6048360" cy="200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50133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начала люди устраивали жилищ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пещерах. Потом из шкур зверей дел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ма-пала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692360" y="3429000"/>
            <a:ext cx="6095880" cy="142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744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801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720" y="422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801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16360" y="1268280"/>
            <a:ext cx="3189240" cy="3600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4024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ма стоили из дерева, камня и кирпи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95280" y="1413000"/>
            <a:ext cx="3024360" cy="261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227640" y="765000"/>
            <a:ext cx="24195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801"/>
                </a:solidFill>
                <a:latin typeface="Comic Sans MS"/>
              </a:rPr>
              <a:t>Прочитай старинную пословиц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1657440" cy="1800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94560" y="2492280"/>
            <a:ext cx="347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строить 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8800" y="4149720"/>
            <a:ext cx="8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0640" y="4076640"/>
            <a:ext cx="297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 голову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8720" y="5589720"/>
            <a:ext cx="223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де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700360" y="3500280"/>
            <a:ext cx="1728720" cy="1729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94240" y="260280"/>
            <a:ext cx="762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omic Sans MS"/>
              </a:rPr>
              <a:t>Как вы думаете, почему лю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omic Sans MS"/>
              </a:rPr>
              <a:t>сложили такую пословиц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801"/>
                </a:solidFill>
                <a:latin typeface="Comic Sans MS"/>
              </a:rPr>
              <a:t>Что надо для </a:t>
            </a:r>
            <a:br>
              <a:rPr sz="4000"/>
            </a:br>
            <a:r>
              <a:rPr b="0" lang="en-US" sz="4000" spc="-1" strike="noStrike">
                <a:solidFill>
                  <a:srgbClr val="ff6801"/>
                </a:solidFill>
                <a:latin typeface="Comic Sans MS"/>
              </a:rPr>
              <a:t>строительства до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124000" y="1628640"/>
            <a:ext cx="5038920" cy="4602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39640" y="1700280"/>
            <a:ext cx="3225960" cy="194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38760" y="3645000"/>
            <a:ext cx="30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тро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52200" y="3645000"/>
            <a:ext cx="30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тро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1960" y="5950080"/>
            <a:ext cx="13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334120" y="1484280"/>
            <a:ext cx="3054240" cy="2089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3522600" y="2421000"/>
            <a:ext cx="1913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Работа в па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0920" y="178272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Рассмотрите рису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стр. 110-111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Обсудите, какие материалы нужны для строительства городского дома, а какие – для строительства сельского до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58720" y="4148280"/>
            <a:ext cx="1636920" cy="216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156360" y="333360"/>
            <a:ext cx="259092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76360" y="1700280"/>
            <a:ext cx="6105600" cy="4559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2303280" cy="1727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7640" y="41400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801"/>
                </a:solidFill>
                <a:latin typeface="Comic Sans MS"/>
              </a:rPr>
              <a:t>Какие материалы нужны для строительства сельского дом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564000" y="2997360"/>
            <a:ext cx="1936800" cy="14461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3492360" y="549360"/>
            <a:ext cx="2168640" cy="1120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11280" y="3867120"/>
            <a:ext cx="1623960" cy="1433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6516720" y="1041480"/>
            <a:ext cx="2112840" cy="151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3203640" y="5229360"/>
            <a:ext cx="2544840" cy="1022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0"/>
          <a:stretch/>
        </p:blipFill>
        <p:spPr>
          <a:xfrm>
            <a:off x="6659640" y="3716280"/>
            <a:ext cx="1793880" cy="1589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60880" y="270828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рё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07160" y="184464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о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24960" y="26226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Шиф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0760" y="550224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ирпи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79000" y="602136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35760" y="537372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2124000" y="2565000"/>
            <a:ext cx="1440000" cy="115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195280" y="3716280"/>
            <a:ext cx="13683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4437000"/>
            <a:ext cx="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500720" y="2204640"/>
            <a:ext cx="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508720" y="2421000"/>
            <a:ext cx="136836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716280"/>
            <a:ext cx="115092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801"/>
                </a:solidFill>
                <a:latin typeface="Comic Sans MS"/>
              </a:rPr>
              <a:t>          </a:t>
            </a:r>
            <a:r>
              <a:rPr b="0" lang="en-US" sz="3400" spc="-1" strike="noStrike">
                <a:solidFill>
                  <a:srgbClr val="ff6801"/>
                </a:solidFill>
                <a:latin typeface="Comic Sans MS"/>
              </a:rPr>
              <a:t>Какие материалы нужны для      </a:t>
            </a:r>
            <a:br>
              <a:rPr sz="3400"/>
            </a:br>
            <a:r>
              <a:rPr b="0" lang="en-US" sz="3400" spc="-1" strike="noStrike">
                <a:solidFill>
                  <a:srgbClr val="ff6801"/>
                </a:solidFill>
                <a:latin typeface="Comic Sans MS"/>
              </a:rPr>
              <a:t>       строительства городского  дома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411280" y="1484280"/>
            <a:ext cx="4891320" cy="4890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564000" y="476280"/>
            <a:ext cx="2049480" cy="2049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11280" y="3867120"/>
            <a:ext cx="1623960" cy="1433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0760" y="550224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ирпи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195280" y="2205000"/>
            <a:ext cx="1655640" cy="25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203640" y="5084640"/>
            <a:ext cx="2544840" cy="1022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79000" y="602136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2349360"/>
            <a:ext cx="0" cy="273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659640" y="4145040"/>
            <a:ext cx="1793880" cy="1589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935760" y="557388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2205000"/>
            <a:ext cx="1582920" cy="23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468360" y="1628640"/>
            <a:ext cx="2168640" cy="1121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38440" y="292428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о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627280" y="1413000"/>
            <a:ext cx="115272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6227640" y="1268280"/>
            <a:ext cx="2444760" cy="1835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700680" y="3068640"/>
            <a:ext cx="19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ето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л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08720" y="1413000"/>
            <a:ext cx="93492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3683160" cy="4176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Кто работает на строй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156360" y="3141720"/>
            <a:ext cx="1647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09:20:19Z</dcterms:created>
  <dc:creator>мама</dc:creator>
  <dc:description/>
  <dc:language>en-US</dc:language>
  <cp:lastModifiedBy>мама</cp:lastModifiedBy>
  <dcterms:modified xsi:type="dcterms:W3CDTF">2010-11-22T18:08:30Z</dcterms:modified>
  <cp:revision>10</cp:revision>
  <dc:subject/>
  <dc:title>Как построить новый дом?</dc:title>
</cp:coreProperties>
</file>