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dt" idx="4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ftr" idx="4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 type="sldNum" idx="4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1442-A615-4C0A-B960-9DEDC03B53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E5F1-180A-47F7-8CA7-9BD45F801234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342A-C8A1-4F63-8C05-74267A49B5A6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649E-0F28-4C37-A1DD-0897D8808D7E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66E8-E93A-48D5-9BAC-DC24DA1B95C9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2F9E-BFD9-4540-9800-EFD05E4BAD02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1A88-AC11-4DD6-8B87-692A38A9E04D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E7A8-9560-4AC6-95F7-2D215A89A952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CF5E-1A86-4587-B76D-F7F906FEB3A8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267F-8655-445A-84F4-B2A30B7DD65E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11C5-B6B2-4B4B-ACD8-AC8EC33B4B4F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5E60-EE5C-4E13-ACDB-B84156A4E73D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94C9-4213-4C19-81AD-683ED77F3579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B82D-7807-4D04-A733-69B639EFA79E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3191-3A0A-49C2-8F3E-10184C85A8D0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75C5-F201-4E51-B168-1E6A1CD8FABA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F526-CFFF-4097-A135-9612184FC2D5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0BBF-0789-4CCB-B9E1-B9CE4E3AB65A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44C2-4AB3-4747-BF6E-012455DBB7FD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AF24-A14D-4B51-8183-68CA6577D5B7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F28-481A-46E6-B26E-F9AF36BA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FFD-E18D-4CD1-955F-FF3BA593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21957-A72B-4412-8061-D9E2F41C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4ABC6-CACF-4875-891F-2E6E22BD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A8B7A-F8B5-4736-8A9A-94025A4B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92D3F-BCB0-4E7A-B735-71FE1D08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46159-042F-47D2-A2A7-C4BFD422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A21CC-C953-4DCD-8F82-D88D036A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2C7A8-D87B-48D3-9009-B3A9A2D8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9C838-39A6-4734-AB9A-A93A3110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479A8-6BFB-4FAF-9964-1D4582F2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B5AE0-1155-4735-917B-40869BD7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9DE-924B-4358-9004-0E620E90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A16C0-FE8F-422B-AA88-E8E6490B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742CA-F81A-4428-9188-1C5217F7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F8116-AA69-44FF-AEB2-0C72AFD1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83DF2-5E11-42F5-96F0-4CA3D3B0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C28F2-1287-42D1-B2AC-34B2C6D6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DF5F5-F2F3-4A05-82C0-91B2218A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A18BB-1C24-48BA-91BC-9FFDADAF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E2824-E4B4-4DD6-9C8F-FC0A0408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7BE0C-67D6-4F3D-AB07-DB128AA4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E20D0-164C-4065-A03D-FF90BFA6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17D-66B9-4134-A768-CD57EADC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99889-8381-45F0-B867-C488A5D4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2F151-6B4E-4A7D-8C12-F5B5F44C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70424-C4F5-4B66-99DB-C8C6C1AA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F599B-4D3F-40C6-8034-856BC2D1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02B14-C0D2-47CB-92F1-CC82FC50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1806E-0481-43FD-BBC5-EEAB29EF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5B76E-A975-4B73-8B3F-46C9213B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D56E7-AC41-43B3-8925-232152F5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8626D-DA11-4A63-B015-952D298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C1B32-E94D-4E7D-A704-15E6BFB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A0F0-539A-4CB7-91B4-581E9561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1D3CF-E43B-44CD-BF59-5FA08689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AAF0A-610F-45D6-A3B0-E1FEC1E2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5E8F6-C83A-4456-B5A1-644B0EE5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F6EB6-0B1F-4168-B498-B62F6F02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E73B1-4881-4FB5-9F3F-CCF2AF20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FAEB4-E008-4D64-8C8F-31EEDF64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AB9A8-233D-45C1-8006-515F213A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6B1ED-2A36-4C0C-BAB1-16EF982F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DECD6-2B66-4139-87F7-D17807A6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57BC1-79E7-46BA-9477-B8197181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9DC4-C90A-4973-926F-ECBCD190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A3581-A40E-4722-A4B6-780F319C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3F87C-B52A-499D-B033-235D7D0C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EC840-7E19-4A41-B975-FBFAB0BD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4AB0C-ED88-449F-92AD-CE3DA6E4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2DD66-5750-403A-BDFC-7C16801B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34103-A3E3-4C4A-95E7-BC660939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6F84D-1B76-42C8-B7A6-E23C628A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55205-A882-4285-9364-0BFE4326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EDAD9-485D-415D-AD87-AACB9964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88CBA-1B09-4E25-A704-14AAD49C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2700-25D5-4498-89FD-00375283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9D531-1F13-47AA-BAD6-ACA3FC83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78D66-EC3E-4ED8-BCCF-D2F7A06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B17BD-70E9-4797-9446-C63BFCB0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3A624-7BC0-4F8B-881A-EC939C7B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7B6BE-A606-4BD1-9CC8-2B443515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0A4B2-9648-41B1-BDB1-2A5362BC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39E23-DE02-42A9-86D3-74623021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4A04E-1883-42A0-BFAB-67DAAB49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CEAAB-E0B6-447D-BBAB-426C407C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05F1C-3CA0-42FA-8D7E-E34640C1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0190-8EBF-4C75-8300-7B34114E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45491-E6DF-48E2-AB33-97378681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302FF-9263-4DCD-A111-4FC43BF2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CF1EA-CE87-4A56-8994-587A0DE5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77D49-8880-4627-945C-F9812275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3AD57-1CB7-452C-9313-2BB5AA67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E1F55-EBEF-4C5C-8FEF-FCAB1D3D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22F82-DA4B-4358-B9C3-2AC2A44E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88CE9-23BD-4CFB-990F-687F8084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33126-796F-49D9-B7C2-793C3AC7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25E0-5506-4677-8BB9-8723D676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660C-0383-429B-A25E-BDFF051F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1F9B-CDCA-45DF-98B2-278035E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1D8-5716-4CB6-932E-A7DDD1DC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1765-2BFF-4084-86D3-5B61DF39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BCDC-2314-4AA3-B55D-FCC2160E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B153-CD48-43DF-9F1B-16396471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223D-2B96-4286-B68A-55A625BA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5C1E-E3F4-4532-8C0E-1AA4C889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D0B0-87A5-40CA-B97D-F1C6CE22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51EF-BB24-4F1C-8888-682E2BFA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F5768-B973-421E-9121-98519717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5657-3C46-42FA-B8EB-F08DEC19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6BAD-4345-4DD4-BDF7-73965B86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AB0-FEEE-455D-8A60-1C694A85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6A88-2E19-4314-A48C-1B60311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3EB1F-FA98-4390-BB7A-96D64849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8A4C-6E2D-44D3-A804-81FA7AC4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8C3A5-E216-4F6D-A36E-A9D752F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BEC0-BBE3-49C2-93E1-0C8D129C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7387-BA06-4B60-9DE9-15854BDB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F1BE-DFF3-4F49-930D-AE33C1CE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F8321-995C-49A4-B857-AB1EFEB1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736B-D990-4183-AE4D-0A5D91AE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16EB2-59B9-4CA0-A0A1-0F04A47D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236-660E-4950-83F4-908DFFB6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C1E8B-CAEF-44FE-8AE4-3041FAA0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D13E-F28C-49A8-BFE2-1E8F2242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6C7B5-96A8-4753-9CF8-AC559315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197F9-DD17-4831-A8FC-5C21BEAD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95B2C-3992-4840-8E14-F8947F6C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1D9F-A837-4C93-9149-80BC34C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FE74C-79C9-4D4B-9F17-99441414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15EE4-9128-4EB2-A05F-BC468EEB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0597-97B6-45E8-9A99-97D97916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94477-7481-420F-8794-D2B24BBE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8F1-212C-410A-A353-71FEC1AF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885D-B11C-4C71-9896-4A50A2BA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5130E-110A-42D1-A3AF-BC6A3CC0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59E82-BC31-4DCD-90D7-43941A87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A639F-D881-46FC-BED4-012EACA1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D65FA-CE69-419A-AFC9-BF924F54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D00E3-266E-44B9-8AC2-B487301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1D230-DF2C-4E54-B69E-800140C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DE577-488F-495D-82BC-40775CC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2041B-A7EF-470D-AF3A-99B6FBFC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920A-D153-4D26-BF7E-3549A4DD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75C-1DC2-4906-8D1E-59A9AC93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F1350-DFDC-413A-8E65-F339D298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18FC7-08AD-4E7E-91BE-714980B7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032BE-5A2A-4AE5-AD49-3CC54040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33D2D-C002-4E77-95D6-243E88A6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D7075-A5EE-4F18-9B2D-04B5BCB4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74028-C2B4-4D69-97FD-6755DB6F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928CC-1228-4CBE-B772-62DBDD6A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DA60D-30C2-4498-A6B3-A94E08D6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7FC6F-FEA0-4945-87A3-512892B9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55387-1AFD-4909-95C6-9FF46D72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EC1-BE42-412A-99FA-35B65712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EFA01-0D96-4C95-B070-516DC9F5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9ED66-4034-488D-8E10-0E6BAD5A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C7FA9-7132-4A3C-A83E-582794E6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0652A-7784-4D0A-B575-A72B1DCD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8F43A-4517-404F-A60F-2AA9066C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42815-A979-440C-A736-5154B07A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22A81-0AFB-4837-AF1C-DBD8582B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5EBD8-0A5D-493B-B007-F15601C3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5B4F8-D66C-4324-B5DC-91ECBC1F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C5E12-83CF-4227-BB3C-EB2BBB97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A60-1A28-466A-88C4-A921E2C8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B156-D52A-4DF1-A505-C718681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39931-09AC-4346-BC66-7DE09F7A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95226-DAC0-46D1-ACF8-913A233C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355B5-AE6E-4EA5-AF38-DDB19911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FB3B2-0F13-4819-A2FE-075AF177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7146F-4779-4BE7-87CD-AF695F1B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307BB-FEC8-45E8-B559-E08BE3F7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C6E27-FAE9-42A4-AE0B-BE45706E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1C68B-0780-41DA-8E0D-D17744CF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3F71D-EB75-446D-A4FC-69EC37A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CF4-E251-41AE-AA40-9261DAD9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28D97-2E74-403C-9F0E-2C43CA4E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EC168-D951-4F51-9149-F298DA5C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26AB6-1661-4A52-BD05-176B585F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09130-AD8C-43B3-9124-E1D7A701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E61E7-6554-47B5-84C6-654519AA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73E8A-8DCB-4ED3-8F14-BF2B8C2B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B3FD-FF06-49A8-8F97-D423ADC6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747A3-9259-462B-980B-2B9BC8EC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18975-8299-4929-B4F3-AA435D1D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25492-B422-4146-8CAA-D4DD4775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3FB3-7C37-41B9-A807-92755B57567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87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8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89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90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1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92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93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4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95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496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7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98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99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0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8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9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0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19C4-0910-442D-A50A-427104B55176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43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44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45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46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47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48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49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50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51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52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53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54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55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56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A163-385E-4EF7-9851-F3D76FF868D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99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0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1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2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3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4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05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6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7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08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9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10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611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2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C1EC-A169-4588-9F63-E6A3D3BDD120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55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6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7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58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0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61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2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3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4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5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6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667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8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3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3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AD18-2A7F-4748-A923-2E84B7EC04B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35B4-6E93-49C9-B655-1FD9B93BC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0C18-CF99-4EB1-AD8F-3143C8F6E1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98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01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03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04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5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7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3AC-AA6A-4410-A930-A1330B7DBC63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5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5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5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6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62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63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B400-BC8F-42A2-B18D-13E5B8801A4D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07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9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10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1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2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13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5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16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8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19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0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9D6-FCC5-4F22-A1F3-F3D129F254A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63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5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66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69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72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4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75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724D-EEFC-4ABA-B6BB-24E190BFE4B3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19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21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22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24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25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6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27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28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9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30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31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DF47-2608-4201-8372-51930B01F3CD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75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7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78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0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81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84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6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87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EDF3-F696-479A-9365-CC0598651596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3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3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3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3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3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3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44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4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42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43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EEA0-03BD-4884-B3E5-9EF630A61BF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1.xm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428760" y="2500200"/>
            <a:ext cx="83581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3300"/>
                </a:solidFill>
                <a:latin typeface="Comic Sans MS"/>
              </a:rPr>
              <a:t>МАТЕМАТИКА</a:t>
            </a:r>
            <a:r>
              <a:rPr b="1" lang="ru-RU" sz="8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428760" y="357120"/>
            <a:ext cx="82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МУНИЦИПАЛЬНОЕ БЮДЖНТНОЕ ОБЩЕОБРАЗОВАТЕЛЬНОЕ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УЧРЕЖДЕНИЕ «НИЖНЕСОРТЫМСКАЯ СРЕДНЯЯ ОБЩЕОБРАЗОВАТЕЛЬНАЯ ШКОЛА»</a:t>
            </a:r>
            <a:r>
              <a:rPr b="0" lang="ru-R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611280" y="4653000"/>
          <a:ext cx="5832360" cy="396720"/>
        </p:xfrm>
        <a:graphic>
          <a:graphicData uri="http://schemas.openxmlformats.org/drawingml/2006/table">
            <a:tbl>
              <a:tblPr/>
              <a:tblGrid>
                <a:gridCol w="1598400"/>
                <a:gridCol w="42339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Учитель: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Васильева  Мария  Васильевн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1" name="Text Box 11"/>
          <p:cNvSpPr/>
          <p:nvPr/>
        </p:nvSpPr>
        <p:spPr>
          <a:xfrm>
            <a:off x="395280" y="5877000"/>
            <a:ext cx="83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014год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2" name="Text Box 12"/>
          <p:cNvSpPr/>
          <p:nvPr/>
        </p:nvSpPr>
        <p:spPr>
          <a:xfrm>
            <a:off x="0" y="2214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мотр знаний - 6 класс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3" name="Rectangle 16"/>
          <p:cNvSpPr/>
          <p:nvPr/>
        </p:nvSpPr>
        <p:spPr>
          <a:xfrm>
            <a:off x="4214880" y="1111680"/>
            <a:ext cx="450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О, сколько же открытий чудных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нам математика даёт!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Возможность логикою  править,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В чудесный мир нас всех ведёт!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М.В.Васильева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7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5"/>
              <p:cNvSpPr txBox="1"/>
              <p:nvPr/>
            </p:nvSpPr>
            <p:spPr>
              <a:xfrm>
                <a:off x="1409760" y="2063880"/>
                <a:ext cx="6681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,6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3" name="Rectangle 6"/>
          <p:cNvSpPr/>
          <p:nvPr/>
        </p:nvSpPr>
        <p:spPr>
          <a:xfrm>
            <a:off x="684360" y="3716280"/>
            <a:ext cx="813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Отметьте на координатной плоскости две точки и определите их координаты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4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делят два отрицательных числа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8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Object 5"/>
              <p:cNvSpPr txBox="1"/>
              <p:nvPr/>
            </p:nvSpPr>
            <p:spPr>
              <a:xfrm>
                <a:off x="2185920" y="2063880"/>
                <a:ext cx="5127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,2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Rectangle 6"/>
          <p:cNvSpPr/>
          <p:nvPr/>
        </p:nvSpPr>
        <p:spPr>
          <a:xfrm>
            <a:off x="684360" y="3716280"/>
            <a:ext cx="81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Отметьте на координатной плоскости точк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делятся два числа с разн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8"/>
              <p:cNvSpPr txBox="1"/>
              <p:nvPr/>
            </p:nvSpPr>
            <p:spPr>
              <a:xfrm>
                <a:off x="2075040" y="4581360"/>
                <a:ext cx="5516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(</m:t>
                    </m:r>
                    <m:r>
                      <m:t xml:space="preserve">1,5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С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9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Найдите значение выражения </a:t>
            </a:r>
            <a:r>
              <a:rPr b="1" i="1" lang="ru-RU" sz="3000" spc="-1" strike="noStrike">
                <a:solidFill>
                  <a:srgbClr val="cc6600"/>
                </a:solidFill>
                <a:latin typeface="Comic Sans MS"/>
              </a:rPr>
              <a:t>    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 при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Object 5"/>
              <p:cNvSpPr txBox="1"/>
              <p:nvPr/>
            </p:nvSpPr>
            <p:spPr>
              <a:xfrm>
                <a:off x="2554200" y="2063880"/>
                <a:ext cx="4389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Rectangle 6"/>
          <p:cNvSpPr/>
          <p:nvPr/>
        </p:nvSpPr>
        <p:spPr>
          <a:xfrm>
            <a:off x="611280" y="43657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Сравните дроб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ри каком условии произведение двух чисел равно нулю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8"/>
              <p:cNvSpPr txBox="1"/>
              <p:nvPr/>
            </p:nvSpPr>
            <p:spPr>
              <a:xfrm>
                <a:off x="4427640" y="4076640"/>
                <a:ext cx="17082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Object 9"/>
              <p:cNvSpPr txBox="1"/>
              <p:nvPr/>
            </p:nvSpPr>
            <p:spPr>
              <a:xfrm>
                <a:off x="7020000" y="1268280"/>
                <a:ext cx="815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0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611280" y="1557360"/>
            <a:ext cx="410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Сократите дробь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3" name="Rectangle 6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Расположите в порядке возрастания числа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Сформулируйте основное свойство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8"/>
              <p:cNvSpPr txBox="1"/>
              <p:nvPr/>
            </p:nvSpPr>
            <p:spPr>
              <a:xfrm>
                <a:off x="2268360" y="4221000"/>
                <a:ext cx="35341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9"/>
              <p:cNvSpPr txBox="1"/>
              <p:nvPr/>
            </p:nvSpPr>
            <p:spPr>
              <a:xfrm>
                <a:off x="4572000" y="1268280"/>
                <a:ext cx="77796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1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611280" y="1557360"/>
            <a:ext cx="410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Сложите дроби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Вычислите наиболее удобным способом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складываются обыкновенные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Object 7"/>
              <p:cNvSpPr txBox="1"/>
              <p:nvPr/>
            </p:nvSpPr>
            <p:spPr>
              <a:xfrm>
                <a:off x="2843280" y="4508640"/>
                <a:ext cx="55926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Object 8"/>
              <p:cNvSpPr txBox="1"/>
              <p:nvPr/>
            </p:nvSpPr>
            <p:spPr>
              <a:xfrm>
                <a:off x="4427640" y="1268280"/>
                <a:ext cx="14778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2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11280" y="1557360"/>
            <a:ext cx="410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Решите уравн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Расскажите, как сложить два числа, содержащие целую и дробную части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Object 7"/>
              <p:cNvSpPr txBox="1"/>
              <p:nvPr/>
            </p:nvSpPr>
            <p:spPr>
              <a:xfrm>
                <a:off x="5076720" y="4076640"/>
                <a:ext cx="3302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Object 8"/>
              <p:cNvSpPr txBox="1"/>
              <p:nvPr/>
            </p:nvSpPr>
            <p:spPr>
              <a:xfrm>
                <a:off x="4253040" y="1268280"/>
                <a:ext cx="18270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3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вычита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4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Решите уравн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5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вычитаются обыкновенные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7"/>
              <p:cNvSpPr txBox="1"/>
              <p:nvPr/>
            </p:nvSpPr>
            <p:spPr>
              <a:xfrm>
                <a:off x="5154480" y="4076640"/>
                <a:ext cx="3146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8"/>
              <p:cNvSpPr txBox="1"/>
              <p:nvPr/>
            </p:nvSpPr>
            <p:spPr>
              <a:xfrm>
                <a:off x="5880240" y="1268280"/>
                <a:ext cx="151596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9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4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умноже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Чему равен    пр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умножаются обыкновенные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7"/>
              <p:cNvSpPr txBox="1"/>
              <p:nvPr/>
            </p:nvSpPr>
            <p:spPr>
              <a:xfrm>
                <a:off x="4119480" y="4417920"/>
                <a:ext cx="44881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,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ct 8"/>
              <p:cNvSpPr txBox="1"/>
              <p:nvPr/>
            </p:nvSpPr>
            <p:spPr>
              <a:xfrm>
                <a:off x="5842080" y="1249200"/>
                <a:ext cx="15937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ct 9"/>
              <p:cNvSpPr txBox="1"/>
              <p:nvPr/>
            </p:nvSpPr>
            <p:spPr>
              <a:xfrm>
                <a:off x="3564000" y="3911760"/>
                <a:ext cx="5634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5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умноже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9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Найдите значение       пр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0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Расскажите, как умножить целое число на обыкновенную дробь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7"/>
              <p:cNvSpPr txBox="1"/>
              <p:nvPr/>
            </p:nvSpPr>
            <p:spPr>
              <a:xfrm>
                <a:off x="3419640" y="4437000"/>
                <a:ext cx="31464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8"/>
              <p:cNvSpPr txBox="1"/>
              <p:nvPr/>
            </p:nvSpPr>
            <p:spPr>
              <a:xfrm>
                <a:off x="6035760" y="1268280"/>
                <a:ext cx="12049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Object 9"/>
              <p:cNvSpPr txBox="1"/>
              <p:nvPr/>
            </p:nvSpPr>
            <p:spPr>
              <a:xfrm>
                <a:off x="5076720" y="4076640"/>
                <a:ext cx="739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6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Упростите выраж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Расскажите, как перемножить два числа, содержащие целую и дробную част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7"/>
              <p:cNvSpPr txBox="1"/>
              <p:nvPr/>
            </p:nvSpPr>
            <p:spPr>
              <a:xfrm>
                <a:off x="2771640" y="4581360"/>
                <a:ext cx="3224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Object 8"/>
              <p:cNvSpPr txBox="1"/>
              <p:nvPr/>
            </p:nvSpPr>
            <p:spPr>
              <a:xfrm>
                <a:off x="3780000" y="1268280"/>
                <a:ext cx="15937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ahoma"/>
              </a:rPr>
              <a:t>Описание работы с презентацией: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1. 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Открыть  любой билет зачета.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.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Щелкнуть левой кнопкой мыши по открывшемуся номеру билета </a:t>
            </a:r>
            <a:r>
              <a:rPr b="1" i="1" lang="ru-RU" sz="2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появится содержание выбранного билета).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Чтобы вернуться на страничку  с билетами, нажмите клавишу «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БИЛЕТЫ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».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ри необходимости проведения зарядки для снятия усталости у учащихся в любой момент откройте «ГИМНАСТИКУ» для глаз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7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деле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Упростите выраж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делят на обыкновенную дробь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Object 7"/>
              <p:cNvSpPr txBox="1"/>
              <p:nvPr/>
            </p:nvSpPr>
            <p:spPr>
              <a:xfrm>
                <a:off x="5651640" y="4005360"/>
                <a:ext cx="3030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8"/>
              <p:cNvSpPr txBox="1"/>
              <p:nvPr/>
            </p:nvSpPr>
            <p:spPr>
              <a:xfrm>
                <a:off x="5384880" y="1268280"/>
                <a:ext cx="15541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Line 2"/>
          <p:cNvSpPr/>
          <p:nvPr/>
        </p:nvSpPr>
        <p:spPr>
          <a:xfrm>
            <a:off x="4643280" y="3718080"/>
            <a:ext cx="0" cy="2303280"/>
          </a:xfrm>
          <a:prstGeom prst="line">
            <a:avLst/>
          </a:prstGeom>
          <a:ln w="101520">
            <a:solidFill>
              <a:srgbClr val="eb5b0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9" name="Line 3"/>
          <p:cNvSpPr/>
          <p:nvPr/>
        </p:nvSpPr>
        <p:spPr>
          <a:xfrm>
            <a:off x="4643280" y="909720"/>
            <a:ext cx="0" cy="2230200"/>
          </a:xfrm>
          <a:prstGeom prst="line">
            <a:avLst/>
          </a:prstGeom>
          <a:ln w="101520">
            <a:solidFill>
              <a:srgbClr val="eb5b0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0" name="Line 4"/>
          <p:cNvSpPr/>
          <p:nvPr/>
        </p:nvSpPr>
        <p:spPr>
          <a:xfrm flipH="1" flipV="1">
            <a:off x="1619280" y="3429000"/>
            <a:ext cx="2806560" cy="1440"/>
          </a:xfrm>
          <a:prstGeom prst="line">
            <a:avLst/>
          </a:prstGeom>
          <a:ln w="101520">
            <a:solidFill>
              <a:srgbClr val="eb5b0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1" name="Line 5"/>
          <p:cNvSpPr/>
          <p:nvPr/>
        </p:nvSpPr>
        <p:spPr>
          <a:xfrm flipH="1" flipV="1">
            <a:off x="4858920" y="3429000"/>
            <a:ext cx="2806920" cy="1440"/>
          </a:xfrm>
          <a:prstGeom prst="line">
            <a:avLst/>
          </a:prstGeom>
          <a:ln w="101520">
            <a:solidFill>
              <a:srgbClr val="eb5b0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2" name="Oval 6"/>
          <p:cNvSpPr/>
          <p:nvPr/>
        </p:nvSpPr>
        <p:spPr>
          <a:xfrm>
            <a:off x="468360" y="549360"/>
            <a:ext cx="8351640" cy="5832360"/>
          </a:xfrm>
          <a:prstGeom prst="ellipse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3" name="Oval 7"/>
          <p:cNvSpPr/>
          <p:nvPr/>
        </p:nvSpPr>
        <p:spPr>
          <a:xfrm>
            <a:off x="755640" y="765000"/>
            <a:ext cx="7777080" cy="5400720"/>
          </a:xfrm>
          <a:prstGeom prst="ellipse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4" name="Line 8"/>
          <p:cNvSpPr/>
          <p:nvPr/>
        </p:nvSpPr>
        <p:spPr>
          <a:xfrm flipV="1">
            <a:off x="1332000" y="2276280"/>
            <a:ext cx="360360" cy="360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5" name="Line 9"/>
          <p:cNvSpPr/>
          <p:nvPr/>
        </p:nvSpPr>
        <p:spPr>
          <a:xfrm flipV="1">
            <a:off x="468360" y="2852280"/>
            <a:ext cx="7128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6" name="Line 10"/>
          <p:cNvSpPr/>
          <p:nvPr/>
        </p:nvSpPr>
        <p:spPr>
          <a:xfrm>
            <a:off x="900000" y="4221000"/>
            <a:ext cx="216000" cy="357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7" name="Oval 11"/>
          <p:cNvSpPr/>
          <p:nvPr/>
        </p:nvSpPr>
        <p:spPr>
          <a:xfrm>
            <a:off x="179280" y="3357720"/>
            <a:ext cx="468360" cy="46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8" name="Oval 12"/>
          <p:cNvSpPr/>
          <p:nvPr/>
        </p:nvSpPr>
        <p:spPr>
          <a:xfrm>
            <a:off x="1042920" y="1916280"/>
            <a:ext cx="3600360" cy="3095280"/>
          </a:xfrm>
          <a:prstGeom prst="ellipse">
            <a:avLst/>
          </a:prstGeom>
          <a:noFill/>
          <a:ln w="101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9" name="Oval 13"/>
          <p:cNvSpPr/>
          <p:nvPr/>
        </p:nvSpPr>
        <p:spPr>
          <a:xfrm>
            <a:off x="4643280" y="1989000"/>
            <a:ext cx="3600720" cy="3095640"/>
          </a:xfrm>
          <a:prstGeom prst="ellipse">
            <a:avLst/>
          </a:prstGeom>
          <a:noFill/>
          <a:ln w="101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0" name="Oval 14"/>
          <p:cNvSpPr/>
          <p:nvPr/>
        </p:nvSpPr>
        <p:spPr>
          <a:xfrm>
            <a:off x="4427640" y="3284640"/>
            <a:ext cx="431640" cy="360360"/>
          </a:xfrm>
          <a:prstGeom prst="ellipse">
            <a:avLst/>
          </a:prstGeom>
          <a:solidFill>
            <a:srgbClr val="eb5b03"/>
          </a:solidFill>
          <a:ln w="9360">
            <a:solidFill>
              <a:srgbClr val="eb5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539640" y="3213000"/>
            <a:ext cx="468360" cy="468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2" name="Oval 16"/>
          <p:cNvSpPr/>
          <p:nvPr/>
        </p:nvSpPr>
        <p:spPr>
          <a:xfrm>
            <a:off x="826920" y="3213000"/>
            <a:ext cx="468360" cy="4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3" name="Oval 17"/>
          <p:cNvSpPr/>
          <p:nvPr/>
        </p:nvSpPr>
        <p:spPr>
          <a:xfrm>
            <a:off x="4427640" y="3284640"/>
            <a:ext cx="431640" cy="360360"/>
          </a:xfrm>
          <a:prstGeom prst="ellipse">
            <a:avLst/>
          </a:prstGeom>
          <a:solidFill>
            <a:srgbClr val="eb5b03"/>
          </a:solidFill>
          <a:ln w="9360">
            <a:solidFill>
              <a:srgbClr val="eb5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4" name="Oval 18"/>
          <p:cNvSpPr/>
          <p:nvPr/>
        </p:nvSpPr>
        <p:spPr>
          <a:xfrm>
            <a:off x="179280" y="3357720"/>
            <a:ext cx="468360" cy="46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5" name="Oval 19"/>
          <p:cNvSpPr/>
          <p:nvPr/>
        </p:nvSpPr>
        <p:spPr>
          <a:xfrm>
            <a:off x="539640" y="3213000"/>
            <a:ext cx="468360" cy="468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6" name="Oval 20"/>
          <p:cNvSpPr/>
          <p:nvPr/>
        </p:nvSpPr>
        <p:spPr>
          <a:xfrm>
            <a:off x="826920" y="3213000"/>
            <a:ext cx="468360" cy="4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7" name="Oval 21"/>
          <p:cNvSpPr/>
          <p:nvPr/>
        </p:nvSpPr>
        <p:spPr>
          <a:xfrm>
            <a:off x="539640" y="3213000"/>
            <a:ext cx="468360" cy="468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8" name="AutoShape 44"/>
          <p:cNvSpPr/>
          <p:nvPr/>
        </p:nvSpPr>
        <p:spPr>
          <a:xfrm>
            <a:off x="7093080" y="5950080"/>
            <a:ext cx="183492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НАЗАД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531E-006 L -2.5E-006 -0.36171 E">
                                      <p:cBhvr>
                                        <p:cTn id="675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36171 L -2.5E-006 0.36216 E">
                                      <p:cBhvr>
                                        <p:cTn id="678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36216 L -2.5E-006 -0.00509 E">
                                      <p:cBhvr>
                                        <p:cTn id="681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3469E-006 L 0.32292 2.53469E-006 E">
                                      <p:cBhvr>
                                        <p:cTn id="684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4.6531E-006 L -0.33073 4.6531E-006 E">
                                      <p:cBhvr>
                                        <p:cTn id="687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1758 C 0.00608 -0.25185 0.2092 -0.44311 0.45868 -0.44311 C 0.70851 -0.44311 0.91094 -0.25185 0.91094 -0.01758 C 0.91094 0.21646 0.70851 0.40656 0.45868 0.40656 C 0.2092 0.40656 0.00608 0.21646 0.00608 -0.01758 Z">
                                      <p:cBhvr>
                                        <p:cTn id="697" dur="5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0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1221E-006 C 1.11111E-006 -0.21577 0.1908 -0.39269 0.425 -0.38922 C 0.65868 -0.39107 0.84896 -0.21577 0.84844 -2.81221E-006 C 0.8493 0.21624 0.65885 0.39108 0.425 0.39154 C 0.19114 0.39177 1.11111E-006 0.21624 1.11111E-006 -2.81221E-006 Z">
                                      <p:cBhvr>
                                        <p:cTn id="707" dur="5000" fill="hold"/>
                                        <p:tgtEl>
                                          <p:spTgt spid="9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7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716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6531E-006 C 1.38889E-006 0.12372 0.08507 0.22571 0.18871 0.22571 C 0.31094 0.22571 0.36545 0.12927 0.38403 0.06151 L 0.40087 -0.04718 C 0.41996 -0.11494 0.45677 -0.21508 0.59479 -0.21508 C 0.68316 -0.21508 0.78559 -0.12396 0.78559 4.6531E-006 C 0.78559 0.12372 0.68628 0.23982 0.59792 0.23982 C 0.45989 0.23982 0.41858 0.13344 0.39948 0.06568 L 0.38246 -0.05528 C 0.36389 -0.12304 0.31094 -0.22549 0.18871 -0.22549 C 0.08507 -0.22549 1.38889E-006 -0.12396 1.38889E-006 4.6531E-006 Z">
                                      <p:cBhvr>
                                        <p:cTn id="717" dur="5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531E-006 L -2.5E-006 -0.36171 E">
                                      <p:cBhvr>
                                        <p:cTn id="727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7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36171 L -2.5E-006 0.36216 E">
                                      <p:cBhvr>
                                        <p:cTn id="730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36216 L -2.5E-006 -0.00509 E">
                                      <p:cBhvr>
                                        <p:cTn id="733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7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3469E-006 L 0.32292 2.53469E-006 E">
                                      <p:cBhvr>
                                        <p:cTn id="736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7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4.6531E-006 L -0.33073 4.6531E-006 E">
                                      <p:cBhvr>
                                        <p:cTn id="739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7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74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1758 C 0.00608 -0.25185 0.2092 -0.44311 0.45868 -0.44311 C 0.70851 -0.44311 0.91094 -0.25185 0.91094 -0.01758 C 0.91094 0.21646 0.70851 0.40656 0.45868 0.40656 C 0.2092 0.40656 0.00608 0.21646 0.00608 -0.01758 Z">
                                      <p:cBhvr>
                                        <p:cTn id="749" dur="50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7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75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1221E-006 C 1.11111E-006 -0.21577 0.1908 -0.39269 0.425 -0.38922 C 0.65868 -0.39107 0.84896 -0.21577 0.84844 -2.81221E-006 C 0.8493 0.21624 0.65885 0.39108 0.425 0.39154 C 0.19114 0.39177 1.11111E-006 0.21624 1.11111E-006 -2.81221E-006 Z">
                                      <p:cBhvr>
                                        <p:cTn id="759" dur="5000" fill="hold"/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7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768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0611E-006 C -2.22222E-006 0.12373 0.08507 0.22572 0.18872 0.22572 C 0.31094 0.22572 0.36545 0.12928 0.38403 0.06152 L 0.40087 -0.04718 C 0.41997 -0.11494 0.45677 -0.21508 0.59479 -0.21508 C 0.68316 -0.21508 0.78559 -0.12396 0.78559 -1.40611E-006 C 0.78559 0.12373 0.68629 0.23983 0.59792 0.23983 C 0.4599 0.23983 0.41858 0.13344 0.39948 0.06568 L 0.38247 -0.05527 C 0.36389 -0.12303 0.31094 -0.22548 0.18872 -0.22548 C 0.08507 -0.22548 -2.22222E-006 -0.12396 -2.22222E-006 -1.40611E-006 Z">
                                      <p:cBhvr>
                                        <p:cTn id="769" dur="5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7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64500"/>
                            </p:stCondLst>
                            <p:childTnLst>
                              <p:par>
                                <p:cTn id="7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WordArt 105"/>
          <p:cNvSpPr txBox="1"/>
          <p:nvPr/>
        </p:nvSpPr>
        <p:spPr>
          <a:xfrm>
            <a:off x="2700360" y="2421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6" name="WordArt 106"/>
          <p:cNvSpPr txBox="1"/>
          <p:nvPr/>
        </p:nvSpPr>
        <p:spPr>
          <a:xfrm>
            <a:off x="4357800" y="3429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2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7" name="WordArt 107"/>
          <p:cNvSpPr txBox="1"/>
          <p:nvPr/>
        </p:nvSpPr>
        <p:spPr>
          <a:xfrm>
            <a:off x="6012000" y="4508640"/>
            <a:ext cx="46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3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8" name="WordArt 108"/>
          <p:cNvSpPr txBox="1"/>
          <p:nvPr/>
        </p:nvSpPr>
        <p:spPr>
          <a:xfrm>
            <a:off x="6012000" y="1484280"/>
            <a:ext cx="46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4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9" name="WordArt 109"/>
          <p:cNvSpPr txBox="1"/>
          <p:nvPr/>
        </p:nvSpPr>
        <p:spPr>
          <a:xfrm>
            <a:off x="6227640" y="335772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5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0" name="WordArt 110"/>
          <p:cNvSpPr txBox="1"/>
          <p:nvPr/>
        </p:nvSpPr>
        <p:spPr>
          <a:xfrm>
            <a:off x="1116000" y="1413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6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1" name="WordArt 111"/>
          <p:cNvSpPr txBox="1"/>
          <p:nvPr/>
        </p:nvSpPr>
        <p:spPr>
          <a:xfrm>
            <a:off x="2701800" y="450864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7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2" name="WordArt 112"/>
          <p:cNvSpPr txBox="1"/>
          <p:nvPr/>
        </p:nvSpPr>
        <p:spPr>
          <a:xfrm>
            <a:off x="4284720" y="2421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8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3" name="WordArt 113"/>
          <p:cNvSpPr txBox="1"/>
          <p:nvPr/>
        </p:nvSpPr>
        <p:spPr>
          <a:xfrm>
            <a:off x="7597800" y="2421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9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4" name="WordArt 114"/>
          <p:cNvSpPr txBox="1"/>
          <p:nvPr/>
        </p:nvSpPr>
        <p:spPr>
          <a:xfrm>
            <a:off x="971640" y="4437000"/>
            <a:ext cx="934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0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5" name="WordArt 115"/>
          <p:cNvSpPr txBox="1"/>
          <p:nvPr/>
        </p:nvSpPr>
        <p:spPr>
          <a:xfrm>
            <a:off x="900000" y="2421000"/>
            <a:ext cx="9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1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6" name="WordArt 116"/>
          <p:cNvSpPr txBox="1"/>
          <p:nvPr/>
        </p:nvSpPr>
        <p:spPr>
          <a:xfrm>
            <a:off x="971640" y="3429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2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7" name="WordArt 117"/>
          <p:cNvSpPr txBox="1"/>
          <p:nvPr/>
        </p:nvSpPr>
        <p:spPr>
          <a:xfrm>
            <a:off x="5796000" y="2421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3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8" name="WordArt 118"/>
          <p:cNvSpPr txBox="1"/>
          <p:nvPr/>
        </p:nvSpPr>
        <p:spPr>
          <a:xfrm>
            <a:off x="4140360" y="4437000"/>
            <a:ext cx="934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4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9" name="WordArt 119"/>
          <p:cNvSpPr txBox="1"/>
          <p:nvPr/>
        </p:nvSpPr>
        <p:spPr>
          <a:xfrm>
            <a:off x="2556000" y="3429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5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0" name="WordArt 120"/>
          <p:cNvSpPr txBox="1"/>
          <p:nvPr/>
        </p:nvSpPr>
        <p:spPr>
          <a:xfrm>
            <a:off x="2484360" y="1413000"/>
            <a:ext cx="9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6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1" name="WordArt 121"/>
          <p:cNvSpPr txBox="1"/>
          <p:nvPr/>
        </p:nvSpPr>
        <p:spPr>
          <a:xfrm>
            <a:off x="4067280" y="1413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7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2" name="AutoShape 132"/>
          <p:cNvSpPr/>
          <p:nvPr/>
        </p:nvSpPr>
        <p:spPr>
          <a:xfrm>
            <a:off x="395280" y="260280"/>
            <a:ext cx="4824360" cy="978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3" name="AutoShape 44">
            <a:hlinkClick r:id="rId2" action="ppaction://hlinksldjump"/>
          </p:cNvPr>
          <p:cNvSpPr/>
          <p:nvPr/>
        </p:nvSpPr>
        <p:spPr>
          <a:xfrm>
            <a:off x="0" y="6381720"/>
            <a:ext cx="9144000" cy="476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гимнастика для глаз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4" name="Rectangle 145"/>
          <p:cNvSpPr/>
          <p:nvPr/>
        </p:nvSpPr>
        <p:spPr>
          <a:xfrm>
            <a:off x="5508720" y="1341360"/>
            <a:ext cx="1368360" cy="9352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5" name="Rectangle 145"/>
          <p:cNvSpPr/>
          <p:nvPr/>
        </p:nvSpPr>
        <p:spPr>
          <a:xfrm>
            <a:off x="5580000" y="3357720"/>
            <a:ext cx="1368360" cy="8632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6" name="Rectangle 145"/>
          <p:cNvSpPr/>
          <p:nvPr/>
        </p:nvSpPr>
        <p:spPr>
          <a:xfrm>
            <a:off x="539640" y="1341360"/>
            <a:ext cx="1368360" cy="9352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7" name="Rectangle 145"/>
          <p:cNvSpPr/>
          <p:nvPr/>
        </p:nvSpPr>
        <p:spPr>
          <a:xfrm>
            <a:off x="2214720" y="2357280"/>
            <a:ext cx="1368360" cy="935280"/>
          </a:xfrm>
          <a:prstGeom prst="rect">
            <a:avLst/>
          </a:prstGeom>
          <a:blipFill rotWithShape="0">
            <a:blip r:embed="rId7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8" name="Rectangle 145"/>
          <p:cNvSpPr/>
          <p:nvPr/>
        </p:nvSpPr>
        <p:spPr>
          <a:xfrm>
            <a:off x="7164360" y="2421000"/>
            <a:ext cx="1368360" cy="934920"/>
          </a:xfrm>
          <a:prstGeom prst="rect">
            <a:avLst/>
          </a:prstGeom>
          <a:blipFill rotWithShape="0">
            <a:blip r:embed="rId8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9" name="Rectangle 145"/>
          <p:cNvSpPr/>
          <p:nvPr/>
        </p:nvSpPr>
        <p:spPr>
          <a:xfrm>
            <a:off x="3851280" y="3357720"/>
            <a:ext cx="1368360" cy="934920"/>
          </a:xfrm>
          <a:prstGeom prst="rect">
            <a:avLst/>
          </a:prstGeom>
          <a:blipFill rotWithShape="0">
            <a:blip r:embed="rId9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0" name="Rectangle 145"/>
          <p:cNvSpPr/>
          <p:nvPr/>
        </p:nvSpPr>
        <p:spPr>
          <a:xfrm>
            <a:off x="2214720" y="4357800"/>
            <a:ext cx="1368360" cy="934920"/>
          </a:xfrm>
          <a:prstGeom prst="rect">
            <a:avLst/>
          </a:prstGeom>
          <a:blipFill rotWithShape="0">
            <a:blip r:embed="rId10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1" name="Rectangle 145"/>
          <p:cNvSpPr/>
          <p:nvPr/>
        </p:nvSpPr>
        <p:spPr>
          <a:xfrm>
            <a:off x="5583240" y="4429080"/>
            <a:ext cx="1368360" cy="934920"/>
          </a:xfrm>
          <a:prstGeom prst="rect">
            <a:avLst/>
          </a:prstGeom>
          <a:blipFill rotWithShape="0">
            <a:blip r:embed="rId11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2" name="Rectangle 145"/>
          <p:cNvSpPr/>
          <p:nvPr/>
        </p:nvSpPr>
        <p:spPr>
          <a:xfrm>
            <a:off x="3851280" y="2349360"/>
            <a:ext cx="1368360" cy="863640"/>
          </a:xfrm>
          <a:prstGeom prst="rect">
            <a:avLst/>
          </a:prstGeom>
          <a:blipFill rotWithShape="0">
            <a:blip r:embed="rId12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3" name="Rectangle 145"/>
          <p:cNvSpPr/>
          <p:nvPr/>
        </p:nvSpPr>
        <p:spPr>
          <a:xfrm>
            <a:off x="611280" y="4365720"/>
            <a:ext cx="1368360" cy="934920"/>
          </a:xfrm>
          <a:prstGeom prst="rect">
            <a:avLst/>
          </a:prstGeom>
          <a:blipFill rotWithShape="0">
            <a:blip r:embed="rId13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4" name="Rectangle 145"/>
          <p:cNvSpPr/>
          <p:nvPr/>
        </p:nvSpPr>
        <p:spPr>
          <a:xfrm>
            <a:off x="3851280" y="1341360"/>
            <a:ext cx="1368360" cy="863640"/>
          </a:xfrm>
          <a:prstGeom prst="rect">
            <a:avLst/>
          </a:prstGeom>
          <a:blipFill rotWithShape="0">
            <a:blip r:embed="rId14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5" name="Rectangle 145"/>
          <p:cNvSpPr/>
          <p:nvPr/>
        </p:nvSpPr>
        <p:spPr>
          <a:xfrm>
            <a:off x="611280" y="2421000"/>
            <a:ext cx="1368360" cy="863640"/>
          </a:xfrm>
          <a:prstGeom prst="rect">
            <a:avLst/>
          </a:prstGeom>
          <a:blipFill rotWithShape="0">
            <a:blip r:embed="rId15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6" name="Rectangle 145"/>
          <p:cNvSpPr/>
          <p:nvPr/>
        </p:nvSpPr>
        <p:spPr>
          <a:xfrm>
            <a:off x="2211480" y="1347840"/>
            <a:ext cx="1368360" cy="863640"/>
          </a:xfrm>
          <a:prstGeom prst="rect">
            <a:avLst/>
          </a:prstGeom>
          <a:blipFill rotWithShape="0">
            <a:blip r:embed="rId16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7" name="Rectangle 145"/>
          <p:cNvSpPr/>
          <p:nvPr/>
        </p:nvSpPr>
        <p:spPr>
          <a:xfrm>
            <a:off x="5580000" y="2421000"/>
            <a:ext cx="1368360" cy="792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8" name="Rectangle 145"/>
          <p:cNvSpPr/>
          <p:nvPr/>
        </p:nvSpPr>
        <p:spPr>
          <a:xfrm>
            <a:off x="611280" y="3392640"/>
            <a:ext cx="1368360" cy="793440"/>
          </a:xfrm>
          <a:prstGeom prst="rect">
            <a:avLst/>
          </a:prstGeom>
          <a:blipFill rotWithShape="0">
            <a:blip r:embed="rId18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9" name="Rectangle 145"/>
          <p:cNvSpPr/>
          <p:nvPr/>
        </p:nvSpPr>
        <p:spPr>
          <a:xfrm>
            <a:off x="2268360" y="3429000"/>
            <a:ext cx="1368720" cy="792000"/>
          </a:xfrm>
          <a:prstGeom prst="rect">
            <a:avLst/>
          </a:prstGeom>
          <a:blipFill rotWithShape="0">
            <a:blip r:embed="rId19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0" name="Rectangle 145"/>
          <p:cNvSpPr/>
          <p:nvPr/>
        </p:nvSpPr>
        <p:spPr>
          <a:xfrm>
            <a:off x="3924360" y="4437000"/>
            <a:ext cx="1368360" cy="935280"/>
          </a:xfrm>
          <a:prstGeom prst="rect">
            <a:avLst/>
          </a:prstGeom>
          <a:blipFill rotWithShape="0">
            <a:blip r:embed="rId20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8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AutoShape 44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2" name="Rectangle 45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3" name="Rectangle 46"/>
          <p:cNvSpPr/>
          <p:nvPr/>
        </p:nvSpPr>
        <p:spPr>
          <a:xfrm>
            <a:off x="611280" y="1374840"/>
            <a:ext cx="8137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6600"/>
                </a:solidFill>
                <a:latin typeface="Comic Sans MS"/>
              </a:rPr>
              <a:t>1. Корень уравнения с одной переменной. Что значит решить уравнение? 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47"/>
              <p:cNvSpPr txBox="1"/>
              <p:nvPr/>
            </p:nvSpPr>
            <p:spPr>
              <a:xfrm>
                <a:off x="3851280" y="2886120"/>
                <a:ext cx="3651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5" name="Rectangle 49"/>
          <p:cNvSpPr/>
          <p:nvPr/>
        </p:nvSpPr>
        <p:spPr>
          <a:xfrm>
            <a:off x="611280" y="3860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6600"/>
                </a:solidFill>
                <a:latin typeface="Comic Sans MS"/>
              </a:rPr>
              <a:t>3. Разложите на множители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6" name="Rectangle 50"/>
          <p:cNvSpPr/>
          <p:nvPr/>
        </p:nvSpPr>
        <p:spPr>
          <a:xfrm>
            <a:off x="611280" y="2311560"/>
            <a:ext cx="82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6600"/>
                </a:solidFill>
                <a:latin typeface="Comic Sans MS"/>
              </a:rPr>
              <a:t>2. Какие из чисел 1, 2, 3, -3, -2, -1 являются корнями уравнения 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3"/>
              <p:cNvSpPr txBox="1"/>
              <p:nvPr/>
            </p:nvSpPr>
            <p:spPr>
              <a:xfrm>
                <a:off x="3924360" y="4327560"/>
                <a:ext cx="34956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2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5"/>
              <p:cNvSpPr txBox="1"/>
              <p:nvPr/>
            </p:nvSpPr>
            <p:spPr>
              <a:xfrm>
                <a:off x="1060560" y="2063880"/>
                <a:ext cx="7381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,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7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2" name="Rectangle 6"/>
          <p:cNvSpPr/>
          <p:nvPr/>
        </p:nvSpPr>
        <p:spPr>
          <a:xfrm>
            <a:off x="611280" y="3645000"/>
            <a:ext cx="8136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Постройте угол АОВ, равный 70</a:t>
            </a:r>
            <a:r>
              <a:rPr b="1" lang="ru-RU" sz="3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. Разделите его лучом ОК на два равных угла с помощью транспортира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3" name="Rectangle 8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складываются два числа с одинаков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3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5"/>
              <p:cNvSpPr txBox="1"/>
              <p:nvPr/>
            </p:nvSpPr>
            <p:spPr>
              <a:xfrm>
                <a:off x="1758960" y="2063880"/>
                <a:ext cx="5983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,6</m:t>
                    </m:r>
                    <m:r>
                      <m:t xml:space="preserve">+</m:t>
                    </m:r>
                    <m:r>
                      <m:t xml:space="preserve">0,8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Rectangle 6"/>
          <p:cNvSpPr/>
          <p:nvPr/>
        </p:nvSpPr>
        <p:spPr>
          <a:xfrm>
            <a:off x="684360" y="3645000"/>
            <a:ext cx="813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Начертите окружность, проведите радиус и диаметр, измерьте их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9" name="Rectangle 8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складываются два числа с разн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4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5"/>
              <p:cNvSpPr txBox="1"/>
              <p:nvPr/>
            </p:nvSpPr>
            <p:spPr>
              <a:xfrm>
                <a:off x="1001880" y="2063880"/>
                <a:ext cx="7497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4" name="Rectangle 6"/>
          <p:cNvSpPr/>
          <p:nvPr/>
        </p:nvSpPr>
        <p:spPr>
          <a:xfrm>
            <a:off x="611280" y="3645000"/>
            <a:ext cx="8136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Проведите через точку А прямую, параллельную данной прямой </a:t>
            </a:r>
            <a:r>
              <a:rPr b="1" i="1" lang="ru-RU" sz="3000" spc="-1" strike="noStrike">
                <a:solidFill>
                  <a:srgbClr val="cc6600"/>
                </a:solidFill>
                <a:latin typeface="Comic Sans MS"/>
              </a:rPr>
              <a:t>а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5" name="Rectangle 8"/>
          <p:cNvSpPr/>
          <p:nvPr/>
        </p:nvSpPr>
        <p:spPr>
          <a:xfrm>
            <a:off x="395280" y="2565360"/>
            <a:ext cx="835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вычитаются положительные и отрицательные числа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5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5"/>
              <p:cNvSpPr txBox="1"/>
              <p:nvPr/>
            </p:nvSpPr>
            <p:spPr>
              <a:xfrm>
                <a:off x="1544760" y="2063880"/>
                <a:ext cx="641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,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0" name="Rectangle 6"/>
          <p:cNvSpPr/>
          <p:nvPr/>
        </p:nvSpPr>
        <p:spPr>
          <a:xfrm>
            <a:off x="611280" y="3645000"/>
            <a:ext cx="8136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Проведите через точку А прямую, перпендикулярную данной прямой </a:t>
            </a:r>
            <a:r>
              <a:rPr b="1" i="1" lang="ru-RU" sz="3000" spc="-1" strike="noStrike">
                <a:solidFill>
                  <a:srgbClr val="cc6600"/>
                </a:solidFill>
                <a:latin typeface="Comic Sans MS"/>
              </a:rPr>
              <a:t>а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умножаются два отрицательных числа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6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5"/>
              <p:cNvSpPr txBox="1"/>
              <p:nvPr/>
            </p:nvSpPr>
            <p:spPr>
              <a:xfrm>
                <a:off x="2244600" y="2063880"/>
                <a:ext cx="5010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,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6" name="Rectangle 6"/>
          <p:cNvSpPr/>
          <p:nvPr/>
        </p:nvSpPr>
        <p:spPr>
          <a:xfrm>
            <a:off x="684360" y="3716280"/>
            <a:ext cx="813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Какие целые числа расположены между числами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умножают два числа с разн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Object 8"/>
              <p:cNvSpPr txBox="1"/>
              <p:nvPr/>
            </p:nvSpPr>
            <p:spPr>
              <a:xfrm>
                <a:off x="4000680" y="4286160"/>
                <a:ext cx="4427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,5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2,5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1:04:19Z</dcterms:created>
  <dc:creator>Компьютер</dc:creator>
  <dc:description/>
  <dc:language>en-US</dc:language>
  <cp:lastModifiedBy>USER</cp:lastModifiedBy>
  <dcterms:modified xsi:type="dcterms:W3CDTF">2014-11-18T20:59:48Z</dcterms:modified>
  <cp:revision>29</cp:revision>
  <dc:subject/>
  <dc:title>Слайд 1</dc:title>
</cp:coreProperties>
</file>