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dt" idx="4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ftr" idx="4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 type="sldNum" idx="4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5B44-CBAA-49E0-BB5B-29CB5164E0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663C-BB50-487E-AD4D-001455418C8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D0BF-13C9-4F6F-AD39-96C17351A195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C392-718B-4C2A-B9F2-5B920979D7F1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2DF1-E181-4F90-872B-C83DAECDA20F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9CD5-6D79-4433-802B-5B4967F8C356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E15F-7A02-4EB7-B786-078A8F2DFA5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805-35A2-4497-8C64-122869C2D71B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B8BA-38B7-4D2F-A18C-89F45F72CC9E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60F6-9B2E-4CE3-9AF7-FA04AAEAE469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EF77-C618-4349-A669-BED07899417B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4B26-0126-4880-8A62-BC7418B32939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712-86DC-4E92-85BD-15235837B871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BE60-F8FA-4C3D-AE13-C4C07AF87BDD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A137-D71E-43A1-A336-A0DF20211E0C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A755-7B0F-4CA4-9886-8FCC1A72D7EA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CF57-A4A4-42A6-986E-19460640630B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C556-2286-4686-87A4-79C7DF1376F5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CEE1-2A5D-4198-9784-EE1E88512F42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C99E-C9BC-4BB0-8F19-2289901915BB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735-CA19-423E-BAD6-8B9868E6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B99-53F8-465C-86CC-6A31B9E4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5F5D5-F4D1-46E3-9134-43260F0D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38145-BE38-462C-BBC6-B11F2653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EC6AB-CE12-4FB1-9B85-835DE72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22B1E-7283-4BEB-91DB-75457FD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EDCA1-C3AE-4B2D-8442-2091B678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FA0C0-1E95-4773-B3E5-3AEFD4BD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53325-2532-42F6-91A8-F859E9B0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CD098-7B01-49C7-A552-B1769B39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5E89E-D746-4CCA-B79B-FE1547F3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70C31-C0D3-487A-88A5-81005F5D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5D4-A865-4A3E-89D8-70404CDF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93277-C96B-4755-B0B4-57CF5D29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421DC-B0EE-4F6E-BEEF-115D5CD2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92C04-BBF4-4CA6-84D9-9707143A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61778-B732-4E82-855B-D8441450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00EE9-E3BC-4067-9A27-C6383746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036DB-AB03-478C-8389-C423C4F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89C46-F35C-48B6-A347-8F26A568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AC406-FC2B-439F-8DA9-A387FB36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1975E-A151-4C46-86F8-176878B3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65111-9B0B-48AD-B1BA-DBD2216A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4F8-06FB-47EB-A87C-3F033204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016E1-FF76-4D22-ABCF-F3839F5E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811F2-39CB-4029-A922-F98E3E88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44436-3932-42D4-AAB1-38351077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F2DD4-7D51-42AE-B28C-C18BA4B8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F09F9-59F2-412E-99CB-72E7E7FB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CA503-C0B9-4601-A39C-8CDD2CBC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4E3C4-1BBF-442A-B2A5-7A4D0C2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603E6-E1B6-4C3F-96B7-52FA479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A1768-942C-4980-9D62-30EA5016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94C21-1A4F-41FF-8742-BC1EF14E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7A9F-CFC4-4136-9A2F-0B66790C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B41BB-6C79-4D25-B298-0A1B58C2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DAA9B-E0BA-4A8A-A746-413D75A6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73A4D-54B4-4C91-A80B-0E5C86F5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26E2E-6213-448D-8FD8-DF4BF4D0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FD80D-ADFC-4D54-92CF-A3032D6F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AAE46-BF67-4FA2-9ACC-05F1163C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8DF64-60FC-4B18-98B5-59B9ED51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8E912-9B43-43F7-A7BF-E933168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B7B8A-534A-4DA1-8197-33CC759A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EE73C-8824-4BD7-AE62-3FE66D6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FE7B-03DC-4828-A282-01832C20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55A33-CC84-41B4-87E3-6299D637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497D5-48C3-4F44-9AEB-9351FCD6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8FB23-7AE4-419A-B1C5-9A62A4FB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189F5-AEF6-460A-944F-91D2897A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1F60D-94C9-497E-ADE3-55099F39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18E0B-01B7-42A4-95F7-4FA9DA1B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6BAEB-EBC3-41D0-9EEC-3D702970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F924B-F181-4DEA-9E79-64DA3813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7588B-82DF-40C6-B9D3-8EB44D44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55B7D-4EA3-434F-AE5D-0607F46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29A6-6E9D-4071-8FD2-C8689FB1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F65E3-E1C3-427A-AB22-05A84752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761FE-CA3F-4E70-A2B0-116603E0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ECE6A-3967-4898-9FA3-80865664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94F0F-8289-4B6B-BC81-B6C51A7B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28D7A-CE0A-4228-805B-51B348DD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585A5-C318-4DE9-8B53-80042F42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8CD3A-E46E-485B-BF9F-B3B3C0CB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FB80E-2128-490A-A971-4352109F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43C5F-4F5C-4C9E-98DB-BA872CBA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928FC-A27B-4CF2-97D0-186A6B8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D2F3-A2F7-4F54-8A94-A346E2D6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D4C77-07A7-44FB-BA01-DFAD8413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C6250-373B-43F6-A007-CA18B50D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5D3FD-B792-42DA-A4F1-42B2D8F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AC4F4-FBC2-4DDF-9A17-5D849578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C0343-E571-4803-8632-100AD5B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B387F-8E92-4E29-A45B-9145D98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A0A41-C303-488A-B8DE-D1215810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61CFA-F5B2-4D6A-AB2C-79195636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259BA-1B7A-4EF8-B91A-11CC66D5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B2BB-96C7-4A77-BDF3-280BC37A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C5C8-2D0C-461F-ADCC-FC3B2118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BC99-9209-4520-B14C-8F553ECB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351-3D2A-4F42-9F5D-A3771BBA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F8E4-B31E-42C9-9C3B-213D0A5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C30B-F29D-45E0-9E7D-530489F7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35D8-58EE-40AF-9DB6-1B6CB56B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A0BD-DC0F-470D-A952-A11B0556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DCC6-2227-41B5-B47D-0B2D9D5B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E5F7-177A-43AC-877D-07A34EC1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8A7D-C715-421B-90F6-803C12E3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67EC-D6D7-4C51-861D-D31717FF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8601-45E9-438E-A6CD-A8538968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1A68-65C1-417C-A038-8E49413A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5C3-22A9-4FE2-94F3-C7C36EB2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4951-D027-4683-A42B-D7C0B480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32DB-AC71-4F6D-81BF-D36F1788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1D3D-61A4-49A3-96F6-177D2EA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0697-7456-48A2-B180-2EEB893D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9850-A23A-46D8-BF5B-384A783A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7FA4-F13C-4BC8-A7EA-A8068FF0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63E7-3C0B-4F82-8A5A-01BD37EA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DD6F-0A2A-4DF0-BDAB-2F6F5882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DDBFB-8EDC-4A52-A32D-E678AC1B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4CC7D-1BDF-485A-81FF-A37DA03F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F7D-31A2-417D-BB47-41AEC461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C9FA-A9A9-41E0-B135-1B1FC067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A2209-61C6-4DDB-9B06-5ECC297C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AC78-A642-4E49-8291-CF5B3E64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AA7B-2ABF-4FC0-B0A7-467B45F7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300E-65BF-4E36-A237-7BF75D6A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B927-B9B9-40C0-BB18-3C01E68D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8B6A-7398-4C7E-9C9C-02004031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39D0C-668B-4D83-9AB6-0A9A8A93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B8426-FD54-4100-8A36-C7438E63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87327-9205-43BD-9DE7-E27E3F81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CDB-787D-4D65-9C92-68A9BA42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572C7-2A64-487B-9AA4-82DB7652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4487-EFFF-4C48-A51C-E4E33D65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D066E-E3FC-4434-A461-608AF3A5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6343D-C761-4EEB-8908-80866B5F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64A5B-F9F2-4D9D-8C24-CB322C2B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A3489-6278-47DC-85FC-0AEAF08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FA06F-D68B-483C-BD17-78CF17AF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1381-8C7C-4F23-B93D-217B740D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3BA78-38ED-4701-BAE0-EE6842F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50534-4929-4AB1-9ADC-8536AE0B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F8F-EB93-41BB-B524-93A3375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B1154-055D-487D-8EAE-CD5D6FF5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60D3-16D4-47E5-9AA1-300968BC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778B4-B924-4424-BAA2-EEE2B6F0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55F0-828C-4ED1-95A6-7FE08EE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FAAB3-876D-4272-ACA7-1613F53E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95078-26E6-42BC-B772-D615E02F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1FBD-1FAD-49D1-AD33-259E7FA7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50BAE-D240-4EBC-8331-73BB5A3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94FE2-589F-4C61-A8BF-7811076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760D-C6BE-43B2-8755-44FFD751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A17-9B21-4EBC-9E79-25DF0912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611C8-5758-4BD8-8E31-8426C4D0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2C890-EFEA-4396-853F-851D29A3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68942-EAB0-41AF-8C40-CC568316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1C96E-747D-457B-A008-41DF33CE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94893-1589-41F4-83E9-A1278F8C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99E77-7B07-4E47-BCEF-C87C9A7B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51B9-D07B-4E7B-A068-23B61374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53B61-F4FB-4120-B275-6F967322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3BEA-50D3-45D8-B848-C0C6598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0ECBB-9615-4099-B21F-95CA918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616-5B5B-4ACF-95D6-E73C149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7485-0EC7-4CFA-BC26-D589438C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00778-D441-42E5-B49A-183F9242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D083C-8291-4906-94A1-9DEC835F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1EF2-A8FC-43F0-BF25-B4D9DF96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3824-D1C2-4282-A454-8FA4C936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0DDFB-69B1-457A-959B-AAEAB9D6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D34F1-CC9E-4000-A93F-BCF2AB2F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D5DEE-994A-4837-AEAB-EC6652D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A37E-7316-47B9-B8C2-A4480587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820DE-0223-4AB7-BED4-7EAA8A27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B36-CBDD-4E46-AB1B-40509DA4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6EC02-EF91-4FAD-9DC4-028E5B58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4B7F2-242E-484C-B545-7BAB6998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77142-D5FF-4048-8027-1EACF50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5C74-E89E-4E31-AEC8-61B830C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A2CF-3499-4AC9-917F-5D5E26D6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EB938-ED39-4942-9AB9-1A3DD895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FB25C-AEE8-49FF-8B47-044A12E5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AD120-5C3A-4511-A8E4-03179090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CE8AA-B367-4C24-9D22-CC0C81CB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43304-0CE9-4BFC-ACC2-DF2317C4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497D-7E2D-4739-83CC-3DBBB0A656A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87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8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89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90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1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92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93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4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95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96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7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98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99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0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8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9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0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B86B-8AB0-4DCA-9872-0FB87C459AE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43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44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45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46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47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48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49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50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51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52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53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54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55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56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D7D6-56DF-4598-BEEA-8CD2BC08D1C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99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0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1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2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3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4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05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6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7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08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9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10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11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2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1E4D-A394-4D8C-9F16-7BCE3FF2BEF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55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6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7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58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0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61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2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3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4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6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67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8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3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3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C03-FAA4-45BD-9A5F-A623EDE4274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3ADA-D255-4348-A2B4-68999609B4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C739-E0E6-4E79-9163-227693E9F3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9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0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A259-67CE-44D5-880F-DCDD0D531996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5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5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5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6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62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63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9B82-5125-4354-B37F-5C5F0339C27B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07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9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10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2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13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5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16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19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8DA-3EDA-4CCF-9BC6-8E44420C851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63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5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66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69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72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4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75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BE64-C98B-4F80-9C86-D535C8C5338B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19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22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4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25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6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28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9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30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31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D236-B23C-4DFB-908B-C698FD0FF46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75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7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78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0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81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84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6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87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17AD-7CF5-432E-B40B-67C2BC0172F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3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3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3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4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42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43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6F68-D6A0-4F2A-90FA-F546FDB8D3E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1.xm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428760" y="2500200"/>
            <a:ext cx="83581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3300"/>
                </a:solidFill>
                <a:latin typeface="Comic Sans MS"/>
              </a:rPr>
              <a:t>МАТЕМАТИКА</a:t>
            </a:r>
            <a:r>
              <a:rPr b="1" lang="ru-RU" sz="8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428760" y="357120"/>
            <a:ext cx="82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МУНИЦИПАЛЬНОЕ БЮДЖНТНОЕ ОБЩЕОБРАЗОВАТЕЛЬНОЕ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УЧРЕЖДЕНИЕ «НИЖНЕСОРТЫМСКАЯ СРЕДНЯЯ ОБЩЕОБРАЗОВАТЕЛЬНАЯ ШКОЛА»</a:t>
            </a:r>
            <a:r>
              <a:rPr b="0" lang="ru-R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611280" y="4653000"/>
          <a:ext cx="5832360" cy="396720"/>
        </p:xfrm>
        <a:graphic>
          <a:graphicData uri="http://schemas.openxmlformats.org/drawingml/2006/table">
            <a:tbl>
              <a:tblPr/>
              <a:tblGrid>
                <a:gridCol w="1598400"/>
                <a:gridCol w="42339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Учитель: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асильева  Мария  Васильевн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Text Box 11"/>
          <p:cNvSpPr/>
          <p:nvPr/>
        </p:nvSpPr>
        <p:spPr>
          <a:xfrm>
            <a:off x="395280" y="5877000"/>
            <a:ext cx="83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014год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2" name="Text Box 12"/>
          <p:cNvSpPr/>
          <p:nvPr/>
        </p:nvSpPr>
        <p:spPr>
          <a:xfrm>
            <a:off x="0" y="2214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мотр знаний - 6 класс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3" name="Rectangle 16"/>
          <p:cNvSpPr/>
          <p:nvPr/>
        </p:nvSpPr>
        <p:spPr>
          <a:xfrm>
            <a:off x="4214880" y="1111680"/>
            <a:ext cx="45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О, сколько же открытий чудных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нам математика даёт!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Возможность логикою  править,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В чудесный мир нас всех ведёт!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М.В.Васильева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7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5"/>
              <p:cNvSpPr txBox="1"/>
              <p:nvPr/>
            </p:nvSpPr>
            <p:spPr>
              <a:xfrm>
                <a:off x="1409760" y="2063880"/>
                <a:ext cx="6681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,6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3" name="Rectangle 6"/>
          <p:cNvSpPr/>
          <p:nvPr/>
        </p:nvSpPr>
        <p:spPr>
          <a:xfrm>
            <a:off x="684360" y="3716280"/>
            <a:ext cx="813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Отметьте на координатной плоскости две точки и определите их координаты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4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делят два отрицательных числа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8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Object 5"/>
              <p:cNvSpPr txBox="1"/>
              <p:nvPr/>
            </p:nvSpPr>
            <p:spPr>
              <a:xfrm>
                <a:off x="2185920" y="2063880"/>
                <a:ext cx="5127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2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Rectangle 6"/>
          <p:cNvSpPr/>
          <p:nvPr/>
        </p:nvSpPr>
        <p:spPr>
          <a:xfrm>
            <a:off x="684360" y="3716280"/>
            <a:ext cx="81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Отметьте на координатной плоскости точк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делятся два числа с разн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8"/>
              <p:cNvSpPr txBox="1"/>
              <p:nvPr/>
            </p:nvSpPr>
            <p:spPr>
              <a:xfrm>
                <a:off x="2075040" y="4581360"/>
                <a:ext cx="551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1,5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9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Найдите значение выражения </a:t>
            </a:r>
            <a:r>
              <a:rPr b="1" i="1" lang="ru-RU" sz="3000" spc="-1" strike="noStrike">
                <a:solidFill>
                  <a:srgbClr val="cc6600"/>
                </a:solidFill>
                <a:latin typeface="Comic Sans MS"/>
              </a:rPr>
              <a:t>    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 при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5"/>
              <p:cNvSpPr txBox="1"/>
              <p:nvPr/>
            </p:nvSpPr>
            <p:spPr>
              <a:xfrm>
                <a:off x="2554200" y="2063880"/>
                <a:ext cx="4389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Rectangle 6"/>
          <p:cNvSpPr/>
          <p:nvPr/>
        </p:nvSpPr>
        <p:spPr>
          <a:xfrm>
            <a:off x="611280" y="43657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Сравните дроб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ри каком условии произведение двух чисел равно нулю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8"/>
              <p:cNvSpPr txBox="1"/>
              <p:nvPr/>
            </p:nvSpPr>
            <p:spPr>
              <a:xfrm>
                <a:off x="4427640" y="4076640"/>
                <a:ext cx="17082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Object 9"/>
              <p:cNvSpPr txBox="1"/>
              <p:nvPr/>
            </p:nvSpPr>
            <p:spPr>
              <a:xfrm>
                <a:off x="7020000" y="1268280"/>
                <a:ext cx="815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0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611280" y="1557360"/>
            <a:ext cx="410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Сократите дробь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3" name="Rectangle 6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Расположите в порядке возрастания числа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Сформулируйте основное свойство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8"/>
              <p:cNvSpPr txBox="1"/>
              <p:nvPr/>
            </p:nvSpPr>
            <p:spPr>
              <a:xfrm>
                <a:off x="2268360" y="4221000"/>
                <a:ext cx="35341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9"/>
              <p:cNvSpPr txBox="1"/>
              <p:nvPr/>
            </p:nvSpPr>
            <p:spPr>
              <a:xfrm>
                <a:off x="4572000" y="1268280"/>
                <a:ext cx="77796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1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611280" y="1557360"/>
            <a:ext cx="410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Сложите дроби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Вычислите наиболее удобным способом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складываются обыкновенные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7"/>
              <p:cNvSpPr txBox="1"/>
              <p:nvPr/>
            </p:nvSpPr>
            <p:spPr>
              <a:xfrm>
                <a:off x="2843280" y="4508640"/>
                <a:ext cx="55926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Object 8"/>
              <p:cNvSpPr txBox="1"/>
              <p:nvPr/>
            </p:nvSpPr>
            <p:spPr>
              <a:xfrm>
                <a:off x="4427640" y="1268280"/>
                <a:ext cx="1477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2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11280" y="1557360"/>
            <a:ext cx="410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Решите уравн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Расскажите, как сложить два числа, содержащие целую и дробную части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Object 7"/>
              <p:cNvSpPr txBox="1"/>
              <p:nvPr/>
            </p:nvSpPr>
            <p:spPr>
              <a:xfrm>
                <a:off x="5076720" y="4076640"/>
                <a:ext cx="3302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8"/>
              <p:cNvSpPr txBox="1"/>
              <p:nvPr/>
            </p:nvSpPr>
            <p:spPr>
              <a:xfrm>
                <a:off x="4253040" y="1268280"/>
                <a:ext cx="18270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3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вычита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4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Решите уравн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5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вычитаются обыкновенные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7"/>
              <p:cNvSpPr txBox="1"/>
              <p:nvPr/>
            </p:nvSpPr>
            <p:spPr>
              <a:xfrm>
                <a:off x="5154480" y="4076640"/>
                <a:ext cx="3146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8"/>
              <p:cNvSpPr txBox="1"/>
              <p:nvPr/>
            </p:nvSpPr>
            <p:spPr>
              <a:xfrm>
                <a:off x="5880240" y="1268280"/>
                <a:ext cx="151596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9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4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умноже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Чему равен    пр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умножаются обыкновенные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7"/>
              <p:cNvSpPr txBox="1"/>
              <p:nvPr/>
            </p:nvSpPr>
            <p:spPr>
              <a:xfrm>
                <a:off x="4119480" y="4417920"/>
                <a:ext cx="44881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8"/>
              <p:cNvSpPr txBox="1"/>
              <p:nvPr/>
            </p:nvSpPr>
            <p:spPr>
              <a:xfrm>
                <a:off x="5842080" y="1249200"/>
                <a:ext cx="15937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ct 9"/>
              <p:cNvSpPr txBox="1"/>
              <p:nvPr/>
            </p:nvSpPr>
            <p:spPr>
              <a:xfrm>
                <a:off x="3564000" y="3911760"/>
                <a:ext cx="5634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5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умноже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Найдите значение       пр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0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Расскажите, как умножить целое число на обыкновенную дробь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7"/>
              <p:cNvSpPr txBox="1"/>
              <p:nvPr/>
            </p:nvSpPr>
            <p:spPr>
              <a:xfrm>
                <a:off x="3419640" y="4437000"/>
                <a:ext cx="31464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8"/>
              <p:cNvSpPr txBox="1"/>
              <p:nvPr/>
            </p:nvSpPr>
            <p:spPr>
              <a:xfrm>
                <a:off x="6035760" y="1268280"/>
                <a:ext cx="12049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9"/>
              <p:cNvSpPr txBox="1"/>
              <p:nvPr/>
            </p:nvSpPr>
            <p:spPr>
              <a:xfrm>
                <a:off x="5076720" y="4076640"/>
                <a:ext cx="739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6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Упростите выраж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Расскажите, как перемножить два числа, содержащие целую и дробную част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7"/>
              <p:cNvSpPr txBox="1"/>
              <p:nvPr/>
            </p:nvSpPr>
            <p:spPr>
              <a:xfrm>
                <a:off x="2771640" y="4581360"/>
                <a:ext cx="3224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8"/>
              <p:cNvSpPr txBox="1"/>
              <p:nvPr/>
            </p:nvSpPr>
            <p:spPr>
              <a:xfrm>
                <a:off x="3780000" y="1268280"/>
                <a:ext cx="15937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ahoma"/>
              </a:rPr>
              <a:t>Описание работы с презентацией: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1. 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Открыть  любой билет зачета.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.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Щелкнуть левой кнопкой мыши по открывшемуся номеру билета </a:t>
            </a:r>
            <a:r>
              <a:rPr b="1" i="1" lang="ru-RU" sz="2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появится содержание выбранного билета).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Чтобы вернуться на страничку  с билетами, нажмите клавишу «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БИЛЕТЫ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».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ри необходимости проведения зарядки для снятия усталости у учащихся в любой момент откройте «ГИМНАСТИКУ» для глаз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7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деле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Упростите выраж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делят на обыкновенную дробь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Object 7"/>
              <p:cNvSpPr txBox="1"/>
              <p:nvPr/>
            </p:nvSpPr>
            <p:spPr>
              <a:xfrm>
                <a:off x="5651640" y="4005360"/>
                <a:ext cx="3030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8"/>
              <p:cNvSpPr txBox="1"/>
              <p:nvPr/>
            </p:nvSpPr>
            <p:spPr>
              <a:xfrm>
                <a:off x="5384880" y="1268280"/>
                <a:ext cx="15541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Line 2"/>
          <p:cNvSpPr/>
          <p:nvPr/>
        </p:nvSpPr>
        <p:spPr>
          <a:xfrm>
            <a:off x="4643280" y="3718080"/>
            <a:ext cx="0" cy="2303280"/>
          </a:xfrm>
          <a:prstGeom prst="line">
            <a:avLst/>
          </a:prstGeom>
          <a:ln w="101520">
            <a:solidFill>
              <a:srgbClr val="eb5b0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9" name="Line 3"/>
          <p:cNvSpPr/>
          <p:nvPr/>
        </p:nvSpPr>
        <p:spPr>
          <a:xfrm>
            <a:off x="4643280" y="909720"/>
            <a:ext cx="0" cy="2230200"/>
          </a:xfrm>
          <a:prstGeom prst="line">
            <a:avLst/>
          </a:prstGeom>
          <a:ln w="101520">
            <a:solidFill>
              <a:srgbClr val="eb5b0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0" name="Line 4"/>
          <p:cNvSpPr/>
          <p:nvPr/>
        </p:nvSpPr>
        <p:spPr>
          <a:xfrm flipH="1" flipV="1">
            <a:off x="1619280" y="3429000"/>
            <a:ext cx="2806560" cy="1440"/>
          </a:xfrm>
          <a:prstGeom prst="line">
            <a:avLst/>
          </a:prstGeom>
          <a:ln w="101520">
            <a:solidFill>
              <a:srgbClr val="eb5b0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1" name="Line 5"/>
          <p:cNvSpPr/>
          <p:nvPr/>
        </p:nvSpPr>
        <p:spPr>
          <a:xfrm flipH="1" flipV="1">
            <a:off x="4858920" y="3429000"/>
            <a:ext cx="2806920" cy="1440"/>
          </a:xfrm>
          <a:prstGeom prst="line">
            <a:avLst/>
          </a:prstGeom>
          <a:ln w="101520">
            <a:solidFill>
              <a:srgbClr val="eb5b0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2" name="Oval 6"/>
          <p:cNvSpPr/>
          <p:nvPr/>
        </p:nvSpPr>
        <p:spPr>
          <a:xfrm>
            <a:off x="468360" y="549360"/>
            <a:ext cx="8351640" cy="583236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3" name="Oval 7"/>
          <p:cNvSpPr/>
          <p:nvPr/>
        </p:nvSpPr>
        <p:spPr>
          <a:xfrm>
            <a:off x="755640" y="765000"/>
            <a:ext cx="7777080" cy="540072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4" name="Line 8"/>
          <p:cNvSpPr/>
          <p:nvPr/>
        </p:nvSpPr>
        <p:spPr>
          <a:xfrm flipV="1">
            <a:off x="1332000" y="2276280"/>
            <a:ext cx="360360" cy="360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5" name="Line 9"/>
          <p:cNvSpPr/>
          <p:nvPr/>
        </p:nvSpPr>
        <p:spPr>
          <a:xfrm flipV="1">
            <a:off x="468360" y="2852280"/>
            <a:ext cx="7128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6" name="Line 10"/>
          <p:cNvSpPr/>
          <p:nvPr/>
        </p:nvSpPr>
        <p:spPr>
          <a:xfrm>
            <a:off x="900000" y="4221000"/>
            <a:ext cx="216000" cy="357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7" name="Oval 11"/>
          <p:cNvSpPr/>
          <p:nvPr/>
        </p:nvSpPr>
        <p:spPr>
          <a:xfrm>
            <a:off x="179280" y="3357720"/>
            <a:ext cx="468360" cy="46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8" name="Oval 12"/>
          <p:cNvSpPr/>
          <p:nvPr/>
        </p:nvSpPr>
        <p:spPr>
          <a:xfrm>
            <a:off x="1042920" y="1916280"/>
            <a:ext cx="3600360" cy="3095280"/>
          </a:xfrm>
          <a:prstGeom prst="ellipse">
            <a:avLst/>
          </a:prstGeom>
          <a:noFill/>
          <a:ln w="101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9" name="Oval 13"/>
          <p:cNvSpPr/>
          <p:nvPr/>
        </p:nvSpPr>
        <p:spPr>
          <a:xfrm>
            <a:off x="4643280" y="1989000"/>
            <a:ext cx="3600720" cy="3095640"/>
          </a:xfrm>
          <a:prstGeom prst="ellipse">
            <a:avLst/>
          </a:prstGeom>
          <a:noFill/>
          <a:ln w="101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0" name="Oval 14"/>
          <p:cNvSpPr/>
          <p:nvPr/>
        </p:nvSpPr>
        <p:spPr>
          <a:xfrm>
            <a:off x="4427640" y="3284640"/>
            <a:ext cx="431640" cy="360360"/>
          </a:xfrm>
          <a:prstGeom prst="ellipse">
            <a:avLst/>
          </a:prstGeom>
          <a:solidFill>
            <a:srgbClr val="eb5b03"/>
          </a:solidFill>
          <a:ln w="9360">
            <a:solidFill>
              <a:srgbClr val="eb5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539640" y="3213000"/>
            <a:ext cx="468360" cy="468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2" name="Oval 16"/>
          <p:cNvSpPr/>
          <p:nvPr/>
        </p:nvSpPr>
        <p:spPr>
          <a:xfrm>
            <a:off x="826920" y="3213000"/>
            <a:ext cx="468360" cy="4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3" name="Oval 17"/>
          <p:cNvSpPr/>
          <p:nvPr/>
        </p:nvSpPr>
        <p:spPr>
          <a:xfrm>
            <a:off x="4427640" y="3284640"/>
            <a:ext cx="431640" cy="360360"/>
          </a:xfrm>
          <a:prstGeom prst="ellipse">
            <a:avLst/>
          </a:prstGeom>
          <a:solidFill>
            <a:srgbClr val="eb5b03"/>
          </a:solidFill>
          <a:ln w="9360">
            <a:solidFill>
              <a:srgbClr val="eb5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4" name="Oval 18"/>
          <p:cNvSpPr/>
          <p:nvPr/>
        </p:nvSpPr>
        <p:spPr>
          <a:xfrm>
            <a:off x="179280" y="3357720"/>
            <a:ext cx="468360" cy="46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5" name="Oval 19"/>
          <p:cNvSpPr/>
          <p:nvPr/>
        </p:nvSpPr>
        <p:spPr>
          <a:xfrm>
            <a:off x="539640" y="3213000"/>
            <a:ext cx="468360" cy="468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6" name="Oval 20"/>
          <p:cNvSpPr/>
          <p:nvPr/>
        </p:nvSpPr>
        <p:spPr>
          <a:xfrm>
            <a:off x="826920" y="3213000"/>
            <a:ext cx="468360" cy="4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7" name="Oval 21"/>
          <p:cNvSpPr/>
          <p:nvPr/>
        </p:nvSpPr>
        <p:spPr>
          <a:xfrm>
            <a:off x="539640" y="3213000"/>
            <a:ext cx="468360" cy="468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8" name="AutoShape 44"/>
          <p:cNvSpPr/>
          <p:nvPr/>
        </p:nvSpPr>
        <p:spPr>
          <a:xfrm>
            <a:off x="7093080" y="5950080"/>
            <a:ext cx="183492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НАЗАД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531E-006 L -2.5E-006 -0.36171 E">
                                      <p:cBhvr>
                                        <p:cTn id="675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36171 L -2.5E-006 0.36216 E">
                                      <p:cBhvr>
                                        <p:cTn id="678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36216 L -2.5E-006 -0.00509 E">
                                      <p:cBhvr>
                                        <p:cTn id="681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3469E-006 L 0.32292 2.53469E-006 E">
                                      <p:cBhvr>
                                        <p:cTn id="684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4.6531E-006 L -0.33073 4.6531E-006 E">
                                      <p:cBhvr>
                                        <p:cTn id="687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1758 C 0.00608 -0.25185 0.2092 -0.44311 0.45868 -0.44311 C 0.70851 -0.44311 0.91094 -0.25185 0.91094 -0.01758 C 0.91094 0.21646 0.70851 0.40656 0.45868 0.40656 C 0.2092 0.40656 0.00608 0.21646 0.00608 -0.01758 Z">
                                      <p:cBhvr>
                                        <p:cTn id="697" dur="5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0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1221E-006 C 1.11111E-006 -0.21577 0.1908 -0.39269 0.425 -0.38922 C 0.65868 -0.39107 0.84896 -0.21577 0.84844 -2.81221E-006 C 0.8493 0.21624 0.65885 0.39108 0.425 0.39154 C 0.19114 0.39177 1.11111E-006 0.21624 1.11111E-006 -2.81221E-006 Z">
                                      <p:cBhvr>
                                        <p:cTn id="707" dur="5000" fill="hold"/>
                                        <p:tgtEl>
                                          <p:spTgt spid="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7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6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6531E-006 C 1.38889E-006 0.12372 0.08507 0.22571 0.18871 0.22571 C 0.31094 0.22571 0.36545 0.12927 0.38403 0.06151 L 0.40087 -0.04718 C 0.41996 -0.11494 0.45677 -0.21508 0.59479 -0.21508 C 0.68316 -0.21508 0.78559 -0.12396 0.78559 4.6531E-006 C 0.78559 0.12372 0.68628 0.23982 0.59792 0.23982 C 0.45989 0.23982 0.41858 0.13344 0.39948 0.06568 L 0.38246 -0.05528 C 0.36389 -0.12304 0.31094 -0.22549 0.18871 -0.22549 C 0.08507 -0.22549 1.38889E-006 -0.12396 1.38889E-006 4.6531E-006 Z">
                                      <p:cBhvr>
                                        <p:cTn id="717" dur="5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531E-006 L -2.5E-006 -0.36171 E">
                                      <p:cBhvr>
                                        <p:cTn id="727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7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36171 L -2.5E-006 0.36216 E">
                                      <p:cBhvr>
                                        <p:cTn id="730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36216 L -2.5E-006 -0.00509 E">
                                      <p:cBhvr>
                                        <p:cTn id="733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7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3469E-006 L 0.32292 2.53469E-006 E">
                                      <p:cBhvr>
                                        <p:cTn id="736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7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4.6531E-006 L -0.33073 4.6531E-006 E">
                                      <p:cBhvr>
                                        <p:cTn id="739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7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74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1758 C 0.00608 -0.25185 0.2092 -0.44311 0.45868 -0.44311 C 0.70851 -0.44311 0.91094 -0.25185 0.91094 -0.01758 C 0.91094 0.21646 0.70851 0.40656 0.45868 0.40656 C 0.2092 0.40656 0.00608 0.21646 0.00608 -0.01758 Z">
                                      <p:cBhvr>
                                        <p:cTn id="749" dur="50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7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75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1221E-006 C 1.11111E-006 -0.21577 0.1908 -0.39269 0.425 -0.38922 C 0.65868 -0.39107 0.84896 -0.21577 0.84844 -2.81221E-006 C 0.8493 0.21624 0.65885 0.39108 0.425 0.39154 C 0.19114 0.39177 1.11111E-006 0.21624 1.11111E-006 -2.81221E-006 Z">
                                      <p:cBhvr>
                                        <p:cTn id="759" dur="50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7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768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0611E-006 C -2.22222E-006 0.12373 0.08507 0.22572 0.18872 0.22572 C 0.31094 0.22572 0.36545 0.12928 0.38403 0.06152 L 0.40087 -0.04718 C 0.41997 -0.11494 0.45677 -0.21508 0.59479 -0.21508 C 0.68316 -0.21508 0.78559 -0.12396 0.78559 -1.40611E-006 C 0.78559 0.12373 0.68629 0.23983 0.59792 0.23983 C 0.4599 0.23983 0.41858 0.13344 0.39948 0.06568 L 0.38247 -0.05527 C 0.36389 -0.12303 0.31094 -0.22548 0.18872 -0.22548 C 0.08507 -0.22548 -2.22222E-006 -0.12396 -2.22222E-006 -1.40611E-006 Z">
                                      <p:cBhvr>
                                        <p:cTn id="769" dur="5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7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64500"/>
                            </p:stCondLst>
                            <p:childTnLst>
                              <p:par>
                                <p:cTn id="7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WordArt 105"/>
          <p:cNvSpPr txBox="1"/>
          <p:nvPr/>
        </p:nvSpPr>
        <p:spPr>
          <a:xfrm>
            <a:off x="2700360" y="2421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6" name="WordArt 106"/>
          <p:cNvSpPr txBox="1"/>
          <p:nvPr/>
        </p:nvSpPr>
        <p:spPr>
          <a:xfrm>
            <a:off x="4357800" y="3429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2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7" name="WordArt 107"/>
          <p:cNvSpPr txBox="1"/>
          <p:nvPr/>
        </p:nvSpPr>
        <p:spPr>
          <a:xfrm>
            <a:off x="6012000" y="4508640"/>
            <a:ext cx="46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3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8" name="WordArt 108"/>
          <p:cNvSpPr txBox="1"/>
          <p:nvPr/>
        </p:nvSpPr>
        <p:spPr>
          <a:xfrm>
            <a:off x="6012000" y="1484280"/>
            <a:ext cx="46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4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9" name="WordArt 109"/>
          <p:cNvSpPr txBox="1"/>
          <p:nvPr/>
        </p:nvSpPr>
        <p:spPr>
          <a:xfrm>
            <a:off x="6227640" y="335772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5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0" name="WordArt 110"/>
          <p:cNvSpPr txBox="1"/>
          <p:nvPr/>
        </p:nvSpPr>
        <p:spPr>
          <a:xfrm>
            <a:off x="1116000" y="1413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1" name="WordArt 111"/>
          <p:cNvSpPr txBox="1"/>
          <p:nvPr/>
        </p:nvSpPr>
        <p:spPr>
          <a:xfrm>
            <a:off x="2701800" y="450864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7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2" name="WordArt 112"/>
          <p:cNvSpPr txBox="1"/>
          <p:nvPr/>
        </p:nvSpPr>
        <p:spPr>
          <a:xfrm>
            <a:off x="4284720" y="2421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8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3" name="WordArt 113"/>
          <p:cNvSpPr txBox="1"/>
          <p:nvPr/>
        </p:nvSpPr>
        <p:spPr>
          <a:xfrm>
            <a:off x="7597800" y="2421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4" name="WordArt 114"/>
          <p:cNvSpPr txBox="1"/>
          <p:nvPr/>
        </p:nvSpPr>
        <p:spPr>
          <a:xfrm>
            <a:off x="971640" y="4437000"/>
            <a:ext cx="93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0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5" name="WordArt 115"/>
          <p:cNvSpPr txBox="1"/>
          <p:nvPr/>
        </p:nvSpPr>
        <p:spPr>
          <a:xfrm>
            <a:off x="900000" y="2421000"/>
            <a:ext cx="9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1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6" name="WordArt 116"/>
          <p:cNvSpPr txBox="1"/>
          <p:nvPr/>
        </p:nvSpPr>
        <p:spPr>
          <a:xfrm>
            <a:off x="971640" y="3429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2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7" name="WordArt 117"/>
          <p:cNvSpPr txBox="1"/>
          <p:nvPr/>
        </p:nvSpPr>
        <p:spPr>
          <a:xfrm>
            <a:off x="5796000" y="2421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3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8" name="WordArt 118"/>
          <p:cNvSpPr txBox="1"/>
          <p:nvPr/>
        </p:nvSpPr>
        <p:spPr>
          <a:xfrm>
            <a:off x="4140360" y="4437000"/>
            <a:ext cx="93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4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9" name="WordArt 119"/>
          <p:cNvSpPr txBox="1"/>
          <p:nvPr/>
        </p:nvSpPr>
        <p:spPr>
          <a:xfrm>
            <a:off x="2556000" y="3429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5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0" name="WordArt 120"/>
          <p:cNvSpPr txBox="1"/>
          <p:nvPr/>
        </p:nvSpPr>
        <p:spPr>
          <a:xfrm>
            <a:off x="2484360" y="1413000"/>
            <a:ext cx="9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6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1" name="WordArt 121"/>
          <p:cNvSpPr txBox="1"/>
          <p:nvPr/>
        </p:nvSpPr>
        <p:spPr>
          <a:xfrm>
            <a:off x="4067280" y="1413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7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2" name="AutoShape 132"/>
          <p:cNvSpPr/>
          <p:nvPr/>
        </p:nvSpPr>
        <p:spPr>
          <a:xfrm>
            <a:off x="395280" y="260280"/>
            <a:ext cx="4824360" cy="978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3" name="AutoShape 44">
            <a:hlinkClick r:id="rId2" action="ppaction://hlinksldjump"/>
          </p:cNvPr>
          <p:cNvSpPr/>
          <p:nvPr/>
        </p:nvSpPr>
        <p:spPr>
          <a:xfrm>
            <a:off x="0" y="6381720"/>
            <a:ext cx="9144000" cy="476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гимнастика для глаз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4" name="Rectangle 145"/>
          <p:cNvSpPr/>
          <p:nvPr/>
        </p:nvSpPr>
        <p:spPr>
          <a:xfrm>
            <a:off x="5508720" y="1341360"/>
            <a:ext cx="1368360" cy="9352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5" name="Rectangle 145"/>
          <p:cNvSpPr/>
          <p:nvPr/>
        </p:nvSpPr>
        <p:spPr>
          <a:xfrm>
            <a:off x="5580000" y="3357720"/>
            <a:ext cx="1368360" cy="8632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6" name="Rectangle 145"/>
          <p:cNvSpPr/>
          <p:nvPr/>
        </p:nvSpPr>
        <p:spPr>
          <a:xfrm>
            <a:off x="539640" y="1341360"/>
            <a:ext cx="1368360" cy="9352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7" name="Rectangle 145"/>
          <p:cNvSpPr/>
          <p:nvPr/>
        </p:nvSpPr>
        <p:spPr>
          <a:xfrm>
            <a:off x="2214720" y="2357280"/>
            <a:ext cx="1368360" cy="935280"/>
          </a:xfrm>
          <a:prstGeom prst="rect">
            <a:avLst/>
          </a:prstGeom>
          <a:blipFill rotWithShape="0">
            <a:blip r:embed="rId7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8" name="Rectangle 145"/>
          <p:cNvSpPr/>
          <p:nvPr/>
        </p:nvSpPr>
        <p:spPr>
          <a:xfrm>
            <a:off x="7164360" y="2421000"/>
            <a:ext cx="1368360" cy="934920"/>
          </a:xfrm>
          <a:prstGeom prst="rect">
            <a:avLst/>
          </a:prstGeom>
          <a:blipFill rotWithShape="0">
            <a:blip r:embed="rId8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9" name="Rectangle 145"/>
          <p:cNvSpPr/>
          <p:nvPr/>
        </p:nvSpPr>
        <p:spPr>
          <a:xfrm>
            <a:off x="3851280" y="3357720"/>
            <a:ext cx="1368360" cy="934920"/>
          </a:xfrm>
          <a:prstGeom prst="rect">
            <a:avLst/>
          </a:prstGeom>
          <a:blipFill rotWithShape="0">
            <a:blip r:embed="rId9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0" name="Rectangle 145"/>
          <p:cNvSpPr/>
          <p:nvPr/>
        </p:nvSpPr>
        <p:spPr>
          <a:xfrm>
            <a:off x="2214720" y="4357800"/>
            <a:ext cx="1368360" cy="934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1" name="Rectangle 145"/>
          <p:cNvSpPr/>
          <p:nvPr/>
        </p:nvSpPr>
        <p:spPr>
          <a:xfrm>
            <a:off x="5583240" y="4429080"/>
            <a:ext cx="1368360" cy="934920"/>
          </a:xfrm>
          <a:prstGeom prst="rect">
            <a:avLst/>
          </a:prstGeom>
          <a:blipFill rotWithShape="0">
            <a:blip r:embed="rId11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2" name="Rectangle 145"/>
          <p:cNvSpPr/>
          <p:nvPr/>
        </p:nvSpPr>
        <p:spPr>
          <a:xfrm>
            <a:off x="3851280" y="2349360"/>
            <a:ext cx="1368360" cy="863640"/>
          </a:xfrm>
          <a:prstGeom prst="rect">
            <a:avLst/>
          </a:prstGeom>
          <a:blipFill rotWithShape="0">
            <a:blip r:embed="rId12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3" name="Rectangle 145"/>
          <p:cNvSpPr/>
          <p:nvPr/>
        </p:nvSpPr>
        <p:spPr>
          <a:xfrm>
            <a:off x="611280" y="4365720"/>
            <a:ext cx="1368360" cy="934920"/>
          </a:xfrm>
          <a:prstGeom prst="rect">
            <a:avLst/>
          </a:prstGeom>
          <a:blipFill rotWithShape="0">
            <a:blip r:embed="rId13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4" name="Rectangle 145"/>
          <p:cNvSpPr/>
          <p:nvPr/>
        </p:nvSpPr>
        <p:spPr>
          <a:xfrm>
            <a:off x="3851280" y="1341360"/>
            <a:ext cx="1368360" cy="863640"/>
          </a:xfrm>
          <a:prstGeom prst="rect">
            <a:avLst/>
          </a:prstGeom>
          <a:blipFill rotWithShape="0">
            <a:blip r:embed="rId14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5" name="Rectangle 145"/>
          <p:cNvSpPr/>
          <p:nvPr/>
        </p:nvSpPr>
        <p:spPr>
          <a:xfrm>
            <a:off x="611280" y="2421000"/>
            <a:ext cx="1368360" cy="863640"/>
          </a:xfrm>
          <a:prstGeom prst="rect">
            <a:avLst/>
          </a:prstGeom>
          <a:blipFill rotWithShape="0">
            <a:blip r:embed="rId15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6" name="Rectangle 145"/>
          <p:cNvSpPr/>
          <p:nvPr/>
        </p:nvSpPr>
        <p:spPr>
          <a:xfrm>
            <a:off x="2211480" y="1347840"/>
            <a:ext cx="1368360" cy="863640"/>
          </a:xfrm>
          <a:prstGeom prst="rect">
            <a:avLst/>
          </a:prstGeom>
          <a:blipFill rotWithShape="0">
            <a:blip r:embed="rId16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7" name="Rectangle 145"/>
          <p:cNvSpPr/>
          <p:nvPr/>
        </p:nvSpPr>
        <p:spPr>
          <a:xfrm>
            <a:off x="5580000" y="2421000"/>
            <a:ext cx="1368360" cy="792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8" name="Rectangle 145"/>
          <p:cNvSpPr/>
          <p:nvPr/>
        </p:nvSpPr>
        <p:spPr>
          <a:xfrm>
            <a:off x="611280" y="3392640"/>
            <a:ext cx="1368360" cy="793440"/>
          </a:xfrm>
          <a:prstGeom prst="rect">
            <a:avLst/>
          </a:prstGeom>
          <a:blipFill rotWithShape="0">
            <a:blip r:embed="rId18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9" name="Rectangle 145"/>
          <p:cNvSpPr/>
          <p:nvPr/>
        </p:nvSpPr>
        <p:spPr>
          <a:xfrm>
            <a:off x="2268360" y="3429000"/>
            <a:ext cx="1368720" cy="792000"/>
          </a:xfrm>
          <a:prstGeom prst="rect">
            <a:avLst/>
          </a:prstGeom>
          <a:blipFill rotWithShape="0">
            <a:blip r:embed="rId19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0" name="Rectangle 145"/>
          <p:cNvSpPr/>
          <p:nvPr/>
        </p:nvSpPr>
        <p:spPr>
          <a:xfrm>
            <a:off x="3924360" y="4437000"/>
            <a:ext cx="1368360" cy="935280"/>
          </a:xfrm>
          <a:prstGeom prst="rect">
            <a:avLst/>
          </a:prstGeom>
          <a:blipFill rotWithShape="0">
            <a:blip r:embed="rId20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AutoShape 44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2" name="Rectangle 45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3" name="Rectangle 46"/>
          <p:cNvSpPr/>
          <p:nvPr/>
        </p:nvSpPr>
        <p:spPr>
          <a:xfrm>
            <a:off x="611280" y="1374840"/>
            <a:ext cx="8137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6600"/>
                </a:solidFill>
                <a:latin typeface="Comic Sans MS"/>
              </a:rPr>
              <a:t>1. Корень уравнения с одной переменной. Что значит решить уравнение? 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47"/>
              <p:cNvSpPr txBox="1"/>
              <p:nvPr/>
            </p:nvSpPr>
            <p:spPr>
              <a:xfrm>
                <a:off x="3851280" y="2886120"/>
                <a:ext cx="3651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Rectangle 49"/>
          <p:cNvSpPr/>
          <p:nvPr/>
        </p:nvSpPr>
        <p:spPr>
          <a:xfrm>
            <a:off x="611280" y="3860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6600"/>
                </a:solidFill>
                <a:latin typeface="Comic Sans MS"/>
              </a:rPr>
              <a:t>3. Разложите на множители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6" name="Rectangle 50"/>
          <p:cNvSpPr/>
          <p:nvPr/>
        </p:nvSpPr>
        <p:spPr>
          <a:xfrm>
            <a:off x="611280" y="2311560"/>
            <a:ext cx="82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6600"/>
                </a:solidFill>
                <a:latin typeface="Comic Sans MS"/>
              </a:rPr>
              <a:t>2. Какие из чисел 1, 2, 3, -3, -2, -1 являются корнями уравнения 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3"/>
              <p:cNvSpPr txBox="1"/>
              <p:nvPr/>
            </p:nvSpPr>
            <p:spPr>
              <a:xfrm>
                <a:off x="3924360" y="4327560"/>
                <a:ext cx="3495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2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5"/>
              <p:cNvSpPr txBox="1"/>
              <p:nvPr/>
            </p:nvSpPr>
            <p:spPr>
              <a:xfrm>
                <a:off x="1060560" y="2063880"/>
                <a:ext cx="7381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,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7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2" name="Rectangle 6"/>
          <p:cNvSpPr/>
          <p:nvPr/>
        </p:nvSpPr>
        <p:spPr>
          <a:xfrm>
            <a:off x="611280" y="364500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Постройте угол АОВ, равный 70</a:t>
            </a:r>
            <a:r>
              <a:rPr b="1" lang="ru-RU" sz="3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. Разделите его лучом ОК на два равных угла с помощью транспортира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складываются два числа с одинаков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3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5"/>
              <p:cNvSpPr txBox="1"/>
              <p:nvPr/>
            </p:nvSpPr>
            <p:spPr>
              <a:xfrm>
                <a:off x="1758960" y="2063880"/>
                <a:ext cx="5983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,6</m:t>
                    </m:r>
                    <m:r>
                      <m:t xml:space="preserve">+</m:t>
                    </m:r>
                    <m:r>
                      <m:t xml:space="preserve">0,8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Rectangle 6"/>
          <p:cNvSpPr/>
          <p:nvPr/>
        </p:nvSpPr>
        <p:spPr>
          <a:xfrm>
            <a:off x="684360" y="3645000"/>
            <a:ext cx="813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Начертите окружность, проведите радиус и диаметр, измерьте их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складываются два числа с разн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4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5"/>
              <p:cNvSpPr txBox="1"/>
              <p:nvPr/>
            </p:nvSpPr>
            <p:spPr>
              <a:xfrm>
                <a:off x="1001880" y="2063880"/>
                <a:ext cx="7497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4" name="Rectangle 6"/>
          <p:cNvSpPr/>
          <p:nvPr/>
        </p:nvSpPr>
        <p:spPr>
          <a:xfrm>
            <a:off x="611280" y="364500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Проведите через точку А прямую, параллельную данной прямой </a:t>
            </a:r>
            <a:r>
              <a:rPr b="1" i="1" lang="ru-RU" sz="3000" spc="-1" strike="noStrike">
                <a:solidFill>
                  <a:srgbClr val="cc6600"/>
                </a:solidFill>
                <a:latin typeface="Comic Sans MS"/>
              </a:rPr>
              <a:t>а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5" name="Rectangle 8"/>
          <p:cNvSpPr/>
          <p:nvPr/>
        </p:nvSpPr>
        <p:spPr>
          <a:xfrm>
            <a:off x="395280" y="2565360"/>
            <a:ext cx="835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вычитаются положительные и отрицательные числа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5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5"/>
              <p:cNvSpPr txBox="1"/>
              <p:nvPr/>
            </p:nvSpPr>
            <p:spPr>
              <a:xfrm>
                <a:off x="1544760" y="2063880"/>
                <a:ext cx="641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,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0" name="Rectangle 6"/>
          <p:cNvSpPr/>
          <p:nvPr/>
        </p:nvSpPr>
        <p:spPr>
          <a:xfrm>
            <a:off x="611280" y="364500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Проведите через точку А прямую, перпендикулярную данной прямой </a:t>
            </a:r>
            <a:r>
              <a:rPr b="1" i="1" lang="ru-RU" sz="3000" spc="-1" strike="noStrike">
                <a:solidFill>
                  <a:srgbClr val="cc6600"/>
                </a:solidFill>
                <a:latin typeface="Comic Sans MS"/>
              </a:rPr>
              <a:t>а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умножаются два отрицательных числа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6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5"/>
              <p:cNvSpPr txBox="1"/>
              <p:nvPr/>
            </p:nvSpPr>
            <p:spPr>
              <a:xfrm>
                <a:off x="2244600" y="2063880"/>
                <a:ext cx="5010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6" name="Rectangle 6"/>
          <p:cNvSpPr/>
          <p:nvPr/>
        </p:nvSpPr>
        <p:spPr>
          <a:xfrm>
            <a:off x="684360" y="3716280"/>
            <a:ext cx="813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Какие целые числа расположены между числами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умножают два числа с разн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Object 8"/>
              <p:cNvSpPr txBox="1"/>
              <p:nvPr/>
            </p:nvSpPr>
            <p:spPr>
              <a:xfrm>
                <a:off x="4000680" y="4286160"/>
                <a:ext cx="4427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,5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2,5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1:04:19Z</dcterms:created>
  <dc:creator>Компьютер</dc:creator>
  <dc:description/>
  <dc:language>en-US</dc:language>
  <cp:lastModifiedBy>USER</cp:lastModifiedBy>
  <dcterms:modified xsi:type="dcterms:W3CDTF">2014-11-18T20:59:48Z</dcterms:modified>
  <cp:revision>29</cp:revision>
  <dc:subject/>
  <dc:title>Слайд 1</dc:title>
</cp:coreProperties>
</file>