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dt" idx="4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ftr" idx="4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 type="sldNum" idx="4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7F97-1664-4D04-9851-B5F072EE33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B60C-BEDF-4708-91F2-7C57106FDAF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2AF1-3272-4482-9685-62BC988AB366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C937-E353-483B-AD53-465B42596FA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C0BE-4C3B-4B08-A2A0-0FF15AAFB115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ACA3-D9AD-4455-935A-1C122DD90BC7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D07-3FFD-42E1-8D92-5795D3D09B16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45A8-8059-4AC7-B813-C97723E73C1C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BA0-840B-418E-A30C-64C3CBF850A6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E564-D855-4504-840E-23F88A6E53C7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B9CC-9450-46C6-B924-226A788270FF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892A-8B4A-4A42-A5A7-EFD39645AFE1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6FD6-1A88-4180-8295-3A7F7D14C2E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ADB1-4D4B-4120-84CD-FE134A61F780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E6E8-5D90-430C-8D6D-35FF13315CD7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8768-B51B-4C0C-BB12-01F37788708A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024C-F36A-48A8-B49F-0D662AC872BF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AD7-8DED-47FC-A393-11278AADF0E4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F9FD-E67B-4F24-AC73-D8B20DD6D33E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D348-752C-4816-A3AB-DC1561819D4F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AD1-C6D2-4DCB-9977-377D2F92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063-47C1-4117-B9E7-9B03B27F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5B460-E0D7-41F2-A24A-897C7D3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10329-7B30-4325-8A67-2A7BA502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B284E-A55C-408C-AF97-74C119F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52976-EC0C-4B9F-93CF-B8D3D61B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797CC-7824-4AA2-8288-CDFEAD8B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29E6A-4255-44B6-9B6A-56E1C503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4999C-C95E-4642-A295-BF00D65F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60032-1DCA-4016-AC84-D00DD339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EC92F-CF81-4717-96E1-8DE60154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AA019-9E23-4038-9AF4-F727F6BC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C92-551F-4B7E-8162-84C6589B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79AB5-8A16-4032-8FDE-CA423F48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FD5DD-D1E2-45E0-9156-7EA41ABD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44F89-1A0D-4184-8543-105FE026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55D73-CD53-4B4B-97C9-B71BA86B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DE211-F2D3-4D03-AE74-759271D7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D16AA-C450-4E26-AEA5-CCEEE208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8D7E0-DCD6-4097-BD0A-4F8681A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D7EA6-376B-48BE-BFBA-FA114949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B733F-DF4B-41B4-A7DA-541FEAB1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95783-7B3A-4B79-83F8-A9F74DE6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8C9-4530-4375-A13A-D43985B9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D318F-5199-4267-B437-ECD787E5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535F0-454B-460C-845C-50773318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F5F25-705B-45E6-ACD3-96ADF1B7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0920E-9CE3-4ED3-9A72-B00B5BFF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CE46B-8846-4A3E-A3D7-BCC9B93C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B0EA7-70C6-461B-B165-CC447B0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F7DC6-B163-4AF2-BB58-7810D0AA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EA52-5C6D-4F76-ADDB-E5480C3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E06E1-51B1-45BD-91D2-932065F6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16A16-A7A3-4871-9DF5-565D047E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2446-7ABF-4270-9D3E-A6DCA3C1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AB67C-3CAC-45B5-A1C5-8433B950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77EBA-18D1-44AB-96C8-86A8E317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A78A2-FCDB-4054-87DC-E4FAC7E4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430FB-E150-4A0A-A173-C0A034D5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8D7DE-EF78-4F3E-987E-3D559731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BE1AD-B275-47F8-9AB0-15A59F52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FEB77-7F59-4239-A169-AA24A34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EE174-3378-49DD-8095-03AC5442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3F239-FF2C-4162-B0B7-71D7EC61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70899-07E8-48E5-8AE1-B4F0BF09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BEC7-BED3-4E80-B505-FD2D6CD2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7AE28-A595-4718-BD0F-7EB3B80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68AAE-621E-42B3-85F6-42B5A692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D405E-EC81-4992-9CB0-41F6EC56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293E0-3846-4D76-89C0-9BA7DDEC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93E7C-B54D-4F5D-A9DA-C710369F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5800A-6A8B-42F9-9A48-CB9CED84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84924-9F60-440F-A173-1F1B6E0C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9F521-6924-4212-9D00-2502ABBA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27A83-629B-4CF2-B403-B593ACC6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24C7A-C8C5-45D4-A60E-D2C4AC78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9A5D-451D-4742-BF73-6B142EF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03E21-BE41-4787-B180-6A42DA09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2E557-F28C-4CB8-AFE0-57D5867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CCD05-F3B7-49C9-B21A-1770DDFE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613D0-2B84-4BC5-B36D-A2E07269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C3618-43FF-4B03-9CEE-B4EA24A9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B5D36-9AB0-49B6-8743-F4186D5A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65DEE-A3CD-4E6B-9427-4EB8DA86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391E9-6589-4572-BE4A-3D168BCE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E55EE-0A1E-4E96-B736-9BC18E83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BF30E-274D-485D-B4A8-153F7A1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C69B-CDCF-430B-8055-D59ED758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370CD-E860-4153-8588-2B1149D5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68635-B448-4F43-B462-30CF3E22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E4484-EE87-46D9-A396-37D703E3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7ED80-6513-42D3-9327-C475FF97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E2F71-46E6-49B6-A249-10EF1B9B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4F14B-E499-45AC-B0BA-7923CED5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E3BF0-29EC-464D-8E24-A070A655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64AA1-0D86-418B-BE33-CCBB370A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115B3-82C4-4175-BB8A-5C0D1C2D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9CA7-F489-4092-9BAB-CB9940D8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32CD-E943-4439-8E61-F13C1150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32F8-FF27-4100-82A6-CEAD051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9C7-6BF4-45FA-8D50-C42C43B3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2B70-D753-4074-98B3-27D2DFEE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8BC0-B59B-495D-94CA-BCD3241C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09E3-4B71-4A8F-B696-A2DAF93C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4650-3BF0-4036-82E9-66E3A595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5BF-3108-4994-BFFF-38D18263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160A-0093-434F-9D1C-37C91201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208A2-2830-4696-840A-AE866D75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42F0-4B4D-4A25-93FA-98793F36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E903-F29A-4BF9-B446-AA49606F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A42E-DD25-408C-B7F1-F287ACCD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DDF-9185-4DD3-A198-96C6EBEF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216E-72D7-47C6-8B79-4330717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01BB-4D1D-467E-AC73-107F643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1D97-9E76-4684-9029-5DACF147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FB61-3747-470E-93DF-3736B96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0EE4-4890-4FD1-B6FF-DBF27E5D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2D38-C99B-4570-88D3-4749B1D7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663F-48B1-4436-B190-829682F6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FC1ED-FBCF-46FD-B7BB-CE2C3749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B896-F068-40F0-B81B-3797DC9E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B615-AE9C-49ED-98AF-3EE5D2BA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720-A474-4C51-AC37-C6F85834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9208-0C01-41F4-85DE-FC06CEDF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C6BA-097C-4550-B593-53860AAD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73DDE-4D07-49B9-9F39-D673397D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05A4-A540-4426-8E01-7BC47131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EE7B-C7E5-4BCA-8FB4-9FF02DC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7530-79E4-4022-8655-B3A3E951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6551-2F7C-473E-B464-7404B4FB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9249-0CDA-41AF-BFFA-786851C2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2C7A-5138-446B-AC50-DF0CD6B4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719AD-381D-4DE2-B2E5-230AB222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523-6358-4A1B-BB4F-ED3589EB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A48F-3E3B-46EE-91B4-FD1B34DB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6E43-5112-409A-BBAE-05C8DC91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DF31-D81C-4230-B355-F87D9AA2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48BD-AED3-4D7F-A482-167EC1C0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DDAD-4B05-4595-B896-9E19BB40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1A36D-F296-4307-950B-16CDD05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AC5A4-B4D2-4DE1-93DB-C0ED311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E927F-081F-4657-BDB7-FA048E7B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E484F-4E9E-40AC-B326-B5241D84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7391-3F87-455D-8A8B-142AEA53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06B-41E0-4F5F-AEAD-6C63BACD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AFF78-F5B5-406C-B41B-96F0703D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F6D7A-8739-447E-8EC6-A8AA3D39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09E1-8584-448A-A0CA-95697F10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75FC7-6402-4C01-B72F-62BBE79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999C-FA40-4650-9BAE-C371EF7C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4E74-AA32-40AB-95E0-69340C5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2270-9C53-4766-9BB1-CE898AD1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3C59-C37A-4D69-88A1-7DCAFC7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A347-4EFF-435F-9EC8-83A6EF25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5C821-DE59-4B63-BCFB-E4334DA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08F-17CE-43EB-AC76-5D67DFA0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D25ED-4228-40CC-987D-8D60ECE1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05E8A-3EF1-4D25-AFC0-0E236D74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18335-9455-4635-B57B-36BA4EFE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0A3DD-BF15-451E-B697-8B27BDB4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A7588-8019-47AA-A324-6459EA12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77357-7D69-4E15-87C0-CC92DAF0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3B760-48CF-4C28-AD36-003644AA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A3CD2-0443-4763-A6FA-C14EB548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D6D7B-7D88-4C01-B53C-326F6988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4B959-A5B7-420D-AFAF-5847268D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E8F-E7CC-40F4-974F-C95FECD2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019E2-D43A-493B-A9CA-A392286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10969-47F5-475D-AC7F-E8C7F08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C9B18-4E6B-4C26-85C7-D9062883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109DD-C7AD-47B8-91CA-6FF467D0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B9D3E-0689-4393-9D6A-1D3018DB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0A3B8-C722-470B-A179-81C5EC70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88D80-ECE8-4587-8CFC-683B51C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95231-93C8-404E-B6C2-D7FE0359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C2A18-51B1-4D13-9474-0E535C77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13E67-FD09-4ED1-8583-D93FADAD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CD8-C07A-41BB-981B-9CC35D9F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B2A7E-0290-4D90-87B8-3CDD7527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C2A23-ADEB-4A88-B3C9-C266EF8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CA6BF-A2CD-4FCC-9029-DF3F7905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7FAF1-8890-44BB-B201-91512D3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66591-7381-45D2-B9F3-41FC3A37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22427-4473-4832-ACA5-8DA5E562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EE52F-E19B-47E6-88AC-EA1184E6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51314-BCCA-45A1-80C0-4F0259F4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B12A3-60EA-4130-91C0-5BE36128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896C4-CDA8-4548-900D-3930732F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86EF-FFA2-48CF-9164-1613C42E655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87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8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89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90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1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92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93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4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95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96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7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98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99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0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8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9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0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A722-FE10-4586-8F6E-126ADE84E103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43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44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45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46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47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48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49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50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51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52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53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54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55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56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5C03-BFF4-4544-B165-A7C199DE7F5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99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0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1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2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3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4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05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6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7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08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9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10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11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2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B0C2-5F98-455A-B5AE-18E8F65CB20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55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6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7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58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0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61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2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3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4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6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67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8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3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3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9E2C-78C4-4E97-AAA7-B3190BF983C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9EE0-54E3-49D6-9667-68409D4A6C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CFEE-AE1C-4351-ABDB-D44430E44C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9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0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9401-E548-431D-B61D-51DA4FDFFD2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5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5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5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6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62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63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272E-EEF2-4B87-B049-AE620E917B4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07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9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10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2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13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5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16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19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995B-D1FD-42EA-8240-D7210542DB7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63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5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66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69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72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4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75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5F65-BD01-45C7-ABB2-E7DD68931306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19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22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4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25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6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28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9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30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31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3C81-0301-4E64-86F9-ABEE8C5EAE3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75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7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78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0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81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84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6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87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AA5D-D6FA-49A8-AF00-CEAEAFCC4F8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3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3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3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4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42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43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42B2-B0E0-4C70-8090-5D780F853DD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1.xm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428760" y="2500200"/>
            <a:ext cx="83581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3300"/>
                </a:solidFill>
                <a:latin typeface="Comic Sans MS"/>
              </a:rPr>
              <a:t>МАТЕМАТИКА</a:t>
            </a:r>
            <a:r>
              <a:rPr b="1" lang="ru-RU" sz="8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428760" y="357120"/>
            <a:ext cx="82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МУНИЦИПАЛЬНОЕ БЮДЖНТНОЕ ОБЩЕОБРАЗОВАТЕЛЬНОЕ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УЧРЕЖДЕНИЕ «НИЖНЕСОРТЫМСКАЯ СРЕДНЯЯ ОБЩЕОБРАЗОВАТЕЛЬНАЯ ШКОЛА»</a:t>
            </a:r>
            <a:r>
              <a:rPr b="0" lang="ru-R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611280" y="4653000"/>
          <a:ext cx="5832360" cy="396720"/>
        </p:xfrm>
        <a:graphic>
          <a:graphicData uri="http://schemas.openxmlformats.org/drawingml/2006/table">
            <a:tbl>
              <a:tblPr/>
              <a:tblGrid>
                <a:gridCol w="1598400"/>
                <a:gridCol w="42339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Учитель: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асильева  Мария  Васильевн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Text Box 11"/>
          <p:cNvSpPr/>
          <p:nvPr/>
        </p:nvSpPr>
        <p:spPr>
          <a:xfrm>
            <a:off x="395280" y="5877000"/>
            <a:ext cx="83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014год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2" name="Text Box 12"/>
          <p:cNvSpPr/>
          <p:nvPr/>
        </p:nvSpPr>
        <p:spPr>
          <a:xfrm>
            <a:off x="0" y="2214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мотр знаний - 6 класс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3" name="Rectangle 16"/>
          <p:cNvSpPr/>
          <p:nvPr/>
        </p:nvSpPr>
        <p:spPr>
          <a:xfrm>
            <a:off x="4214880" y="1111680"/>
            <a:ext cx="45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О, сколько же открытий чудных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нам математика даёт!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Возможность логикою  править,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В чудесный мир нас всех ведёт!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3300"/>
                </a:solidFill>
                <a:latin typeface="Comic Sans MS"/>
                <a:ea typeface="Times New Roman"/>
              </a:rPr>
              <a:t>М.В.Васильева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7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5"/>
              <p:cNvSpPr txBox="1"/>
              <p:nvPr/>
            </p:nvSpPr>
            <p:spPr>
              <a:xfrm>
                <a:off x="1409760" y="2063880"/>
                <a:ext cx="6681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,6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3" name="Rectangle 6"/>
          <p:cNvSpPr/>
          <p:nvPr/>
        </p:nvSpPr>
        <p:spPr>
          <a:xfrm>
            <a:off x="684360" y="3716280"/>
            <a:ext cx="813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Отметьте на координатной плоскости две точки и определите их координаты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4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делят два отрицательных числа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8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Object 5"/>
              <p:cNvSpPr txBox="1"/>
              <p:nvPr/>
            </p:nvSpPr>
            <p:spPr>
              <a:xfrm>
                <a:off x="2185920" y="2063880"/>
                <a:ext cx="5127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2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Rectangle 6"/>
          <p:cNvSpPr/>
          <p:nvPr/>
        </p:nvSpPr>
        <p:spPr>
          <a:xfrm>
            <a:off x="684360" y="3716280"/>
            <a:ext cx="81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Отметьте на координатной плоскости точк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делятся два числа с разн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8"/>
              <p:cNvSpPr txBox="1"/>
              <p:nvPr/>
            </p:nvSpPr>
            <p:spPr>
              <a:xfrm>
                <a:off x="2075040" y="4581360"/>
                <a:ext cx="551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1,5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9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Найдите значение выражения </a:t>
            </a:r>
            <a:r>
              <a:rPr b="1" i="1" lang="ru-RU" sz="3000" spc="-1" strike="noStrike">
                <a:solidFill>
                  <a:srgbClr val="cc6600"/>
                </a:solidFill>
                <a:latin typeface="Comic Sans MS"/>
              </a:rPr>
              <a:t>    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 при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5"/>
              <p:cNvSpPr txBox="1"/>
              <p:nvPr/>
            </p:nvSpPr>
            <p:spPr>
              <a:xfrm>
                <a:off x="2554200" y="2063880"/>
                <a:ext cx="4389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Rectangle 6"/>
          <p:cNvSpPr/>
          <p:nvPr/>
        </p:nvSpPr>
        <p:spPr>
          <a:xfrm>
            <a:off x="611280" y="43657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Сравните дроб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ри каком условии произведение двух чисел равно нулю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8"/>
              <p:cNvSpPr txBox="1"/>
              <p:nvPr/>
            </p:nvSpPr>
            <p:spPr>
              <a:xfrm>
                <a:off x="4427640" y="4076640"/>
                <a:ext cx="17082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Object 9"/>
              <p:cNvSpPr txBox="1"/>
              <p:nvPr/>
            </p:nvSpPr>
            <p:spPr>
              <a:xfrm>
                <a:off x="7020000" y="1268280"/>
                <a:ext cx="815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0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611280" y="1557360"/>
            <a:ext cx="410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Сократите дробь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3" name="Rectangle 6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Расположите в порядке возрастания числа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Сформулируйте основное свойство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8"/>
              <p:cNvSpPr txBox="1"/>
              <p:nvPr/>
            </p:nvSpPr>
            <p:spPr>
              <a:xfrm>
                <a:off x="2268360" y="4221000"/>
                <a:ext cx="35341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9"/>
              <p:cNvSpPr txBox="1"/>
              <p:nvPr/>
            </p:nvSpPr>
            <p:spPr>
              <a:xfrm>
                <a:off x="4572000" y="1268280"/>
                <a:ext cx="77796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1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611280" y="1557360"/>
            <a:ext cx="410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Сложите дроби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Вычислите наиболее удобным способом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складываются обыкновенные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7"/>
              <p:cNvSpPr txBox="1"/>
              <p:nvPr/>
            </p:nvSpPr>
            <p:spPr>
              <a:xfrm>
                <a:off x="2843280" y="4508640"/>
                <a:ext cx="55926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Object 8"/>
              <p:cNvSpPr txBox="1"/>
              <p:nvPr/>
            </p:nvSpPr>
            <p:spPr>
              <a:xfrm>
                <a:off x="4427640" y="1268280"/>
                <a:ext cx="1477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2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11280" y="1557360"/>
            <a:ext cx="410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Решите уравн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Расскажите, как сложить два числа, содержащие целую и дробную части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Object 7"/>
              <p:cNvSpPr txBox="1"/>
              <p:nvPr/>
            </p:nvSpPr>
            <p:spPr>
              <a:xfrm>
                <a:off x="5076720" y="4076640"/>
                <a:ext cx="3302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8"/>
              <p:cNvSpPr txBox="1"/>
              <p:nvPr/>
            </p:nvSpPr>
            <p:spPr>
              <a:xfrm>
                <a:off x="4253040" y="1268280"/>
                <a:ext cx="18270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3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вычита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4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Решите уравн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5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вычитаются обыкновенные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7"/>
              <p:cNvSpPr txBox="1"/>
              <p:nvPr/>
            </p:nvSpPr>
            <p:spPr>
              <a:xfrm>
                <a:off x="5154480" y="4076640"/>
                <a:ext cx="3146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8"/>
              <p:cNvSpPr txBox="1"/>
              <p:nvPr/>
            </p:nvSpPr>
            <p:spPr>
              <a:xfrm>
                <a:off x="5880240" y="1268280"/>
                <a:ext cx="151596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9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4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умноже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Чему равен    пр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умножаются обыкновенные дроб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7"/>
              <p:cNvSpPr txBox="1"/>
              <p:nvPr/>
            </p:nvSpPr>
            <p:spPr>
              <a:xfrm>
                <a:off x="4119480" y="4417920"/>
                <a:ext cx="44881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8"/>
              <p:cNvSpPr txBox="1"/>
              <p:nvPr/>
            </p:nvSpPr>
            <p:spPr>
              <a:xfrm>
                <a:off x="5842080" y="1249200"/>
                <a:ext cx="15937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ct 9"/>
              <p:cNvSpPr txBox="1"/>
              <p:nvPr/>
            </p:nvSpPr>
            <p:spPr>
              <a:xfrm>
                <a:off x="3564000" y="3911760"/>
                <a:ext cx="5634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5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умноже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Найдите значение       при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0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Расскажите, как умножить целое число на обыкновенную дробь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7"/>
              <p:cNvSpPr txBox="1"/>
              <p:nvPr/>
            </p:nvSpPr>
            <p:spPr>
              <a:xfrm>
                <a:off x="3419640" y="4437000"/>
                <a:ext cx="31464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8"/>
              <p:cNvSpPr txBox="1"/>
              <p:nvPr/>
            </p:nvSpPr>
            <p:spPr>
              <a:xfrm>
                <a:off x="6035760" y="1268280"/>
                <a:ext cx="12049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9"/>
              <p:cNvSpPr txBox="1"/>
              <p:nvPr/>
            </p:nvSpPr>
            <p:spPr>
              <a:xfrm>
                <a:off x="5076720" y="4076640"/>
                <a:ext cx="739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6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Упростите выраж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Расскажите, как перемножить два числа, содержащие целую и дробную част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7"/>
              <p:cNvSpPr txBox="1"/>
              <p:nvPr/>
            </p:nvSpPr>
            <p:spPr>
              <a:xfrm>
                <a:off x="2771640" y="4581360"/>
                <a:ext cx="3224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8"/>
              <p:cNvSpPr txBox="1"/>
              <p:nvPr/>
            </p:nvSpPr>
            <p:spPr>
              <a:xfrm>
                <a:off x="3780000" y="1268280"/>
                <a:ext cx="15937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ahoma"/>
              </a:rPr>
              <a:t>Описание работы с презентацией: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1. 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Открыть  любой билет зачета.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.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Щелкнуть левой кнопкой мыши по открывшемуся номеру билета </a:t>
            </a:r>
            <a:r>
              <a:rPr b="1" i="1" lang="ru-RU" sz="2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появится содержание выбранного билета).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Чтобы вернуться на страничку  с билетами, нажмите клавишу «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БИЛЕТЫ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».</a:t>
            </a:r>
            <a:br>
              <a:rPr sz="2800"/>
            </a:br>
            <a:r>
              <a:rPr b="1" i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ри необходимости проведения зарядки для снятия усталости у учащихся в любой момент откройте «ГИМНАСТИКУ» для глаз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AutoShape 2"/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7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611280" y="1557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полните делени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684360" y="3860640"/>
            <a:ext cx="813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Упростите выражение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1187280" y="2565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делят на обыкновенную дробь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Object 7"/>
              <p:cNvSpPr txBox="1"/>
              <p:nvPr/>
            </p:nvSpPr>
            <p:spPr>
              <a:xfrm>
                <a:off x="5651640" y="4005360"/>
                <a:ext cx="3030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8"/>
              <p:cNvSpPr txBox="1"/>
              <p:nvPr/>
            </p:nvSpPr>
            <p:spPr>
              <a:xfrm>
                <a:off x="5384880" y="1268280"/>
                <a:ext cx="15541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Line 2"/>
          <p:cNvSpPr/>
          <p:nvPr/>
        </p:nvSpPr>
        <p:spPr>
          <a:xfrm>
            <a:off x="4643280" y="3718080"/>
            <a:ext cx="0" cy="2303280"/>
          </a:xfrm>
          <a:prstGeom prst="line">
            <a:avLst/>
          </a:prstGeom>
          <a:ln w="101520">
            <a:solidFill>
              <a:srgbClr val="eb5b0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9" name="Line 3"/>
          <p:cNvSpPr/>
          <p:nvPr/>
        </p:nvSpPr>
        <p:spPr>
          <a:xfrm>
            <a:off x="4643280" y="909720"/>
            <a:ext cx="0" cy="2230200"/>
          </a:xfrm>
          <a:prstGeom prst="line">
            <a:avLst/>
          </a:prstGeom>
          <a:ln w="101520">
            <a:solidFill>
              <a:srgbClr val="eb5b0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0" name="Line 4"/>
          <p:cNvSpPr/>
          <p:nvPr/>
        </p:nvSpPr>
        <p:spPr>
          <a:xfrm flipH="1" flipV="1">
            <a:off x="1619280" y="3429000"/>
            <a:ext cx="2806560" cy="1440"/>
          </a:xfrm>
          <a:prstGeom prst="line">
            <a:avLst/>
          </a:prstGeom>
          <a:ln w="101520">
            <a:solidFill>
              <a:srgbClr val="eb5b0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1" name="Line 5"/>
          <p:cNvSpPr/>
          <p:nvPr/>
        </p:nvSpPr>
        <p:spPr>
          <a:xfrm flipH="1" flipV="1">
            <a:off x="4858920" y="3429000"/>
            <a:ext cx="2806920" cy="1440"/>
          </a:xfrm>
          <a:prstGeom prst="line">
            <a:avLst/>
          </a:prstGeom>
          <a:ln w="101520">
            <a:solidFill>
              <a:srgbClr val="eb5b0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2" name="Oval 6"/>
          <p:cNvSpPr/>
          <p:nvPr/>
        </p:nvSpPr>
        <p:spPr>
          <a:xfrm>
            <a:off x="468360" y="549360"/>
            <a:ext cx="8351640" cy="5832360"/>
          </a:xfrm>
          <a:prstGeom prst="ellipse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3" name="Oval 7"/>
          <p:cNvSpPr/>
          <p:nvPr/>
        </p:nvSpPr>
        <p:spPr>
          <a:xfrm>
            <a:off x="755640" y="765000"/>
            <a:ext cx="7777080" cy="540072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4" name="Line 8"/>
          <p:cNvSpPr/>
          <p:nvPr/>
        </p:nvSpPr>
        <p:spPr>
          <a:xfrm flipV="1">
            <a:off x="1332000" y="2276280"/>
            <a:ext cx="360360" cy="360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5" name="Line 9"/>
          <p:cNvSpPr/>
          <p:nvPr/>
        </p:nvSpPr>
        <p:spPr>
          <a:xfrm flipV="1">
            <a:off x="468360" y="2852280"/>
            <a:ext cx="7128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6" name="Line 10"/>
          <p:cNvSpPr/>
          <p:nvPr/>
        </p:nvSpPr>
        <p:spPr>
          <a:xfrm>
            <a:off x="900000" y="4221000"/>
            <a:ext cx="216000" cy="357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7" name="Oval 11"/>
          <p:cNvSpPr/>
          <p:nvPr/>
        </p:nvSpPr>
        <p:spPr>
          <a:xfrm>
            <a:off x="179280" y="3357720"/>
            <a:ext cx="468360" cy="46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8" name="Oval 12"/>
          <p:cNvSpPr/>
          <p:nvPr/>
        </p:nvSpPr>
        <p:spPr>
          <a:xfrm>
            <a:off x="1042920" y="1916280"/>
            <a:ext cx="3600360" cy="3095280"/>
          </a:xfrm>
          <a:prstGeom prst="ellipse">
            <a:avLst/>
          </a:prstGeom>
          <a:noFill/>
          <a:ln w="101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9" name="Oval 13"/>
          <p:cNvSpPr/>
          <p:nvPr/>
        </p:nvSpPr>
        <p:spPr>
          <a:xfrm>
            <a:off x="4643280" y="1989000"/>
            <a:ext cx="3600720" cy="3095640"/>
          </a:xfrm>
          <a:prstGeom prst="ellipse">
            <a:avLst/>
          </a:prstGeom>
          <a:noFill/>
          <a:ln w="101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0" name="Oval 14"/>
          <p:cNvSpPr/>
          <p:nvPr/>
        </p:nvSpPr>
        <p:spPr>
          <a:xfrm>
            <a:off x="4427640" y="3284640"/>
            <a:ext cx="431640" cy="360360"/>
          </a:xfrm>
          <a:prstGeom prst="ellipse">
            <a:avLst/>
          </a:prstGeom>
          <a:solidFill>
            <a:srgbClr val="eb5b03"/>
          </a:solidFill>
          <a:ln w="9360">
            <a:solidFill>
              <a:srgbClr val="eb5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539640" y="3213000"/>
            <a:ext cx="468360" cy="468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2" name="Oval 16"/>
          <p:cNvSpPr/>
          <p:nvPr/>
        </p:nvSpPr>
        <p:spPr>
          <a:xfrm>
            <a:off x="826920" y="3213000"/>
            <a:ext cx="468360" cy="4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3" name="Oval 17"/>
          <p:cNvSpPr/>
          <p:nvPr/>
        </p:nvSpPr>
        <p:spPr>
          <a:xfrm>
            <a:off x="4427640" y="3284640"/>
            <a:ext cx="431640" cy="360360"/>
          </a:xfrm>
          <a:prstGeom prst="ellipse">
            <a:avLst/>
          </a:prstGeom>
          <a:solidFill>
            <a:srgbClr val="eb5b03"/>
          </a:solidFill>
          <a:ln w="9360">
            <a:solidFill>
              <a:srgbClr val="eb5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4" name="Oval 18"/>
          <p:cNvSpPr/>
          <p:nvPr/>
        </p:nvSpPr>
        <p:spPr>
          <a:xfrm>
            <a:off x="179280" y="3357720"/>
            <a:ext cx="468360" cy="46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5" name="Oval 19"/>
          <p:cNvSpPr/>
          <p:nvPr/>
        </p:nvSpPr>
        <p:spPr>
          <a:xfrm>
            <a:off x="539640" y="3213000"/>
            <a:ext cx="468360" cy="468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6" name="Oval 20"/>
          <p:cNvSpPr/>
          <p:nvPr/>
        </p:nvSpPr>
        <p:spPr>
          <a:xfrm>
            <a:off x="826920" y="3213000"/>
            <a:ext cx="468360" cy="4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7" name="Oval 21"/>
          <p:cNvSpPr/>
          <p:nvPr/>
        </p:nvSpPr>
        <p:spPr>
          <a:xfrm>
            <a:off x="539640" y="3213000"/>
            <a:ext cx="468360" cy="4683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8" name="AutoShape 44"/>
          <p:cNvSpPr/>
          <p:nvPr/>
        </p:nvSpPr>
        <p:spPr>
          <a:xfrm>
            <a:off x="7093080" y="5950080"/>
            <a:ext cx="183492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НАЗАД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531E-006 L -2.5E-006 -0.36171 E">
                                      <p:cBhvr>
                                        <p:cTn id="675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36171 L -2.5E-006 0.36216 E">
                                      <p:cBhvr>
                                        <p:cTn id="678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36216 L -2.5E-006 -0.00509 E">
                                      <p:cBhvr>
                                        <p:cTn id="681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3469E-006 L 0.32292 2.53469E-006 E">
                                      <p:cBhvr>
                                        <p:cTn id="684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4.6531E-006 L -0.33073 4.6531E-006 E">
                                      <p:cBhvr>
                                        <p:cTn id="687" dur="3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1758 C 0.00608 -0.25185 0.2092 -0.44311 0.45868 -0.44311 C 0.70851 -0.44311 0.91094 -0.25185 0.91094 -0.01758 C 0.91094 0.21646 0.70851 0.40656 0.45868 0.40656 C 0.2092 0.40656 0.00608 0.21646 0.00608 -0.01758 Z">
                                      <p:cBhvr>
                                        <p:cTn id="697" dur="5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0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1221E-006 C 1.11111E-006 -0.21577 0.1908 -0.39269 0.425 -0.38922 C 0.65868 -0.39107 0.84896 -0.21577 0.84844 -2.81221E-006 C 0.8493 0.21624 0.65885 0.39108 0.425 0.39154 C 0.19114 0.39177 1.11111E-006 0.21624 1.11111E-006 -2.81221E-006 Z">
                                      <p:cBhvr>
                                        <p:cTn id="707" dur="5000" fill="hold"/>
                                        <p:tgtEl>
                                          <p:spTgt spid="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7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6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6531E-006 C 1.38889E-006 0.12372 0.08507 0.22571 0.18871 0.22571 C 0.31094 0.22571 0.36545 0.12927 0.38403 0.06151 L 0.40087 -0.04718 C 0.41996 -0.11494 0.45677 -0.21508 0.59479 -0.21508 C 0.68316 -0.21508 0.78559 -0.12396 0.78559 4.6531E-006 C 0.78559 0.12372 0.68628 0.23982 0.59792 0.23982 C 0.45989 0.23982 0.41858 0.13344 0.39948 0.06568 L 0.38246 -0.05528 C 0.36389 -0.12304 0.31094 -0.22549 0.18871 -0.22549 C 0.08507 -0.22549 1.38889E-006 -0.12396 1.38889E-006 4.6531E-006 Z">
                                      <p:cBhvr>
                                        <p:cTn id="717" dur="5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531E-006 L -2.5E-006 -0.36171 E">
                                      <p:cBhvr>
                                        <p:cTn id="727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7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36171 L -2.5E-006 0.36216 E">
                                      <p:cBhvr>
                                        <p:cTn id="730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36216 L -2.5E-006 -0.00509 E">
                                      <p:cBhvr>
                                        <p:cTn id="733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7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3469E-006 L 0.32292 2.53469E-006 E">
                                      <p:cBhvr>
                                        <p:cTn id="736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7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4.6531E-006 L -0.33073 4.6531E-006 E">
                                      <p:cBhvr>
                                        <p:cTn id="739" dur="3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7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74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1758 C 0.00608 -0.25185 0.2092 -0.44311 0.45868 -0.44311 C 0.70851 -0.44311 0.91094 -0.25185 0.91094 -0.01758 C 0.91094 0.21646 0.70851 0.40656 0.45868 0.40656 C 0.2092 0.40656 0.00608 0.21646 0.00608 -0.01758 Z">
                                      <p:cBhvr>
                                        <p:cTn id="749" dur="50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7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75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1221E-006 C 1.11111E-006 -0.21577 0.1908 -0.39269 0.425 -0.38922 C 0.65868 -0.39107 0.84896 -0.21577 0.84844 -2.81221E-006 C 0.8493 0.21624 0.65885 0.39108 0.425 0.39154 C 0.19114 0.39177 1.11111E-006 0.21624 1.11111E-006 -2.81221E-006 Z">
                                      <p:cBhvr>
                                        <p:cTn id="759" dur="50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7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768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0611E-006 C -2.22222E-006 0.12373 0.08507 0.22572 0.18872 0.22572 C 0.31094 0.22572 0.36545 0.12928 0.38403 0.06152 L 0.40087 -0.04718 C 0.41997 -0.11494 0.45677 -0.21508 0.59479 -0.21508 C 0.68316 -0.21508 0.78559 -0.12396 0.78559 -1.40611E-006 C 0.78559 0.12373 0.68629 0.23983 0.59792 0.23983 C 0.4599 0.23983 0.41858 0.13344 0.39948 0.06568 L 0.38247 -0.05527 C 0.36389 -0.12303 0.31094 -0.22548 0.18872 -0.22548 C 0.08507 -0.22548 -2.22222E-006 -0.12396 -2.22222E-006 -1.40611E-006 Z">
                                      <p:cBhvr>
                                        <p:cTn id="769" dur="5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7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64500"/>
                            </p:stCondLst>
                            <p:childTnLst>
                              <p:par>
                                <p:cTn id="7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WordArt 105"/>
          <p:cNvSpPr txBox="1"/>
          <p:nvPr/>
        </p:nvSpPr>
        <p:spPr>
          <a:xfrm>
            <a:off x="2700360" y="2421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6" name="WordArt 106"/>
          <p:cNvSpPr txBox="1"/>
          <p:nvPr/>
        </p:nvSpPr>
        <p:spPr>
          <a:xfrm>
            <a:off x="4357800" y="3429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2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7" name="WordArt 107"/>
          <p:cNvSpPr txBox="1"/>
          <p:nvPr/>
        </p:nvSpPr>
        <p:spPr>
          <a:xfrm>
            <a:off x="6012000" y="4508640"/>
            <a:ext cx="46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3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8" name="WordArt 108"/>
          <p:cNvSpPr txBox="1"/>
          <p:nvPr/>
        </p:nvSpPr>
        <p:spPr>
          <a:xfrm>
            <a:off x="6012000" y="1484280"/>
            <a:ext cx="46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4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9" name="WordArt 109"/>
          <p:cNvSpPr txBox="1"/>
          <p:nvPr/>
        </p:nvSpPr>
        <p:spPr>
          <a:xfrm>
            <a:off x="6227640" y="335772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5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0" name="WordArt 110"/>
          <p:cNvSpPr txBox="1"/>
          <p:nvPr/>
        </p:nvSpPr>
        <p:spPr>
          <a:xfrm>
            <a:off x="1116000" y="1413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1" name="WordArt 111"/>
          <p:cNvSpPr txBox="1"/>
          <p:nvPr/>
        </p:nvSpPr>
        <p:spPr>
          <a:xfrm>
            <a:off x="2701800" y="450864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7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2" name="WordArt 112"/>
          <p:cNvSpPr txBox="1"/>
          <p:nvPr/>
        </p:nvSpPr>
        <p:spPr>
          <a:xfrm>
            <a:off x="4284720" y="2421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8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3" name="WordArt 113"/>
          <p:cNvSpPr txBox="1"/>
          <p:nvPr/>
        </p:nvSpPr>
        <p:spPr>
          <a:xfrm>
            <a:off x="7597800" y="2421000"/>
            <a:ext cx="4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4" name="WordArt 114"/>
          <p:cNvSpPr txBox="1"/>
          <p:nvPr/>
        </p:nvSpPr>
        <p:spPr>
          <a:xfrm>
            <a:off x="971640" y="4437000"/>
            <a:ext cx="93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0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5" name="WordArt 115"/>
          <p:cNvSpPr txBox="1"/>
          <p:nvPr/>
        </p:nvSpPr>
        <p:spPr>
          <a:xfrm>
            <a:off x="900000" y="2421000"/>
            <a:ext cx="9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1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6" name="WordArt 116"/>
          <p:cNvSpPr txBox="1"/>
          <p:nvPr/>
        </p:nvSpPr>
        <p:spPr>
          <a:xfrm>
            <a:off x="971640" y="3429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2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7" name="WordArt 117"/>
          <p:cNvSpPr txBox="1"/>
          <p:nvPr/>
        </p:nvSpPr>
        <p:spPr>
          <a:xfrm>
            <a:off x="5796000" y="2421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3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8" name="WordArt 118"/>
          <p:cNvSpPr txBox="1"/>
          <p:nvPr/>
        </p:nvSpPr>
        <p:spPr>
          <a:xfrm>
            <a:off x="4140360" y="4437000"/>
            <a:ext cx="93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4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9" name="WordArt 119"/>
          <p:cNvSpPr txBox="1"/>
          <p:nvPr/>
        </p:nvSpPr>
        <p:spPr>
          <a:xfrm>
            <a:off x="2556000" y="3429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5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0" name="WordArt 120"/>
          <p:cNvSpPr txBox="1"/>
          <p:nvPr/>
        </p:nvSpPr>
        <p:spPr>
          <a:xfrm>
            <a:off x="2484360" y="1413000"/>
            <a:ext cx="9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6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1" name="WordArt 121"/>
          <p:cNvSpPr txBox="1"/>
          <p:nvPr/>
        </p:nvSpPr>
        <p:spPr>
          <a:xfrm>
            <a:off x="4067280" y="1413000"/>
            <a:ext cx="93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7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2" name="AutoShape 132"/>
          <p:cNvSpPr/>
          <p:nvPr/>
        </p:nvSpPr>
        <p:spPr>
          <a:xfrm>
            <a:off x="395280" y="260280"/>
            <a:ext cx="4824360" cy="978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3" name="AutoShape 44">
            <a:hlinkClick r:id="rId2" action="ppaction://hlinksldjump"/>
          </p:cNvPr>
          <p:cNvSpPr/>
          <p:nvPr/>
        </p:nvSpPr>
        <p:spPr>
          <a:xfrm>
            <a:off x="0" y="6381720"/>
            <a:ext cx="9144000" cy="476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гимнастика для глаз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4" name="Rectangle 145"/>
          <p:cNvSpPr/>
          <p:nvPr/>
        </p:nvSpPr>
        <p:spPr>
          <a:xfrm>
            <a:off x="5508720" y="1341360"/>
            <a:ext cx="1368360" cy="9352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5" name="Rectangle 145"/>
          <p:cNvSpPr/>
          <p:nvPr/>
        </p:nvSpPr>
        <p:spPr>
          <a:xfrm>
            <a:off x="5580000" y="3357720"/>
            <a:ext cx="1368360" cy="8632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6" name="Rectangle 145"/>
          <p:cNvSpPr/>
          <p:nvPr/>
        </p:nvSpPr>
        <p:spPr>
          <a:xfrm>
            <a:off x="539640" y="1341360"/>
            <a:ext cx="1368360" cy="9352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7" name="Rectangle 145"/>
          <p:cNvSpPr/>
          <p:nvPr/>
        </p:nvSpPr>
        <p:spPr>
          <a:xfrm>
            <a:off x="2214720" y="2357280"/>
            <a:ext cx="1368360" cy="935280"/>
          </a:xfrm>
          <a:prstGeom prst="rect">
            <a:avLst/>
          </a:prstGeom>
          <a:blipFill rotWithShape="0">
            <a:blip r:embed="rId7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8" name="Rectangle 145"/>
          <p:cNvSpPr/>
          <p:nvPr/>
        </p:nvSpPr>
        <p:spPr>
          <a:xfrm>
            <a:off x="7164360" y="2421000"/>
            <a:ext cx="1368360" cy="934920"/>
          </a:xfrm>
          <a:prstGeom prst="rect">
            <a:avLst/>
          </a:prstGeom>
          <a:blipFill rotWithShape="0">
            <a:blip r:embed="rId8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9" name="Rectangle 145"/>
          <p:cNvSpPr/>
          <p:nvPr/>
        </p:nvSpPr>
        <p:spPr>
          <a:xfrm>
            <a:off x="3851280" y="3357720"/>
            <a:ext cx="1368360" cy="934920"/>
          </a:xfrm>
          <a:prstGeom prst="rect">
            <a:avLst/>
          </a:prstGeom>
          <a:blipFill rotWithShape="0">
            <a:blip r:embed="rId9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0" name="Rectangle 145"/>
          <p:cNvSpPr/>
          <p:nvPr/>
        </p:nvSpPr>
        <p:spPr>
          <a:xfrm>
            <a:off x="2214720" y="4357800"/>
            <a:ext cx="1368360" cy="934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1" name="Rectangle 145"/>
          <p:cNvSpPr/>
          <p:nvPr/>
        </p:nvSpPr>
        <p:spPr>
          <a:xfrm>
            <a:off x="5583240" y="4429080"/>
            <a:ext cx="1368360" cy="934920"/>
          </a:xfrm>
          <a:prstGeom prst="rect">
            <a:avLst/>
          </a:prstGeom>
          <a:blipFill rotWithShape="0">
            <a:blip r:embed="rId11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2" name="Rectangle 145"/>
          <p:cNvSpPr/>
          <p:nvPr/>
        </p:nvSpPr>
        <p:spPr>
          <a:xfrm>
            <a:off x="3851280" y="2349360"/>
            <a:ext cx="1368360" cy="863640"/>
          </a:xfrm>
          <a:prstGeom prst="rect">
            <a:avLst/>
          </a:prstGeom>
          <a:blipFill rotWithShape="0">
            <a:blip r:embed="rId12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3" name="Rectangle 145"/>
          <p:cNvSpPr/>
          <p:nvPr/>
        </p:nvSpPr>
        <p:spPr>
          <a:xfrm>
            <a:off x="611280" y="4365720"/>
            <a:ext cx="1368360" cy="934920"/>
          </a:xfrm>
          <a:prstGeom prst="rect">
            <a:avLst/>
          </a:prstGeom>
          <a:blipFill rotWithShape="0">
            <a:blip r:embed="rId13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4" name="Rectangle 145"/>
          <p:cNvSpPr/>
          <p:nvPr/>
        </p:nvSpPr>
        <p:spPr>
          <a:xfrm>
            <a:off x="3851280" y="1341360"/>
            <a:ext cx="1368360" cy="863640"/>
          </a:xfrm>
          <a:prstGeom prst="rect">
            <a:avLst/>
          </a:prstGeom>
          <a:blipFill rotWithShape="0">
            <a:blip r:embed="rId14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5" name="Rectangle 145"/>
          <p:cNvSpPr/>
          <p:nvPr/>
        </p:nvSpPr>
        <p:spPr>
          <a:xfrm>
            <a:off x="611280" y="2421000"/>
            <a:ext cx="1368360" cy="863640"/>
          </a:xfrm>
          <a:prstGeom prst="rect">
            <a:avLst/>
          </a:prstGeom>
          <a:blipFill rotWithShape="0">
            <a:blip r:embed="rId15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6" name="Rectangle 145"/>
          <p:cNvSpPr/>
          <p:nvPr/>
        </p:nvSpPr>
        <p:spPr>
          <a:xfrm>
            <a:off x="2211480" y="1347840"/>
            <a:ext cx="1368360" cy="863640"/>
          </a:xfrm>
          <a:prstGeom prst="rect">
            <a:avLst/>
          </a:prstGeom>
          <a:blipFill rotWithShape="0">
            <a:blip r:embed="rId16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7" name="Rectangle 145"/>
          <p:cNvSpPr/>
          <p:nvPr/>
        </p:nvSpPr>
        <p:spPr>
          <a:xfrm>
            <a:off x="5580000" y="2421000"/>
            <a:ext cx="1368360" cy="792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8" name="Rectangle 145"/>
          <p:cNvSpPr/>
          <p:nvPr/>
        </p:nvSpPr>
        <p:spPr>
          <a:xfrm>
            <a:off x="611280" y="3392640"/>
            <a:ext cx="1368360" cy="793440"/>
          </a:xfrm>
          <a:prstGeom prst="rect">
            <a:avLst/>
          </a:prstGeom>
          <a:blipFill rotWithShape="0">
            <a:blip r:embed="rId18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9" name="Rectangle 145"/>
          <p:cNvSpPr/>
          <p:nvPr/>
        </p:nvSpPr>
        <p:spPr>
          <a:xfrm>
            <a:off x="2268360" y="3429000"/>
            <a:ext cx="1368720" cy="792000"/>
          </a:xfrm>
          <a:prstGeom prst="rect">
            <a:avLst/>
          </a:prstGeom>
          <a:blipFill rotWithShape="0">
            <a:blip r:embed="rId19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0" name="Rectangle 145"/>
          <p:cNvSpPr/>
          <p:nvPr/>
        </p:nvSpPr>
        <p:spPr>
          <a:xfrm>
            <a:off x="3924360" y="4437000"/>
            <a:ext cx="1368360" cy="935280"/>
          </a:xfrm>
          <a:prstGeom prst="rect">
            <a:avLst/>
          </a:prstGeom>
          <a:blipFill rotWithShape="0">
            <a:blip r:embed="rId20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AutoShape 44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2" name="Rectangle 45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1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3" name="Rectangle 46"/>
          <p:cNvSpPr/>
          <p:nvPr/>
        </p:nvSpPr>
        <p:spPr>
          <a:xfrm>
            <a:off x="611280" y="1374840"/>
            <a:ext cx="8137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6600"/>
                </a:solidFill>
                <a:latin typeface="Comic Sans MS"/>
              </a:rPr>
              <a:t>1. Корень уравнения с одной переменной. Что значит решить уравнение? 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47"/>
              <p:cNvSpPr txBox="1"/>
              <p:nvPr/>
            </p:nvSpPr>
            <p:spPr>
              <a:xfrm>
                <a:off x="3851280" y="2886120"/>
                <a:ext cx="3651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Rectangle 49"/>
          <p:cNvSpPr/>
          <p:nvPr/>
        </p:nvSpPr>
        <p:spPr>
          <a:xfrm>
            <a:off x="611280" y="3860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6600"/>
                </a:solidFill>
                <a:latin typeface="Comic Sans MS"/>
              </a:rPr>
              <a:t>3. Разложите на множители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6" name="Rectangle 50"/>
          <p:cNvSpPr/>
          <p:nvPr/>
        </p:nvSpPr>
        <p:spPr>
          <a:xfrm>
            <a:off x="611280" y="2311560"/>
            <a:ext cx="82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6600"/>
                </a:solidFill>
                <a:latin typeface="Comic Sans MS"/>
              </a:rPr>
              <a:t>2. Какие из чисел 1, 2, 3, -3, -2, -1 являются корнями уравнения 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3"/>
              <p:cNvSpPr txBox="1"/>
              <p:nvPr/>
            </p:nvSpPr>
            <p:spPr>
              <a:xfrm>
                <a:off x="3924360" y="4327560"/>
                <a:ext cx="3495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2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5"/>
              <p:cNvSpPr txBox="1"/>
              <p:nvPr/>
            </p:nvSpPr>
            <p:spPr>
              <a:xfrm>
                <a:off x="1060560" y="2063880"/>
                <a:ext cx="7381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,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7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2" name="Rectangle 6"/>
          <p:cNvSpPr/>
          <p:nvPr/>
        </p:nvSpPr>
        <p:spPr>
          <a:xfrm>
            <a:off x="611280" y="364500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Постройте угол АОВ, равный 70</a:t>
            </a:r>
            <a:r>
              <a:rPr b="1" lang="ru-RU" sz="3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. Разделите его лучом ОК на два равных угла с помощью транспортира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складываются два числа с одинаков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3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5"/>
              <p:cNvSpPr txBox="1"/>
              <p:nvPr/>
            </p:nvSpPr>
            <p:spPr>
              <a:xfrm>
                <a:off x="1758960" y="2063880"/>
                <a:ext cx="5983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,6</m:t>
                    </m:r>
                    <m:r>
                      <m:t xml:space="preserve">+</m:t>
                    </m:r>
                    <m:r>
                      <m:t xml:space="preserve">0,8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Rectangle 6"/>
          <p:cNvSpPr/>
          <p:nvPr/>
        </p:nvSpPr>
        <p:spPr>
          <a:xfrm>
            <a:off x="684360" y="3645000"/>
            <a:ext cx="813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Начертите окружность, проведите радиус и диаметр, измерьте их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складываются два числа с разн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4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5"/>
              <p:cNvSpPr txBox="1"/>
              <p:nvPr/>
            </p:nvSpPr>
            <p:spPr>
              <a:xfrm>
                <a:off x="1001880" y="2063880"/>
                <a:ext cx="7497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4" name="Rectangle 6"/>
          <p:cNvSpPr/>
          <p:nvPr/>
        </p:nvSpPr>
        <p:spPr>
          <a:xfrm>
            <a:off x="611280" y="364500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Проведите через точку А прямую, параллельную данной прямой </a:t>
            </a:r>
            <a:r>
              <a:rPr b="1" i="1" lang="ru-RU" sz="3000" spc="-1" strike="noStrike">
                <a:solidFill>
                  <a:srgbClr val="cc6600"/>
                </a:solidFill>
                <a:latin typeface="Comic Sans MS"/>
              </a:rPr>
              <a:t>а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5" name="Rectangle 8"/>
          <p:cNvSpPr/>
          <p:nvPr/>
        </p:nvSpPr>
        <p:spPr>
          <a:xfrm>
            <a:off x="395280" y="2565360"/>
            <a:ext cx="835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вычитаются положительные и отрицательные числа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5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5"/>
              <p:cNvSpPr txBox="1"/>
              <p:nvPr/>
            </p:nvSpPr>
            <p:spPr>
              <a:xfrm>
                <a:off x="1544760" y="2063880"/>
                <a:ext cx="641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,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0" name="Rectangle 6"/>
          <p:cNvSpPr/>
          <p:nvPr/>
        </p:nvSpPr>
        <p:spPr>
          <a:xfrm>
            <a:off x="611280" y="364500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Проведите через точку А прямую, перпендикулярную данной прямой </a:t>
            </a:r>
            <a:r>
              <a:rPr b="1" i="1" lang="ru-RU" sz="3000" spc="-1" strike="noStrike">
                <a:solidFill>
                  <a:srgbClr val="cc6600"/>
                </a:solidFill>
                <a:latin typeface="Comic Sans MS"/>
              </a:rPr>
              <a:t>а</a:t>
            </a: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умножаются два отрицательных числа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AutoShape 2">
            <a:hlinkClick r:id="rId1" action="ppaction://hlinksldjump"/>
          </p:cNvPr>
          <p:cNvSpPr/>
          <p:nvPr/>
        </p:nvSpPr>
        <p:spPr>
          <a:xfrm>
            <a:off x="684360" y="5445000"/>
            <a:ext cx="26636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БИЛЕТЫ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24000" y="404640"/>
            <a:ext cx="849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Comic Sans MS"/>
              </a:rPr>
              <a:t>Билет №6</a:t>
            </a:r>
            <a:r>
              <a:rPr b="1" lang="ru-RU" sz="5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611280" y="1197000"/>
            <a:ext cx="813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1. Вычислите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5"/>
              <p:cNvSpPr txBox="1"/>
              <p:nvPr/>
            </p:nvSpPr>
            <p:spPr>
              <a:xfrm>
                <a:off x="2244600" y="2063880"/>
                <a:ext cx="5010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6" name="Rectangle 6"/>
          <p:cNvSpPr/>
          <p:nvPr/>
        </p:nvSpPr>
        <p:spPr>
          <a:xfrm>
            <a:off x="684360" y="3716280"/>
            <a:ext cx="813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2. Какие целые числа расположены между числами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1187280" y="256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6600"/>
                </a:solidFill>
                <a:latin typeface="Comic Sans MS"/>
              </a:rPr>
              <a:t>По какому правилу умножают два числа с разными знаками?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Object 8"/>
              <p:cNvSpPr txBox="1"/>
              <p:nvPr/>
            </p:nvSpPr>
            <p:spPr>
              <a:xfrm>
                <a:off x="4000680" y="4286160"/>
                <a:ext cx="4427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,5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2,5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1:04:19Z</dcterms:created>
  <dc:creator>Компьютер</dc:creator>
  <dc:description/>
  <dc:language>en-US</dc:language>
  <cp:lastModifiedBy>USER</cp:lastModifiedBy>
  <dcterms:modified xsi:type="dcterms:W3CDTF">2014-11-18T20:59:48Z</dcterms:modified>
  <cp:revision>29</cp:revision>
  <dc:subject/>
  <dc:title>Слайд 1</dc:title>
</cp:coreProperties>
</file>