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EAD-2C62-46AE-AE1B-32E1086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384-FF23-40A3-8489-BFF3282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391-8FB5-41A4-9B26-46BF434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0D9-0C2B-4C31-9C05-21DC326B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123-358A-49EB-BA48-35E9198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EED-4C7B-4A86-9210-A1A4862E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C22-CAFD-46DD-80F4-DDD444C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80C-0F05-401E-9B2D-84BDA1C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436-D8C9-493E-B5A8-2EA42208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778-9794-43B4-9A85-1760EA0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321-BE6C-42FD-BA08-33F8A8F3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95B-A946-400A-AAA3-F6BF8E7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E93-69D1-468C-AB36-ED964F6E9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1989000"/>
            <a:ext cx="80643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лодные блюда и закуск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ов ми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86802094_tonnel"/>
          <p:cNvPicPr/>
          <p:nvPr/>
        </p:nvPicPr>
        <p:blipFill>
          <a:blip r:embed="rId2"/>
          <a:stretch/>
        </p:blipFill>
        <p:spPr>
          <a:xfrm>
            <a:off x="395280" y="18900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zucchini-cakes-1024x680"/>
          <p:cNvPicPr/>
          <p:nvPr/>
        </p:nvPicPr>
        <p:blipFill>
          <a:blip r:embed="rId3"/>
          <a:stretch/>
        </p:blipFill>
        <p:spPr>
          <a:xfrm>
            <a:off x="4140360" y="260280"/>
            <a:ext cx="439236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alata-de-morcovi"/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076720" y="436572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рковь по-француз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284720" y="3284640"/>
            <a:ext cx="431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ладьи из кабачков цуккини с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39640" y="3284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уфле с сы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Мароккан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хня Марокко - это баланс простоты. Популярна баранина, говядина, курица и верблюжатина. Основной источник углеводов - кускус, хлеба, рис и бобовые, также как и огромно употребление корневых овощей, зелени и сезонных фрукт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да в Марокканской кухне готовятся медленно и аккуратно, их приправляют специями (за частую очень сильно) и свежими травами. В одном блюде часто встречаются и сладкое, и соленое, и острое. Мясные блюда часто приправляют сухофруктами или свежими фруктами, в популярные национальные блюда входит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джин с мясом и айв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аранина с финиками, курагой или черносливом, и баранина с кедровыми орешками и изю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astbrech"/>
          <p:cNvPicPr/>
          <p:nvPr/>
        </p:nvPicPr>
        <p:blipFill>
          <a:blip r:embed="rId2"/>
          <a:stretch/>
        </p:blipFill>
        <p:spPr>
          <a:xfrm>
            <a:off x="4572000" y="4076640"/>
            <a:ext cx="3672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жарить лук-порей с щепоткой соли в течение нескольких мин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бавить морковь, зиру и чеснок, и медленно готовить, пока овощи не станут мягкими, около 20 мин. Отставить и дать немного остыть, затем добавить укроп, фету и миндал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огреть духовку до 200 гр С. Растопить оставшееся масло, положить 1 лист теста фило на доску, смазать его растопленным маслом, положить на него еще один лист теста. Порезать на равные полоски вдоль толщиной примерно 5 с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ворачивать по диагонали, чтобы получились треугольники. Запекать 15 мин до золотисто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_2304"/>
          <p:cNvPicPr/>
          <p:nvPr/>
        </p:nvPicPr>
        <p:blipFill>
          <a:blip r:embed="rId2"/>
          <a:stretch/>
        </p:blipFill>
        <p:spPr>
          <a:xfrm>
            <a:off x="4859280" y="981000"/>
            <a:ext cx="4076640" cy="3301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5219640" y="436572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ть огурец в дуршлаг, посыпать солью и дать стечь в течение 30 мин (благодаря этому салат не станет мокрым, если не подавать его сразу же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заправку: смешать все ингредиенты кроме кориандра. Добавить еще немного чили, если вы любите остро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мешать огурец с остальными ингредиентами для салата и с заправкой, приправить и добавить кориан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3fe3479f4f3d1fd5cd73aa9dc1c1fe0"/>
          <p:cNvPicPr/>
          <p:nvPr/>
        </p:nvPicPr>
        <p:blipFill>
          <a:blip r:embed="rId2"/>
          <a:stretch/>
        </p:blipFill>
        <p:spPr>
          <a:xfrm>
            <a:off x="4716360" y="692280"/>
            <a:ext cx="4226040" cy="2817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5292720" y="3789360"/>
            <a:ext cx="31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лат из моркови и ред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нглий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англичан на протяжении веков начинался с яичницы с жареным беконом, помидорами, грибами, сосисками и кровяной колбасой. По сей день популярны закуски и бутерброды - треугольные бутерброды стали уже одной из непоколебимых английских традиций. Самыми классическими считаются треугольными бутерброды с огурцами на белом хлебе. Из первых блюд распространены супы-пюре и бульоны, но подают их редко, они не являются неотъемлемой частью ежедневной трапезы. Специи и травы в классической кухне употребляются очень скупо, хотя сейчас английские кулинары приучают британцев пользоваться большим количеством трав и спец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nglishTeaService"/>
          <p:cNvPicPr/>
          <p:nvPr/>
        </p:nvPicPr>
        <p:blipFill>
          <a:blip r:embed="rId2"/>
          <a:stretch/>
        </p:blipFill>
        <p:spPr>
          <a:xfrm>
            <a:off x="4140360" y="3933720"/>
            <a:ext cx="33829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ь картофель в микроволновке до готовности в течение 15 мин. Дать остыть и нарезать на 4 части. Срезать большую часть мякоти с картофеля и отлож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огреть духовку до 200 гр С. Смешать муку, паприку и чили. Обвалять картофельные шкурки в приправленной му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ить немного масла в форме для духовки. Когда масло нагреется, добавить картофельные шкурки и обвалять их в масле. Запекать 15 мин. Приправить солью и подавать со смет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1_1093"/>
          <p:cNvPicPr/>
          <p:nvPr/>
        </p:nvPicPr>
        <p:blipFill>
          <a:blip r:embed="rId2"/>
          <a:stretch/>
        </p:blipFill>
        <p:spPr>
          <a:xfrm>
            <a:off x="4572000" y="333360"/>
            <a:ext cx="4375080" cy="446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4859280" y="4941720"/>
            <a:ext cx="3889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тофельные шку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ломтиков хлеба для тостов срезать корочк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миску налить уксус, растительное масло, добавить соль, перец и укроп. Хорошо перемешать. Туда положить кружки огурцов и мариновать 20 мин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сыром ломтики смазать сливочным маслом. Hа 2 куска положить листья салата и сыр. помидоры нарезать кружками, положить на сыр. сверху накрыть 2 оставшимися ломтиками хлеба, разрезать сандвичи по диагона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ломтика белого хлеба намазать майонезом. Hа 2 ломтика положить кружки огурца. Сверху положить оставшиеся куски хлеба и разрезать сандвичи на треугольни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ветчиной яйцо сварить и нарезать,ветчину мелко нарезать. Перемешать ветчину с яйцами и все вместе порубить. Смешать с оставшимся майонезом и шнитт-луком. Ломтика положить с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_________________4fba6a0e6966e"/>
          <p:cNvPicPr/>
          <p:nvPr/>
        </p:nvPicPr>
        <p:blipFill>
          <a:blip r:embed="rId2"/>
          <a:stretch/>
        </p:blipFill>
        <p:spPr>
          <a:xfrm>
            <a:off x="5364000" y="260280"/>
            <a:ext cx="3610080" cy="475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5651640" y="5157720"/>
            <a:ext cx="31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ндвич «Пикант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блюда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о поистине бесценное достояние народа, которое нам досталось от предков. Каждый народ имеет свои традиции, культуру и, конечно же, свою национальную кухню. Национальная кухня — это коллекция традиций и секретов, которые передавались из поколения в поколение. Говорят, что для того, чтобы попробовать настоящее национальное блюдо какой-нибудь страны, необходимо побывать на его род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ональные блюда не только вносят в нашу жизнь разнообразие вкусов,но и отображают сочетания продуктов.Известно,что климатические условия оставляют свой отпечаток на блюдах национальной кухни.Так,в странах,где более холодных климат,кухня насыщена более калорийными блюдами,а в жарких преобладают лёгкие овощные,смешанные блю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7581-1"/>
          <p:cNvPicPr/>
          <p:nvPr/>
        </p:nvPicPr>
        <p:blipFill>
          <a:blip r:embed="rId2"/>
          <a:stretch/>
        </p:blipFill>
        <p:spPr>
          <a:xfrm rot="279600">
            <a:off x="5363640" y="4292640"/>
            <a:ext cx="2552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мец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ецкая кухня отличается большим разнообразием блюд из различных овощей, свинины, птицы, дичи, телятины, говядины и рыбы. Овощей потребляется очень много, особенно в отварном виде, в качестве гарнира - цветная капуста, стручки фасоли, морковь, краснокочанная капуста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резвычайно популярны у немцев бутерброды с различными продуктами: маслом, сыром, колбасой, сырковой массой, рыбой и др. В ассортименте закусок - салаты из овощей, ветчина, колбасные изделия, шпроты, сардины, блюда из сельди с различными соусами, мясные и рыбные салаты, заправленные майонезом,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5a6b296f6134f51bdc5362ecf1432f2"/>
          <p:cNvPicPr/>
          <p:nvPr/>
        </p:nvPicPr>
        <p:blipFill>
          <a:blip r:embed="rId2"/>
          <a:stretch/>
        </p:blipFill>
        <p:spPr>
          <a:xfrm rot="21086400">
            <a:off x="1115640" y="4221000"/>
            <a:ext cx="31496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568d35dd4a15"/>
          <p:cNvPicPr/>
          <p:nvPr/>
        </p:nvPicPr>
        <p:blipFill>
          <a:blip r:embed="rId3"/>
          <a:stretch/>
        </p:blipFill>
        <p:spPr>
          <a:xfrm rot="21373200">
            <a:off x="4716000" y="400536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но формы выкладывается шпинат готовый в кубиках (для удобного порционирования) с сыром фета. Положить мелко нарезанный зелёный лук и налить немного воды, чтобы прикрыть доныщко.Сверху выложить филе красной рыбы посоленное, поперчённое по вкусу и поставить в разогретую до 180 градусов на 4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3dddd187fbce22a26dcd31d29ffb69d4"/>
          <p:cNvPicPr/>
          <p:nvPr/>
        </p:nvPicPr>
        <p:blipFill>
          <a:blip r:embed="rId2"/>
          <a:stretch/>
        </p:blipFill>
        <p:spPr>
          <a:xfrm>
            <a:off x="4716360" y="33336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5003640" y="3429000"/>
            <a:ext cx="36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ёмга со шпин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40273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блоко, грушу и сыр нарезать одинаковыми брусочками. Нарезанные ингредиенты смешать в салатни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готовить заправку из майонеза, йогурта, горчицы, лимонного сока, соли и сахара по вкус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алат полить заправкой и посыпать рубленым минда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загруженное"/>
          <p:cNvPicPr/>
          <p:nvPr/>
        </p:nvPicPr>
        <p:blipFill>
          <a:blip r:embed="rId2"/>
          <a:stretch/>
        </p:blipFill>
        <p:spPr>
          <a:xfrm>
            <a:off x="4427640" y="1197000"/>
            <a:ext cx="4451400" cy="3122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4859280" y="4437000"/>
            <a:ext cx="367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ранденбургский сы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ала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l-mops_original"/>
          <p:cNvPicPr/>
          <p:nvPr/>
        </p:nvPicPr>
        <p:blipFill>
          <a:blip r:embed="rId2"/>
          <a:stretch/>
        </p:blipFill>
        <p:spPr>
          <a:xfrm>
            <a:off x="395280" y="260280"/>
            <a:ext cx="264960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192398001299508934"/>
          <p:cNvPicPr/>
          <p:nvPr/>
        </p:nvPicPr>
        <p:blipFill>
          <a:blip r:embed="rId3"/>
          <a:stretch/>
        </p:blipFill>
        <p:spPr>
          <a:xfrm>
            <a:off x="4140360" y="333360"/>
            <a:ext cx="4319280" cy="2760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35c7c00f3ea"/>
          <p:cNvPicPr/>
          <p:nvPr/>
        </p:nvPicPr>
        <p:blipFill>
          <a:blip r:embed="rId4"/>
          <a:stretch/>
        </p:blipFill>
        <p:spPr>
          <a:xfrm>
            <a:off x="684360" y="3716280"/>
            <a:ext cx="417492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500720" y="3213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Gruene-gruet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5280" y="3213000"/>
            <a:ext cx="295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ль-мо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148360" y="4221000"/>
            <a:ext cx="2519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брикосовый дес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ранцузская кух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ой особенностью национальной французской кухни является изобилие овощей и корнеплодов. Картофель, стручковая фасоль, различные сорта лука, шпината, капуста различных сортов, помидоры, баклажаны, сельдерей, петрушка, салаты используются для приготовления закусок, первых и вторых блюд, а также в качестве гарнир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равнению с другими странами Европы французская кулинария использует меньше молочных продуктов. Исключение составляют сыры, прославившиеся на весь мир. Блюдо с сырами и зеленый салат обязательно подают перед десертом. Среди них такие широко известные, как рокфор, грюер, камамбер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ы для французского стола омлеты и сырные суфле, которые готовят с различными приправами и начинками: ветчиной, грибами, зелен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3"/>
          <p:cNvPicPr/>
          <p:nvPr/>
        </p:nvPicPr>
        <p:blipFill>
          <a:blip r:embed="rId2"/>
          <a:stretch/>
        </p:blipFill>
        <p:spPr>
          <a:xfrm rot="21271800">
            <a:off x="1332000" y="414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83550985_2072215"/>
          <p:cNvPicPr/>
          <p:nvPr/>
        </p:nvPicPr>
        <p:blipFill>
          <a:blip r:embed="rId3"/>
          <a:stretch/>
        </p:blipFill>
        <p:spPr>
          <a:xfrm>
            <a:off x="5003640" y="4076640"/>
            <a:ext cx="3345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520" y="260280"/>
            <a:ext cx="40384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тесто, завернуть в пленку и охладить. Бекон нарезать кубиками и бланшировать в кипящей воде 3 мин.,откинуть на дуршлаг. Масло растопить на сковороде, подрумянить бекон – 5 мин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йца взбить, смешать со сливками и сыром, приправить солью, перцем, мускатным орехом. Разогреть духовку до 200ºС, форму смазать жиром. Раскатать тесто до толщины 3–5 мм и поместить в форму, сделав бортики высотой 3 см. Запекать 15 мин., охладить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сто выложить бекон и залить его яично-сырной смесью. Запекать на среднем уровне 30 мин., до образования золотистой короч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a-quiche-lorraine-i5"/>
          <p:cNvPicPr/>
          <p:nvPr/>
        </p:nvPicPr>
        <p:blipFill>
          <a:blip r:embed="rId2"/>
          <a:stretch/>
        </p:blipFill>
        <p:spPr>
          <a:xfrm>
            <a:off x="324000" y="1052640"/>
            <a:ext cx="4968720" cy="3066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611280" y="429264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иш Л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26028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сделать заправку, смешать оливковое масло, уксус,чеснок и горчицу. Приправить по вкусу. В миску для салата поместить листья зеленого салата, картофель, томаты, оливки, анчоусы, фасоль, яйца и перец. Салат залить заправкой и отстави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греть непригораемую сковороду, приправить тунец и обжарить без масла. Сложить салат на тарелки и накрыть кусками ту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SALAD NICOISE_00016"/>
          <p:cNvPicPr/>
          <p:nvPr/>
        </p:nvPicPr>
        <p:blipFill>
          <a:blip r:embed="rId2"/>
          <a:stretch/>
        </p:blipFill>
        <p:spPr>
          <a:xfrm>
            <a:off x="250920" y="412920"/>
            <a:ext cx="4897440" cy="3462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179280" y="407664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УНЕЦ НИСУ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5:14:05Z</dcterms:created>
  <dc:creator>Admin</dc:creator>
  <dc:description/>
  <dc:language>en-US</dc:language>
  <cp:lastModifiedBy>Admin</cp:lastModifiedBy>
  <dcterms:modified xsi:type="dcterms:W3CDTF">2014-12-30T16:02:54Z</dcterms:modified>
  <cp:revision>6</cp:revision>
  <dc:subject/>
  <dc:title>Слайд 1</dc:title>
</cp:coreProperties>
</file>