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490-7371-4B27-B265-3FD42847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550-1C02-46FE-BA10-68E4B938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DEC-C19F-4BF9-BEEC-775A663A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EEC-1153-4584-9E90-F8D73080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7E7-A719-41FC-9825-665E42BC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B85-F6FB-4D50-A657-39C12537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DBC-BC27-4380-93B5-C2908F3C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451-1957-4742-B416-9CA26C87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AB1-F0B4-44CF-9FDA-B406CD9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337-B5D4-4EE6-98C6-E36FB6E9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39E-777C-4A2B-8279-FAFE214B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476-1939-499D-B273-A8A75A83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9598-BDAB-492E-82B7-F34BA458F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468360" y="1989000"/>
            <a:ext cx="806436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лодные блюда и закуски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одов мир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486802094_tonnel"/>
          <p:cNvPicPr/>
          <p:nvPr/>
        </p:nvPicPr>
        <p:blipFill>
          <a:blip r:embed="rId2"/>
          <a:stretch/>
        </p:blipFill>
        <p:spPr>
          <a:xfrm>
            <a:off x="395280" y="18900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zucchini-cakes-1024x680"/>
          <p:cNvPicPr/>
          <p:nvPr/>
        </p:nvPicPr>
        <p:blipFill>
          <a:blip r:embed="rId3"/>
          <a:stretch/>
        </p:blipFill>
        <p:spPr>
          <a:xfrm>
            <a:off x="4140360" y="260280"/>
            <a:ext cx="4392360" cy="291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salata-de-morcovi"/>
          <p:cNvPicPr/>
          <p:nvPr/>
        </p:nvPicPr>
        <p:blipFill>
          <a:blip r:embed="rId4"/>
          <a:stretch/>
        </p:blipFill>
        <p:spPr>
          <a:xfrm>
            <a:off x="684360" y="3933720"/>
            <a:ext cx="4032000" cy="268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076720" y="4365720"/>
            <a:ext cx="352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рковь по-француз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284720" y="3284640"/>
            <a:ext cx="4319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ладьи из кабачков цуккини с цв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539640" y="328464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уфле с сы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Марокканс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хня Марокко - это баланс простоты. Популярна баранина, говядина, курица и верблюжатина. Основной источник углеводов - кускус, хлеба, рис и бобовые, также как и огромно употребление корневых овощей, зелени и сезонных фруктов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юда в Марокканской кухне готовятся медленно и аккуратно, их приправляют специями (за частую очень сильно) и свежими травами. В одном блюде часто встречаются и сладкое, и соленое, и острое. Мясные блюда часто приправляют сухофруктами или свежими фруктами, в популярные национальные блюда входит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джин с мясом и айв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аранина с финиками, курагой или черносливом, и баранина с кедровыми орешками и изю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fastbrech"/>
          <p:cNvPicPr/>
          <p:nvPr/>
        </p:nvPicPr>
        <p:blipFill>
          <a:blip r:embed="rId2"/>
          <a:stretch/>
        </p:blipFill>
        <p:spPr>
          <a:xfrm>
            <a:off x="4572000" y="4076640"/>
            <a:ext cx="3672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40384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жарить лук-порей с щепоткой соли в течение нескольких мину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обавить морковь, зиру и чеснок, и медленно готовить, пока овощи не станут мягкими, около 20 мин. Отставить и дать немного остыть, затем добавить укроп, фету и миндал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огреть духовку до 200 гр С. Растопить оставшееся масло, положить 1 лист теста фило на доску, смазать его растопленным маслом, положить на него еще один лист теста. Порезать на равные полоски вдоль толщиной примерно 5 см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ворачивать по диагонали, чтобы получились треугольники. Запекать 15 мин до золотистого ц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1_2304"/>
          <p:cNvPicPr/>
          <p:nvPr/>
        </p:nvPicPr>
        <p:blipFill>
          <a:blip r:embed="rId2"/>
          <a:stretch/>
        </p:blipFill>
        <p:spPr>
          <a:xfrm>
            <a:off x="4859280" y="981000"/>
            <a:ext cx="4076640" cy="3301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5219640" y="4365720"/>
            <a:ext cx="32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ре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ожить огурец в дуршлаг, посыпать солью и дать стечь в течение 30 мин (благодаря этому салат не станет мокрым, если не подавать его сразу же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делать заправку: смешать все ингредиенты кроме кориандра. Добавить еще немного чили, если вы любите остро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мешать огурец с остальными ингредиентами для салата и с заправкой, приправить и добавить кориан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3fe3479f4f3d1fd5cd73aa9dc1c1fe0"/>
          <p:cNvPicPr/>
          <p:nvPr/>
        </p:nvPicPr>
        <p:blipFill>
          <a:blip r:embed="rId2"/>
          <a:stretch/>
        </p:blipFill>
        <p:spPr>
          <a:xfrm>
            <a:off x="4716360" y="692280"/>
            <a:ext cx="4226040" cy="2817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5292720" y="3789360"/>
            <a:ext cx="316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алат из моркови и ред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нглийс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англичан на протяжении веков начинался с яичницы с жареным беконом, помидорами, грибами, сосисками и кровяной колбасой. По сей день популярны закуски и бутерброды - треугольные бутерброды стали уже одной из непоколебимых английских традиций. Самыми классическими считаются треугольными бутерброды с огурцами на белом хлебе. Из первых блюд распространены супы-пюре и бульоны, но подают их редко, они не являются неотъемлемой частью ежедневной трапезы. Специи и травы в классической кухне употребляются очень скупо, хотя сейчас английские кулинары приучают британцев пользоваться большим количеством трав и специ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nglishTeaService"/>
          <p:cNvPicPr/>
          <p:nvPr/>
        </p:nvPicPr>
        <p:blipFill>
          <a:blip r:embed="rId2"/>
          <a:stretch/>
        </p:blipFill>
        <p:spPr>
          <a:xfrm>
            <a:off x="4140360" y="3933720"/>
            <a:ext cx="33829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ечь картофель в микроволновке до готовности в течение 15 мин. Дать остыть и нарезать на 4 части. Срезать большую часть мякоти с картофеля и отлож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огреть духовку до 200 гр С. Смешать муку, паприку и чили. Обвалять картофельные шкурки в приправленной му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лить немного масла в форме для духовки. Когда масло нагреется, добавить картофельные шкурки и обвалять их в масле. Запекать 15 мин. Приправить солью и подавать со смета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1_1093"/>
          <p:cNvPicPr/>
          <p:nvPr/>
        </p:nvPicPr>
        <p:blipFill>
          <a:blip r:embed="rId2"/>
          <a:stretch/>
        </p:blipFill>
        <p:spPr>
          <a:xfrm>
            <a:off x="4572000" y="333360"/>
            <a:ext cx="4375080" cy="4464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4859280" y="4941720"/>
            <a:ext cx="3889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ртофельные шку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49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ломтиков хлеба для тостов срезать корочк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миску налить уксус, растительное масло, добавить соль, перец и укроп. Хорошо перемешать. Туда положить кружки огурцов и мариновать 20 мин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андвичей с сыром ломтики смазать сливочным маслом. Hа 2 куска положить листья салата и сыр. помидоры нарезать кружками, положить на сыр. сверху накрыть 2 оставшимися ломтиками хлеба, разрезать сандвичи по диагонал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ломтика белого хлеба намазать майонезом. Hа 2 ломтика положить кружки огурца. Сверху положить оставшиеся куски хлеба и разрезать сандвичи на треугольник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андвичей с ветчиной яйцо сварить и нарезать,ветчину мелко нарезать. Перемешать ветчину с яйцами и все вместе порубить. Смешать с оставшимся майонезом и шнитт-луком. Ломтика положить сверх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_________________4fba6a0e6966e"/>
          <p:cNvPicPr/>
          <p:nvPr/>
        </p:nvPicPr>
        <p:blipFill>
          <a:blip r:embed="rId2"/>
          <a:stretch/>
        </p:blipFill>
        <p:spPr>
          <a:xfrm>
            <a:off x="5364000" y="260280"/>
            <a:ext cx="3610080" cy="4753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5651640" y="5157720"/>
            <a:ext cx="316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ндвич «Пикант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циональные блюда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о поистине бесценное достояние народа, которое нам досталось от предков. Каждый народ имеет свои традиции, культуру и, конечно же, свою национальную кухню. Национальная кухня — это коллекция традиций и секретов, которые передавались из поколения в поколение. Говорят, что для того, чтобы попробовать настоящее национальное блюдо какой-нибудь страны, необходимо побывать на его род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циональные блюда не только вносят в нашу жизнь разнообразие вкусов,но и отображают сочетания продуктов.Известно,что климатические условия оставляют свой отпечаток на блюдах национальной кухни.Так,в странах,где более холодных климат,кухня насыщена более калорийными блюдами,а в жарких преобладают лёгкие овощные,смешанные блю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7581-1"/>
          <p:cNvPicPr/>
          <p:nvPr/>
        </p:nvPicPr>
        <p:blipFill>
          <a:blip r:embed="rId2"/>
          <a:stretch/>
        </p:blipFill>
        <p:spPr>
          <a:xfrm rot="279600">
            <a:off x="5363640" y="4292640"/>
            <a:ext cx="25527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емец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мецкая кухня отличается большим разнообразием блюд из различных овощей, свинины, птицы, дичи, телятины, говядины и рыбы. Овощей потребляется очень много, особенно в отварном виде, в качестве гарнира - цветная капуста, стручки фасоли, морковь, краснокочанная капуста и др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резвычайно популярны у немцев бутерброды с различными продуктами: маслом, сыром, колбасой, сырковой массой, рыбой и др. В ассортименте закусок - салаты из овощей, ветчина, колбасные изделия, шпроты, сардины, блюда из сельди с различными соусами, мясные и рыбные салаты, заправленные майонезом,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5a6b296f6134f51bdc5362ecf1432f2"/>
          <p:cNvPicPr/>
          <p:nvPr/>
        </p:nvPicPr>
        <p:blipFill>
          <a:blip r:embed="rId2"/>
          <a:stretch/>
        </p:blipFill>
        <p:spPr>
          <a:xfrm rot="21086400">
            <a:off x="1115640" y="4221000"/>
            <a:ext cx="3149640" cy="198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568d35dd4a15"/>
          <p:cNvPicPr/>
          <p:nvPr/>
        </p:nvPicPr>
        <p:blipFill>
          <a:blip r:embed="rId3"/>
          <a:stretch/>
        </p:blipFill>
        <p:spPr>
          <a:xfrm rot="21373200">
            <a:off x="4716000" y="4005360"/>
            <a:ext cx="34084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дно формы выкладывается шпинат готовый в кубиках (для удобного порционирования) с сыром фета. Положить мелко нарезанный зелёный лук и налить немного воды, чтобы прикрыть доныщко.Сверху выложить филе красной рыбы посоленное, поперчённое по вкусу и поставить в разогретую до 180 градусов на 4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3dddd187fbce22a26dcd31d29ffb69d4"/>
          <p:cNvPicPr/>
          <p:nvPr/>
        </p:nvPicPr>
        <p:blipFill>
          <a:blip r:embed="rId2"/>
          <a:stretch/>
        </p:blipFill>
        <p:spPr>
          <a:xfrm>
            <a:off x="4716360" y="333360"/>
            <a:ext cx="4038840" cy="3025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4"/>
          <p:cNvSpPr/>
          <p:nvPr/>
        </p:nvSpPr>
        <p:spPr>
          <a:xfrm>
            <a:off x="5003640" y="3429000"/>
            <a:ext cx="36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ёмга со шпин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40273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блоко, грушу и сыр нарезать одинаковыми брусочками. Нарезанные ингредиенты смешать в салатник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готовить заправку из майонеза, йогурта, горчицы, лимонного сока, соли и сахара по вкусу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алат полить заправкой и посыпать рубленым минда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загруженное"/>
          <p:cNvPicPr/>
          <p:nvPr/>
        </p:nvPicPr>
        <p:blipFill>
          <a:blip r:embed="rId2"/>
          <a:stretch/>
        </p:blipFill>
        <p:spPr>
          <a:xfrm>
            <a:off x="4427640" y="1197000"/>
            <a:ext cx="4451400" cy="3122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4859280" y="4437000"/>
            <a:ext cx="367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ранденбургский сыр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ала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ol-mops_original"/>
          <p:cNvPicPr/>
          <p:nvPr/>
        </p:nvPicPr>
        <p:blipFill>
          <a:blip r:embed="rId2"/>
          <a:stretch/>
        </p:blipFill>
        <p:spPr>
          <a:xfrm>
            <a:off x="395280" y="260280"/>
            <a:ext cx="264960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0192398001299508934"/>
          <p:cNvPicPr/>
          <p:nvPr/>
        </p:nvPicPr>
        <p:blipFill>
          <a:blip r:embed="rId3"/>
          <a:stretch/>
        </p:blipFill>
        <p:spPr>
          <a:xfrm>
            <a:off x="4140360" y="333360"/>
            <a:ext cx="4319280" cy="2760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35c7c00f3ea"/>
          <p:cNvPicPr/>
          <p:nvPr/>
        </p:nvPicPr>
        <p:blipFill>
          <a:blip r:embed="rId4"/>
          <a:stretch/>
        </p:blipFill>
        <p:spPr>
          <a:xfrm>
            <a:off x="684360" y="3716280"/>
            <a:ext cx="4174920" cy="2781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4500720" y="3213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Gruene-gruetz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95280" y="3213000"/>
            <a:ext cx="295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оль-мо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148360" y="4221000"/>
            <a:ext cx="2519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брикосовый дес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Французская кух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рактерной особенностью национальной французской кухни является изобилие овощей и корнеплодов. Картофель, стручковая фасоль, различные сорта лука, шпината, капуста различных сортов, помидоры, баклажаны, сельдерей, петрушка, салаты используются для приготовления закусок, первых и вторых блюд, а также в качестве гарниров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сравнению с другими странами Европы французская кулинария использует меньше молочных продуктов. Исключение составляют сыры, прославившиеся на весь мир. Блюдо с сырами и зеленый салат обязательно подают перед десертом. Среди них такие широко известные, как рокфор, грюер, камамбер и др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рактерны для французского стола омлеты и сырные суфле, которые готовят с различными приправами и начинками: ветчиной, грибами, зелен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3"/>
          <p:cNvPicPr/>
          <p:nvPr/>
        </p:nvPicPr>
        <p:blipFill>
          <a:blip r:embed="rId2"/>
          <a:stretch/>
        </p:blipFill>
        <p:spPr>
          <a:xfrm rot="21271800">
            <a:off x="1332000" y="4149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83550985_2072215"/>
          <p:cNvPicPr/>
          <p:nvPr/>
        </p:nvPicPr>
        <p:blipFill>
          <a:blip r:embed="rId3"/>
          <a:stretch/>
        </p:blipFill>
        <p:spPr>
          <a:xfrm>
            <a:off x="5003640" y="4076640"/>
            <a:ext cx="33451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105520" y="260280"/>
            <a:ext cx="403848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делать тесто, завернуть в пленку и охладить. Бекон нарезать кубиками и бланшировать в кипящей воде 3 мин.,откинуть на дуршлаг. Масло растопить на сковороде, подрумянить бекон – 5 мин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йца взбить, смешать со сливками и сыром, приправить солью, перцем, мускатным орехом. Разогреть духовку до 200ºС, форму смазать жиром. Раскатать тесто до толщины 3–5 мм и поместить в форму, сделав бортики высотой 3 см. Запекать 15 мин., охладить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есто выложить бекон и залить его яично-сырной смесью. Запекать на среднем уровне 30 мин., до образования золотистой корочк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la-quiche-lorraine-i5"/>
          <p:cNvPicPr/>
          <p:nvPr/>
        </p:nvPicPr>
        <p:blipFill>
          <a:blip r:embed="rId2"/>
          <a:stretch/>
        </p:blipFill>
        <p:spPr>
          <a:xfrm>
            <a:off x="324000" y="1052640"/>
            <a:ext cx="4968720" cy="3066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611280" y="4292640"/>
            <a:ext cx="27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иш Ло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859280" y="26028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сделать заправку, смешать оливковое масло, уксус,чеснок и горчицу. Приправить по вкусу. В миску для салата поместить листья зеленого салата, картофель, томаты, оливки, анчоусы, фасоль, яйца и перец. Салат залить заправкой и отстави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огреть непригораемую сковороду, приправить тунец и обжарить без масла. Сложить салат на тарелки и накрыть кусками тун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SALAD NICOISE_00016"/>
          <p:cNvPicPr/>
          <p:nvPr/>
        </p:nvPicPr>
        <p:blipFill>
          <a:blip r:embed="rId2"/>
          <a:stretch/>
        </p:blipFill>
        <p:spPr>
          <a:xfrm>
            <a:off x="250920" y="412920"/>
            <a:ext cx="4897440" cy="3462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179280" y="4076640"/>
            <a:ext cx="33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УНЕЦ НИСУ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5:14:05Z</dcterms:created>
  <dc:creator>Admin</dc:creator>
  <dc:description/>
  <dc:language>en-US</dc:language>
  <cp:lastModifiedBy>Admin</cp:lastModifiedBy>
  <dcterms:modified xsi:type="dcterms:W3CDTF">2014-12-30T16:02:54Z</dcterms:modified>
  <cp:revision>6</cp:revision>
  <dc:subject/>
  <dc:title>Слайд 1</dc:title>
</cp:coreProperties>
</file>