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3CF-532F-4E4E-B536-3B3D1CEF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5C1C-D729-4862-AA4C-963511F2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B79-89D2-42BE-923B-FA311410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625-AEF0-4E92-8638-8EAD9624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A12F-03D7-41FD-8BC6-BD3133E4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18B-ADA4-4FBA-86E4-138D335F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05A-CA14-4B20-B1C7-9EE3F00B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FB6-669C-4550-B912-9F2FFAE7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8A9B-D9A4-47E0-AA79-027B7132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4A57-80C9-44AA-AD93-41D0716D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245-A0CD-4FCF-AC89-1836339C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1016-2DE2-46E4-9C8D-549EE6ED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3654-C7E2-47D1-9A7F-4BC9BE9D0B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bezbarodowa.chat.ru/%D0%D2%CF%C5%CB%D4%D9%20%CE%C1%20%D1%DA%D9%CB%C5%20Visual%20Basic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5712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тор презентации: учитель математики Безбародова А.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У МДШМВ Московская область г. Мыти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полнить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кладе было 500 тонн угля. Ежедневно стали увозить по 30 тонн угля. Сколько тонн угля (у) будет на складе через х дне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У=500-30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числите значение у при х=2, х=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рист проехал на автобусе 15 километров от пункта А до пункта В, а затем продолжил движение от пункта В  в том же направлении, но уже пешком со скоростью 4 км/час. На каком расстоянии (у) от пункта А будет турист через х часов ходьб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У=15+4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числите значение у при х=2, при х=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общего в полученных выражения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делайте выв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пределение линейной фун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Линейной функцией называется функция вида у = кх+</a:t>
            </a: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 к,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b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исла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х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независимая переменная (аргумент), 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зависимая переменная (функ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писать в тетрадь опреде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из функ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ются линейны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ьте: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вторая, четвёртая, пятая , шес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аргумент, фу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0"/>
              <p:cNvSpPr txBox="1"/>
              <p:nvPr/>
            </p:nvSpPr>
            <p:spPr>
              <a:xfrm>
                <a:off x="988920" y="836640"/>
                <a:ext cx="16210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2"/>
              <p:cNvSpPr txBox="1"/>
              <p:nvPr/>
            </p:nvSpPr>
            <p:spPr>
              <a:xfrm>
                <a:off x="900000" y="1484280"/>
                <a:ext cx="12956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4"/>
              <p:cNvSpPr txBox="1"/>
              <p:nvPr/>
            </p:nvSpPr>
            <p:spPr>
              <a:xfrm>
                <a:off x="900000" y="2060640"/>
                <a:ext cx="1224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6"/>
              <p:cNvSpPr txBox="1"/>
              <p:nvPr/>
            </p:nvSpPr>
            <p:spPr>
              <a:xfrm>
                <a:off x="826920" y="2708280"/>
                <a:ext cx="15130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,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8"/>
              <p:cNvSpPr txBox="1"/>
              <p:nvPr/>
            </p:nvSpPr>
            <p:spPr>
              <a:xfrm>
                <a:off x="900000" y="3284640"/>
                <a:ext cx="863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20"/>
              <p:cNvSpPr txBox="1"/>
              <p:nvPr/>
            </p:nvSpPr>
            <p:spPr>
              <a:xfrm>
                <a:off x="900000" y="3860640"/>
                <a:ext cx="720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2"/>
              <p:cNvSpPr txBox="1"/>
              <p:nvPr/>
            </p:nvSpPr>
            <p:spPr>
              <a:xfrm>
                <a:off x="826920" y="4221000"/>
                <a:ext cx="12240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те значение линейной  функции у=2х-1 при заданном значении аргумента х= 0, 2, 4, -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олните таблиц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метьте точки с данными координатами в системе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какой линии лежат все эти точки?  Сделайте 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вод с записью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Графиком линейной функции является прямая ли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точек нужно взять, чтобы построить пряму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Для построения прямой достаточно отметить две точки и провести через них прямую ли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ройте график линейной функции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у = -3-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43080" y="1071720"/>
          <a:ext cx="3571920" cy="1279440"/>
        </p:xfrm>
        <a:graphic>
          <a:graphicData uri="http://schemas.openxmlformats.org/drawingml/2006/table">
            <a:tbl>
              <a:tblPr/>
              <a:tblGrid>
                <a:gridCol w="1190520"/>
                <a:gridCol w="1190880"/>
                <a:gridCol w="1190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287280" y="2357280"/>
            <a:ext cx="68407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троить график функции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у=х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00080" y="1214280"/>
          <a:ext cx="4143600" cy="1279800"/>
        </p:xfrm>
        <a:graphic>
          <a:graphicData uri="http://schemas.openxmlformats.org/drawingml/2006/table">
            <a:tbl>
              <a:tblPr/>
              <a:tblGrid>
                <a:gridCol w="1381320"/>
                <a:gridCol w="1380960"/>
                <a:gridCol w="1381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14240" y="2643120"/>
            <a:ext cx="671544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У=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71720" y="928800"/>
          <a:ext cx="3214440" cy="1036440"/>
        </p:xfrm>
        <a:graphic>
          <a:graphicData uri="http://schemas.openxmlformats.org/drawingml/2006/table">
            <a:tbl>
              <a:tblPr/>
              <a:tblGrid>
                <a:gridCol w="1071360"/>
                <a:gridCol w="1071720"/>
                <a:gridCol w="1071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7135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6880" y="285480"/>
            <a:ext cx="818676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График линейной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285920" y="1643040"/>
            <a:ext cx="52768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К </a:t>
            </a: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 flipV="1">
            <a:off x="1835280" y="1268280"/>
            <a:ext cx="0" cy="215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826920" y="2349360"/>
            <a:ext cx="208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908000" y="1197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700360" y="24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47636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908000" y="1773360"/>
            <a:ext cx="7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0;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971640" y="1700280"/>
            <a:ext cx="180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28760" y="114300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4"/>
          <p:cNvSpPr/>
          <p:nvPr/>
        </p:nvSpPr>
        <p:spPr>
          <a:xfrm flipV="1">
            <a:off x="7093080" y="1268280"/>
            <a:ext cx="0" cy="215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6084720" y="2349360"/>
            <a:ext cx="208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7165800" y="1197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7958160" y="24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673416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716436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0;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0"/>
          <p:cNvSpPr/>
          <p:nvPr/>
        </p:nvSpPr>
        <p:spPr>
          <a:xfrm>
            <a:off x="6227640" y="285264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1"/>
          <p:cNvSpPr/>
          <p:nvPr/>
        </p:nvSpPr>
        <p:spPr>
          <a:xfrm>
            <a:off x="7715160" y="1071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2"/>
          <p:cNvSpPr/>
          <p:nvPr/>
        </p:nvSpPr>
        <p:spPr>
          <a:xfrm flipV="1">
            <a:off x="4859280" y="4076280"/>
            <a:ext cx="0" cy="2158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3"/>
          <p:cNvSpPr/>
          <p:nvPr/>
        </p:nvSpPr>
        <p:spPr>
          <a:xfrm>
            <a:off x="3851280" y="5157720"/>
            <a:ext cx="208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4"/>
          <p:cNvSpPr/>
          <p:nvPr/>
        </p:nvSpPr>
        <p:spPr>
          <a:xfrm>
            <a:off x="493236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5724360" y="522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6"/>
          <p:cNvSpPr/>
          <p:nvPr/>
        </p:nvSpPr>
        <p:spPr>
          <a:xfrm>
            <a:off x="450072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7"/>
          <p:cNvSpPr/>
          <p:nvPr/>
        </p:nvSpPr>
        <p:spPr>
          <a:xfrm>
            <a:off x="5003640" y="47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0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8"/>
          <p:cNvSpPr/>
          <p:nvPr/>
        </p:nvSpPr>
        <p:spPr>
          <a:xfrm>
            <a:off x="4067280" y="5157720"/>
            <a:ext cx="144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9"/>
          <p:cNvSpPr/>
          <p:nvPr/>
        </p:nvSpPr>
        <p:spPr>
          <a:xfrm>
            <a:off x="3419640" y="364500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0"/>
          <p:cNvSpPr/>
          <p:nvPr/>
        </p:nvSpPr>
        <p:spPr>
          <a:xfrm>
            <a:off x="1763640" y="16286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41"/>
          <p:cNvSpPr/>
          <p:nvPr/>
        </p:nvSpPr>
        <p:spPr>
          <a:xfrm>
            <a:off x="7020000" y="2781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2"/>
          <p:cNvSpPr/>
          <p:nvPr/>
        </p:nvSpPr>
        <p:spPr>
          <a:xfrm>
            <a:off x="4788000" y="50846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57168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у до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ь задания учебника: №302(а,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                                  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285840" y="2500200"/>
            <a:ext cx="4176720" cy="3394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714920" y="2571840"/>
            <a:ext cx="41400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218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йте график функции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 = -1,5х+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         С помощью графика заполните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                                    б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32000" y="1773360"/>
          <a:ext cx="3024000" cy="914400"/>
        </p:xfrm>
        <a:graphic>
          <a:graphicData uri="http://schemas.openxmlformats.org/drawingml/2006/table">
            <a:tbl>
              <a:tblPr/>
              <a:tblGrid>
                <a:gridCol w="1012680"/>
                <a:gridCol w="998640"/>
                <a:gridCol w="1012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003640" y="1773360"/>
          <a:ext cx="3092760" cy="914400"/>
        </p:xfrm>
        <a:graphic>
          <a:graphicData uri="http://schemas.openxmlformats.org/drawingml/2006/table">
            <a:tbl>
              <a:tblPr/>
              <a:tblGrid>
                <a:gridCol w="1036800"/>
                <a:gridCol w="1019160"/>
                <a:gridCol w="1036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Picture 60" descr=""/>
          <p:cNvPicPr/>
          <p:nvPr/>
        </p:nvPicPr>
        <p:blipFill>
          <a:blip r:embed="rId1"/>
          <a:stretch/>
        </p:blipFill>
        <p:spPr>
          <a:xfrm>
            <a:off x="179280" y="2997360"/>
            <a:ext cx="4321440" cy="3592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4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356000" cy="364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Object 6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овая обучающая самостоятельная работа в четырёх вариантах.  № 302(б, г, д, е),  при необходимости использовать алгоритм построения графика функции и предписания для проверки правильности  построения графика (приложение23   и приложение25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2(б, г)                                                     №302(д, 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4140360" cy="3643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4788000" y="2500200"/>
            <a:ext cx="4356000" cy="35006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6"/>
          <p:cNvSpPr/>
          <p:nvPr/>
        </p:nvSpPr>
        <p:spPr>
          <a:xfrm>
            <a:off x="357120" y="59342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йте вывод о схематическом расположении графика линейной функции пр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&gt;0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71680" y="571680"/>
            <a:ext cx="81151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ложение 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лгоритм построения графика линейной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Чтобы построить график линейной функции нужно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Задать два значения аргумент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Найти два соответствующих значения функци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Построить точки в системе координа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ровести через них прямую ли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ложение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исание для проверки правильности построения графика линейной функции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Возьми значение аргумента х, отличное от тех, которые использованы при построении граф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Найди по формуле соответствующее значение функции 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Построй точку с найденными координа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роверь, принадлежит ли эта точка  граф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Если принадлежит, то график построен правильно, если нет – ищи ошиб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619280" y="549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&g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227640" y="476280"/>
            <a:ext cx="16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l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468360" y="162864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5"/>
          <p:cNvSpPr/>
          <p:nvPr/>
        </p:nvSpPr>
        <p:spPr>
          <a:xfrm flipV="1">
            <a:off x="2195640" y="1628640"/>
            <a:ext cx="0" cy="3600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>
            <a:off x="468360" y="3357720"/>
            <a:ext cx="35272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 flipV="1">
            <a:off x="395280" y="1341360"/>
            <a:ext cx="3168720" cy="3456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219564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38512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5435640" y="3357720"/>
            <a:ext cx="331164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V="1">
            <a:off x="7020000" y="1557000"/>
            <a:ext cx="0" cy="360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5796000" y="1413000"/>
            <a:ext cx="3024000" cy="33843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72374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860616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714240" y="51436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ункция возрас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5572080" y="514368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ункция уб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1835280" y="342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0"/>
          <p:cNvSpPr/>
          <p:nvPr/>
        </p:nvSpPr>
        <p:spPr>
          <a:xfrm>
            <a:off x="6659640" y="3357720"/>
            <a:ext cx="2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000"/>
                            </p:stCondLst>
                            <p:childTnLst>
                              <p:par>
                                <p:cTn id="3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жите схематическое изображение графика функции у=2х-1, у= -3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6 дополн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те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y=120+0,5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машнее задание: №303(а,б), №305, №29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                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Итог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1. Какая функция называется линей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Линейной функцией называется функция ви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у = кх+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к,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b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исла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х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независимая переменная (аргумент), 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у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зависимая переменная (функц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2.Что является графиком линейной функции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28760" y="28573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Графиком линейной функции является прямая ли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71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3. Как построить график линейной функции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71680" y="2571480"/>
            <a:ext cx="811512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ля построения прямой достаточно отметить две точки и провести через них прямую ли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ezbarodowa.chat.ru/%d0%d2%cf%c5%cb%d4%d9%20%ce%c1%20%d1%da%d9%cb%c5%20Visual%20Basic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а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Учить строить график линейной фун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аполнять по графику таблицу значений х и 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Изображать схематически график в зависимости от коэффициэн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ганизационных умений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ений самоконтрол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тие логического мышления учащихся через использование ими специальных методов обучения(анализ сравнение, обобщение, аналогия); математической речи; развитие вним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Актуализация зна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Изучение новой те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Закрепление:  устные упражнения, задачи на построение графи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Задание на дом. Подведение итога уро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В координатной плоскости отметьте точки:  А(0;6), В(-3;4), С(-4;0), М(2;-5), К(-4;-3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Построить график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 = -2х+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a7f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a7f1c"/>
                </a:solidFill>
                <a:latin typeface="Arial"/>
              </a:rPr>
              <a:t>Линейная функция и её граф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ьте выражение к условию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кладе 500 тонн угля. Ежедневно стали подвозить по 30 тонн. Сколько тонн угля (у) будет на складе через 2, 4, х дн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У=500+30*2=560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У=500+30*4=620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У=500+30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5:02:04Z</dcterms:created>
  <dc:creator>matematic</dc:creator>
  <dc:description/>
  <dc:language>en-US</dc:language>
  <cp:lastModifiedBy>КарМаН</cp:lastModifiedBy>
  <dcterms:modified xsi:type="dcterms:W3CDTF">2012-01-31T09:41:51Z</dcterms:modified>
  <cp:revision>45</cp:revision>
  <dc:subject/>
  <dc:title>Слайд 1</dc:title>
</cp:coreProperties>
</file>