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9D7B-E380-4424-8516-81D19A76B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2238-5F54-444F-BB29-628C05B9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1B80-5CA4-43A1-B002-6C4731E9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500D-E23B-46DC-8BB9-FEA4C22A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B6CE-352A-4C55-B3F1-CA101371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AD69-396D-4B7D-B657-6D4E4794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085A-0616-4B0F-819F-8B61202D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1FDB-E35C-461C-A9F2-E9892709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5E04-4187-4300-B8BA-C97C5E04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FB0F-F52C-49DA-B92A-A795A064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BB34-65F5-4E99-A4BC-82DCF47B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C270-A0E0-4BBC-A95E-9F91425C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563E-BB8C-4DD0-B35E-F1DCE2C5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E651-5C92-45CA-AAD3-7C0DC590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4268-B784-484D-85E3-F80F8283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BFB6-0341-4D55-A827-A9D4ED0E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ABFD-FA7C-42E5-A6A7-6B76B9BC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C97F-1CB2-46C3-A9AB-F9A893AC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45CA-835E-49E8-9996-F3B79E5F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1FCC-8BB6-4575-938A-1E119CF6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1517-A973-43EF-95C4-5B062932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43A9-1553-4A64-9ED3-9B9FC221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53DD-8A86-435D-942D-BBEC15D3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EA54-BA6E-42EA-A1F4-2301E8B9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7CEA-E5E1-45AA-A44F-0B3000F7B9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6ED5-3855-4D18-B326-193E394B109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a50021"/>
                </a:solidFill>
                <a:latin typeface="Times New Roman"/>
              </a:rPr>
              <a:t>Длина окружности и площадь круга</a:t>
            </a:r>
            <a:br>
              <a:rPr sz="8000"/>
            </a:br>
            <a:r>
              <a:rPr b="1" lang="ru-RU" sz="8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учитель Левина Н.Н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AutoShape 9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433440"/>
          </a:xfrm>
          <a:custGeom>
            <a:avLst/>
            <a:gdLst>
              <a:gd name="textAreaLeft" fmla="*/ 28080 w 505080"/>
              <a:gd name="textAreaRight" fmla="*/ 477000 w 505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167" h="21600">
                <a:moveTo>
                  <a:pt x="0" y="0"/>
                </a:moveTo>
                <a:lnTo>
                  <a:pt x="25167" y="0"/>
                </a:lnTo>
                <a:lnTo>
                  <a:pt x="25167" y="21600"/>
                </a:lnTo>
                <a:lnTo>
                  <a:pt x="0" y="21600"/>
                </a:lnTo>
                <a:close/>
              </a:path>
              <a:path fill="lightenLess" w="25167" h="21600">
                <a:moveTo>
                  <a:pt x="0" y="0"/>
                </a:moveTo>
                <a:lnTo>
                  <a:pt x="25167" y="0"/>
                </a:lnTo>
                <a:lnTo>
                  <a:pt x="23767" y="1400"/>
                </a:lnTo>
                <a:lnTo>
                  <a:pt x="1400" y="1400"/>
                </a:lnTo>
                <a:close/>
              </a:path>
              <a:path fill="darken" w="25167" h="21600">
                <a:moveTo>
                  <a:pt x="25167" y="0"/>
                </a:moveTo>
                <a:lnTo>
                  <a:pt x="25167" y="21600"/>
                </a:lnTo>
                <a:lnTo>
                  <a:pt x="23767" y="20200"/>
                </a:lnTo>
                <a:lnTo>
                  <a:pt x="23767" y="1400"/>
                </a:lnTo>
                <a:close/>
              </a:path>
              <a:path fill="darkenLess" w="25167" h="21600">
                <a:moveTo>
                  <a:pt x="25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7" y="20200"/>
                </a:lnTo>
                <a:close/>
              </a:path>
              <a:path fill="lighten" w="25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7" h="21600">
                <a:moveTo>
                  <a:pt x="16082" y="10800"/>
                </a:moveTo>
                <a:lnTo>
                  <a:pt x="5577" y="17806"/>
                </a:lnTo>
                <a:lnTo>
                  <a:pt x="5577" y="3794"/>
                </a:lnTo>
                <a:close/>
              </a:path>
              <a:path fill="darken" w="25167" h="21600">
                <a:moveTo>
                  <a:pt x="17928" y="3794"/>
                </a:moveTo>
                <a:lnTo>
                  <a:pt x="17928" y="17806"/>
                </a:lnTo>
                <a:lnTo>
                  <a:pt x="19590" y="17806"/>
                </a:lnTo>
                <a:lnTo>
                  <a:pt x="19590" y="3794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4714920" y="5000760"/>
            <a:ext cx="324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</a:t>
            </a: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 = </a:t>
            </a:r>
            <a:r>
              <a:rPr b="1" lang="el-GR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π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r</a:t>
            </a:r>
            <a:r>
              <a:rPr b="1" lang="en-US" sz="3200" spc="-1" strike="noStrike" baseline="30000">
                <a:solidFill>
                  <a:srgbClr val="a50021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 = 2</a:t>
            </a:r>
            <a:r>
              <a:rPr b="1" lang="el-GR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π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r = </a:t>
            </a:r>
            <a:r>
              <a:rPr b="1" lang="el-GR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π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Oval 14"/>
          <p:cNvSpPr/>
          <p:nvPr/>
        </p:nvSpPr>
        <p:spPr>
          <a:xfrm rot="5400000">
            <a:off x="1331280" y="4221000"/>
            <a:ext cx="1440000" cy="143964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Group 31"/>
          <p:cNvGrpSpPr/>
          <p:nvPr/>
        </p:nvGrpSpPr>
        <p:grpSpPr>
          <a:xfrm>
            <a:off x="2052720" y="4437000"/>
            <a:ext cx="1657440" cy="1513080"/>
            <a:chOff x="2052720" y="4437000"/>
            <a:chExt cx="1657440" cy="1513080"/>
          </a:xfrm>
        </p:grpSpPr>
        <p:sp>
          <p:nvSpPr>
            <p:cNvPr id="216" name="Oval 13"/>
            <p:cNvSpPr/>
            <p:nvPr/>
          </p:nvSpPr>
          <p:spPr>
            <a:xfrm>
              <a:off x="2052720" y="4437000"/>
              <a:ext cx="1657440" cy="151308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7" name="Group 30"/>
            <p:cNvGrpSpPr/>
            <p:nvPr/>
          </p:nvGrpSpPr>
          <p:grpSpPr>
            <a:xfrm>
              <a:off x="2894040" y="4508640"/>
              <a:ext cx="669960" cy="680760"/>
              <a:chOff x="2894040" y="4508640"/>
              <a:chExt cx="669960" cy="680760"/>
            </a:xfrm>
          </p:grpSpPr>
          <p:sp>
            <p:nvSpPr>
              <p:cNvPr id="218" name="Line 21"/>
              <p:cNvSpPr/>
              <p:nvPr/>
            </p:nvSpPr>
            <p:spPr>
              <a:xfrm flipV="1">
                <a:off x="2909880" y="4783320"/>
                <a:ext cx="654120" cy="40608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Text Box 25"/>
              <p:cNvSpPr/>
              <p:nvPr/>
            </p:nvSpPr>
            <p:spPr>
              <a:xfrm>
                <a:off x="2894040" y="450864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a50021"/>
                    </a:solidFill>
                    <a:latin typeface="Arial"/>
                  </a:rPr>
                  <a:t>r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0" name="Oval 15"/>
          <p:cNvSpPr/>
          <p:nvPr/>
        </p:nvSpPr>
        <p:spPr>
          <a:xfrm>
            <a:off x="1476360" y="5157720"/>
            <a:ext cx="1441440" cy="13413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  <a:effectLst>
            <a:outerShdw dist="153753" dir="27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AutoShape 32">
            <a:hlinkClick r:id="rId1" action="ppaction://hlinksldjump"/>
          </p:cNvPr>
          <p:cNvSpPr/>
          <p:nvPr/>
        </p:nvSpPr>
        <p:spPr>
          <a:xfrm>
            <a:off x="25092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9128" y="10800"/>
                </a:moveTo>
                <a:lnTo>
                  <a:pt x="19633" y="3794"/>
                </a:lnTo>
                <a:lnTo>
                  <a:pt x="19633" y="17806"/>
                </a:lnTo>
                <a:close/>
              </a:path>
              <a:path fill="darken" w="25254" h="21600">
                <a:moveTo>
                  <a:pt x="5621" y="3794"/>
                </a:moveTo>
                <a:lnTo>
                  <a:pt x="7283" y="3794"/>
                </a:lnTo>
                <a:lnTo>
                  <a:pt x="7283" y="17806"/>
                </a:lnTo>
                <a:lnTo>
                  <a:pt x="5621" y="17806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33"/>
          <p:cNvSpPr/>
          <p:nvPr/>
        </p:nvSpPr>
        <p:spPr>
          <a:xfrm>
            <a:off x="8459640" y="549360"/>
            <a:ext cx="46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34"/>
          <p:cNvGrpSpPr/>
          <p:nvPr/>
        </p:nvGrpSpPr>
        <p:grpSpPr>
          <a:xfrm>
            <a:off x="1332000" y="3789360"/>
            <a:ext cx="6481440" cy="2088720"/>
            <a:chOff x="1332000" y="3789360"/>
            <a:chExt cx="6481440" cy="2088720"/>
          </a:xfrm>
        </p:grpSpPr>
        <p:grpSp>
          <p:nvGrpSpPr>
            <p:cNvPr id="346" name="Group 11"/>
            <p:cNvGrpSpPr/>
            <p:nvPr/>
          </p:nvGrpSpPr>
          <p:grpSpPr>
            <a:xfrm>
              <a:off x="1332000" y="3789360"/>
              <a:ext cx="934920" cy="936000"/>
              <a:chOff x="1332000" y="3789360"/>
              <a:chExt cx="934920" cy="936000"/>
            </a:xfrm>
          </p:grpSpPr>
          <p:pic>
            <p:nvPicPr>
              <p:cNvPr id="347" name="Picture 7" descr="pict044"/>
              <p:cNvPicPr/>
              <p:nvPr/>
            </p:nvPicPr>
            <p:blipFill>
              <a:blip r:embed="rId1"/>
              <a:stretch/>
            </p:blipFill>
            <p:spPr>
              <a:xfrm>
                <a:off x="1332000" y="3789360"/>
                <a:ext cx="934920" cy="93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AutoShape 6"/>
              <p:cNvSpPr/>
              <p:nvPr/>
            </p:nvSpPr>
            <p:spPr>
              <a:xfrm>
                <a:off x="1711440" y="4196160"/>
                <a:ext cx="155880" cy="1681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Group 12"/>
            <p:cNvGrpSpPr/>
            <p:nvPr/>
          </p:nvGrpSpPr>
          <p:grpSpPr>
            <a:xfrm>
              <a:off x="5005440" y="3789360"/>
              <a:ext cx="936360" cy="936000"/>
              <a:chOff x="5005440" y="3789360"/>
              <a:chExt cx="936360" cy="936000"/>
            </a:xfrm>
          </p:grpSpPr>
          <p:pic>
            <p:nvPicPr>
              <p:cNvPr id="350" name="Picture 13" descr="pict044"/>
              <p:cNvPicPr/>
              <p:nvPr/>
            </p:nvPicPr>
            <p:blipFill>
              <a:blip r:embed="rId2"/>
              <a:stretch/>
            </p:blipFill>
            <p:spPr>
              <a:xfrm>
                <a:off x="5005440" y="3789360"/>
                <a:ext cx="936360" cy="93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AutoShape 14"/>
              <p:cNvSpPr/>
              <p:nvPr/>
            </p:nvSpPr>
            <p:spPr>
              <a:xfrm>
                <a:off x="5385240" y="4196160"/>
                <a:ext cx="156240" cy="1681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Group 15"/>
            <p:cNvGrpSpPr/>
            <p:nvPr/>
          </p:nvGrpSpPr>
          <p:grpSpPr>
            <a:xfrm>
              <a:off x="5940720" y="5013000"/>
              <a:ext cx="934560" cy="865080"/>
              <a:chOff x="5940720" y="5013000"/>
              <a:chExt cx="934560" cy="865080"/>
            </a:xfrm>
          </p:grpSpPr>
          <p:pic>
            <p:nvPicPr>
              <p:cNvPr id="353" name="Picture 16" descr="pict044"/>
              <p:cNvPicPr/>
              <p:nvPr/>
            </p:nvPicPr>
            <p:blipFill>
              <a:blip r:embed="rId3"/>
              <a:stretch/>
            </p:blipFill>
            <p:spPr>
              <a:xfrm>
                <a:off x="5940720" y="5013000"/>
                <a:ext cx="934560" cy="86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AutoShape 17"/>
              <p:cNvSpPr/>
              <p:nvPr/>
            </p:nvSpPr>
            <p:spPr>
              <a:xfrm>
                <a:off x="6319800" y="5389200"/>
                <a:ext cx="155880" cy="15516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Group 22"/>
            <p:cNvGrpSpPr/>
            <p:nvPr/>
          </p:nvGrpSpPr>
          <p:grpSpPr>
            <a:xfrm>
              <a:off x="6877080" y="3789360"/>
              <a:ext cx="936360" cy="1007640"/>
              <a:chOff x="6877080" y="3789360"/>
              <a:chExt cx="936360" cy="1007640"/>
            </a:xfrm>
          </p:grpSpPr>
          <p:pic>
            <p:nvPicPr>
              <p:cNvPr id="356" name="Picture 23" descr="pict044"/>
              <p:cNvPicPr/>
              <p:nvPr/>
            </p:nvPicPr>
            <p:blipFill>
              <a:blip r:embed="rId4"/>
              <a:stretch/>
            </p:blipFill>
            <p:spPr>
              <a:xfrm>
                <a:off x="6877080" y="3789360"/>
                <a:ext cx="936360" cy="10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AutoShape 24"/>
              <p:cNvSpPr/>
              <p:nvPr/>
            </p:nvSpPr>
            <p:spPr>
              <a:xfrm rot="10800000">
                <a:off x="7256880" y="4299840"/>
                <a:ext cx="156240" cy="18036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Group 25"/>
            <p:cNvGrpSpPr/>
            <p:nvPr/>
          </p:nvGrpSpPr>
          <p:grpSpPr>
            <a:xfrm>
              <a:off x="3205440" y="3789360"/>
              <a:ext cx="936000" cy="936000"/>
              <a:chOff x="3205440" y="3789360"/>
              <a:chExt cx="936000" cy="936000"/>
            </a:xfrm>
          </p:grpSpPr>
          <p:pic>
            <p:nvPicPr>
              <p:cNvPr id="359" name="Picture 26" descr="pict044"/>
              <p:cNvPicPr/>
              <p:nvPr/>
            </p:nvPicPr>
            <p:blipFill>
              <a:blip r:embed="rId5"/>
              <a:stretch/>
            </p:blipFill>
            <p:spPr>
              <a:xfrm>
                <a:off x="3205440" y="3789360"/>
                <a:ext cx="936000" cy="93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AutoShape 27"/>
              <p:cNvSpPr/>
              <p:nvPr/>
            </p:nvSpPr>
            <p:spPr>
              <a:xfrm>
                <a:off x="3585240" y="4196160"/>
                <a:ext cx="156240" cy="1681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Group 28"/>
            <p:cNvGrpSpPr/>
            <p:nvPr/>
          </p:nvGrpSpPr>
          <p:grpSpPr>
            <a:xfrm>
              <a:off x="2197080" y="4941720"/>
              <a:ext cx="936360" cy="936360"/>
              <a:chOff x="2197080" y="4941720"/>
              <a:chExt cx="936360" cy="936360"/>
            </a:xfrm>
          </p:grpSpPr>
          <p:pic>
            <p:nvPicPr>
              <p:cNvPr id="362" name="Picture 29" descr="pict044"/>
              <p:cNvPicPr/>
              <p:nvPr/>
            </p:nvPicPr>
            <p:blipFill>
              <a:blip r:embed="rId6"/>
              <a:stretch/>
            </p:blipFill>
            <p:spPr>
              <a:xfrm>
                <a:off x="2197080" y="4941720"/>
                <a:ext cx="936360" cy="93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3" name="AutoShape 30"/>
              <p:cNvSpPr/>
              <p:nvPr/>
            </p:nvSpPr>
            <p:spPr>
              <a:xfrm>
                <a:off x="2576880" y="5348880"/>
                <a:ext cx="156240" cy="1681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4" name="AutoShape 40">
            <a:hlinkClick r:id="" action="ppaction://hlinkshowjump?jump=nextslide"/>
          </p:cNvPr>
          <p:cNvSpPr/>
          <p:nvPr/>
        </p:nvSpPr>
        <p:spPr>
          <a:xfrm>
            <a:off x="8388360" y="6237360"/>
            <a:ext cx="504720" cy="433440"/>
          </a:xfrm>
          <a:custGeom>
            <a:avLst/>
            <a:gdLst>
              <a:gd name="textAreaLeft" fmla="*/ 28080 w 504720"/>
              <a:gd name="textAreaRight" fmla="*/ 476640 w 504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149" h="21600">
                <a:moveTo>
                  <a:pt x="0" y="0"/>
                </a:moveTo>
                <a:lnTo>
                  <a:pt x="25149" y="0"/>
                </a:lnTo>
                <a:lnTo>
                  <a:pt x="25149" y="21600"/>
                </a:lnTo>
                <a:lnTo>
                  <a:pt x="0" y="21600"/>
                </a:lnTo>
                <a:close/>
              </a:path>
              <a:path fill="lightenLess" w="25149" h="21600">
                <a:moveTo>
                  <a:pt x="0" y="0"/>
                </a:moveTo>
                <a:lnTo>
                  <a:pt x="25149" y="0"/>
                </a:lnTo>
                <a:lnTo>
                  <a:pt x="23749" y="1400"/>
                </a:lnTo>
                <a:lnTo>
                  <a:pt x="1400" y="1400"/>
                </a:lnTo>
                <a:close/>
              </a:path>
              <a:path fill="darken" w="25149" h="21600">
                <a:moveTo>
                  <a:pt x="25149" y="0"/>
                </a:moveTo>
                <a:lnTo>
                  <a:pt x="25149" y="21600"/>
                </a:lnTo>
                <a:lnTo>
                  <a:pt x="23749" y="20200"/>
                </a:lnTo>
                <a:lnTo>
                  <a:pt x="23749" y="1400"/>
                </a:lnTo>
                <a:close/>
              </a:path>
              <a:path fill="darkenLess" w="25149" h="21600">
                <a:moveTo>
                  <a:pt x="25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9" y="20200"/>
                </a:lnTo>
                <a:close/>
              </a:path>
              <a:path fill="lighten" w="25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9" h="21600">
                <a:moveTo>
                  <a:pt x="16073" y="10800"/>
                </a:moveTo>
                <a:lnTo>
                  <a:pt x="5568" y="17806"/>
                </a:lnTo>
                <a:lnTo>
                  <a:pt x="5568" y="3794"/>
                </a:lnTo>
                <a:close/>
              </a:path>
              <a:path fill="darken" w="25149" h="21600">
                <a:moveTo>
                  <a:pt x="17919" y="3794"/>
                </a:moveTo>
                <a:lnTo>
                  <a:pt x="17919" y="17806"/>
                </a:lnTo>
                <a:lnTo>
                  <a:pt x="19581" y="17806"/>
                </a:lnTo>
                <a:lnTo>
                  <a:pt x="19581" y="3794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AutoShape 41">
            <a:hlinkClick r:id="" action="ppaction://hlinkshowjump?jump=previousslide"/>
          </p:cNvPr>
          <p:cNvSpPr/>
          <p:nvPr/>
        </p:nvSpPr>
        <p:spPr>
          <a:xfrm>
            <a:off x="25092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9128" y="10800"/>
                </a:moveTo>
                <a:lnTo>
                  <a:pt x="19633" y="3794"/>
                </a:lnTo>
                <a:lnTo>
                  <a:pt x="19633" y="17806"/>
                </a:lnTo>
                <a:close/>
              </a:path>
              <a:path fill="darken" w="25254" h="21600">
                <a:moveTo>
                  <a:pt x="5621" y="3794"/>
                </a:moveTo>
                <a:lnTo>
                  <a:pt x="7283" y="3794"/>
                </a:lnTo>
                <a:lnTo>
                  <a:pt x="7283" y="17806"/>
                </a:lnTo>
                <a:lnTo>
                  <a:pt x="5621" y="17806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42"/>
          <p:cNvSpPr/>
          <p:nvPr/>
        </p:nvSpPr>
        <p:spPr>
          <a:xfrm>
            <a:off x="611280" y="620640"/>
            <a:ext cx="777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Какая из шести масок лишняя?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Чем отличается от других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Text Box 43"/>
          <p:cNvSpPr/>
          <p:nvPr/>
        </p:nvSpPr>
        <p:spPr>
          <a:xfrm>
            <a:off x="8368560" y="185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Что лишнее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Треуго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Кру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Пятиуго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Прямоуго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Каким общим названием можно заменить оставшиеся сло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3059280" y="6021360"/>
            <a:ext cx="388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Times New Roman"/>
              </a:rPr>
              <a:t>МНОГОУГОЛЬНИКИ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AutoShape 5">
            <a:hlinkClick r:id="" action="ppaction://hlinkshowjump?jump=previousslide"/>
          </p:cNvPr>
          <p:cNvSpPr/>
          <p:nvPr/>
        </p:nvSpPr>
        <p:spPr>
          <a:xfrm>
            <a:off x="25092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9128" y="10800"/>
                </a:moveTo>
                <a:lnTo>
                  <a:pt x="19633" y="3794"/>
                </a:lnTo>
                <a:lnTo>
                  <a:pt x="19633" y="17806"/>
                </a:lnTo>
                <a:close/>
              </a:path>
              <a:path fill="darken" w="25254" h="21600">
                <a:moveTo>
                  <a:pt x="5621" y="3794"/>
                </a:moveTo>
                <a:lnTo>
                  <a:pt x="7283" y="3794"/>
                </a:lnTo>
                <a:lnTo>
                  <a:pt x="7283" y="17806"/>
                </a:lnTo>
                <a:lnTo>
                  <a:pt x="5621" y="17806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AutoShape 6">
            <a:hlinkClick r:id="" action="ppaction://hlinkshowjump?jump=firstslide"/>
          </p:cNvPr>
          <p:cNvSpPr/>
          <p:nvPr/>
        </p:nvSpPr>
        <p:spPr>
          <a:xfrm>
            <a:off x="8388360" y="6237360"/>
            <a:ext cx="504720" cy="433440"/>
          </a:xfrm>
          <a:custGeom>
            <a:avLst/>
            <a:gdLst>
              <a:gd name="textAreaLeft" fmla="*/ 28080 w 504720"/>
              <a:gd name="textAreaRight" fmla="*/ 476640 w 504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149" h="21600">
                <a:moveTo>
                  <a:pt x="0" y="0"/>
                </a:moveTo>
                <a:lnTo>
                  <a:pt x="25149" y="0"/>
                </a:lnTo>
                <a:lnTo>
                  <a:pt x="25149" y="21600"/>
                </a:lnTo>
                <a:lnTo>
                  <a:pt x="0" y="21600"/>
                </a:lnTo>
                <a:close/>
              </a:path>
              <a:path fill="lightenLess" w="25149" h="21600">
                <a:moveTo>
                  <a:pt x="0" y="0"/>
                </a:moveTo>
                <a:lnTo>
                  <a:pt x="25149" y="0"/>
                </a:lnTo>
                <a:lnTo>
                  <a:pt x="23749" y="1400"/>
                </a:lnTo>
                <a:lnTo>
                  <a:pt x="1400" y="1400"/>
                </a:lnTo>
                <a:close/>
              </a:path>
              <a:path fill="darken" w="25149" h="21600">
                <a:moveTo>
                  <a:pt x="25149" y="0"/>
                </a:moveTo>
                <a:lnTo>
                  <a:pt x="25149" y="21600"/>
                </a:lnTo>
                <a:lnTo>
                  <a:pt x="23749" y="20200"/>
                </a:lnTo>
                <a:lnTo>
                  <a:pt x="23749" y="1400"/>
                </a:lnTo>
                <a:close/>
              </a:path>
              <a:path fill="darkenLess" w="25149" h="21600">
                <a:moveTo>
                  <a:pt x="25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9" y="20200"/>
                </a:lnTo>
                <a:close/>
              </a:path>
              <a:path fill="lighten" w="25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9" h="21600">
                <a:moveTo>
                  <a:pt x="16073" y="10800"/>
                </a:moveTo>
                <a:lnTo>
                  <a:pt x="5568" y="17806"/>
                </a:lnTo>
                <a:lnTo>
                  <a:pt x="5568" y="3794"/>
                </a:lnTo>
                <a:close/>
              </a:path>
              <a:path fill="darken" w="25149" h="21600">
                <a:moveTo>
                  <a:pt x="17919" y="3794"/>
                </a:moveTo>
                <a:lnTo>
                  <a:pt x="17919" y="17806"/>
                </a:lnTo>
                <a:lnTo>
                  <a:pt x="19581" y="17806"/>
                </a:lnTo>
                <a:lnTo>
                  <a:pt x="19581" y="3794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Oval 7"/>
          <p:cNvSpPr/>
          <p:nvPr/>
        </p:nvSpPr>
        <p:spPr>
          <a:xfrm>
            <a:off x="2484360" y="2637000"/>
            <a:ext cx="2232000" cy="649080"/>
          </a:xfrm>
          <a:prstGeom prst="ellipse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8441280" y="2588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5" dur="2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15"/>
          <p:cNvGrpSpPr/>
          <p:nvPr/>
        </p:nvGrpSpPr>
        <p:grpSpPr>
          <a:xfrm>
            <a:off x="0" y="738360"/>
            <a:ext cx="7561440" cy="6119640"/>
            <a:chOff x="0" y="738360"/>
            <a:chExt cx="7561440" cy="6119640"/>
          </a:xfrm>
        </p:grpSpPr>
        <p:sp>
          <p:nvSpPr>
            <p:cNvPr id="224" name="AutoShape 14"/>
            <p:cNvSpPr/>
            <p:nvPr/>
          </p:nvSpPr>
          <p:spPr>
            <a:xfrm>
              <a:off x="0" y="738360"/>
              <a:ext cx="7561440" cy="61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Rectangle 16"/>
            <p:cNvSpPr/>
            <p:nvPr/>
          </p:nvSpPr>
          <p:spPr>
            <a:xfrm>
              <a:off x="0" y="738360"/>
              <a:ext cx="7561440" cy="61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Freeform 17"/>
            <p:cNvSpPr/>
            <p:nvPr/>
          </p:nvSpPr>
          <p:spPr>
            <a:xfrm>
              <a:off x="31680" y="1827000"/>
              <a:ext cx="2529000" cy="266976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Freeform 18"/>
            <p:cNvSpPr/>
            <p:nvPr/>
          </p:nvSpPr>
          <p:spPr>
            <a:xfrm>
              <a:off x="1425600" y="2670120"/>
              <a:ext cx="422280" cy="84240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Freeform 19"/>
            <p:cNvSpPr/>
            <p:nvPr/>
          </p:nvSpPr>
          <p:spPr>
            <a:xfrm>
              <a:off x="843120" y="3344760"/>
              <a:ext cx="895320" cy="70920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Freeform 20"/>
            <p:cNvSpPr/>
            <p:nvPr/>
          </p:nvSpPr>
          <p:spPr>
            <a:xfrm>
              <a:off x="1155600" y="3520800"/>
              <a:ext cx="366840" cy="14760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Freeform 21"/>
            <p:cNvSpPr/>
            <p:nvPr/>
          </p:nvSpPr>
          <p:spPr>
            <a:xfrm>
              <a:off x="1360440" y="3555720"/>
              <a:ext cx="87480" cy="15372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Freeform 22"/>
            <p:cNvSpPr/>
            <p:nvPr/>
          </p:nvSpPr>
          <p:spPr>
            <a:xfrm>
              <a:off x="2041560" y="2565360"/>
              <a:ext cx="216000" cy="167760"/>
            </a:xfrm>
            <a:prstGeom prst="pie">
              <a:avLst/>
            </a:prstGeom>
            <a:noFill/>
            <a:ln w="9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Freeform 23"/>
            <p:cNvSpPr/>
            <p:nvPr/>
          </p:nvSpPr>
          <p:spPr>
            <a:xfrm>
              <a:off x="2235240" y="2501640"/>
              <a:ext cx="1058760" cy="252864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Freeform 24"/>
            <p:cNvSpPr/>
            <p:nvPr/>
          </p:nvSpPr>
          <p:spPr>
            <a:xfrm>
              <a:off x="1479600" y="4405320"/>
              <a:ext cx="96840" cy="56952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Freeform 25"/>
            <p:cNvSpPr/>
            <p:nvPr/>
          </p:nvSpPr>
          <p:spPr>
            <a:xfrm>
              <a:off x="2192400" y="2712960"/>
              <a:ext cx="141120" cy="23760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Freeform 26"/>
            <p:cNvSpPr/>
            <p:nvPr/>
          </p:nvSpPr>
          <p:spPr>
            <a:xfrm>
              <a:off x="2311560" y="2867040"/>
              <a:ext cx="107640" cy="19008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Freeform 27"/>
            <p:cNvSpPr/>
            <p:nvPr/>
          </p:nvSpPr>
          <p:spPr>
            <a:xfrm>
              <a:off x="681120" y="4967280"/>
              <a:ext cx="3163680" cy="175680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Freeform 28"/>
            <p:cNvSpPr/>
            <p:nvPr/>
          </p:nvSpPr>
          <p:spPr>
            <a:xfrm>
              <a:off x="1533600" y="5641920"/>
              <a:ext cx="1350720" cy="97740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Freeform 29"/>
            <p:cNvSpPr/>
            <p:nvPr/>
          </p:nvSpPr>
          <p:spPr>
            <a:xfrm>
              <a:off x="1479600" y="6092640"/>
              <a:ext cx="141120" cy="27288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Freeform 30"/>
            <p:cNvSpPr/>
            <p:nvPr/>
          </p:nvSpPr>
          <p:spPr>
            <a:xfrm>
              <a:off x="1544760" y="6084720"/>
              <a:ext cx="1079280" cy="19008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Freeform 31"/>
            <p:cNvSpPr/>
            <p:nvPr/>
          </p:nvSpPr>
          <p:spPr>
            <a:xfrm>
              <a:off x="712800" y="6632280"/>
              <a:ext cx="1123920" cy="2196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Freeform 32"/>
            <p:cNvSpPr/>
            <p:nvPr/>
          </p:nvSpPr>
          <p:spPr>
            <a:xfrm>
              <a:off x="1901880" y="6597360"/>
              <a:ext cx="301680" cy="23148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Freeform 33"/>
            <p:cNvSpPr/>
            <p:nvPr/>
          </p:nvSpPr>
          <p:spPr>
            <a:xfrm>
              <a:off x="2776680" y="6316560"/>
              <a:ext cx="485640" cy="38700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Freeform 34"/>
            <p:cNvSpPr/>
            <p:nvPr/>
          </p:nvSpPr>
          <p:spPr>
            <a:xfrm>
              <a:off x="744480" y="6351480"/>
              <a:ext cx="746280" cy="4896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Freeform 35"/>
            <p:cNvSpPr/>
            <p:nvPr/>
          </p:nvSpPr>
          <p:spPr>
            <a:xfrm>
              <a:off x="809640" y="6176880"/>
              <a:ext cx="649440" cy="3456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Freeform 36"/>
            <p:cNvSpPr/>
            <p:nvPr/>
          </p:nvSpPr>
          <p:spPr>
            <a:xfrm>
              <a:off x="874800" y="5965560"/>
              <a:ext cx="1652400" cy="7740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Freeform 37"/>
            <p:cNvSpPr/>
            <p:nvPr/>
          </p:nvSpPr>
          <p:spPr>
            <a:xfrm>
              <a:off x="1025640" y="5775120"/>
              <a:ext cx="1373040" cy="6336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Freeform 38"/>
            <p:cNvSpPr/>
            <p:nvPr/>
          </p:nvSpPr>
          <p:spPr>
            <a:xfrm>
              <a:off x="1133640" y="5543280"/>
              <a:ext cx="1750680" cy="21096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Freeform 39"/>
            <p:cNvSpPr/>
            <p:nvPr/>
          </p:nvSpPr>
          <p:spPr>
            <a:xfrm>
              <a:off x="1220760" y="5389560"/>
              <a:ext cx="1620720" cy="23760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Freeform 40"/>
            <p:cNvSpPr/>
            <p:nvPr/>
          </p:nvSpPr>
          <p:spPr>
            <a:xfrm>
              <a:off x="1231920" y="5199120"/>
              <a:ext cx="1522440" cy="28188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Freeform 41"/>
            <p:cNvSpPr/>
            <p:nvPr/>
          </p:nvSpPr>
          <p:spPr>
            <a:xfrm>
              <a:off x="2419200" y="5811840"/>
              <a:ext cx="551160" cy="6948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Freeform 42"/>
            <p:cNvSpPr/>
            <p:nvPr/>
          </p:nvSpPr>
          <p:spPr>
            <a:xfrm>
              <a:off x="2689200" y="6021360"/>
              <a:ext cx="442800" cy="7092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Freeform 43"/>
            <p:cNvSpPr/>
            <p:nvPr/>
          </p:nvSpPr>
          <p:spPr>
            <a:xfrm>
              <a:off x="2873520" y="6275160"/>
              <a:ext cx="388800" cy="612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Freeform 44"/>
            <p:cNvSpPr/>
            <p:nvPr/>
          </p:nvSpPr>
          <p:spPr>
            <a:xfrm>
              <a:off x="3132000" y="6527520"/>
              <a:ext cx="422280" cy="612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Freeform 45"/>
            <p:cNvSpPr/>
            <p:nvPr/>
          </p:nvSpPr>
          <p:spPr>
            <a:xfrm>
              <a:off x="2884320" y="772920"/>
              <a:ext cx="4633920" cy="2676240"/>
            </a:xfrm>
            <a:prstGeom prst="pie">
              <a:avLst/>
            </a:prstGeom>
            <a:noFill/>
            <a:ln w="1620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5" name="Text Box 8"/>
          <p:cNvSpPr/>
          <p:nvPr/>
        </p:nvSpPr>
        <p:spPr>
          <a:xfrm>
            <a:off x="5292720" y="285264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ff99"/>
                </a:solidFill>
                <a:uFillTx/>
                <a:latin typeface="Times New Roman"/>
                <a:hlinkClick r:id="rId1" action="ppaction://hlinksldjump"/>
              </a:rPr>
              <a:t>№   840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5292720" y="386064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ff99"/>
                </a:solidFill>
                <a:uFillTx/>
                <a:latin typeface="Times New Roman"/>
                <a:hlinkClick r:id="rId2" action="ppaction://hlinksldjump"/>
              </a:rPr>
              <a:t>№   855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3492360" y="620640"/>
            <a:ext cx="42483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ecff"/>
                </a:solidFill>
                <a:latin typeface="Times New Roman"/>
              </a:rPr>
              <a:t>ПРОВЕРКА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ecff"/>
                </a:solidFill>
                <a:latin typeface="Times New Roman"/>
              </a:rPr>
              <a:t>ДОМАШНЕГО ЗАДАНИЯ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Text Box 47"/>
          <p:cNvSpPr/>
          <p:nvPr/>
        </p:nvSpPr>
        <p:spPr>
          <a:xfrm>
            <a:off x="8513280" y="258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2"/>
          <p:cNvGrpSpPr/>
          <p:nvPr/>
        </p:nvGrpSpPr>
        <p:grpSpPr>
          <a:xfrm>
            <a:off x="179280" y="1341360"/>
            <a:ext cx="3744360" cy="3671280"/>
            <a:chOff x="179280" y="1341360"/>
            <a:chExt cx="3744360" cy="3671280"/>
          </a:xfrm>
        </p:grpSpPr>
        <p:grpSp>
          <p:nvGrpSpPr>
            <p:cNvPr id="260" name="Group 19"/>
            <p:cNvGrpSpPr/>
            <p:nvPr/>
          </p:nvGrpSpPr>
          <p:grpSpPr>
            <a:xfrm>
              <a:off x="179280" y="1341360"/>
              <a:ext cx="3744360" cy="3671280"/>
              <a:chOff x="179280" y="1341360"/>
              <a:chExt cx="3744360" cy="3671280"/>
            </a:xfrm>
          </p:grpSpPr>
          <p:sp>
            <p:nvSpPr>
              <p:cNvPr id="261" name="Oval 4"/>
              <p:cNvSpPr/>
              <p:nvPr/>
            </p:nvSpPr>
            <p:spPr>
              <a:xfrm>
                <a:off x="179280" y="1341360"/>
                <a:ext cx="3744360" cy="367128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3816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Oval 6"/>
              <p:cNvSpPr/>
              <p:nvPr/>
            </p:nvSpPr>
            <p:spPr>
              <a:xfrm>
                <a:off x="754560" y="1905840"/>
                <a:ext cx="2592720" cy="2542320"/>
              </a:xfrm>
              <a:prstGeom prst="ellipse">
                <a:avLst/>
              </a:prstGeom>
              <a:solidFill>
                <a:srgbClr val="0068ae"/>
              </a:solidFill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Line 11"/>
              <p:cNvSpPr/>
              <p:nvPr/>
            </p:nvSpPr>
            <p:spPr>
              <a:xfrm flipV="1">
                <a:off x="2001600" y="1967760"/>
                <a:ext cx="442080" cy="123660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Line 12"/>
              <p:cNvSpPr/>
              <p:nvPr/>
            </p:nvSpPr>
            <p:spPr>
              <a:xfrm flipV="1">
                <a:off x="2003760" y="2424600"/>
                <a:ext cx="1758600" cy="79488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Text Box 15"/>
              <p:cNvSpPr/>
              <p:nvPr/>
            </p:nvSpPr>
            <p:spPr>
              <a:xfrm>
                <a:off x="1620720" y="2424600"/>
                <a:ext cx="478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r>
                  <a:rPr b="1" lang="en-US" sz="18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1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6" name="Text Box 16"/>
            <p:cNvSpPr/>
            <p:nvPr/>
          </p:nvSpPr>
          <p:spPr>
            <a:xfrm>
              <a:off x="2392920" y="2926800"/>
              <a:ext cx="425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175280" y="549360"/>
            <a:ext cx="496872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000" spc="-1" strike="noStrike" u="sng">
                <a:solidFill>
                  <a:srgbClr val="ffffff"/>
                </a:solidFill>
                <a:uFillTx/>
                <a:latin typeface="Times New Roman"/>
              </a:rPr>
              <a:t>Решение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ru-RU" sz="3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S</a:t>
            </a:r>
            <a:r>
              <a:rPr b="1" lang="ru-RU" sz="2400" spc="-1" strike="noStrike" baseline="-25000">
                <a:solidFill>
                  <a:srgbClr val="a50021"/>
                </a:solidFill>
                <a:latin typeface="Arial"/>
              </a:rPr>
              <a:t>кольца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=  </a:t>
            </a:r>
            <a:r>
              <a:rPr b="1" lang="el-G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</a:t>
            </a:r>
            <a:r>
              <a:rPr b="1" lang="el-G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r>
              <a:rPr b="1" lang="el-G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r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l-G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≈ 3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1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1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S</a:t>
            </a:r>
            <a:r>
              <a:rPr b="1" lang="ru-RU" sz="2400" spc="-1" strike="noStrike" baseline="-25000">
                <a:solidFill>
                  <a:srgbClr val="a50021"/>
                </a:solidFill>
                <a:latin typeface="Arial"/>
              </a:rPr>
              <a:t>кольца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=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 (1,7</a:t>
            </a:r>
            <a:r>
              <a:rPr b="1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- 1</a:t>
            </a:r>
            <a:r>
              <a:rPr b="1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)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 (2,89 - 1)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= 3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• 1,89 = </a:t>
            </a:r>
            <a:r>
              <a:rPr b="1" lang="ru-RU" sz="3200" spc="-1" strike="noStrike">
                <a:solidFill>
                  <a:srgbClr val="a50021"/>
                </a:solidFill>
                <a:latin typeface="Times New Roman"/>
                <a:ea typeface="Arial"/>
              </a:rPr>
              <a:t>5,67 см</a:t>
            </a:r>
            <a:r>
              <a:rPr b="1" lang="ru-RU" sz="3200" spc="-1" strike="noStrike" baseline="30000">
                <a:solidFill>
                  <a:srgbClr val="a50021"/>
                </a:solidFill>
                <a:latin typeface="Times New Roman"/>
                <a:ea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29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433440"/>
          </a:xfrm>
          <a:custGeom>
            <a:avLst/>
            <a:gdLst>
              <a:gd name="textAreaLeft" fmla="*/ 28080 w 505080"/>
              <a:gd name="textAreaRight" fmla="*/ 477000 w 505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167" h="21600">
                <a:moveTo>
                  <a:pt x="0" y="0"/>
                </a:moveTo>
                <a:lnTo>
                  <a:pt x="25167" y="0"/>
                </a:lnTo>
                <a:lnTo>
                  <a:pt x="25167" y="21600"/>
                </a:lnTo>
                <a:lnTo>
                  <a:pt x="0" y="21600"/>
                </a:lnTo>
                <a:close/>
              </a:path>
              <a:path fill="lightenLess" w="25167" h="21600">
                <a:moveTo>
                  <a:pt x="0" y="0"/>
                </a:moveTo>
                <a:lnTo>
                  <a:pt x="25167" y="0"/>
                </a:lnTo>
                <a:lnTo>
                  <a:pt x="23767" y="1400"/>
                </a:lnTo>
                <a:lnTo>
                  <a:pt x="1400" y="1400"/>
                </a:lnTo>
                <a:close/>
              </a:path>
              <a:path fill="darken" w="25167" h="21600">
                <a:moveTo>
                  <a:pt x="25167" y="0"/>
                </a:moveTo>
                <a:lnTo>
                  <a:pt x="25167" y="21600"/>
                </a:lnTo>
                <a:lnTo>
                  <a:pt x="23767" y="20200"/>
                </a:lnTo>
                <a:lnTo>
                  <a:pt x="23767" y="1400"/>
                </a:lnTo>
                <a:close/>
              </a:path>
              <a:path fill="darkenLess" w="25167" h="21600">
                <a:moveTo>
                  <a:pt x="25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7" y="20200"/>
                </a:lnTo>
                <a:close/>
              </a:path>
              <a:path fill="lighten" w="25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7" h="21600">
                <a:moveTo>
                  <a:pt x="16082" y="10800"/>
                </a:moveTo>
                <a:lnTo>
                  <a:pt x="5577" y="17806"/>
                </a:lnTo>
                <a:lnTo>
                  <a:pt x="5577" y="3794"/>
                </a:lnTo>
                <a:close/>
              </a:path>
              <a:path fill="darken" w="25167" h="21600">
                <a:moveTo>
                  <a:pt x="17928" y="3794"/>
                </a:moveTo>
                <a:lnTo>
                  <a:pt x="17928" y="17806"/>
                </a:lnTo>
                <a:lnTo>
                  <a:pt x="19590" y="17806"/>
                </a:lnTo>
                <a:lnTo>
                  <a:pt x="19590" y="3794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32"/>
          <p:cNvSpPr/>
          <p:nvPr/>
        </p:nvSpPr>
        <p:spPr>
          <a:xfrm>
            <a:off x="8441640" y="330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9"/>
          <p:cNvGrpSpPr/>
          <p:nvPr/>
        </p:nvGrpSpPr>
        <p:grpSpPr>
          <a:xfrm>
            <a:off x="324000" y="2060640"/>
            <a:ext cx="3744720" cy="3023640"/>
            <a:chOff x="324000" y="2060640"/>
            <a:chExt cx="3744720" cy="3023640"/>
          </a:xfrm>
        </p:grpSpPr>
        <p:sp>
          <p:nvSpPr>
            <p:cNvPr id="271" name="Rectangle 4"/>
            <p:cNvSpPr/>
            <p:nvPr/>
          </p:nvSpPr>
          <p:spPr>
            <a:xfrm>
              <a:off x="324000" y="2060640"/>
              <a:ext cx="3744720" cy="3023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2" name="Group 8"/>
            <p:cNvGrpSpPr/>
            <p:nvPr/>
          </p:nvGrpSpPr>
          <p:grpSpPr>
            <a:xfrm>
              <a:off x="1474920" y="2775960"/>
              <a:ext cx="1440000" cy="1509840"/>
              <a:chOff x="1474920" y="2775960"/>
              <a:chExt cx="1440000" cy="1509840"/>
            </a:xfrm>
          </p:grpSpPr>
          <p:sp>
            <p:nvSpPr>
              <p:cNvPr id="273" name="Oval 5"/>
              <p:cNvSpPr/>
              <p:nvPr/>
            </p:nvSpPr>
            <p:spPr>
              <a:xfrm>
                <a:off x="1474920" y="2775960"/>
                <a:ext cx="1440000" cy="1509840"/>
              </a:xfrm>
              <a:prstGeom prst="ellipse">
                <a:avLst/>
              </a:prstGeom>
              <a:solidFill>
                <a:srgbClr val="0068ae"/>
              </a:solidFill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Line 6"/>
              <p:cNvSpPr/>
              <p:nvPr/>
            </p:nvSpPr>
            <p:spPr>
              <a:xfrm flipV="1">
                <a:off x="2195640" y="2926440"/>
                <a:ext cx="403200" cy="56412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Text Box 7"/>
              <p:cNvSpPr/>
              <p:nvPr/>
            </p:nvSpPr>
            <p:spPr>
              <a:xfrm>
                <a:off x="2051280" y="301428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1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284720" y="404280"/>
            <a:ext cx="45352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ffff"/>
                </a:solidFill>
                <a:uFillTx/>
                <a:latin typeface="Times New Roman"/>
              </a:rPr>
              <a:t>Решение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S</a:t>
            </a:r>
            <a:r>
              <a:rPr b="1" lang="ru-RU" sz="2400" spc="-1" strike="noStrike" baseline="-25000">
                <a:solidFill>
                  <a:srgbClr val="a50021"/>
                </a:solidFill>
                <a:latin typeface="Arial"/>
              </a:rPr>
              <a:t>заштр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 – </a:t>
            </a:r>
            <a:r>
              <a:rPr b="1" lang="el-G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= 4 см;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b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м;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l-G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l-G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S</a:t>
            </a:r>
            <a:r>
              <a:rPr b="1" lang="ru-RU" sz="2400" spc="-1" strike="noStrike" baseline="-25000">
                <a:solidFill>
                  <a:srgbClr val="a50021"/>
                </a:solidFill>
                <a:latin typeface="Arial"/>
              </a:rPr>
              <a:t>заштр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4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• 3 – 3 • 0.8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12 – 3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0,64 = 12 – 1,92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10,08 см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   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: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5,67 см</a:t>
            </a:r>
            <a:r>
              <a:rPr b="1" lang="ru-RU" sz="2800" spc="-1" strike="noStrike" baseline="30000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10,08 см</a:t>
            </a:r>
            <a:r>
              <a:rPr b="1" lang="ru-RU" sz="2800" spc="-1" strike="noStrike" baseline="30000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13">
            <a:hlinkClick r:id="rId2" action="ppaction://hlinksldjump"/>
          </p:cNvPr>
          <p:cNvSpPr/>
          <p:nvPr/>
        </p:nvSpPr>
        <p:spPr>
          <a:xfrm>
            <a:off x="25092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9128" y="10800"/>
                </a:moveTo>
                <a:lnTo>
                  <a:pt x="19633" y="3794"/>
                </a:lnTo>
                <a:lnTo>
                  <a:pt x="19633" y="17806"/>
                </a:lnTo>
                <a:close/>
              </a:path>
              <a:path fill="darken" w="25254" h="21600">
                <a:moveTo>
                  <a:pt x="5621" y="3794"/>
                </a:moveTo>
                <a:lnTo>
                  <a:pt x="7283" y="3794"/>
                </a:lnTo>
                <a:lnTo>
                  <a:pt x="7283" y="17806"/>
                </a:lnTo>
                <a:lnTo>
                  <a:pt x="5621" y="17806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14"/>
          <p:cNvSpPr/>
          <p:nvPr/>
        </p:nvSpPr>
        <p:spPr>
          <a:xfrm>
            <a:off x="8729280" y="185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800"/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800"/>
                                        <p:tgtEl>
                                          <p:spTgt spid="2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2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2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2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800"/>
                                        <p:tgtEl>
                                          <p:spTgt spid="2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2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2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2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800"/>
                                        <p:tgtEl>
                                          <p:spTgt spid="2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2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2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2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2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2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2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2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4358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еш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22"/>
              <p:cNvSpPr txBox="1"/>
              <p:nvPr/>
            </p:nvSpPr>
            <p:spPr>
              <a:xfrm>
                <a:off x="2556000" y="1197000"/>
                <a:ext cx="18716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работ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25"/>
              <p:cNvSpPr txBox="1"/>
              <p:nvPr/>
            </p:nvSpPr>
            <p:spPr>
              <a:xfrm>
                <a:off x="2556000" y="2133720"/>
                <a:ext cx="19429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работ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Text Box 28"/>
          <p:cNvSpPr/>
          <p:nvPr/>
        </p:nvSpPr>
        <p:spPr>
          <a:xfrm>
            <a:off x="5003640" y="1268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 9 часов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29"/>
          <p:cNvSpPr/>
          <p:nvPr/>
        </p:nvSpPr>
        <p:spPr>
          <a:xfrm>
            <a:off x="5003640" y="2133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часов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30"/>
              <p:cNvSpPr txBox="1"/>
              <p:nvPr/>
            </p:nvSpPr>
            <p:spPr>
              <a:xfrm>
                <a:off x="3132000" y="3213000"/>
                <a:ext cx="25923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" name="Line 31"/>
          <p:cNvSpPr/>
          <p:nvPr/>
        </p:nvSpPr>
        <p:spPr>
          <a:xfrm>
            <a:off x="2195640" y="1197000"/>
            <a:ext cx="0" cy="165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Line 32"/>
          <p:cNvSpPr/>
          <p:nvPr/>
        </p:nvSpPr>
        <p:spPr>
          <a:xfrm>
            <a:off x="6732720" y="1125360"/>
            <a:ext cx="0" cy="16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34"/>
              <p:cNvSpPr txBox="1"/>
              <p:nvPr/>
            </p:nvSpPr>
            <p:spPr>
              <a:xfrm>
                <a:off x="250920" y="4365720"/>
                <a:ext cx="468000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9</m:t>
                        </m:r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35"/>
              <p:cNvSpPr txBox="1"/>
              <p:nvPr/>
            </p:nvSpPr>
            <p:spPr>
              <a:xfrm>
                <a:off x="4859280" y="4653000"/>
                <a:ext cx="37893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Text Box 36"/>
          <p:cNvSpPr/>
          <p:nvPr/>
        </p:nvSpPr>
        <p:spPr>
          <a:xfrm>
            <a:off x="5219640" y="6021360"/>
            <a:ext cx="316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Times New Roman"/>
              </a:rPr>
              <a:t>Ответ:  за 14 часов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AutoShape 37">
            <a:hlinkClick r:id="" action="ppaction://hlinkshowjump?jump=firstslide"/>
          </p:cNvPr>
          <p:cNvSpPr/>
          <p:nvPr/>
        </p:nvSpPr>
        <p:spPr>
          <a:xfrm>
            <a:off x="8388360" y="6237360"/>
            <a:ext cx="504720" cy="433440"/>
          </a:xfrm>
          <a:custGeom>
            <a:avLst/>
            <a:gdLst>
              <a:gd name="textAreaLeft" fmla="*/ 28080 w 504720"/>
              <a:gd name="textAreaRight" fmla="*/ 476640 w 504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149" h="21600">
                <a:moveTo>
                  <a:pt x="0" y="0"/>
                </a:moveTo>
                <a:lnTo>
                  <a:pt x="25149" y="0"/>
                </a:lnTo>
                <a:lnTo>
                  <a:pt x="25149" y="21600"/>
                </a:lnTo>
                <a:lnTo>
                  <a:pt x="0" y="21600"/>
                </a:lnTo>
                <a:close/>
              </a:path>
              <a:path fill="lightenLess" w="25149" h="21600">
                <a:moveTo>
                  <a:pt x="0" y="0"/>
                </a:moveTo>
                <a:lnTo>
                  <a:pt x="25149" y="0"/>
                </a:lnTo>
                <a:lnTo>
                  <a:pt x="23749" y="1400"/>
                </a:lnTo>
                <a:lnTo>
                  <a:pt x="1400" y="1400"/>
                </a:lnTo>
                <a:close/>
              </a:path>
              <a:path fill="darken" w="25149" h="21600">
                <a:moveTo>
                  <a:pt x="25149" y="0"/>
                </a:moveTo>
                <a:lnTo>
                  <a:pt x="25149" y="21600"/>
                </a:lnTo>
                <a:lnTo>
                  <a:pt x="23749" y="20200"/>
                </a:lnTo>
                <a:lnTo>
                  <a:pt x="23749" y="1400"/>
                </a:lnTo>
                <a:close/>
              </a:path>
              <a:path fill="darkenLess" w="25149" h="21600">
                <a:moveTo>
                  <a:pt x="25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9" y="20200"/>
                </a:lnTo>
                <a:close/>
              </a:path>
              <a:path fill="lighten" w="25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9" h="21600">
                <a:moveTo>
                  <a:pt x="16073" y="10800"/>
                </a:moveTo>
                <a:lnTo>
                  <a:pt x="5568" y="17806"/>
                </a:lnTo>
                <a:lnTo>
                  <a:pt x="5568" y="3794"/>
                </a:lnTo>
                <a:close/>
              </a:path>
              <a:path fill="darken" w="25149" h="21600">
                <a:moveTo>
                  <a:pt x="17919" y="3794"/>
                </a:moveTo>
                <a:lnTo>
                  <a:pt x="17919" y="17806"/>
                </a:lnTo>
                <a:lnTo>
                  <a:pt x="19581" y="17806"/>
                </a:lnTo>
                <a:lnTo>
                  <a:pt x="19581" y="3794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AutoShape 38">
            <a:hlinkClick r:id="rId1" action="ppaction://hlinksldjump"/>
          </p:cNvPr>
          <p:cNvSpPr/>
          <p:nvPr/>
        </p:nvSpPr>
        <p:spPr>
          <a:xfrm>
            <a:off x="25092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9128" y="10800"/>
                </a:moveTo>
                <a:lnTo>
                  <a:pt x="19633" y="3794"/>
                </a:lnTo>
                <a:lnTo>
                  <a:pt x="19633" y="17806"/>
                </a:lnTo>
                <a:close/>
              </a:path>
              <a:path fill="darken" w="25254" h="21600">
                <a:moveTo>
                  <a:pt x="5621" y="3794"/>
                </a:moveTo>
                <a:lnTo>
                  <a:pt x="7283" y="3794"/>
                </a:lnTo>
                <a:lnTo>
                  <a:pt x="7283" y="17806"/>
                </a:lnTo>
                <a:lnTo>
                  <a:pt x="5621" y="17806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39"/>
          <p:cNvSpPr/>
          <p:nvPr/>
        </p:nvSpPr>
        <p:spPr>
          <a:xfrm>
            <a:off x="8297280" y="401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Повторим опреде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6560" y="1039680"/>
            <a:ext cx="403884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круж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диус окруж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иаметр окруж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ру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41"/>
          <p:cNvSpPr/>
          <p:nvPr/>
        </p:nvSpPr>
        <p:spPr>
          <a:xfrm>
            <a:off x="6804000" y="3962520"/>
            <a:ext cx="647640" cy="647640"/>
          </a:xfrm>
          <a:prstGeom prst="flowChartSummingJunction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AutoShape 42"/>
          <p:cNvSpPr/>
          <p:nvPr/>
        </p:nvSpPr>
        <p:spPr>
          <a:xfrm>
            <a:off x="7740720" y="2060640"/>
            <a:ext cx="647640" cy="647640"/>
          </a:xfrm>
          <a:prstGeom prst="flowChartSummingJunction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AutoShape 43"/>
          <p:cNvSpPr/>
          <p:nvPr/>
        </p:nvSpPr>
        <p:spPr>
          <a:xfrm>
            <a:off x="5867280" y="4941720"/>
            <a:ext cx="648000" cy="648000"/>
          </a:xfrm>
          <a:prstGeom prst="flowChartSummingJunction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AutoShape 44"/>
          <p:cNvSpPr/>
          <p:nvPr/>
        </p:nvSpPr>
        <p:spPr>
          <a:xfrm>
            <a:off x="4932360" y="2997360"/>
            <a:ext cx="647640" cy="647640"/>
          </a:xfrm>
          <a:prstGeom prst="flowChartSummingJunction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Group 65"/>
          <p:cNvGrpSpPr/>
          <p:nvPr/>
        </p:nvGrpSpPr>
        <p:grpSpPr>
          <a:xfrm>
            <a:off x="4932360" y="1639800"/>
            <a:ext cx="3456000" cy="3959280"/>
            <a:chOff x="4932360" y="1639800"/>
            <a:chExt cx="3456000" cy="3959280"/>
          </a:xfrm>
        </p:grpSpPr>
        <p:grpSp>
          <p:nvGrpSpPr>
            <p:cNvPr id="301" name="Group 49"/>
            <p:cNvGrpSpPr/>
            <p:nvPr/>
          </p:nvGrpSpPr>
          <p:grpSpPr>
            <a:xfrm>
              <a:off x="4932360" y="2071440"/>
              <a:ext cx="3456000" cy="648000"/>
              <a:chOff x="4932360" y="2071440"/>
              <a:chExt cx="3456000" cy="648000"/>
            </a:xfrm>
          </p:grpSpPr>
          <p:sp>
            <p:nvSpPr>
              <p:cNvPr id="302" name="Oval 4"/>
              <p:cNvSpPr/>
              <p:nvPr/>
            </p:nvSpPr>
            <p:spPr>
              <a:xfrm>
                <a:off x="6804000" y="2071440"/>
                <a:ext cx="647640" cy="64800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Oval 5"/>
              <p:cNvSpPr/>
              <p:nvPr/>
            </p:nvSpPr>
            <p:spPr>
              <a:xfrm>
                <a:off x="4932360" y="2071440"/>
                <a:ext cx="647640" cy="64800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Oval 6"/>
              <p:cNvSpPr/>
              <p:nvPr/>
            </p:nvSpPr>
            <p:spPr>
              <a:xfrm>
                <a:off x="5867280" y="2071440"/>
                <a:ext cx="648000" cy="64800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Oval 7"/>
              <p:cNvSpPr/>
              <p:nvPr/>
            </p:nvSpPr>
            <p:spPr>
              <a:xfrm>
                <a:off x="7740720" y="2071440"/>
                <a:ext cx="647640" cy="64800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6" name="Text Box 27"/>
            <p:cNvSpPr/>
            <p:nvPr/>
          </p:nvSpPr>
          <p:spPr>
            <a:xfrm>
              <a:off x="5003640" y="163980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cc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Text Box 28"/>
            <p:cNvSpPr/>
            <p:nvPr/>
          </p:nvSpPr>
          <p:spPr>
            <a:xfrm>
              <a:off x="6012000" y="163980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cc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Text Box 29"/>
            <p:cNvSpPr/>
            <p:nvPr/>
          </p:nvSpPr>
          <p:spPr>
            <a:xfrm>
              <a:off x="6948360" y="163980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cc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Text Box 30"/>
            <p:cNvSpPr/>
            <p:nvPr/>
          </p:nvSpPr>
          <p:spPr>
            <a:xfrm>
              <a:off x="7812000" y="163980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cc"/>
                  </a:solidFill>
                  <a:latin typeface="Arial"/>
                </a:rPr>
                <a:t>4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0" name="Group 50"/>
            <p:cNvGrpSpPr/>
            <p:nvPr/>
          </p:nvGrpSpPr>
          <p:grpSpPr>
            <a:xfrm>
              <a:off x="4932360" y="3008160"/>
              <a:ext cx="3456000" cy="647640"/>
              <a:chOff x="4932360" y="3008160"/>
              <a:chExt cx="3456000" cy="647640"/>
            </a:xfrm>
          </p:grpSpPr>
          <p:sp>
            <p:nvSpPr>
              <p:cNvPr id="311" name="Oval 51"/>
              <p:cNvSpPr/>
              <p:nvPr/>
            </p:nvSpPr>
            <p:spPr>
              <a:xfrm>
                <a:off x="6804000" y="300816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Oval 52"/>
              <p:cNvSpPr/>
              <p:nvPr/>
            </p:nvSpPr>
            <p:spPr>
              <a:xfrm>
                <a:off x="4932360" y="300816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Oval 53"/>
              <p:cNvSpPr/>
              <p:nvPr/>
            </p:nvSpPr>
            <p:spPr>
              <a:xfrm>
                <a:off x="5867280" y="3008160"/>
                <a:ext cx="648000" cy="64764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Oval 54"/>
              <p:cNvSpPr/>
              <p:nvPr/>
            </p:nvSpPr>
            <p:spPr>
              <a:xfrm>
                <a:off x="7740720" y="300816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Group 55"/>
            <p:cNvGrpSpPr/>
            <p:nvPr/>
          </p:nvGrpSpPr>
          <p:grpSpPr>
            <a:xfrm>
              <a:off x="4932360" y="3971880"/>
              <a:ext cx="3456000" cy="647640"/>
              <a:chOff x="4932360" y="3971880"/>
              <a:chExt cx="3456000" cy="647640"/>
            </a:xfrm>
          </p:grpSpPr>
          <p:sp>
            <p:nvSpPr>
              <p:cNvPr id="316" name="Oval 56"/>
              <p:cNvSpPr/>
              <p:nvPr/>
            </p:nvSpPr>
            <p:spPr>
              <a:xfrm>
                <a:off x="6804000" y="397188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Oval 57"/>
              <p:cNvSpPr/>
              <p:nvPr/>
            </p:nvSpPr>
            <p:spPr>
              <a:xfrm>
                <a:off x="4932360" y="397188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Oval 58"/>
              <p:cNvSpPr/>
              <p:nvPr/>
            </p:nvSpPr>
            <p:spPr>
              <a:xfrm>
                <a:off x="5867280" y="3971880"/>
                <a:ext cx="648000" cy="64764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Oval 59"/>
              <p:cNvSpPr/>
              <p:nvPr/>
            </p:nvSpPr>
            <p:spPr>
              <a:xfrm>
                <a:off x="7740720" y="397188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Group 60"/>
            <p:cNvGrpSpPr/>
            <p:nvPr/>
          </p:nvGrpSpPr>
          <p:grpSpPr>
            <a:xfrm>
              <a:off x="4932360" y="4951440"/>
              <a:ext cx="3456000" cy="647640"/>
              <a:chOff x="4932360" y="4951440"/>
              <a:chExt cx="3456000" cy="647640"/>
            </a:xfrm>
          </p:grpSpPr>
          <p:sp>
            <p:nvSpPr>
              <p:cNvPr id="321" name="Oval 61"/>
              <p:cNvSpPr/>
              <p:nvPr/>
            </p:nvSpPr>
            <p:spPr>
              <a:xfrm>
                <a:off x="6804000" y="495144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Oval 62"/>
              <p:cNvSpPr/>
              <p:nvPr/>
            </p:nvSpPr>
            <p:spPr>
              <a:xfrm>
                <a:off x="4932360" y="495144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Oval 63"/>
              <p:cNvSpPr/>
              <p:nvPr/>
            </p:nvSpPr>
            <p:spPr>
              <a:xfrm>
                <a:off x="5867280" y="4951440"/>
                <a:ext cx="648000" cy="64764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Oval 64"/>
              <p:cNvSpPr/>
              <p:nvPr/>
            </p:nvSpPr>
            <p:spPr>
              <a:xfrm>
                <a:off x="7740720" y="495144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5" name="AutoShape 67">
            <a:hlinkClick r:id="" action="ppaction://hlinkshowjump?jump=nextslide"/>
          </p:cNvPr>
          <p:cNvSpPr/>
          <p:nvPr/>
        </p:nvSpPr>
        <p:spPr>
          <a:xfrm>
            <a:off x="8388360" y="6424560"/>
            <a:ext cx="504720" cy="433440"/>
          </a:xfrm>
          <a:custGeom>
            <a:avLst/>
            <a:gdLst>
              <a:gd name="textAreaLeft" fmla="*/ 28080 w 504720"/>
              <a:gd name="textAreaRight" fmla="*/ 476640 w 504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149" h="21600">
                <a:moveTo>
                  <a:pt x="0" y="0"/>
                </a:moveTo>
                <a:lnTo>
                  <a:pt x="25149" y="0"/>
                </a:lnTo>
                <a:lnTo>
                  <a:pt x="25149" y="21600"/>
                </a:lnTo>
                <a:lnTo>
                  <a:pt x="0" y="21600"/>
                </a:lnTo>
                <a:close/>
              </a:path>
              <a:path fill="lightenLess" w="25149" h="21600">
                <a:moveTo>
                  <a:pt x="0" y="0"/>
                </a:moveTo>
                <a:lnTo>
                  <a:pt x="25149" y="0"/>
                </a:lnTo>
                <a:lnTo>
                  <a:pt x="23749" y="1400"/>
                </a:lnTo>
                <a:lnTo>
                  <a:pt x="1400" y="1400"/>
                </a:lnTo>
                <a:close/>
              </a:path>
              <a:path fill="darken" w="25149" h="21600">
                <a:moveTo>
                  <a:pt x="25149" y="0"/>
                </a:moveTo>
                <a:lnTo>
                  <a:pt x="25149" y="21600"/>
                </a:lnTo>
                <a:lnTo>
                  <a:pt x="23749" y="20200"/>
                </a:lnTo>
                <a:lnTo>
                  <a:pt x="23749" y="1400"/>
                </a:lnTo>
                <a:close/>
              </a:path>
              <a:path fill="darkenLess" w="25149" h="21600">
                <a:moveTo>
                  <a:pt x="25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9" y="20200"/>
                </a:lnTo>
                <a:close/>
              </a:path>
              <a:path fill="lighten" w="25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9" h="21600">
                <a:moveTo>
                  <a:pt x="16073" y="10800"/>
                </a:moveTo>
                <a:lnTo>
                  <a:pt x="5568" y="17806"/>
                </a:lnTo>
                <a:lnTo>
                  <a:pt x="5568" y="3794"/>
                </a:lnTo>
                <a:close/>
              </a:path>
              <a:path fill="darken" w="25149" h="21600">
                <a:moveTo>
                  <a:pt x="17919" y="3794"/>
                </a:moveTo>
                <a:lnTo>
                  <a:pt x="17919" y="17806"/>
                </a:lnTo>
                <a:lnTo>
                  <a:pt x="19581" y="17806"/>
                </a:lnTo>
                <a:lnTo>
                  <a:pt x="19581" y="3794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AutoShape 68">
            <a:hlinkClick r:id="rId5" action="ppaction://hlinksldjump"/>
          </p:cNvPr>
          <p:cNvSpPr/>
          <p:nvPr/>
        </p:nvSpPr>
        <p:spPr>
          <a:xfrm>
            <a:off x="25092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9128" y="10800"/>
                </a:moveTo>
                <a:lnTo>
                  <a:pt x="19633" y="3794"/>
                </a:lnTo>
                <a:lnTo>
                  <a:pt x="19633" y="17806"/>
                </a:lnTo>
                <a:close/>
              </a:path>
              <a:path fill="darken" w="25254" h="21600">
                <a:moveTo>
                  <a:pt x="5621" y="3794"/>
                </a:moveTo>
                <a:lnTo>
                  <a:pt x="7283" y="3794"/>
                </a:lnTo>
                <a:lnTo>
                  <a:pt x="7283" y="17806"/>
                </a:lnTo>
                <a:lnTo>
                  <a:pt x="5621" y="17806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69"/>
          <p:cNvSpPr/>
          <p:nvPr/>
        </p:nvSpPr>
        <p:spPr>
          <a:xfrm>
            <a:off x="8584560" y="114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507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Задача 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(О Тунгусском метеорите, 1908 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иаметр опалённой площади тайги от взрыва Тунгусского метеорита равен примерно 38 км. Какая площадь тайги пострадала от метеорит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AutoShape 4">
            <a:hlinkClick r:id="" action="ppaction://hlinkshowjump?jump=nextslide"/>
          </p:cNvPr>
          <p:cNvSpPr/>
          <p:nvPr/>
        </p:nvSpPr>
        <p:spPr>
          <a:xfrm>
            <a:off x="8388360" y="6237360"/>
            <a:ext cx="504720" cy="433440"/>
          </a:xfrm>
          <a:custGeom>
            <a:avLst/>
            <a:gdLst>
              <a:gd name="textAreaLeft" fmla="*/ 28080 w 504720"/>
              <a:gd name="textAreaRight" fmla="*/ 476640 w 504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149" h="21600">
                <a:moveTo>
                  <a:pt x="0" y="0"/>
                </a:moveTo>
                <a:lnTo>
                  <a:pt x="25149" y="0"/>
                </a:lnTo>
                <a:lnTo>
                  <a:pt x="25149" y="21600"/>
                </a:lnTo>
                <a:lnTo>
                  <a:pt x="0" y="21600"/>
                </a:lnTo>
                <a:close/>
              </a:path>
              <a:path fill="lightenLess" w="25149" h="21600">
                <a:moveTo>
                  <a:pt x="0" y="0"/>
                </a:moveTo>
                <a:lnTo>
                  <a:pt x="25149" y="0"/>
                </a:lnTo>
                <a:lnTo>
                  <a:pt x="23749" y="1400"/>
                </a:lnTo>
                <a:lnTo>
                  <a:pt x="1400" y="1400"/>
                </a:lnTo>
                <a:close/>
              </a:path>
              <a:path fill="darken" w="25149" h="21600">
                <a:moveTo>
                  <a:pt x="25149" y="0"/>
                </a:moveTo>
                <a:lnTo>
                  <a:pt x="25149" y="21600"/>
                </a:lnTo>
                <a:lnTo>
                  <a:pt x="23749" y="20200"/>
                </a:lnTo>
                <a:lnTo>
                  <a:pt x="23749" y="1400"/>
                </a:lnTo>
                <a:close/>
              </a:path>
              <a:path fill="darkenLess" w="25149" h="21600">
                <a:moveTo>
                  <a:pt x="25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9" y="20200"/>
                </a:lnTo>
                <a:close/>
              </a:path>
              <a:path fill="lighten" w="25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9" h="21600">
                <a:moveTo>
                  <a:pt x="16073" y="10800"/>
                </a:moveTo>
                <a:lnTo>
                  <a:pt x="5568" y="17806"/>
                </a:lnTo>
                <a:lnTo>
                  <a:pt x="5568" y="3794"/>
                </a:lnTo>
                <a:close/>
              </a:path>
              <a:path fill="darken" w="25149" h="21600">
                <a:moveTo>
                  <a:pt x="17919" y="3794"/>
                </a:moveTo>
                <a:lnTo>
                  <a:pt x="17919" y="17806"/>
                </a:lnTo>
                <a:lnTo>
                  <a:pt x="19581" y="17806"/>
                </a:lnTo>
                <a:lnTo>
                  <a:pt x="19581" y="3794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AutoShape 5">
            <a:hlinkClick r:id="" action="ppaction://hlinkshowjump?jump=previousslide"/>
          </p:cNvPr>
          <p:cNvSpPr/>
          <p:nvPr/>
        </p:nvSpPr>
        <p:spPr>
          <a:xfrm>
            <a:off x="25092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9128" y="10800"/>
                </a:moveTo>
                <a:lnTo>
                  <a:pt x="19633" y="3794"/>
                </a:lnTo>
                <a:lnTo>
                  <a:pt x="19633" y="17806"/>
                </a:lnTo>
                <a:close/>
              </a:path>
              <a:path fill="darken" w="25254" h="21600">
                <a:moveTo>
                  <a:pt x="5621" y="3794"/>
                </a:moveTo>
                <a:lnTo>
                  <a:pt x="7283" y="3794"/>
                </a:lnTo>
                <a:lnTo>
                  <a:pt x="7283" y="17806"/>
                </a:lnTo>
                <a:lnTo>
                  <a:pt x="5621" y="17806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8441640" y="258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7" dur="2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2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20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Задача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айдите площадь ¼ круга, радиус которого 4,4 дм. Число </a:t>
            </a:r>
            <a:r>
              <a:rPr b="0" lang="el-G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круглить до целы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3" name="Group 9"/>
          <p:cNvGrpSpPr/>
          <p:nvPr/>
        </p:nvGrpSpPr>
        <p:grpSpPr>
          <a:xfrm>
            <a:off x="3132000" y="3284640"/>
            <a:ext cx="2735280" cy="2663640"/>
            <a:chOff x="3132000" y="3284640"/>
            <a:chExt cx="2735280" cy="2663640"/>
          </a:xfrm>
        </p:grpSpPr>
        <p:sp>
          <p:nvSpPr>
            <p:cNvPr id="334" name="Oval 4"/>
            <p:cNvSpPr/>
            <p:nvPr/>
          </p:nvSpPr>
          <p:spPr>
            <a:xfrm>
              <a:off x="3132000" y="3284640"/>
              <a:ext cx="2735280" cy="2663640"/>
            </a:xfrm>
            <a:prstGeom prst="ellipse">
              <a:avLst/>
            </a:prstGeom>
            <a:solidFill>
              <a:srgbClr val="008ae8"/>
            </a:solidFill>
            <a:ln w="57240">
              <a:solidFill>
                <a:srgbClr val="a50021"/>
              </a:solidFill>
              <a:miter/>
            </a:ln>
            <a:effectLst>
              <a:outerShdw dist="17819" dir="2700000" blurRad="0" rotWithShape="0">
                <a:srgbClr val="6300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Line 5"/>
            <p:cNvSpPr/>
            <p:nvPr/>
          </p:nvSpPr>
          <p:spPr>
            <a:xfrm flipV="1">
              <a:off x="4500720" y="3573360"/>
              <a:ext cx="863280" cy="100800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Text Box 6"/>
            <p:cNvSpPr/>
            <p:nvPr/>
          </p:nvSpPr>
          <p:spPr>
            <a:xfrm>
              <a:off x="4500720" y="3789360"/>
              <a:ext cx="86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Times New Roman"/>
                </a:rPr>
                <a:t>r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7" name="AutoShape 7">
            <a:hlinkClick r:id="" action="ppaction://hlinkshowjump?jump=nextslide"/>
          </p:cNvPr>
          <p:cNvSpPr/>
          <p:nvPr/>
        </p:nvSpPr>
        <p:spPr>
          <a:xfrm>
            <a:off x="8388360" y="6237360"/>
            <a:ext cx="504720" cy="433440"/>
          </a:xfrm>
          <a:custGeom>
            <a:avLst/>
            <a:gdLst>
              <a:gd name="textAreaLeft" fmla="*/ 28080 w 504720"/>
              <a:gd name="textAreaRight" fmla="*/ 476640 w 504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149" h="21600">
                <a:moveTo>
                  <a:pt x="0" y="0"/>
                </a:moveTo>
                <a:lnTo>
                  <a:pt x="25149" y="0"/>
                </a:lnTo>
                <a:lnTo>
                  <a:pt x="25149" y="21600"/>
                </a:lnTo>
                <a:lnTo>
                  <a:pt x="0" y="21600"/>
                </a:lnTo>
                <a:close/>
              </a:path>
              <a:path fill="lightenLess" w="25149" h="21600">
                <a:moveTo>
                  <a:pt x="0" y="0"/>
                </a:moveTo>
                <a:lnTo>
                  <a:pt x="25149" y="0"/>
                </a:lnTo>
                <a:lnTo>
                  <a:pt x="23749" y="1400"/>
                </a:lnTo>
                <a:lnTo>
                  <a:pt x="1400" y="1400"/>
                </a:lnTo>
                <a:close/>
              </a:path>
              <a:path fill="darken" w="25149" h="21600">
                <a:moveTo>
                  <a:pt x="25149" y="0"/>
                </a:moveTo>
                <a:lnTo>
                  <a:pt x="25149" y="21600"/>
                </a:lnTo>
                <a:lnTo>
                  <a:pt x="23749" y="20200"/>
                </a:lnTo>
                <a:lnTo>
                  <a:pt x="23749" y="1400"/>
                </a:lnTo>
                <a:close/>
              </a:path>
              <a:path fill="darkenLess" w="25149" h="21600">
                <a:moveTo>
                  <a:pt x="25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9" y="20200"/>
                </a:lnTo>
                <a:close/>
              </a:path>
              <a:path fill="lighten" w="25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9" h="21600">
                <a:moveTo>
                  <a:pt x="16073" y="10800"/>
                </a:moveTo>
                <a:lnTo>
                  <a:pt x="5568" y="17806"/>
                </a:lnTo>
                <a:lnTo>
                  <a:pt x="5568" y="3794"/>
                </a:lnTo>
                <a:close/>
              </a:path>
              <a:path fill="darken" w="25149" h="21600">
                <a:moveTo>
                  <a:pt x="17919" y="3794"/>
                </a:moveTo>
                <a:lnTo>
                  <a:pt x="17919" y="17806"/>
                </a:lnTo>
                <a:lnTo>
                  <a:pt x="19581" y="17806"/>
                </a:lnTo>
                <a:lnTo>
                  <a:pt x="19581" y="3794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AutoShape 8">
            <a:hlinkClick r:id="" action="ppaction://hlinkshowjump?jump=previousslide"/>
          </p:cNvPr>
          <p:cNvSpPr/>
          <p:nvPr/>
        </p:nvSpPr>
        <p:spPr>
          <a:xfrm>
            <a:off x="25092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9128" y="10800"/>
                </a:moveTo>
                <a:lnTo>
                  <a:pt x="19633" y="3794"/>
                </a:lnTo>
                <a:lnTo>
                  <a:pt x="19633" y="17806"/>
                </a:lnTo>
                <a:close/>
              </a:path>
              <a:path fill="darken" w="25254" h="21600">
                <a:moveTo>
                  <a:pt x="5621" y="3794"/>
                </a:moveTo>
                <a:lnTo>
                  <a:pt x="7283" y="3794"/>
                </a:lnTo>
                <a:lnTo>
                  <a:pt x="7283" y="17806"/>
                </a:lnTo>
                <a:lnTo>
                  <a:pt x="5621" y="17806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10"/>
          <p:cNvSpPr/>
          <p:nvPr/>
        </p:nvSpPr>
        <p:spPr>
          <a:xfrm>
            <a:off x="8513280" y="330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2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3" dur="20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590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Задача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Древнегреческий математик Архимед установил, что длина окружности относится к длине диаметра  приближенно  как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22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7. Найдите длину окружности, диаметр которой  4,2 д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AutoShape 4">
            <a:hlinkClick r:id="" action="ppaction://hlinkshowjump?jump=nextslide"/>
          </p:cNvPr>
          <p:cNvSpPr/>
          <p:nvPr/>
        </p:nvSpPr>
        <p:spPr>
          <a:xfrm>
            <a:off x="8388360" y="6237360"/>
            <a:ext cx="504720" cy="433440"/>
          </a:xfrm>
          <a:custGeom>
            <a:avLst/>
            <a:gdLst>
              <a:gd name="textAreaLeft" fmla="*/ 28080 w 504720"/>
              <a:gd name="textAreaRight" fmla="*/ 476640 w 504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149" h="21600">
                <a:moveTo>
                  <a:pt x="0" y="0"/>
                </a:moveTo>
                <a:lnTo>
                  <a:pt x="25149" y="0"/>
                </a:lnTo>
                <a:lnTo>
                  <a:pt x="25149" y="21600"/>
                </a:lnTo>
                <a:lnTo>
                  <a:pt x="0" y="21600"/>
                </a:lnTo>
                <a:close/>
              </a:path>
              <a:path fill="lightenLess" w="25149" h="21600">
                <a:moveTo>
                  <a:pt x="0" y="0"/>
                </a:moveTo>
                <a:lnTo>
                  <a:pt x="25149" y="0"/>
                </a:lnTo>
                <a:lnTo>
                  <a:pt x="23749" y="1400"/>
                </a:lnTo>
                <a:lnTo>
                  <a:pt x="1400" y="1400"/>
                </a:lnTo>
                <a:close/>
              </a:path>
              <a:path fill="darken" w="25149" h="21600">
                <a:moveTo>
                  <a:pt x="25149" y="0"/>
                </a:moveTo>
                <a:lnTo>
                  <a:pt x="25149" y="21600"/>
                </a:lnTo>
                <a:lnTo>
                  <a:pt x="23749" y="20200"/>
                </a:lnTo>
                <a:lnTo>
                  <a:pt x="23749" y="1400"/>
                </a:lnTo>
                <a:close/>
              </a:path>
              <a:path fill="darkenLess" w="25149" h="21600">
                <a:moveTo>
                  <a:pt x="25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9" y="20200"/>
                </a:lnTo>
                <a:close/>
              </a:path>
              <a:path fill="lighten" w="25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9" h="21600">
                <a:moveTo>
                  <a:pt x="16073" y="10800"/>
                </a:moveTo>
                <a:lnTo>
                  <a:pt x="5568" y="17806"/>
                </a:lnTo>
                <a:lnTo>
                  <a:pt x="5568" y="3794"/>
                </a:lnTo>
                <a:close/>
              </a:path>
              <a:path fill="darken" w="25149" h="21600">
                <a:moveTo>
                  <a:pt x="17919" y="3794"/>
                </a:moveTo>
                <a:lnTo>
                  <a:pt x="17919" y="17806"/>
                </a:lnTo>
                <a:lnTo>
                  <a:pt x="19581" y="17806"/>
                </a:lnTo>
                <a:lnTo>
                  <a:pt x="19581" y="3794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AutoShape 5">
            <a:hlinkClick r:id="" action="ppaction://hlinkshowjump?jump=previousslide"/>
          </p:cNvPr>
          <p:cNvSpPr/>
          <p:nvPr/>
        </p:nvSpPr>
        <p:spPr>
          <a:xfrm>
            <a:off x="25092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9128" y="10800"/>
                </a:moveTo>
                <a:lnTo>
                  <a:pt x="19633" y="3794"/>
                </a:lnTo>
                <a:lnTo>
                  <a:pt x="19633" y="17806"/>
                </a:lnTo>
                <a:close/>
              </a:path>
              <a:path fill="darken" w="25254" h="21600">
                <a:moveTo>
                  <a:pt x="5621" y="3794"/>
                </a:moveTo>
                <a:lnTo>
                  <a:pt x="7283" y="3794"/>
                </a:lnTo>
                <a:lnTo>
                  <a:pt x="7283" y="17806"/>
                </a:lnTo>
                <a:lnTo>
                  <a:pt x="5621" y="17806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3" name="Picture 10" descr=""/>
          <p:cNvPicPr/>
          <p:nvPr/>
        </p:nvPicPr>
        <p:blipFill>
          <a:blip r:embed="rId1"/>
          <a:stretch/>
        </p:blipFill>
        <p:spPr>
          <a:xfrm>
            <a:off x="6443640" y="189000"/>
            <a:ext cx="2448000" cy="33130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344" name="Text Box 11"/>
          <p:cNvSpPr/>
          <p:nvPr/>
        </p:nvSpPr>
        <p:spPr>
          <a:xfrm>
            <a:off x="448920" y="185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5" dur="2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20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1" dur="20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09:18:19Z</dcterms:created>
  <dc:creator>Школа</dc:creator>
  <dc:description/>
  <dc:language>en-US</dc:language>
  <cp:lastModifiedBy>lef</cp:lastModifiedBy>
  <dcterms:modified xsi:type="dcterms:W3CDTF">2014-03-30T17:39:44Z</dcterms:modified>
  <cp:revision>21</cp:revision>
  <dc:subject/>
  <dc:title>Слайд 1</dc:title>
</cp:coreProperties>
</file>