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20E-BFF7-4271-A63C-50B7434F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26B-2067-4475-8FFF-8E0D078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1A0-CBAA-45E1-B977-A4FDF933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34F-D98D-4844-A422-B9D414B6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6AE2-928F-4A4F-87E1-C3D66F65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1730-165E-43AD-A020-40786C7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2668-1D25-4773-8D74-B6E8AF79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9524-E561-437D-A2A8-D779E34D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5550-E55E-4CDB-989E-61D2830F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D176-15C6-488A-90A4-6E3643BB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C0EC-43A3-4D77-8840-E91F0EEA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C02-CF6E-4BD7-947B-36AB975D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8B5B-1C56-4B8A-9C06-458754F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9A78-7DC7-447A-8F14-9E893AC2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A5D1-8E5C-48DC-A97F-7895961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0AC-6C03-4F46-8C6F-7BF6708A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097A-1E1B-421E-82E1-9C08BB4A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49E-85E1-49FF-83AA-C4E4815C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C9E-9BD3-405C-8D3A-E36DB183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158-1669-4ADC-81AB-FD65521E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B1C-E95F-47E8-AEF0-3BF56F9E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839-DDA5-4A73-9277-8AE40002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4D1-5D40-4D9B-B8D7-8ABB1AD3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31F-DE89-4AC6-9685-97210574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47AD-F810-461F-9407-3EFEB082F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DF13-8B21-452B-9AB1-95B3AEEB28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a50021"/>
                </a:solidFill>
                <a:latin typeface="Times New Roman"/>
              </a:rPr>
              <a:t>Длина окружности и площадь круга</a:t>
            </a:r>
            <a:br>
              <a:rPr sz="8000"/>
            </a:br>
            <a:r>
              <a:rPr b="1" lang="ru-RU" sz="8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учитель Левина Н.Н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AutoShape 9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3440"/>
          </a:xfrm>
          <a:custGeom>
            <a:avLst/>
            <a:gdLst>
              <a:gd name="textAreaLeft" fmla="*/ 28080 w 505080"/>
              <a:gd name="textAreaRight" fmla="*/ 477000 w 505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6082" y="10800"/>
                </a:moveTo>
                <a:lnTo>
                  <a:pt x="5577" y="17806"/>
                </a:lnTo>
                <a:lnTo>
                  <a:pt x="5577" y="3794"/>
                </a:lnTo>
                <a:close/>
              </a:path>
              <a:path fill="darken" w="25167" h="21600">
                <a:moveTo>
                  <a:pt x="17928" y="3794"/>
                </a:moveTo>
                <a:lnTo>
                  <a:pt x="17928" y="17806"/>
                </a:lnTo>
                <a:lnTo>
                  <a:pt x="19590" y="17806"/>
                </a:lnTo>
                <a:lnTo>
                  <a:pt x="19590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4714920" y="5000760"/>
            <a:ext cx="32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 = 2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r = </a:t>
            </a:r>
            <a:r>
              <a:rPr b="1" lang="el-GR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Oval 14"/>
          <p:cNvSpPr/>
          <p:nvPr/>
        </p:nvSpPr>
        <p:spPr>
          <a:xfrm rot="5400000">
            <a:off x="1331280" y="4221000"/>
            <a:ext cx="1440000" cy="143964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2052720" y="4437000"/>
            <a:ext cx="1657440" cy="1513080"/>
            <a:chOff x="2052720" y="4437000"/>
            <a:chExt cx="1657440" cy="1513080"/>
          </a:xfrm>
        </p:grpSpPr>
        <p:sp>
          <p:nvSpPr>
            <p:cNvPr id="216" name="Oval 13"/>
            <p:cNvSpPr/>
            <p:nvPr/>
          </p:nvSpPr>
          <p:spPr>
            <a:xfrm>
              <a:off x="2052720" y="4437000"/>
              <a:ext cx="1657440" cy="1513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30"/>
            <p:cNvGrpSpPr/>
            <p:nvPr/>
          </p:nvGrpSpPr>
          <p:grpSpPr>
            <a:xfrm>
              <a:off x="2894040" y="4508640"/>
              <a:ext cx="669960" cy="680760"/>
              <a:chOff x="2894040" y="4508640"/>
              <a:chExt cx="669960" cy="680760"/>
            </a:xfrm>
          </p:grpSpPr>
          <p:sp>
            <p:nvSpPr>
              <p:cNvPr id="218" name="Line 21"/>
              <p:cNvSpPr/>
              <p:nvPr/>
            </p:nvSpPr>
            <p:spPr>
              <a:xfrm flipV="1">
                <a:off x="2909880" y="4783320"/>
                <a:ext cx="654120" cy="40608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Text Box 25"/>
              <p:cNvSpPr/>
              <p:nvPr/>
            </p:nvSpPr>
            <p:spPr>
              <a:xfrm>
                <a:off x="2894040" y="450864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a50021"/>
                    </a:solidFill>
                    <a:latin typeface="Arial"/>
                  </a:rPr>
                  <a:t>r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Oval 15"/>
          <p:cNvSpPr/>
          <p:nvPr/>
        </p:nvSpPr>
        <p:spPr>
          <a:xfrm>
            <a:off x="1476360" y="5157720"/>
            <a:ext cx="1441440" cy="13413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32">
            <a:hlinkClick r:id="rId1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8459640" y="549360"/>
            <a:ext cx="4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4"/>
          <p:cNvGrpSpPr/>
          <p:nvPr/>
        </p:nvGrpSpPr>
        <p:grpSpPr>
          <a:xfrm>
            <a:off x="1332000" y="3789360"/>
            <a:ext cx="6481440" cy="2088720"/>
            <a:chOff x="1332000" y="3789360"/>
            <a:chExt cx="6481440" cy="2088720"/>
          </a:xfrm>
        </p:grpSpPr>
        <p:grpSp>
          <p:nvGrpSpPr>
            <p:cNvPr id="346" name="Group 11"/>
            <p:cNvGrpSpPr/>
            <p:nvPr/>
          </p:nvGrpSpPr>
          <p:grpSpPr>
            <a:xfrm>
              <a:off x="1332000" y="3789360"/>
              <a:ext cx="934920" cy="936000"/>
              <a:chOff x="1332000" y="3789360"/>
              <a:chExt cx="934920" cy="936000"/>
            </a:xfrm>
          </p:grpSpPr>
          <p:pic>
            <p:nvPicPr>
              <p:cNvPr id="347" name="Picture 7" descr="pict044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3789360"/>
                <a:ext cx="93492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AutoShape 6"/>
              <p:cNvSpPr/>
              <p:nvPr/>
            </p:nvSpPr>
            <p:spPr>
              <a:xfrm>
                <a:off x="1711440" y="4196160"/>
                <a:ext cx="15588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12"/>
            <p:cNvGrpSpPr/>
            <p:nvPr/>
          </p:nvGrpSpPr>
          <p:grpSpPr>
            <a:xfrm>
              <a:off x="5005440" y="3789360"/>
              <a:ext cx="936360" cy="936000"/>
              <a:chOff x="5005440" y="3789360"/>
              <a:chExt cx="936360" cy="936000"/>
            </a:xfrm>
          </p:grpSpPr>
          <p:pic>
            <p:nvPicPr>
              <p:cNvPr id="350" name="Picture 13" descr="pict044"/>
              <p:cNvPicPr/>
              <p:nvPr/>
            </p:nvPicPr>
            <p:blipFill>
              <a:blip r:embed="rId2"/>
              <a:stretch/>
            </p:blipFill>
            <p:spPr>
              <a:xfrm>
                <a:off x="5005440" y="3789360"/>
                <a:ext cx="93636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AutoShape 14"/>
              <p:cNvSpPr/>
              <p:nvPr/>
            </p:nvSpPr>
            <p:spPr>
              <a:xfrm>
                <a:off x="5385240" y="419616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15"/>
            <p:cNvGrpSpPr/>
            <p:nvPr/>
          </p:nvGrpSpPr>
          <p:grpSpPr>
            <a:xfrm>
              <a:off x="5940720" y="5013000"/>
              <a:ext cx="934560" cy="865080"/>
              <a:chOff x="5940720" y="5013000"/>
              <a:chExt cx="934560" cy="865080"/>
            </a:xfrm>
          </p:grpSpPr>
          <p:pic>
            <p:nvPicPr>
              <p:cNvPr id="353" name="Picture 16" descr="pict044"/>
              <p:cNvPicPr/>
              <p:nvPr/>
            </p:nvPicPr>
            <p:blipFill>
              <a:blip r:embed="rId3"/>
              <a:stretch/>
            </p:blipFill>
            <p:spPr>
              <a:xfrm>
                <a:off x="5940720" y="5013000"/>
                <a:ext cx="93456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AutoShape 17"/>
              <p:cNvSpPr/>
              <p:nvPr/>
            </p:nvSpPr>
            <p:spPr>
              <a:xfrm>
                <a:off x="6319800" y="5389200"/>
                <a:ext cx="155880" cy="1551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22"/>
            <p:cNvGrpSpPr/>
            <p:nvPr/>
          </p:nvGrpSpPr>
          <p:grpSpPr>
            <a:xfrm>
              <a:off x="6877080" y="3789360"/>
              <a:ext cx="936360" cy="1007640"/>
              <a:chOff x="6877080" y="3789360"/>
              <a:chExt cx="936360" cy="1007640"/>
            </a:xfrm>
          </p:grpSpPr>
          <p:pic>
            <p:nvPicPr>
              <p:cNvPr id="356" name="Picture 23" descr="pict044"/>
              <p:cNvPicPr/>
              <p:nvPr/>
            </p:nvPicPr>
            <p:blipFill>
              <a:blip r:embed="rId4"/>
              <a:stretch/>
            </p:blipFill>
            <p:spPr>
              <a:xfrm>
                <a:off x="6877080" y="3789360"/>
                <a:ext cx="936360" cy="10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AutoShape 24"/>
              <p:cNvSpPr/>
              <p:nvPr/>
            </p:nvSpPr>
            <p:spPr>
              <a:xfrm rot="10800000">
                <a:off x="7256880" y="4299840"/>
                <a:ext cx="156240" cy="1803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5"/>
            <p:cNvGrpSpPr/>
            <p:nvPr/>
          </p:nvGrpSpPr>
          <p:grpSpPr>
            <a:xfrm>
              <a:off x="3205440" y="3789360"/>
              <a:ext cx="936000" cy="936000"/>
              <a:chOff x="3205440" y="3789360"/>
              <a:chExt cx="936000" cy="936000"/>
            </a:xfrm>
          </p:grpSpPr>
          <p:pic>
            <p:nvPicPr>
              <p:cNvPr id="359" name="Picture 26" descr="pict044"/>
              <p:cNvPicPr/>
              <p:nvPr/>
            </p:nvPicPr>
            <p:blipFill>
              <a:blip r:embed="rId5"/>
              <a:stretch/>
            </p:blipFill>
            <p:spPr>
              <a:xfrm>
                <a:off x="3205440" y="3789360"/>
                <a:ext cx="936000" cy="93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AutoShape 27"/>
              <p:cNvSpPr/>
              <p:nvPr/>
            </p:nvSpPr>
            <p:spPr>
              <a:xfrm>
                <a:off x="3585240" y="419616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28"/>
            <p:cNvGrpSpPr/>
            <p:nvPr/>
          </p:nvGrpSpPr>
          <p:grpSpPr>
            <a:xfrm>
              <a:off x="2197080" y="4941720"/>
              <a:ext cx="936360" cy="936360"/>
              <a:chOff x="2197080" y="4941720"/>
              <a:chExt cx="936360" cy="936360"/>
            </a:xfrm>
          </p:grpSpPr>
          <p:pic>
            <p:nvPicPr>
              <p:cNvPr id="362" name="Picture 29" descr="pict044"/>
              <p:cNvPicPr/>
              <p:nvPr/>
            </p:nvPicPr>
            <p:blipFill>
              <a:blip r:embed="rId6"/>
              <a:stretch/>
            </p:blipFill>
            <p:spPr>
              <a:xfrm>
                <a:off x="2197080" y="4941720"/>
                <a:ext cx="936360" cy="9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AutoShape 30"/>
              <p:cNvSpPr/>
              <p:nvPr/>
            </p:nvSpPr>
            <p:spPr>
              <a:xfrm>
                <a:off x="2576880" y="5348880"/>
                <a:ext cx="156240" cy="1681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AutoShape 40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utoShape 41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611280" y="62064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Какая из шести масок лишняя?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Чем отличается от других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43"/>
          <p:cNvSpPr/>
          <p:nvPr/>
        </p:nvSpPr>
        <p:spPr>
          <a:xfrm>
            <a:off x="8368560" y="18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Что лишне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вадр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яти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Каким общим названием можно заменить оставшиеся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6021360"/>
            <a:ext cx="38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imes New Roman"/>
              </a:rPr>
              <a:t>МНОГОУГОЛЬНИКИ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firs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7"/>
          <p:cNvSpPr/>
          <p:nvPr/>
        </p:nvSpPr>
        <p:spPr>
          <a:xfrm>
            <a:off x="2484360" y="2637000"/>
            <a:ext cx="2232000" cy="6490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8441280" y="258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" dur="2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5"/>
          <p:cNvGrpSpPr/>
          <p:nvPr/>
        </p:nvGrpSpPr>
        <p:grpSpPr>
          <a:xfrm>
            <a:off x="0" y="738360"/>
            <a:ext cx="7561440" cy="6119640"/>
            <a:chOff x="0" y="738360"/>
            <a:chExt cx="7561440" cy="6119640"/>
          </a:xfrm>
        </p:grpSpPr>
        <p:sp>
          <p:nvSpPr>
            <p:cNvPr id="224" name="AutoShape 14"/>
            <p:cNvSpPr/>
            <p:nvPr/>
          </p:nvSpPr>
          <p:spPr>
            <a:xfrm>
              <a:off x="0" y="738360"/>
              <a:ext cx="756144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0" y="738360"/>
              <a:ext cx="756144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31680" y="1827000"/>
              <a:ext cx="2529000" cy="26697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1425600" y="2670120"/>
              <a:ext cx="422280" cy="842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843120" y="3344760"/>
              <a:ext cx="895320" cy="7092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1155600" y="3520800"/>
              <a:ext cx="366840" cy="14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1360440" y="3555720"/>
              <a:ext cx="87480" cy="1537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2041560" y="2565360"/>
              <a:ext cx="216000" cy="167760"/>
            </a:xfrm>
            <a:prstGeom prst="pie">
              <a:avLst/>
            </a:prstGeom>
            <a:noFill/>
            <a:ln w="9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23"/>
            <p:cNvSpPr/>
            <p:nvPr/>
          </p:nvSpPr>
          <p:spPr>
            <a:xfrm>
              <a:off x="2235240" y="2501640"/>
              <a:ext cx="1058760" cy="252864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24"/>
            <p:cNvSpPr/>
            <p:nvPr/>
          </p:nvSpPr>
          <p:spPr>
            <a:xfrm>
              <a:off x="1479600" y="4405320"/>
              <a:ext cx="96840" cy="5695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25"/>
            <p:cNvSpPr/>
            <p:nvPr/>
          </p:nvSpPr>
          <p:spPr>
            <a:xfrm>
              <a:off x="2192400" y="2712960"/>
              <a:ext cx="141120" cy="23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26"/>
            <p:cNvSpPr/>
            <p:nvPr/>
          </p:nvSpPr>
          <p:spPr>
            <a:xfrm>
              <a:off x="2311560" y="2867040"/>
              <a:ext cx="107640" cy="1900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27"/>
            <p:cNvSpPr/>
            <p:nvPr/>
          </p:nvSpPr>
          <p:spPr>
            <a:xfrm>
              <a:off x="681120" y="4967280"/>
              <a:ext cx="3163680" cy="17568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28"/>
            <p:cNvSpPr/>
            <p:nvPr/>
          </p:nvSpPr>
          <p:spPr>
            <a:xfrm>
              <a:off x="1533600" y="5641920"/>
              <a:ext cx="1350720" cy="977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29"/>
            <p:cNvSpPr/>
            <p:nvPr/>
          </p:nvSpPr>
          <p:spPr>
            <a:xfrm>
              <a:off x="1479600" y="6092640"/>
              <a:ext cx="141120" cy="2728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30"/>
            <p:cNvSpPr/>
            <p:nvPr/>
          </p:nvSpPr>
          <p:spPr>
            <a:xfrm>
              <a:off x="1544760" y="6084720"/>
              <a:ext cx="1079280" cy="1900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31"/>
            <p:cNvSpPr/>
            <p:nvPr/>
          </p:nvSpPr>
          <p:spPr>
            <a:xfrm>
              <a:off x="712800" y="6632280"/>
              <a:ext cx="1123920" cy="21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32"/>
            <p:cNvSpPr/>
            <p:nvPr/>
          </p:nvSpPr>
          <p:spPr>
            <a:xfrm>
              <a:off x="1901880" y="6597360"/>
              <a:ext cx="301680" cy="2314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33"/>
            <p:cNvSpPr/>
            <p:nvPr/>
          </p:nvSpPr>
          <p:spPr>
            <a:xfrm>
              <a:off x="2776680" y="6316560"/>
              <a:ext cx="485640" cy="3870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34"/>
            <p:cNvSpPr/>
            <p:nvPr/>
          </p:nvSpPr>
          <p:spPr>
            <a:xfrm>
              <a:off x="744480" y="6351480"/>
              <a:ext cx="746280" cy="48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35"/>
            <p:cNvSpPr/>
            <p:nvPr/>
          </p:nvSpPr>
          <p:spPr>
            <a:xfrm>
              <a:off x="809640" y="6176880"/>
              <a:ext cx="649440" cy="345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36"/>
            <p:cNvSpPr/>
            <p:nvPr/>
          </p:nvSpPr>
          <p:spPr>
            <a:xfrm>
              <a:off x="874800" y="5965560"/>
              <a:ext cx="1652400" cy="774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37"/>
            <p:cNvSpPr/>
            <p:nvPr/>
          </p:nvSpPr>
          <p:spPr>
            <a:xfrm>
              <a:off x="1025640" y="5775120"/>
              <a:ext cx="1373040" cy="633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38"/>
            <p:cNvSpPr/>
            <p:nvPr/>
          </p:nvSpPr>
          <p:spPr>
            <a:xfrm>
              <a:off x="1133640" y="5543280"/>
              <a:ext cx="1750680" cy="21096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39"/>
            <p:cNvSpPr/>
            <p:nvPr/>
          </p:nvSpPr>
          <p:spPr>
            <a:xfrm>
              <a:off x="1220760" y="5389560"/>
              <a:ext cx="1620720" cy="23760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40"/>
            <p:cNvSpPr/>
            <p:nvPr/>
          </p:nvSpPr>
          <p:spPr>
            <a:xfrm>
              <a:off x="1231920" y="5199120"/>
              <a:ext cx="1522440" cy="2818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41"/>
            <p:cNvSpPr/>
            <p:nvPr/>
          </p:nvSpPr>
          <p:spPr>
            <a:xfrm>
              <a:off x="2419200" y="5811840"/>
              <a:ext cx="551160" cy="6948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42"/>
            <p:cNvSpPr/>
            <p:nvPr/>
          </p:nvSpPr>
          <p:spPr>
            <a:xfrm>
              <a:off x="2689200" y="6021360"/>
              <a:ext cx="442800" cy="709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43"/>
            <p:cNvSpPr/>
            <p:nvPr/>
          </p:nvSpPr>
          <p:spPr>
            <a:xfrm>
              <a:off x="2873520" y="6275160"/>
              <a:ext cx="388800" cy="61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44"/>
            <p:cNvSpPr/>
            <p:nvPr/>
          </p:nvSpPr>
          <p:spPr>
            <a:xfrm>
              <a:off x="3132000" y="6527520"/>
              <a:ext cx="422280" cy="6120"/>
            </a:xfrm>
            <a:prstGeom prst="pie">
              <a:avLst/>
            </a:prstGeom>
            <a:noFill/>
            <a:ln w="968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45"/>
            <p:cNvSpPr/>
            <p:nvPr/>
          </p:nvSpPr>
          <p:spPr>
            <a:xfrm>
              <a:off x="2884320" y="772920"/>
              <a:ext cx="4633920" cy="2676240"/>
            </a:xfrm>
            <a:prstGeom prst="pie">
              <a:avLst/>
            </a:prstGeom>
            <a:noFill/>
            <a:ln w="16200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5292720" y="2852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№   840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292720" y="3860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ff99"/>
                </a:solidFill>
                <a:uFillTx/>
                <a:latin typeface="Times New Roman"/>
                <a:hlinkClick r:id="rId2" action="ppaction://hlinksldjump"/>
              </a:rPr>
              <a:t>№   855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3492360" y="620640"/>
            <a:ext cx="4248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Times New Roman"/>
              </a:rPr>
              <a:t>ПРОВЕРКА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Times New Roman"/>
              </a:rPr>
              <a:t>ДОМАШНЕГО ЗАДАНИЯ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47"/>
          <p:cNvSpPr/>
          <p:nvPr/>
        </p:nvSpPr>
        <p:spPr>
          <a:xfrm>
            <a:off x="8513280" y="2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2"/>
          <p:cNvGrpSpPr/>
          <p:nvPr/>
        </p:nvGrpSpPr>
        <p:grpSpPr>
          <a:xfrm>
            <a:off x="179280" y="1341360"/>
            <a:ext cx="3744360" cy="3671280"/>
            <a:chOff x="179280" y="1341360"/>
            <a:chExt cx="3744360" cy="3671280"/>
          </a:xfrm>
        </p:grpSpPr>
        <p:grpSp>
          <p:nvGrpSpPr>
            <p:cNvPr id="260" name="Group 19"/>
            <p:cNvGrpSpPr/>
            <p:nvPr/>
          </p:nvGrpSpPr>
          <p:grpSpPr>
            <a:xfrm>
              <a:off x="179280" y="1341360"/>
              <a:ext cx="3744360" cy="3671280"/>
              <a:chOff x="179280" y="1341360"/>
              <a:chExt cx="3744360" cy="3671280"/>
            </a:xfrm>
          </p:grpSpPr>
          <p:sp>
            <p:nvSpPr>
              <p:cNvPr id="261" name="Oval 4"/>
              <p:cNvSpPr/>
              <p:nvPr/>
            </p:nvSpPr>
            <p:spPr>
              <a:xfrm>
                <a:off x="179280" y="1341360"/>
                <a:ext cx="3744360" cy="36712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Oval 6"/>
              <p:cNvSpPr/>
              <p:nvPr/>
            </p:nvSpPr>
            <p:spPr>
              <a:xfrm>
                <a:off x="754560" y="1905840"/>
                <a:ext cx="2592720" cy="2542320"/>
              </a:xfrm>
              <a:prstGeom prst="ellipse">
                <a:avLst/>
              </a:prstGeom>
              <a:solidFill>
                <a:srgbClr val="0068ae"/>
              </a:solidFill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 flipV="1">
                <a:off x="2001600" y="1967760"/>
                <a:ext cx="442080" cy="123660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 flipV="1">
                <a:off x="2003760" y="2424600"/>
                <a:ext cx="1758600" cy="79488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Text Box 15"/>
              <p:cNvSpPr/>
              <p:nvPr/>
            </p:nvSpPr>
            <p:spPr>
              <a:xfrm>
                <a:off x="1620720" y="2424600"/>
                <a:ext cx="478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16"/>
            <p:cNvSpPr/>
            <p:nvPr/>
          </p:nvSpPr>
          <p:spPr>
            <a:xfrm>
              <a:off x="2392920" y="2926800"/>
              <a:ext cx="425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175280" y="549360"/>
            <a:ext cx="49687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кольц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1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≈ 3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кольц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 (1,7</a:t>
            </a:r>
            <a:r>
              <a:rPr b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- 1</a:t>
            </a:r>
            <a:r>
              <a:rPr b="1" lang="ru-RU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)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 (2,89 - 1)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= 3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• 1,89 = 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5,67 см</a:t>
            </a:r>
            <a:r>
              <a:rPr b="1" lang="ru-RU" sz="3200" spc="-1" strike="noStrike" baseline="30000">
                <a:solidFill>
                  <a:srgbClr val="a50021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9">
            <a:hlinkClick r:id="" action="ppaction://hlinkshowjump?jump=nextslide"/>
          </p:cNvPr>
          <p:cNvSpPr/>
          <p:nvPr/>
        </p:nvSpPr>
        <p:spPr>
          <a:xfrm>
            <a:off x="8459640" y="6237360"/>
            <a:ext cx="505080" cy="433440"/>
          </a:xfrm>
          <a:custGeom>
            <a:avLst/>
            <a:gdLst>
              <a:gd name="textAreaLeft" fmla="*/ 28080 w 505080"/>
              <a:gd name="textAreaRight" fmla="*/ 477000 w 5050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67" h="21600">
                <a:moveTo>
                  <a:pt x="0" y="0"/>
                </a:moveTo>
                <a:lnTo>
                  <a:pt x="25167" y="0"/>
                </a:lnTo>
                <a:lnTo>
                  <a:pt x="25167" y="21600"/>
                </a:lnTo>
                <a:lnTo>
                  <a:pt x="0" y="21600"/>
                </a:lnTo>
                <a:close/>
              </a:path>
              <a:path fill="lightenLess" w="25167" h="21600">
                <a:moveTo>
                  <a:pt x="0" y="0"/>
                </a:moveTo>
                <a:lnTo>
                  <a:pt x="25167" y="0"/>
                </a:lnTo>
                <a:lnTo>
                  <a:pt x="23767" y="1400"/>
                </a:lnTo>
                <a:lnTo>
                  <a:pt x="1400" y="1400"/>
                </a:lnTo>
                <a:close/>
              </a:path>
              <a:path fill="darken" w="25167" h="21600">
                <a:moveTo>
                  <a:pt x="25167" y="0"/>
                </a:moveTo>
                <a:lnTo>
                  <a:pt x="25167" y="21600"/>
                </a:lnTo>
                <a:lnTo>
                  <a:pt x="23767" y="20200"/>
                </a:lnTo>
                <a:lnTo>
                  <a:pt x="23767" y="1400"/>
                </a:lnTo>
                <a:close/>
              </a:path>
              <a:path fill="darkenLess" w="25167" h="21600">
                <a:moveTo>
                  <a:pt x="25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7" y="20200"/>
                </a:lnTo>
                <a:close/>
              </a:path>
              <a:path fill="lighten" w="25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7" h="21600">
                <a:moveTo>
                  <a:pt x="16082" y="10800"/>
                </a:moveTo>
                <a:lnTo>
                  <a:pt x="5577" y="17806"/>
                </a:lnTo>
                <a:lnTo>
                  <a:pt x="5577" y="3794"/>
                </a:lnTo>
                <a:close/>
              </a:path>
              <a:path fill="darken" w="25167" h="21600">
                <a:moveTo>
                  <a:pt x="17928" y="3794"/>
                </a:moveTo>
                <a:lnTo>
                  <a:pt x="17928" y="17806"/>
                </a:lnTo>
                <a:lnTo>
                  <a:pt x="19590" y="17806"/>
                </a:lnTo>
                <a:lnTo>
                  <a:pt x="19590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8441640" y="3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9"/>
          <p:cNvGrpSpPr/>
          <p:nvPr/>
        </p:nvGrpSpPr>
        <p:grpSpPr>
          <a:xfrm>
            <a:off x="324000" y="2060640"/>
            <a:ext cx="3744720" cy="3023640"/>
            <a:chOff x="324000" y="2060640"/>
            <a:chExt cx="3744720" cy="3023640"/>
          </a:xfrm>
        </p:grpSpPr>
        <p:sp>
          <p:nvSpPr>
            <p:cNvPr id="271" name="Rectangle 4"/>
            <p:cNvSpPr/>
            <p:nvPr/>
          </p:nvSpPr>
          <p:spPr>
            <a:xfrm>
              <a:off x="324000" y="2060640"/>
              <a:ext cx="3744720" cy="3023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Group 8"/>
            <p:cNvGrpSpPr/>
            <p:nvPr/>
          </p:nvGrpSpPr>
          <p:grpSpPr>
            <a:xfrm>
              <a:off x="1474920" y="2775960"/>
              <a:ext cx="1440000" cy="1509840"/>
              <a:chOff x="1474920" y="2775960"/>
              <a:chExt cx="1440000" cy="1509840"/>
            </a:xfrm>
          </p:grpSpPr>
          <p:sp>
            <p:nvSpPr>
              <p:cNvPr id="273" name="Oval 5"/>
              <p:cNvSpPr/>
              <p:nvPr/>
            </p:nvSpPr>
            <p:spPr>
              <a:xfrm>
                <a:off x="1474920" y="2775960"/>
                <a:ext cx="1440000" cy="1509840"/>
              </a:xfrm>
              <a:prstGeom prst="ellipse">
                <a:avLst/>
              </a:prstGeom>
              <a:solidFill>
                <a:srgbClr val="0068ae"/>
              </a:solidFill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6"/>
              <p:cNvSpPr/>
              <p:nvPr/>
            </p:nvSpPr>
            <p:spPr>
              <a:xfrm flipV="1">
                <a:off x="2195640" y="2926440"/>
                <a:ext cx="403200" cy="56412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7"/>
              <p:cNvSpPr/>
              <p:nvPr/>
            </p:nvSpPr>
            <p:spPr>
              <a:xfrm>
                <a:off x="2051280" y="301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1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284720" y="404280"/>
            <a:ext cx="45352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Решение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заштр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 –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= 4 см;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b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м;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lang="ru-RU" sz="2400" spc="-1" strike="noStrike" baseline="-25000">
                <a:solidFill>
                  <a:srgbClr val="a50021"/>
                </a:solidFill>
                <a:latin typeface="Arial"/>
              </a:rPr>
              <a:t>заштр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4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 3 – 3 • 0.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2 – 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0,64 = 12 – 1,92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0,08 с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: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5,67 с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0,08 с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>
            <a:hlinkClick r:id="rId2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8729280" y="18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2"/>
              <p:cNvSpPr txBox="1"/>
              <p:nvPr/>
            </p:nvSpPr>
            <p:spPr>
              <a:xfrm>
                <a:off x="2556000" y="1197000"/>
                <a:ext cx="1871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работ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5"/>
              <p:cNvSpPr txBox="1"/>
              <p:nvPr/>
            </p:nvSpPr>
            <p:spPr>
              <a:xfrm>
                <a:off x="2556000" y="2133720"/>
                <a:ext cx="1942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работ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Text Box 28"/>
          <p:cNvSpPr/>
          <p:nvPr/>
        </p:nvSpPr>
        <p:spPr>
          <a:xfrm>
            <a:off x="500364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9 час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9"/>
          <p:cNvSpPr/>
          <p:nvPr/>
        </p:nvSpPr>
        <p:spPr>
          <a:xfrm>
            <a:off x="5003640" y="2133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часов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0"/>
              <p:cNvSpPr txBox="1"/>
              <p:nvPr/>
            </p:nvSpPr>
            <p:spPr>
              <a:xfrm>
                <a:off x="3132000" y="3213000"/>
                <a:ext cx="25923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Line 31"/>
          <p:cNvSpPr/>
          <p:nvPr/>
        </p:nvSpPr>
        <p:spPr>
          <a:xfrm>
            <a:off x="2195640" y="119700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6732720" y="1125360"/>
            <a:ext cx="0" cy="16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34"/>
              <p:cNvSpPr txBox="1"/>
              <p:nvPr/>
            </p:nvSpPr>
            <p:spPr>
              <a:xfrm>
                <a:off x="250920" y="4365720"/>
                <a:ext cx="4680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5"/>
              <p:cNvSpPr txBox="1"/>
              <p:nvPr/>
            </p:nvSpPr>
            <p:spPr>
              <a:xfrm>
                <a:off x="4859280" y="4653000"/>
                <a:ext cx="3789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Text Box 36"/>
          <p:cNvSpPr/>
          <p:nvPr/>
        </p:nvSpPr>
        <p:spPr>
          <a:xfrm>
            <a:off x="5219640" y="6021360"/>
            <a:ext cx="31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imes New Roman"/>
              </a:rPr>
              <a:t>Ответ:  за 14 час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37">
            <a:hlinkClick r:id="" action="ppaction://hlinkshowjump?jump=firs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38">
            <a:hlinkClick r:id="rId1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8297280" y="401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Повторим опре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6560" y="1039680"/>
            <a:ext cx="403884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кру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ус окру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аметр окруж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41"/>
          <p:cNvSpPr/>
          <p:nvPr/>
        </p:nvSpPr>
        <p:spPr>
          <a:xfrm>
            <a:off x="6804000" y="396252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42"/>
          <p:cNvSpPr/>
          <p:nvPr/>
        </p:nvSpPr>
        <p:spPr>
          <a:xfrm>
            <a:off x="7740720" y="206064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5867280" y="4941720"/>
            <a:ext cx="648000" cy="64800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44"/>
          <p:cNvSpPr/>
          <p:nvPr/>
        </p:nvSpPr>
        <p:spPr>
          <a:xfrm>
            <a:off x="4932360" y="2997360"/>
            <a:ext cx="647640" cy="647640"/>
          </a:xfrm>
          <a:prstGeom prst="flowChartSummingJunction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Group 65"/>
          <p:cNvGrpSpPr/>
          <p:nvPr/>
        </p:nvGrpSpPr>
        <p:grpSpPr>
          <a:xfrm>
            <a:off x="4932360" y="1639800"/>
            <a:ext cx="3456000" cy="3959280"/>
            <a:chOff x="4932360" y="1639800"/>
            <a:chExt cx="3456000" cy="3959280"/>
          </a:xfrm>
        </p:grpSpPr>
        <p:grpSp>
          <p:nvGrpSpPr>
            <p:cNvPr id="301" name="Group 49"/>
            <p:cNvGrpSpPr/>
            <p:nvPr/>
          </p:nvGrpSpPr>
          <p:grpSpPr>
            <a:xfrm>
              <a:off x="4932360" y="2071440"/>
              <a:ext cx="3456000" cy="648000"/>
              <a:chOff x="4932360" y="2071440"/>
              <a:chExt cx="3456000" cy="648000"/>
            </a:xfrm>
          </p:grpSpPr>
          <p:sp>
            <p:nvSpPr>
              <p:cNvPr id="302" name="Oval 4"/>
              <p:cNvSpPr/>
              <p:nvPr/>
            </p:nvSpPr>
            <p:spPr>
              <a:xfrm>
                <a:off x="680400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Oval 5"/>
              <p:cNvSpPr/>
              <p:nvPr/>
            </p:nvSpPr>
            <p:spPr>
              <a:xfrm>
                <a:off x="493236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5867280" y="2071440"/>
                <a:ext cx="64800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7740720" y="2071440"/>
                <a:ext cx="647640" cy="64800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Text Box 27"/>
            <p:cNvSpPr/>
            <p:nvPr/>
          </p:nvSpPr>
          <p:spPr>
            <a:xfrm>
              <a:off x="500364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28"/>
            <p:cNvSpPr/>
            <p:nvPr/>
          </p:nvSpPr>
          <p:spPr>
            <a:xfrm>
              <a:off x="6012000" y="16398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Text Box 29"/>
            <p:cNvSpPr/>
            <p:nvPr/>
          </p:nvSpPr>
          <p:spPr>
            <a:xfrm>
              <a:off x="694836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30"/>
            <p:cNvSpPr/>
            <p:nvPr/>
          </p:nvSpPr>
          <p:spPr>
            <a:xfrm>
              <a:off x="7812000" y="16398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Group 50"/>
            <p:cNvGrpSpPr/>
            <p:nvPr/>
          </p:nvGrpSpPr>
          <p:grpSpPr>
            <a:xfrm>
              <a:off x="4932360" y="3008160"/>
              <a:ext cx="3456000" cy="647640"/>
              <a:chOff x="4932360" y="3008160"/>
              <a:chExt cx="3456000" cy="647640"/>
            </a:xfrm>
          </p:grpSpPr>
          <p:sp>
            <p:nvSpPr>
              <p:cNvPr id="311" name="Oval 51"/>
              <p:cNvSpPr/>
              <p:nvPr/>
            </p:nvSpPr>
            <p:spPr>
              <a:xfrm>
                <a:off x="680400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Oval 52"/>
              <p:cNvSpPr/>
              <p:nvPr/>
            </p:nvSpPr>
            <p:spPr>
              <a:xfrm>
                <a:off x="493236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Oval 53"/>
              <p:cNvSpPr/>
              <p:nvPr/>
            </p:nvSpPr>
            <p:spPr>
              <a:xfrm>
                <a:off x="5867280" y="300816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Oval 54"/>
              <p:cNvSpPr/>
              <p:nvPr/>
            </p:nvSpPr>
            <p:spPr>
              <a:xfrm>
                <a:off x="7740720" y="30081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55"/>
            <p:cNvGrpSpPr/>
            <p:nvPr/>
          </p:nvGrpSpPr>
          <p:grpSpPr>
            <a:xfrm>
              <a:off x="4932360" y="3971880"/>
              <a:ext cx="3456000" cy="647640"/>
              <a:chOff x="4932360" y="3971880"/>
              <a:chExt cx="3456000" cy="647640"/>
            </a:xfrm>
          </p:grpSpPr>
          <p:sp>
            <p:nvSpPr>
              <p:cNvPr id="316" name="Oval 56"/>
              <p:cNvSpPr/>
              <p:nvPr/>
            </p:nvSpPr>
            <p:spPr>
              <a:xfrm>
                <a:off x="680400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Oval 57"/>
              <p:cNvSpPr/>
              <p:nvPr/>
            </p:nvSpPr>
            <p:spPr>
              <a:xfrm>
                <a:off x="493236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Oval 58"/>
              <p:cNvSpPr/>
              <p:nvPr/>
            </p:nvSpPr>
            <p:spPr>
              <a:xfrm>
                <a:off x="5867280" y="397188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Oval 59"/>
              <p:cNvSpPr/>
              <p:nvPr/>
            </p:nvSpPr>
            <p:spPr>
              <a:xfrm>
                <a:off x="7740720" y="39718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60"/>
            <p:cNvGrpSpPr/>
            <p:nvPr/>
          </p:nvGrpSpPr>
          <p:grpSpPr>
            <a:xfrm>
              <a:off x="4932360" y="4951440"/>
              <a:ext cx="3456000" cy="647640"/>
              <a:chOff x="4932360" y="4951440"/>
              <a:chExt cx="3456000" cy="647640"/>
            </a:xfrm>
          </p:grpSpPr>
          <p:sp>
            <p:nvSpPr>
              <p:cNvPr id="321" name="Oval 61"/>
              <p:cNvSpPr/>
              <p:nvPr/>
            </p:nvSpPr>
            <p:spPr>
              <a:xfrm>
                <a:off x="680400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Oval 62"/>
              <p:cNvSpPr/>
              <p:nvPr/>
            </p:nvSpPr>
            <p:spPr>
              <a:xfrm>
                <a:off x="493236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Oval 63"/>
              <p:cNvSpPr/>
              <p:nvPr/>
            </p:nvSpPr>
            <p:spPr>
              <a:xfrm>
                <a:off x="5867280" y="4951440"/>
                <a:ext cx="64800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Oval 64"/>
              <p:cNvSpPr/>
              <p:nvPr/>
            </p:nvSpPr>
            <p:spPr>
              <a:xfrm>
                <a:off x="7740720" y="49514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AutoShape 67">
            <a:hlinkClick r:id="" action="ppaction://hlinkshowjump?jump=nextslide"/>
          </p:cNvPr>
          <p:cNvSpPr/>
          <p:nvPr/>
        </p:nvSpPr>
        <p:spPr>
          <a:xfrm>
            <a:off x="8388360" y="64245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68">
            <a:hlinkClick r:id="rId5" action="ppaction://hlinksldjump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69"/>
          <p:cNvSpPr/>
          <p:nvPr/>
        </p:nvSpPr>
        <p:spPr>
          <a:xfrm>
            <a:off x="8584560" y="114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07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дача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(О Тунгусском метеорите, 1908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аметр опалённой площади тайги от взрыва Тунгусского метеорита равен примерно 38 км. Какая площадь тайги пострадала от метеори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8441640" y="2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дача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йдите площадь ¼ круга, радиус которого 4,4 дм. Число 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круглить до цел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3132000" y="3284640"/>
            <a:ext cx="2735280" cy="2663640"/>
            <a:chOff x="3132000" y="3284640"/>
            <a:chExt cx="2735280" cy="2663640"/>
          </a:xfrm>
        </p:grpSpPr>
        <p:sp>
          <p:nvSpPr>
            <p:cNvPr id="334" name="Oval 4"/>
            <p:cNvSpPr/>
            <p:nvPr/>
          </p:nvSpPr>
          <p:spPr>
            <a:xfrm>
              <a:off x="3132000" y="3284640"/>
              <a:ext cx="2735280" cy="2663640"/>
            </a:xfrm>
            <a:prstGeom prst="ellipse">
              <a:avLst/>
            </a:prstGeom>
            <a:solidFill>
              <a:srgbClr val="008ae8"/>
            </a:solidFill>
            <a:ln w="5724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6300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 flipV="1">
              <a:off x="4500720" y="3573360"/>
              <a:ext cx="863280" cy="100800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4500720" y="378936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Times New Roman"/>
                </a:rPr>
                <a:t>r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7" name="AutoShape 7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AutoShape 8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8513280" y="330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590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Задача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ревнегреческий математик Архимед установил, что длина окружности относится к длине диаметра  приближенно  ка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7. Найдите длину окружности, диаметр которой  4,2 д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nextslide"/>
          </p:cNvPr>
          <p:cNvSpPr/>
          <p:nvPr/>
        </p:nvSpPr>
        <p:spPr>
          <a:xfrm>
            <a:off x="8388360" y="623736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16073" y="10800"/>
                </a:moveTo>
                <a:lnTo>
                  <a:pt x="5568" y="17806"/>
                </a:lnTo>
                <a:lnTo>
                  <a:pt x="5568" y="3794"/>
                </a:lnTo>
                <a:close/>
              </a:path>
              <a:path fill="darken" w="25149" h="21600">
                <a:moveTo>
                  <a:pt x="17919" y="3794"/>
                </a:moveTo>
                <a:lnTo>
                  <a:pt x="17919" y="17806"/>
                </a:lnTo>
                <a:lnTo>
                  <a:pt x="19581" y="17806"/>
                </a:lnTo>
                <a:lnTo>
                  <a:pt x="19581" y="3794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9128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  <a:path fill="darken" w="25254" h="21600">
                <a:moveTo>
                  <a:pt x="5621" y="3794"/>
                </a:moveTo>
                <a:lnTo>
                  <a:pt x="7283" y="3794"/>
                </a:lnTo>
                <a:lnTo>
                  <a:pt x="7283" y="17806"/>
                </a:lnTo>
                <a:lnTo>
                  <a:pt x="5621" y="17806"/>
                </a:lnTo>
                <a:close/>
              </a:path>
            </a:pathLst>
          </a:cu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Picture 10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2448000" cy="3313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344" name="Text Box 11"/>
          <p:cNvSpPr/>
          <p:nvPr/>
        </p:nvSpPr>
        <p:spPr>
          <a:xfrm>
            <a:off x="448920" y="18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9:18:19Z</dcterms:created>
  <dc:creator>Школа</dc:creator>
  <dc:description/>
  <dc:language>en-US</dc:language>
  <cp:lastModifiedBy>lef</cp:lastModifiedBy>
  <dcterms:modified xsi:type="dcterms:W3CDTF">2014-03-30T17:39:44Z</dcterms:modified>
  <cp:revision>21</cp:revision>
  <dc:subject/>
  <dc:title>Слайд 1</dc:title>
</cp:coreProperties>
</file>