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E6C-C49E-41B1-82A2-052B5C07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FDB-BC6D-4476-AC3E-F21DD082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740-2718-4C06-8BAE-1927C536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F17-89A7-40BA-BCA0-CFCE371C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A78E-2B77-4657-ACE7-F743E296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90B5-D581-470D-8438-1F417E1F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844D-20E4-4098-8EE3-7555E05A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A410-588D-4E36-97FC-21C31103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E35-50D6-471F-866D-FB9C6811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B0B1-5AD6-4666-95CB-3E4BE0AC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B83E-D231-481E-8FC8-A04F05BF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CDC-802A-497E-AA3D-216AB0BB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8CEA-3659-46F3-BB29-C103B73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CC44-050E-4B8E-93F8-D435B40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A67C-B7E3-4D7E-953E-865CDD3A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4EDD-024E-44BA-9790-74C7943C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A1F7-39F9-4CB1-BFA0-9C5ABB09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602-0D71-4919-B47B-0F0F1CB8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F5E-8288-4564-A2B4-3D951985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63C-90DF-4D40-A07D-43549DE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EE1-02A5-4DA1-84BF-4BE0BB7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0D6-8B18-4A2E-8AE2-398FE437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42E-8BAF-40C8-9799-41D38006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AB7-0C80-4514-9A58-3060B28E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7098-5C38-4574-9126-C2EB2A7B0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6B4-79BF-4EF2-953F-53E952E181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a50021"/>
                </a:solidFill>
                <a:latin typeface="Times New Roman"/>
              </a:rPr>
              <a:t>Длина окружности и площадь круга</a:t>
            </a:r>
            <a:br>
              <a:rPr sz="8000"/>
            </a:br>
            <a:r>
              <a:rPr b="1" lang="ru-RU" sz="8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читель Левина Н.Н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6082" y="10800"/>
                </a:moveTo>
                <a:lnTo>
                  <a:pt x="5577" y="17806"/>
                </a:lnTo>
                <a:lnTo>
                  <a:pt x="5577" y="3794"/>
                </a:lnTo>
                <a:close/>
              </a:path>
              <a:path fill="darken" w="25167" h="21600">
                <a:moveTo>
                  <a:pt x="17928" y="3794"/>
                </a:moveTo>
                <a:lnTo>
                  <a:pt x="17928" y="17806"/>
                </a:lnTo>
                <a:lnTo>
                  <a:pt x="19590" y="17806"/>
                </a:lnTo>
                <a:lnTo>
                  <a:pt x="19590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4714920" y="500076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 = 2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 =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Oval 14"/>
          <p:cNvSpPr/>
          <p:nvPr/>
        </p:nvSpPr>
        <p:spPr>
          <a:xfrm rot="5400000">
            <a:off x="1331280" y="4221000"/>
            <a:ext cx="1440000" cy="143964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2052720" y="4437000"/>
            <a:ext cx="1657440" cy="1513080"/>
            <a:chOff x="2052720" y="4437000"/>
            <a:chExt cx="1657440" cy="1513080"/>
          </a:xfrm>
        </p:grpSpPr>
        <p:sp>
          <p:nvSpPr>
            <p:cNvPr id="216" name="Oval 13"/>
            <p:cNvSpPr/>
            <p:nvPr/>
          </p:nvSpPr>
          <p:spPr>
            <a:xfrm>
              <a:off x="2052720" y="4437000"/>
              <a:ext cx="1657440" cy="1513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30"/>
            <p:cNvGrpSpPr/>
            <p:nvPr/>
          </p:nvGrpSpPr>
          <p:grpSpPr>
            <a:xfrm>
              <a:off x="2894040" y="4508640"/>
              <a:ext cx="669960" cy="680760"/>
              <a:chOff x="2894040" y="4508640"/>
              <a:chExt cx="669960" cy="680760"/>
            </a:xfrm>
          </p:grpSpPr>
          <p:sp>
            <p:nvSpPr>
              <p:cNvPr id="218" name="Line 21"/>
              <p:cNvSpPr/>
              <p:nvPr/>
            </p:nvSpPr>
            <p:spPr>
              <a:xfrm flipV="1">
                <a:off x="2909880" y="4783320"/>
                <a:ext cx="654120" cy="406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Text Box 25"/>
              <p:cNvSpPr/>
              <p:nvPr/>
            </p:nvSpPr>
            <p:spPr>
              <a:xfrm>
                <a:off x="2894040" y="45086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0021"/>
                    </a:solidFill>
                    <a:latin typeface="Arial"/>
                  </a:rPr>
                  <a:t>r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Oval 15"/>
          <p:cNvSpPr/>
          <p:nvPr/>
        </p:nvSpPr>
        <p:spPr>
          <a:xfrm>
            <a:off x="1476360" y="5157720"/>
            <a:ext cx="1441440" cy="1341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32">
            <a:hlinkClick r:id="rId1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8459640" y="549360"/>
            <a:ext cx="4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4"/>
          <p:cNvGrpSpPr/>
          <p:nvPr/>
        </p:nvGrpSpPr>
        <p:grpSpPr>
          <a:xfrm>
            <a:off x="1332000" y="3789360"/>
            <a:ext cx="6481440" cy="2088720"/>
            <a:chOff x="1332000" y="3789360"/>
            <a:chExt cx="6481440" cy="2088720"/>
          </a:xfrm>
        </p:grpSpPr>
        <p:grpSp>
          <p:nvGrpSpPr>
            <p:cNvPr id="346" name="Group 11"/>
            <p:cNvGrpSpPr/>
            <p:nvPr/>
          </p:nvGrpSpPr>
          <p:grpSpPr>
            <a:xfrm>
              <a:off x="1332000" y="3789360"/>
              <a:ext cx="934920" cy="936000"/>
              <a:chOff x="1332000" y="3789360"/>
              <a:chExt cx="934920" cy="936000"/>
            </a:xfrm>
          </p:grpSpPr>
          <p:pic>
            <p:nvPicPr>
              <p:cNvPr id="347" name="Picture 7" descr="pict044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3789360"/>
                <a:ext cx="93492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AutoShape 6"/>
              <p:cNvSpPr/>
              <p:nvPr/>
            </p:nvSpPr>
            <p:spPr>
              <a:xfrm>
                <a:off x="1711440" y="4196160"/>
                <a:ext cx="15588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12"/>
            <p:cNvGrpSpPr/>
            <p:nvPr/>
          </p:nvGrpSpPr>
          <p:grpSpPr>
            <a:xfrm>
              <a:off x="5005440" y="3789360"/>
              <a:ext cx="936360" cy="936000"/>
              <a:chOff x="5005440" y="3789360"/>
              <a:chExt cx="936360" cy="936000"/>
            </a:xfrm>
          </p:grpSpPr>
          <p:pic>
            <p:nvPicPr>
              <p:cNvPr id="350" name="Picture 13" descr="pict044"/>
              <p:cNvPicPr/>
              <p:nvPr/>
            </p:nvPicPr>
            <p:blipFill>
              <a:blip r:embed="rId2"/>
              <a:stretch/>
            </p:blipFill>
            <p:spPr>
              <a:xfrm>
                <a:off x="5005440" y="3789360"/>
                <a:ext cx="93636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AutoShape 14"/>
              <p:cNvSpPr/>
              <p:nvPr/>
            </p:nvSpPr>
            <p:spPr>
              <a:xfrm>
                <a:off x="5385240" y="419616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5"/>
            <p:cNvGrpSpPr/>
            <p:nvPr/>
          </p:nvGrpSpPr>
          <p:grpSpPr>
            <a:xfrm>
              <a:off x="5940720" y="5013000"/>
              <a:ext cx="934560" cy="865080"/>
              <a:chOff x="5940720" y="5013000"/>
              <a:chExt cx="934560" cy="865080"/>
            </a:xfrm>
          </p:grpSpPr>
          <p:pic>
            <p:nvPicPr>
              <p:cNvPr id="353" name="Picture 16" descr="pict044"/>
              <p:cNvPicPr/>
              <p:nvPr/>
            </p:nvPicPr>
            <p:blipFill>
              <a:blip r:embed="rId3"/>
              <a:stretch/>
            </p:blipFill>
            <p:spPr>
              <a:xfrm>
                <a:off x="5940720" y="5013000"/>
                <a:ext cx="93456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AutoShape 17"/>
              <p:cNvSpPr/>
              <p:nvPr/>
            </p:nvSpPr>
            <p:spPr>
              <a:xfrm>
                <a:off x="6319800" y="5389200"/>
                <a:ext cx="155880" cy="1551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2"/>
            <p:cNvGrpSpPr/>
            <p:nvPr/>
          </p:nvGrpSpPr>
          <p:grpSpPr>
            <a:xfrm>
              <a:off x="6877080" y="3789360"/>
              <a:ext cx="936360" cy="1007640"/>
              <a:chOff x="6877080" y="3789360"/>
              <a:chExt cx="936360" cy="1007640"/>
            </a:xfrm>
          </p:grpSpPr>
          <p:pic>
            <p:nvPicPr>
              <p:cNvPr id="356" name="Picture 23" descr="pict044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3789360"/>
                <a:ext cx="936360" cy="10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AutoShape 24"/>
              <p:cNvSpPr/>
              <p:nvPr/>
            </p:nvSpPr>
            <p:spPr>
              <a:xfrm rot="10800000">
                <a:off x="7256880" y="4299840"/>
                <a:ext cx="156240" cy="1803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5"/>
            <p:cNvGrpSpPr/>
            <p:nvPr/>
          </p:nvGrpSpPr>
          <p:grpSpPr>
            <a:xfrm>
              <a:off x="3205440" y="3789360"/>
              <a:ext cx="936000" cy="936000"/>
              <a:chOff x="3205440" y="3789360"/>
              <a:chExt cx="936000" cy="936000"/>
            </a:xfrm>
          </p:grpSpPr>
          <p:pic>
            <p:nvPicPr>
              <p:cNvPr id="359" name="Picture 26" descr="pict044"/>
              <p:cNvPicPr/>
              <p:nvPr/>
            </p:nvPicPr>
            <p:blipFill>
              <a:blip r:embed="rId5"/>
              <a:stretch/>
            </p:blipFill>
            <p:spPr>
              <a:xfrm>
                <a:off x="3205440" y="3789360"/>
                <a:ext cx="93600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AutoShape 27"/>
              <p:cNvSpPr/>
              <p:nvPr/>
            </p:nvSpPr>
            <p:spPr>
              <a:xfrm>
                <a:off x="3585240" y="419616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28"/>
            <p:cNvGrpSpPr/>
            <p:nvPr/>
          </p:nvGrpSpPr>
          <p:grpSpPr>
            <a:xfrm>
              <a:off x="2197080" y="4941720"/>
              <a:ext cx="936360" cy="936360"/>
              <a:chOff x="2197080" y="4941720"/>
              <a:chExt cx="936360" cy="936360"/>
            </a:xfrm>
          </p:grpSpPr>
          <p:pic>
            <p:nvPicPr>
              <p:cNvPr id="362" name="Picture 29" descr="pict044"/>
              <p:cNvPicPr/>
              <p:nvPr/>
            </p:nvPicPr>
            <p:blipFill>
              <a:blip r:embed="rId6"/>
              <a:stretch/>
            </p:blipFill>
            <p:spPr>
              <a:xfrm>
                <a:off x="2197080" y="4941720"/>
                <a:ext cx="93636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AutoShape 30"/>
              <p:cNvSpPr/>
              <p:nvPr/>
            </p:nvSpPr>
            <p:spPr>
              <a:xfrm>
                <a:off x="2576880" y="534888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AutoShape 40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utoShape 41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611280" y="620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Какая из шести масок лишняя?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Чем отличается от других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8368560" y="18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Что лишн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ким общим названием можно заменить оставшиеся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6021360"/>
            <a:ext cx="38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imes New Roman"/>
              </a:rPr>
              <a:t>МНОГОУГОЛЬНИКИ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firs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7"/>
          <p:cNvSpPr/>
          <p:nvPr/>
        </p:nvSpPr>
        <p:spPr>
          <a:xfrm>
            <a:off x="2484360" y="2637000"/>
            <a:ext cx="2232000" cy="6490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8441280" y="25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" dur="2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5"/>
          <p:cNvGrpSpPr/>
          <p:nvPr/>
        </p:nvGrpSpPr>
        <p:grpSpPr>
          <a:xfrm>
            <a:off x="0" y="738360"/>
            <a:ext cx="7561440" cy="6119640"/>
            <a:chOff x="0" y="738360"/>
            <a:chExt cx="7561440" cy="6119640"/>
          </a:xfrm>
        </p:grpSpPr>
        <p:sp>
          <p:nvSpPr>
            <p:cNvPr id="224" name="AutoShape 14"/>
            <p:cNvSpPr/>
            <p:nvPr/>
          </p:nvSpPr>
          <p:spPr>
            <a:xfrm>
              <a:off x="0" y="738360"/>
              <a:ext cx="75614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0" y="738360"/>
              <a:ext cx="75614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31680" y="1827000"/>
              <a:ext cx="2529000" cy="26697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1425600" y="2670120"/>
              <a:ext cx="422280" cy="842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843120" y="3344760"/>
              <a:ext cx="895320" cy="7092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1155600" y="3520800"/>
              <a:ext cx="366840" cy="14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1360440" y="3555720"/>
              <a:ext cx="87480" cy="1537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2041560" y="2565360"/>
              <a:ext cx="216000" cy="167760"/>
            </a:xfrm>
            <a:prstGeom prst="pie">
              <a:avLst/>
            </a:prstGeom>
            <a:noFill/>
            <a:ln w="9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2235240" y="2501640"/>
              <a:ext cx="1058760" cy="252864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1479600" y="4405320"/>
              <a:ext cx="96840" cy="5695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2192400" y="2712960"/>
              <a:ext cx="141120" cy="23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2311560" y="2867040"/>
              <a:ext cx="107640" cy="1900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681120" y="4967280"/>
              <a:ext cx="3163680" cy="17568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28"/>
            <p:cNvSpPr/>
            <p:nvPr/>
          </p:nvSpPr>
          <p:spPr>
            <a:xfrm>
              <a:off x="1533600" y="5641920"/>
              <a:ext cx="1350720" cy="977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29"/>
            <p:cNvSpPr/>
            <p:nvPr/>
          </p:nvSpPr>
          <p:spPr>
            <a:xfrm>
              <a:off x="1479600" y="6092640"/>
              <a:ext cx="141120" cy="2728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30"/>
            <p:cNvSpPr/>
            <p:nvPr/>
          </p:nvSpPr>
          <p:spPr>
            <a:xfrm>
              <a:off x="1544760" y="6084720"/>
              <a:ext cx="1079280" cy="1900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31"/>
            <p:cNvSpPr/>
            <p:nvPr/>
          </p:nvSpPr>
          <p:spPr>
            <a:xfrm>
              <a:off x="712800" y="6632280"/>
              <a:ext cx="1123920" cy="21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32"/>
            <p:cNvSpPr/>
            <p:nvPr/>
          </p:nvSpPr>
          <p:spPr>
            <a:xfrm>
              <a:off x="1901880" y="6597360"/>
              <a:ext cx="301680" cy="2314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2776680" y="6316560"/>
              <a:ext cx="485640" cy="3870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34"/>
            <p:cNvSpPr/>
            <p:nvPr/>
          </p:nvSpPr>
          <p:spPr>
            <a:xfrm>
              <a:off x="744480" y="6351480"/>
              <a:ext cx="746280" cy="48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35"/>
            <p:cNvSpPr/>
            <p:nvPr/>
          </p:nvSpPr>
          <p:spPr>
            <a:xfrm>
              <a:off x="809640" y="6176880"/>
              <a:ext cx="649440" cy="345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36"/>
            <p:cNvSpPr/>
            <p:nvPr/>
          </p:nvSpPr>
          <p:spPr>
            <a:xfrm>
              <a:off x="874800" y="5965560"/>
              <a:ext cx="1652400" cy="77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37"/>
            <p:cNvSpPr/>
            <p:nvPr/>
          </p:nvSpPr>
          <p:spPr>
            <a:xfrm>
              <a:off x="1025640" y="5775120"/>
              <a:ext cx="1373040" cy="633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38"/>
            <p:cNvSpPr/>
            <p:nvPr/>
          </p:nvSpPr>
          <p:spPr>
            <a:xfrm>
              <a:off x="1133640" y="5543280"/>
              <a:ext cx="1750680" cy="210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>
              <a:off x="1220760" y="5389560"/>
              <a:ext cx="1620720" cy="23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40"/>
            <p:cNvSpPr/>
            <p:nvPr/>
          </p:nvSpPr>
          <p:spPr>
            <a:xfrm>
              <a:off x="1231920" y="5199120"/>
              <a:ext cx="1522440" cy="2818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1"/>
            <p:cNvSpPr/>
            <p:nvPr/>
          </p:nvSpPr>
          <p:spPr>
            <a:xfrm>
              <a:off x="2419200" y="5811840"/>
              <a:ext cx="551160" cy="694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42"/>
            <p:cNvSpPr/>
            <p:nvPr/>
          </p:nvSpPr>
          <p:spPr>
            <a:xfrm>
              <a:off x="2689200" y="6021360"/>
              <a:ext cx="442800" cy="709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3"/>
            <p:cNvSpPr/>
            <p:nvPr/>
          </p:nvSpPr>
          <p:spPr>
            <a:xfrm>
              <a:off x="2873520" y="6275160"/>
              <a:ext cx="388800" cy="61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4"/>
            <p:cNvSpPr/>
            <p:nvPr/>
          </p:nvSpPr>
          <p:spPr>
            <a:xfrm>
              <a:off x="3132000" y="6527520"/>
              <a:ext cx="422280" cy="61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5"/>
            <p:cNvSpPr/>
            <p:nvPr/>
          </p:nvSpPr>
          <p:spPr>
            <a:xfrm>
              <a:off x="2884320" y="772920"/>
              <a:ext cx="4633920" cy="2676240"/>
            </a:xfrm>
            <a:prstGeom prst="pie">
              <a:avLst/>
            </a:prstGeom>
            <a:noFill/>
            <a:ln w="1620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5292720" y="2852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№   84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292720" y="3860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ff99"/>
                </a:solidFill>
                <a:uFillTx/>
                <a:latin typeface="Times New Roman"/>
                <a:hlinkClick r:id="rId2" action="ppaction://hlinksldjump"/>
              </a:rPr>
              <a:t>№   855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492360" y="620640"/>
            <a:ext cx="4248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Times New Roman"/>
              </a:rPr>
              <a:t>ПРОВЕРК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Times New Roman"/>
              </a:rPr>
              <a:t>ДОМАШНЕГО ЗАДАНИЯ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47"/>
          <p:cNvSpPr/>
          <p:nvPr/>
        </p:nvSpPr>
        <p:spPr>
          <a:xfrm>
            <a:off x="8513280" y="2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2"/>
          <p:cNvGrpSpPr/>
          <p:nvPr/>
        </p:nvGrpSpPr>
        <p:grpSpPr>
          <a:xfrm>
            <a:off x="179280" y="1341360"/>
            <a:ext cx="3744360" cy="3671280"/>
            <a:chOff x="179280" y="1341360"/>
            <a:chExt cx="3744360" cy="3671280"/>
          </a:xfrm>
        </p:grpSpPr>
        <p:grpSp>
          <p:nvGrpSpPr>
            <p:cNvPr id="260" name="Group 19"/>
            <p:cNvGrpSpPr/>
            <p:nvPr/>
          </p:nvGrpSpPr>
          <p:grpSpPr>
            <a:xfrm>
              <a:off x="179280" y="1341360"/>
              <a:ext cx="3744360" cy="3671280"/>
              <a:chOff x="179280" y="1341360"/>
              <a:chExt cx="3744360" cy="367128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179280" y="1341360"/>
                <a:ext cx="3744360" cy="36712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Oval 6"/>
              <p:cNvSpPr/>
              <p:nvPr/>
            </p:nvSpPr>
            <p:spPr>
              <a:xfrm>
                <a:off x="754560" y="1905840"/>
                <a:ext cx="2592720" cy="2542320"/>
              </a:xfrm>
              <a:prstGeom prst="ellipse">
                <a:avLst/>
              </a:prstGeom>
              <a:solidFill>
                <a:srgbClr val="0068ae"/>
              </a:soli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 flipV="1">
                <a:off x="2001600" y="1967760"/>
                <a:ext cx="442080" cy="123660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 flipV="1">
                <a:off x="2003760" y="2424600"/>
                <a:ext cx="1758600" cy="79488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15"/>
              <p:cNvSpPr/>
              <p:nvPr/>
            </p:nvSpPr>
            <p:spPr>
              <a:xfrm>
                <a:off x="1620720" y="24246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16"/>
            <p:cNvSpPr/>
            <p:nvPr/>
          </p:nvSpPr>
          <p:spPr>
            <a:xfrm>
              <a:off x="2392920" y="2926800"/>
              <a:ext cx="42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175280" y="549360"/>
            <a:ext cx="4968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кольц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 3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кольц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(1,7</a:t>
            </a:r>
            <a:r>
              <a:rPr b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- 1</a:t>
            </a:r>
            <a:r>
              <a:rPr b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(2,89 - 1)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= 3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• 1,89 =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5,67 см</a:t>
            </a:r>
            <a:r>
              <a:rPr b="1" lang="ru-RU" sz="3200" spc="-1" strike="noStrike" baseline="30000">
                <a:solidFill>
                  <a:srgbClr val="a50021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6082" y="10800"/>
                </a:moveTo>
                <a:lnTo>
                  <a:pt x="5577" y="17806"/>
                </a:lnTo>
                <a:lnTo>
                  <a:pt x="5577" y="3794"/>
                </a:lnTo>
                <a:close/>
              </a:path>
              <a:path fill="darken" w="25167" h="21600">
                <a:moveTo>
                  <a:pt x="17928" y="3794"/>
                </a:moveTo>
                <a:lnTo>
                  <a:pt x="17928" y="17806"/>
                </a:lnTo>
                <a:lnTo>
                  <a:pt x="19590" y="17806"/>
                </a:lnTo>
                <a:lnTo>
                  <a:pt x="19590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8441640" y="3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9"/>
          <p:cNvGrpSpPr/>
          <p:nvPr/>
        </p:nvGrpSpPr>
        <p:grpSpPr>
          <a:xfrm>
            <a:off x="324000" y="2060640"/>
            <a:ext cx="3744720" cy="3023640"/>
            <a:chOff x="324000" y="2060640"/>
            <a:chExt cx="3744720" cy="3023640"/>
          </a:xfrm>
        </p:grpSpPr>
        <p:sp>
          <p:nvSpPr>
            <p:cNvPr id="271" name="Rectangle 4"/>
            <p:cNvSpPr/>
            <p:nvPr/>
          </p:nvSpPr>
          <p:spPr>
            <a:xfrm>
              <a:off x="324000" y="2060640"/>
              <a:ext cx="3744720" cy="3023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8"/>
            <p:cNvGrpSpPr/>
            <p:nvPr/>
          </p:nvGrpSpPr>
          <p:grpSpPr>
            <a:xfrm>
              <a:off x="1474920" y="2775960"/>
              <a:ext cx="1440000" cy="1509840"/>
              <a:chOff x="1474920" y="2775960"/>
              <a:chExt cx="1440000" cy="1509840"/>
            </a:xfrm>
          </p:grpSpPr>
          <p:sp>
            <p:nvSpPr>
              <p:cNvPr id="273" name="Oval 5"/>
              <p:cNvSpPr/>
              <p:nvPr/>
            </p:nvSpPr>
            <p:spPr>
              <a:xfrm>
                <a:off x="1474920" y="2775960"/>
                <a:ext cx="1440000" cy="1509840"/>
              </a:xfrm>
              <a:prstGeom prst="ellipse">
                <a:avLst/>
              </a:prstGeom>
              <a:solidFill>
                <a:srgbClr val="0068ae"/>
              </a:soli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6"/>
              <p:cNvSpPr/>
              <p:nvPr/>
            </p:nvSpPr>
            <p:spPr>
              <a:xfrm flipV="1">
                <a:off x="2195640" y="2926440"/>
                <a:ext cx="403200" cy="5641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7"/>
              <p:cNvSpPr/>
              <p:nvPr/>
            </p:nvSpPr>
            <p:spPr>
              <a:xfrm>
                <a:off x="2051280" y="301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284720" y="404280"/>
            <a:ext cx="4535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заштр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 –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= 4 см;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b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м;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заштр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 3 – 3 • 0.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2 – 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0,64 = 12 – 1,92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0,08 с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: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,67 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0,08 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>
            <a:hlinkClick r:id="rId2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8729280" y="18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2"/>
              <p:cNvSpPr txBox="1"/>
              <p:nvPr/>
            </p:nvSpPr>
            <p:spPr>
              <a:xfrm>
                <a:off x="2556000" y="1197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бот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5"/>
              <p:cNvSpPr txBox="1"/>
              <p:nvPr/>
            </p:nvSpPr>
            <p:spPr>
              <a:xfrm>
                <a:off x="2556000" y="2133720"/>
                <a:ext cx="194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бот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Text Box 28"/>
          <p:cNvSpPr/>
          <p:nvPr/>
        </p:nvSpPr>
        <p:spPr>
          <a:xfrm>
            <a:off x="500364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9 ча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5003640" y="2133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ча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0"/>
              <p:cNvSpPr txBox="1"/>
              <p:nvPr/>
            </p:nvSpPr>
            <p:spPr>
              <a:xfrm>
                <a:off x="3132000" y="3213000"/>
                <a:ext cx="2592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31"/>
          <p:cNvSpPr/>
          <p:nvPr/>
        </p:nvSpPr>
        <p:spPr>
          <a:xfrm>
            <a:off x="2195640" y="119700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6732720" y="1125360"/>
            <a:ext cx="0" cy="16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4"/>
              <p:cNvSpPr txBox="1"/>
              <p:nvPr/>
            </p:nvSpPr>
            <p:spPr>
              <a:xfrm>
                <a:off x="250920" y="4365720"/>
                <a:ext cx="4680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5"/>
              <p:cNvSpPr txBox="1"/>
              <p:nvPr/>
            </p:nvSpPr>
            <p:spPr>
              <a:xfrm>
                <a:off x="4859280" y="4653000"/>
                <a:ext cx="3789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Text Box 36"/>
          <p:cNvSpPr/>
          <p:nvPr/>
        </p:nvSpPr>
        <p:spPr>
          <a:xfrm>
            <a:off x="5219640" y="602136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imes New Roman"/>
              </a:rPr>
              <a:t>Ответ:  за 14 час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37">
            <a:hlinkClick r:id="" action="ppaction://hlinkshowjump?jump=firs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38">
            <a:hlinkClick r:id="rId1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8297280" y="401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Повторим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6560" y="1039680"/>
            <a:ext cx="403884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ус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метр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1"/>
          <p:cNvSpPr/>
          <p:nvPr/>
        </p:nvSpPr>
        <p:spPr>
          <a:xfrm>
            <a:off x="6804000" y="396252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42"/>
          <p:cNvSpPr/>
          <p:nvPr/>
        </p:nvSpPr>
        <p:spPr>
          <a:xfrm>
            <a:off x="7740720" y="206064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5867280" y="4941720"/>
            <a:ext cx="648000" cy="64800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44"/>
          <p:cNvSpPr/>
          <p:nvPr/>
        </p:nvSpPr>
        <p:spPr>
          <a:xfrm>
            <a:off x="4932360" y="299736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65"/>
          <p:cNvGrpSpPr/>
          <p:nvPr/>
        </p:nvGrpSpPr>
        <p:grpSpPr>
          <a:xfrm>
            <a:off x="4932360" y="1639800"/>
            <a:ext cx="3456000" cy="3959280"/>
            <a:chOff x="4932360" y="1639800"/>
            <a:chExt cx="3456000" cy="3959280"/>
          </a:xfrm>
        </p:grpSpPr>
        <p:grpSp>
          <p:nvGrpSpPr>
            <p:cNvPr id="301" name="Group 49"/>
            <p:cNvGrpSpPr/>
            <p:nvPr/>
          </p:nvGrpSpPr>
          <p:grpSpPr>
            <a:xfrm>
              <a:off x="4932360" y="2071440"/>
              <a:ext cx="3456000" cy="648000"/>
              <a:chOff x="4932360" y="2071440"/>
              <a:chExt cx="3456000" cy="648000"/>
            </a:xfrm>
          </p:grpSpPr>
          <p:sp>
            <p:nvSpPr>
              <p:cNvPr id="302" name="Oval 4"/>
              <p:cNvSpPr/>
              <p:nvPr/>
            </p:nvSpPr>
            <p:spPr>
              <a:xfrm>
                <a:off x="680400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Oval 5"/>
              <p:cNvSpPr/>
              <p:nvPr/>
            </p:nvSpPr>
            <p:spPr>
              <a:xfrm>
                <a:off x="493236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5867280" y="2071440"/>
                <a:ext cx="64800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774072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Text Box 27"/>
            <p:cNvSpPr/>
            <p:nvPr/>
          </p:nvSpPr>
          <p:spPr>
            <a:xfrm>
              <a:off x="500364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6012000" y="16398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29"/>
            <p:cNvSpPr/>
            <p:nvPr/>
          </p:nvSpPr>
          <p:spPr>
            <a:xfrm>
              <a:off x="694836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30"/>
            <p:cNvSpPr/>
            <p:nvPr/>
          </p:nvSpPr>
          <p:spPr>
            <a:xfrm>
              <a:off x="781200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Group 50"/>
            <p:cNvGrpSpPr/>
            <p:nvPr/>
          </p:nvGrpSpPr>
          <p:grpSpPr>
            <a:xfrm>
              <a:off x="4932360" y="3008160"/>
              <a:ext cx="3456000" cy="647640"/>
              <a:chOff x="4932360" y="3008160"/>
              <a:chExt cx="3456000" cy="647640"/>
            </a:xfrm>
          </p:grpSpPr>
          <p:sp>
            <p:nvSpPr>
              <p:cNvPr id="311" name="Oval 51"/>
              <p:cNvSpPr/>
              <p:nvPr/>
            </p:nvSpPr>
            <p:spPr>
              <a:xfrm>
                <a:off x="680400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Oval 52"/>
              <p:cNvSpPr/>
              <p:nvPr/>
            </p:nvSpPr>
            <p:spPr>
              <a:xfrm>
                <a:off x="493236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Oval 53"/>
              <p:cNvSpPr/>
              <p:nvPr/>
            </p:nvSpPr>
            <p:spPr>
              <a:xfrm>
                <a:off x="5867280" y="300816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Oval 54"/>
              <p:cNvSpPr/>
              <p:nvPr/>
            </p:nvSpPr>
            <p:spPr>
              <a:xfrm>
                <a:off x="774072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55"/>
            <p:cNvGrpSpPr/>
            <p:nvPr/>
          </p:nvGrpSpPr>
          <p:grpSpPr>
            <a:xfrm>
              <a:off x="4932360" y="3971880"/>
              <a:ext cx="3456000" cy="647640"/>
              <a:chOff x="4932360" y="3971880"/>
              <a:chExt cx="3456000" cy="647640"/>
            </a:xfrm>
          </p:grpSpPr>
          <p:sp>
            <p:nvSpPr>
              <p:cNvPr id="316" name="Oval 56"/>
              <p:cNvSpPr/>
              <p:nvPr/>
            </p:nvSpPr>
            <p:spPr>
              <a:xfrm>
                <a:off x="680400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Oval 57"/>
              <p:cNvSpPr/>
              <p:nvPr/>
            </p:nvSpPr>
            <p:spPr>
              <a:xfrm>
                <a:off x="493236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Oval 58"/>
              <p:cNvSpPr/>
              <p:nvPr/>
            </p:nvSpPr>
            <p:spPr>
              <a:xfrm>
                <a:off x="5867280" y="397188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Oval 59"/>
              <p:cNvSpPr/>
              <p:nvPr/>
            </p:nvSpPr>
            <p:spPr>
              <a:xfrm>
                <a:off x="774072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60"/>
            <p:cNvGrpSpPr/>
            <p:nvPr/>
          </p:nvGrpSpPr>
          <p:grpSpPr>
            <a:xfrm>
              <a:off x="4932360" y="4951440"/>
              <a:ext cx="3456000" cy="647640"/>
              <a:chOff x="4932360" y="4951440"/>
              <a:chExt cx="3456000" cy="647640"/>
            </a:xfrm>
          </p:grpSpPr>
          <p:sp>
            <p:nvSpPr>
              <p:cNvPr id="321" name="Oval 61"/>
              <p:cNvSpPr/>
              <p:nvPr/>
            </p:nvSpPr>
            <p:spPr>
              <a:xfrm>
                <a:off x="680400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Oval 62"/>
              <p:cNvSpPr/>
              <p:nvPr/>
            </p:nvSpPr>
            <p:spPr>
              <a:xfrm>
                <a:off x="493236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Oval 63"/>
              <p:cNvSpPr/>
              <p:nvPr/>
            </p:nvSpPr>
            <p:spPr>
              <a:xfrm>
                <a:off x="5867280" y="495144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Oval 64"/>
              <p:cNvSpPr/>
              <p:nvPr/>
            </p:nvSpPr>
            <p:spPr>
              <a:xfrm>
                <a:off x="774072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AutoShape 67">
            <a:hlinkClick r:id="" action="ppaction://hlinkshowjump?jump=nextslide"/>
          </p:cNvPr>
          <p:cNvSpPr/>
          <p:nvPr/>
        </p:nvSpPr>
        <p:spPr>
          <a:xfrm>
            <a:off x="8388360" y="64245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68">
            <a:hlinkClick r:id="rId5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9"/>
          <p:cNvSpPr/>
          <p:nvPr/>
        </p:nvSpPr>
        <p:spPr>
          <a:xfrm>
            <a:off x="8584560" y="114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07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дача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(О Тунгусском метеорите, 1908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аметр опалённой площади тайги от взрыва Тунгусского метеорита равен примерно 38 км. Какая площадь тайги пострадала от метеори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8441640" y="2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дача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йдите площадь ¼ круга, радиус которого 4,4 дм. Число 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руглить до цел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3132000" y="3284640"/>
            <a:ext cx="2735280" cy="2663640"/>
            <a:chOff x="3132000" y="3284640"/>
            <a:chExt cx="2735280" cy="2663640"/>
          </a:xfrm>
        </p:grpSpPr>
        <p:sp>
          <p:nvSpPr>
            <p:cNvPr id="334" name="Oval 4"/>
            <p:cNvSpPr/>
            <p:nvPr/>
          </p:nvSpPr>
          <p:spPr>
            <a:xfrm>
              <a:off x="3132000" y="3284640"/>
              <a:ext cx="2735280" cy="2663640"/>
            </a:xfrm>
            <a:prstGeom prst="ellipse">
              <a:avLst/>
            </a:prstGeom>
            <a:solidFill>
              <a:srgbClr val="008ae8"/>
            </a:solidFill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6300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 flipV="1">
              <a:off x="4500720" y="3573360"/>
              <a:ext cx="863280" cy="100800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4500720" y="378936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8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513280" y="3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9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Задача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ревнегреческий математик Архимед установил, что длина окружности относится к длине диаметра  приближенно  ка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7. Найдите длину окружности, диаметр которой  4,2 д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Picture 10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48000" cy="3313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344" name="Text Box 11"/>
          <p:cNvSpPr/>
          <p:nvPr/>
        </p:nvSpPr>
        <p:spPr>
          <a:xfrm>
            <a:off x="448920" y="18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9:18:19Z</dcterms:created>
  <dc:creator>Школа</dc:creator>
  <dc:description/>
  <dc:language>en-US</dc:language>
  <cp:lastModifiedBy>lef</cp:lastModifiedBy>
  <dcterms:modified xsi:type="dcterms:W3CDTF">2014-03-30T17:39:44Z</dcterms:modified>
  <cp:revision>21</cp:revision>
  <dc:subject/>
  <dc:title>Слайд 1</dc:title>
</cp:coreProperties>
</file>