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FE7-3C4D-4547-9D24-8EEF0564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45D-E0F7-45EE-82AC-3CC480C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86D-236C-4C84-ACC5-B7BA0CD8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881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750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120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881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750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63D-BCD6-44E1-97B7-FFCACDFF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669C-68CA-4E42-B596-12E6FA3F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872-F225-4033-AFE8-BBE89622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FDA5-AFEE-4C24-A9F5-1676BE9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E333-EC75-4AB1-A343-EB9B2360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D23A-1750-4B83-BBAD-E0EAE576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120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2D03-5046-41E5-97AA-55CFF846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540F-87E0-4787-AA0B-B3784425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174-AD83-4994-A5A6-7ABD06AA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8FE0-E507-407E-96A8-0266FA38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EF4E-8379-4DBB-ABF4-BDD234EA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D1EB-A90E-41AF-B830-8DFC0D86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3C4B-7A1F-433E-A216-96DC5939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881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750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120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881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750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F08A-8BA8-4691-BC50-CB94C1B5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838-4629-4CD0-80D6-661D4A2A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B2C-A989-4B40-AC8E-4CA5C044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576-A644-41E8-AFC3-54EBC061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120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062-0470-4B3E-8572-AFEE0BDD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44F-8E2A-4A21-9074-EF6E2BB9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EB1-B309-4ECD-AD0D-76D3458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A17-1A20-44E6-B0A1-3306CED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28B1-6C79-48BC-B32E-E9ABB89BC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62C9-8C59-4C50-9054-ABAA94FF5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601560" y="1928880"/>
            <a:ext cx="563112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 Конституции  Р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761200" y="7491240"/>
            <a:ext cx="35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МОУ «Лицей №10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Миронова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img0.liveinternet.ru/images/attach/c/0/35/755/35755320_t2441b.jpg"/>
          <p:cNvPicPr/>
          <p:nvPr/>
        </p:nvPicPr>
        <p:blipFill>
          <a:blip r:embed="rId1"/>
          <a:stretch/>
        </p:blipFill>
        <p:spPr>
          <a:xfrm>
            <a:off x="63360" y="-136440"/>
            <a:ext cx="971640" cy="1515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1200" y="2133360"/>
            <a:ext cx="61722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6858000" cy="879948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5"/>
          <p:cNvSpPr/>
          <p:nvPr/>
        </p:nvSpPr>
        <p:spPr>
          <a:xfrm>
            <a:off x="293760" y="344520"/>
            <a:ext cx="6107040" cy="2933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12544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имволика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Российской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Федер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b050"/>
                </a:solidFill>
                <a:latin typeface="Arial"/>
              </a:rPr>
              <a:t>Гимн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2133360"/>
            <a:ext cx="57974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ржественная пес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няемая в особо    важных случа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 С.В. Михал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зыка А.В.Александ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Arial"/>
              </a:rPr>
              <a:t>Гер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img0.liveinternet.ru/images/attach/c/0/35/755/35755320_t2441b.jpg"/>
          <p:cNvPicPr/>
          <p:nvPr/>
        </p:nvPicPr>
        <p:blipFill>
          <a:blip r:embed="rId3"/>
          <a:stretch/>
        </p:blipFill>
        <p:spPr>
          <a:xfrm>
            <a:off x="0" y="2089080"/>
            <a:ext cx="6858000" cy="705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Arial"/>
              </a:rPr>
              <a:t>Фла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s42.radikal.ru/i098/0906/88/5b0f1afa1d9b.jpg"/>
          <p:cNvPicPr/>
          <p:nvPr/>
        </p:nvPicPr>
        <p:blipFill>
          <a:blip r:embed="rId3"/>
          <a:stretch/>
        </p:blipFill>
        <p:spPr>
          <a:xfrm>
            <a:off x="407880" y="184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флаг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20680" y="3894120"/>
          <a:ext cx="3657600" cy="22478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6dbef"/>
                      </a:solidFill>
                    </a:lnL>
                    <a:lnR w="5760">
                      <a:solidFill>
                        <a:srgbClr val="d6dbef"/>
                      </a:solidFill>
                    </a:lnR>
                    <a:lnT w="5760">
                      <a:solidFill>
                        <a:srgbClr val="d6dbef"/>
                      </a:solidFill>
                    </a:lnT>
                    <a:lnB w="18720">
                      <a:solidFill>
                        <a:srgbClr val="d6dbe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6dbef"/>
                      </a:solidFill>
                    </a:lnL>
                    <a:lnR w="5760">
                      <a:solidFill>
                        <a:srgbClr val="d6dbef"/>
                      </a:solidFill>
                    </a:lnR>
                    <a:lnT w="18720">
                      <a:solidFill>
                        <a:srgbClr val="d6dbef"/>
                      </a:solidFill>
                    </a:lnT>
                    <a:lnB w="5760">
                      <a:solidFill>
                        <a:srgbClr val="d6dbef"/>
                      </a:solidFill>
                    </a:lnB>
                    <a:solidFill>
                      <a:srgbClr val="f9f7fc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6dbef"/>
                      </a:solidFill>
                    </a:lnL>
                    <a:lnR w="5760">
                      <a:solidFill>
                        <a:srgbClr val="d6dbef"/>
                      </a:solidFill>
                    </a:lnR>
                    <a:lnT w="5760">
                      <a:solidFill>
                        <a:srgbClr val="d6dbef"/>
                      </a:solidFill>
                    </a:lnT>
                    <a:lnB w="5760">
                      <a:solidFill>
                        <a:srgbClr val="d6dbe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pic>
        <p:nvPicPr>
          <p:cNvPr id="142" name="Picture 2" descr="http://staff.washington.edu/jrterry/home/French_flag.jpg"/>
          <p:cNvPicPr/>
          <p:nvPr/>
        </p:nvPicPr>
        <p:blipFill>
          <a:blip r:embed="rId1"/>
          <a:stretch/>
        </p:blipFill>
        <p:spPr>
          <a:xfrm>
            <a:off x="3122640" y="1362240"/>
            <a:ext cx="3449520" cy="224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s42.radikal.ru/i098/0906/88/5b0f1afa1d9b.jpg"/>
          <p:cNvPicPr/>
          <p:nvPr/>
        </p:nvPicPr>
        <p:blipFill>
          <a:blip r:embed="rId2"/>
          <a:stretch/>
        </p:blipFill>
        <p:spPr>
          <a:xfrm>
            <a:off x="0" y="6573960"/>
            <a:ext cx="343368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 , что спрята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img0.liveinternet.ru/images/attach/c/0/35/755/35755320_t2441b.jpg"/>
          <p:cNvPicPr/>
          <p:nvPr/>
        </p:nvPicPr>
        <p:blipFill>
          <a:blip r:embed="rId1"/>
          <a:stretch/>
        </p:blipFill>
        <p:spPr>
          <a:xfrm>
            <a:off x="0" y="2089080"/>
            <a:ext cx="6858000" cy="70549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6"/>
          <p:cNvSpPr/>
          <p:nvPr/>
        </p:nvSpPr>
        <p:spPr>
          <a:xfrm>
            <a:off x="2778120" y="4968720"/>
            <a:ext cx="1344600" cy="1363680"/>
          </a:xfrm>
          <a:prstGeom prst="rect">
            <a:avLst/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7"/>
          <p:cNvSpPr/>
          <p:nvPr/>
        </p:nvSpPr>
        <p:spPr>
          <a:xfrm>
            <a:off x="4778280" y="5072040"/>
            <a:ext cx="1157400" cy="2070000"/>
          </a:xfrm>
          <a:prstGeom prst="ellipse">
            <a:avLst/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8"/>
          <p:cNvSpPr/>
          <p:nvPr/>
        </p:nvSpPr>
        <p:spPr>
          <a:xfrm>
            <a:off x="914400" y="5415120"/>
            <a:ext cx="1239840" cy="2070000"/>
          </a:xfrm>
          <a:prstGeom prst="ellipse">
            <a:avLst/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6680" y="-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ходится в правой лапе орла изображённого на гербе Р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мя человека изображённого на щите, защищающем грудь орла на гербе Р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поражает всадник серебряным  копьем на гербе Р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документ закрепляющий символику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4"/>
          <p:cNvSpPr/>
          <p:nvPr/>
        </p:nvSpPr>
        <p:spPr>
          <a:xfrm>
            <a:off x="534960" y="361800"/>
            <a:ext cx="632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аходится в лап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ла изображё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ербе РФ?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ИПЕТР и ДЕРЖ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мя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ённого на щи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щающем грудь ор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ербе РФ?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ОРГИЙ ПОБЕДОНОС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о поражает вса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яным  копь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ербе РФ?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М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ется док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яющий символику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НСТИТУ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72396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это основной закон нашего государства, который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репляет права и свободы человека и гражданина, столицу государства и государственную символи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678200" y="5710320"/>
            <a:ext cx="1839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96560" y="135216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баллов – вы отлично знаете символику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-3 балла - нужно быть внимательн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ьше 3 баллов - нужно повторить символ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41440" y="3875040"/>
            <a:ext cx="63165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44520" y="429480"/>
            <a:ext cx="61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люди равны перед законом, и каждого из нас защищает государство, через милицию и су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402080" y="5695920"/>
            <a:ext cx="21938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68120" y="789120"/>
            <a:ext cx="6524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вобода сло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ероисповедания и сове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о этому закону все права и свободы, данные нам государством, не должны нарушать 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ущемлять права и свободы других гражда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744720" y="2133360"/>
            <a:ext cx="30286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3886200" y="0"/>
            <a:ext cx="2971800" cy="69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3933720" cy="6953400"/>
          </a:xfrm>
          <a:prstGeom prst="rect">
            <a:avLst/>
          </a:prstGeom>
          <a:ln w="0">
            <a:noFill/>
          </a:ln>
        </p:spPr>
      </p:pic>
      <p:sp>
        <p:nvSpPr>
          <p:cNvPr id="97" name="Овал 6"/>
          <p:cNvSpPr/>
          <p:nvPr/>
        </p:nvSpPr>
        <p:spPr>
          <a:xfrm>
            <a:off x="896760" y="1069920"/>
            <a:ext cx="2899080" cy="13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002120" y="0"/>
            <a:ext cx="2855880" cy="683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4054320" cy="686592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6"/>
          <p:cNvSpPr/>
          <p:nvPr/>
        </p:nvSpPr>
        <p:spPr>
          <a:xfrm>
            <a:off x="258840" y="414360"/>
            <a:ext cx="3122640" cy="1535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3710160" y="0"/>
            <a:ext cx="3147840" cy="816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3830760" cy="811548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6"/>
          <p:cNvSpPr/>
          <p:nvPr/>
        </p:nvSpPr>
        <p:spPr>
          <a:xfrm>
            <a:off x="361800" y="379440"/>
            <a:ext cx="2899080" cy="1552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502080" cy="792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3295800" y="0"/>
            <a:ext cx="3143160" cy="801036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6"/>
          <p:cNvSpPr/>
          <p:nvPr/>
        </p:nvSpPr>
        <p:spPr>
          <a:xfrm>
            <a:off x="293760" y="414360"/>
            <a:ext cx="2898720" cy="2017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744720" y="2133360"/>
            <a:ext cx="30286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484440" cy="686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>
            <a:off x="3519360" y="0"/>
            <a:ext cx="3376800" cy="693576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6"/>
          <p:cNvSpPr/>
          <p:nvPr/>
        </p:nvSpPr>
        <p:spPr>
          <a:xfrm>
            <a:off x="241200" y="311040"/>
            <a:ext cx="3089520" cy="2449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"/>
          <p:cNvSpPr/>
          <p:nvPr/>
        </p:nvSpPr>
        <p:spPr>
          <a:xfrm>
            <a:off x="3959280" y="241200"/>
            <a:ext cx="2898720" cy="13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Admin</cp:lastModifiedBy>
  <dcterms:modified xsi:type="dcterms:W3CDTF">2010-01-29T10:52:10Z</dcterms:modified>
  <cp:revision>12</cp:revision>
  <dc:subject/>
  <dc:title>Слайд 1</dc:title>
</cp:coreProperties>
</file>