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B66F-6868-4CF8-9783-CC67EC82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120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9A24-1F9B-487D-8F94-7D6248BB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120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6380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2FCF-38D9-4BEF-A9F3-B235DC9E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881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750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120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881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750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C92-83BE-4D38-9A9E-52AC41E3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8952-BCEF-4334-8519-0B940186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120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5E32-40FA-46ED-94F6-35CB4DC7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12F7-CC24-4829-A8FB-866F2C42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6748-9151-46B1-9E88-DB197EFA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94F3-BB98-4C7E-8FE0-6C8E3F88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120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1F5A-AC4C-4E9E-B990-F8133165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20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08DD-91ED-46B5-94F7-FC954FC4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120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1F1E-03B9-4C44-AC32-E5157C16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6380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4345-2EDE-4670-8D5C-D4FDC886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120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0EFD-4EF6-4831-922D-6076BD48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120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4C47-9504-4496-9558-E82A91A4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20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76380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810E-DA1D-403D-8808-626CF6A4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881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750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120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6881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7750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9D2A-E8D3-4D44-9515-C164755C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BBF-911F-4D1C-B2B9-1724F149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E373-57A2-4570-AFDE-33D4ABD4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1E3-E01D-4A20-9345-0CBCC21C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120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6BEE-7067-406D-8AC3-09A08640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120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4640-5E40-4499-A6FD-F0762DD6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6380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F78B-2D9E-4AE4-A160-EFF6BB7E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120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5A37-071D-4124-83E0-FEB1206C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120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1319-6CBF-4BFE-80C6-F346CB3C0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120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2607-848B-404A-A174-8CC29B37E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601560" y="1928880"/>
            <a:ext cx="5631120" cy="18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нь  Конституции  РФ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761200" y="7491240"/>
            <a:ext cx="351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МОУ «Лицей №104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Миронова О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http://img0.liveinternet.ru/images/attach/c/0/35/755/35755320_t2441b.jpg"/>
          <p:cNvPicPr/>
          <p:nvPr/>
        </p:nvPicPr>
        <p:blipFill>
          <a:blip r:embed="rId1"/>
          <a:stretch/>
        </p:blipFill>
        <p:spPr>
          <a:xfrm>
            <a:off x="63360" y="-136440"/>
            <a:ext cx="971640" cy="1515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1200" y="2133360"/>
            <a:ext cx="61722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560" y="2133360"/>
            <a:ext cx="3029040" cy="6033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744720" y="2133360"/>
            <a:ext cx="3028680" cy="6033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6858000" cy="8799480"/>
          </a:xfrm>
          <a:prstGeom prst="rect">
            <a:avLst/>
          </a:prstGeom>
          <a:ln w="0">
            <a:noFill/>
          </a:ln>
        </p:spPr>
      </p:pic>
      <p:sp>
        <p:nvSpPr>
          <p:cNvPr id="127" name="Овал 5"/>
          <p:cNvSpPr/>
          <p:nvPr/>
        </p:nvSpPr>
        <p:spPr>
          <a:xfrm>
            <a:off x="293760" y="344520"/>
            <a:ext cx="6107040" cy="2933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12544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Символика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 Российской 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Федерац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00b050"/>
                </a:solidFill>
                <a:latin typeface="Arial"/>
              </a:rPr>
              <a:t>Гимн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2133360"/>
            <a:ext cx="579744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ржественная песн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няемая в особо    важных случа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ва С.В. Михалк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узыка А.В.Александр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b050"/>
                </a:solidFill>
                <a:latin typeface="Arial"/>
              </a:rPr>
              <a:t>Гер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560" y="2133360"/>
            <a:ext cx="3029040" cy="6033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744720" y="2133360"/>
            <a:ext cx="3028680" cy="6033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http://img0.liveinternet.ru/images/attach/c/0/35/755/35755320_t2441b.jpg"/>
          <p:cNvPicPr/>
          <p:nvPr/>
        </p:nvPicPr>
        <p:blipFill>
          <a:blip r:embed="rId3"/>
          <a:stretch/>
        </p:blipFill>
        <p:spPr>
          <a:xfrm>
            <a:off x="0" y="2089080"/>
            <a:ext cx="6858000" cy="705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b050"/>
                </a:solidFill>
                <a:latin typeface="Arial"/>
              </a:rPr>
              <a:t>Фла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1560" y="2133360"/>
            <a:ext cx="3029040" cy="6033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744720" y="2133360"/>
            <a:ext cx="3028680" cy="6033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http://s42.radikal.ru/i098/0906/88/5b0f1afa1d9b.jpg"/>
          <p:cNvPicPr/>
          <p:nvPr/>
        </p:nvPicPr>
        <p:blipFill>
          <a:blip r:embed="rId3"/>
          <a:stretch/>
        </p:blipFill>
        <p:spPr>
          <a:xfrm>
            <a:off x="407880" y="1847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ди флаг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20680" y="3894120"/>
          <a:ext cx="3657600" cy="224784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6dbef"/>
                      </a:solidFill>
                    </a:lnL>
                    <a:lnR w="5760">
                      <a:solidFill>
                        <a:srgbClr val="d6dbef"/>
                      </a:solidFill>
                    </a:lnR>
                    <a:lnT w="5760">
                      <a:solidFill>
                        <a:srgbClr val="d6dbef"/>
                      </a:solidFill>
                    </a:lnT>
                    <a:lnB w="18720">
                      <a:solidFill>
                        <a:srgbClr val="d6dbe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6dbef"/>
                      </a:solidFill>
                    </a:lnL>
                    <a:lnR w="5760">
                      <a:solidFill>
                        <a:srgbClr val="d6dbef"/>
                      </a:solidFill>
                    </a:lnR>
                    <a:lnT w="18720">
                      <a:solidFill>
                        <a:srgbClr val="d6dbef"/>
                      </a:solidFill>
                    </a:lnT>
                    <a:lnB w="5760">
                      <a:solidFill>
                        <a:srgbClr val="d6dbef"/>
                      </a:solidFill>
                    </a:lnB>
                    <a:solidFill>
                      <a:srgbClr val="f9f7fc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6dbef"/>
                      </a:solidFill>
                    </a:lnL>
                    <a:lnR w="5760">
                      <a:solidFill>
                        <a:srgbClr val="d6dbef"/>
                      </a:solidFill>
                    </a:lnR>
                    <a:lnT w="5760">
                      <a:solidFill>
                        <a:srgbClr val="d6dbef"/>
                      </a:solidFill>
                    </a:lnT>
                    <a:lnB w="5760">
                      <a:solidFill>
                        <a:srgbClr val="d6dbef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pic>
        <p:nvPicPr>
          <p:cNvPr id="142" name="Picture 2" descr="http://staff.washington.edu/jrterry/home/French_flag.jpg"/>
          <p:cNvPicPr/>
          <p:nvPr/>
        </p:nvPicPr>
        <p:blipFill>
          <a:blip r:embed="rId1"/>
          <a:stretch/>
        </p:blipFill>
        <p:spPr>
          <a:xfrm>
            <a:off x="3122640" y="1362240"/>
            <a:ext cx="3449520" cy="2244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http://s42.radikal.ru/i098/0906/88/5b0f1afa1d9b.jpg"/>
          <p:cNvPicPr/>
          <p:nvPr/>
        </p:nvPicPr>
        <p:blipFill>
          <a:blip r:embed="rId2"/>
          <a:stretch/>
        </p:blipFill>
        <p:spPr>
          <a:xfrm>
            <a:off x="0" y="6573960"/>
            <a:ext cx="343368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и , что спрятан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http://img0.liveinternet.ru/images/attach/c/0/35/755/35755320_t2441b.jpg"/>
          <p:cNvPicPr/>
          <p:nvPr/>
        </p:nvPicPr>
        <p:blipFill>
          <a:blip r:embed="rId1"/>
          <a:stretch/>
        </p:blipFill>
        <p:spPr>
          <a:xfrm>
            <a:off x="0" y="2089080"/>
            <a:ext cx="6858000" cy="705492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6"/>
          <p:cNvSpPr/>
          <p:nvPr/>
        </p:nvSpPr>
        <p:spPr>
          <a:xfrm>
            <a:off x="2778120" y="4968720"/>
            <a:ext cx="1344600" cy="1363680"/>
          </a:xfrm>
          <a:prstGeom prst="rect">
            <a:avLst/>
          </a:prstGeom>
          <a:solidFill>
            <a:srgbClr val="efebf7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7"/>
          <p:cNvSpPr/>
          <p:nvPr/>
        </p:nvSpPr>
        <p:spPr>
          <a:xfrm>
            <a:off x="4778280" y="5072040"/>
            <a:ext cx="1157400" cy="2070000"/>
          </a:xfrm>
          <a:prstGeom prst="ellipse">
            <a:avLst/>
          </a:prstGeom>
          <a:solidFill>
            <a:srgbClr val="efebf7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8"/>
          <p:cNvSpPr/>
          <p:nvPr/>
        </p:nvSpPr>
        <p:spPr>
          <a:xfrm>
            <a:off x="914400" y="5415120"/>
            <a:ext cx="1239840" cy="2070000"/>
          </a:xfrm>
          <a:prstGeom prst="ellipse">
            <a:avLst/>
          </a:prstGeom>
          <a:solidFill>
            <a:srgbClr val="efebf7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ь на вопро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6680" y="-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аходится в правой лапе орла изображённого на гербе РФ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имя человека изображённого на щите, защищающем грудь орла на гербе РФ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о поражает всадник серебряным  копьем на гербе РФ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документ закрепляющий символику государ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4"/>
          <p:cNvSpPr/>
          <p:nvPr/>
        </p:nvSpPr>
        <p:spPr>
          <a:xfrm>
            <a:off x="534960" y="361800"/>
            <a:ext cx="6323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находится в лап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ла изображё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гербе РФ?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ИПЕТР и ДЕРЖ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имя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ажённого на щи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щищающем грудь ор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гербе РФ?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ГЕОРГИЙ ПОБЕДОНОС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о поражает всад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ебряным  копь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гербе РФ?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М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называется доку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репляющий символику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ОНСТИТУ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82948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723960"/>
            <a:ext cx="685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Конституция Российской Федерации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это основной закон нашего государства, который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закрепляет права и свободы человека и гражданина, столицу государства и государственную символик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4678200" y="5710320"/>
            <a:ext cx="18399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цени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096560" y="135216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 баллов – вы отлично знаете символику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-3 балла - нужно быть внимательн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ньше 3 баллов - нужно повторить символ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41440" y="3875040"/>
            <a:ext cx="631656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44520" y="429480"/>
            <a:ext cx="615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р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 Конституции нашей страны мы имеем право на жизнь, имеем право выбирать профессию, имеем право на отдых, жилье и медицинскую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се люди равны перед законом, и каждого из нас защищает государство, через милицию и су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4402080" y="5695920"/>
            <a:ext cx="219384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68120" y="789120"/>
            <a:ext cx="652464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ши свобо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–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свобода слов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вероисповедания и совес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По этому закону все права и свободы, данные нам государством, не должны нарушать 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ущемлять права и свободы других граждан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1560" y="2133360"/>
            <a:ext cx="3029040" cy="6033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744720" y="2133360"/>
            <a:ext cx="302868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3886200" y="0"/>
            <a:ext cx="2971800" cy="6932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3933720" cy="6953400"/>
          </a:xfrm>
          <a:prstGeom prst="rect">
            <a:avLst/>
          </a:prstGeom>
          <a:ln w="0">
            <a:noFill/>
          </a:ln>
        </p:spPr>
      </p:pic>
      <p:sp>
        <p:nvSpPr>
          <p:cNvPr id="97" name="Овал 6"/>
          <p:cNvSpPr/>
          <p:nvPr/>
        </p:nvSpPr>
        <p:spPr>
          <a:xfrm>
            <a:off x="896760" y="1069920"/>
            <a:ext cx="2899080" cy="1346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1560" y="2133360"/>
            <a:ext cx="3029040" cy="6033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744720" y="2133360"/>
            <a:ext cx="3028680" cy="6033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>
            <a:off x="4002120" y="0"/>
            <a:ext cx="2855880" cy="6832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4054320" cy="6865920"/>
          </a:xfrm>
          <a:prstGeom prst="rect">
            <a:avLst/>
          </a:prstGeom>
          <a:ln w="0">
            <a:noFill/>
          </a:ln>
        </p:spPr>
      </p:pic>
      <p:sp>
        <p:nvSpPr>
          <p:cNvPr id="103" name="Овал 6"/>
          <p:cNvSpPr/>
          <p:nvPr/>
        </p:nvSpPr>
        <p:spPr>
          <a:xfrm>
            <a:off x="258840" y="414360"/>
            <a:ext cx="3122640" cy="1535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1560" y="2133360"/>
            <a:ext cx="3029040" cy="6033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744720" y="2133360"/>
            <a:ext cx="3028680" cy="6033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3710160" y="0"/>
            <a:ext cx="3147840" cy="8169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3830760" cy="8115480"/>
          </a:xfrm>
          <a:prstGeom prst="rect">
            <a:avLst/>
          </a:prstGeom>
          <a:ln w="0">
            <a:noFill/>
          </a:ln>
        </p:spPr>
      </p:pic>
      <p:sp>
        <p:nvSpPr>
          <p:cNvPr id="109" name="Овал 6"/>
          <p:cNvSpPr/>
          <p:nvPr/>
        </p:nvSpPr>
        <p:spPr>
          <a:xfrm>
            <a:off x="361800" y="379440"/>
            <a:ext cx="2899080" cy="1552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1560" y="2133360"/>
            <a:ext cx="3029040" cy="6033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744720" y="2133360"/>
            <a:ext cx="3028680" cy="6033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3502080" cy="7924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4"/>
          <a:stretch/>
        </p:blipFill>
        <p:spPr>
          <a:xfrm>
            <a:off x="3295800" y="0"/>
            <a:ext cx="3143160" cy="8010360"/>
          </a:xfrm>
          <a:prstGeom prst="rect">
            <a:avLst/>
          </a:prstGeom>
          <a:ln w="0">
            <a:noFill/>
          </a:ln>
        </p:spPr>
      </p:pic>
      <p:sp>
        <p:nvSpPr>
          <p:cNvPr id="115" name="Овал 6"/>
          <p:cNvSpPr/>
          <p:nvPr/>
        </p:nvSpPr>
        <p:spPr>
          <a:xfrm>
            <a:off x="293760" y="414360"/>
            <a:ext cx="2898720" cy="2017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1560" y="2133360"/>
            <a:ext cx="3029040" cy="6033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3744720" y="2133360"/>
            <a:ext cx="302868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3484440" cy="686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3"/>
          <a:stretch/>
        </p:blipFill>
        <p:spPr>
          <a:xfrm>
            <a:off x="3519360" y="0"/>
            <a:ext cx="3376800" cy="6935760"/>
          </a:xfrm>
          <a:prstGeom prst="rect">
            <a:avLst/>
          </a:prstGeom>
          <a:ln w="0">
            <a:noFill/>
          </a:ln>
        </p:spPr>
      </p:pic>
      <p:sp>
        <p:nvSpPr>
          <p:cNvPr id="121" name="Овал 6"/>
          <p:cNvSpPr/>
          <p:nvPr/>
        </p:nvSpPr>
        <p:spPr>
          <a:xfrm>
            <a:off x="241200" y="311040"/>
            <a:ext cx="3089520" cy="2449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7"/>
          <p:cNvSpPr/>
          <p:nvPr/>
        </p:nvSpPr>
        <p:spPr>
          <a:xfrm>
            <a:off x="3959280" y="241200"/>
            <a:ext cx="2898720" cy="1346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Admin</cp:lastModifiedBy>
  <dcterms:modified xsi:type="dcterms:W3CDTF">2010-01-29T10:52:10Z</dcterms:modified>
  <cp:revision>12</cp:revision>
  <dc:subject/>
  <dc:title>Слайд 1</dc:title>
</cp:coreProperties>
</file>