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4F2-96AE-4FAC-A6B3-F0830F64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D0A-32D0-4A39-81D6-09960B1E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AD6-B01A-4F6A-A5BD-4572081E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881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750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120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881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750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E57-3A2F-4F67-9F10-DE591468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ADCD-D436-4CCC-96E3-3BC00FDC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E7ED-DB71-4A0E-941F-D6914702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CD91-1577-417C-9AFF-F4875F1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FFA0-1F56-4FB6-A3E9-B049E190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D79A-0228-4234-BD6E-97B06791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120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1DD3-C9E4-4521-BAA6-CB2E64F0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61BE-6DB1-46D5-8043-77703D55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380-060F-43C2-87D8-1B2CC103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6857-ED3D-49FC-891C-2BD5A1A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6A8B-5CB5-4B91-86F0-5E814E6E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D8E0-151A-467D-95C7-EC5A7C77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2045-F347-4549-B795-9A05E065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881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750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120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881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750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9346-600C-4BF5-AF92-45BEC980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9BB-715E-4074-9503-8D04F72A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1FE-62AD-4003-9315-8CA8B23C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635-28D9-4AA0-B895-024306D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120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799-9756-4D4F-A5D1-E309BC8E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439-7E2C-4109-835B-AA4FF306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6380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85F-48FB-47B5-92E1-5406E7A5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12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6380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120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781-AD68-4F7B-99FE-311A1C8E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16D9-C469-4569-BF7C-DFF2F450D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120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8A92-C0BD-428C-B250-B3E51E637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601560" y="1928880"/>
            <a:ext cx="563112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 Конституции  Р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761200" y="7491240"/>
            <a:ext cx="35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МОУ «Лицей №10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Миронова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img0.liveinternet.ru/images/attach/c/0/35/755/35755320_t2441b.jpg"/>
          <p:cNvPicPr/>
          <p:nvPr/>
        </p:nvPicPr>
        <p:blipFill>
          <a:blip r:embed="rId1"/>
          <a:stretch/>
        </p:blipFill>
        <p:spPr>
          <a:xfrm>
            <a:off x="63360" y="-136440"/>
            <a:ext cx="971640" cy="1515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1200" y="2133360"/>
            <a:ext cx="61722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6858000" cy="879948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5"/>
          <p:cNvSpPr/>
          <p:nvPr/>
        </p:nvSpPr>
        <p:spPr>
          <a:xfrm>
            <a:off x="293760" y="344520"/>
            <a:ext cx="6107040" cy="2933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12544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имволика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Российской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Федер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b050"/>
                </a:solidFill>
                <a:latin typeface="Arial"/>
              </a:rPr>
              <a:t>Гимн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2133360"/>
            <a:ext cx="57974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ржественная пес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няемая в особо    важных случа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 С.В. Михал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зыка А.В.Александ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Arial"/>
              </a:rPr>
              <a:t>Гер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img0.liveinternet.ru/images/attach/c/0/35/755/35755320_t2441b.jpg"/>
          <p:cNvPicPr/>
          <p:nvPr/>
        </p:nvPicPr>
        <p:blipFill>
          <a:blip r:embed="rId3"/>
          <a:stretch/>
        </p:blipFill>
        <p:spPr>
          <a:xfrm>
            <a:off x="0" y="2089080"/>
            <a:ext cx="6858000" cy="705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Arial"/>
              </a:rPr>
              <a:t>Фла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s42.radikal.ru/i098/0906/88/5b0f1afa1d9b.jpg"/>
          <p:cNvPicPr/>
          <p:nvPr/>
        </p:nvPicPr>
        <p:blipFill>
          <a:blip r:embed="rId3"/>
          <a:stretch/>
        </p:blipFill>
        <p:spPr>
          <a:xfrm>
            <a:off x="407880" y="184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флаг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20680" y="3894120"/>
          <a:ext cx="3657600" cy="22478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6dbef"/>
                      </a:solidFill>
                    </a:lnL>
                    <a:lnR w="5760">
                      <a:solidFill>
                        <a:srgbClr val="d6dbef"/>
                      </a:solidFill>
                    </a:lnR>
                    <a:lnT w="5760">
                      <a:solidFill>
                        <a:srgbClr val="d6dbef"/>
                      </a:solidFill>
                    </a:lnT>
                    <a:lnB w="18720">
                      <a:solidFill>
                        <a:srgbClr val="d6dbe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6dbef"/>
                      </a:solidFill>
                    </a:lnL>
                    <a:lnR w="5760">
                      <a:solidFill>
                        <a:srgbClr val="d6dbef"/>
                      </a:solidFill>
                    </a:lnR>
                    <a:lnT w="18720">
                      <a:solidFill>
                        <a:srgbClr val="d6dbef"/>
                      </a:solidFill>
                    </a:lnT>
                    <a:lnB w="5760">
                      <a:solidFill>
                        <a:srgbClr val="d6dbef"/>
                      </a:solidFill>
                    </a:lnB>
                    <a:solidFill>
                      <a:srgbClr val="f9f7fc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6dbef"/>
                      </a:solidFill>
                    </a:lnL>
                    <a:lnR w="5760">
                      <a:solidFill>
                        <a:srgbClr val="d6dbef"/>
                      </a:solidFill>
                    </a:lnR>
                    <a:lnT w="5760">
                      <a:solidFill>
                        <a:srgbClr val="d6dbef"/>
                      </a:solidFill>
                    </a:lnT>
                    <a:lnB w="5760">
                      <a:solidFill>
                        <a:srgbClr val="d6dbe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pic>
        <p:nvPicPr>
          <p:cNvPr id="142" name="Picture 2" descr="http://staff.washington.edu/jrterry/home/French_flag.jpg"/>
          <p:cNvPicPr/>
          <p:nvPr/>
        </p:nvPicPr>
        <p:blipFill>
          <a:blip r:embed="rId1"/>
          <a:stretch/>
        </p:blipFill>
        <p:spPr>
          <a:xfrm>
            <a:off x="3122640" y="1362240"/>
            <a:ext cx="3449520" cy="224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s42.radikal.ru/i098/0906/88/5b0f1afa1d9b.jpg"/>
          <p:cNvPicPr/>
          <p:nvPr/>
        </p:nvPicPr>
        <p:blipFill>
          <a:blip r:embed="rId2"/>
          <a:stretch/>
        </p:blipFill>
        <p:spPr>
          <a:xfrm>
            <a:off x="0" y="6573960"/>
            <a:ext cx="343368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 , что спрята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img0.liveinternet.ru/images/attach/c/0/35/755/35755320_t2441b.jpg"/>
          <p:cNvPicPr/>
          <p:nvPr/>
        </p:nvPicPr>
        <p:blipFill>
          <a:blip r:embed="rId1"/>
          <a:stretch/>
        </p:blipFill>
        <p:spPr>
          <a:xfrm>
            <a:off x="0" y="2089080"/>
            <a:ext cx="6858000" cy="70549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6"/>
          <p:cNvSpPr/>
          <p:nvPr/>
        </p:nvSpPr>
        <p:spPr>
          <a:xfrm>
            <a:off x="2778120" y="4968720"/>
            <a:ext cx="1344600" cy="1363680"/>
          </a:xfrm>
          <a:prstGeom prst="rect">
            <a:avLst/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7"/>
          <p:cNvSpPr/>
          <p:nvPr/>
        </p:nvSpPr>
        <p:spPr>
          <a:xfrm>
            <a:off x="4778280" y="5072040"/>
            <a:ext cx="1157400" cy="2070000"/>
          </a:xfrm>
          <a:prstGeom prst="ellipse">
            <a:avLst/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8"/>
          <p:cNvSpPr/>
          <p:nvPr/>
        </p:nvSpPr>
        <p:spPr>
          <a:xfrm>
            <a:off x="914400" y="5415120"/>
            <a:ext cx="1239840" cy="2070000"/>
          </a:xfrm>
          <a:prstGeom prst="ellipse">
            <a:avLst/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6680" y="-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ходится в правой лапе орла изображённого на гербе Р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мя человека изображённого на щите, защищающем грудь орла на гербе Р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поражает всадник серебряным  копьем на гербе Р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документ закрепляющий символику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4"/>
          <p:cNvSpPr/>
          <p:nvPr/>
        </p:nvSpPr>
        <p:spPr>
          <a:xfrm>
            <a:off x="534960" y="361800"/>
            <a:ext cx="632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аходится в лап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ла изображё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ербе РФ?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ИПЕТР и ДЕРЖ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мя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ённого на щи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щающем грудь ор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ербе РФ?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ОРГИЙ ПОБЕДОНОС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о поражает вса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яным  копь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ербе РФ?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М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ется док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яющий символику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НСТИТУ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72396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это основной закон нашего государства, который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репляет права и свободы человека и гражданина, столицу государства и государственную символи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678200" y="5710320"/>
            <a:ext cx="1839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96560" y="135216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баллов – вы отлично знаете символику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-3 балла - нужно быть внимательн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ьше 3 баллов - нужно повторить символ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41440" y="3875040"/>
            <a:ext cx="63165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44520" y="429480"/>
            <a:ext cx="61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люди равны перед законом, и каждого из нас защищает государство, через милицию и су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402080" y="5695920"/>
            <a:ext cx="21938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68120" y="789120"/>
            <a:ext cx="6524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вобода сло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ероисповедания и сове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о этому закону все права и свободы, данные нам государством, не должны нарушать 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ущемлять права и свободы других гражда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744720" y="2133360"/>
            <a:ext cx="30286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3886200" y="0"/>
            <a:ext cx="2971800" cy="69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3933720" cy="6953400"/>
          </a:xfrm>
          <a:prstGeom prst="rect">
            <a:avLst/>
          </a:prstGeom>
          <a:ln w="0">
            <a:noFill/>
          </a:ln>
        </p:spPr>
      </p:pic>
      <p:sp>
        <p:nvSpPr>
          <p:cNvPr id="97" name="Овал 6"/>
          <p:cNvSpPr/>
          <p:nvPr/>
        </p:nvSpPr>
        <p:spPr>
          <a:xfrm>
            <a:off x="896760" y="1069920"/>
            <a:ext cx="2899080" cy="13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002120" y="0"/>
            <a:ext cx="2855880" cy="683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4054320" cy="686592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6"/>
          <p:cNvSpPr/>
          <p:nvPr/>
        </p:nvSpPr>
        <p:spPr>
          <a:xfrm>
            <a:off x="258840" y="414360"/>
            <a:ext cx="3122640" cy="1535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3710160" y="0"/>
            <a:ext cx="3147840" cy="816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3830760" cy="811548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6"/>
          <p:cNvSpPr/>
          <p:nvPr/>
        </p:nvSpPr>
        <p:spPr>
          <a:xfrm>
            <a:off x="361800" y="379440"/>
            <a:ext cx="2899080" cy="1552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744720" y="2133360"/>
            <a:ext cx="3028680" cy="603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502080" cy="792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3295800" y="0"/>
            <a:ext cx="3143160" cy="801036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6"/>
          <p:cNvSpPr/>
          <p:nvPr/>
        </p:nvSpPr>
        <p:spPr>
          <a:xfrm>
            <a:off x="293760" y="414360"/>
            <a:ext cx="2898720" cy="2017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120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1560" y="2133360"/>
            <a:ext cx="3029040" cy="6033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744720" y="2133360"/>
            <a:ext cx="30286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484440" cy="686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>
            <a:off x="3519360" y="0"/>
            <a:ext cx="3376800" cy="693576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6"/>
          <p:cNvSpPr/>
          <p:nvPr/>
        </p:nvSpPr>
        <p:spPr>
          <a:xfrm>
            <a:off x="241200" y="311040"/>
            <a:ext cx="3089520" cy="2449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"/>
          <p:cNvSpPr/>
          <p:nvPr/>
        </p:nvSpPr>
        <p:spPr>
          <a:xfrm>
            <a:off x="3959280" y="241200"/>
            <a:ext cx="2898720" cy="13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Admin</cp:lastModifiedBy>
  <dcterms:modified xsi:type="dcterms:W3CDTF">2010-01-29T10:52:10Z</dcterms:modified>
  <cp:revision>12</cp:revision>
  <dc:subject/>
  <dc:title>Слайд 1</dc:title>
</cp:coreProperties>
</file>