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986-0A41-4950-BA58-751BCC11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0F27-97E7-4295-BAB1-C26E552F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8469-AAD5-40E7-A41E-EB2BF10B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0570-6265-46DC-9AC8-BB6596E1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1A32-D94B-4C67-B201-3BCEC6A0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845A-D50E-4D33-AD7F-5F28764E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F9C1-0C45-4F4A-ADF2-3F32EA9C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CC31-549C-4CCD-912D-D0B12A88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4BE4-B698-4D32-963E-F523BD88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46A5-F059-4E5C-9A88-404616CD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B163-D2AA-4D29-B843-CDC7E857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EC2-770F-4C2B-BD87-782D159C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5B29-E8EA-4E54-BB95-2BF350ED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A5DE-861E-4268-A696-F077E998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AD09-3C11-4581-A5DF-F7DC4FF3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8337-1389-4033-AADD-BB290B85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F44C-221A-4E70-9267-CB8C61C1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E9C5-6544-41D0-9682-1DA9F211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78F7-95BA-449F-9228-0D93456E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CE9-4682-424A-B70A-48046CA5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F8E-AFC9-402A-8696-12C4442C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4218-52F0-40D7-B22C-9DF56EAF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2E9-0B03-490D-9CFF-CA69F8FD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ACE6-E340-43BD-B464-BF58B622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A3C8-944C-4581-89F0-C1DC2341D6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4BEB-A8FD-43A0-B3CB-D867D0CC0B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математики МБОУ – Липницкая средняя общеобразовательная шко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идина Наталья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WordArt 2"/>
          <p:cNvGrpSpPr/>
          <p:nvPr/>
        </p:nvGrpSpPr>
        <p:grpSpPr>
          <a:xfrm>
            <a:off x="1292400" y="755640"/>
            <a:ext cx="6486480" cy="2682720"/>
            <a:chOff x="1292400" y="755640"/>
            <a:chExt cx="6486480" cy="2682720"/>
          </a:xfrm>
        </p:grpSpPr>
        <p:pic>
          <p:nvPicPr>
            <p:cNvPr id="100" name="WordArt 2" descr=""/>
            <p:cNvPicPr/>
            <p:nvPr/>
          </p:nvPicPr>
          <p:blipFill>
            <a:blip r:embed="rId1"/>
            <a:stretch/>
          </p:blipFill>
          <p:spPr>
            <a:xfrm>
              <a:off x="1292400" y="755640"/>
              <a:ext cx="6486480" cy="26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295280" y="762120"/>
              <a:ext cx="647712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нспект  урок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 математике в 6 класс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 тему "Деление"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3"/>
          <p:cNvSpPr/>
          <p:nvPr/>
        </p:nvSpPr>
        <p:spPr>
          <a:xfrm>
            <a:off x="914400" y="3808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янская область Севский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066680" y="304920"/>
            <a:ext cx="7010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к при решении прим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1828800" y="5105520"/>
                <a:ext cx="56386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Text Box 7"/>
          <p:cNvSpPr/>
          <p:nvPr/>
        </p:nvSpPr>
        <p:spPr>
          <a:xfrm>
            <a:off x="838080" y="28195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устил ошибку. В чем причина ошибки уче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1828800" y="1143000"/>
                <a:ext cx="548640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Text Box 12"/>
          <p:cNvSpPr/>
          <p:nvPr/>
        </p:nvSpPr>
        <p:spPr>
          <a:xfrm>
            <a:off x="1752480" y="44956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Правильный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ыберите из списка те примеры, которые могли бы реш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6"/>
              <p:cNvSpPr txBox="1"/>
              <p:nvPr/>
            </p:nvSpPr>
            <p:spPr>
              <a:xfrm>
                <a:off x="685800" y="1739880"/>
                <a:ext cx="7848720" cy="488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ν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  7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8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9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27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: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7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AutoShape 8"/>
          <p:cNvSpPr/>
          <p:nvPr/>
        </p:nvSpPr>
        <p:spPr>
          <a:xfrm>
            <a:off x="2895480" y="1981080"/>
            <a:ext cx="381240" cy="381240"/>
          </a:xfrm>
          <a:prstGeom prst="flowChartOr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4038480" y="3962520"/>
            <a:ext cx="381240" cy="380880"/>
          </a:xfrm>
          <a:prstGeom prst="flowChartOr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3733920" y="5029200"/>
            <a:ext cx="380880" cy="380880"/>
          </a:xfrm>
          <a:prstGeom prst="flowChartOr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7238880" y="1981080"/>
            <a:ext cx="381240" cy="381240"/>
          </a:xfrm>
          <a:prstGeom prst="flowChartOr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7086600" y="2895480"/>
            <a:ext cx="380880" cy="381240"/>
          </a:xfrm>
          <a:prstGeom prst="flowChartOr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7010280" y="3886200"/>
            <a:ext cx="381240" cy="380880"/>
          </a:xfrm>
          <a:prstGeom prst="flowChartOr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3200400" y="2819520"/>
            <a:ext cx="380880" cy="380880"/>
          </a:xfrm>
          <a:prstGeom prst="flowChartOr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685800" y="196920"/>
                <a:ext cx="8077320" cy="647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m</m:t>
                            </m:r>
                            <m:r>
                              <m:t xml:space="preserve">⋅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ν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Итоги 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им правилом мы сегодня познаком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формулируется это прави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ользуемся этим правил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писать дробь, обратную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писать дробь, обратную натуральному числ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писать дробь, обратную смешанному числ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полняется деление смешанных чисе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6705720" y="2819520"/>
                <a:ext cx="384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Пункт 17 (выучить правило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617 (а; б; в), №618(а; в) стр. 97 учебни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617 (а; б; в) – выполните делени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618(а; в) – найдите значение выра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Проверка домашнего зад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76 (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; г; 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полните дейст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685800" y="2666880"/>
                <a:ext cx="5943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685800" y="4038480"/>
                <a:ext cx="586728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8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609480" y="5415120"/>
                <a:ext cx="83822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2</m:t>
                    </m:r>
                    <m:r>
                      <m:t xml:space="preserve">+</m:t>
                    </m:r>
                    <m:r>
                      <m:t xml:space="preserve">0,4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Проверка домашнего зад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8,57 – 108,57:((60,4-57,6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(3,6+3,45))=203,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99"/>
                </a:solidFill>
                <a:latin typeface="Arial"/>
                <a:ea typeface="Arial"/>
              </a:rPr>
              <a:t>1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_60,4   </a:t>
            </a:r>
            <a:r>
              <a:rPr b="0" i="1" lang="ru-RU" sz="3200" spc="-1" strike="noStrike">
                <a:solidFill>
                  <a:srgbClr val="ff6699"/>
                </a:solidFill>
                <a:latin typeface="Arial"/>
                <a:ea typeface="Arial"/>
              </a:rPr>
              <a:t>2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_3,60  </a:t>
            </a:r>
            <a:r>
              <a:rPr b="1" lang="ru-RU" sz="3200" spc="-1" strike="noStrike">
                <a:solidFill>
                  <a:srgbClr val="ff6699"/>
                </a:solidFill>
                <a:latin typeface="Arial"/>
                <a:ea typeface="Arial"/>
              </a:rPr>
              <a:t>3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4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7,05  </a:t>
            </a:r>
            <a:r>
              <a:rPr b="1" lang="ru-RU" sz="3200" spc="-1" strike="noStrike">
                <a:solidFill>
                  <a:srgbClr val="ff6699"/>
                </a:solidFill>
                <a:latin typeface="Arial"/>
                <a:ea typeface="Arial"/>
              </a:rPr>
              <a:t>4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_10857 19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7,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,4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2,8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987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5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,8         7,05       _5640          _98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  <a:ea typeface="Arial"/>
              </a:rPr>
              <a:t>5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_208,57   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410_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98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,5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19,740                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03,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251460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426708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7238880" y="2895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723888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Устная 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99"/>
                </a:solidFill>
                <a:latin typeface="Arial"/>
              </a:rPr>
              <a:t>№</a:t>
            </a:r>
            <a:r>
              <a:rPr b="1" i="1" lang="ru-RU" sz="3600" spc="-1" strike="noStrike">
                <a:solidFill>
                  <a:srgbClr val="ff6699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кие числа называются взаимно обратны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99"/>
                </a:solidFill>
                <a:latin typeface="Arial"/>
              </a:rPr>
              <a:t>Ответ.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ва числа, произведение которых равно единице, называют взаимно обрат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Уст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99"/>
                </a:solidFill>
                <a:latin typeface="Arial"/>
              </a:rPr>
              <a:t>№</a:t>
            </a:r>
            <a:r>
              <a:rPr b="1" i="1" lang="ru-RU" sz="3600" spc="-1" strike="noStrike">
                <a:solidFill>
                  <a:srgbClr val="ff6699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число, обратное числ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                                  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                                  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                                  ж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                                   з)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26"/>
              <p:cNvSpPr txBox="1"/>
              <p:nvPr/>
            </p:nvSpPr>
            <p:spPr>
              <a:xfrm>
                <a:off x="1523880" y="2206800"/>
                <a:ext cx="144792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 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7"/>
              <p:cNvSpPr txBox="1"/>
              <p:nvPr/>
            </p:nvSpPr>
            <p:spPr>
              <a:xfrm>
                <a:off x="990720" y="3200400"/>
                <a:ext cx="3315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0"/>
              <p:cNvSpPr txBox="1"/>
              <p:nvPr/>
            </p:nvSpPr>
            <p:spPr>
              <a:xfrm>
                <a:off x="990720" y="2209680"/>
                <a:ext cx="380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3"/>
              <p:cNvSpPr txBox="1"/>
              <p:nvPr/>
            </p:nvSpPr>
            <p:spPr>
              <a:xfrm>
                <a:off x="5362560" y="2209680"/>
                <a:ext cx="352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05520" y="251892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Object 19"/>
              <p:cNvSpPr txBox="1"/>
              <p:nvPr/>
            </p:nvSpPr>
            <p:spPr>
              <a:xfrm>
                <a:off x="990720" y="4191120"/>
                <a:ext cx="355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21"/>
              <p:cNvSpPr txBox="1"/>
              <p:nvPr/>
            </p:nvSpPr>
            <p:spPr>
              <a:xfrm>
                <a:off x="915840" y="5181480"/>
                <a:ext cx="4557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3"/>
              <p:cNvSpPr txBox="1"/>
              <p:nvPr/>
            </p:nvSpPr>
            <p:spPr>
              <a:xfrm>
                <a:off x="5410080" y="3200400"/>
                <a:ext cx="4176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4"/>
              <p:cNvSpPr txBox="1"/>
              <p:nvPr/>
            </p:nvSpPr>
            <p:spPr>
              <a:xfrm>
                <a:off x="5410080" y="4267080"/>
                <a:ext cx="4842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25"/>
              <p:cNvSpPr txBox="1"/>
              <p:nvPr/>
            </p:nvSpPr>
            <p:spPr>
              <a:xfrm>
                <a:off x="5410080" y="5257800"/>
                <a:ext cx="501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28"/>
              <p:cNvSpPr txBox="1"/>
              <p:nvPr/>
            </p:nvSpPr>
            <p:spPr>
              <a:xfrm>
                <a:off x="1523880" y="3200400"/>
                <a:ext cx="6606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30"/>
              <p:cNvSpPr txBox="1"/>
              <p:nvPr/>
            </p:nvSpPr>
            <p:spPr>
              <a:xfrm>
                <a:off x="1447920" y="4406760"/>
                <a:ext cx="8380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и  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31"/>
              <p:cNvSpPr txBox="1"/>
              <p:nvPr/>
            </p:nvSpPr>
            <p:spPr>
              <a:xfrm>
                <a:off x="1447920" y="5334120"/>
                <a:ext cx="838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и</m:t>
                    </m:r>
                    <m:r>
                      <m:rPr>
                        <m:lit/>
                        <m:nor/>
                      </m:rPr>
                      <m:t xml:space="preserve">  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32"/>
              <p:cNvSpPr txBox="1"/>
              <p:nvPr/>
            </p:nvSpPr>
            <p:spPr>
              <a:xfrm>
                <a:off x="5867280" y="2209680"/>
                <a:ext cx="6559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и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33"/>
              <p:cNvSpPr txBox="1"/>
              <p:nvPr/>
            </p:nvSpPr>
            <p:spPr>
              <a:xfrm>
                <a:off x="5943600" y="3103560"/>
                <a:ext cx="15238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4"/>
              <p:cNvSpPr txBox="1"/>
              <p:nvPr/>
            </p:nvSpPr>
            <p:spPr>
              <a:xfrm>
                <a:off x="6095880" y="4267080"/>
                <a:ext cx="677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5"/>
              <p:cNvSpPr txBox="1"/>
              <p:nvPr/>
            </p:nvSpPr>
            <p:spPr>
              <a:xfrm>
                <a:off x="6172200" y="5257800"/>
                <a:ext cx="679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Уст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99"/>
                </a:solidFill>
                <a:latin typeface="Arial"/>
              </a:rPr>
              <a:t>№</a:t>
            </a:r>
            <a:r>
              <a:rPr b="1" i="1" lang="ru-RU" sz="3600" spc="-1" strike="noStrike">
                <a:solidFill>
                  <a:srgbClr val="ff6699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дут ли взаимно обратными чис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228600" y="1752480"/>
                <a:ext cx="4267080" cy="495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 и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0,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и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и  1; 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0,4  и  2,5;</m:t>
                        </m:r>
                      </m:e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и  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5"/>
              <p:cNvSpPr txBox="1"/>
              <p:nvPr/>
            </p:nvSpPr>
            <p:spPr>
              <a:xfrm>
                <a:off x="3581280" y="1530360"/>
                <a:ext cx="342900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так как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7"/>
              <p:cNvSpPr txBox="1"/>
              <p:nvPr/>
            </p:nvSpPr>
            <p:spPr>
              <a:xfrm>
                <a:off x="3505320" y="2712960"/>
                <a:ext cx="3657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а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ак как 0,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8"/>
              <p:cNvSpPr txBox="1"/>
              <p:nvPr/>
            </p:nvSpPr>
            <p:spPr>
              <a:xfrm>
                <a:off x="3581280" y="3276720"/>
                <a:ext cx="36576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а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ак как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9"/>
              <p:cNvSpPr txBox="1"/>
              <p:nvPr/>
            </p:nvSpPr>
            <p:spPr>
              <a:xfrm>
                <a:off x="3581280" y="4452840"/>
                <a:ext cx="33530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ет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ак как </m:t>
                    </m:r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0"/>
              <p:cNvSpPr txBox="1"/>
              <p:nvPr/>
            </p:nvSpPr>
            <p:spPr>
              <a:xfrm>
                <a:off x="3581280" y="5029200"/>
                <a:ext cx="38862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а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ак как 0,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,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11"/>
              <p:cNvSpPr txBox="1"/>
              <p:nvPr/>
            </p:nvSpPr>
            <p:spPr>
              <a:xfrm>
                <a:off x="3581280" y="5638680"/>
                <a:ext cx="371952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а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ак как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Задание 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а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рейсов понадобится машине грузоподъёмностью 6 тонн, чтобы перевезти груз весом 24 тон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Грузоподъемность машины – 6 тон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Вес груза – 24 тон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Сколько рейсов -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24 : 6 = 4 рей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Ответ: 4 рей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Задание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99"/>
                </a:solidFill>
                <a:latin typeface="Arial"/>
              </a:rPr>
              <a:t>б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рузоподъемность машин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с груз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колько рейсов -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вет: 4 рей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8"/>
              <p:cNvSpPr txBox="1"/>
              <p:nvPr/>
            </p:nvSpPr>
            <p:spPr>
              <a:xfrm>
                <a:off x="2438280" y="3657600"/>
                <a:ext cx="29718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6172200" y="1422360"/>
                <a:ext cx="1447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тонн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3124080" y="1873080"/>
                <a:ext cx="152424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тонн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2"/>
              <p:cNvSpPr txBox="1"/>
              <p:nvPr/>
            </p:nvSpPr>
            <p:spPr>
              <a:xfrm>
                <a:off x="5334120" y="3962520"/>
                <a:ext cx="10666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1523880" y="228600"/>
                <a:ext cx="609624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Text Box 7"/>
          <p:cNvSpPr/>
          <p:nvPr/>
        </p:nvSpPr>
        <p:spPr>
          <a:xfrm>
            <a:off x="1066680" y="2819520"/>
            <a:ext cx="769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85800" y="281952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99"/>
                </a:solidFill>
                <a:latin typeface="Monotype Corsiva"/>
              </a:rPr>
              <a:t>Чтобы разделить одну дробь на другую, надо делимое умножить на число, обратное делителю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5638680" y="4343400"/>
            <a:ext cx="2057400" cy="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4952880" y="5181480"/>
            <a:ext cx="2057400" cy="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1981080" y="6095880"/>
            <a:ext cx="5029200" cy="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2-03-01T20:07:4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