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8E5-4D11-4C29-AE17-8C063B48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71A-076D-45B0-B540-A17CB67B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5E7-6399-4AD8-A12F-B965250C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E5B-55EB-4FF6-BA2D-358CE148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3D22-D677-4D36-AD5B-523E44DF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89C7-DB7E-40C0-925F-56D3676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AD09-EE63-4181-B0BB-1F6ECEDD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B51A-EE2D-4124-B02D-9935B0FA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34D-482A-4D8D-BF9A-132AB2FA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B6AA-0889-4FFC-83A0-3B7FEE5C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548E-5324-4F0C-BC7D-9504F89F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102-E6D3-4876-B2E4-40DEFCA7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A70F-D70B-4CAD-B15E-F029E64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1C8B-6816-428B-AE1B-DA14A1A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E30-DDFA-4666-B17C-A51033D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9617-55E9-4B26-9197-275E49F6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A59-BFB1-4692-8A11-57F6F794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63B-6504-416E-A94C-33D9BC14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035-F9CA-4FB4-83AF-8861C1A4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AA5-7245-4D8B-BE44-49AD46C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1B2-F065-4C09-BF1E-EC4DB665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6D0-55EB-4E5D-AA78-76E1B3B7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6B6-4EB8-494B-B9EE-0775A2B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282-D1C6-4352-B95D-B349130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8E1F-94BE-47E8-B603-E469F13309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2E2D-870B-4528-BB9C-5595484784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МБОУ – Липницкая средняя общеобразовательная шк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идина Наталь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WordArt 2"/>
          <p:cNvGrpSpPr/>
          <p:nvPr/>
        </p:nvGrpSpPr>
        <p:grpSpPr>
          <a:xfrm>
            <a:off x="1292400" y="755640"/>
            <a:ext cx="6486480" cy="2682720"/>
            <a:chOff x="1292400" y="755640"/>
            <a:chExt cx="6486480" cy="2682720"/>
          </a:xfrm>
        </p:grpSpPr>
        <p:pic>
          <p:nvPicPr>
            <p:cNvPr id="100" name="WordArt 2" descr=""/>
            <p:cNvPicPr/>
            <p:nvPr/>
          </p:nvPicPr>
          <p:blipFill>
            <a:blip r:embed="rId1"/>
            <a:stretch/>
          </p:blipFill>
          <p:spPr>
            <a:xfrm>
              <a:off x="1292400" y="755640"/>
              <a:ext cx="64864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95280" y="762120"/>
              <a:ext cx="647712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спект  урок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 математике в 6 класс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 тему "Деление"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3"/>
          <p:cNvSpPr/>
          <p:nvPr/>
        </p:nvSpPr>
        <p:spPr>
          <a:xfrm>
            <a:off x="914400" y="380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янская область Сев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66680" y="30492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при решении прим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828800" y="5105520"/>
                <a:ext cx="56386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838080" y="2819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тил ошибку. В чем причина ошибки уче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1828800" y="1143000"/>
                <a:ext cx="548640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12"/>
          <p:cNvSpPr/>
          <p:nvPr/>
        </p:nvSpPr>
        <p:spPr>
          <a:xfrm>
            <a:off x="1752480" y="4495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берите из списка те примеры, которые могли бы реш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685800" y="1739880"/>
                <a:ext cx="7848720" cy="488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7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8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AutoShape 8"/>
          <p:cNvSpPr/>
          <p:nvPr/>
        </p:nvSpPr>
        <p:spPr>
          <a:xfrm>
            <a:off x="2895480" y="1981080"/>
            <a:ext cx="38124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038480" y="3962520"/>
            <a:ext cx="38124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733920" y="5029200"/>
            <a:ext cx="38088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7238880" y="1981080"/>
            <a:ext cx="38124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086600" y="2895480"/>
            <a:ext cx="380880" cy="38124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010280" y="3886200"/>
            <a:ext cx="38124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3200400" y="2819520"/>
            <a:ext cx="380880" cy="380880"/>
          </a:xfrm>
          <a:prstGeom prst="flowChartOr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85800" y="196920"/>
                <a:ext cx="8077320" cy="647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тоги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им правилом мы сегодня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улируется это прав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ьзуемся этим прави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натура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писать дробь, обратную смешан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полняется деление смешанных чи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705720" y="2819520"/>
                <a:ext cx="384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Пункт 17 (выучить правило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7 (а; б; в), №618(а; в) стр. 97 учеб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7 (а; б; в) – выполните делен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618(а; в) – найдите значение выра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роверка домашнего 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76 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; г; 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85800" y="2666880"/>
                <a:ext cx="5943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85800" y="4038480"/>
                <a:ext cx="5867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609480" y="5415120"/>
                <a:ext cx="83822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Проверка домашнего 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8,57 – 108,57:((60,4-57,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(3,6+3,45))=203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60,4   </a:t>
            </a:r>
            <a:r>
              <a:rPr b="0" i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3,60  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7,05  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_10857 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7,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,4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2,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987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,8         7,05       _5640          _9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Arial"/>
              </a:rPr>
              <a:t>5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_208,57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410_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9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19,740                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3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25146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267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723888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7238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Ответ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а числа, произведение которых равно единице, называют взаимно обрат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число, обратное чис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                                 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                                 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                                  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                                   з)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6"/>
              <p:cNvSpPr txBox="1"/>
              <p:nvPr/>
            </p:nvSpPr>
            <p:spPr>
              <a:xfrm>
                <a:off x="1523880" y="2206800"/>
                <a:ext cx="144792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990720" y="3200400"/>
                <a:ext cx="3315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990720" y="220968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5362560" y="2209680"/>
                <a:ext cx="352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251892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19"/>
              <p:cNvSpPr txBox="1"/>
              <p:nvPr/>
            </p:nvSpPr>
            <p:spPr>
              <a:xfrm>
                <a:off x="990720" y="4191120"/>
                <a:ext cx="35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915840" y="5181480"/>
                <a:ext cx="455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5410080" y="3200400"/>
                <a:ext cx="417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4"/>
              <p:cNvSpPr txBox="1"/>
              <p:nvPr/>
            </p:nvSpPr>
            <p:spPr>
              <a:xfrm>
                <a:off x="5410080" y="4267080"/>
                <a:ext cx="4842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5410080" y="5257800"/>
                <a:ext cx="50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8"/>
              <p:cNvSpPr txBox="1"/>
              <p:nvPr/>
            </p:nvSpPr>
            <p:spPr>
              <a:xfrm>
                <a:off x="1523880" y="3200400"/>
                <a:ext cx="660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0"/>
              <p:cNvSpPr txBox="1"/>
              <p:nvPr/>
            </p:nvSpPr>
            <p:spPr>
              <a:xfrm>
                <a:off x="1447920" y="4406760"/>
                <a:ext cx="838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и  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1"/>
              <p:cNvSpPr txBox="1"/>
              <p:nvPr/>
            </p:nvSpPr>
            <p:spPr>
              <a:xfrm>
                <a:off x="1447920" y="533412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2"/>
              <p:cNvSpPr txBox="1"/>
              <p:nvPr/>
            </p:nvSpPr>
            <p:spPr>
              <a:xfrm>
                <a:off x="5867280" y="2209680"/>
                <a:ext cx="6559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3"/>
              <p:cNvSpPr txBox="1"/>
              <p:nvPr/>
            </p:nvSpPr>
            <p:spPr>
              <a:xfrm>
                <a:off x="5943600" y="3103560"/>
                <a:ext cx="1523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4"/>
              <p:cNvSpPr txBox="1"/>
              <p:nvPr/>
            </p:nvSpPr>
            <p:spPr>
              <a:xfrm>
                <a:off x="6095880" y="4267080"/>
                <a:ext cx="677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6172200" y="5257800"/>
                <a:ext cx="67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ст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№</a:t>
            </a:r>
            <a:r>
              <a:rPr b="1" i="1" lang="ru-RU" sz="3600" spc="-1" strike="noStrike">
                <a:solidFill>
                  <a:srgbClr val="ff6699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т ли взаимно обратными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28600" y="1752480"/>
                <a:ext cx="4267080" cy="495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,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и  1; 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0,4  и  2,5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и  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3581280" y="1530360"/>
                <a:ext cx="34290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ак как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3505320" y="2712960"/>
                <a:ext cx="365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0,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3581280" y="3276720"/>
                <a:ext cx="36576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581280" y="4452840"/>
                <a:ext cx="3353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е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3581280" y="5029200"/>
                <a:ext cx="3886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 0,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3581280" y="5638680"/>
                <a:ext cx="37195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ак как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 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ейсов понадобится машине грузоподъёмностью 6 тонн, чтобы перевезти груз весом 24 тон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Грузоподъемность машины – 6 тон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ес груза – 24 то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колько рейсов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4 : 6 = 4 р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твет: 4 р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ние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99"/>
                </a:solidFill>
                <a:latin typeface="Arial"/>
              </a:rPr>
              <a:t>б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узоподъемность маши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 груз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лько рейсов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: 4 рей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2438280" y="3657600"/>
                <a:ext cx="2971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6172200" y="1422360"/>
                <a:ext cx="1447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тонн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3124080" y="1873080"/>
                <a:ext cx="15242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тонн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5334120" y="39625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523880" y="228600"/>
                <a:ext cx="60962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7"/>
          <p:cNvSpPr/>
          <p:nvPr/>
        </p:nvSpPr>
        <p:spPr>
          <a:xfrm>
            <a:off x="1066680" y="28195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5800" y="28195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Monotype Corsiva"/>
              </a:rPr>
              <a:t>Чтобы разделить одну дробь на другую, надо делимое умножить на число, обратное делител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5638680" y="4343400"/>
            <a:ext cx="20574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952880" y="5181480"/>
            <a:ext cx="20574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1981080" y="6095880"/>
            <a:ext cx="5029200" cy="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3-01T20:07:4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