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50B-651F-4150-A11F-3C58F98B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7D6-2C00-4102-B302-14B6B0CE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E2D-EB8A-4C8C-AADE-E8C31D2D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6A0-4255-4835-AD99-E4CB9837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0EBA-2A61-43BC-B362-9A61DE96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5AFC-466A-4AC1-972D-808EC82B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EC04-A9AD-4C05-92BC-7A781DC8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906F-A069-4AEE-AA6E-26FF3DA0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0C2E-2791-4161-AF68-EBBC7EB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BDDA-FCF9-4D8F-A342-6A4E6C63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DECE-975E-48A3-A4BD-161E41A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532-37D4-40CE-822D-5FE134D5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52D9-B303-4AEC-9C60-13D4C92F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02A6-2ECA-4D6A-8E3A-72AB3DEF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E1A8-CE1B-4643-AB95-73C42EA4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21F3-2C0C-4C46-ABB2-7FBEBF61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335F-74AB-4463-98F8-42B71E94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74C-2980-40E3-9C2C-FFF09CF6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9C4-D199-4C9A-8207-803941F1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BF2-73BB-4E05-82C1-8EDE328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C89-DCAF-471F-9DC6-A8C7D72B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C5C-BAE8-4A53-A83F-D7B7CCA1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D0C-CFEF-4200-9A1B-4EC6594D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0FF-B197-4365-B183-E9BA839B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837D-94B8-4C03-A00E-2EDA16D72E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20CC-867F-45FA-8497-6E1A18312E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атематики МБОУ – Липницкая средняя общеобразовательная шк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идина Наталья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WordArt 2"/>
          <p:cNvGrpSpPr/>
          <p:nvPr/>
        </p:nvGrpSpPr>
        <p:grpSpPr>
          <a:xfrm>
            <a:off x="1292400" y="755640"/>
            <a:ext cx="6486480" cy="2682720"/>
            <a:chOff x="1292400" y="755640"/>
            <a:chExt cx="6486480" cy="2682720"/>
          </a:xfrm>
        </p:grpSpPr>
        <p:pic>
          <p:nvPicPr>
            <p:cNvPr id="100" name="WordArt 2" descr=""/>
            <p:cNvPicPr/>
            <p:nvPr/>
          </p:nvPicPr>
          <p:blipFill>
            <a:blip r:embed="rId1"/>
            <a:stretch/>
          </p:blipFill>
          <p:spPr>
            <a:xfrm>
              <a:off x="1292400" y="755640"/>
              <a:ext cx="648648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95280" y="762120"/>
              <a:ext cx="647712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спект  урок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 математике в 6 класс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 тему "Деление"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3"/>
          <p:cNvSpPr/>
          <p:nvPr/>
        </p:nvSpPr>
        <p:spPr>
          <a:xfrm>
            <a:off x="914400" y="380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янская область Сев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066680" y="304920"/>
            <a:ext cx="7010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при решении прим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828800" y="5105520"/>
                <a:ext cx="56386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 Box 7"/>
          <p:cNvSpPr/>
          <p:nvPr/>
        </p:nvSpPr>
        <p:spPr>
          <a:xfrm>
            <a:off x="838080" y="2819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тил ошибку. В чем причина ошибки уче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1828800" y="1143000"/>
                <a:ext cx="548640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12"/>
          <p:cNvSpPr/>
          <p:nvPr/>
        </p:nvSpPr>
        <p:spPr>
          <a:xfrm>
            <a:off x="1752480" y="4495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Правиль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берите из списка те примеры, которые могли бы реш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6"/>
              <p:cNvSpPr txBox="1"/>
              <p:nvPr/>
            </p:nvSpPr>
            <p:spPr>
              <a:xfrm>
                <a:off x="685800" y="1739880"/>
                <a:ext cx="7848720" cy="488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ν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7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8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AutoShape 8"/>
          <p:cNvSpPr/>
          <p:nvPr/>
        </p:nvSpPr>
        <p:spPr>
          <a:xfrm>
            <a:off x="2895480" y="1981080"/>
            <a:ext cx="381240" cy="38124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038480" y="3962520"/>
            <a:ext cx="38124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3733920" y="5029200"/>
            <a:ext cx="38088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7238880" y="1981080"/>
            <a:ext cx="381240" cy="38124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7086600" y="2895480"/>
            <a:ext cx="380880" cy="38124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010280" y="3886200"/>
            <a:ext cx="38124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3200400" y="2819520"/>
            <a:ext cx="38088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85800" y="196920"/>
                <a:ext cx="8077320" cy="647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ν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тоги 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им правилом мы сегодня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формулируется это прави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льзуемся этим прави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писать дробь, обратную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писать дробь, обратную натураль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писать дробь, обратную смешан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полняется деление смешанных чис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705720" y="2819520"/>
                <a:ext cx="384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Пункт 17 (выучить правило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617 (а; б; в), №618(а; в) стр. 97 учебн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617 (а; б; в) – выполните делен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618(а; в) – найдите значение выра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Проверка домашнего зад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76 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; г; 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олните дей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685800" y="2666880"/>
                <a:ext cx="5943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85800" y="4038480"/>
                <a:ext cx="58672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609480" y="5415120"/>
                <a:ext cx="83822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Проверка домашнего зад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8,57 – 108,57:((60,4-57,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(3,6+3,45))=203,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60,4   </a:t>
            </a:r>
            <a:r>
              <a:rPr b="0" i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3,60  </a:t>
            </a: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7,05  </a:t>
            </a: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_10857 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7,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,4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2,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987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,8         7,05       _5640          _9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5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208,57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410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9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,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19,740                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3,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25146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267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723888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72388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стная 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№</a:t>
            </a: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ие числа называются взаимно обрат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Ответ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а числа, произведение которых равно единице, называют взаимно обрат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ст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№</a:t>
            </a: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число, обратное чис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                                 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                                  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                                  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                                   з)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6"/>
              <p:cNvSpPr txBox="1"/>
              <p:nvPr/>
            </p:nvSpPr>
            <p:spPr>
              <a:xfrm>
                <a:off x="1523880" y="2206800"/>
                <a:ext cx="144792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990720" y="3200400"/>
                <a:ext cx="3315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990720" y="2209680"/>
                <a:ext cx="380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5362560" y="2209680"/>
                <a:ext cx="352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05520" y="251892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Object 19"/>
              <p:cNvSpPr txBox="1"/>
              <p:nvPr/>
            </p:nvSpPr>
            <p:spPr>
              <a:xfrm>
                <a:off x="990720" y="4191120"/>
                <a:ext cx="355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915840" y="5181480"/>
                <a:ext cx="455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5410080" y="3200400"/>
                <a:ext cx="417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4"/>
              <p:cNvSpPr txBox="1"/>
              <p:nvPr/>
            </p:nvSpPr>
            <p:spPr>
              <a:xfrm>
                <a:off x="5410080" y="4267080"/>
                <a:ext cx="4842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5"/>
              <p:cNvSpPr txBox="1"/>
              <p:nvPr/>
            </p:nvSpPr>
            <p:spPr>
              <a:xfrm>
                <a:off x="5410080" y="5257800"/>
                <a:ext cx="501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8"/>
              <p:cNvSpPr txBox="1"/>
              <p:nvPr/>
            </p:nvSpPr>
            <p:spPr>
              <a:xfrm>
                <a:off x="1523880" y="3200400"/>
                <a:ext cx="660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0"/>
              <p:cNvSpPr txBox="1"/>
              <p:nvPr/>
            </p:nvSpPr>
            <p:spPr>
              <a:xfrm>
                <a:off x="1447920" y="4406760"/>
                <a:ext cx="838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и  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1"/>
              <p:cNvSpPr txBox="1"/>
              <p:nvPr/>
            </p:nvSpPr>
            <p:spPr>
              <a:xfrm>
                <a:off x="1447920" y="533412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2"/>
              <p:cNvSpPr txBox="1"/>
              <p:nvPr/>
            </p:nvSpPr>
            <p:spPr>
              <a:xfrm>
                <a:off x="5867280" y="2209680"/>
                <a:ext cx="6559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3"/>
              <p:cNvSpPr txBox="1"/>
              <p:nvPr/>
            </p:nvSpPr>
            <p:spPr>
              <a:xfrm>
                <a:off x="5943600" y="3103560"/>
                <a:ext cx="15238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4"/>
              <p:cNvSpPr txBox="1"/>
              <p:nvPr/>
            </p:nvSpPr>
            <p:spPr>
              <a:xfrm>
                <a:off x="6095880" y="4267080"/>
                <a:ext cx="677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5"/>
              <p:cNvSpPr txBox="1"/>
              <p:nvPr/>
            </p:nvSpPr>
            <p:spPr>
              <a:xfrm>
                <a:off x="6172200" y="5257800"/>
                <a:ext cx="679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ст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№</a:t>
            </a: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ут ли взаимно обратными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28600" y="1752480"/>
                <a:ext cx="4267080" cy="495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и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,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и  1; 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0,4  и  2,5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и  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3581280" y="1530360"/>
                <a:ext cx="34290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ак как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3505320" y="2712960"/>
                <a:ext cx="365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0,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3581280" y="3276720"/>
                <a:ext cx="36576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3581280" y="4452840"/>
                <a:ext cx="33530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е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3581280" y="5029200"/>
                <a:ext cx="38862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0,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3581280" y="5638680"/>
                <a:ext cx="37195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ние 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а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ейсов понадобится машине грузоподъёмностью 6 тонн, чтобы перевезти груз весом 24 тон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Грузоподъемность машины – 6 тон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ес груза – 24 то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колько рейсов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4 : 6 = 4 р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Ответ: 4 рей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ние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99"/>
                </a:solidFill>
                <a:latin typeface="Arial"/>
              </a:rPr>
              <a:t>б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рузоподъемность маши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 груз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олько рейсов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т: 4 рей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8"/>
              <p:cNvSpPr txBox="1"/>
              <p:nvPr/>
            </p:nvSpPr>
            <p:spPr>
              <a:xfrm>
                <a:off x="2438280" y="3657600"/>
                <a:ext cx="29718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6172200" y="1422360"/>
                <a:ext cx="1447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тонн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3124080" y="1873080"/>
                <a:ext cx="15242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тонн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5334120" y="39625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523880" y="228600"/>
                <a:ext cx="60962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 Box 7"/>
          <p:cNvSpPr/>
          <p:nvPr/>
        </p:nvSpPr>
        <p:spPr>
          <a:xfrm>
            <a:off x="1066680" y="28195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5800" y="281952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99"/>
                </a:solidFill>
                <a:latin typeface="Monotype Corsiva"/>
              </a:rPr>
              <a:t>Чтобы разделить одну дробь на другую, надо делимое умножить на число, обратное делител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5638680" y="4343400"/>
            <a:ext cx="2057400" cy="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952880" y="5181480"/>
            <a:ext cx="2057400" cy="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1981080" y="6095880"/>
            <a:ext cx="5029200" cy="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2-03-01T20:07:4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