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637-914C-40E7-82A6-E972665A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265-6197-4DA8-BA46-289E5E4F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C0A-AAF3-46A9-9C48-7A242E4B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D08-AED3-44D2-B43A-61D593F6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4AB-F89F-4EA8-9701-257C3F3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05F-DB39-403B-B90E-19D9AB8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B3A-FBF2-4C51-BD56-23511AF6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D39-B0EC-4068-A48A-F09CF38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ACE-3C4A-45CE-98A5-DD3E976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D71-C4E0-4CA0-BA66-32B5F47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3F3-9D3D-48B2-9769-3C90D17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856-EB85-4E33-BF2F-B2D637E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FD0-2BC8-4626-A5CC-1AAE17B391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Что мы узнали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о растениях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7083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стение- земли украш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РАСНАЯ КНИГА КРЫМА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Подснежник складчаты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Можевельн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Пион  тонколисты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69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глица понтийская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я сорву цвет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ты сорвёшь цвето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все: и я, и 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мы сорвём цве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о окажутся пу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деревья и куст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не будет крас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не будет добр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я и ты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мы сорвём цвет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96000" y="1866960"/>
            <a:ext cx="3348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02400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240360" cy="351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91636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84720" y="378936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32000" y="3429000"/>
            <a:ext cx="2843280" cy="321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ДЕРЕВЬ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10236240" cy="585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ИДЫ  ЛИСТЬЕ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384360" cy="468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1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2:59:34Z</dcterms:created>
  <dc:creator>Мамуля</dc:creator>
  <dc:description/>
  <dc:language>en-US</dc:language>
  <cp:lastModifiedBy>Мамуля</cp:lastModifiedBy>
  <dcterms:modified xsi:type="dcterms:W3CDTF">2016-01-24T14:08:33Z</dcterms:modified>
  <cp:revision>2</cp:revision>
  <dc:subject/>
  <dc:title>    Что мы узнали  о растениях</dc:title>
</cp:coreProperties>
</file>