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EFC-C390-48EE-9415-48F24A8F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992D-E5E9-44C8-91D2-58A38600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2D6D-F070-418E-BF50-BA861758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4D0D-A43A-4ACD-B929-1DE8CD33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6B6-828F-48E7-B954-3C0948C5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4B7-D4C3-433D-8EB4-5F14008E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921-852B-4B03-942A-B67AF230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0697-4922-4999-A509-5626A78B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69C9-9064-49AE-88E4-E86072CF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0E8-53F1-4DC8-AAB1-2D98CD9B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3FE-0E32-416B-9AEA-C0890EE4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1930-9422-4EB0-9649-57974482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86BA-CDB9-4A85-BE05-31E4D34597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000066"/>
                </a:solidFill>
                <a:latin typeface="Times New Roman"/>
              </a:rPr>
              <a:t>Что мы узнали </a:t>
            </a:r>
            <a:br>
              <a:rPr sz="6600"/>
            </a:br>
            <a:r>
              <a:rPr b="1" lang="en-US" sz="6600" spc="-1" strike="noStrike">
                <a:solidFill>
                  <a:srgbClr val="000066"/>
                </a:solidFill>
                <a:latin typeface="Times New Roman"/>
              </a:rPr>
              <a:t>о растениях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35640" y="4005360"/>
            <a:ext cx="3708360" cy="266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9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астение- земли украш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280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КРАСНАЯ КНИГА КРЫМА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8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Подснежник складчатый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Можевельник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Пион  тонколистый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569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Иглица понтийская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138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686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ли я сорву цвето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ли ты сорвёшь цветок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ли все: и я, и 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ли мы сорвём цвет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о окажутся пу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 деревья и кусты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 не будет крас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 не будет добр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ли я и ты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ли мы сорвём цвет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796000" y="1866960"/>
            <a:ext cx="33480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3024000" cy="3500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24360" y="0"/>
            <a:ext cx="3240360" cy="351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933720"/>
            <a:ext cx="2916360" cy="244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084720" y="3789360"/>
            <a:ext cx="2880000" cy="287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132000" y="3429000"/>
            <a:ext cx="2843280" cy="321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179280" y="260280"/>
            <a:ext cx="2808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Times New Roman"/>
              </a:rPr>
              <a:t>ДЕРЕВЬЯ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10236240" cy="585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ИДЫ  ЛИСТЬЕ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148360" y="1413000"/>
            <a:ext cx="3384360" cy="4680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816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2:59:34Z</dcterms:created>
  <dc:creator>Мамуля</dc:creator>
  <dc:description/>
  <dc:language>en-US</dc:language>
  <cp:lastModifiedBy>Мамуля</cp:lastModifiedBy>
  <dcterms:modified xsi:type="dcterms:W3CDTF">2016-01-24T14:08:33Z</dcterms:modified>
  <cp:revision>2</cp:revision>
  <dc:subject/>
  <dc:title>    Что мы узнали  о растениях</dc:title>
</cp:coreProperties>
</file>