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6BA-7D01-474F-8344-824EBFDD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EF9-942B-42AA-990F-45297C7A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6DC-E94B-4E96-86EB-FF902D07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470-F19E-49D1-96A4-EDC0629F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270-C7EB-4C1B-AABA-A8DCEF8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8DB-7043-404E-9DF5-7F8A1F3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FD6-71F5-4262-AD8D-3160CD7D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F9C-BFC0-479A-BC1C-C3381AC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8CC-F4C3-43D9-83DE-B58F62C9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FA5-2C0F-43C9-B5F1-1FA26C3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8D1-3031-4209-8940-B6A258F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C10-EB78-4420-872F-6763223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6B9-047B-4EF7-BCF7-7C8DC61F5F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Что мы узнали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 растениях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7083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стение- земли украш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РАСНАЯ КНИГА КРЫМА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Подснежник складча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Можевельн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Пион  тонколисты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69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глица понтийская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сорву цвет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ты сорвёшь цве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все: и я, и 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 окажутся пу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деревья и куст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крас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не будет добр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я и ты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ли мы сорвём цвет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1866960"/>
            <a:ext cx="3348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02400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240360" cy="35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84720" y="378936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32000" y="3429000"/>
            <a:ext cx="2843280" cy="321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ДЕРЕВЬ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10236240" cy="585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ДЫ  ЛИСТЬЕ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384360" cy="468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1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2:59:34Z</dcterms:created>
  <dc:creator>Мамуля</dc:creator>
  <dc:description/>
  <dc:language>en-US</dc:language>
  <cp:lastModifiedBy>Мамуля</cp:lastModifiedBy>
  <dcterms:modified xsi:type="dcterms:W3CDTF">2016-01-24T14:08:33Z</dcterms:modified>
  <cp:revision>2</cp:revision>
  <dc:subject/>
  <dc:title>    Что мы узнали  о растениях</dc:title>
</cp:coreProperties>
</file>