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27C-9CCF-48E9-AB6B-0FC131DD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B9E-C55D-4D45-BF00-22B9D040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ECC-DE09-43DA-918C-DEF7BEE9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0E6-E8F8-4962-9851-A1A10C82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EE8D-BDCB-45E1-95C6-8FAED9DC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9359-0D0D-4A6E-A8C0-A2A95C3C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A0E6-1F2E-447D-A7E2-FE5D83AB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C812-BA92-47F7-B12F-1FCBCBEB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9EEA-6AC8-47AA-99DE-D20E6873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E77F-5658-4F00-9F11-79B931B7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0DD8-C40D-44F7-957F-69B584E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5C8-A9AB-4541-8223-8F6EFE04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256A-584E-4190-8D54-89172984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F11D-EB76-46DC-898A-CBCBD364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6E9E-B0D7-4E95-B08B-07B86B9E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1F1A-27E8-42DA-B3C2-65CEEFA2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ED51-B963-4E9A-B748-DC1FA47D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588F-E70D-46E6-9D51-0418549C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1ECE-84F5-4C11-B643-70F87DCB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CAD4F-34D7-4339-A242-8752B5BB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D0E6-11C5-4053-AFF5-F599BC38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394B-9863-4F52-B2ED-B6CEDF14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9A5-02DD-4B1E-8DD0-8C41BEBC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D6A8-3555-4F86-985B-031C51C3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8E1B-34A2-4C3E-8365-1CFA259B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E3C8D-DDD6-4107-82C1-94ADD267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C588-7EC4-45B8-9774-25141902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080F6-AED4-4F52-8BEE-882AB5FF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3A6DA-2A57-437C-A6A3-3D257963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F5CE-22E9-47A8-85A6-303F2F81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4BAC4-B0AD-461D-A3F6-820A9458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E2755-F8F8-40DA-A3DC-8B6680CE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2ABB-8ABF-4C7E-BD28-5EEC2A48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569-1781-49D3-9202-86EE8514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32DFA-2BF9-4BE4-80FB-89087727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22AEF-8A3A-40C2-84AA-F0C42A2D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F8557-FB17-499F-8ACA-5784FC8D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E0F57-8314-4B6C-B880-73179CDD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EC32-EAED-4BA2-A299-B0F4491F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49334-3E78-4FDC-95A8-05437AAA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971B0-6CAC-4922-9940-CC8E284C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624A0-01DD-4B5E-BF79-2EEF29E9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E7F9C-C837-45AC-BC33-F655D950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D721F-AA92-4FA3-A412-85BD486D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E09-3060-455E-A5D1-128B0DCE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88935-2A49-4DD5-8799-C6994D49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24C8F-9D5F-42F1-B97F-E9BE7C51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5F859-A712-4EE5-8649-B1F24805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EE0FF-21F7-49FE-825E-635B9B31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1218D-5DB9-4859-AB7E-D3A92752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7365A-061B-440D-9F0E-BBAF7A57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4663-98B7-4F5B-9B21-CF702FFA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C7F66-3A9D-4B5F-B583-7B28B23C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A5008-1699-473E-89ED-1E34FB2B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01693-F44B-4C6D-A97A-DBDE9B6C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6AC-6172-43D3-959E-D2E41495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70599-BE19-4300-9C9A-AB617B0B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796-1A98-4157-B072-B887D64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3CF-709A-4D3B-8189-29FA5723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B5E-02EC-4885-8DC5-5AB9A72D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A838-532B-47CE-9FC6-AF12C6DB8EC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2E43-A8B1-45C4-B8EF-BB104DB978A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B2F0-6BE4-4503-97B8-E33FD227443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FC91-9F6D-4730-A8C3-1F72CAD44A4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DC50-E4C3-452F-A88B-292C992BE45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  <p:sp>
        <p:nvSpPr>
          <p:cNvPr id="225" name="Рамка 6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4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5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6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9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20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3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9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30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3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6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9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2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5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4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0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Рамка 3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7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1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7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8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4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5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8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9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90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3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Admin</cp:lastModifiedBy>
  <dcterms:modified xsi:type="dcterms:W3CDTF">2012-10-20T09:00:56Z</dcterms:modified>
  <cp:revision>40</cp:revision>
  <dc:subject/>
  <dc:title>Тип Членистоногие</dc:title>
</cp:coreProperties>
</file>