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263-975B-4241-BDAF-D3AA6B9F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69A-14E0-4D25-9944-604AC79F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9EB-F23B-4D56-A2D4-F8B982D1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E66-0DE2-4DB3-80BC-E28DB48D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F914-8B06-417A-B6F5-521519A9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2FD2-5C11-42DA-A498-CE530369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260B-D4B2-4E2A-BBEE-6493A4E8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8AA1-87FF-4A3A-8F0D-2E2901F2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C2BC-7776-4F2D-A37A-578FF6FC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BB3F-317A-4161-9CED-65F4CDA3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EE76-13D1-4533-8C30-5AEC9D5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872-46F4-420A-BF2A-AEB4D58D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06C-EC9C-46E0-81EC-3252D2F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6255-845A-46F3-B880-1B8AED8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1D34-AAEC-4081-AAA4-243BD789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C59C-F53F-4D49-9704-7ADA149A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AB95-F330-4956-B2C9-1182F79E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A658-26CC-40AA-959B-49994097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F2C0-B9BC-4549-981D-FE660D58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B34C-2C91-4F43-B243-E32D1EFD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6362-7AB7-4F16-94B4-8D61514E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F4B5-81E7-413F-8211-4723E025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18A-CD4E-4AF8-BA3C-721084E8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0F085-5CD5-4C1D-894E-459D12D6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A985-F74F-4CB4-BF2D-DC34DD6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B36C-FF7E-4347-93D4-24594704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D203-CC2E-401F-B1E4-C869864E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7130-E397-4A53-B315-46CC3028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2B0B-8D81-45F7-BDE7-081EED3B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494B-318A-45EE-A829-54445833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9321-EFC6-4311-87E9-FF6AA37C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16AE-D9D1-4317-8938-A10A733E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D759-6270-4573-A378-09F60C0C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327-64C2-491F-B2D8-14F7CEFE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7268-13E9-4B30-9AA9-A554C106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359D-75A6-4129-BC9C-7959740D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BB89-A1A2-4416-B401-012327EC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4ED31-6EE3-4643-87BF-E3713EC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4D12-1D38-4658-814C-36A752A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8B8B8-675A-4293-A222-8D569947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7D3B-13D3-4356-B82B-996230BE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8A0F7-0A07-480D-8996-A7F2CAEC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86D00-6450-4BF2-8C4E-DB415542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68C5-F415-48BB-B638-7083A2DC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5F3-11EB-434D-AF6D-541B22C7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C5F46-DB7C-4B2B-B0F3-7DFAC5EC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92A48-6D66-4A15-80AE-49A53212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C519F-FD57-4FDF-84F1-34B1D251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A2BD1-DF99-40FC-A284-4912474D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A14C-E734-4A31-AF35-8FA241E5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D45C1-EF93-41E2-98A1-FB3E3D9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A488-1C01-40EF-9629-FBB36029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C8014-9BE0-4C41-A861-7BC4885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63B2-A1C6-4932-A95F-FE621BE8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7E7C9-7AFF-4F95-866F-3828753C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8EA-C6BF-4987-8CB4-08FA09C3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EF86-DF52-4E1A-A416-5EFABDDA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E15-A150-4808-BC05-ECD7AA7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358-6B3D-4907-B723-0A479C8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80F-29AB-4D93-9A3C-9F34724E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32B5-6C66-4B32-87E7-EC38FD1C0D3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2ADA-F334-4572-8C78-DB75251B2D1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C83-D9FA-4817-BC63-5DB4E164A68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9BEE-6271-45D9-A059-1D840399445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EF65-B538-4D84-90E6-AE02A65CFE6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  <p:sp>
        <p:nvSpPr>
          <p:cNvPr id="225" name="Рамка 6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4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5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6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9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20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3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30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3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6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9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2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5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0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Рамка 3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1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7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8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4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5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8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9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90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3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Admin</cp:lastModifiedBy>
  <dcterms:modified xsi:type="dcterms:W3CDTF">2012-10-20T09:00:56Z</dcterms:modified>
  <cp:revision>40</cp:revision>
  <dc:subject/>
  <dc:title>Тип Членистоногие</dc:title>
</cp:coreProperties>
</file>