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1BB-05AA-468D-9FEB-1259971F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123-48A7-4050-800F-452CB60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BAB-E867-4FA8-B4FE-0EE884E0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CBF-61F1-4686-BEB2-F92FB033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2959-5833-482F-8670-FC212D6B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7ED7-6053-4753-985D-40A8E7C5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A152-B583-478D-B3C2-DE0B257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7277-237A-447F-A179-27CC5F6B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70E1-B862-4A13-9E49-594FAA4F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8535-D77A-459F-B190-4364673A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8999-2CA4-4C9A-A9C9-FB8F49D4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262-F7A6-476A-9C1D-1F68BF49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35E-21F4-46AB-B244-13DA0AD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5E76-CC8F-495C-8E67-0EFAE89A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B34B-8F01-4C0D-A7F7-F764DF30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7C37-2D7B-45EE-B74D-CBF02A30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F41F-33D8-4FD8-B364-4514F7E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01A2-DCFD-4163-9A3D-14134177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A09A-B8EF-4335-9C77-35B59EC2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81742-F2FD-48F7-A04D-A0497E7D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5ACF-461B-480E-B120-06473F7C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8D59-F790-47E2-9958-34C0836C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195-2C7B-499E-974D-E695BA12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E402-1B12-4EB9-A23B-09AE9991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3085-2345-4585-8A69-31977D8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92AF-C060-4087-B00A-4754C53C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972C-AC31-4FEB-962F-5665348E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3389-352D-4951-9168-E697F31F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3662-F1CD-430A-A886-3D2BCE12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4A64-DE26-41B2-A358-B30171E4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8914D-8E6F-4F47-8516-932EDA71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5A76-FF9B-4B95-8E6C-BBDC6F8A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6F323-F594-44FE-86C9-CAFD3201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023-B064-499B-84A6-EEC8FFCA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63DE-00EF-44EF-929A-E80234BB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81BD-30C3-4BEC-B51F-929981ED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107F9-B693-485E-95C9-6FD30016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1464-28A8-4893-887E-F2489259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4633-EB08-4B9A-B501-27D5444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E979-6384-4774-AB4A-B771E16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AE2C9-E833-4E63-8EE0-ECF64D09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B9B2-0B46-4BF4-8F74-D664D171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08E9-DFCA-489A-868E-356A14CB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94841-D123-4B25-A200-2095BC94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6DE-5EA7-4FE0-9F3F-6CF4C398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CE3E-7950-406E-9915-7276ADF6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731B-39CD-4696-8EF4-ACD16E06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A64A-DA69-4A09-B92D-D99B9736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5229-7D20-4948-8338-51EE4BF5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B0600-FCE7-4268-8462-4640F649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7EE8-AF11-4696-812B-12463EEB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FC2F0-5AA2-48D4-B8F5-278C30F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A8729-033E-4191-88B0-BAD4AB15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FC79F-D5B1-4FD6-A0DB-E8301E99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67044-3CBA-4416-ADFB-79A2EA70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436-1135-4788-AB70-6CFB65C6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16FC-503D-43CA-A6BE-518FFD9F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68C-F731-447B-A6B3-50F7154C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9AC-6CD8-4B36-A1BA-B08B8CAD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F69-D979-4624-A4BF-BE85EF1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8376-D0D8-4489-BB81-C31E0D19575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3D3A-D2FD-4B32-9633-9BD8FF080AB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4DE-85D5-4BDA-A115-6866DE5EC3C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A324-3E4F-4F71-A807-7AB9BFF1C23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8C5D-851B-4A10-B0BA-833CBD06C45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  <p:sp>
        <p:nvSpPr>
          <p:cNvPr id="225" name="Рамка 6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4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5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6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9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20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3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30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3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6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9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2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5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0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Рамка 3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1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7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8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4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5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8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9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90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3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Admin</cp:lastModifiedBy>
  <dcterms:modified xsi:type="dcterms:W3CDTF">2012-10-20T09:00:56Z</dcterms:modified>
  <cp:revision>40</cp:revision>
  <dc:subject/>
  <dc:title>Тип Членистоногие</dc:title>
</cp:coreProperties>
</file>