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061-DDC0-4061-B438-DFD0376D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1C2-66AF-4268-BBF2-E1D2442E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E99-CDDA-456B-83DF-9971342C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4B4-EFD3-4E5C-9489-95904C07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0ADB-0C30-41BE-89C4-2747DF3D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7AEB-CCEF-4E0D-A1D5-4738199C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D99C-FFF6-408C-BC61-DA719779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121A-2BD9-4BA6-9879-5DF4569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2BFE-9E1A-4136-ACD1-70D1093B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9081-4029-4812-8C19-CC0BBE6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3632-1A7C-4AF3-96CA-FCC012E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DAF-3116-4CDD-A316-755EFB8D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5137-3668-442B-9481-5FBE88A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F739-3778-4031-8D42-409D10B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7DDD-016D-4F4C-BA62-1694C838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D826-FC8A-42D3-A069-68BB55F1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B7D5-4957-43FA-8FAF-9123DD31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8C4-7BD8-4C42-9608-15654774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D01-2E45-4ED7-8027-8B6579D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074-F834-4266-AC43-3BAAA090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4DF-DFE6-40BD-A7DC-B139F41C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E63-07AD-4732-B6B2-AB6F4B0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DDA-6F84-4CD5-AD20-20E4D844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CE1-6D5C-46A1-9C33-E29634C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B00-C754-4C41-834E-D7209B083ACB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3301-82F2-4DAE-ACBF-9F12DE73B967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Arial"/>
              </a:rPr>
              <a:t>БУС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Бума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"/>
          <p:cNvSpPr/>
          <p:nvPr/>
        </p:nvSpPr>
        <p:spPr>
          <a:xfrm flipV="1">
            <a:off x="4495680" y="1523880"/>
            <a:ext cx="15264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V="1">
            <a:off x="5486400" y="4267080"/>
            <a:ext cx="76320" cy="76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43360" cy="3371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6" descr="http://miryarche.ru/wp-content/uploads/2012/06/1-d0b1d183d181d18b-d0b8d0b7-d0b1d183d0bcd0b0d0b3d0b8.jpg"/>
          <p:cNvPicPr/>
          <p:nvPr/>
        </p:nvPicPr>
        <p:blipFill>
          <a:blip r:embed="rId1"/>
          <a:stretch/>
        </p:blipFill>
        <p:spPr>
          <a:xfrm>
            <a:off x="762120" y="873000"/>
            <a:ext cx="792468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88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крученная бусина откладывается в сторону, не снимая с проволоки или зубочистки. Таким же аналогичным методом формируются и остальные бумажные бусины. Когда они все будут готовы, их надо покрыть лаком, и отложить пока они хорошенько подсохн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3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4419720" y="2971800"/>
            <a:ext cx="424800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467240" y="228600"/>
            <a:ext cx="4194000" cy="2438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fffa"/>
                </a:solidFill>
                <a:latin typeface="Arial"/>
              </a:rPr>
              <a:t>Декорирование краск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481040" y="2362320"/>
            <a:ext cx="2484360" cy="3724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761000" y="3090960"/>
            <a:ext cx="3770280" cy="2266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fffa"/>
                </a:solidFill>
                <a:latin typeface="Arial"/>
              </a:rPr>
              <a:t>Готовые, подсохшие бумажные бусины нанизываются на ленту или плотную нитку. Чтобы каждая бусина не скользила и была зафиксирована, необходимо между ними завязать двойной узел. На концах нитки закрепляется застёжка. </a:t>
            </a:r>
            <a:r>
              <a:rPr b="1" lang="ru-RU" sz="2000" spc="-1" strike="noStrike">
                <a:solidFill>
                  <a:srgbClr val="34fffa"/>
                </a:solidFill>
                <a:latin typeface="Arial"/>
              </a:rPr>
              <a:t>Бусы своими руками из бумаги</a:t>
            </a:r>
            <a:r>
              <a:rPr b="0" lang="ru-RU" sz="2000" spc="-1" strike="noStrike">
                <a:solidFill>
                  <a:srgbClr val="34fffa"/>
                </a:solidFill>
                <a:latin typeface="Arial"/>
              </a:rPr>
              <a:t> готов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4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838080" y="2590920"/>
            <a:ext cx="3770280" cy="309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0" descr="http://img0.liveinternet.ru/images/attach/c/5/87/826/87826344_large_1.jpg"/>
          <p:cNvPicPr/>
          <p:nvPr/>
        </p:nvPicPr>
        <p:blipFill>
          <a:blip r:embed="rId1"/>
          <a:stretch/>
        </p:blipFill>
        <p:spPr>
          <a:xfrm>
            <a:off x="1549440" y="808200"/>
            <a:ext cx="6350040" cy="5232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1" descr="http://recyclart.ru/images/1294.jpg"/>
          <p:cNvPicPr/>
          <p:nvPr/>
        </p:nvPicPr>
        <p:blipFill>
          <a:blip r:embed="rId1"/>
          <a:stretch/>
        </p:blipFill>
        <p:spPr>
          <a:xfrm>
            <a:off x="304920" y="22860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7" descr="http://www.wowoman.ru/wp-content/uploads/2010/02/effemera-origami-map-necklace.jpg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Объект 2" descr=""/>
          <p:cNvPicPr/>
          <p:nvPr/>
        </p:nvPicPr>
        <p:blipFill>
          <a:blip r:embed="rId1"/>
          <a:stretch/>
        </p:blipFill>
        <p:spPr>
          <a:xfrm>
            <a:off x="1771560" y="1214280"/>
            <a:ext cx="5905440" cy="4419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0" descr="http://artogorod.com/uploads/images/00/00/02/2011/10/14/f84816b352.jpg"/>
          <p:cNvPicPr/>
          <p:nvPr/>
        </p:nvPicPr>
        <p:blipFill>
          <a:blip r:embed="rId1"/>
          <a:stretch/>
        </p:blipFill>
        <p:spPr>
          <a:xfrm>
            <a:off x="2371680" y="1171440"/>
            <a:ext cx="4705560" cy="4505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ект учениц 7-10 класс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2822400" y="1749600"/>
            <a:ext cx="3724560" cy="4957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0" y="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2" descr="http://recyclart.ru/images/1295.jpg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5" descr="http://www.youloveit.ru/uploads/posts/2012-11/1351969032_youloveit_ru_paper03.jpg"/>
          <p:cNvPicPr/>
          <p:nvPr/>
        </p:nvPicPr>
        <p:blipFill>
          <a:blip r:embed="rId3"/>
          <a:stretch/>
        </p:blipFill>
        <p:spPr>
          <a:xfrm>
            <a:off x="3714840" y="3476520"/>
            <a:ext cx="5429160" cy="3381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://hobbycafe.ru/wp-content/uploads/2011/09/Wavy-Cut-Paper-Bead-How-To.jpg"/>
          <p:cNvPicPr/>
          <p:nvPr/>
        </p:nvPicPr>
        <p:blipFill>
          <a:blip r:embed="rId4"/>
          <a:stretch/>
        </p:blipFill>
        <p:spPr>
          <a:xfrm>
            <a:off x="0" y="36576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 подготовлен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ом дополнительного образования Тимкиной Мариной Борисов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С(К)ОШ 1, 2 ви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Нижневартовс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МАО-ЮГ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Как сделать красивые, легкие, экологически чистые и эксклюзивные бусы из бумаг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Идея изготовления таких бусин из бумаги принадлежит компании MZURIBEADS, которые профессионально занимаются изготовлением бумажных бусин и экспортируют данный товар из Уганды на мировой рынок украшений с 2006 года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Инструменты и материалы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ножниц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к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линей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проволо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игол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зубочис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л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Выбираем бумагу и материалы для изготовления бусин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Цветные страницы старых ненужных журналов или цветастые плакаты. </a:t>
            </a:r>
            <a:br>
              <a:rPr sz="1800"/>
            </a:b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Если вам хочется сделать однотонные бусины, то и бумагу придется искать такую. К примеру, чтобы сделать полностью синюю бусину, найдите станицу с фотографией океана. </a:t>
            </a:r>
            <a:br>
              <a:rPr sz="1800"/>
            </a:b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Подойдут журналы "Vogue" , "Cosmopolitan" или старые молодежные музыкальные пост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mg_40f3642f6b0357d153fde5322abf742d" descr="http://doit-yourself.ru/upload/watermark_images_2/5c6902dea544831d8717560b27cfbfea.gif"/>
          <p:cNvPicPr/>
          <p:nvPr/>
        </p:nvPicPr>
        <p:blipFill>
          <a:blip r:embed="rId1"/>
          <a:stretch/>
        </p:blipFill>
        <p:spPr>
          <a:xfrm>
            <a:off x="4761000" y="2960640"/>
            <a:ext cx="3770280" cy="2525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Раскраиваем и вырезаем бумагу для бусин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На этом этапе инструкции вам необходимо разложить бумагу на плоской поверхности и вооружиться ручкой и длинной линейкой. Начните с треугольника, обозначенного на фото Красным: 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Чем толще бумага, тем крупнее бусина!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img_f8bc03fcdd24852d98f9fb9fa29e8ea9" descr="http://doit-yourself.ru/upload/watermark_images_2/42958ca35a40d5b3540a8a3ce8d7eaf9.gif"/>
          <p:cNvPicPr/>
          <p:nvPr/>
        </p:nvPicPr>
        <p:blipFill>
          <a:blip r:embed="rId1"/>
          <a:stretch/>
        </p:blipFill>
        <p:spPr>
          <a:xfrm>
            <a:off x="1182600" y="2362320"/>
            <a:ext cx="3079800" cy="3724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Используйте обыкновенную тонкую шариковую ручку, а не жирный маркер!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Нарисуйте точку (точку С), на расстоянии 2 см от верхнего угла (точка А) и на расстоянии 1см от нижнего угла (точка В)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Возьмите линейку и проведите линию из точки А в точку В, а затем в точку С, и вот у вас получился идеальный треугольник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родолжайте это монотонное, рутинное занятие, пока вы не разрисуете зигзагами всю страницу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Аккуратно вырежете ваши треугольники и выкиньте бракованный треугольник, на иллюстрации отмеченный синим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8" descr="http://www.samsysam.ru/wp-content/uploads/2012/03/%D0%B1%D1%83%D1%81%D1%8B-%D0%B8%D0%B7-%D0%B1%D1%83%D0%BC%D0%B0%D0%B3%D0%B8.jpg"/>
          <p:cNvPicPr/>
          <p:nvPr/>
        </p:nvPicPr>
        <p:blipFill>
          <a:blip r:embed="rId1"/>
          <a:stretch/>
        </p:blipFill>
        <p:spPr>
          <a:xfrm>
            <a:off x="304920" y="228600"/>
            <a:ext cx="5079960" cy="45975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http://img-fotki.yandex.ru/get/4505/cem-cema.71/0_43f79_5f8d2a10_L.jpg"/>
          <p:cNvPicPr/>
          <p:nvPr/>
        </p:nvPicPr>
        <p:blipFill>
          <a:blip r:embed="rId2"/>
          <a:stretch/>
        </p:blipFill>
        <p:spPr>
          <a:xfrm>
            <a:off x="5715000" y="4191120"/>
            <a:ext cx="3048120" cy="202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fffa"/>
                </a:solidFill>
                <a:latin typeface="Arial"/>
              </a:rPr>
              <a:t>Теперь берется проволока или зубочистка, и на неё необходимо очень туго намотать бумажную заготовку-треугольник. Начинается импровизированная бусина с намотки широкой стороны. Бумага на «стержень» должна ложиться гладко и ровно. Чтобы бусина в будущем не размоталась, на внутреннюю сторону бумаги нужно обязательно нанести тонкий слой клея или хотя бы зафиксировать клеем только лишь конец (вершину)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02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