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631-9912-4D2D-BC52-AB09EA67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086-5FC8-41D1-99D1-12E1A527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055-6ECD-4F96-BF68-B0CBC4C1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E70-E3C9-4A14-AE65-6860AE1F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D84F-34BF-4A7B-9AF5-AA8C69E9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55CF-FA75-4972-8E85-60813A52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431F-5608-47C4-93B0-0EE14023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FF0A-2B67-4B30-85F8-679526AA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122D-DF23-420F-9CE1-43C6B6CC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6909-E7AC-459F-B428-E8778918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9532-117B-4D91-8AFB-CBC0029E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5A67-DF99-4592-9E72-7CDDA77C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E3F3-F535-4984-8D37-8299ED83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3A63-1B93-43A1-91FE-FAC9CC33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5362-FF3D-4464-994B-4289E07D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0615-1805-430E-9938-FFDE5B85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474A-4AF9-4814-97C5-4CC24867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B54-2307-4031-A291-A1E5965D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C82-162A-4BA1-AE2D-A8A8E4C3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D52-5D04-4DB6-8AFB-1D7A947C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811A-2AB1-459B-842F-A26CE911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EFA-F272-4A38-8E2E-EEA837D6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E80-8439-4D75-AFC8-19D457FE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0FB-E9FF-46DB-8D9B-4416EAF9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C566-57B7-40E9-8E50-DC97EDDE48AF}" type="slidenum">
              <a:rPr b="1" lang="ru-RU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8532-2122-420D-999E-5D2D3CE709F7}" type="slidenum">
              <a:rPr b="1" lang="ru-RU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cc"/>
                </a:solidFill>
                <a:latin typeface="Arial"/>
              </a:rPr>
              <a:t>БУС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Бума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ая соединительная линия 2"/>
          <p:cNvSpPr/>
          <p:nvPr/>
        </p:nvSpPr>
        <p:spPr>
          <a:xfrm flipV="1">
            <a:off x="4495680" y="1523880"/>
            <a:ext cx="152640" cy="1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 flipV="1">
            <a:off x="5486400" y="4267080"/>
            <a:ext cx="76320" cy="76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743360" cy="3371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6" descr="http://miryarche.ru/wp-content/uploads/2012/06/1-d0b1d183d181d18b-d0b8d0b7-d0b1d183d0bcd0b0d0b3d0b8.jpg"/>
          <p:cNvPicPr/>
          <p:nvPr/>
        </p:nvPicPr>
        <p:blipFill>
          <a:blip r:embed="rId1"/>
          <a:stretch/>
        </p:blipFill>
        <p:spPr>
          <a:xfrm>
            <a:off x="762120" y="873000"/>
            <a:ext cx="7924680" cy="5143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488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крученная бусина откладывается в сторону, не снимая с проволоки или зубочистки. Таким же аналогичным методом формируются и остальные бумажные бусины. Когда они все будут готовы, их надо покрыть лаком, и отложить пока они хорошенько подсохн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Рисунок 3" descr="Бусы из бумаги своими руками"/>
          <p:cNvPicPr/>
          <p:nvPr/>
        </p:nvPicPr>
        <p:blipFill>
          <a:blip r:embed="rId1"/>
          <a:stretch/>
        </p:blipFill>
        <p:spPr>
          <a:xfrm>
            <a:off x="4419720" y="2971800"/>
            <a:ext cx="4248000" cy="361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4467240" y="228600"/>
            <a:ext cx="4194000" cy="2438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fffa"/>
                </a:solidFill>
                <a:latin typeface="Arial"/>
              </a:rPr>
              <a:t>Декорирование краско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481040" y="2362320"/>
            <a:ext cx="2484360" cy="3724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4761000" y="3090960"/>
            <a:ext cx="3770280" cy="2266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733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fffa"/>
                </a:solidFill>
                <a:latin typeface="Arial"/>
              </a:rPr>
              <a:t>Готовые, подсохшие бумажные бусины нанизываются на ленту или плотную нитку. Чтобы каждая бусина не скользила и была зафиксирована, необходимо между ними завязать двойной узел. На концах нитки закрепляется застёжка. </a:t>
            </a:r>
            <a:r>
              <a:rPr b="1" lang="ru-RU" sz="2000" spc="-1" strike="noStrike">
                <a:solidFill>
                  <a:srgbClr val="34fffa"/>
                </a:solidFill>
                <a:latin typeface="Arial"/>
              </a:rPr>
              <a:t>Бусы своими руками из бумаги</a:t>
            </a:r>
            <a:r>
              <a:rPr b="0" lang="ru-RU" sz="2000" spc="-1" strike="noStrike">
                <a:solidFill>
                  <a:srgbClr val="34fffa"/>
                </a:solidFill>
                <a:latin typeface="Arial"/>
              </a:rPr>
              <a:t> готовы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Рисунок 4" descr="Бусы из бумаги своими руками"/>
          <p:cNvPicPr/>
          <p:nvPr/>
        </p:nvPicPr>
        <p:blipFill>
          <a:blip r:embed="rId1"/>
          <a:stretch/>
        </p:blipFill>
        <p:spPr>
          <a:xfrm>
            <a:off x="838080" y="2590920"/>
            <a:ext cx="3770280" cy="3092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0" descr="http://img0.liveinternet.ru/images/attach/c/5/87/826/87826344_large_1.jpg"/>
          <p:cNvPicPr/>
          <p:nvPr/>
        </p:nvPicPr>
        <p:blipFill>
          <a:blip r:embed="rId1"/>
          <a:stretch/>
        </p:blipFill>
        <p:spPr>
          <a:xfrm>
            <a:off x="1549440" y="808200"/>
            <a:ext cx="6350040" cy="5232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31" descr="http://recyclart.ru/images/1294.jpg"/>
          <p:cNvPicPr/>
          <p:nvPr/>
        </p:nvPicPr>
        <p:blipFill>
          <a:blip r:embed="rId1"/>
          <a:stretch/>
        </p:blipFill>
        <p:spPr>
          <a:xfrm>
            <a:off x="304920" y="228600"/>
            <a:ext cx="5238720" cy="348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7" descr="http://www.wowoman.ru/wp-content/uploads/2010/02/effemera-origami-map-necklace.jpg"/>
          <p:cNvPicPr/>
          <p:nvPr/>
        </p:nvPicPr>
        <p:blipFill>
          <a:blip r:embed="rId2"/>
          <a:stretch/>
        </p:blipFill>
        <p:spPr>
          <a:xfrm>
            <a:off x="4800600" y="3200400"/>
            <a:ext cx="3809880" cy="3143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Объект 2" descr=""/>
          <p:cNvPicPr/>
          <p:nvPr/>
        </p:nvPicPr>
        <p:blipFill>
          <a:blip r:embed="rId1"/>
          <a:stretch/>
        </p:blipFill>
        <p:spPr>
          <a:xfrm>
            <a:off x="1771560" y="1214280"/>
            <a:ext cx="5905440" cy="4419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40" descr="http://artogorod.com/uploads/images/00/00/02/2011/10/14/f84816b352.jpg"/>
          <p:cNvPicPr/>
          <p:nvPr/>
        </p:nvPicPr>
        <p:blipFill>
          <a:blip r:embed="rId1"/>
          <a:stretch/>
        </p:blipFill>
        <p:spPr>
          <a:xfrm>
            <a:off x="2371680" y="1171440"/>
            <a:ext cx="4705560" cy="4505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ект учениц 7-10 класс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Объект 4" descr=""/>
          <p:cNvPicPr/>
          <p:nvPr/>
        </p:nvPicPr>
        <p:blipFill>
          <a:blip r:embed="rId1"/>
          <a:stretch/>
        </p:blipFill>
        <p:spPr>
          <a:xfrm>
            <a:off x="2822400" y="1749600"/>
            <a:ext cx="3724560" cy="4957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Бусы из бумаги своими руками"/>
          <p:cNvPicPr/>
          <p:nvPr/>
        </p:nvPicPr>
        <p:blipFill>
          <a:blip r:embed="rId1"/>
          <a:stretch/>
        </p:blipFill>
        <p:spPr>
          <a:xfrm>
            <a:off x="0" y="0"/>
            <a:ext cx="4191120" cy="43434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2" descr="http://recyclart.ru/images/1295.jpg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5" descr="http://www.youloveit.ru/uploads/posts/2012-11/1351969032_youloveit_ru_paper03.jpg"/>
          <p:cNvPicPr/>
          <p:nvPr/>
        </p:nvPicPr>
        <p:blipFill>
          <a:blip r:embed="rId3"/>
          <a:stretch/>
        </p:blipFill>
        <p:spPr>
          <a:xfrm>
            <a:off x="3714840" y="3476520"/>
            <a:ext cx="5429160" cy="3381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http://hobbycafe.ru/wp-content/uploads/2011/09/Wavy-Cut-Paper-Bead-How-To.jpg"/>
          <p:cNvPicPr/>
          <p:nvPr/>
        </p:nvPicPr>
        <p:blipFill>
          <a:blip r:embed="rId4"/>
          <a:stretch/>
        </p:blipFill>
        <p:spPr>
          <a:xfrm>
            <a:off x="0" y="365760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 подготовлен: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ом дополнительного образования Тимкиной Мариной Борисов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С(К)ОШ 1, 2 ви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 Нижневартовс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МАО-ЮГ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Как сделать красивые, легкие, экологически чистые и эксклюзивные бусы из бумаги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Идея изготовления таких бусин из бумаги принадлежит компании MZURIBEADS, которые профессионально занимаются изготовлением бумажных бусин и экспортируют данный товар из Уганды на мировой рынок украшений с 2006 года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Инструменты и материалы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ножниц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к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линей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проволо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игол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зубочист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ла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Выбираем бумагу и материалы для изготовления бусин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Цветные страницы старых ненужных журналов или цветастые плакаты. </a:t>
            </a:r>
            <a:br>
              <a:rPr sz="1800"/>
            </a:b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Если вам хочется сделать однотонные бусины, то и бумагу придется искать такую. К примеру, чтобы сделать полностью синюю бусину, найдите станицу с фотографией океана. </a:t>
            </a:r>
            <a:br>
              <a:rPr sz="1800"/>
            </a:b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Подойдут журналы "Vogue" , "Cosmopolitan" или старые молодежные музыкальные пост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img_40f3642f6b0357d153fde5322abf742d" descr="http://doit-yourself.ru/upload/watermark_images_2/5c6902dea544831d8717560b27cfbfea.gif"/>
          <p:cNvPicPr/>
          <p:nvPr/>
        </p:nvPicPr>
        <p:blipFill>
          <a:blip r:embed="rId1"/>
          <a:stretch/>
        </p:blipFill>
        <p:spPr>
          <a:xfrm>
            <a:off x="4761000" y="2960640"/>
            <a:ext cx="3770280" cy="2525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cc"/>
                </a:solidFill>
                <a:latin typeface="Arial"/>
              </a:rPr>
              <a:t>Раскраиваем и вырезаем бумагу для бусин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На этом этапе инструкции вам необходимо разложить бумагу на плоской поверхности и вооружиться ручкой и длинной линейкой. Начните с треугольника, обозначенного на фото Красным: </a:t>
            </a: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Чем толще бумага, тем крупнее бусина!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img_f8bc03fcdd24852d98f9fb9fa29e8ea9" descr="http://doit-yourself.ru/upload/watermark_images_2/42958ca35a40d5b3540a8a3ce8d7eaf9.gif"/>
          <p:cNvPicPr/>
          <p:nvPr/>
        </p:nvPicPr>
        <p:blipFill>
          <a:blip r:embed="rId1"/>
          <a:stretch/>
        </p:blipFill>
        <p:spPr>
          <a:xfrm>
            <a:off x="1182600" y="2362320"/>
            <a:ext cx="3079800" cy="3724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Используйте обыкновенную тонкую шариковую ручку, а не жирный маркер!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Нарисуйте точку (точку С), на расстоянии 2 см от верхнего угла (точка А) и на расстоянии 1см от нижнего угла (точка В).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Возьмите линейку и проведите линию из точки А в точку В, а затем в точку С, и вот у вас получился идеальный треугольник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Продолжайте это монотонное, рутинное занятие, пока вы не разрисуете зигзагами всю страницу.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Аккуратно вырежете ваши треугольники и выкиньте бракованный треугольник, на иллюстрации отмеченный синим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28" descr="http://www.samsysam.ru/wp-content/uploads/2012/03/%D0%B1%D1%83%D1%81%D1%8B-%D0%B8%D0%B7-%D0%B1%D1%83%D0%BC%D0%B0%D0%B3%D0%B8.jpg"/>
          <p:cNvPicPr/>
          <p:nvPr/>
        </p:nvPicPr>
        <p:blipFill>
          <a:blip r:embed="rId1"/>
          <a:stretch/>
        </p:blipFill>
        <p:spPr>
          <a:xfrm>
            <a:off x="304920" y="228600"/>
            <a:ext cx="5079960" cy="45975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" descr="http://img-fotki.yandex.ru/get/4505/cem-cema.71/0_43f79_5f8d2a10_L.jpg"/>
          <p:cNvPicPr/>
          <p:nvPr/>
        </p:nvPicPr>
        <p:blipFill>
          <a:blip r:embed="rId2"/>
          <a:stretch/>
        </p:blipFill>
        <p:spPr>
          <a:xfrm>
            <a:off x="5715000" y="4191120"/>
            <a:ext cx="3048120" cy="202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fffa"/>
                </a:solidFill>
                <a:latin typeface="Arial"/>
              </a:rPr>
              <a:t>Теперь берется проволока или зубочистка, и на неё необходимо очень туго намотать бумажную заготовку-треугольник. Начинается импровизированная бусина с намотки широкой стороны. Бумага на «стержень» должна ложиться гладко и ровно. Чтобы бусина в будущем не размоталась, на внутреннюю сторону бумаги нужно обязательно нанести тонкий слой клея или хотя бы зафиксировать клеем только лишь конец (вершину)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02T06:02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