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gif" ContentType="image/gif"/>
  <Override PartName="/ppt/media/image27.gif" ContentType="image/gif"/>
  <Override PartName="/ppt/media/image39.gif" ContentType="image/gif"/>
  <Override PartName="/ppt/media/image40.gif" ContentType="image/gif"/>
  <Override PartName="/ppt/media/image43.gif" ContentType="image/gif"/>
  <Override PartName="/ppt/media/image33.jpeg" ContentType="image/jpeg"/>
  <Override PartName="/ppt/media/image46.gif" ContentType="image/gif"/>
  <Override PartName="/ppt/media/image49.png" ContentType="image/png"/>
  <Override PartName="/ppt/media/image51.png" ContentType="image/png"/>
  <Override PartName="/ppt/media/image42.jpeg" ContentType="image/jpeg"/>
  <Override PartName="/ppt/media/image31.png" ContentType="image/png"/>
  <Override PartName="/ppt/media/image47.jpeg" ContentType="image/jpeg"/>
  <Override PartName="/ppt/media/image41.gif" ContentType="image/gif"/>
  <Override PartName="/ppt/media/image4.png" ContentType="image/png"/>
  <Override PartName="/ppt/media/image50.png" ContentType="image/png"/>
  <Override PartName="/ppt/media/image13.png" ContentType="image/png"/>
  <Override PartName="/ppt/media/image36.gif" ContentType="image/gif"/>
  <Override PartName="/ppt/media/image52.png" ContentType="image/png"/>
  <Override PartName="/ppt/media/image30.jpeg" ContentType="image/jpeg"/>
  <Override PartName="/ppt/media/image12.gif" ContentType="image/gif"/>
  <Override PartName="/ppt/media/image15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4.gif" ContentType="image/gif"/>
  <Override PartName="/ppt/media/image37.png" ContentType="image/png"/>
  <Override PartName="/ppt/media/image34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D8A4-E060-49BB-8FB0-E9BEDFE53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4A8-063C-4765-B589-C56F630C2B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C18-CE98-473A-86C4-86E696B6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E02-D719-4D62-84A9-991772A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DD6-CF47-4F52-8F9D-B74E01DB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557-FE7F-4344-A317-B950FA23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DB9-658F-4512-8019-AAE2C192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EE-283A-4D5B-A088-C7A04AE1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4DE-DAD5-4DBC-A403-E8EF460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CE7-A5BE-4699-A73C-A8CEAFA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793-5C6B-4AAC-AEC2-00FDB50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130-B2BC-4989-B2CD-680FF06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536-B8CB-487E-94A4-FECFF6C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FFC-2E53-4180-9680-42569A0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EBA-B692-4299-B38E-48CD654B5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технологи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280" y="5489280"/>
            <a:ext cx="63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дготовил: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ГБОУ СОШ №10  г.о.Чапае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Капитан Е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1090440" y="1566720"/>
            <a:ext cx="6737400" cy="283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1\Desktop\0d262d9a00bb42b5c99d4892e2ae1128.jpg"/>
          <p:cNvPicPr/>
          <p:nvPr/>
        </p:nvPicPr>
        <p:blipFill>
          <a:blip r:embed="rId2"/>
          <a:stretch/>
        </p:blipFill>
        <p:spPr>
          <a:xfrm>
            <a:off x="250920" y="4581360"/>
            <a:ext cx="3120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мен не по г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хож на чемод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Начинать работу строго, с разрешения педаг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Любит мышка, чтобы были руки чистыми, сух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Шнуры, розетки,    провода не надо трогать   никог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В одежде мокрой не входить, руки тоже не моч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пину ровно ты держи, на расстоянии 60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 экрана ты си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работал, почитал, все, что нужно, записал. Ты компьютер отключи, со стола все убе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.Если где-то заискрит, или что-нибудь дым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ремя попусту не трать – нужно учителя поз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1\Desktop\конкурс\0c3613ef6a7e3b17f4ed0e9f4ad96b19_1M.png"/>
          <p:cNvPicPr/>
          <p:nvPr/>
        </p:nvPicPr>
        <p:blipFill>
          <a:blip r:embed="rId1"/>
          <a:stretch/>
        </p:blipFill>
        <p:spPr>
          <a:xfrm>
            <a:off x="4575240" y="0"/>
            <a:ext cx="136368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1\Desktop\t4_589572.gif"/>
          <p:cNvPicPr/>
          <p:nvPr/>
        </p:nvPicPr>
        <p:blipFill>
          <a:blip r:embed="rId2"/>
          <a:stretch/>
        </p:blipFill>
        <p:spPr>
          <a:xfrm>
            <a:off x="7375680" y="0"/>
            <a:ext cx="14810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говорились две ног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ать дуги и к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цирку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размахивать циркул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ржать в готовальн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1\Desktop\13392532228547.gif"/>
          <p:cNvPicPr/>
          <p:nvPr/>
        </p:nvPicPr>
        <p:blipFill>
          <a:blip r:embed="rId1"/>
          <a:stretch/>
        </p:blipFill>
        <p:spPr>
          <a:xfrm>
            <a:off x="6516720" y="260280"/>
            <a:ext cx="24224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к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й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ист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жн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да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1\Desktop\Мультяшка.gif"/>
          <p:cNvPicPr/>
          <p:nvPr/>
        </p:nvPicPr>
        <p:blipFill>
          <a:blip r:embed="rId1"/>
          <a:stretch/>
        </p:blipFill>
        <p:spPr>
          <a:xfrm>
            <a:off x="5649840" y="260280"/>
            <a:ext cx="3494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5"/>
          <p:cNvSpPr/>
          <p:nvPr/>
        </p:nvSpPr>
        <p:spPr>
          <a:xfrm>
            <a:off x="2050920" y="1628640"/>
            <a:ext cx="4537080" cy="417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7"/>
          <p:cNvSpPr/>
          <p:nvPr/>
        </p:nvSpPr>
        <p:spPr>
          <a:xfrm>
            <a:off x="3348000" y="2060640"/>
            <a:ext cx="576360" cy="30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9"/>
          <p:cNvSpPr/>
          <p:nvPr/>
        </p:nvSpPr>
        <p:spPr>
          <a:xfrm flipV="1">
            <a:off x="3924360" y="3860640"/>
            <a:ext cx="3311640" cy="1224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2556000" y="3213000"/>
            <a:ext cx="511164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3"/>
          <p:cNvSpPr/>
          <p:nvPr/>
        </p:nvSpPr>
        <p:spPr>
          <a:xfrm flipV="1">
            <a:off x="2556000" y="4076280"/>
            <a:ext cx="5040360" cy="730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1692360" y="1773360"/>
            <a:ext cx="5759280" cy="33843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3" descr=""/>
          <p:cNvPicPr/>
          <p:nvPr/>
        </p:nvPicPr>
        <p:blipFill>
          <a:blip r:embed="rId1"/>
          <a:stretch/>
        </p:blipFill>
        <p:spPr>
          <a:xfrm>
            <a:off x="6235560" y="1311120"/>
            <a:ext cx="2878200" cy="110340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2" descr=""/>
          <p:cNvPicPr/>
          <p:nvPr/>
        </p:nvPicPr>
        <p:blipFill>
          <a:blip r:embed="rId2"/>
          <a:stretch/>
        </p:blipFill>
        <p:spPr>
          <a:xfrm>
            <a:off x="-55440" y="5315040"/>
            <a:ext cx="5481360" cy="1189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35" descr=""/>
          <p:cNvPicPr/>
          <p:nvPr/>
        </p:nvPicPr>
        <p:blipFill>
          <a:blip r:embed="rId3"/>
          <a:stretch/>
        </p:blipFill>
        <p:spPr>
          <a:xfrm>
            <a:off x="5407200" y="5346720"/>
            <a:ext cx="3639960" cy="110340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узел 36"/>
          <p:cNvSpPr/>
          <p:nvPr/>
        </p:nvSpPr>
        <p:spPr>
          <a:xfrm>
            <a:off x="4716360" y="2852640"/>
            <a:ext cx="142920" cy="1447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37" descr=""/>
          <p:cNvPicPr/>
          <p:nvPr/>
        </p:nvPicPr>
        <p:blipFill>
          <a:blip r:embed="rId4"/>
          <a:stretch/>
        </p:blipFill>
        <p:spPr>
          <a:xfrm>
            <a:off x="3524400" y="2073240"/>
            <a:ext cx="140796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Равнобедренный треугольник 38"/>
          <p:cNvSpPr/>
          <p:nvPr/>
        </p:nvSpPr>
        <p:spPr>
          <a:xfrm>
            <a:off x="1619280" y="1125360"/>
            <a:ext cx="5905440" cy="504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идактическая игр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6" name="Прямоугольник 3"/>
          <p:cNvGrpSpPr/>
          <p:nvPr/>
        </p:nvGrpSpPr>
        <p:grpSpPr>
          <a:xfrm>
            <a:off x="334800" y="1590840"/>
            <a:ext cx="1841760" cy="1914480"/>
            <a:chOff x="334800" y="1590840"/>
            <a:chExt cx="1841760" cy="191448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34800" y="1590840"/>
              <a:ext cx="18417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5280" y="1628640"/>
              <a:ext cx="1728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4"/>
          <p:cNvGrpSpPr/>
          <p:nvPr/>
        </p:nvGrpSpPr>
        <p:grpSpPr>
          <a:xfrm>
            <a:off x="2494080" y="1590840"/>
            <a:ext cx="1773000" cy="1695240"/>
            <a:chOff x="2494080" y="1590840"/>
            <a:chExt cx="1773000" cy="1695240"/>
          </a:xfrm>
        </p:grpSpPr>
        <p:pic>
          <p:nvPicPr>
            <p:cNvPr id="110" name="Овал 4" descr=""/>
            <p:cNvPicPr/>
            <p:nvPr/>
          </p:nvPicPr>
          <p:blipFill>
            <a:blip r:embed="rId3"/>
            <a:stretch/>
          </p:blipFill>
          <p:spPr>
            <a:xfrm>
              <a:off x="2494080" y="1590840"/>
              <a:ext cx="17730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98640" y="1860480"/>
              <a:ext cx="11700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Равнобедренный треугольник 5"/>
          <p:cNvGrpSpPr/>
          <p:nvPr/>
        </p:nvGrpSpPr>
        <p:grpSpPr>
          <a:xfrm>
            <a:off x="4438800" y="1590840"/>
            <a:ext cx="1846080" cy="1549080"/>
            <a:chOff x="4438800" y="1590840"/>
            <a:chExt cx="1846080" cy="1549080"/>
          </a:xfrm>
        </p:grpSpPr>
        <p:pic>
          <p:nvPicPr>
            <p:cNvPr id="113" name="Равнобедренный треугольник 5" descr=""/>
            <p:cNvPicPr/>
            <p:nvPr/>
          </p:nvPicPr>
          <p:blipFill>
            <a:blip r:embed="rId4"/>
            <a:stretch/>
          </p:blipFill>
          <p:spPr>
            <a:xfrm>
              <a:off x="4438800" y="1590840"/>
              <a:ext cx="184608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32360" y="2349360"/>
              <a:ext cx="86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Трапеция 7"/>
          <p:cNvGrpSpPr/>
          <p:nvPr/>
        </p:nvGrpSpPr>
        <p:grpSpPr>
          <a:xfrm>
            <a:off x="6529320" y="1590840"/>
            <a:ext cx="2060640" cy="1549080"/>
            <a:chOff x="6529320" y="1590840"/>
            <a:chExt cx="2060640" cy="1549080"/>
          </a:xfrm>
        </p:grpSpPr>
        <p:pic>
          <p:nvPicPr>
            <p:cNvPr id="116" name="Трапеция 7" descr=""/>
            <p:cNvPicPr/>
            <p:nvPr/>
          </p:nvPicPr>
          <p:blipFill>
            <a:blip r:embed="rId5"/>
            <a:stretch/>
          </p:blipFill>
          <p:spPr>
            <a:xfrm>
              <a:off x="6529320" y="1590840"/>
              <a:ext cx="206064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827760" y="1806480"/>
              <a:ext cx="14652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Овал 8"/>
          <p:cNvGrpSpPr/>
          <p:nvPr/>
        </p:nvGrpSpPr>
        <p:grpSpPr>
          <a:xfrm>
            <a:off x="768240" y="4114800"/>
            <a:ext cx="2346480" cy="1023840"/>
            <a:chOff x="768240" y="4114800"/>
            <a:chExt cx="2346480" cy="1023840"/>
          </a:xfrm>
        </p:grpSpPr>
        <p:pic>
          <p:nvPicPr>
            <p:cNvPr id="119" name="Овал 8" descr=""/>
            <p:cNvPicPr/>
            <p:nvPr/>
          </p:nvPicPr>
          <p:blipFill>
            <a:blip r:embed="rId6"/>
            <a:stretch/>
          </p:blipFill>
          <p:spPr>
            <a:xfrm>
              <a:off x="768240" y="4114800"/>
              <a:ext cx="23464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154160" y="4282920"/>
              <a:ext cx="1579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Шестиугольник 9"/>
          <p:cNvGrpSpPr/>
          <p:nvPr/>
        </p:nvGrpSpPr>
        <p:grpSpPr>
          <a:xfrm>
            <a:off x="3645000" y="3754440"/>
            <a:ext cx="1987560" cy="1762200"/>
            <a:chOff x="3645000" y="3754440"/>
            <a:chExt cx="1987560" cy="1762200"/>
          </a:xfrm>
        </p:grpSpPr>
        <p:pic>
          <p:nvPicPr>
            <p:cNvPr id="122" name="Шестиугольник 9" descr=""/>
            <p:cNvPicPr/>
            <p:nvPr/>
          </p:nvPicPr>
          <p:blipFill>
            <a:blip r:embed="rId7"/>
            <a:stretch/>
          </p:blipFill>
          <p:spPr>
            <a:xfrm>
              <a:off x="3645000" y="3754440"/>
              <a:ext cx="19875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002120" y="4049640"/>
              <a:ext cx="128412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Блок-схема: решение 10"/>
          <p:cNvGrpSpPr/>
          <p:nvPr/>
        </p:nvGrpSpPr>
        <p:grpSpPr>
          <a:xfrm>
            <a:off x="5950080" y="3895560"/>
            <a:ext cx="2779560" cy="1548000"/>
            <a:chOff x="5950080" y="3895560"/>
            <a:chExt cx="2779560" cy="1548000"/>
          </a:xfrm>
        </p:grpSpPr>
        <p:pic>
          <p:nvPicPr>
            <p:cNvPr id="125" name="Блок-схема: решение 10" descr=""/>
            <p:cNvPicPr/>
            <p:nvPr/>
          </p:nvPicPr>
          <p:blipFill>
            <a:blip r:embed="rId8"/>
            <a:stretch/>
          </p:blipFill>
          <p:spPr>
            <a:xfrm>
              <a:off x="5950080" y="3895560"/>
              <a:ext cx="277956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678720" y="4292640"/>
              <a:ext cx="133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0.00531 L -0.37795 -0.31985 E">
                                      <p:cBhvr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2054E-006 L 0.37813 0.2833 E">
                                      <p:cBhvr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6.37373E-006 L -0.39375 0.31453 E">
                                      <p:cBhvr>
                                        <p:cTn id="23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6 -0.00393 L 0.37414 -0.32909 E">
                                      <p:cBhvr>
                                        <p:cTn id="23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ометрическ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ертить отрезок АВ = 6см. Чему равна ½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чертить горизонтальную  прям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ертить лу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чертить тупой уго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ачертить замкнутую кривую ли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Начертить незамкнутую ломаную линию из 3 звень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идактическая игра №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1\Desktop\6a051e656d5d8d6416671afe521cfdee.jpg"/>
          <p:cNvPicPr/>
          <p:nvPr/>
        </p:nvPicPr>
        <p:blipFill>
          <a:blip r:embed="rId1"/>
          <a:stretch/>
        </p:blipFill>
        <p:spPr>
          <a:xfrm>
            <a:off x="900000" y="1197000"/>
            <a:ext cx="74059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Физ. Минутк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1\Desktop\65043e9dca2c17e581d786298a0241b5.gif"/>
          <p:cNvPicPr/>
          <p:nvPr/>
        </p:nvPicPr>
        <p:blipFill>
          <a:blip r:embed="rId2"/>
          <a:stretch/>
        </p:blipFill>
        <p:spPr>
          <a:xfrm>
            <a:off x="6732720" y="0"/>
            <a:ext cx="172692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1\Desktop\65353980_d4af2b78ce764594e412c483ee0ae97c.gif"/>
          <p:cNvPicPr/>
          <p:nvPr/>
        </p:nvPicPr>
        <p:blipFill>
          <a:blip r:embed="rId3"/>
          <a:stretch/>
        </p:blipFill>
        <p:spPr>
          <a:xfrm>
            <a:off x="2268360" y="1628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Игра « Геометрическая мозаи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1\Desktop\el0s5pimccv.gif"/>
          <p:cNvPicPr/>
          <p:nvPr/>
        </p:nvPicPr>
        <p:blipFill>
          <a:blip r:embed="rId2"/>
          <a:stretch/>
        </p:blipFill>
        <p:spPr>
          <a:xfrm>
            <a:off x="6156360" y="0"/>
            <a:ext cx="3270240" cy="1989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395280" y="1557360"/>
            <a:ext cx="3097080" cy="3240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5"/>
          <p:cNvSpPr/>
          <p:nvPr/>
        </p:nvSpPr>
        <p:spPr>
          <a:xfrm rot="5400000">
            <a:off x="4019760" y="3693240"/>
            <a:ext cx="3240000" cy="2568600"/>
          </a:xfrm>
          <a:prstGeom prst="triangle">
            <a:avLst>
              <a:gd name="adj" fmla="val 1000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"/>
          <p:cNvSpPr/>
          <p:nvPr/>
        </p:nvSpPr>
        <p:spPr>
          <a:xfrm rot="16200000">
            <a:off x="5675400" y="2109600"/>
            <a:ext cx="3241440" cy="2568600"/>
          </a:xfrm>
          <a:prstGeom prst="triangle">
            <a:avLst>
              <a:gd name="adj" fmla="val 10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DSCN1374"/>
          <p:cNvPicPr/>
          <p:nvPr/>
        </p:nvPicPr>
        <p:blipFill>
          <a:blip r:embed="rId3"/>
          <a:stretch/>
        </p:blipFill>
        <p:spPr>
          <a:xfrm>
            <a:off x="395280" y="1557360"/>
            <a:ext cx="820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9593E-006 L -5.55556E-007 0.1154 E">
                                      <p:cBhvr>
                                        <p:cTn id="273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75486E-006 L -0.10243 -0.14686 E">
                                      <p:cBhvr>
                                        <p:cTn id="2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573 L -0.28351 0.07886 E">
                                      <p:cBhvr>
                                        <p:cTn id="28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 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предстоит создать групповой проект, который мы будем использовать на уроках математики и техноло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1\Desktop\2216865_8.jpg"/>
          <p:cNvPicPr/>
          <p:nvPr/>
        </p:nvPicPr>
        <p:blipFill>
          <a:blip r:embed="rId1"/>
          <a:stretch/>
        </p:blipFill>
        <p:spPr>
          <a:xfrm>
            <a:off x="250920" y="3141720"/>
            <a:ext cx="4306680" cy="3038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1\Desktop\figure1.gif"/>
          <p:cNvPicPr/>
          <p:nvPr/>
        </p:nvPicPr>
        <p:blipFill>
          <a:blip r:embed="rId2"/>
          <a:stretch/>
        </p:blipFill>
        <p:spPr>
          <a:xfrm>
            <a:off x="5148360" y="2781360"/>
            <a:ext cx="3108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формировать у детей навыки выполнять аппликации из геометрических фигур, совершенствовать навыки работы с бумагой, клеем, ножницами, воспитать экономное, бережное отношение рабочего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во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ехнологических приемов, что включает в себя знакомство с инструментами и материалами, техническими средствами, а также технику безопасности при работе с ни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 детей определенных знаний, умений и навыков при построении геометрических фигу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воначальных конструкторско-технологических знаний и ум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знакомле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миром информационных и компьютерных технологий, освоение простейших приемов работы на компьютере с учетом техники безопас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спитатель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бужде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творческой активности детей, стимулирование воображения, желания включаться в творческую деятельнос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отивации успеха и достижений, творческой самореализации на основе организации предметно-преобразующей деятель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ни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ного подхода к использованию различных материалов для творчества, природных ресурсов, пониманию проблем экологии окружающей сре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Этапы произво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1\Desktop\youngrzdru_8325836_9309973.jpg"/>
          <p:cNvPicPr/>
          <p:nvPr/>
        </p:nvPicPr>
        <p:blipFill>
          <a:blip r:embed="rId1"/>
          <a:stretch/>
        </p:blipFill>
        <p:spPr>
          <a:xfrm>
            <a:off x="1258920" y="1268280"/>
            <a:ext cx="1800360" cy="2506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1\Desktop\b247289da6c5.jpg"/>
          <p:cNvPicPr/>
          <p:nvPr/>
        </p:nvPicPr>
        <p:blipFill>
          <a:blip r:embed="rId2"/>
          <a:stretch/>
        </p:blipFill>
        <p:spPr>
          <a:xfrm>
            <a:off x="579600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1\Desktop\architect-640.jpg"/>
          <p:cNvPicPr/>
          <p:nvPr/>
        </p:nvPicPr>
        <p:blipFill>
          <a:blip r:embed="rId3"/>
          <a:stretch/>
        </p:blipFill>
        <p:spPr>
          <a:xfrm>
            <a:off x="1258920" y="4221000"/>
            <a:ext cx="2376360" cy="1974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1\Desktop\9834.jpg"/>
          <p:cNvPicPr/>
          <p:nvPr/>
        </p:nvPicPr>
        <p:blipFill>
          <a:blip r:embed="rId4"/>
          <a:stretch/>
        </p:blipFill>
        <p:spPr>
          <a:xfrm>
            <a:off x="6156360" y="3860640"/>
            <a:ext cx="1593720" cy="2449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право 8"/>
          <p:cNvSpPr/>
          <p:nvPr/>
        </p:nvSpPr>
        <p:spPr>
          <a:xfrm>
            <a:off x="3419640" y="2205000"/>
            <a:ext cx="172872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9"/>
          <p:cNvSpPr/>
          <p:nvPr/>
        </p:nvSpPr>
        <p:spPr>
          <a:xfrm rot="3879000">
            <a:off x="4363920" y="2980800"/>
            <a:ext cx="409680" cy="17114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1280" y="5164560"/>
            <a:ext cx="2153520" cy="16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ыбор капитана команды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0" y="0"/>
            <a:ext cx="1655640" cy="123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1\Desktop\загруженное.gif"/>
          <p:cNvPicPr/>
          <p:nvPr/>
        </p:nvPicPr>
        <p:blipFill>
          <a:blip r:embed="rId2"/>
          <a:stretch/>
        </p:blipFill>
        <p:spPr>
          <a:xfrm>
            <a:off x="3276720" y="1413000"/>
            <a:ext cx="2519280" cy="2520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5" descr=""/>
          <p:cNvPicPr/>
          <p:nvPr/>
        </p:nvPicPr>
        <p:blipFill>
          <a:blip r:embed="rId3"/>
          <a:stretch/>
        </p:blipFill>
        <p:spPr>
          <a:xfrm>
            <a:off x="1511280" y="4608360"/>
            <a:ext cx="567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 рабо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Составление рисунка аппликации. (ноутбу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Разметка деталей. (На обратной стороне цветной бумаги, экономно расходовать бумагу, точность в выполнении чертеже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Вырезание. (Т.Б. с ножниц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Монтаж. Расположение деталей на основе без кле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Наклеивание. (Т.Б. с клее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Уборка рабочих мес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Защита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C:\Users\1\Desktop\13820180391581.gif"/>
          <p:cNvPicPr/>
          <p:nvPr/>
        </p:nvPicPr>
        <p:blipFill>
          <a:blip r:embed="rId1"/>
          <a:stretch/>
        </p:blipFill>
        <p:spPr>
          <a:xfrm>
            <a:off x="5796000" y="4292640"/>
            <a:ext cx="280836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Физ.минут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вои помощники, взгля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ок дружных пальце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хорошо, когда о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ы не боя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ак хороший мальчи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н каждый паль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зобразите параллельные, вертикальные, горизонтальные линии,   окружность или круг, треугольник, пересекающиеся прямые ли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C:\Users\1\Desktop\1120490.gif"/>
          <p:cNvPicPr/>
          <p:nvPr/>
        </p:nvPicPr>
        <p:blipFill>
          <a:blip r:embed="rId1"/>
          <a:stretch/>
        </p:blipFill>
        <p:spPr>
          <a:xfrm>
            <a:off x="6012000" y="260280"/>
            <a:ext cx="295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амостоятельная рабо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C:\Users\1\Desktop\1275025633_u.gif"/>
          <p:cNvPicPr/>
          <p:nvPr/>
        </p:nvPicPr>
        <p:blipFill>
          <a:blip r:embed="rId1"/>
          <a:stretch/>
        </p:blipFill>
        <p:spPr>
          <a:xfrm>
            <a:off x="1908000" y="981000"/>
            <a:ext cx="5328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борка рабочих м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C:\Users\1\Desktop\0_7f36b_1407ea2b_XL.gif"/>
          <p:cNvPicPr/>
          <p:nvPr/>
        </p:nvPicPr>
        <p:blipFill>
          <a:blip r:embed="rId1"/>
          <a:stretch/>
        </p:blipFill>
        <p:spPr>
          <a:xfrm>
            <a:off x="2484360" y="98100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щита проек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1\Desktop\clp541772.jpg"/>
          <p:cNvPicPr/>
          <p:nvPr/>
        </p:nvPicPr>
        <p:blipFill>
          <a:blip r:embed="rId1"/>
          <a:stretch/>
        </p:blipFill>
        <p:spPr>
          <a:xfrm>
            <a:off x="1979640" y="126828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Users\1\Desktop\0_5c7fb_fcb30867_XL.gif"/>
          <p:cNvPicPr/>
          <p:nvPr/>
        </p:nvPicPr>
        <p:blipFill>
          <a:blip r:embed="rId2"/>
          <a:stretch/>
        </p:blipFill>
        <p:spPr>
          <a:xfrm>
            <a:off x="1258920" y="2060640"/>
            <a:ext cx="6702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ценки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1\Desktop\Z3D_bz00789.gif"/>
          <p:cNvPicPr/>
          <p:nvPr/>
        </p:nvPicPr>
        <p:blipFill>
          <a:blip r:embed="rId2"/>
          <a:stretch/>
        </p:blipFill>
        <p:spPr>
          <a:xfrm>
            <a:off x="1692360" y="2133720"/>
            <a:ext cx="2232000" cy="3730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1\Desktop\104.gif"/>
          <p:cNvPicPr/>
          <p:nvPr/>
        </p:nvPicPr>
        <p:blipFill>
          <a:blip r:embed="rId3"/>
          <a:stretch/>
        </p:blipFill>
        <p:spPr>
          <a:xfrm>
            <a:off x="5076720" y="2133720"/>
            <a:ext cx="2117880" cy="386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1\Desktop\89883908_0_40c04_cc0951e8_L.gif"/>
          <p:cNvPicPr/>
          <p:nvPr/>
        </p:nvPicPr>
        <p:blipFill>
          <a:blip r:embed="rId4"/>
          <a:stretch/>
        </p:blipFill>
        <p:spPr>
          <a:xfrm>
            <a:off x="7740720" y="189000"/>
            <a:ext cx="11635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5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 Я сегодня   я    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ыло  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выполнял  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понял, 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перь я  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очувствовал, 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приобре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научил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   меня   получилось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2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Я   попробую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3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ня  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4. 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рок  дал   мне   для  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5. 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не   захоте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1\Desktop\220672-Row-Of-School-Boy-And-School-Girl-Faces-Under-A-Chalk-Board.jpg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1765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6948360" y="1773360"/>
            <a:ext cx="194472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2436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996000" cy="245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Users\1\Desktop\0b14427fa9f8639360711a4869704673.jpg"/>
          <p:cNvPicPr/>
          <p:nvPr/>
        </p:nvPicPr>
        <p:blipFill>
          <a:blip r:embed="rId3"/>
          <a:stretch/>
        </p:blipFill>
        <p:spPr>
          <a:xfrm>
            <a:off x="0" y="981000"/>
            <a:ext cx="878508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мостоятельного мышления, умения сравнивать, анализирова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чи, памяти, вним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нсорной сферы: глазомер, форма, ориентирование в пространст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ультуры: слушать партнёра, уметь договариваться,  аргументировать свою точку зрения;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енного мышл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ммуникативной компетентности  школьников на основе организации совместной продуктив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наково-символического и пространственного мышления, творческого и репродуктивного воображения (на основе решения задач по моделированию и отображению объекта и процесса его преобразования в форме моделей: рисунков, планов),  творческого мышления (на основе решения конструкторско-технологических зада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улятивной структуры деятельности, включающей прогнозирование (предвосхищение будущего результата при различных условиях выполнения действия), контроль, коррекцию и оцен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стетических представлений и критериев на основе художественно-конструктор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1\Desktop\63136665_5f8350820dd8.png"/>
          <p:cNvPicPr/>
          <p:nvPr/>
        </p:nvPicPr>
        <p:blipFill>
          <a:blip r:embed="rId1"/>
          <a:stretch/>
        </p:blipFill>
        <p:spPr>
          <a:xfrm>
            <a:off x="611280" y="260280"/>
            <a:ext cx="5113080" cy="338616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4" descr=""/>
          <p:cNvPicPr/>
          <p:nvPr/>
        </p:nvPicPr>
        <p:blipFill>
          <a:blip r:embed="rId2"/>
          <a:stretch/>
        </p:blipFill>
        <p:spPr>
          <a:xfrm>
            <a:off x="23760" y="3322800"/>
            <a:ext cx="8944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чусь учить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99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осознаю, выбираю, творю (личност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планирую, контролирую, корректирую,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оцениваю (регуля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анализирую, моделирую, ищу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(познаватель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a42700"/>
                </a:solidFill>
                <a:latin typeface="Calibri"/>
              </a:rPr>
              <a:t>Я действую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                              общаюсь, обсуждаю, взаимодействую,      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Calibri"/>
              </a:rPr>
              <a:t>    сотрудничаю (коммуникативные УУ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rcRect l="59257" t="21746" r="18855" b="60480"/>
          <a:stretch/>
        </p:blipFill>
        <p:spPr>
          <a:xfrm>
            <a:off x="324000" y="2205000"/>
            <a:ext cx="2087280" cy="23367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8"/>
          <p:cNvSpPr/>
          <p:nvPr/>
        </p:nvSpPr>
        <p:spPr>
          <a:xfrm>
            <a:off x="2340000" y="1628640"/>
            <a:ext cx="216000" cy="3961080"/>
          </a:xfrm>
          <a:custGeom>
            <a:avLst/>
            <a:gdLst>
              <a:gd name="textAreaLeft" fmla="*/ 0 w 216000"/>
              <a:gd name="textAreaRight" fmla="*/ 151560 w 216000"/>
              <a:gd name="textAreaTop" fmla="*/ 164880 h 3961080"/>
              <a:gd name="textAreaBottom" fmla="*/ 379620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a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6"/>
          <p:cNvCxnSpPr/>
          <p:nvPr/>
        </p:nvCxnSpPr>
        <p:spPr>
          <a:xfrm flipV="1">
            <a:off x="2771280" y="1915920"/>
            <a:ext cx="187236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8"/>
          <p:cNvCxnSpPr/>
          <p:nvPr/>
        </p:nvCxnSpPr>
        <p:spPr>
          <a:xfrm flipV="1">
            <a:off x="2771280" y="2923920"/>
            <a:ext cx="20883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0"/>
          <p:cNvCxnSpPr/>
          <p:nvPr/>
        </p:nvCxnSpPr>
        <p:spPr>
          <a:xfrm>
            <a:off x="2771640" y="4149360"/>
            <a:ext cx="165672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2"/>
          <p:cNvCxnSpPr/>
          <p:nvPr/>
        </p:nvCxnSpPr>
        <p:spPr>
          <a:xfrm>
            <a:off x="2842920" y="5084280"/>
            <a:ext cx="10818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дидактическим целям и задач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повторения изуче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преобладающим метод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мым в трудовом обуче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й у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своих возможностей в практическом компоненте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одержанию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отка бума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 организации деятельности дет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Загад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раскрыли пасть, в нее бумагу можно кла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мага в нашей пасти разделится на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 с ножниц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ранить ножницы в футляр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играть, не бегать с ножницами по класс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ередавать ножницы кольцами впе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 оставлять ножницы на краю сто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перед грудью, следить за рук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Users\1\Desktop\1242075-._Version3.png"/>
          <p:cNvPicPr/>
          <p:nvPr/>
        </p:nvPicPr>
        <p:blipFill>
          <a:blip r:embed="rId1"/>
          <a:stretch/>
        </p:blipFill>
        <p:spPr>
          <a:xfrm>
            <a:off x="5219640" y="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549360"/>
            <a:ext cx="87692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лю прямот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ама прям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ть ровную чер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м я помога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Какие ед. измерения понадобятся, чтобы измерить длину муравья, тетра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В чём измеряется расстояние от Чапаевска  до Москвы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:\Users\1\Desktop\172565.jpg"/>
          <p:cNvPicPr/>
          <p:nvPr/>
        </p:nvPicPr>
        <p:blipFill>
          <a:blip r:embed="rId1"/>
          <a:stretch/>
        </p:blipFill>
        <p:spPr>
          <a:xfrm>
            <a:off x="6084720" y="333360"/>
            <a:ext cx="25974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ёрный  Ив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евянная рубаш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носом пове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м заметку кладет.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Какие виды карандаше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знае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1\Desktop\f_4e19df5037cc3.gif"/>
          <p:cNvPicPr/>
          <p:nvPr/>
        </p:nvPicPr>
        <p:blipFill>
          <a:blip r:embed="rId1"/>
          <a:stretch/>
        </p:blipFill>
        <p:spPr>
          <a:xfrm>
            <a:off x="5364000" y="692280"/>
            <a:ext cx="2867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 бумажным л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ет палочка хвост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не просто маш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бумагу клеем ма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Б.с кле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сторожно открывать крышку, не порезав пальц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ть кисточк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авить баночку с клеем в центр рабочего м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1\Desktop\6255_0.jpg"/>
          <p:cNvPicPr/>
          <p:nvPr/>
        </p:nvPicPr>
        <p:blipFill>
          <a:blip r:embed="rId1"/>
          <a:stretch/>
        </p:blipFill>
        <p:spPr>
          <a:xfrm>
            <a:off x="5076720" y="476280"/>
            <a:ext cx="3527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1:05:15Z</dcterms:created>
  <dc:creator>1</dc:creator>
  <dc:description/>
  <dc:language>en-US</dc:language>
  <cp:lastModifiedBy>1</cp:lastModifiedBy>
  <dcterms:modified xsi:type="dcterms:W3CDTF">2014-03-02T15:11:39Z</dcterms:modified>
  <cp:revision>52</cp:revision>
  <dc:subject/>
  <dc:title>Урок технологии 3 класс</dc:title>
</cp:coreProperties>
</file>