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3.gif" ContentType="image/gif"/>
  <Override PartName="/ppt/media/image27.gif" ContentType="image/gif"/>
  <Override PartName="/ppt/media/image39.gif" ContentType="image/gif"/>
  <Override PartName="/ppt/media/image40.gif" ContentType="image/gif"/>
  <Override PartName="/ppt/media/image43.gif" ContentType="image/gif"/>
  <Override PartName="/ppt/media/image33.jpeg" ContentType="image/jpeg"/>
  <Override PartName="/ppt/media/image46.gif" ContentType="image/gif"/>
  <Override PartName="/ppt/media/image49.png" ContentType="image/png"/>
  <Override PartName="/ppt/media/image51.png" ContentType="image/png"/>
  <Override PartName="/ppt/media/image42.jpeg" ContentType="image/jpeg"/>
  <Override PartName="/ppt/media/image31.png" ContentType="image/png"/>
  <Override PartName="/ppt/media/image47.jpeg" ContentType="image/jpeg"/>
  <Override PartName="/ppt/media/image41.gif" ContentType="image/gif"/>
  <Override PartName="/ppt/media/image4.png" ContentType="image/png"/>
  <Override PartName="/ppt/media/image50.png" ContentType="image/png"/>
  <Override PartName="/ppt/media/image13.png" ContentType="image/png"/>
  <Override PartName="/ppt/media/image36.gif" ContentType="image/gif"/>
  <Override PartName="/ppt/media/image52.png" ContentType="image/png"/>
  <Override PartName="/ppt/media/image30.jpeg" ContentType="image/jpeg"/>
  <Override PartName="/ppt/media/image12.gif" ContentType="image/gif"/>
  <Override PartName="/ppt/media/image15.png" ContentType="image/png"/>
  <Override PartName="/ppt/media/image45.gif" ContentType="image/gif"/>
  <Override PartName="/ppt/media/image38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44.gif" ContentType="image/gif"/>
  <Override PartName="/ppt/media/image37.png" ContentType="image/png"/>
  <Override PartName="/ppt/media/image34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3DE7-3400-48A7-8443-B794AE15E3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F016-7FAC-4B99-8851-B3A78E6FC8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5AD5-27FF-4401-B324-F133A1D9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4114-7DE6-4F94-B2C2-87199BD6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23E7-5B5C-43C9-AF23-5DCA4FD8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039-7918-4267-8977-28B4F16E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C730-7C61-4271-8F4E-8DED652E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789F-3C2E-4F73-86E3-F491919D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363-9252-4D94-A2BD-7048CE6C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9BA2-F880-40F5-8F60-10D3EDD6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B34-45CF-4EE4-AEFF-BCD2F58D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B8E4-477E-48C0-82AF-5199B13C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5301-2220-47A5-8D25-9741D1CC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C74F-95F6-4A42-9162-F466CC2C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D8FE-1BBE-4E3E-9C54-7B15E5CC3D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8.gi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gi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рок технологии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3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71280" y="5489280"/>
            <a:ext cx="6372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дготовил: 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ГБОУ СОШ №10  г.о.Чапаев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Капитан Е.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4" descr=""/>
          <p:cNvPicPr/>
          <p:nvPr/>
        </p:nvPicPr>
        <p:blipFill>
          <a:blip r:embed="rId1"/>
          <a:stretch/>
        </p:blipFill>
        <p:spPr>
          <a:xfrm>
            <a:off x="1090440" y="1566720"/>
            <a:ext cx="6737400" cy="283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1\Desktop\0d262d9a00bb42b5c99d4892e2ae1128.jpg"/>
          <p:cNvPicPr/>
          <p:nvPr/>
        </p:nvPicPr>
        <p:blipFill>
          <a:blip r:embed="rId2"/>
          <a:stretch/>
        </p:blipFill>
        <p:spPr>
          <a:xfrm>
            <a:off x="250920" y="4581360"/>
            <a:ext cx="3120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умен не по год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похож на чемод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1.Начинать работу строго, с разрешения педаго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Любит мышка, чтобы были руки чистыми, сухи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Шнуры, розетки,    провода не надо трогать   никог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В одежде мокрой не входить, руки тоже не мочи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пину ровно ты держи, на расстоянии 60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т экрана ты си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работал, почитал, все, что нужно, записал. Ты компьютер отключи, со стола все убер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7.Если где-то заискрит, или что-нибудь дыми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ремя попусту не трать – нужно учителя позв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1\Desktop\конкурс\0c3613ef6a7e3b17f4ed0e9f4ad96b19_1M.png"/>
          <p:cNvPicPr/>
          <p:nvPr/>
        </p:nvPicPr>
        <p:blipFill>
          <a:blip r:embed="rId1"/>
          <a:stretch/>
        </p:blipFill>
        <p:spPr>
          <a:xfrm>
            <a:off x="4575240" y="0"/>
            <a:ext cx="1363680" cy="126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C:\Users\1\Desktop\t4_589572.gif"/>
          <p:cNvPicPr/>
          <p:nvPr/>
        </p:nvPicPr>
        <p:blipFill>
          <a:blip r:embed="rId2"/>
          <a:stretch/>
        </p:blipFill>
        <p:spPr>
          <a:xfrm>
            <a:off x="7375680" y="0"/>
            <a:ext cx="148104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говорились две ног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лать дуги и кру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.Б. с циркул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 размахивать циркуле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ержать в готовальне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1\Desktop\13392532228547.gif"/>
          <p:cNvPicPr/>
          <p:nvPr/>
        </p:nvPicPr>
        <p:blipFill>
          <a:blip r:embed="rId1"/>
          <a:stretch/>
        </p:blipFill>
        <p:spPr>
          <a:xfrm>
            <a:off x="6516720" y="260280"/>
            <a:ext cx="242244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ку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й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голь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ист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жн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да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C:\Users\1\Desktop\Мультяшка.gif"/>
          <p:cNvPicPr/>
          <p:nvPr/>
        </p:nvPicPr>
        <p:blipFill>
          <a:blip r:embed="rId1"/>
          <a:stretch/>
        </p:blipFill>
        <p:spPr>
          <a:xfrm>
            <a:off x="5649840" y="260280"/>
            <a:ext cx="349416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ометрическая 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5"/>
          <p:cNvSpPr/>
          <p:nvPr/>
        </p:nvSpPr>
        <p:spPr>
          <a:xfrm>
            <a:off x="2050920" y="1628640"/>
            <a:ext cx="4537080" cy="4176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7"/>
          <p:cNvSpPr/>
          <p:nvPr/>
        </p:nvSpPr>
        <p:spPr>
          <a:xfrm>
            <a:off x="3348000" y="2060640"/>
            <a:ext cx="576360" cy="30240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9"/>
          <p:cNvSpPr/>
          <p:nvPr/>
        </p:nvSpPr>
        <p:spPr>
          <a:xfrm flipV="1">
            <a:off x="3924360" y="3860640"/>
            <a:ext cx="3311640" cy="12240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1"/>
          <p:cNvSpPr/>
          <p:nvPr/>
        </p:nvSpPr>
        <p:spPr>
          <a:xfrm>
            <a:off x="2556000" y="3213000"/>
            <a:ext cx="5111640" cy="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3"/>
          <p:cNvSpPr/>
          <p:nvPr/>
        </p:nvSpPr>
        <p:spPr>
          <a:xfrm flipV="1">
            <a:off x="2556000" y="4076280"/>
            <a:ext cx="5040360" cy="7308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1692360" y="1773360"/>
            <a:ext cx="5759280" cy="33843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Прямоугольник 23" descr=""/>
          <p:cNvPicPr/>
          <p:nvPr/>
        </p:nvPicPr>
        <p:blipFill>
          <a:blip r:embed="rId1"/>
          <a:stretch/>
        </p:blipFill>
        <p:spPr>
          <a:xfrm>
            <a:off x="6235560" y="1311120"/>
            <a:ext cx="2878200" cy="11034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32" descr=""/>
          <p:cNvPicPr/>
          <p:nvPr/>
        </p:nvPicPr>
        <p:blipFill>
          <a:blip r:embed="rId2"/>
          <a:stretch/>
        </p:blipFill>
        <p:spPr>
          <a:xfrm>
            <a:off x="-55440" y="5315040"/>
            <a:ext cx="5481360" cy="11890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3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4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35" descr=""/>
          <p:cNvPicPr/>
          <p:nvPr/>
        </p:nvPicPr>
        <p:blipFill>
          <a:blip r:embed="rId3"/>
          <a:stretch/>
        </p:blipFill>
        <p:spPr>
          <a:xfrm>
            <a:off x="5407200" y="5346720"/>
            <a:ext cx="3639960" cy="1103400"/>
          </a:xfrm>
          <a:prstGeom prst="rect">
            <a:avLst/>
          </a:prstGeom>
          <a:ln w="0">
            <a:noFill/>
          </a:ln>
        </p:spPr>
      </p:pic>
      <p:sp>
        <p:nvSpPr>
          <p:cNvPr id="101" name="Блок-схема: узел 36"/>
          <p:cNvSpPr/>
          <p:nvPr/>
        </p:nvSpPr>
        <p:spPr>
          <a:xfrm>
            <a:off x="4716360" y="2852640"/>
            <a:ext cx="142920" cy="1447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37" descr=""/>
          <p:cNvPicPr/>
          <p:nvPr/>
        </p:nvPicPr>
        <p:blipFill>
          <a:blip r:embed="rId4"/>
          <a:stretch/>
        </p:blipFill>
        <p:spPr>
          <a:xfrm>
            <a:off x="3524400" y="2073240"/>
            <a:ext cx="1407960" cy="1187640"/>
          </a:xfrm>
          <a:prstGeom prst="rect">
            <a:avLst/>
          </a:prstGeom>
          <a:ln w="0">
            <a:noFill/>
          </a:ln>
        </p:spPr>
      </p:pic>
      <p:sp>
        <p:nvSpPr>
          <p:cNvPr id="103" name="Равнобедренный треугольник 38"/>
          <p:cNvSpPr/>
          <p:nvPr/>
        </p:nvSpPr>
        <p:spPr>
          <a:xfrm>
            <a:off x="1619280" y="1125360"/>
            <a:ext cx="5905440" cy="5040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идактическая игра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06" name="Прямоугольник 3"/>
          <p:cNvGrpSpPr/>
          <p:nvPr/>
        </p:nvGrpSpPr>
        <p:grpSpPr>
          <a:xfrm>
            <a:off x="334800" y="1590840"/>
            <a:ext cx="1841760" cy="1914480"/>
            <a:chOff x="334800" y="1590840"/>
            <a:chExt cx="1841760" cy="1914480"/>
          </a:xfrm>
        </p:grpSpPr>
        <p:pic>
          <p:nvPicPr>
            <p:cNvPr id="107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34800" y="1590840"/>
              <a:ext cx="184176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95280" y="1628640"/>
              <a:ext cx="17287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Овал 4"/>
          <p:cNvGrpSpPr/>
          <p:nvPr/>
        </p:nvGrpSpPr>
        <p:grpSpPr>
          <a:xfrm>
            <a:off x="2494080" y="1590840"/>
            <a:ext cx="1773000" cy="1695240"/>
            <a:chOff x="2494080" y="1590840"/>
            <a:chExt cx="1773000" cy="1695240"/>
          </a:xfrm>
        </p:grpSpPr>
        <p:pic>
          <p:nvPicPr>
            <p:cNvPr id="110" name="Овал 4" descr=""/>
            <p:cNvPicPr/>
            <p:nvPr/>
          </p:nvPicPr>
          <p:blipFill>
            <a:blip r:embed="rId3"/>
            <a:stretch/>
          </p:blipFill>
          <p:spPr>
            <a:xfrm>
              <a:off x="2494080" y="1590840"/>
              <a:ext cx="177300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798640" y="1860480"/>
              <a:ext cx="117000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Равнобедренный треугольник 5"/>
          <p:cNvGrpSpPr/>
          <p:nvPr/>
        </p:nvGrpSpPr>
        <p:grpSpPr>
          <a:xfrm>
            <a:off x="4438800" y="1590840"/>
            <a:ext cx="1846080" cy="1549080"/>
            <a:chOff x="4438800" y="1590840"/>
            <a:chExt cx="1846080" cy="1549080"/>
          </a:xfrm>
        </p:grpSpPr>
        <p:pic>
          <p:nvPicPr>
            <p:cNvPr id="113" name="Равнобедренный треугольник 5" descr=""/>
            <p:cNvPicPr/>
            <p:nvPr/>
          </p:nvPicPr>
          <p:blipFill>
            <a:blip r:embed="rId4"/>
            <a:stretch/>
          </p:blipFill>
          <p:spPr>
            <a:xfrm>
              <a:off x="4438800" y="1590840"/>
              <a:ext cx="1846080" cy="15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932360" y="2349360"/>
              <a:ext cx="8636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Трапеция 7"/>
          <p:cNvGrpSpPr/>
          <p:nvPr/>
        </p:nvGrpSpPr>
        <p:grpSpPr>
          <a:xfrm>
            <a:off x="6529320" y="1590840"/>
            <a:ext cx="2060640" cy="1549080"/>
            <a:chOff x="6529320" y="1590840"/>
            <a:chExt cx="2060640" cy="1549080"/>
          </a:xfrm>
        </p:grpSpPr>
        <p:pic>
          <p:nvPicPr>
            <p:cNvPr id="116" name="Трапеция 7" descr=""/>
            <p:cNvPicPr/>
            <p:nvPr/>
          </p:nvPicPr>
          <p:blipFill>
            <a:blip r:embed="rId5"/>
            <a:stretch/>
          </p:blipFill>
          <p:spPr>
            <a:xfrm>
              <a:off x="6529320" y="1590840"/>
              <a:ext cx="2060640" cy="15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827760" y="1806480"/>
              <a:ext cx="1465200" cy="12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Овал 8"/>
          <p:cNvGrpSpPr/>
          <p:nvPr/>
        </p:nvGrpSpPr>
        <p:grpSpPr>
          <a:xfrm>
            <a:off x="768240" y="4114800"/>
            <a:ext cx="2346480" cy="1023840"/>
            <a:chOff x="768240" y="4114800"/>
            <a:chExt cx="2346480" cy="1023840"/>
          </a:xfrm>
        </p:grpSpPr>
        <p:pic>
          <p:nvPicPr>
            <p:cNvPr id="119" name="Овал 8" descr=""/>
            <p:cNvPicPr/>
            <p:nvPr/>
          </p:nvPicPr>
          <p:blipFill>
            <a:blip r:embed="rId6"/>
            <a:stretch/>
          </p:blipFill>
          <p:spPr>
            <a:xfrm>
              <a:off x="768240" y="4114800"/>
              <a:ext cx="23464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154160" y="4282920"/>
              <a:ext cx="157968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Шестиугольник 9"/>
          <p:cNvGrpSpPr/>
          <p:nvPr/>
        </p:nvGrpSpPr>
        <p:grpSpPr>
          <a:xfrm>
            <a:off x="3645000" y="3754440"/>
            <a:ext cx="1987560" cy="1762200"/>
            <a:chOff x="3645000" y="3754440"/>
            <a:chExt cx="1987560" cy="1762200"/>
          </a:xfrm>
        </p:grpSpPr>
        <p:pic>
          <p:nvPicPr>
            <p:cNvPr id="122" name="Шестиугольник 9" descr=""/>
            <p:cNvPicPr/>
            <p:nvPr/>
          </p:nvPicPr>
          <p:blipFill>
            <a:blip r:embed="rId7"/>
            <a:stretch/>
          </p:blipFill>
          <p:spPr>
            <a:xfrm>
              <a:off x="3645000" y="3754440"/>
              <a:ext cx="19875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002120" y="4049640"/>
              <a:ext cx="1284120" cy="11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Блок-схема: решение 10"/>
          <p:cNvGrpSpPr/>
          <p:nvPr/>
        </p:nvGrpSpPr>
        <p:grpSpPr>
          <a:xfrm>
            <a:off x="5950080" y="3895560"/>
            <a:ext cx="2779560" cy="1548000"/>
            <a:chOff x="5950080" y="3895560"/>
            <a:chExt cx="2779560" cy="1548000"/>
          </a:xfrm>
        </p:grpSpPr>
        <p:pic>
          <p:nvPicPr>
            <p:cNvPr id="125" name="Блок-схема: решение 10" descr=""/>
            <p:cNvPicPr/>
            <p:nvPr/>
          </p:nvPicPr>
          <p:blipFill>
            <a:blip r:embed="rId8"/>
            <a:stretch/>
          </p:blipFill>
          <p:spPr>
            <a:xfrm>
              <a:off x="5950080" y="3895560"/>
              <a:ext cx="277956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678720" y="4292640"/>
              <a:ext cx="1331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4 0.00531 L -0.37795 -0.31985 E">
                                      <p:cBhvr>
                                        <p:cTn id="22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82054E-006 L 0.37813 0.2833 E">
                                      <p:cBhvr>
                                        <p:cTn id="227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6.37373E-006 L -0.39375 0.31453 E">
                                      <p:cBhvr>
                                        <p:cTn id="231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6 -0.00393 L 0.37414 -0.32909 E">
                                      <p:cBhvr>
                                        <p:cTn id="235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Геометрический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иктан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чертить отрезок АВ = 6см. Чему равна ½ час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Начертить горизонтальную  пряму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ачертить лу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Начертить тупой уго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Начертить замкнутую кривую лин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Начертить незамкнутую ломаную линию из 3 звенье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идактическая игра №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Users\1\Desktop\6a051e656d5d8d6416671afe521cfdee.jpg"/>
          <p:cNvPicPr/>
          <p:nvPr/>
        </p:nvPicPr>
        <p:blipFill>
          <a:blip r:embed="rId1"/>
          <a:stretch/>
        </p:blipFill>
        <p:spPr>
          <a:xfrm>
            <a:off x="900000" y="1197000"/>
            <a:ext cx="74059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Физ. Минутка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1\Desktop\65043e9dca2c17e581d786298a0241b5.gif"/>
          <p:cNvPicPr/>
          <p:nvPr/>
        </p:nvPicPr>
        <p:blipFill>
          <a:blip r:embed="rId2"/>
          <a:stretch/>
        </p:blipFill>
        <p:spPr>
          <a:xfrm>
            <a:off x="6732720" y="0"/>
            <a:ext cx="172692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C:\Users\1\Desktop\65353980_d4af2b78ce764594e412c483ee0ae97c.gif"/>
          <p:cNvPicPr/>
          <p:nvPr/>
        </p:nvPicPr>
        <p:blipFill>
          <a:blip r:embed="rId3"/>
          <a:stretch/>
        </p:blipFill>
        <p:spPr>
          <a:xfrm>
            <a:off x="2268360" y="162864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Игра « Геометрическая мозаик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1\Desktop\el0s5pimccv.gif"/>
          <p:cNvPicPr/>
          <p:nvPr/>
        </p:nvPicPr>
        <p:blipFill>
          <a:blip r:embed="rId2"/>
          <a:stretch/>
        </p:blipFill>
        <p:spPr>
          <a:xfrm>
            <a:off x="6156360" y="0"/>
            <a:ext cx="3270240" cy="198900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4"/>
          <p:cNvSpPr/>
          <p:nvPr/>
        </p:nvSpPr>
        <p:spPr>
          <a:xfrm>
            <a:off x="395280" y="1557360"/>
            <a:ext cx="3097080" cy="3240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Равнобедренный треугольник 5"/>
          <p:cNvSpPr/>
          <p:nvPr/>
        </p:nvSpPr>
        <p:spPr>
          <a:xfrm rot="5400000">
            <a:off x="4019760" y="3693240"/>
            <a:ext cx="3240000" cy="2568600"/>
          </a:xfrm>
          <a:prstGeom prst="triangle">
            <a:avLst>
              <a:gd name="adj" fmla="val 10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6"/>
          <p:cNvSpPr/>
          <p:nvPr/>
        </p:nvSpPr>
        <p:spPr>
          <a:xfrm rot="16200000">
            <a:off x="5675400" y="2109600"/>
            <a:ext cx="3241440" cy="2568600"/>
          </a:xfrm>
          <a:prstGeom prst="triangle">
            <a:avLst>
              <a:gd name="adj" fmla="val 100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7" descr="DSCN1374"/>
          <p:cNvPicPr/>
          <p:nvPr/>
        </p:nvPicPr>
        <p:blipFill>
          <a:blip r:embed="rId3"/>
          <a:stretch/>
        </p:blipFill>
        <p:spPr>
          <a:xfrm>
            <a:off x="395280" y="1557360"/>
            <a:ext cx="8209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9593E-006 L -5.55556E-007 0.1154 E">
                                      <p:cBhvr>
                                        <p:cTn id="273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75486E-006 L -0.10243 -0.14686 E">
                                      <p:cBhvr>
                                        <p:cTn id="277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1573 L -0.28351 0.07886 E">
                                      <p:cBhvr>
                                        <p:cTn id="28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Цель 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м предстоит создать групповой проект, который мы будем использовать на уроках математики и технолог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C:\Users\1\Desktop\2216865_8.jpg"/>
          <p:cNvPicPr/>
          <p:nvPr/>
        </p:nvPicPr>
        <p:blipFill>
          <a:blip r:embed="rId1"/>
          <a:stretch/>
        </p:blipFill>
        <p:spPr>
          <a:xfrm>
            <a:off x="250920" y="3141720"/>
            <a:ext cx="4306680" cy="3038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:\Users\1\Desktop\figure1.gif"/>
          <p:cNvPicPr/>
          <p:nvPr/>
        </p:nvPicPr>
        <p:blipFill>
          <a:blip r:embed="rId2"/>
          <a:stretch/>
        </p:blipFill>
        <p:spPr>
          <a:xfrm>
            <a:off x="5148360" y="2781360"/>
            <a:ext cx="3108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Цель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476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формировать у детей навыки выполнять аппликации из геометрических фигур, совершенствовать навыки работы с бумагой, клеем, ножницами, воспитать экономное, бережное отношение рабочего материа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Образовательные задач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своени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технологических приемов, что включает в себя знакомство с инструментами и материалами, техническими средствами, а также технику безопасности при работе с ним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у детей определенных знаний, умений и навыков при построении геометрических фигур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ервоначальных конструкторско-технологических знаний и умени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знакомление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 миром информационных и компьютерных технологий, освоение простейших приемов работы на компьютере с учетом техники безопас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оспитательные задач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робуждени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творческой активности детей, стимулирование воображения, желания включаться в творческую деятельност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мотивации успеха и достижений, творческой самореализации на основе организации предметно-преобразующей деятель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оспитание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кономичного подхода к использованию различных материалов для творчества, природных ресурсов, пониманию проблем экологии окружающей сре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Этапы производ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C:\Users\1\Desktop\youngrzdru_8325836_9309973.jpg"/>
          <p:cNvPicPr/>
          <p:nvPr/>
        </p:nvPicPr>
        <p:blipFill>
          <a:blip r:embed="rId1"/>
          <a:stretch/>
        </p:blipFill>
        <p:spPr>
          <a:xfrm>
            <a:off x="1258920" y="1268280"/>
            <a:ext cx="1800360" cy="2506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Users\1\Desktop\b247289da6c5.jpg"/>
          <p:cNvPicPr/>
          <p:nvPr/>
        </p:nvPicPr>
        <p:blipFill>
          <a:blip r:embed="rId2"/>
          <a:stretch/>
        </p:blipFill>
        <p:spPr>
          <a:xfrm>
            <a:off x="5796000" y="148428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Users\1\Desktop\architect-640.jpg"/>
          <p:cNvPicPr/>
          <p:nvPr/>
        </p:nvPicPr>
        <p:blipFill>
          <a:blip r:embed="rId3"/>
          <a:stretch/>
        </p:blipFill>
        <p:spPr>
          <a:xfrm>
            <a:off x="1258920" y="4221000"/>
            <a:ext cx="2376360" cy="1974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C:\Users\1\Desktop\9834.jpg"/>
          <p:cNvPicPr/>
          <p:nvPr/>
        </p:nvPicPr>
        <p:blipFill>
          <a:blip r:embed="rId4"/>
          <a:stretch/>
        </p:blipFill>
        <p:spPr>
          <a:xfrm>
            <a:off x="6156360" y="3860640"/>
            <a:ext cx="1593720" cy="2449800"/>
          </a:xfrm>
          <a:prstGeom prst="rect">
            <a:avLst/>
          </a:prstGeom>
          <a:ln w="0">
            <a:noFill/>
          </a:ln>
        </p:spPr>
      </p:pic>
      <p:sp>
        <p:nvSpPr>
          <p:cNvPr id="151" name="Стрелка вправо 8"/>
          <p:cNvSpPr/>
          <p:nvPr/>
        </p:nvSpPr>
        <p:spPr>
          <a:xfrm>
            <a:off x="3419640" y="2205000"/>
            <a:ext cx="1728720" cy="36036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низ 9"/>
          <p:cNvSpPr/>
          <p:nvPr/>
        </p:nvSpPr>
        <p:spPr>
          <a:xfrm rot="3879000">
            <a:off x="4363920" y="2980800"/>
            <a:ext cx="409680" cy="17114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51280" y="5164560"/>
            <a:ext cx="2153520" cy="160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Выбор капитана команды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C:\Users\1\Desktop\13820180391581.gif"/>
          <p:cNvPicPr/>
          <p:nvPr/>
        </p:nvPicPr>
        <p:blipFill>
          <a:blip r:embed="rId1"/>
          <a:stretch/>
        </p:blipFill>
        <p:spPr>
          <a:xfrm>
            <a:off x="0" y="0"/>
            <a:ext cx="1655640" cy="1233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C:\Users\1\Desktop\загруженное.gif"/>
          <p:cNvPicPr/>
          <p:nvPr/>
        </p:nvPicPr>
        <p:blipFill>
          <a:blip r:embed="rId2"/>
          <a:stretch/>
        </p:blipFill>
        <p:spPr>
          <a:xfrm>
            <a:off x="3276720" y="1413000"/>
            <a:ext cx="2519280" cy="252072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5" descr=""/>
          <p:cNvPicPr/>
          <p:nvPr/>
        </p:nvPicPr>
        <p:blipFill>
          <a:blip r:embed="rId3"/>
          <a:stretch/>
        </p:blipFill>
        <p:spPr>
          <a:xfrm>
            <a:off x="1511280" y="4608360"/>
            <a:ext cx="56754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лан работ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Составление рисунка аппликации. (ноутбу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Разметка деталей. (На обратной стороне цветной бумаги, экономно расходовать бумагу, точность в выполнении чертеже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Вырезание. (Т.Б. с ножницам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Монтаж. Расположение деталей на основе без кле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Наклеивание. (Т.Б. с клеем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Уборка рабочих мес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Защита рабо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C:\Users\1\Desktop\13820180391581.gif"/>
          <p:cNvPicPr/>
          <p:nvPr/>
        </p:nvPicPr>
        <p:blipFill>
          <a:blip r:embed="rId1"/>
          <a:stretch/>
        </p:blipFill>
        <p:spPr>
          <a:xfrm>
            <a:off x="5796000" y="4292640"/>
            <a:ext cx="280836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Физ.минут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092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Твои помощники, взглян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сяток дружных пальце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хорошо, когда о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ы не боят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как хороший мальчик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ушан каждый пальч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Изобразите параллельные, вертикальные, горизонтальные линии,   окружность или круг, треугольник, пересекающиеся прямые ли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5" descr="C:\Users\1\Desktop\1120490.gif"/>
          <p:cNvPicPr/>
          <p:nvPr/>
        </p:nvPicPr>
        <p:blipFill>
          <a:blip r:embed="rId1"/>
          <a:stretch/>
        </p:blipFill>
        <p:spPr>
          <a:xfrm>
            <a:off x="6012000" y="260280"/>
            <a:ext cx="2955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5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1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4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амостоятельная рабо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C:\Users\1\Desktop\1275025633_u.gif"/>
          <p:cNvPicPr/>
          <p:nvPr/>
        </p:nvPicPr>
        <p:blipFill>
          <a:blip r:embed="rId1"/>
          <a:stretch/>
        </p:blipFill>
        <p:spPr>
          <a:xfrm>
            <a:off x="1908000" y="981000"/>
            <a:ext cx="532800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Уборка рабочих м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4" descr="C:\Users\1\Desktop\0_7f36b_1407ea2b_XL.gif"/>
          <p:cNvPicPr/>
          <p:nvPr/>
        </p:nvPicPr>
        <p:blipFill>
          <a:blip r:embed="rId1"/>
          <a:stretch/>
        </p:blipFill>
        <p:spPr>
          <a:xfrm>
            <a:off x="2484360" y="981000"/>
            <a:ext cx="4098960" cy="5616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ащита проек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C:\Users\1\Desktop\clp541772.jpg"/>
          <p:cNvPicPr/>
          <p:nvPr/>
        </p:nvPicPr>
        <p:blipFill>
          <a:blip r:embed="rId1"/>
          <a:stretch/>
        </p:blipFill>
        <p:spPr>
          <a:xfrm>
            <a:off x="1979640" y="1268280"/>
            <a:ext cx="5040360" cy="5040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Users\1\Desktop\0_5c7fb_fcb30867_XL.gif"/>
          <p:cNvPicPr/>
          <p:nvPr/>
        </p:nvPicPr>
        <p:blipFill>
          <a:blip r:embed="rId2"/>
          <a:stretch/>
        </p:blipFill>
        <p:spPr>
          <a:xfrm>
            <a:off x="1258920" y="2060640"/>
            <a:ext cx="67024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ценки за уро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C:\Users\1\Desktop\Z3D_bz00789.gif"/>
          <p:cNvPicPr/>
          <p:nvPr/>
        </p:nvPicPr>
        <p:blipFill>
          <a:blip r:embed="rId2"/>
          <a:stretch/>
        </p:blipFill>
        <p:spPr>
          <a:xfrm>
            <a:off x="1692360" y="2133720"/>
            <a:ext cx="2232000" cy="3730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C:\Users\1\Desktop\104.gif"/>
          <p:cNvPicPr/>
          <p:nvPr/>
        </p:nvPicPr>
        <p:blipFill>
          <a:blip r:embed="rId3"/>
          <a:stretch/>
        </p:blipFill>
        <p:spPr>
          <a:xfrm>
            <a:off x="5076720" y="2133720"/>
            <a:ext cx="2117880" cy="3867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C:\Users\1\Desktop\89883908_0_40c04_cc0951e8_L.gif"/>
          <p:cNvPicPr/>
          <p:nvPr/>
        </p:nvPicPr>
        <p:blipFill>
          <a:blip r:embed="rId4"/>
          <a:stretch/>
        </p:blipFill>
        <p:spPr>
          <a:xfrm>
            <a:off x="7740720" y="189000"/>
            <a:ext cx="11635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95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Итог уро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.  Я сегодня   я     узнал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ыло  интересн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ыло   трудн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   выполнял   задания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 понял,   чт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еперь я   могу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  почувствовал,  чт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8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  приобрел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9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   научился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0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У   меня   получилось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   смог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2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   попробую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3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еня   удивил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4. 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Урок  дал   мне   для   жизни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5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не   захотелось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C:\Users\1\Desktop\220672-Row-Of-School-Boy-And-School-Girl-Faces-Under-A-Chalk-Board.jpg"/>
          <p:cNvPicPr/>
          <p:nvPr/>
        </p:nvPicPr>
        <p:blipFill>
          <a:blip r:embed="rId1"/>
          <a:stretch/>
        </p:blipFill>
        <p:spPr>
          <a:xfrm>
            <a:off x="6948360" y="189000"/>
            <a:ext cx="1905120" cy="176508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4"/>
          <p:cNvSpPr/>
          <p:nvPr/>
        </p:nvSpPr>
        <p:spPr>
          <a:xfrm>
            <a:off x="6948360" y="1773360"/>
            <a:ext cx="1944720" cy="2872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42436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5003640" y="189000"/>
            <a:ext cx="3996000" cy="2458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C:\Users\1\Desktop\0b14427fa9f8639360711a4869704673.jpg"/>
          <p:cNvPicPr/>
          <p:nvPr/>
        </p:nvPicPr>
        <p:blipFill>
          <a:blip r:embed="rId3"/>
          <a:stretch/>
        </p:blipFill>
        <p:spPr>
          <a:xfrm>
            <a:off x="0" y="981000"/>
            <a:ext cx="878508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25992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вивающие задач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амостоятельного мышления, умения сравнивать, анализировать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ечи, памяти, вним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енсорной сферы: глазомер, форма, ориентирование в пространств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ммуникативной культуры: слушать партнёра, уметь договариваться,  аргументировать свою точку зрения;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странственного мышл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ммуникативной компетентности  школьников на основе организации совместной продуктивной дея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наково-символического и пространственного мышления, творческого и репродуктивного воображения (на основе решения задач по моделированию и отображению объекта и процесса его преобразования в форме моделей: рисунков, планов),  творческого мышления (на основе решения конструкторско-технологических задач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гулятивной структуры деятельности, включающей прогнозирование (предвосхищение будущего результата при различных условиях выполнения действия), контроль, коррекцию и оценк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эстетических представлений и критериев на основе художественно-конструкторск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C:\Users\1\Desktop\63136665_5f8350820dd8.png"/>
          <p:cNvPicPr/>
          <p:nvPr/>
        </p:nvPicPr>
        <p:blipFill>
          <a:blip r:embed="rId1"/>
          <a:stretch/>
        </p:blipFill>
        <p:spPr>
          <a:xfrm>
            <a:off x="611280" y="260280"/>
            <a:ext cx="5113080" cy="3386160"/>
          </a:xfrm>
          <a:prstGeom prst="rect">
            <a:avLst/>
          </a:prstGeom>
          <a:ln w="0">
            <a:noFill/>
          </a:ln>
        </p:spPr>
      </p:pic>
      <p:pic>
        <p:nvPicPr>
          <p:cNvPr id="188" name="Прямоугольник 4" descr=""/>
          <p:cNvPicPr/>
          <p:nvPr/>
        </p:nvPicPr>
        <p:blipFill>
          <a:blip r:embed="rId2"/>
          <a:stretch/>
        </p:blipFill>
        <p:spPr>
          <a:xfrm>
            <a:off x="23760" y="3322800"/>
            <a:ext cx="8944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Учусь учитьс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99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осознаю, выбираю, творю (личностные УУ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планирую, контролирую, корректирую, 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                  оцениваю (регулятивные УУ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анализирую, моделирую, ищу информац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(познавательные УУ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a42700"/>
                </a:solidFill>
                <a:latin typeface="Calibri"/>
              </a:rPr>
              <a:t>Я действую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                                  общаюсь, обсуждаю, взаимодействую,      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    сотрудничаю (коммуникативные УУ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8" descr=""/>
          <p:cNvPicPr/>
          <p:nvPr/>
        </p:nvPicPr>
        <p:blipFill>
          <a:blip r:embed="rId1"/>
          <a:srcRect l="59257" t="21746" r="18855" b="60480"/>
          <a:stretch/>
        </p:blipFill>
        <p:spPr>
          <a:xfrm>
            <a:off x="324000" y="2205000"/>
            <a:ext cx="2087280" cy="233676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8"/>
          <p:cNvSpPr/>
          <p:nvPr/>
        </p:nvSpPr>
        <p:spPr>
          <a:xfrm>
            <a:off x="2340000" y="1628640"/>
            <a:ext cx="216000" cy="3961080"/>
          </a:xfrm>
          <a:custGeom>
            <a:avLst/>
            <a:gdLst>
              <a:gd name="textAreaLeft" fmla="*/ 0 w 216000"/>
              <a:gd name="textAreaRight" fmla="*/ 151560 w 216000"/>
              <a:gd name="textAreaTop" fmla="*/ 164880 h 3961080"/>
              <a:gd name="textAreaBottom" fmla="*/ 3796200 h 396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a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6"/>
          <p:cNvCxnSpPr/>
          <p:nvPr/>
        </p:nvCxnSpPr>
        <p:spPr>
          <a:xfrm flipV="1">
            <a:off x="2771280" y="1915920"/>
            <a:ext cx="187236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8"/>
          <p:cNvCxnSpPr/>
          <p:nvPr/>
        </p:nvCxnSpPr>
        <p:spPr>
          <a:xfrm flipV="1">
            <a:off x="2771280" y="2923920"/>
            <a:ext cx="208836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10"/>
          <p:cNvCxnSpPr/>
          <p:nvPr/>
        </p:nvCxnSpPr>
        <p:spPr>
          <a:xfrm>
            <a:off x="2771640" y="4149360"/>
            <a:ext cx="165672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12"/>
          <p:cNvCxnSpPr/>
          <p:nvPr/>
        </p:nvCxnSpPr>
        <p:spPr>
          <a:xfrm>
            <a:off x="2842920" y="5084280"/>
            <a:ext cx="108180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дидактическим целям и задача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повторения изученн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преобладающим метода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пользуемым в трудовом обучен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ческий уро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изация своих возможностей в практическом компоненте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содержанию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ботка бума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а организации деятельности дете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уппов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Загад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76464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раскрыли пасть, в нее бумагу можно кла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мага в нашей пасти разделится на ч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.Б. с ножниц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хранить ножницы в футляр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 играть, не бегать с ножницами по классу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передавать ножницы кольцами вперед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 оставлять ножницы на краю сто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ботать перед грудью, следить за рук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C:\Users\1\Desktop\1242075-._Version3.png"/>
          <p:cNvPicPr/>
          <p:nvPr/>
        </p:nvPicPr>
        <p:blipFill>
          <a:blip r:embed="rId1"/>
          <a:stretch/>
        </p:blipFill>
        <p:spPr>
          <a:xfrm>
            <a:off x="5219640" y="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549360"/>
            <a:ext cx="876924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люблю прямот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сама прям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делать ровную черт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м я помога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Какие ед. измерения понадобятся, чтобы измерить длину муравья, тетрад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В чём измеряется расстояние от Чапаевска  до Москвы 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C:\Users\1\Desktop\172565.jpg"/>
          <p:cNvPicPr/>
          <p:nvPr/>
        </p:nvPicPr>
        <p:blipFill>
          <a:blip r:embed="rId1"/>
          <a:stretch/>
        </p:blipFill>
        <p:spPr>
          <a:xfrm>
            <a:off x="6084720" y="333360"/>
            <a:ext cx="25974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ёрный  Иваш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ревянная рубаш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носом поведе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м заметку кладет.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-Какие виды карандашей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знае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C:\Users\1\Desktop\f_4e19df5037cc3.gif"/>
          <p:cNvPicPr/>
          <p:nvPr/>
        </p:nvPicPr>
        <p:blipFill>
          <a:blip r:embed="rId1"/>
          <a:stretch/>
        </p:blipFill>
        <p:spPr>
          <a:xfrm>
            <a:off x="5364000" y="692280"/>
            <a:ext cx="28670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560" y="549360"/>
            <a:ext cx="8893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д бумажным лист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шет палочка хвост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не просто маше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бумагу клеем маж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.Б.с клее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осторожно открывать крышку, не порезав пальц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ботать кисточко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тавить баночку с клеем в центр рабочего ме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1\Desktop\6255_0.jpg"/>
          <p:cNvPicPr/>
          <p:nvPr/>
        </p:nvPicPr>
        <p:blipFill>
          <a:blip r:embed="rId1"/>
          <a:stretch/>
        </p:blipFill>
        <p:spPr>
          <a:xfrm>
            <a:off x="5076720" y="476280"/>
            <a:ext cx="35276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1:05:15Z</dcterms:created>
  <dc:creator>1</dc:creator>
  <dc:description/>
  <dc:language>en-US</dc:language>
  <cp:lastModifiedBy>1</cp:lastModifiedBy>
  <dcterms:modified xsi:type="dcterms:W3CDTF">2014-03-02T15:11:39Z</dcterms:modified>
  <cp:revision>52</cp:revision>
  <dc:subject/>
  <dc:title>Урок технологии 3 класс</dc:title>
</cp:coreProperties>
</file>