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ED7-6BC8-40C9-AE46-2300C44E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0E8-FB7A-4B64-8FD6-E9A956C7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429-EC11-4B53-8A56-6AE56F30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F7C-0D51-4A3D-B7E6-97E9FDD1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C79-06CB-494B-A5FA-089CCBD9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434-0DB2-4778-B710-0BAA4943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F09-331B-41D8-92B6-BEEFA3F5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5F0-0635-48CA-A3CA-C51F0ED0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ACE-BD47-4C7F-9208-608D3A76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840-4F26-42E3-8F23-F7925569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81F-6860-4FD3-939A-A73210B5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28E-B40F-45F8-87FE-4CA07EB7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FB07-DB9A-4652-AEA1-6849662A6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-360" y="2852640"/>
            <a:ext cx="5003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19640" y="1341360"/>
            <a:ext cx="3600360" cy="3772800"/>
            <a:chOff x="5219640" y="1341360"/>
            <a:chExt cx="3600360" cy="3772800"/>
          </a:xfrm>
        </p:grpSpPr>
        <p:sp>
          <p:nvSpPr>
            <p:cNvPr id="43" name=""/>
            <p:cNvSpPr/>
            <p:nvPr/>
          </p:nvSpPr>
          <p:spPr>
            <a:xfrm>
              <a:off x="7885080" y="1341360"/>
              <a:ext cx="64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280360" y="378936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99280" y="1846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724000" y="184644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4360" y="249408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7740720" y="184644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2436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4072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24360" y="458316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400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740720" y="407844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9928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299280" y="4078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5724000" y="407844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19640" y="20620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12000" y="134136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36000" y="206208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35640" y="45831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99280" y="3573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31280" y="465444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281640" y="1868400"/>
            <a:ext cx="1960560" cy="2200320"/>
          </a:xfrm>
          <a:custGeom>
            <a:avLst/>
            <a:gdLst/>
            <a:ahLst/>
            <a:rect l="l" t="t" r="r" b="b"/>
            <a:pathLst>
              <a:path w="1235" h="1386">
                <a:moveTo>
                  <a:pt x="0" y="0"/>
                </a:moveTo>
                <a:lnTo>
                  <a:pt x="1235" y="1386"/>
                </a:ln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37600" y="1540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eorgia"/>
              </a:rPr>
              <a:t>Актуализац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2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2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53760" y="5661000"/>
            <a:ext cx="664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сколько  точек,  которые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0120" y="5661000"/>
            <a:ext cx="78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) несколько  точек,  которые  не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92520" y="5734080"/>
            <a:ext cx="762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) несколько  прямых,  которые 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48520" y="5661000"/>
            <a:ext cx="806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) несколько  прямых,  которые  не  лежат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48880" y="5661000"/>
            <a:ext cx="79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5) несколько  прямых,  которые  пересек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ую  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50000" y="1944720"/>
            <a:ext cx="420480" cy="1698480"/>
          </a:xfrm>
          <a:custGeom>
            <a:avLst/>
            <a:gdLst/>
            <a:ahLst/>
            <a:rect l="l" t="t" r="r" b="b"/>
            <a:pathLst>
              <a:path w="265" h="1070">
                <a:moveTo>
                  <a:pt x="0" y="0"/>
                </a:moveTo>
                <a:lnTo>
                  <a:pt x="265" y="1070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4400" y="885960"/>
            <a:ext cx="406080" cy="4309920"/>
          </a:xfrm>
          <a:custGeom>
            <a:avLst/>
            <a:gdLst/>
            <a:ahLst/>
            <a:rect l="l" t="t" r="r" b="b"/>
            <a:pathLst>
              <a:path w="256" h="2715">
                <a:moveTo>
                  <a:pt x="256" y="0"/>
                </a:moveTo>
                <a:lnTo>
                  <a:pt x="0" y="2715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547640" y="2997360"/>
            <a:ext cx="6696360" cy="2663640"/>
          </a:xfrm>
          <a:prstGeom prst="parallelogram">
            <a:avLst>
              <a:gd name="adj" fmla="val 62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3608280" cy="4946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730680" y="3005280"/>
            <a:ext cx="2539800" cy="14040"/>
          </a:xfrm>
          <a:custGeom>
            <a:avLst/>
            <a:gdLst/>
            <a:ahLst/>
            <a:rect l="l" t="t" r="r" b="b"/>
            <a:pathLst>
              <a:path w="1600" h="9">
                <a:moveTo>
                  <a:pt x="0" y="9"/>
                </a:moveTo>
                <a:lnTo>
                  <a:pt x="160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888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1264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944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76280" y="1700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6640" y="62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69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04640" y="476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8880" y="5589720"/>
            <a:ext cx="849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5) несколько  прямых,  которые  не  пересек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ую  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951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1480" y="25588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Найд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24000" y="333360"/>
            <a:ext cx="201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ум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77080" y="0"/>
            <a:ext cx="201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3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Отвечаем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780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24360" y="3141720"/>
            <a:ext cx="14436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32000" y="4005360"/>
            <a:ext cx="14472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98720" y="5054760"/>
            <a:ext cx="720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зовите  плоскости  в  которых  леж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,  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5229360"/>
            <a:ext cx="6985080" cy="718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:  A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C;   N: 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400"/>
                            </p:stCondLst>
                            <p:childTnLst>
                              <p:par>
                                <p:cTn id="6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900"/>
                            </p:stCondLst>
                            <p:childTnLst>
                              <p:par>
                                <p:cTn id="6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400"/>
                            </p:stCondLst>
                            <p:childTnLst>
                              <p:par>
                                <p:cTn id="6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9780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3141720"/>
            <a:ext cx="14436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32000" y="4005360"/>
            <a:ext cx="14472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81200" y="5734080"/>
            <a:ext cx="788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точку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точку  пересеч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ых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39800" y="1901880"/>
            <a:ext cx="5195880" cy="2873160"/>
          </a:xfrm>
          <a:custGeom>
            <a:avLst/>
            <a:gdLst/>
            <a:ahLst/>
            <a:rect l="l" t="t" r="r" b="b"/>
            <a:pathLst>
              <a:path w="3273" h="1810">
                <a:moveTo>
                  <a:pt x="0" y="0"/>
                </a:moveTo>
                <a:lnTo>
                  <a:pt x="3273" y="181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11360" y="3903840"/>
            <a:ext cx="5529240" cy="29880"/>
          </a:xfrm>
          <a:custGeom>
            <a:avLst/>
            <a:gdLst/>
            <a:ahLst/>
            <a:rect l="l" t="t" r="r" b="b"/>
            <a:pathLst>
              <a:path w="3483" h="19">
                <a:moveTo>
                  <a:pt x="0" y="0"/>
                </a:moveTo>
                <a:lnTo>
                  <a:pt x="3483" y="19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3860640"/>
            <a:ext cx="144360" cy="122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19640" y="342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20160" y="5445000"/>
            <a:ext cx="72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м  свойством  обладает  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24360" y="4869000"/>
            <a:ext cx="431964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BC =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5589720"/>
            <a:ext cx="755964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    MN,  F      DC → F      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771640" y="5661000"/>
                <a:ext cx="414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187280" y="5661000"/>
                <a:ext cx="416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5661000"/>
                <a:ext cx="414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732720" y="5661000"/>
                <a:ext cx="433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9780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24360" y="2997360"/>
            <a:ext cx="144360" cy="12204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2000" y="414972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45680" y="5013360"/>
            <a:ext cx="54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точк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сечения   прямой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 плоскости  А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60640" y="3933720"/>
            <a:ext cx="2815920" cy="2887920"/>
          </a:xfrm>
          <a:custGeom>
            <a:avLst/>
            <a:gdLst/>
            <a:ahLst/>
            <a:rect l="l" t="t" r="r" b="b"/>
            <a:pathLst>
              <a:path w="1774" h="1819">
                <a:moveTo>
                  <a:pt x="0" y="1819"/>
                </a:moveTo>
                <a:lnTo>
                  <a:pt x="1774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54200" y="3033720"/>
            <a:ext cx="2351160" cy="3497400"/>
          </a:xfrm>
          <a:custGeom>
            <a:avLst/>
            <a:gdLst/>
            <a:ahLst/>
            <a:rect l="l" t="t" r="r" b="b"/>
            <a:pathLst>
              <a:path w="1481" h="2203">
                <a:moveTo>
                  <a:pt x="0" y="2203"/>
                </a:moveTo>
                <a:lnTo>
                  <a:pt x="1481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734080"/>
            <a:ext cx="144720" cy="1220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93440" y="537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4797360"/>
            <a:ext cx="3745080" cy="720720"/>
          </a:xfrm>
          <a:prstGeom prst="rect">
            <a:avLst/>
          </a:prstGeom>
          <a:solidFill>
            <a:srgbClr val="fed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AB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-900000" y="3716280"/>
            <a:ext cx="8353440" cy="1944720"/>
          </a:xfrm>
          <a:prstGeom prst="parallelogram">
            <a:avLst>
              <a:gd name="adj" fmla="val -91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15840" y="1844640"/>
            <a:ext cx="5638680" cy="3633840"/>
          </a:xfrm>
          <a:custGeom>
            <a:avLst/>
            <a:gdLst/>
            <a:ahLst/>
            <a:rect l="l" t="t" r="r" b="b"/>
            <a:pathLst>
              <a:path w="3552" h="2289">
                <a:moveTo>
                  <a:pt x="1046" y="0"/>
                </a:moveTo>
                <a:lnTo>
                  <a:pt x="490" y="825"/>
                </a:lnTo>
                <a:lnTo>
                  <a:pt x="0" y="1555"/>
                </a:lnTo>
                <a:lnTo>
                  <a:pt x="1524" y="2289"/>
                </a:lnTo>
                <a:lnTo>
                  <a:pt x="3552" y="1296"/>
                </a:lnTo>
                <a:lnTo>
                  <a:pt x="2506" y="787"/>
                </a:lnTo>
                <a:lnTo>
                  <a:pt x="1021" y="8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1868400"/>
            <a:ext cx="3252600" cy="2425680"/>
          </a:xfrm>
          <a:custGeom>
            <a:avLst/>
            <a:gdLst/>
            <a:ahLst/>
            <a:rect l="l" t="t" r="r" b="b"/>
            <a:pathLst>
              <a:path w="2049" h="1528">
                <a:moveTo>
                  <a:pt x="530" y="0"/>
                </a:moveTo>
                <a:lnTo>
                  <a:pt x="0" y="791"/>
                </a:lnTo>
                <a:lnTo>
                  <a:pt x="1540" y="1528"/>
                </a:lnTo>
                <a:lnTo>
                  <a:pt x="2035" y="781"/>
                </a:lnTo>
                <a:lnTo>
                  <a:pt x="2049" y="776"/>
                </a:lnTo>
                <a:lnTo>
                  <a:pt x="505" y="8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148428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25760" y="1495440"/>
            <a:ext cx="14040" cy="2394000"/>
          </a:xfrm>
          <a:custGeom>
            <a:avLst/>
            <a:gdLst/>
            <a:ahLst/>
            <a:rect l="l" t="t" r="r" b="b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39800" y="3919680"/>
            <a:ext cx="2338560" cy="10800"/>
          </a:xfrm>
          <a:custGeom>
            <a:avLst/>
            <a:gdLst/>
            <a:ahLst/>
            <a:rect l="l" t="t" r="r" b="b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44560" y="393372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9560" y="333360"/>
            <a:ext cx="406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  куб  АВ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51920" y="119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944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33360" y="134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6520" y="37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1264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05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3000" y="2060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20720" y="148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97760" y="476280"/>
            <a:ext cx="3580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М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47640" y="184464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9780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69400" y="1341360"/>
            <a:ext cx="352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24360" y="3068640"/>
            <a:ext cx="14436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73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69040" y="2205000"/>
            <a:ext cx="3501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а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лежит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32000" y="4221000"/>
            <a:ext cx="144720" cy="122400"/>
          </a:xfrm>
          <a:prstGeom prst="ellipse">
            <a:avLst/>
          </a:prstGeom>
          <a:solidFill>
            <a:srgbClr val="f71a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78360" y="3124080"/>
            <a:ext cx="1676160" cy="792360"/>
          </a:xfrm>
          <a:custGeom>
            <a:avLst/>
            <a:gdLst/>
            <a:ahLst/>
            <a:rect l="l" t="t" r="r" b="b"/>
            <a:pathLst>
              <a:path w="1056" h="499">
                <a:moveTo>
                  <a:pt x="1056" y="49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92400" y="3916440"/>
            <a:ext cx="2233800" cy="31680"/>
          </a:xfrm>
          <a:custGeom>
            <a:avLst/>
            <a:gdLst/>
            <a:ahLst/>
            <a:rect l="l" t="t" r="r" b="b"/>
            <a:pathLst>
              <a:path w="1407" h="20">
                <a:moveTo>
                  <a:pt x="0" y="0"/>
                </a:moveTo>
                <a:lnTo>
                  <a:pt x="1407" y="2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09080" y="5084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8180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3860640"/>
            <a:ext cx="144360" cy="122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52680" y="3948120"/>
            <a:ext cx="2423880" cy="2365200"/>
          </a:xfrm>
          <a:custGeom>
            <a:avLst/>
            <a:gdLst/>
            <a:ahLst/>
            <a:rect l="l" t="t" r="r" b="b"/>
            <a:pathLst>
              <a:path w="1527" h="1490">
                <a:moveTo>
                  <a:pt x="0" y="1490"/>
                </a:moveTo>
                <a:lnTo>
                  <a:pt x="1527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25760" y="3121200"/>
            <a:ext cx="2350800" cy="3482640"/>
          </a:xfrm>
          <a:custGeom>
            <a:avLst/>
            <a:gdLst/>
            <a:ahLst/>
            <a:rect l="l" t="t" r="r" b="b"/>
            <a:pathLst>
              <a:path w="1481" h="2194">
                <a:moveTo>
                  <a:pt x="0" y="2194"/>
                </a:moveTo>
                <a:lnTo>
                  <a:pt x="1481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68360" y="5445000"/>
            <a:ext cx="144720" cy="122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78880" y="5911920"/>
            <a:ext cx="62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линию  пересеч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ей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K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AB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51160" y="3919680"/>
            <a:ext cx="3309840" cy="1566720"/>
          </a:xfrm>
          <a:custGeom>
            <a:avLst/>
            <a:gdLst/>
            <a:ahLst/>
            <a:rect l="l" t="t" r="r" b="b"/>
            <a:pathLst>
              <a:path w="2085" h="987">
                <a:moveTo>
                  <a:pt x="0" y="987"/>
                </a:moveTo>
                <a:lnTo>
                  <a:pt x="2085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2924280"/>
            <a:ext cx="4140360" cy="576000"/>
          </a:xfrm>
          <a:prstGeom prst="rect">
            <a:avLst/>
          </a:prstGeom>
          <a:solidFill>
            <a:srgbClr val="faf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MN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773440" y="4449600"/>
            <a:ext cx="4465440" cy="2652840"/>
          </a:xfrm>
          <a:custGeom>
            <a:avLst/>
            <a:gdLst/>
            <a:ahLst/>
            <a:rect l="l" t="t" r="r" b="b"/>
            <a:pathLst>
              <a:path w="2813" h="1671">
                <a:moveTo>
                  <a:pt x="1661" y="749"/>
                </a:moveTo>
                <a:lnTo>
                  <a:pt x="0" y="768"/>
                </a:lnTo>
                <a:lnTo>
                  <a:pt x="1872" y="1671"/>
                </a:lnTo>
                <a:lnTo>
                  <a:pt x="2813" y="211"/>
                </a:lnTo>
                <a:lnTo>
                  <a:pt x="2448" y="0"/>
                </a:lnTo>
                <a:lnTo>
                  <a:pt x="1651" y="749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17840" y="907920"/>
            <a:ext cx="4826160" cy="1871640"/>
          </a:xfrm>
          <a:prstGeom prst="rect">
            <a:avLst/>
          </a:prstGeom>
          <a:solidFill>
            <a:srgbClr val="faf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,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начит  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OC,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начит  О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N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значит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C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начит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54520" y="3932280"/>
            <a:ext cx="974880" cy="533520"/>
          </a:xfrm>
          <a:custGeom>
            <a:avLst/>
            <a:gdLst/>
            <a:ahLst/>
            <a:rect l="l" t="t" r="r" b="b"/>
            <a:pathLst>
              <a:path w="614" h="336">
                <a:moveTo>
                  <a:pt x="614" y="33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30440" y="3902040"/>
            <a:ext cx="2347920" cy="14400"/>
          </a:xfrm>
          <a:custGeom>
            <a:avLst/>
            <a:gdLst/>
            <a:ahLst/>
            <a:rect l="l" t="t" r="r" b="b"/>
            <a:pathLst>
              <a:path w="1479" h="9">
                <a:moveTo>
                  <a:pt x="0" y="0"/>
                </a:moveTo>
                <a:lnTo>
                  <a:pt x="1479" y="9"/>
                </a:lnTo>
              </a:path>
            </a:pathLst>
          </a:custGeom>
          <a:noFill/>
          <a:ln w="381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19280" y="1916280"/>
            <a:ext cx="2320920" cy="1171440"/>
          </a:xfrm>
          <a:custGeom>
            <a:avLst/>
            <a:gdLst/>
            <a:ahLst/>
            <a:rect l="l" t="t" r="r" b="b"/>
            <a:pathLst>
              <a:path w="1462" h="738">
                <a:moveTo>
                  <a:pt x="1462" y="73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75000" y="2293920"/>
            <a:ext cx="3833640" cy="3908520"/>
          </a:xfrm>
          <a:custGeom>
            <a:avLst/>
            <a:gdLst/>
            <a:ahLst/>
            <a:rect l="l" t="t" r="r" b="b"/>
            <a:pathLst>
              <a:path w="2415" h="2462">
                <a:moveTo>
                  <a:pt x="2415" y="24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990720"/>
            <a:ext cx="3794040" cy="3886200"/>
          </a:xfrm>
          <a:custGeom>
            <a:avLst/>
            <a:gdLst/>
            <a:ahLst/>
            <a:rect l="l" t="t" r="r" b="b"/>
            <a:pathLst>
              <a:path w="2390" h="2448">
                <a:moveTo>
                  <a:pt x="2390" y="24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2920" y="1006560"/>
            <a:ext cx="1320840" cy="1282680"/>
          </a:xfrm>
          <a:custGeom>
            <a:avLst/>
            <a:gdLst/>
            <a:ahLst/>
            <a:rect l="l" t="t" r="r" b="b"/>
            <a:pathLst>
              <a:path w="832" h="808">
                <a:moveTo>
                  <a:pt x="0" y="808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4916520"/>
            <a:ext cx="1266840" cy="1263600"/>
          </a:xfrm>
          <a:custGeom>
            <a:avLst/>
            <a:gdLst/>
            <a:ahLst/>
            <a:rect l="l" t="t" r="r" b="b"/>
            <a:pathLst>
              <a:path w="798" h="796">
                <a:moveTo>
                  <a:pt x="0" y="796"/>
                </a:moveTo>
                <a:lnTo>
                  <a:pt x="798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852640"/>
            <a:ext cx="127476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860640"/>
            <a:ext cx="1223640" cy="1274760"/>
          </a:xfrm>
          <a:prstGeom prst="ellipse">
            <a:avLst/>
          </a:prstGeom>
          <a:solidFill>
            <a:srgbClr val="fed6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Решение зада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1a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№ </a:t>
            </a: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7 – с комментар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1a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№</a:t>
            </a:r>
            <a:r>
              <a:rPr b="1" i="1" lang="en-US" sz="3200" spc="-1" strike="noStrike">
                <a:solidFill>
                  <a:srgbClr val="f71a03"/>
                </a:solidFill>
                <a:latin typeface="Times New Roman"/>
              </a:rPr>
              <a:t>14 – с комментар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451640" y="3284640"/>
            <a:ext cx="1506600" cy="32414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8360" y="17733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Работаешь с опережением? 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71a03"/>
                </a:solidFill>
                <a:uFillTx/>
                <a:latin typeface="Times New Roman"/>
              </a:rPr>
              <a:t>Подум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84360" y="4941720"/>
            <a:ext cx="5256000" cy="1918800"/>
            <a:chOff x="684360" y="4941720"/>
            <a:chExt cx="5256000" cy="1918800"/>
          </a:xfrm>
        </p:grpSpPr>
        <p:sp>
          <p:nvSpPr>
            <p:cNvPr id="440" name=""/>
            <p:cNvSpPr/>
            <p:nvPr/>
          </p:nvSpPr>
          <p:spPr>
            <a:xfrm>
              <a:off x="2342160" y="49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84360" y="5300640"/>
              <a:ext cx="5256000" cy="1559880"/>
              <a:chOff x="684360" y="5300640"/>
              <a:chExt cx="5256000" cy="1559880"/>
            </a:xfrm>
          </p:grpSpPr>
          <p:sp>
            <p:nvSpPr>
              <p:cNvPr id="442" name=""/>
              <p:cNvSpPr/>
              <p:nvPr/>
            </p:nvSpPr>
            <p:spPr>
              <a:xfrm>
                <a:off x="684360" y="5300640"/>
                <a:ext cx="5256000" cy="1297080"/>
              </a:xfrm>
              <a:prstGeom prst="parallelogram">
                <a:avLst>
                  <a:gd name="adj" fmla="val 101304"/>
                </a:avLst>
              </a:prstGeom>
              <a:solidFill>
                <a:srgbClr val="fafe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06400" y="6035760"/>
                <a:ext cx="2911680" cy="106200"/>
              </a:xfrm>
              <a:custGeom>
                <a:avLst/>
                <a:gdLst/>
                <a:ahLst/>
                <a:rect l="l" t="t" r="r" b="b"/>
                <a:pathLst>
                  <a:path w="1834" h="67">
                    <a:moveTo>
                      <a:pt x="0" y="0"/>
                    </a:moveTo>
                    <a:lnTo>
                      <a:pt x="1834" y="67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30440" y="5334120"/>
                <a:ext cx="1173240" cy="685800"/>
              </a:xfrm>
              <a:custGeom>
                <a:avLst/>
                <a:gdLst/>
                <a:ahLst/>
                <a:rect l="l" t="t" r="r" b="b"/>
                <a:pathLst>
                  <a:path w="739" h="432">
                    <a:moveTo>
                      <a:pt x="0" y="432"/>
                    </a:moveTo>
                    <a:lnTo>
                      <a:pt x="739" y="0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60680" y="6035760"/>
                <a:ext cx="1143000" cy="411120"/>
              </a:xfrm>
              <a:custGeom>
                <a:avLst/>
                <a:gdLst/>
                <a:ahLst/>
                <a:rect l="l" t="t" r="r" b="b"/>
                <a:pathLst>
                  <a:path w="720" h="259">
                    <a:moveTo>
                      <a:pt x="0" y="0"/>
                    </a:moveTo>
                    <a:lnTo>
                      <a:pt x="720" y="259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89280" y="5349960"/>
                <a:ext cx="1874880" cy="806400"/>
              </a:xfrm>
              <a:custGeom>
                <a:avLst/>
                <a:gdLst/>
                <a:ahLst/>
                <a:rect l="l" t="t" r="r" b="b"/>
                <a:pathLst>
                  <a:path w="1181" h="508">
                    <a:moveTo>
                      <a:pt x="0" y="0"/>
                    </a:moveTo>
                    <a:lnTo>
                      <a:pt x="1181" y="508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89280" y="6156360"/>
                <a:ext cx="1874880" cy="290520"/>
              </a:xfrm>
              <a:custGeom>
                <a:avLst/>
                <a:gdLst/>
                <a:ahLst/>
                <a:rect l="l" t="t" r="r" b="b"/>
                <a:pathLst>
                  <a:path w="1181" h="183">
                    <a:moveTo>
                      <a:pt x="0" y="183"/>
                    </a:moveTo>
                    <a:lnTo>
                      <a:pt x="1181" y="0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59040" y="5303880"/>
                <a:ext cx="1800" cy="1173240"/>
              </a:xfrm>
              <a:custGeom>
                <a:avLst/>
                <a:gdLst/>
                <a:ahLst/>
                <a:rect l="l" t="t" r="r" b="b"/>
                <a:pathLst>
                  <a:path w="1" h="739">
                    <a:moveTo>
                      <a:pt x="0" y="739"/>
                    </a:move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341080" y="55897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45440" y="5877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118160" y="5734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70520" y="6400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0" y="2997360"/>
            <a:ext cx="7596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все вершины четырехугольни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BCD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дной плоскости, если его диагонали АС и 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числите площадь четырехугольника, есла АС и 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ерпендикулярны, АС=10см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12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350"/>
                            </p:stCondLst>
                            <p:childTnLst>
                              <p:par>
                                <p:cTn id="9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350"/>
                            </p:stCondLst>
                            <p:childTnLst>
                              <p:par>
                                <p:cTn id="9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84360" y="981000"/>
            <a:ext cx="748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 зада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380360" y="3616200"/>
            <a:ext cx="1506600" cy="32418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26920" y="2852640"/>
            <a:ext cx="33134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вторит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оре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риал пп 1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59280" y="4292640"/>
            <a:ext cx="4176720" cy="1152360"/>
          </a:xfrm>
          <a:prstGeom prst="rect">
            <a:avLst/>
          </a:prstGeom>
          <a:solidFill>
            <a:srgbClr val="fed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№№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9;  11;  13;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32000" y="5705640"/>
            <a:ext cx="4176720" cy="1152360"/>
          </a:xfrm>
          <a:prstGeom prst="rect">
            <a:avLst/>
          </a:prstGeom>
          <a:solidFill>
            <a:srgbClr val="faf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 рабочей 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№№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3; 14;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3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4200"/>
                            </p:stCondLst>
                            <p:childTnLst>
                              <p:par>
                                <p:cTn id="9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250"/>
                            </p:stCondLst>
                            <p:childTnLst>
                              <p:par>
                                <p:cTn id="9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Комментар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029360" y="0"/>
            <a:ext cx="2114640" cy="23814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5280" y="1700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№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27640" y="2708280"/>
            <a:ext cx="4284720" cy="3670200"/>
          </a:xfrm>
          <a:custGeom>
            <a:avLst/>
            <a:gdLst/>
            <a:ahLst/>
            <a:rect l="l" t="t" r="r" b="b"/>
            <a:pathLst>
              <a:path w="3900" h="3240">
                <a:moveTo>
                  <a:pt x="600" y="1350"/>
                </a:moveTo>
                <a:cubicBezTo>
                  <a:pt x="750" y="1350"/>
                  <a:pt x="1110" y="1410"/>
                  <a:pt x="1320" y="1350"/>
                </a:cubicBezTo>
                <a:cubicBezTo>
                  <a:pt x="1530" y="1290"/>
                  <a:pt x="1740" y="1140"/>
                  <a:pt x="1860" y="990"/>
                </a:cubicBezTo>
                <a:cubicBezTo>
                  <a:pt x="1980" y="840"/>
                  <a:pt x="1950" y="600"/>
                  <a:pt x="2040" y="450"/>
                </a:cubicBezTo>
                <a:cubicBezTo>
                  <a:pt x="2130" y="300"/>
                  <a:pt x="2190" y="150"/>
                  <a:pt x="2400" y="90"/>
                </a:cubicBezTo>
                <a:cubicBezTo>
                  <a:pt x="2610" y="30"/>
                  <a:pt x="3060" y="0"/>
                  <a:pt x="3300" y="90"/>
                </a:cubicBezTo>
                <a:cubicBezTo>
                  <a:pt x="3540" y="180"/>
                  <a:pt x="3780" y="390"/>
                  <a:pt x="3840" y="630"/>
                </a:cubicBezTo>
                <a:cubicBezTo>
                  <a:pt x="3900" y="870"/>
                  <a:pt x="3750" y="1260"/>
                  <a:pt x="3660" y="1530"/>
                </a:cubicBezTo>
                <a:cubicBezTo>
                  <a:pt x="3570" y="1800"/>
                  <a:pt x="3390" y="2040"/>
                  <a:pt x="3300" y="2250"/>
                </a:cubicBezTo>
                <a:cubicBezTo>
                  <a:pt x="3210" y="2460"/>
                  <a:pt x="3210" y="2640"/>
                  <a:pt x="3120" y="2790"/>
                </a:cubicBezTo>
                <a:cubicBezTo>
                  <a:pt x="3030" y="2940"/>
                  <a:pt x="2940" y="3090"/>
                  <a:pt x="2760" y="3150"/>
                </a:cubicBezTo>
                <a:cubicBezTo>
                  <a:pt x="2580" y="3210"/>
                  <a:pt x="2280" y="3180"/>
                  <a:pt x="2040" y="3150"/>
                </a:cubicBezTo>
                <a:cubicBezTo>
                  <a:pt x="1800" y="3120"/>
                  <a:pt x="1620" y="2970"/>
                  <a:pt x="1320" y="2970"/>
                </a:cubicBezTo>
                <a:cubicBezTo>
                  <a:pt x="1020" y="2970"/>
                  <a:pt x="390" y="3240"/>
                  <a:pt x="240" y="3150"/>
                </a:cubicBezTo>
                <a:cubicBezTo>
                  <a:pt x="90" y="3060"/>
                  <a:pt x="450" y="2610"/>
                  <a:pt x="420" y="2430"/>
                </a:cubicBezTo>
                <a:cubicBezTo>
                  <a:pt x="390" y="2250"/>
                  <a:pt x="120" y="2220"/>
                  <a:pt x="60" y="2070"/>
                </a:cubicBezTo>
                <a:cubicBezTo>
                  <a:pt x="0" y="1920"/>
                  <a:pt x="0" y="1650"/>
                  <a:pt x="60" y="1530"/>
                </a:cubicBezTo>
                <a:cubicBezTo>
                  <a:pt x="120" y="1410"/>
                  <a:pt x="330" y="1380"/>
                  <a:pt x="420" y="1350"/>
                </a:cubicBezTo>
                <a:cubicBezTo>
                  <a:pt x="510" y="1320"/>
                  <a:pt x="450" y="1350"/>
                  <a:pt x="600" y="1350"/>
                </a:cubicBezTo>
                <a:close/>
              </a:path>
            </a:pathLst>
          </a:custGeom>
          <a:solidFill>
            <a:srgbClr val="cc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37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742880" y="32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9524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101080" y="3573360"/>
            <a:ext cx="71280" cy="73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80000" y="4941720"/>
            <a:ext cx="71640" cy="73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20000" y="5589720"/>
            <a:ext cx="71280" cy="7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826920" y="3933720"/>
            <a:ext cx="43214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28720" y="1341360"/>
            <a:ext cx="447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1 случай:  </a:t>
            </a: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точки  леж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на  одной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258920" y="4724280"/>
            <a:ext cx="144360" cy="122400"/>
          </a:xfrm>
          <a:prstGeom prst="ellipse">
            <a:avLst/>
          </a:prstGeom>
          <a:solidFill>
            <a:srgbClr val="0a62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56000" y="4437000"/>
            <a:ext cx="144360" cy="122400"/>
          </a:xfrm>
          <a:prstGeom prst="ellipse">
            <a:avLst/>
          </a:prstGeom>
          <a:solidFill>
            <a:srgbClr val="0a62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780000" y="4149720"/>
            <a:ext cx="144360" cy="122400"/>
          </a:xfrm>
          <a:prstGeom prst="ellipse">
            <a:avLst/>
          </a:prstGeom>
          <a:solidFill>
            <a:srgbClr val="0a62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2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70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637440" y="37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78680" y="2349360"/>
            <a:ext cx="43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2 случай:  </a:t>
            </a: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точки  ле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Georgia"/>
              </a:rPr>
              <a:t>в  одной 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03640" y="3413160"/>
            <a:ext cx="3470400" cy="1882800"/>
          </a:xfrm>
          <a:custGeom>
            <a:avLst/>
            <a:gdLst/>
            <a:ahLst/>
            <a:rect l="l" t="t" r="r" b="b"/>
            <a:pathLst>
              <a:path w="2186" h="1186">
                <a:moveTo>
                  <a:pt x="0" y="1186"/>
                </a:moveTo>
                <a:lnTo>
                  <a:pt x="2186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35600" y="3124080"/>
            <a:ext cx="1630440" cy="3063960"/>
          </a:xfrm>
          <a:custGeom>
            <a:avLst/>
            <a:gdLst/>
            <a:ahLst/>
            <a:rect l="l" t="t" r="r" b="b"/>
            <a:pathLst>
              <a:path w="1027" h="1930">
                <a:moveTo>
                  <a:pt x="1027" y="0"/>
                </a:moveTo>
                <a:lnTo>
                  <a:pt x="0" y="19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68720" y="4664160"/>
            <a:ext cx="2681280" cy="1218960"/>
          </a:xfrm>
          <a:custGeom>
            <a:avLst/>
            <a:gdLst/>
            <a:ahLst/>
            <a:rect l="l" t="t" r="r" b="b"/>
            <a:pathLst>
              <a:path w="1689" h="768">
                <a:moveTo>
                  <a:pt x="0" y="0"/>
                </a:moveTo>
                <a:lnTo>
                  <a:pt x="1689" y="7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990720"/>
            <a:ext cx="3794040" cy="3886200"/>
          </a:xfrm>
          <a:custGeom>
            <a:avLst/>
            <a:gdLst/>
            <a:ahLst/>
            <a:rect l="l" t="t" r="r" b="b"/>
            <a:pathLst>
              <a:path w="2390" h="2448">
                <a:moveTo>
                  <a:pt x="2390" y="24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1050840"/>
            <a:ext cx="1311120" cy="5167440"/>
          </a:xfrm>
          <a:custGeom>
            <a:avLst/>
            <a:gdLst/>
            <a:ahLst/>
            <a:rect l="l" t="t" r="r" b="b"/>
            <a:pathLst>
              <a:path w="826" h="3255">
                <a:moveTo>
                  <a:pt x="0" y="3255"/>
                </a:moveTo>
                <a:lnTo>
                  <a:pt x="826" y="0"/>
                </a:lnTo>
              </a:path>
            </a:pathLst>
          </a:custGeom>
          <a:noFill/>
          <a:ln w="381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892760"/>
            <a:ext cx="5029200" cy="1295280"/>
          </a:xfrm>
          <a:custGeom>
            <a:avLst/>
            <a:gdLst/>
            <a:ahLst/>
            <a:rect l="l" t="t" r="r" b="b"/>
            <a:pathLst>
              <a:path w="3168" h="816">
                <a:moveTo>
                  <a:pt x="0" y="816"/>
                </a:moveTo>
                <a:lnTo>
                  <a:pt x="3168" y="0"/>
                </a:lnTo>
              </a:path>
            </a:pathLst>
          </a:custGeom>
          <a:noFill/>
          <a:ln w="381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852640"/>
            <a:ext cx="127476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3860640"/>
            <a:ext cx="1223640" cy="1274760"/>
          </a:xfrm>
          <a:prstGeom prst="ellipse">
            <a:avLst/>
          </a:prstGeom>
          <a:solidFill>
            <a:srgbClr val="fed6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5003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) прямую, по которой пересекаются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D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14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80360" y="3789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219640" y="1341360"/>
            <a:ext cx="3564000" cy="3772800"/>
            <a:chOff x="5219640" y="1341360"/>
            <a:chExt cx="3564000" cy="3772800"/>
          </a:xfrm>
        </p:grpSpPr>
        <p:sp>
          <p:nvSpPr>
            <p:cNvPr id="106" name=""/>
            <p:cNvSpPr/>
            <p:nvPr/>
          </p:nvSpPr>
          <p:spPr>
            <a:xfrm>
              <a:off x="6299280" y="1846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724000" y="184644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4360" y="249408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740720" y="184644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2436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40720" y="249408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24360" y="458316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4400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740720" y="407844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99280" y="184644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299280" y="407844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724000" y="407844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9640" y="20620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2000" y="134136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36000" y="206208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35640" y="45831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99280" y="3573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31280" y="465444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715000" y="1905120"/>
            <a:ext cx="563400" cy="2666880"/>
          </a:xfrm>
          <a:custGeom>
            <a:avLst/>
            <a:gdLst/>
            <a:ahLst/>
            <a:rect l="l" t="t" r="r" b="b"/>
            <a:pathLst>
              <a:path w="355" h="1680">
                <a:moveTo>
                  <a:pt x="0" y="1680"/>
                </a:moveTo>
                <a:lnTo>
                  <a:pt x="355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4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5000" y="2293920"/>
            <a:ext cx="3833640" cy="3908520"/>
          </a:xfrm>
          <a:custGeom>
            <a:avLst/>
            <a:gdLst/>
            <a:ahLst/>
            <a:rect l="l" t="t" r="r" b="b"/>
            <a:pathLst>
              <a:path w="2415" h="2462">
                <a:moveTo>
                  <a:pt x="2415" y="2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990720"/>
            <a:ext cx="3794040" cy="3886200"/>
          </a:xfrm>
          <a:custGeom>
            <a:avLst/>
            <a:gdLst/>
            <a:ahLst/>
            <a:rect l="l" t="t" r="r" b="b"/>
            <a:pathLst>
              <a:path w="2390" h="2448">
                <a:moveTo>
                  <a:pt x="2390" y="244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a5002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2920" y="990720"/>
            <a:ext cx="1326960" cy="1298520"/>
          </a:xfrm>
          <a:custGeom>
            <a:avLst/>
            <a:gdLst/>
            <a:ahLst/>
            <a:rect l="l" t="t" r="r" b="b"/>
            <a:pathLst>
              <a:path w="836" h="818">
                <a:moveTo>
                  <a:pt x="0" y="818"/>
                </a:moveTo>
                <a:lnTo>
                  <a:pt x="836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4906800"/>
            <a:ext cx="1273320" cy="1273320"/>
          </a:xfrm>
          <a:custGeom>
            <a:avLst/>
            <a:gdLst/>
            <a:ahLst/>
            <a:rect l="l" t="t" r="r" b="b"/>
            <a:pathLst>
              <a:path w="802" h="802">
                <a:moveTo>
                  <a:pt x="0" y="802"/>
                </a:moveTo>
                <a:lnTo>
                  <a:pt x="802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ac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5003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) прямую, по которой пересекаются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D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) плоскость, не пересекающуюся с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C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; с прямой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B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219640" y="1341360"/>
            <a:ext cx="3564000" cy="3772800"/>
            <a:chOff x="5219640" y="1341360"/>
            <a:chExt cx="3564000" cy="3772800"/>
          </a:xfrm>
        </p:grpSpPr>
        <p:sp>
          <p:nvSpPr>
            <p:cNvPr id="144" name=""/>
            <p:cNvSpPr/>
            <p:nvPr/>
          </p:nvSpPr>
          <p:spPr>
            <a:xfrm>
              <a:off x="8280360" y="378936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219640" y="1341360"/>
              <a:ext cx="3564000" cy="3772800"/>
              <a:chOff x="5219640" y="1341360"/>
              <a:chExt cx="3564000" cy="3772800"/>
            </a:xfrm>
          </p:grpSpPr>
          <p:sp>
            <p:nvSpPr>
              <p:cNvPr id="146" name=""/>
              <p:cNvSpPr/>
              <p:nvPr/>
            </p:nvSpPr>
            <p:spPr>
              <a:xfrm>
                <a:off x="7885080" y="1341360"/>
                <a:ext cx="50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5219640" y="1341360"/>
                <a:ext cx="3564000" cy="3772800"/>
                <a:chOff x="5219640" y="1341360"/>
                <a:chExt cx="3564000" cy="37728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6299280" y="1846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5724000" y="1846080"/>
                  <a:ext cx="57492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724360" y="249372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7740720" y="1846080"/>
                  <a:ext cx="50328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2436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74072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724360" y="458280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4400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7740720" y="4078080"/>
                  <a:ext cx="50328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9928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6299280" y="4078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5724000" y="4078080"/>
                  <a:ext cx="57492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219640" y="2062080"/>
                  <a:ext cx="720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12000" y="1341360"/>
                  <a:ext cx="108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236000" y="2062080"/>
                  <a:ext cx="12236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435640" y="4582800"/>
                  <a:ext cx="100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299280" y="3573360"/>
                  <a:ext cx="86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631280" y="4654440"/>
                  <a:ext cx="115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6" name=""/>
          <p:cNvSpPr/>
          <p:nvPr/>
        </p:nvSpPr>
        <p:spPr>
          <a:xfrm>
            <a:off x="5715000" y="1905120"/>
            <a:ext cx="563400" cy="2666880"/>
          </a:xfrm>
          <a:custGeom>
            <a:avLst/>
            <a:gdLst/>
            <a:ahLst/>
            <a:rect l="l" t="t" r="r" b="b"/>
            <a:pathLst>
              <a:path w="355" h="1680">
                <a:moveTo>
                  <a:pt x="0" y="1680"/>
                </a:moveTo>
                <a:lnTo>
                  <a:pt x="355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1360" y="1006560"/>
            <a:ext cx="5052960" cy="52005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052640"/>
            <a:ext cx="45720" cy="3886200"/>
          </a:xfrm>
          <a:custGeom>
            <a:avLst/>
            <a:gdLst/>
            <a:ahLst/>
            <a:rect l="l" t="t" r="r" b="b"/>
            <a:pathLst>
              <a:path w="29" h="2448">
                <a:moveTo>
                  <a:pt x="29" y="0"/>
                </a:moveTo>
                <a:lnTo>
                  <a:pt x="0" y="24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4937040"/>
            <a:ext cx="1265400" cy="1303560"/>
          </a:xfrm>
          <a:custGeom>
            <a:avLst/>
            <a:gdLst/>
            <a:ahLst/>
            <a:rect l="l" t="t" r="r" b="b"/>
            <a:pathLst>
              <a:path w="797" h="821">
                <a:moveTo>
                  <a:pt x="797" y="0"/>
                </a:moveTo>
                <a:lnTo>
                  <a:pt x="0" y="82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4892760"/>
            <a:ext cx="3773160" cy="17280"/>
          </a:xfrm>
          <a:custGeom>
            <a:avLst/>
            <a:gdLst/>
            <a:ahLst/>
            <a:rect l="l" t="t" r="r" b="b"/>
            <a:pathLst>
              <a:path w="2377" h="11">
                <a:moveTo>
                  <a:pt x="2377" y="1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94600" y="2301840"/>
            <a:ext cx="1279440" cy="2604960"/>
          </a:xfrm>
          <a:custGeom>
            <a:avLst/>
            <a:gdLst/>
            <a:ahLst/>
            <a:rect l="l" t="t" r="r" b="b"/>
            <a:pathLst>
              <a:path w="806" h="1641">
                <a:moveTo>
                  <a:pt x="0" y="0"/>
                </a:moveTo>
                <a:lnTo>
                  <a:pt x="806" y="1641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6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85720" y="692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26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9720" y="220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2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3720" y="76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62064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5003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ользуясь данным рисунком, назов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)  три плоскости, содержащие прямую 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; прямую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) прямую, по которой пересекаются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D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) плоскость, не пересекающуюся с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C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; с прямой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B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219640" y="1341360"/>
            <a:ext cx="3564000" cy="3772800"/>
            <a:chOff x="5219640" y="1341360"/>
            <a:chExt cx="3564000" cy="3772800"/>
          </a:xfrm>
        </p:grpSpPr>
        <p:sp>
          <p:nvSpPr>
            <p:cNvPr id="183" name=""/>
            <p:cNvSpPr/>
            <p:nvPr/>
          </p:nvSpPr>
          <p:spPr>
            <a:xfrm>
              <a:off x="8280360" y="378936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219640" y="1341360"/>
              <a:ext cx="3564000" cy="3772800"/>
              <a:chOff x="5219640" y="1341360"/>
              <a:chExt cx="3564000" cy="3772800"/>
            </a:xfrm>
          </p:grpSpPr>
          <p:sp>
            <p:nvSpPr>
              <p:cNvPr id="185" name=""/>
              <p:cNvSpPr/>
              <p:nvPr/>
            </p:nvSpPr>
            <p:spPr>
              <a:xfrm>
                <a:off x="7885080" y="1341360"/>
                <a:ext cx="50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5219640" y="1341360"/>
                <a:ext cx="3564000" cy="3772800"/>
                <a:chOff x="5219640" y="1341360"/>
                <a:chExt cx="3564000" cy="3772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299280" y="1846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5724000" y="1846080"/>
                  <a:ext cx="57492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724360" y="249372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7740720" y="1846080"/>
                  <a:ext cx="503280" cy="64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72436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740720" y="2493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724360" y="4582800"/>
                  <a:ext cx="201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4400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7740720" y="4078080"/>
                  <a:ext cx="50328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299280" y="1846080"/>
                  <a:ext cx="0" cy="2232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6299280" y="4078080"/>
                  <a:ext cx="194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5724000" y="4078080"/>
                  <a:ext cx="57492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19640" y="2062080"/>
                  <a:ext cx="720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012000" y="1341360"/>
                  <a:ext cx="108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36000" y="2062080"/>
                  <a:ext cx="12236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35640" y="4582800"/>
                  <a:ext cx="100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299280" y="3573360"/>
                  <a:ext cx="86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631280" y="4654440"/>
                  <a:ext cx="115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5" name=""/>
          <p:cNvSpPr/>
          <p:nvPr/>
        </p:nvSpPr>
        <p:spPr>
          <a:xfrm>
            <a:off x="6281640" y="1868400"/>
            <a:ext cx="1960560" cy="2200320"/>
          </a:xfrm>
          <a:custGeom>
            <a:avLst/>
            <a:gdLst/>
            <a:ahLst/>
            <a:rect l="l" t="t" r="r" b="b"/>
            <a:pathLst>
              <a:path w="1235" h="1386">
                <a:moveTo>
                  <a:pt x="0" y="0"/>
                </a:moveTo>
                <a:lnTo>
                  <a:pt x="1235" y="1386"/>
                </a:ln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971640" y="549360"/>
            <a:ext cx="734544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 зада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 примен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сиом  стереометри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 их  следствий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03280" y="5229360"/>
            <a:ext cx="309744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 СОШ  № 256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Фокин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380360" y="3616200"/>
            <a:ext cx="1506600" cy="3241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071200" y="26028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№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01:56:20Z</dcterms:created>
  <dc:creator>Марина</dc:creator>
  <dc:description/>
  <dc:language>en-US</dc:language>
  <cp:lastModifiedBy>Каратанова</cp:lastModifiedBy>
  <dcterms:modified xsi:type="dcterms:W3CDTF">2008-07-11T21:40:30Z</dcterms:modified>
  <cp:revision>14</cp:revision>
  <dc:subject/>
  <dc:title>Слайд 1</dc:title>
</cp:coreProperties>
</file>